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17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13.png" ContentType="image/png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12012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BB2-7B81-4B19-BB8C-26328B7D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A44-83F7-4616-BA2A-14B644C2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025-F07D-42D8-9B39-6BD5A944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B35-9EF6-4379-BA31-DF70E2EA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8B1E-E2E3-4909-A7B5-9674E902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2DFB-9AB8-4812-83B1-21B882BB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DF9F-9D92-4675-B8C8-29E0A19D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BC08-AE84-4821-AEDB-25F4D896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3660-A447-4AD7-8EF0-28702823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23520" y="609120"/>
            <a:ext cx="6324840" cy="31802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AA80-05F6-481F-8923-A43C89C9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AC0C-E3C4-4F57-ACC8-FFB703E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2A2-F083-45B6-9B93-9D0B6DC6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D372-7466-4114-8404-E8C3D49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C995-B7DE-440F-8C68-AEE7B42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ED3F-148E-4119-B260-32890CBC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7EE6-8D69-4668-A836-9FB95009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2A5D-B9B0-4604-9383-EADB99BB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CED-B146-48F2-9A42-38C39C96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0DD-51EE-41C2-A5F3-5B13AACE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B15-45F4-4047-B443-8DBFA552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3520" y="609120"/>
            <a:ext cx="6324840" cy="31802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A69-AAC1-4524-B39E-A63C9E3B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376-4E85-4740-9C66-6CE764F7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577-FC55-4135-A023-83024128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8AE-51C9-41E8-86AC-0D3F1279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640" y="12600"/>
            <a:ext cx="9108720" cy="1911240"/>
            <a:chOff x="17640" y="12600"/>
            <a:chExt cx="9108720" cy="19112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7640" y="12600"/>
              <a:ext cx="9108720" cy="19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40" y="12600"/>
              <a:ext cx="9108720" cy="1911240"/>
            </a:xfrm>
            <a:custGeom>
              <a:avLst/>
              <a:gdLst/>
              <a:ahLst/>
              <a:rect l="l" t="t" r="r" b="b"/>
              <a:pathLst>
                <a:path w="5709" h="1204">
                  <a:moveTo>
                    <a:pt x="0" y="0"/>
                  </a:moveTo>
                  <a:lnTo>
                    <a:pt x="5709" y="0"/>
                  </a:lnTo>
                  <a:lnTo>
                    <a:pt x="5709" y="267"/>
                  </a:lnTo>
                  <a:lnTo>
                    <a:pt x="1185" y="269"/>
                  </a:lnTo>
                  <a:lnTo>
                    <a:pt x="1126" y="265"/>
                  </a:lnTo>
                  <a:lnTo>
                    <a:pt x="1063" y="265"/>
                  </a:lnTo>
                  <a:lnTo>
                    <a:pt x="998" y="267"/>
                  </a:lnTo>
                  <a:lnTo>
                    <a:pt x="931" y="270"/>
                  </a:lnTo>
                  <a:lnTo>
                    <a:pt x="866" y="277"/>
                  </a:lnTo>
                  <a:lnTo>
                    <a:pt x="805" y="287"/>
                  </a:lnTo>
                  <a:lnTo>
                    <a:pt x="778" y="292"/>
                  </a:lnTo>
                  <a:lnTo>
                    <a:pt x="755" y="299"/>
                  </a:lnTo>
                  <a:lnTo>
                    <a:pt x="733" y="305"/>
                  </a:lnTo>
                  <a:lnTo>
                    <a:pt x="715" y="312"/>
                  </a:lnTo>
                  <a:lnTo>
                    <a:pt x="639" y="354"/>
                  </a:lnTo>
                  <a:lnTo>
                    <a:pt x="576" y="397"/>
                  </a:lnTo>
                  <a:lnTo>
                    <a:pt x="524" y="440"/>
                  </a:lnTo>
                  <a:lnTo>
                    <a:pt x="486" y="484"/>
                  </a:lnTo>
                  <a:lnTo>
                    <a:pt x="456" y="527"/>
                  </a:lnTo>
                  <a:lnTo>
                    <a:pt x="438" y="570"/>
                  </a:lnTo>
                  <a:lnTo>
                    <a:pt x="430" y="615"/>
                  </a:lnTo>
                  <a:lnTo>
                    <a:pt x="427" y="659"/>
                  </a:lnTo>
                  <a:lnTo>
                    <a:pt x="432" y="702"/>
                  </a:lnTo>
                  <a:lnTo>
                    <a:pt x="441" y="744"/>
                  </a:lnTo>
                  <a:lnTo>
                    <a:pt x="454" y="785"/>
                  </a:lnTo>
                  <a:lnTo>
                    <a:pt x="472" y="827"/>
                  </a:lnTo>
                  <a:lnTo>
                    <a:pt x="492" y="867"/>
                  </a:lnTo>
                  <a:lnTo>
                    <a:pt x="515" y="905"/>
                  </a:lnTo>
                  <a:lnTo>
                    <a:pt x="537" y="942"/>
                  </a:lnTo>
                  <a:lnTo>
                    <a:pt x="558" y="977"/>
                  </a:lnTo>
                  <a:lnTo>
                    <a:pt x="578" y="1010"/>
                  </a:lnTo>
                  <a:lnTo>
                    <a:pt x="596" y="1042"/>
                  </a:lnTo>
                  <a:lnTo>
                    <a:pt x="609" y="1072"/>
                  </a:lnTo>
                  <a:lnTo>
                    <a:pt x="618" y="1099"/>
                  </a:lnTo>
                  <a:lnTo>
                    <a:pt x="623" y="1122"/>
                  </a:lnTo>
                  <a:lnTo>
                    <a:pt x="618" y="1144"/>
                  </a:lnTo>
                  <a:lnTo>
                    <a:pt x="609" y="1162"/>
                  </a:lnTo>
                  <a:lnTo>
                    <a:pt x="589" y="1177"/>
                  </a:lnTo>
                  <a:lnTo>
                    <a:pt x="560" y="1189"/>
                  </a:lnTo>
                  <a:lnTo>
                    <a:pt x="519" y="1199"/>
                  </a:lnTo>
                  <a:lnTo>
                    <a:pt x="468" y="1202"/>
                  </a:lnTo>
                  <a:lnTo>
                    <a:pt x="405" y="1204"/>
                  </a:lnTo>
                  <a:lnTo>
                    <a:pt x="326" y="1200"/>
                  </a:lnTo>
                  <a:lnTo>
                    <a:pt x="234" y="1194"/>
                  </a:lnTo>
                  <a:lnTo>
                    <a:pt x="126" y="1182"/>
                  </a:lnTo>
                  <a:lnTo>
                    <a:pt x="0" y="11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724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marL="266760" indent="-26676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lvl="1" marL="577800" indent="-222120">
              <a:spcBef>
                <a:spcPts val="624"/>
              </a:spcBef>
              <a:buClr>
                <a:srgbClr val="333399"/>
              </a:buClr>
              <a:buFont typeface="Comic Sans MS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lvl="2" marL="888840" indent="-177480">
              <a:spcBef>
                <a:spcPts val="624"/>
              </a:spcBef>
              <a:buClr>
                <a:srgbClr val="333399"/>
              </a:buClr>
              <a:buFont typeface="Comic Sans MS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lvl="3" marL="1244520" indent="-177840">
              <a:spcBef>
                <a:spcPts val="624"/>
              </a:spcBef>
              <a:buClr>
                <a:srgbClr val="333399"/>
              </a:buClr>
              <a:buFont typeface="Comic Sans MS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lvl="4" marL="1600200" indent="-177840">
              <a:spcBef>
                <a:spcPts val="624"/>
              </a:spcBef>
              <a:buClr>
                <a:srgbClr val="333399"/>
              </a:buClr>
              <a:buFont typeface="Comic Sans MS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lvl="5" marL="1600200" indent="-177840">
              <a:spcBef>
                <a:spcPts val="624"/>
              </a:spcBef>
              <a:buClr>
                <a:srgbClr val="000000"/>
              </a:buClr>
              <a:buFont typeface="Comic Sans MS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lvl="6" marL="1600200" indent="-177840">
              <a:spcBef>
                <a:spcPts val="624"/>
              </a:spcBef>
              <a:buClr>
                <a:srgbClr val="000000"/>
              </a:buClr>
              <a:buFont typeface="Comic Sans MS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marL="216000"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marL="216000"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marL="216000"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fld id="{891C58FD-4BF5-4381-93F4-C5A10C75F9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2920" y="6343560"/>
            <a:ext cx="1711080" cy="3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"/>
          <p:cNvGraphicFramePr/>
          <p:nvPr/>
        </p:nvGraphicFramePr>
        <p:xfrm>
          <a:off x="1066680" y="1447920"/>
          <a:ext cx="8001000" cy="1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447920"/>
                    <a:ext cx="800100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8001000" y="685800"/>
            <a:ext cx="946080" cy="47160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640" y="12600"/>
            <a:ext cx="9108720" cy="1911240"/>
            <a:chOff x="17640" y="12600"/>
            <a:chExt cx="9108720" cy="191124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17640" y="12600"/>
              <a:ext cx="9108720" cy="19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7640" y="12600"/>
              <a:ext cx="9108720" cy="1911240"/>
            </a:xfrm>
            <a:custGeom>
              <a:avLst/>
              <a:gdLst/>
              <a:ahLst/>
              <a:rect l="l" t="t" r="r" b="b"/>
              <a:pathLst>
                <a:path w="5709" h="1204">
                  <a:moveTo>
                    <a:pt x="0" y="0"/>
                  </a:moveTo>
                  <a:lnTo>
                    <a:pt x="5709" y="0"/>
                  </a:lnTo>
                  <a:lnTo>
                    <a:pt x="5709" y="267"/>
                  </a:lnTo>
                  <a:lnTo>
                    <a:pt x="1185" y="269"/>
                  </a:lnTo>
                  <a:lnTo>
                    <a:pt x="1126" y="265"/>
                  </a:lnTo>
                  <a:lnTo>
                    <a:pt x="1063" y="265"/>
                  </a:lnTo>
                  <a:lnTo>
                    <a:pt x="998" y="267"/>
                  </a:lnTo>
                  <a:lnTo>
                    <a:pt x="931" y="270"/>
                  </a:lnTo>
                  <a:lnTo>
                    <a:pt x="866" y="277"/>
                  </a:lnTo>
                  <a:lnTo>
                    <a:pt x="805" y="287"/>
                  </a:lnTo>
                  <a:lnTo>
                    <a:pt x="778" y="292"/>
                  </a:lnTo>
                  <a:lnTo>
                    <a:pt x="755" y="299"/>
                  </a:lnTo>
                  <a:lnTo>
                    <a:pt x="733" y="305"/>
                  </a:lnTo>
                  <a:lnTo>
                    <a:pt x="715" y="312"/>
                  </a:lnTo>
                  <a:lnTo>
                    <a:pt x="639" y="354"/>
                  </a:lnTo>
                  <a:lnTo>
                    <a:pt x="576" y="397"/>
                  </a:lnTo>
                  <a:lnTo>
                    <a:pt x="524" y="440"/>
                  </a:lnTo>
                  <a:lnTo>
                    <a:pt x="486" y="484"/>
                  </a:lnTo>
                  <a:lnTo>
                    <a:pt x="456" y="527"/>
                  </a:lnTo>
                  <a:lnTo>
                    <a:pt x="438" y="570"/>
                  </a:lnTo>
                  <a:lnTo>
                    <a:pt x="430" y="615"/>
                  </a:lnTo>
                  <a:lnTo>
                    <a:pt x="427" y="659"/>
                  </a:lnTo>
                  <a:lnTo>
                    <a:pt x="432" y="702"/>
                  </a:lnTo>
                  <a:lnTo>
                    <a:pt x="441" y="744"/>
                  </a:lnTo>
                  <a:lnTo>
                    <a:pt x="454" y="785"/>
                  </a:lnTo>
                  <a:lnTo>
                    <a:pt x="472" y="827"/>
                  </a:lnTo>
                  <a:lnTo>
                    <a:pt x="492" y="867"/>
                  </a:lnTo>
                  <a:lnTo>
                    <a:pt x="515" y="905"/>
                  </a:lnTo>
                  <a:lnTo>
                    <a:pt x="537" y="942"/>
                  </a:lnTo>
                  <a:lnTo>
                    <a:pt x="558" y="977"/>
                  </a:lnTo>
                  <a:lnTo>
                    <a:pt x="578" y="1010"/>
                  </a:lnTo>
                  <a:lnTo>
                    <a:pt x="596" y="1042"/>
                  </a:lnTo>
                  <a:lnTo>
                    <a:pt x="609" y="1072"/>
                  </a:lnTo>
                  <a:lnTo>
                    <a:pt x="618" y="1099"/>
                  </a:lnTo>
                  <a:lnTo>
                    <a:pt x="623" y="1122"/>
                  </a:lnTo>
                  <a:lnTo>
                    <a:pt x="618" y="1144"/>
                  </a:lnTo>
                  <a:lnTo>
                    <a:pt x="609" y="1162"/>
                  </a:lnTo>
                  <a:lnTo>
                    <a:pt x="589" y="1177"/>
                  </a:lnTo>
                  <a:lnTo>
                    <a:pt x="560" y="1189"/>
                  </a:lnTo>
                  <a:lnTo>
                    <a:pt x="519" y="1199"/>
                  </a:lnTo>
                  <a:lnTo>
                    <a:pt x="468" y="1202"/>
                  </a:lnTo>
                  <a:lnTo>
                    <a:pt x="405" y="1204"/>
                  </a:lnTo>
                  <a:lnTo>
                    <a:pt x="326" y="1200"/>
                  </a:lnTo>
                  <a:lnTo>
                    <a:pt x="234" y="1194"/>
                  </a:lnTo>
                  <a:lnTo>
                    <a:pt x="126" y="1182"/>
                  </a:lnTo>
                  <a:lnTo>
                    <a:pt x="0" y="11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marL="216000"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marL="216000"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marL="216000"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fld id="{5AED22C9-372F-43B4-895D-CBC9F3EBB0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162920" y="6343560"/>
            <a:ext cx="1711080" cy="3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66680" y="1447920"/>
          <a:ext cx="8001000" cy="15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447920"/>
                    <a:ext cx="800100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01000" y="685800"/>
            <a:ext cx="946080" cy="4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lvl="1" marL="355680" indent="0" algn="ctr">
              <a:spcBef>
                <a:spcPts val="550"/>
              </a:spcBef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1" lang="en-US" sz="2200" spc="-1" strike="noStrike">
              <a:solidFill>
                <a:srgbClr val="333399"/>
              </a:solidFill>
              <a:latin typeface="Comic Sans MS"/>
            </a:endParaRPr>
          </a:p>
          <a:p>
            <a:pPr lvl="2" marL="711360" algn="ctr">
              <a:spcBef>
                <a:spcPts val="476"/>
              </a:spcBef>
              <a:buClr>
                <a:srgbClr val="333399"/>
              </a:buClr>
              <a:buFont typeface="Comic Sans MS"/>
              <a:buChar char="•"/>
              <a:tabLst>
                <a:tab algn="l" pos="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3" marL="1066680" algn="ctr">
              <a:spcBef>
                <a:spcPts val="400"/>
              </a:spcBef>
              <a:buClr>
                <a:srgbClr val="333399"/>
              </a:buClr>
              <a:buFont typeface="Comic Sans MS"/>
              <a:buChar char="–"/>
              <a:tabLst>
                <a:tab algn="l" pos="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4" marL="1422360" algn="ctr">
              <a:spcBef>
                <a:spcPts val="400"/>
              </a:spcBef>
              <a:buClr>
                <a:srgbClr val="333399"/>
              </a:buClr>
              <a:buFont typeface="Comic Sans MS"/>
              <a:buChar char="»"/>
              <a:tabLst>
                <a:tab algn="l" pos="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5" marL="1422360"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6" marL="1422360"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5.wmf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http://seguridad.internet2.ulsa.mx/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omic Sans MS"/>
              </a:rPr>
              <a:t>Comité de Desarrollo de la Red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Comic Sans MS"/>
              </a:rPr>
              <a:t>CUDI</a:t>
            </a:r>
            <a:endParaRPr b="1" lang="en-US" sz="3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Comic Sans MS"/>
              </a:rPr>
              <a:t>Informe de actividades</a:t>
            </a:r>
            <a:endParaRPr b="1" lang="en-US" sz="3300" spc="-1" strike="noStrike">
              <a:solidFill>
                <a:srgbClr val="333399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octubre 2002 – abril 2003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Rodolfo Castañeda S.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omic Sans MS"/>
              </a:rPr>
              <a:t>rcastane@cicese.mx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Comic Sans MS"/>
              </a:rPr>
              <a:t>Ensenada B.C., 3 de abril del 2003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omic Sans MS"/>
              </a:rPr>
              <a:t>IPv6 en la dorsal de CUDI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610320" cy="4632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62120" y="601992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21481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Conexión IPv6 Nativa a E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omic Sans MS"/>
              </a:rPr>
              <a:t>IPv6 </a:t>
            </a:r>
            <a:r>
              <a:rPr b="1" lang="es-MX" sz="3000" spc="-1" strike="noStrike">
                <a:solidFill>
                  <a:srgbClr val="333399"/>
                </a:solidFill>
                <a:latin typeface="Comic Sans MS"/>
              </a:rPr>
              <a:t>Acciones a Realizar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Reconfigurar las conexiones con BGP4+, RIPng y los túneles IPv6/IPv4 sobre Internet/Internet2, con el nuevo direccionamiento. 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Asignar nombres a las conexiones con IPv6 del Backbone. 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Levantar IPv6 en enrutadores de asociados y afiliados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Configurar más túneles de IPv4/IPv6 y/o conexiones nativas de IPv6/ATM. 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Instalar herramientas de monitoreo para IPv6 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Instalación y configuración de clientes y servidores con soporte IPv6 de los asociados y afiliados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Desarrollo e implementación de aplicaciones con soporte de IPv6. 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Investigación sobre los siguientes servicios y aplicaciones: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Comic Sans MS"/>
              </a:rPr>
              <a:t>Administración con SNMP v6</a:t>
            </a:r>
            <a:endParaRPr b="1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Comic Sans MS"/>
              </a:rPr>
              <a:t>Multicast con IPv6</a:t>
            </a:r>
            <a:endParaRPr b="1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Comic Sans MS"/>
              </a:rPr>
              <a:t>VPN v6 d. AAAv6/seguridad con IPv6</a:t>
            </a:r>
            <a:endParaRPr b="1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Comic Sans MS"/>
              </a:rPr>
              <a:t>VoIPv6, Video sobre IPv6, Stream de Audio/Video, HDTV.</a:t>
            </a:r>
            <a:endParaRPr b="1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Comic Sans MS"/>
              </a:rPr>
              <a:t>Movilidad con IPv6.</a:t>
            </a:r>
            <a:endParaRPr b="1" lang="en-US" sz="14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Incrementar relaciones de colaboración con otros grupos de trabajo y comités de CUDI, y de otras partes del mundo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Establecer nuevas conexiones con IPv6 por Internet2 a otras partes del mundo. 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Comic Sans MS"/>
              </a:rPr>
              <a:t>En base a las nuevas conexiones hacia EUA, definir y establecer nuevas formas de conexión con IPv6. 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99"/>
                </a:solidFill>
                <a:latin typeface="Comic Sans MS"/>
              </a:rPr>
              <a:t>VNOC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8252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Definición de reglas de marcado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Políticas de uso aceptable </a:t>
            </a:r>
            <a:r>
              <a:rPr b="1" lang="es-ES" sz="2100" spc="-1" strike="noStrike">
                <a:solidFill>
                  <a:srgbClr val="333399"/>
                </a:solidFill>
                <a:latin typeface="Comic Sans MS"/>
              </a:rPr>
              <a:t>70% de avance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Procedimientos de reservación y programación </a:t>
            </a:r>
            <a:r>
              <a:rPr b="1" lang="es-ES" sz="2100" spc="-1" strike="noStrike">
                <a:solidFill>
                  <a:srgbClr val="333399"/>
                </a:solidFill>
                <a:latin typeface="Comic Sans MS"/>
              </a:rPr>
              <a:t>80% de avance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Integración a la Red Nacional de Videoconferencia para la Educación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Definición de zonas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Instalación de Gatekeeper global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Integración a servicios de Streaming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Inclusión de servicios MPEG-1 y MPEG-2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Sistema de reservación en línea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Inventario – Directorio de Recursos H.323 en CUDI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Comic Sans MS"/>
              </a:rPr>
              <a:t>Instalación de sistema MXM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19320" y="190476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Red patrocinada por Telmex y Avantel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Backbone con enlaces de 155 Mb/s de 8000Km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Red sólo para aplicaciones de Educación e Investigación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IP/ATM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IPv6 en la dorsal, enlace a Abilene, y asociados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Multicast en dorsal y asociados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913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Calidad de servicio  (QoS)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913"/>
              </a:spcBef>
              <a:buSzPct val="102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Seguridad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913"/>
              </a:spcBef>
              <a:buSzPct val="1027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H.323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omic Sans MS"/>
              </a:rPr>
              <a:t>Red CUDI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99"/>
                </a:solidFill>
                <a:latin typeface="Comic Sans MS"/>
              </a:rPr>
              <a:t>Backbone de la red CUDI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7787880" y="4581360"/>
            <a:ext cx="65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CANC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20394000">
            <a:off x="2093760" y="1218960"/>
            <a:ext cx="5504040" cy="5432400"/>
          </a:xfrm>
          <a:custGeom>
            <a:avLst/>
            <a:gdLst/>
            <a:ahLst/>
            <a:rect l="l" t="t" r="r" b="b"/>
            <a:pathLst>
              <a:path w="1393" h="1553">
                <a:moveTo>
                  <a:pt x="38" y="0"/>
                </a:moveTo>
                <a:lnTo>
                  <a:pt x="37" y="7"/>
                </a:lnTo>
                <a:lnTo>
                  <a:pt x="35" y="16"/>
                </a:lnTo>
                <a:lnTo>
                  <a:pt x="33" y="25"/>
                </a:lnTo>
                <a:lnTo>
                  <a:pt x="32" y="29"/>
                </a:lnTo>
                <a:lnTo>
                  <a:pt x="26" y="160"/>
                </a:lnTo>
                <a:lnTo>
                  <a:pt x="32" y="190"/>
                </a:lnTo>
                <a:lnTo>
                  <a:pt x="16" y="204"/>
                </a:lnTo>
                <a:lnTo>
                  <a:pt x="18" y="207"/>
                </a:lnTo>
                <a:lnTo>
                  <a:pt x="24" y="218"/>
                </a:lnTo>
                <a:lnTo>
                  <a:pt x="32" y="232"/>
                </a:lnTo>
                <a:lnTo>
                  <a:pt x="40" y="249"/>
                </a:lnTo>
                <a:lnTo>
                  <a:pt x="49" y="267"/>
                </a:lnTo>
                <a:lnTo>
                  <a:pt x="56" y="287"/>
                </a:lnTo>
                <a:lnTo>
                  <a:pt x="61" y="304"/>
                </a:lnTo>
                <a:lnTo>
                  <a:pt x="61" y="318"/>
                </a:lnTo>
                <a:lnTo>
                  <a:pt x="57" y="339"/>
                </a:lnTo>
                <a:lnTo>
                  <a:pt x="54" y="351"/>
                </a:lnTo>
                <a:lnTo>
                  <a:pt x="49" y="357"/>
                </a:lnTo>
                <a:lnTo>
                  <a:pt x="40" y="358"/>
                </a:lnTo>
                <a:lnTo>
                  <a:pt x="34" y="356"/>
                </a:lnTo>
                <a:lnTo>
                  <a:pt x="30" y="352"/>
                </a:lnTo>
                <a:lnTo>
                  <a:pt x="25" y="348"/>
                </a:lnTo>
                <a:lnTo>
                  <a:pt x="22" y="342"/>
                </a:lnTo>
                <a:lnTo>
                  <a:pt x="17" y="337"/>
                </a:lnTo>
                <a:lnTo>
                  <a:pt x="14" y="333"/>
                </a:lnTo>
                <a:lnTo>
                  <a:pt x="9" y="331"/>
                </a:lnTo>
                <a:lnTo>
                  <a:pt x="4" y="332"/>
                </a:lnTo>
                <a:lnTo>
                  <a:pt x="0" y="339"/>
                </a:lnTo>
                <a:lnTo>
                  <a:pt x="4" y="347"/>
                </a:lnTo>
                <a:lnTo>
                  <a:pt x="10" y="355"/>
                </a:lnTo>
                <a:lnTo>
                  <a:pt x="12" y="361"/>
                </a:lnTo>
                <a:lnTo>
                  <a:pt x="11" y="370"/>
                </a:lnTo>
                <a:lnTo>
                  <a:pt x="9" y="384"/>
                </a:lnTo>
                <a:lnTo>
                  <a:pt x="8" y="396"/>
                </a:lnTo>
                <a:lnTo>
                  <a:pt x="8" y="402"/>
                </a:lnTo>
                <a:lnTo>
                  <a:pt x="88" y="508"/>
                </a:lnTo>
                <a:lnTo>
                  <a:pt x="67" y="594"/>
                </a:lnTo>
                <a:lnTo>
                  <a:pt x="69" y="599"/>
                </a:lnTo>
                <a:lnTo>
                  <a:pt x="77" y="610"/>
                </a:lnTo>
                <a:lnTo>
                  <a:pt x="87" y="629"/>
                </a:lnTo>
                <a:lnTo>
                  <a:pt x="99" y="648"/>
                </a:lnTo>
                <a:lnTo>
                  <a:pt x="111" y="670"/>
                </a:lnTo>
                <a:lnTo>
                  <a:pt x="122" y="690"/>
                </a:lnTo>
                <a:lnTo>
                  <a:pt x="130" y="705"/>
                </a:lnTo>
                <a:lnTo>
                  <a:pt x="134" y="715"/>
                </a:lnTo>
                <a:lnTo>
                  <a:pt x="136" y="727"/>
                </a:lnTo>
                <a:lnTo>
                  <a:pt x="134" y="738"/>
                </a:lnTo>
                <a:lnTo>
                  <a:pt x="133" y="745"/>
                </a:lnTo>
                <a:lnTo>
                  <a:pt x="132" y="749"/>
                </a:lnTo>
                <a:lnTo>
                  <a:pt x="175" y="762"/>
                </a:lnTo>
                <a:lnTo>
                  <a:pt x="176" y="757"/>
                </a:lnTo>
                <a:lnTo>
                  <a:pt x="177" y="743"/>
                </a:lnTo>
                <a:lnTo>
                  <a:pt x="178" y="728"/>
                </a:lnTo>
                <a:lnTo>
                  <a:pt x="178" y="716"/>
                </a:lnTo>
                <a:lnTo>
                  <a:pt x="172" y="705"/>
                </a:lnTo>
                <a:lnTo>
                  <a:pt x="163" y="688"/>
                </a:lnTo>
                <a:lnTo>
                  <a:pt x="154" y="673"/>
                </a:lnTo>
                <a:lnTo>
                  <a:pt x="151" y="666"/>
                </a:lnTo>
                <a:lnTo>
                  <a:pt x="149" y="667"/>
                </a:lnTo>
                <a:lnTo>
                  <a:pt x="145" y="669"/>
                </a:lnTo>
                <a:lnTo>
                  <a:pt x="141" y="670"/>
                </a:lnTo>
                <a:lnTo>
                  <a:pt x="138" y="667"/>
                </a:lnTo>
                <a:lnTo>
                  <a:pt x="138" y="660"/>
                </a:lnTo>
                <a:lnTo>
                  <a:pt x="139" y="652"/>
                </a:lnTo>
                <a:lnTo>
                  <a:pt x="140" y="645"/>
                </a:lnTo>
                <a:lnTo>
                  <a:pt x="140" y="643"/>
                </a:lnTo>
                <a:lnTo>
                  <a:pt x="130" y="524"/>
                </a:lnTo>
                <a:lnTo>
                  <a:pt x="116" y="522"/>
                </a:lnTo>
                <a:lnTo>
                  <a:pt x="116" y="510"/>
                </a:lnTo>
                <a:lnTo>
                  <a:pt x="124" y="502"/>
                </a:lnTo>
                <a:lnTo>
                  <a:pt x="106" y="342"/>
                </a:lnTo>
                <a:lnTo>
                  <a:pt x="80" y="214"/>
                </a:lnTo>
                <a:lnTo>
                  <a:pt x="85" y="199"/>
                </a:lnTo>
                <a:lnTo>
                  <a:pt x="94" y="166"/>
                </a:lnTo>
                <a:lnTo>
                  <a:pt x="105" y="130"/>
                </a:lnTo>
                <a:lnTo>
                  <a:pt x="110" y="108"/>
                </a:lnTo>
                <a:lnTo>
                  <a:pt x="111" y="106"/>
                </a:lnTo>
                <a:lnTo>
                  <a:pt x="114" y="112"/>
                </a:lnTo>
                <a:lnTo>
                  <a:pt x="116" y="121"/>
                </a:lnTo>
                <a:lnTo>
                  <a:pt x="121" y="128"/>
                </a:lnTo>
                <a:lnTo>
                  <a:pt x="126" y="134"/>
                </a:lnTo>
                <a:lnTo>
                  <a:pt x="133" y="138"/>
                </a:lnTo>
                <a:lnTo>
                  <a:pt x="140" y="143"/>
                </a:lnTo>
                <a:lnTo>
                  <a:pt x="143" y="144"/>
                </a:lnTo>
                <a:lnTo>
                  <a:pt x="184" y="208"/>
                </a:lnTo>
                <a:lnTo>
                  <a:pt x="167" y="366"/>
                </a:lnTo>
                <a:lnTo>
                  <a:pt x="169" y="370"/>
                </a:lnTo>
                <a:lnTo>
                  <a:pt x="176" y="380"/>
                </a:lnTo>
                <a:lnTo>
                  <a:pt x="186" y="394"/>
                </a:lnTo>
                <a:lnTo>
                  <a:pt x="198" y="410"/>
                </a:lnTo>
                <a:lnTo>
                  <a:pt x="209" y="426"/>
                </a:lnTo>
                <a:lnTo>
                  <a:pt x="221" y="441"/>
                </a:lnTo>
                <a:lnTo>
                  <a:pt x="229" y="453"/>
                </a:lnTo>
                <a:lnTo>
                  <a:pt x="235" y="458"/>
                </a:lnTo>
                <a:lnTo>
                  <a:pt x="237" y="464"/>
                </a:lnTo>
                <a:lnTo>
                  <a:pt x="235" y="471"/>
                </a:lnTo>
                <a:lnTo>
                  <a:pt x="230" y="478"/>
                </a:lnTo>
                <a:lnTo>
                  <a:pt x="228" y="480"/>
                </a:lnTo>
                <a:lnTo>
                  <a:pt x="238" y="524"/>
                </a:lnTo>
                <a:lnTo>
                  <a:pt x="242" y="526"/>
                </a:lnTo>
                <a:lnTo>
                  <a:pt x="250" y="533"/>
                </a:lnTo>
                <a:lnTo>
                  <a:pt x="257" y="543"/>
                </a:lnTo>
                <a:lnTo>
                  <a:pt x="258" y="554"/>
                </a:lnTo>
                <a:lnTo>
                  <a:pt x="254" y="568"/>
                </a:lnTo>
                <a:lnTo>
                  <a:pt x="250" y="583"/>
                </a:lnTo>
                <a:lnTo>
                  <a:pt x="245" y="597"/>
                </a:lnTo>
                <a:lnTo>
                  <a:pt x="243" y="605"/>
                </a:lnTo>
                <a:lnTo>
                  <a:pt x="247" y="615"/>
                </a:lnTo>
                <a:lnTo>
                  <a:pt x="259" y="640"/>
                </a:lnTo>
                <a:lnTo>
                  <a:pt x="276" y="675"/>
                </a:lnTo>
                <a:lnTo>
                  <a:pt x="297" y="714"/>
                </a:lnTo>
                <a:lnTo>
                  <a:pt x="316" y="752"/>
                </a:lnTo>
                <a:lnTo>
                  <a:pt x="335" y="787"/>
                </a:lnTo>
                <a:lnTo>
                  <a:pt x="347" y="810"/>
                </a:lnTo>
                <a:lnTo>
                  <a:pt x="352" y="819"/>
                </a:lnTo>
                <a:lnTo>
                  <a:pt x="360" y="959"/>
                </a:lnTo>
                <a:lnTo>
                  <a:pt x="314" y="1023"/>
                </a:lnTo>
                <a:lnTo>
                  <a:pt x="316" y="1026"/>
                </a:lnTo>
                <a:lnTo>
                  <a:pt x="324" y="1035"/>
                </a:lnTo>
                <a:lnTo>
                  <a:pt x="335" y="1049"/>
                </a:lnTo>
                <a:lnTo>
                  <a:pt x="347" y="1065"/>
                </a:lnTo>
                <a:lnTo>
                  <a:pt x="360" y="1080"/>
                </a:lnTo>
                <a:lnTo>
                  <a:pt x="373" y="1094"/>
                </a:lnTo>
                <a:lnTo>
                  <a:pt x="384" y="1105"/>
                </a:lnTo>
                <a:lnTo>
                  <a:pt x="392" y="1109"/>
                </a:lnTo>
                <a:lnTo>
                  <a:pt x="403" y="1115"/>
                </a:lnTo>
                <a:lnTo>
                  <a:pt x="411" y="1126"/>
                </a:lnTo>
                <a:lnTo>
                  <a:pt x="417" y="1138"/>
                </a:lnTo>
                <a:lnTo>
                  <a:pt x="418" y="1143"/>
                </a:lnTo>
                <a:lnTo>
                  <a:pt x="421" y="1146"/>
                </a:lnTo>
                <a:lnTo>
                  <a:pt x="430" y="1155"/>
                </a:lnTo>
                <a:lnTo>
                  <a:pt x="443" y="1169"/>
                </a:lnTo>
                <a:lnTo>
                  <a:pt x="458" y="1184"/>
                </a:lnTo>
                <a:lnTo>
                  <a:pt x="475" y="1200"/>
                </a:lnTo>
                <a:lnTo>
                  <a:pt x="490" y="1215"/>
                </a:lnTo>
                <a:lnTo>
                  <a:pt x="504" y="1227"/>
                </a:lnTo>
                <a:lnTo>
                  <a:pt x="514" y="1232"/>
                </a:lnTo>
                <a:lnTo>
                  <a:pt x="525" y="1239"/>
                </a:lnTo>
                <a:lnTo>
                  <a:pt x="529" y="1246"/>
                </a:lnTo>
                <a:lnTo>
                  <a:pt x="531" y="1251"/>
                </a:lnTo>
                <a:lnTo>
                  <a:pt x="531" y="1253"/>
                </a:lnTo>
                <a:lnTo>
                  <a:pt x="533" y="1255"/>
                </a:lnTo>
                <a:lnTo>
                  <a:pt x="539" y="1260"/>
                </a:lnTo>
                <a:lnTo>
                  <a:pt x="547" y="1268"/>
                </a:lnTo>
                <a:lnTo>
                  <a:pt x="558" y="1279"/>
                </a:lnTo>
                <a:lnTo>
                  <a:pt x="572" y="1291"/>
                </a:lnTo>
                <a:lnTo>
                  <a:pt x="588" y="1305"/>
                </a:lnTo>
                <a:lnTo>
                  <a:pt x="605" y="1320"/>
                </a:lnTo>
                <a:lnTo>
                  <a:pt x="624" y="1335"/>
                </a:lnTo>
                <a:lnTo>
                  <a:pt x="643" y="1350"/>
                </a:lnTo>
                <a:lnTo>
                  <a:pt x="662" y="1365"/>
                </a:lnTo>
                <a:lnTo>
                  <a:pt x="681" y="1378"/>
                </a:lnTo>
                <a:lnTo>
                  <a:pt x="699" y="1390"/>
                </a:lnTo>
                <a:lnTo>
                  <a:pt x="716" y="1401"/>
                </a:lnTo>
                <a:lnTo>
                  <a:pt x="732" y="1409"/>
                </a:lnTo>
                <a:lnTo>
                  <a:pt x="745" y="1413"/>
                </a:lnTo>
                <a:lnTo>
                  <a:pt x="756" y="1414"/>
                </a:lnTo>
                <a:lnTo>
                  <a:pt x="777" y="1413"/>
                </a:lnTo>
                <a:lnTo>
                  <a:pt x="799" y="1412"/>
                </a:lnTo>
                <a:lnTo>
                  <a:pt x="821" y="1411"/>
                </a:lnTo>
                <a:lnTo>
                  <a:pt x="843" y="1410"/>
                </a:lnTo>
                <a:lnTo>
                  <a:pt x="862" y="1410"/>
                </a:lnTo>
                <a:lnTo>
                  <a:pt x="879" y="1410"/>
                </a:lnTo>
                <a:lnTo>
                  <a:pt x="894" y="1411"/>
                </a:lnTo>
                <a:lnTo>
                  <a:pt x="905" y="1413"/>
                </a:lnTo>
                <a:lnTo>
                  <a:pt x="915" y="1418"/>
                </a:lnTo>
                <a:lnTo>
                  <a:pt x="930" y="1425"/>
                </a:lnTo>
                <a:lnTo>
                  <a:pt x="947" y="1434"/>
                </a:lnTo>
                <a:lnTo>
                  <a:pt x="966" y="1447"/>
                </a:lnTo>
                <a:lnTo>
                  <a:pt x="983" y="1463"/>
                </a:lnTo>
                <a:lnTo>
                  <a:pt x="999" y="1481"/>
                </a:lnTo>
                <a:lnTo>
                  <a:pt x="1013" y="1504"/>
                </a:lnTo>
                <a:lnTo>
                  <a:pt x="1022" y="1531"/>
                </a:lnTo>
                <a:lnTo>
                  <a:pt x="1031" y="1553"/>
                </a:lnTo>
                <a:lnTo>
                  <a:pt x="1036" y="1526"/>
                </a:lnTo>
                <a:lnTo>
                  <a:pt x="1038" y="1485"/>
                </a:lnTo>
                <a:lnTo>
                  <a:pt x="1044" y="1463"/>
                </a:lnTo>
                <a:lnTo>
                  <a:pt x="1051" y="1459"/>
                </a:lnTo>
                <a:lnTo>
                  <a:pt x="1054" y="1451"/>
                </a:lnTo>
                <a:lnTo>
                  <a:pt x="1056" y="1442"/>
                </a:lnTo>
                <a:lnTo>
                  <a:pt x="1054" y="1431"/>
                </a:lnTo>
                <a:lnTo>
                  <a:pt x="1057" y="1425"/>
                </a:lnTo>
                <a:lnTo>
                  <a:pt x="1063" y="1421"/>
                </a:lnTo>
                <a:lnTo>
                  <a:pt x="1072" y="1418"/>
                </a:lnTo>
                <a:lnTo>
                  <a:pt x="1082" y="1417"/>
                </a:lnTo>
                <a:lnTo>
                  <a:pt x="1094" y="1416"/>
                </a:lnTo>
                <a:lnTo>
                  <a:pt x="1103" y="1414"/>
                </a:lnTo>
                <a:lnTo>
                  <a:pt x="1110" y="1414"/>
                </a:lnTo>
                <a:lnTo>
                  <a:pt x="1112" y="1414"/>
                </a:lnTo>
                <a:lnTo>
                  <a:pt x="1111" y="1413"/>
                </a:lnTo>
                <a:lnTo>
                  <a:pt x="1106" y="1409"/>
                </a:lnTo>
                <a:lnTo>
                  <a:pt x="1101" y="1402"/>
                </a:lnTo>
                <a:lnTo>
                  <a:pt x="1095" y="1394"/>
                </a:lnTo>
                <a:lnTo>
                  <a:pt x="1089" y="1386"/>
                </a:lnTo>
                <a:lnTo>
                  <a:pt x="1084" y="1379"/>
                </a:lnTo>
                <a:lnTo>
                  <a:pt x="1081" y="1372"/>
                </a:lnTo>
                <a:lnTo>
                  <a:pt x="1081" y="1368"/>
                </a:lnTo>
                <a:lnTo>
                  <a:pt x="1084" y="1366"/>
                </a:lnTo>
                <a:lnTo>
                  <a:pt x="1090" y="1365"/>
                </a:lnTo>
                <a:lnTo>
                  <a:pt x="1097" y="1363"/>
                </a:lnTo>
                <a:lnTo>
                  <a:pt x="1105" y="1361"/>
                </a:lnTo>
                <a:lnTo>
                  <a:pt x="1113" y="1360"/>
                </a:lnTo>
                <a:lnTo>
                  <a:pt x="1120" y="1360"/>
                </a:lnTo>
                <a:lnTo>
                  <a:pt x="1125" y="1359"/>
                </a:lnTo>
                <a:lnTo>
                  <a:pt x="1127" y="1359"/>
                </a:lnTo>
                <a:lnTo>
                  <a:pt x="1147" y="1327"/>
                </a:lnTo>
                <a:lnTo>
                  <a:pt x="1242" y="1325"/>
                </a:lnTo>
                <a:lnTo>
                  <a:pt x="1288" y="1292"/>
                </a:lnTo>
                <a:lnTo>
                  <a:pt x="1289" y="1296"/>
                </a:lnTo>
                <a:lnTo>
                  <a:pt x="1292" y="1306"/>
                </a:lnTo>
                <a:lnTo>
                  <a:pt x="1293" y="1318"/>
                </a:lnTo>
                <a:lnTo>
                  <a:pt x="1294" y="1330"/>
                </a:lnTo>
                <a:lnTo>
                  <a:pt x="1295" y="1335"/>
                </a:lnTo>
                <a:lnTo>
                  <a:pt x="1299" y="1336"/>
                </a:lnTo>
                <a:lnTo>
                  <a:pt x="1304" y="1336"/>
                </a:lnTo>
                <a:lnTo>
                  <a:pt x="1310" y="1334"/>
                </a:lnTo>
                <a:lnTo>
                  <a:pt x="1317" y="1330"/>
                </a:lnTo>
                <a:lnTo>
                  <a:pt x="1322" y="1326"/>
                </a:lnTo>
                <a:lnTo>
                  <a:pt x="1326" y="1322"/>
                </a:lnTo>
                <a:lnTo>
                  <a:pt x="1329" y="1319"/>
                </a:lnTo>
                <a:lnTo>
                  <a:pt x="1329" y="1306"/>
                </a:lnTo>
                <a:lnTo>
                  <a:pt x="1326" y="1287"/>
                </a:lnTo>
                <a:lnTo>
                  <a:pt x="1324" y="1267"/>
                </a:lnTo>
                <a:lnTo>
                  <a:pt x="1326" y="1257"/>
                </a:lnTo>
                <a:lnTo>
                  <a:pt x="1330" y="1253"/>
                </a:lnTo>
                <a:lnTo>
                  <a:pt x="1337" y="1247"/>
                </a:lnTo>
                <a:lnTo>
                  <a:pt x="1345" y="1239"/>
                </a:lnTo>
                <a:lnTo>
                  <a:pt x="1355" y="1230"/>
                </a:lnTo>
                <a:lnTo>
                  <a:pt x="1364" y="1221"/>
                </a:lnTo>
                <a:lnTo>
                  <a:pt x="1373" y="1213"/>
                </a:lnTo>
                <a:lnTo>
                  <a:pt x="1380" y="1206"/>
                </a:lnTo>
                <a:lnTo>
                  <a:pt x="1385" y="1201"/>
                </a:lnTo>
                <a:lnTo>
                  <a:pt x="1390" y="1190"/>
                </a:lnTo>
                <a:lnTo>
                  <a:pt x="1392" y="1174"/>
                </a:lnTo>
                <a:lnTo>
                  <a:pt x="1393" y="1160"/>
                </a:lnTo>
                <a:lnTo>
                  <a:pt x="1393" y="1153"/>
                </a:lnTo>
                <a:lnTo>
                  <a:pt x="1391" y="1153"/>
                </a:lnTo>
                <a:lnTo>
                  <a:pt x="1384" y="1153"/>
                </a:lnTo>
                <a:lnTo>
                  <a:pt x="1373" y="1152"/>
                </a:lnTo>
                <a:lnTo>
                  <a:pt x="1362" y="1151"/>
                </a:lnTo>
                <a:lnTo>
                  <a:pt x="1350" y="1148"/>
                </a:lnTo>
                <a:lnTo>
                  <a:pt x="1339" y="1146"/>
                </a:lnTo>
                <a:lnTo>
                  <a:pt x="1329" y="1143"/>
                </a:lnTo>
                <a:lnTo>
                  <a:pt x="1323" y="1139"/>
                </a:lnTo>
                <a:lnTo>
                  <a:pt x="1318" y="1136"/>
                </a:lnTo>
                <a:lnTo>
                  <a:pt x="1312" y="1135"/>
                </a:lnTo>
                <a:lnTo>
                  <a:pt x="1307" y="1135"/>
                </a:lnTo>
                <a:lnTo>
                  <a:pt x="1301" y="1136"/>
                </a:lnTo>
                <a:lnTo>
                  <a:pt x="1296" y="1138"/>
                </a:lnTo>
                <a:lnTo>
                  <a:pt x="1292" y="1140"/>
                </a:lnTo>
                <a:lnTo>
                  <a:pt x="1287" y="1143"/>
                </a:lnTo>
                <a:lnTo>
                  <a:pt x="1285" y="1145"/>
                </a:lnTo>
                <a:lnTo>
                  <a:pt x="1280" y="1146"/>
                </a:lnTo>
                <a:lnTo>
                  <a:pt x="1272" y="1147"/>
                </a:lnTo>
                <a:lnTo>
                  <a:pt x="1261" y="1148"/>
                </a:lnTo>
                <a:lnTo>
                  <a:pt x="1248" y="1148"/>
                </a:lnTo>
                <a:lnTo>
                  <a:pt x="1235" y="1151"/>
                </a:lnTo>
                <a:lnTo>
                  <a:pt x="1223" y="1152"/>
                </a:lnTo>
                <a:lnTo>
                  <a:pt x="1212" y="1154"/>
                </a:lnTo>
                <a:lnTo>
                  <a:pt x="1204" y="1156"/>
                </a:lnTo>
                <a:lnTo>
                  <a:pt x="1194" y="1173"/>
                </a:lnTo>
                <a:lnTo>
                  <a:pt x="1183" y="1201"/>
                </a:lnTo>
                <a:lnTo>
                  <a:pt x="1177" y="1229"/>
                </a:lnTo>
                <a:lnTo>
                  <a:pt x="1173" y="1241"/>
                </a:lnTo>
                <a:lnTo>
                  <a:pt x="1114" y="1275"/>
                </a:lnTo>
                <a:lnTo>
                  <a:pt x="1111" y="1297"/>
                </a:lnTo>
                <a:lnTo>
                  <a:pt x="1081" y="1299"/>
                </a:lnTo>
                <a:lnTo>
                  <a:pt x="1081" y="1287"/>
                </a:lnTo>
                <a:lnTo>
                  <a:pt x="1075" y="1287"/>
                </a:lnTo>
                <a:lnTo>
                  <a:pt x="1059" y="1288"/>
                </a:lnTo>
                <a:lnTo>
                  <a:pt x="1036" y="1289"/>
                </a:lnTo>
                <a:lnTo>
                  <a:pt x="1010" y="1290"/>
                </a:lnTo>
                <a:lnTo>
                  <a:pt x="982" y="1291"/>
                </a:lnTo>
                <a:lnTo>
                  <a:pt x="957" y="1291"/>
                </a:lnTo>
                <a:lnTo>
                  <a:pt x="936" y="1290"/>
                </a:lnTo>
                <a:lnTo>
                  <a:pt x="924" y="1287"/>
                </a:lnTo>
                <a:lnTo>
                  <a:pt x="917" y="1280"/>
                </a:lnTo>
                <a:lnTo>
                  <a:pt x="917" y="1275"/>
                </a:lnTo>
                <a:lnTo>
                  <a:pt x="922" y="1272"/>
                </a:lnTo>
                <a:lnTo>
                  <a:pt x="924" y="1270"/>
                </a:lnTo>
                <a:lnTo>
                  <a:pt x="923" y="1270"/>
                </a:lnTo>
                <a:lnTo>
                  <a:pt x="917" y="1269"/>
                </a:lnTo>
                <a:lnTo>
                  <a:pt x="911" y="1267"/>
                </a:lnTo>
                <a:lnTo>
                  <a:pt x="901" y="1262"/>
                </a:lnTo>
                <a:lnTo>
                  <a:pt x="890" y="1254"/>
                </a:lnTo>
                <a:lnTo>
                  <a:pt x="878" y="1243"/>
                </a:lnTo>
                <a:lnTo>
                  <a:pt x="866" y="1226"/>
                </a:lnTo>
                <a:lnTo>
                  <a:pt x="853" y="1202"/>
                </a:lnTo>
                <a:lnTo>
                  <a:pt x="840" y="1177"/>
                </a:lnTo>
                <a:lnTo>
                  <a:pt x="830" y="1154"/>
                </a:lnTo>
                <a:lnTo>
                  <a:pt x="822" y="1132"/>
                </a:lnTo>
                <a:lnTo>
                  <a:pt x="815" y="1110"/>
                </a:lnTo>
                <a:lnTo>
                  <a:pt x="809" y="1090"/>
                </a:lnTo>
                <a:lnTo>
                  <a:pt x="806" y="1069"/>
                </a:lnTo>
                <a:lnTo>
                  <a:pt x="805" y="1047"/>
                </a:lnTo>
                <a:lnTo>
                  <a:pt x="805" y="1025"/>
                </a:lnTo>
                <a:lnTo>
                  <a:pt x="808" y="1001"/>
                </a:lnTo>
                <a:lnTo>
                  <a:pt x="814" y="973"/>
                </a:lnTo>
                <a:lnTo>
                  <a:pt x="822" y="944"/>
                </a:lnTo>
                <a:lnTo>
                  <a:pt x="831" y="916"/>
                </a:lnTo>
                <a:lnTo>
                  <a:pt x="841" y="889"/>
                </a:lnTo>
                <a:lnTo>
                  <a:pt x="851" y="866"/>
                </a:lnTo>
                <a:lnTo>
                  <a:pt x="860" y="849"/>
                </a:lnTo>
                <a:lnTo>
                  <a:pt x="867" y="839"/>
                </a:lnTo>
                <a:lnTo>
                  <a:pt x="875" y="832"/>
                </a:lnTo>
                <a:lnTo>
                  <a:pt x="878" y="830"/>
                </a:lnTo>
                <a:lnTo>
                  <a:pt x="878" y="833"/>
                </a:lnTo>
                <a:lnTo>
                  <a:pt x="877" y="835"/>
                </a:lnTo>
                <a:lnTo>
                  <a:pt x="881" y="832"/>
                </a:lnTo>
                <a:lnTo>
                  <a:pt x="889" y="822"/>
                </a:lnTo>
                <a:lnTo>
                  <a:pt x="896" y="811"/>
                </a:lnTo>
                <a:lnTo>
                  <a:pt x="900" y="797"/>
                </a:lnTo>
                <a:lnTo>
                  <a:pt x="899" y="788"/>
                </a:lnTo>
                <a:lnTo>
                  <a:pt x="894" y="786"/>
                </a:lnTo>
                <a:lnTo>
                  <a:pt x="886" y="784"/>
                </a:lnTo>
                <a:lnTo>
                  <a:pt x="875" y="779"/>
                </a:lnTo>
                <a:lnTo>
                  <a:pt x="868" y="773"/>
                </a:lnTo>
                <a:lnTo>
                  <a:pt x="859" y="765"/>
                </a:lnTo>
                <a:lnTo>
                  <a:pt x="850" y="756"/>
                </a:lnTo>
                <a:lnTo>
                  <a:pt x="839" y="745"/>
                </a:lnTo>
                <a:lnTo>
                  <a:pt x="829" y="736"/>
                </a:lnTo>
                <a:lnTo>
                  <a:pt x="820" y="727"/>
                </a:lnTo>
                <a:lnTo>
                  <a:pt x="813" y="719"/>
                </a:lnTo>
                <a:lnTo>
                  <a:pt x="807" y="713"/>
                </a:lnTo>
                <a:lnTo>
                  <a:pt x="800" y="698"/>
                </a:lnTo>
                <a:lnTo>
                  <a:pt x="797" y="675"/>
                </a:lnTo>
                <a:lnTo>
                  <a:pt x="795" y="653"/>
                </a:lnTo>
                <a:lnTo>
                  <a:pt x="797" y="640"/>
                </a:lnTo>
                <a:lnTo>
                  <a:pt x="795" y="635"/>
                </a:lnTo>
                <a:lnTo>
                  <a:pt x="787" y="627"/>
                </a:lnTo>
                <a:lnTo>
                  <a:pt x="778" y="616"/>
                </a:lnTo>
                <a:lnTo>
                  <a:pt x="771" y="602"/>
                </a:lnTo>
                <a:lnTo>
                  <a:pt x="768" y="585"/>
                </a:lnTo>
                <a:lnTo>
                  <a:pt x="765" y="564"/>
                </a:lnTo>
                <a:lnTo>
                  <a:pt x="762" y="545"/>
                </a:lnTo>
                <a:lnTo>
                  <a:pt x="756" y="526"/>
                </a:lnTo>
                <a:lnTo>
                  <a:pt x="752" y="518"/>
                </a:lnTo>
                <a:lnTo>
                  <a:pt x="746" y="509"/>
                </a:lnTo>
                <a:lnTo>
                  <a:pt x="738" y="501"/>
                </a:lnTo>
                <a:lnTo>
                  <a:pt x="731" y="494"/>
                </a:lnTo>
                <a:lnTo>
                  <a:pt x="724" y="487"/>
                </a:lnTo>
                <a:lnTo>
                  <a:pt x="718" y="483"/>
                </a:lnTo>
                <a:lnTo>
                  <a:pt x="714" y="479"/>
                </a:lnTo>
                <a:lnTo>
                  <a:pt x="712" y="478"/>
                </a:lnTo>
                <a:lnTo>
                  <a:pt x="677" y="480"/>
                </a:lnTo>
                <a:lnTo>
                  <a:pt x="666" y="506"/>
                </a:lnTo>
                <a:lnTo>
                  <a:pt x="664" y="504"/>
                </a:lnTo>
                <a:lnTo>
                  <a:pt x="656" y="503"/>
                </a:lnTo>
                <a:lnTo>
                  <a:pt x="647" y="500"/>
                </a:lnTo>
                <a:lnTo>
                  <a:pt x="634" y="495"/>
                </a:lnTo>
                <a:lnTo>
                  <a:pt x="622" y="490"/>
                </a:lnTo>
                <a:lnTo>
                  <a:pt x="610" y="484"/>
                </a:lnTo>
                <a:lnTo>
                  <a:pt x="602" y="476"/>
                </a:lnTo>
                <a:lnTo>
                  <a:pt x="596" y="468"/>
                </a:lnTo>
                <a:lnTo>
                  <a:pt x="590" y="448"/>
                </a:lnTo>
                <a:lnTo>
                  <a:pt x="586" y="425"/>
                </a:lnTo>
                <a:lnTo>
                  <a:pt x="582" y="403"/>
                </a:lnTo>
                <a:lnTo>
                  <a:pt x="582" y="388"/>
                </a:lnTo>
                <a:lnTo>
                  <a:pt x="582" y="386"/>
                </a:lnTo>
                <a:lnTo>
                  <a:pt x="582" y="382"/>
                </a:lnTo>
                <a:lnTo>
                  <a:pt x="580" y="380"/>
                </a:lnTo>
                <a:lnTo>
                  <a:pt x="578" y="377"/>
                </a:lnTo>
                <a:lnTo>
                  <a:pt x="573" y="372"/>
                </a:lnTo>
                <a:lnTo>
                  <a:pt x="567" y="365"/>
                </a:lnTo>
                <a:lnTo>
                  <a:pt x="558" y="356"/>
                </a:lnTo>
                <a:lnTo>
                  <a:pt x="548" y="344"/>
                </a:lnTo>
                <a:lnTo>
                  <a:pt x="547" y="334"/>
                </a:lnTo>
                <a:lnTo>
                  <a:pt x="548" y="316"/>
                </a:lnTo>
                <a:lnTo>
                  <a:pt x="550" y="298"/>
                </a:lnTo>
                <a:lnTo>
                  <a:pt x="548" y="289"/>
                </a:lnTo>
                <a:lnTo>
                  <a:pt x="536" y="284"/>
                </a:lnTo>
                <a:lnTo>
                  <a:pt x="522" y="280"/>
                </a:lnTo>
                <a:lnTo>
                  <a:pt x="506" y="273"/>
                </a:lnTo>
                <a:lnTo>
                  <a:pt x="490" y="267"/>
                </a:lnTo>
                <a:lnTo>
                  <a:pt x="475" y="261"/>
                </a:lnTo>
                <a:lnTo>
                  <a:pt x="464" y="257"/>
                </a:lnTo>
                <a:lnTo>
                  <a:pt x="456" y="253"/>
                </a:lnTo>
                <a:lnTo>
                  <a:pt x="452" y="252"/>
                </a:lnTo>
                <a:lnTo>
                  <a:pt x="440" y="279"/>
                </a:lnTo>
                <a:lnTo>
                  <a:pt x="322" y="226"/>
                </a:lnTo>
                <a:lnTo>
                  <a:pt x="181" y="70"/>
                </a:lnTo>
                <a:lnTo>
                  <a:pt x="168" y="40"/>
                </a:lnTo>
                <a:lnTo>
                  <a:pt x="38" y="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62640" y="5900760"/>
            <a:ext cx="15840" cy="1584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0" y="5"/>
                </a:lnTo>
                <a:lnTo>
                  <a:pt x="5" y="10"/>
                </a:lnTo>
                <a:lnTo>
                  <a:pt x="10" y="12"/>
                </a:lnTo>
                <a:lnTo>
                  <a:pt x="10" y="10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ffb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95360" y="2192400"/>
            <a:ext cx="320760" cy="436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413240" y="3583080"/>
            <a:ext cx="320760" cy="436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113440" y="4952880"/>
            <a:ext cx="320400" cy="43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80000" y="4653000"/>
            <a:ext cx="318960" cy="438120"/>
          </a:xfrm>
          <a:prstGeom prst="rect">
            <a:avLst/>
          </a:prstGeom>
          <a:ln w="0">
            <a:noFill/>
          </a:ln>
        </p:spPr>
      </p:pic>
      <p:cxnSp>
        <p:nvCxnSpPr>
          <p:cNvPr id="159" name=""/>
          <p:cNvCxnSpPr>
            <a:stCxn id="156" idx="2"/>
            <a:endCxn id="158" idx="3"/>
          </p:cNvCxnSpPr>
          <p:nvPr/>
        </p:nvCxnSpPr>
        <p:spPr>
          <a:xfrm flipH="1">
            <a:off x="4098240" y="4019400"/>
            <a:ext cx="477000" cy="853200"/>
          </a:xfrm>
          <a:prstGeom prst="straightConnector1">
            <a:avLst/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160" name=""/>
          <p:cNvCxnSpPr>
            <a:stCxn id="158" idx="3"/>
            <a:endCxn id="157" idx="1"/>
          </p:cNvCxnSpPr>
          <p:nvPr/>
        </p:nvCxnSpPr>
        <p:spPr>
          <a:xfrm>
            <a:off x="4098960" y="4871880"/>
            <a:ext cx="1015200" cy="300600"/>
          </a:xfrm>
          <a:prstGeom prst="straightConnector1">
            <a:avLst/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>
            <a:off x="1603080" y="2587320"/>
            <a:ext cx="2223000" cy="224532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1743840" y="22795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Comic Sans MS"/>
              </a:rPr>
              <a:t>Tiju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920" y="17604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Comic Sans MS"/>
              </a:rPr>
              <a:t>A SD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55" idx="0"/>
            <a:endCxn id="163" idx="1"/>
          </p:cNvCxnSpPr>
          <p:nvPr/>
        </p:nvCxnSpPr>
        <p:spPr>
          <a:xfrm flipV="1">
            <a:off x="1555920" y="1869480"/>
            <a:ext cx="10080" cy="32292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6" idx="1"/>
          </p:cNvCxnSpPr>
          <p:nvPr/>
        </p:nvCxnSpPr>
        <p:spPr>
          <a:xfrm flipV="1">
            <a:off x="3708000" y="2408040"/>
            <a:ext cx="80280" cy="33552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464080" y="50785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57480" y="3612960"/>
            <a:ext cx="1744200" cy="1123920"/>
            <a:chOff x="1257480" y="3612960"/>
            <a:chExt cx="1744200" cy="1123920"/>
          </a:xfrm>
        </p:grpSpPr>
        <p:sp>
          <p:nvSpPr>
            <p:cNvPr id="169" name=""/>
            <p:cNvSpPr/>
            <p:nvPr/>
          </p:nvSpPr>
          <p:spPr>
            <a:xfrm flipV="1">
              <a:off x="1347840" y="4216680"/>
              <a:ext cx="537120" cy="16236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589600">
              <a:off x="1321920" y="3831840"/>
              <a:ext cx="1614600" cy="685800"/>
            </a:xfrm>
            <a:prstGeom prst="rightArrow">
              <a:avLst>
                <a:gd name="adj1" fmla="val 50000"/>
                <a:gd name="adj2" fmla="val 5885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589600">
              <a:off x="1346760" y="404244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155Mb/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738240" y="259092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Comic Sans MS"/>
              </a:rPr>
              <a:t>Cd Juá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2712960"/>
            <a:ext cx="773280" cy="1057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1800" y="4454640"/>
            <a:ext cx="69840" cy="6336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499520" y="451800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867360" y="526428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218360" y="4703760"/>
            <a:ext cx="71280" cy="6336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095880" y="526428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815080" y="514044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183280" y="482904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64080" y="5014800"/>
            <a:ext cx="69840" cy="637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533920" y="476712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40680" y="4325760"/>
            <a:ext cx="61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MERI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569360" y="4454640"/>
            <a:ext cx="422280" cy="63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289640" y="4579920"/>
            <a:ext cx="209880" cy="123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22840" y="4637160"/>
            <a:ext cx="78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CAMPEC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936840" y="4767120"/>
            <a:ext cx="281160" cy="497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1440" y="5259240"/>
            <a:ext cx="102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VILLAHERMO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45120" y="5133960"/>
            <a:ext cx="75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VERACRU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65720" y="5326200"/>
            <a:ext cx="701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53240" y="501012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JALA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1440" y="4637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POZA R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59800" y="463716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TU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84920" y="5202360"/>
            <a:ext cx="280800" cy="123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3120" y="4890960"/>
            <a:ext cx="210960" cy="123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113440" y="4890960"/>
            <a:ext cx="69840" cy="24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03760" y="4829040"/>
            <a:ext cx="211320" cy="311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64080" y="4829040"/>
            <a:ext cx="69840" cy="18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080200">
            <a:off x="5376600" y="52225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Comic Sans MS"/>
              </a:rPr>
              <a:t>PACHU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481640" y="457992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762440" y="489096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621320" y="4703760"/>
            <a:ext cx="69840" cy="6336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130640" y="389556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270320" y="4143240"/>
            <a:ext cx="69840" cy="637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060800" y="4454640"/>
            <a:ext cx="69840" cy="6336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253120" y="3646440"/>
            <a:ext cx="69840" cy="61920"/>
          </a:xfrm>
          <a:prstGeom prst="flowChartConnector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77240" y="3641760"/>
            <a:ext cx="6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REYNO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691160" y="3708360"/>
            <a:ext cx="561960" cy="2491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22960" y="3209400"/>
            <a:ext cx="210960" cy="43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41400" y="3049560"/>
            <a:ext cx="129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Comic Sans MS"/>
              </a:rPr>
              <a:t>A HOUSTON  vB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00480" y="3895560"/>
            <a:ext cx="420840" cy="123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060440" y="4641840"/>
            <a:ext cx="420840" cy="2491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51480" y="4579920"/>
            <a:ext cx="561960" cy="622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060800" y="4518000"/>
            <a:ext cx="69840" cy="372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130640" y="4206960"/>
            <a:ext cx="139680" cy="247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0640" y="3957480"/>
            <a:ext cx="139680" cy="18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09360" y="3765600"/>
            <a:ext cx="68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SALTI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09360" y="4076640"/>
            <a:ext cx="79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ZACATE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8320" y="432576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AGUASCALI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9520" y="4387680"/>
            <a:ext cx="48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LE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0840" y="4718160"/>
            <a:ext cx="750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33399"/>
                </a:solidFill>
                <a:latin typeface="Comic Sans MS"/>
              </a:rPr>
              <a:t>GUANAJUA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27120" y="4761000"/>
            <a:ext cx="8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Comic Sans MS"/>
              </a:rPr>
              <a:t>QUERETA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85680" y="5080320"/>
            <a:ext cx="1711080" cy="1496520"/>
            <a:chOff x="4585680" y="5080320"/>
            <a:chExt cx="1711080" cy="1496520"/>
          </a:xfrm>
        </p:grpSpPr>
        <p:sp>
          <p:nvSpPr>
            <p:cNvPr id="223" name=""/>
            <p:cNvSpPr/>
            <p:nvPr/>
          </p:nvSpPr>
          <p:spPr>
            <a:xfrm flipV="1">
              <a:off x="4766760" y="5946480"/>
              <a:ext cx="456480" cy="32688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9463400">
              <a:off x="4633920" y="5486400"/>
              <a:ext cx="1614600" cy="684360"/>
            </a:xfrm>
            <a:prstGeom prst="rightArrow">
              <a:avLst>
                <a:gd name="adj1" fmla="val 50000"/>
                <a:gd name="adj2" fmla="val 589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463400">
              <a:off x="4691520" y="574200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155Mb/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423960" y="209232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Comic Sans MS"/>
              </a:rPr>
              <a:t>A U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82240" y="527544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333399"/>
                </a:solidFill>
                <a:uFillTx/>
                <a:latin typeface="Comic Sans MS"/>
              </a:rPr>
              <a:t>Mé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85160" y="4775040"/>
            <a:ext cx="11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333399"/>
                </a:solidFill>
                <a:uFillTx/>
                <a:latin typeface="Comic Sans MS"/>
              </a:rPr>
              <a:t>Guadalaj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92600" y="380700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333399"/>
                </a:solidFill>
                <a:uFillTx/>
                <a:latin typeface="Comic Sans MS"/>
              </a:rPr>
              <a:t>Monterr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3962520"/>
            <a:ext cx="53316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9360" y="5241960"/>
            <a:ext cx="253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Comic Sans MS"/>
              </a:rPr>
              <a:t>Cisco Modelo BPX 8650 que incluy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Comic Sans MS"/>
              </a:rPr>
              <a:t>Procesador redundante de 20 G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Comic Sans MS"/>
              </a:rPr>
              <a:t>128 MB de 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Comic Sans MS"/>
              </a:rPr>
              <a:t>Fuentes de poder redund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Comic Sans MS"/>
              </a:rPr>
              <a:t>1 tarjeta de 4 puertos ST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Comic Sans MS"/>
              </a:rPr>
              <a:t>1 Tarjeta de 8 puertos 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Comic Sans MS"/>
              </a:rPr>
              <a:t>Controlador IP Cisco 7200 con pto. F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omic Sans MS"/>
              </a:rPr>
              <a:t>Cruces fronterizos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373720" y="2225520"/>
            <a:ext cx="25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34200" y="2225520"/>
            <a:ext cx="322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3720" y="2835360"/>
            <a:ext cx="573120" cy="3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33399"/>
                </a:solidFill>
                <a:latin typeface="Comic Sans MS"/>
              </a:rPr>
              <a:t>CABLEM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560" y="17082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33399"/>
                </a:solidFill>
                <a:latin typeface="Comic Sans MS"/>
              </a:rPr>
              <a:t>NODO TIJU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04000" y="2835360"/>
            <a:ext cx="573120" cy="3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33399"/>
                </a:solidFill>
                <a:latin typeface="Comic Sans MS"/>
              </a:rPr>
              <a:t>CO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96360" y="177012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33399"/>
                </a:solidFill>
                <a:latin typeface="Comic Sans MS"/>
              </a:rPr>
              <a:t>UCS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46840" y="2987640"/>
            <a:ext cx="1757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32640" y="2438280"/>
            <a:ext cx="0" cy="3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26560" y="2438280"/>
            <a:ext cx="0" cy="3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5127480"/>
            <a:ext cx="430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78640" y="5029200"/>
            <a:ext cx="1041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33399"/>
                </a:solidFill>
                <a:latin typeface="Comic Sans MS"/>
              </a:rPr>
              <a:t>FIBRA OPTIC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23240" y="204300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86520" y="237168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33399"/>
                </a:solidFill>
                <a:latin typeface="Comic Sans MS"/>
              </a:rPr>
              <a:t>U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27920" y="2378160"/>
            <a:ext cx="82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33399"/>
                </a:solidFill>
                <a:latin typeface="Comic Sans MS"/>
              </a:rPr>
              <a:t>MEX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4120" y="1860480"/>
            <a:ext cx="727200" cy="639720"/>
          </a:xfrm>
          <a:custGeom>
            <a:avLst/>
            <a:gdLst/>
            <a:ahLst/>
            <a:rect l="l" t="t" r="r" b="b"/>
            <a:pathLst>
              <a:path w="2213" h="1471">
                <a:moveTo>
                  <a:pt x="1020" y="194"/>
                </a:moveTo>
                <a:lnTo>
                  <a:pt x="969" y="179"/>
                </a:lnTo>
                <a:lnTo>
                  <a:pt x="899" y="163"/>
                </a:lnTo>
                <a:lnTo>
                  <a:pt x="839" y="159"/>
                </a:lnTo>
                <a:lnTo>
                  <a:pt x="777" y="167"/>
                </a:lnTo>
                <a:lnTo>
                  <a:pt x="732" y="172"/>
                </a:lnTo>
                <a:lnTo>
                  <a:pt x="687" y="187"/>
                </a:lnTo>
                <a:lnTo>
                  <a:pt x="639" y="208"/>
                </a:lnTo>
                <a:lnTo>
                  <a:pt x="593" y="234"/>
                </a:lnTo>
                <a:lnTo>
                  <a:pt x="545" y="269"/>
                </a:lnTo>
                <a:lnTo>
                  <a:pt x="498" y="316"/>
                </a:lnTo>
                <a:lnTo>
                  <a:pt x="467" y="358"/>
                </a:lnTo>
                <a:lnTo>
                  <a:pt x="446" y="398"/>
                </a:lnTo>
                <a:lnTo>
                  <a:pt x="427" y="440"/>
                </a:lnTo>
                <a:lnTo>
                  <a:pt x="414" y="497"/>
                </a:lnTo>
                <a:lnTo>
                  <a:pt x="376" y="481"/>
                </a:lnTo>
                <a:lnTo>
                  <a:pt x="327" y="475"/>
                </a:lnTo>
                <a:lnTo>
                  <a:pt x="287" y="477"/>
                </a:lnTo>
                <a:lnTo>
                  <a:pt x="242" y="488"/>
                </a:lnTo>
                <a:lnTo>
                  <a:pt x="204" y="503"/>
                </a:lnTo>
                <a:lnTo>
                  <a:pt x="166" y="524"/>
                </a:lnTo>
                <a:lnTo>
                  <a:pt x="125" y="557"/>
                </a:lnTo>
                <a:lnTo>
                  <a:pt x="100" y="588"/>
                </a:lnTo>
                <a:lnTo>
                  <a:pt x="73" y="621"/>
                </a:lnTo>
                <a:lnTo>
                  <a:pt x="50" y="659"/>
                </a:lnTo>
                <a:lnTo>
                  <a:pt x="28" y="714"/>
                </a:lnTo>
                <a:lnTo>
                  <a:pt x="14" y="762"/>
                </a:lnTo>
                <a:lnTo>
                  <a:pt x="5" y="813"/>
                </a:lnTo>
                <a:lnTo>
                  <a:pt x="1" y="852"/>
                </a:lnTo>
                <a:lnTo>
                  <a:pt x="0" y="892"/>
                </a:lnTo>
                <a:lnTo>
                  <a:pt x="1" y="939"/>
                </a:lnTo>
                <a:lnTo>
                  <a:pt x="8" y="983"/>
                </a:lnTo>
                <a:lnTo>
                  <a:pt x="18" y="1025"/>
                </a:lnTo>
                <a:lnTo>
                  <a:pt x="29" y="1067"/>
                </a:lnTo>
                <a:lnTo>
                  <a:pt x="50" y="1116"/>
                </a:lnTo>
                <a:lnTo>
                  <a:pt x="75" y="1160"/>
                </a:lnTo>
                <a:lnTo>
                  <a:pt x="102" y="1196"/>
                </a:lnTo>
                <a:lnTo>
                  <a:pt x="138" y="1233"/>
                </a:lnTo>
                <a:lnTo>
                  <a:pt x="175" y="1260"/>
                </a:lnTo>
                <a:lnTo>
                  <a:pt x="207" y="1278"/>
                </a:lnTo>
                <a:lnTo>
                  <a:pt x="237" y="1290"/>
                </a:lnTo>
                <a:lnTo>
                  <a:pt x="273" y="1301"/>
                </a:lnTo>
                <a:lnTo>
                  <a:pt x="312" y="1302"/>
                </a:lnTo>
                <a:lnTo>
                  <a:pt x="351" y="1302"/>
                </a:lnTo>
                <a:lnTo>
                  <a:pt x="390" y="1293"/>
                </a:lnTo>
                <a:lnTo>
                  <a:pt x="420" y="1282"/>
                </a:lnTo>
                <a:lnTo>
                  <a:pt x="442" y="1273"/>
                </a:lnTo>
                <a:lnTo>
                  <a:pt x="464" y="1306"/>
                </a:lnTo>
                <a:lnTo>
                  <a:pt x="494" y="1334"/>
                </a:lnTo>
                <a:lnTo>
                  <a:pt x="527" y="1360"/>
                </a:lnTo>
                <a:lnTo>
                  <a:pt x="564" y="1388"/>
                </a:lnTo>
                <a:lnTo>
                  <a:pt x="609" y="1412"/>
                </a:lnTo>
                <a:lnTo>
                  <a:pt x="657" y="1433"/>
                </a:lnTo>
                <a:lnTo>
                  <a:pt x="713" y="1450"/>
                </a:lnTo>
                <a:lnTo>
                  <a:pt x="765" y="1462"/>
                </a:lnTo>
                <a:lnTo>
                  <a:pt x="822" y="1470"/>
                </a:lnTo>
                <a:lnTo>
                  <a:pt x="866" y="1470"/>
                </a:lnTo>
                <a:lnTo>
                  <a:pt x="912" y="1470"/>
                </a:lnTo>
                <a:lnTo>
                  <a:pt x="976" y="1460"/>
                </a:lnTo>
                <a:lnTo>
                  <a:pt x="1034" y="1448"/>
                </a:lnTo>
                <a:lnTo>
                  <a:pt x="1075" y="1436"/>
                </a:lnTo>
                <a:lnTo>
                  <a:pt x="1127" y="1415"/>
                </a:lnTo>
                <a:lnTo>
                  <a:pt x="1181" y="1388"/>
                </a:lnTo>
                <a:lnTo>
                  <a:pt x="1211" y="1366"/>
                </a:lnTo>
                <a:lnTo>
                  <a:pt x="1237" y="1342"/>
                </a:lnTo>
                <a:lnTo>
                  <a:pt x="1265" y="1359"/>
                </a:lnTo>
                <a:lnTo>
                  <a:pt x="1304" y="1379"/>
                </a:lnTo>
                <a:lnTo>
                  <a:pt x="1340" y="1392"/>
                </a:lnTo>
                <a:lnTo>
                  <a:pt x="1373" y="1399"/>
                </a:lnTo>
                <a:lnTo>
                  <a:pt x="1412" y="1404"/>
                </a:lnTo>
                <a:lnTo>
                  <a:pt x="1447" y="1404"/>
                </a:lnTo>
                <a:lnTo>
                  <a:pt x="1493" y="1398"/>
                </a:lnTo>
                <a:lnTo>
                  <a:pt x="1536" y="1383"/>
                </a:lnTo>
                <a:lnTo>
                  <a:pt x="1575" y="1366"/>
                </a:lnTo>
                <a:lnTo>
                  <a:pt x="1615" y="1339"/>
                </a:lnTo>
                <a:lnTo>
                  <a:pt x="1650" y="1310"/>
                </a:lnTo>
                <a:lnTo>
                  <a:pt x="1700" y="1334"/>
                </a:lnTo>
                <a:lnTo>
                  <a:pt x="1746" y="1346"/>
                </a:lnTo>
                <a:lnTo>
                  <a:pt x="1785" y="1354"/>
                </a:lnTo>
                <a:lnTo>
                  <a:pt x="1842" y="1354"/>
                </a:lnTo>
                <a:lnTo>
                  <a:pt x="1901" y="1345"/>
                </a:lnTo>
                <a:lnTo>
                  <a:pt x="1970" y="1317"/>
                </a:lnTo>
                <a:lnTo>
                  <a:pt x="2030" y="1278"/>
                </a:lnTo>
                <a:lnTo>
                  <a:pt x="2080" y="1229"/>
                </a:lnTo>
                <a:lnTo>
                  <a:pt x="2128" y="1170"/>
                </a:lnTo>
                <a:lnTo>
                  <a:pt x="2155" y="1122"/>
                </a:lnTo>
                <a:lnTo>
                  <a:pt x="2175" y="1071"/>
                </a:lnTo>
                <a:lnTo>
                  <a:pt x="2194" y="1006"/>
                </a:lnTo>
                <a:lnTo>
                  <a:pt x="2206" y="946"/>
                </a:lnTo>
                <a:lnTo>
                  <a:pt x="2212" y="878"/>
                </a:lnTo>
                <a:lnTo>
                  <a:pt x="2207" y="825"/>
                </a:lnTo>
                <a:lnTo>
                  <a:pt x="2197" y="762"/>
                </a:lnTo>
                <a:lnTo>
                  <a:pt x="2180" y="698"/>
                </a:lnTo>
                <a:lnTo>
                  <a:pt x="2156" y="643"/>
                </a:lnTo>
                <a:lnTo>
                  <a:pt x="2126" y="588"/>
                </a:lnTo>
                <a:lnTo>
                  <a:pt x="2091" y="543"/>
                </a:lnTo>
                <a:lnTo>
                  <a:pt x="2058" y="508"/>
                </a:lnTo>
                <a:lnTo>
                  <a:pt x="2022" y="479"/>
                </a:lnTo>
                <a:lnTo>
                  <a:pt x="1975" y="444"/>
                </a:lnTo>
                <a:lnTo>
                  <a:pt x="1932" y="424"/>
                </a:lnTo>
                <a:lnTo>
                  <a:pt x="1892" y="415"/>
                </a:lnTo>
                <a:lnTo>
                  <a:pt x="1850" y="407"/>
                </a:lnTo>
                <a:lnTo>
                  <a:pt x="1842" y="366"/>
                </a:lnTo>
                <a:lnTo>
                  <a:pt x="1828" y="322"/>
                </a:lnTo>
                <a:lnTo>
                  <a:pt x="1811" y="284"/>
                </a:lnTo>
                <a:lnTo>
                  <a:pt x="1788" y="238"/>
                </a:lnTo>
                <a:lnTo>
                  <a:pt x="1761" y="196"/>
                </a:lnTo>
                <a:lnTo>
                  <a:pt x="1726" y="152"/>
                </a:lnTo>
                <a:lnTo>
                  <a:pt x="1691" y="115"/>
                </a:lnTo>
                <a:lnTo>
                  <a:pt x="1652" y="86"/>
                </a:lnTo>
                <a:lnTo>
                  <a:pt x="1601" y="53"/>
                </a:lnTo>
                <a:lnTo>
                  <a:pt x="1553" y="30"/>
                </a:lnTo>
                <a:lnTo>
                  <a:pt x="1504" y="13"/>
                </a:lnTo>
                <a:lnTo>
                  <a:pt x="1452" y="4"/>
                </a:lnTo>
                <a:lnTo>
                  <a:pt x="1400" y="0"/>
                </a:lnTo>
                <a:lnTo>
                  <a:pt x="1344" y="1"/>
                </a:lnTo>
                <a:lnTo>
                  <a:pt x="1293" y="9"/>
                </a:lnTo>
                <a:lnTo>
                  <a:pt x="1233" y="28"/>
                </a:lnTo>
                <a:lnTo>
                  <a:pt x="1170" y="59"/>
                </a:lnTo>
                <a:lnTo>
                  <a:pt x="1129" y="86"/>
                </a:lnTo>
                <a:lnTo>
                  <a:pt x="1088" y="118"/>
                </a:lnTo>
                <a:lnTo>
                  <a:pt x="1052" y="156"/>
                </a:lnTo>
                <a:lnTo>
                  <a:pt x="1020" y="194"/>
                </a:lnTo>
              </a:path>
            </a:pathLst>
          </a:custGeom>
          <a:solidFill>
            <a:srgbClr val="6699ff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213372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Comic Sans MS"/>
              </a:rPr>
              <a:t>CEN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99160" y="1920960"/>
            <a:ext cx="685800" cy="639720"/>
          </a:xfrm>
          <a:custGeom>
            <a:avLst/>
            <a:gdLst/>
            <a:ahLst/>
            <a:rect l="l" t="t" r="r" b="b"/>
            <a:pathLst>
              <a:path w="2213" h="1471">
                <a:moveTo>
                  <a:pt x="1020" y="194"/>
                </a:moveTo>
                <a:lnTo>
                  <a:pt x="969" y="179"/>
                </a:lnTo>
                <a:lnTo>
                  <a:pt x="899" y="163"/>
                </a:lnTo>
                <a:lnTo>
                  <a:pt x="839" y="159"/>
                </a:lnTo>
                <a:lnTo>
                  <a:pt x="777" y="167"/>
                </a:lnTo>
                <a:lnTo>
                  <a:pt x="732" y="172"/>
                </a:lnTo>
                <a:lnTo>
                  <a:pt x="687" y="187"/>
                </a:lnTo>
                <a:lnTo>
                  <a:pt x="639" y="208"/>
                </a:lnTo>
                <a:lnTo>
                  <a:pt x="593" y="234"/>
                </a:lnTo>
                <a:lnTo>
                  <a:pt x="545" y="269"/>
                </a:lnTo>
                <a:lnTo>
                  <a:pt x="498" y="316"/>
                </a:lnTo>
                <a:lnTo>
                  <a:pt x="467" y="358"/>
                </a:lnTo>
                <a:lnTo>
                  <a:pt x="446" y="398"/>
                </a:lnTo>
                <a:lnTo>
                  <a:pt x="427" y="440"/>
                </a:lnTo>
                <a:lnTo>
                  <a:pt x="414" y="497"/>
                </a:lnTo>
                <a:lnTo>
                  <a:pt x="376" y="481"/>
                </a:lnTo>
                <a:lnTo>
                  <a:pt x="327" y="475"/>
                </a:lnTo>
                <a:lnTo>
                  <a:pt x="287" y="477"/>
                </a:lnTo>
                <a:lnTo>
                  <a:pt x="242" y="488"/>
                </a:lnTo>
                <a:lnTo>
                  <a:pt x="204" y="503"/>
                </a:lnTo>
                <a:lnTo>
                  <a:pt x="166" y="524"/>
                </a:lnTo>
                <a:lnTo>
                  <a:pt x="125" y="557"/>
                </a:lnTo>
                <a:lnTo>
                  <a:pt x="100" y="588"/>
                </a:lnTo>
                <a:lnTo>
                  <a:pt x="73" y="621"/>
                </a:lnTo>
                <a:lnTo>
                  <a:pt x="50" y="659"/>
                </a:lnTo>
                <a:lnTo>
                  <a:pt x="28" y="714"/>
                </a:lnTo>
                <a:lnTo>
                  <a:pt x="14" y="762"/>
                </a:lnTo>
                <a:lnTo>
                  <a:pt x="5" y="813"/>
                </a:lnTo>
                <a:lnTo>
                  <a:pt x="1" y="852"/>
                </a:lnTo>
                <a:lnTo>
                  <a:pt x="0" y="892"/>
                </a:lnTo>
                <a:lnTo>
                  <a:pt x="1" y="939"/>
                </a:lnTo>
                <a:lnTo>
                  <a:pt x="8" y="983"/>
                </a:lnTo>
                <a:lnTo>
                  <a:pt x="18" y="1025"/>
                </a:lnTo>
                <a:lnTo>
                  <a:pt x="29" y="1067"/>
                </a:lnTo>
                <a:lnTo>
                  <a:pt x="50" y="1116"/>
                </a:lnTo>
                <a:lnTo>
                  <a:pt x="75" y="1160"/>
                </a:lnTo>
                <a:lnTo>
                  <a:pt x="102" y="1196"/>
                </a:lnTo>
                <a:lnTo>
                  <a:pt x="138" y="1233"/>
                </a:lnTo>
                <a:lnTo>
                  <a:pt x="175" y="1260"/>
                </a:lnTo>
                <a:lnTo>
                  <a:pt x="207" y="1278"/>
                </a:lnTo>
                <a:lnTo>
                  <a:pt x="237" y="1290"/>
                </a:lnTo>
                <a:lnTo>
                  <a:pt x="273" y="1301"/>
                </a:lnTo>
                <a:lnTo>
                  <a:pt x="312" y="1302"/>
                </a:lnTo>
                <a:lnTo>
                  <a:pt x="351" y="1302"/>
                </a:lnTo>
                <a:lnTo>
                  <a:pt x="390" y="1293"/>
                </a:lnTo>
                <a:lnTo>
                  <a:pt x="420" y="1282"/>
                </a:lnTo>
                <a:lnTo>
                  <a:pt x="442" y="1273"/>
                </a:lnTo>
                <a:lnTo>
                  <a:pt x="464" y="1306"/>
                </a:lnTo>
                <a:lnTo>
                  <a:pt x="494" y="1334"/>
                </a:lnTo>
                <a:lnTo>
                  <a:pt x="527" y="1360"/>
                </a:lnTo>
                <a:lnTo>
                  <a:pt x="564" y="1388"/>
                </a:lnTo>
                <a:lnTo>
                  <a:pt x="609" y="1412"/>
                </a:lnTo>
                <a:lnTo>
                  <a:pt x="657" y="1433"/>
                </a:lnTo>
                <a:lnTo>
                  <a:pt x="713" y="1450"/>
                </a:lnTo>
                <a:lnTo>
                  <a:pt x="765" y="1462"/>
                </a:lnTo>
                <a:lnTo>
                  <a:pt x="822" y="1470"/>
                </a:lnTo>
                <a:lnTo>
                  <a:pt x="866" y="1470"/>
                </a:lnTo>
                <a:lnTo>
                  <a:pt x="912" y="1470"/>
                </a:lnTo>
                <a:lnTo>
                  <a:pt x="976" y="1460"/>
                </a:lnTo>
                <a:lnTo>
                  <a:pt x="1034" y="1448"/>
                </a:lnTo>
                <a:lnTo>
                  <a:pt x="1075" y="1436"/>
                </a:lnTo>
                <a:lnTo>
                  <a:pt x="1127" y="1415"/>
                </a:lnTo>
                <a:lnTo>
                  <a:pt x="1181" y="1388"/>
                </a:lnTo>
                <a:lnTo>
                  <a:pt x="1211" y="1366"/>
                </a:lnTo>
                <a:lnTo>
                  <a:pt x="1237" y="1342"/>
                </a:lnTo>
                <a:lnTo>
                  <a:pt x="1265" y="1359"/>
                </a:lnTo>
                <a:lnTo>
                  <a:pt x="1304" y="1379"/>
                </a:lnTo>
                <a:lnTo>
                  <a:pt x="1340" y="1392"/>
                </a:lnTo>
                <a:lnTo>
                  <a:pt x="1373" y="1399"/>
                </a:lnTo>
                <a:lnTo>
                  <a:pt x="1412" y="1404"/>
                </a:lnTo>
                <a:lnTo>
                  <a:pt x="1447" y="1404"/>
                </a:lnTo>
                <a:lnTo>
                  <a:pt x="1493" y="1398"/>
                </a:lnTo>
                <a:lnTo>
                  <a:pt x="1536" y="1383"/>
                </a:lnTo>
                <a:lnTo>
                  <a:pt x="1575" y="1366"/>
                </a:lnTo>
                <a:lnTo>
                  <a:pt x="1615" y="1339"/>
                </a:lnTo>
                <a:lnTo>
                  <a:pt x="1650" y="1310"/>
                </a:lnTo>
                <a:lnTo>
                  <a:pt x="1700" y="1334"/>
                </a:lnTo>
                <a:lnTo>
                  <a:pt x="1746" y="1346"/>
                </a:lnTo>
                <a:lnTo>
                  <a:pt x="1785" y="1354"/>
                </a:lnTo>
                <a:lnTo>
                  <a:pt x="1842" y="1354"/>
                </a:lnTo>
                <a:lnTo>
                  <a:pt x="1901" y="1345"/>
                </a:lnTo>
                <a:lnTo>
                  <a:pt x="1970" y="1317"/>
                </a:lnTo>
                <a:lnTo>
                  <a:pt x="2030" y="1278"/>
                </a:lnTo>
                <a:lnTo>
                  <a:pt x="2080" y="1229"/>
                </a:lnTo>
                <a:lnTo>
                  <a:pt x="2128" y="1170"/>
                </a:lnTo>
                <a:lnTo>
                  <a:pt x="2155" y="1122"/>
                </a:lnTo>
                <a:lnTo>
                  <a:pt x="2175" y="1071"/>
                </a:lnTo>
                <a:lnTo>
                  <a:pt x="2194" y="1006"/>
                </a:lnTo>
                <a:lnTo>
                  <a:pt x="2206" y="946"/>
                </a:lnTo>
                <a:lnTo>
                  <a:pt x="2212" y="878"/>
                </a:lnTo>
                <a:lnTo>
                  <a:pt x="2207" y="825"/>
                </a:lnTo>
                <a:lnTo>
                  <a:pt x="2197" y="762"/>
                </a:lnTo>
                <a:lnTo>
                  <a:pt x="2180" y="698"/>
                </a:lnTo>
                <a:lnTo>
                  <a:pt x="2156" y="643"/>
                </a:lnTo>
                <a:lnTo>
                  <a:pt x="2126" y="588"/>
                </a:lnTo>
                <a:lnTo>
                  <a:pt x="2091" y="543"/>
                </a:lnTo>
                <a:lnTo>
                  <a:pt x="2058" y="508"/>
                </a:lnTo>
                <a:lnTo>
                  <a:pt x="2022" y="479"/>
                </a:lnTo>
                <a:lnTo>
                  <a:pt x="1975" y="444"/>
                </a:lnTo>
                <a:lnTo>
                  <a:pt x="1932" y="424"/>
                </a:lnTo>
                <a:lnTo>
                  <a:pt x="1892" y="415"/>
                </a:lnTo>
                <a:lnTo>
                  <a:pt x="1850" y="407"/>
                </a:lnTo>
                <a:lnTo>
                  <a:pt x="1842" y="366"/>
                </a:lnTo>
                <a:lnTo>
                  <a:pt x="1828" y="322"/>
                </a:lnTo>
                <a:lnTo>
                  <a:pt x="1811" y="284"/>
                </a:lnTo>
                <a:lnTo>
                  <a:pt x="1788" y="238"/>
                </a:lnTo>
                <a:lnTo>
                  <a:pt x="1761" y="196"/>
                </a:lnTo>
                <a:lnTo>
                  <a:pt x="1726" y="152"/>
                </a:lnTo>
                <a:lnTo>
                  <a:pt x="1691" y="115"/>
                </a:lnTo>
                <a:lnTo>
                  <a:pt x="1652" y="86"/>
                </a:lnTo>
                <a:lnTo>
                  <a:pt x="1601" y="53"/>
                </a:lnTo>
                <a:lnTo>
                  <a:pt x="1553" y="30"/>
                </a:lnTo>
                <a:lnTo>
                  <a:pt x="1504" y="13"/>
                </a:lnTo>
                <a:lnTo>
                  <a:pt x="1452" y="4"/>
                </a:lnTo>
                <a:lnTo>
                  <a:pt x="1400" y="0"/>
                </a:lnTo>
                <a:lnTo>
                  <a:pt x="1344" y="1"/>
                </a:lnTo>
                <a:lnTo>
                  <a:pt x="1293" y="9"/>
                </a:lnTo>
                <a:lnTo>
                  <a:pt x="1233" y="28"/>
                </a:lnTo>
                <a:lnTo>
                  <a:pt x="1170" y="59"/>
                </a:lnTo>
                <a:lnTo>
                  <a:pt x="1129" y="86"/>
                </a:lnTo>
                <a:lnTo>
                  <a:pt x="1088" y="118"/>
                </a:lnTo>
                <a:lnTo>
                  <a:pt x="1052" y="156"/>
                </a:lnTo>
                <a:lnTo>
                  <a:pt x="1020" y="194"/>
                </a:lnTo>
              </a:path>
            </a:pathLst>
          </a:custGeom>
          <a:solidFill>
            <a:srgbClr val="6699ff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34080" y="219564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Comic Sans MS"/>
              </a:rPr>
              <a:t>C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51600" y="204300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608800" y="2049480"/>
            <a:ext cx="301320" cy="450360"/>
            <a:chOff x="5608800" y="2049480"/>
            <a:chExt cx="301320" cy="45036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5608800" y="2107080"/>
              <a:ext cx="301320" cy="39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5645160" y="2049480"/>
              <a:ext cx="231480" cy="105480"/>
              <a:chOff x="5645160" y="2049480"/>
              <a:chExt cx="231480" cy="105480"/>
            </a:xfrm>
          </p:grpSpPr>
          <p:sp>
            <p:nvSpPr>
              <p:cNvPr id="255" name=""/>
              <p:cNvSpPr/>
              <p:nvPr/>
            </p:nvSpPr>
            <p:spPr>
              <a:xfrm>
                <a:off x="5648040" y="2095200"/>
                <a:ext cx="220320" cy="59760"/>
              </a:xfrm>
              <a:prstGeom prst="ellipse">
                <a:avLst/>
              </a:prstGeom>
              <a:solidFill>
                <a:srgbClr val="0078aa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45160" y="2081880"/>
                <a:ext cx="230760" cy="468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45160" y="2081880"/>
                <a:ext cx="230760" cy="468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648040" y="2049480"/>
                <a:ext cx="220320" cy="59760"/>
              </a:xfrm>
              <a:prstGeom prst="ellipse">
                <a:avLst/>
              </a:prstGeom>
              <a:solidFill>
                <a:srgbClr val="00b4ff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63600" y="205632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103" h="35">
                    <a:moveTo>
                      <a:pt x="0" y="26"/>
                    </a:moveTo>
                    <a:lnTo>
                      <a:pt x="23" y="34"/>
                    </a:lnTo>
                    <a:lnTo>
                      <a:pt x="77" y="12"/>
                    </a:lnTo>
                    <a:lnTo>
                      <a:pt x="102" y="19"/>
                    </a:lnTo>
                    <a:lnTo>
                      <a:pt x="88" y="0"/>
                    </a:lnTo>
                    <a:lnTo>
                      <a:pt x="24" y="0"/>
                    </a:lnTo>
                    <a:lnTo>
                      <a:pt x="51" y="5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63600" y="2056320"/>
                <a:ext cx="76320" cy="22320"/>
              </a:xfrm>
              <a:custGeom>
                <a:avLst/>
                <a:gdLst/>
                <a:ahLst/>
                <a:rect l="l" t="t" r="r" b="b"/>
                <a:pathLst>
                  <a:path w="103" h="35">
                    <a:moveTo>
                      <a:pt x="0" y="26"/>
                    </a:moveTo>
                    <a:lnTo>
                      <a:pt x="23" y="34"/>
                    </a:lnTo>
                    <a:lnTo>
                      <a:pt x="77" y="12"/>
                    </a:lnTo>
                    <a:lnTo>
                      <a:pt x="102" y="19"/>
                    </a:lnTo>
                    <a:lnTo>
                      <a:pt x="88" y="0"/>
                    </a:lnTo>
                    <a:lnTo>
                      <a:pt x="24" y="0"/>
                    </a:lnTo>
                    <a:lnTo>
                      <a:pt x="51" y="5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80080" y="2081880"/>
                <a:ext cx="76320" cy="22680"/>
              </a:xfrm>
              <a:custGeom>
                <a:avLst/>
                <a:gdLst/>
                <a:ahLst/>
                <a:rect l="l" t="t" r="r" b="b"/>
                <a:pathLst>
                  <a:path w="103" h="36">
                    <a:moveTo>
                      <a:pt x="102" y="7"/>
                    </a:moveTo>
                    <a:lnTo>
                      <a:pt x="79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4" y="35"/>
                    </a:lnTo>
                    <a:lnTo>
                      <a:pt x="79" y="35"/>
                    </a:lnTo>
                    <a:lnTo>
                      <a:pt x="51" y="28"/>
                    </a:lnTo>
                    <a:lnTo>
                      <a:pt x="102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680080" y="2081880"/>
                <a:ext cx="76320" cy="22680"/>
              </a:xfrm>
              <a:custGeom>
                <a:avLst/>
                <a:gdLst/>
                <a:ahLst/>
                <a:rect l="l" t="t" r="r" b="b"/>
                <a:pathLst>
                  <a:path w="103" h="36">
                    <a:moveTo>
                      <a:pt x="102" y="7"/>
                    </a:moveTo>
                    <a:lnTo>
                      <a:pt x="79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4" y="35"/>
                    </a:lnTo>
                    <a:lnTo>
                      <a:pt x="79" y="35"/>
                    </a:lnTo>
                    <a:lnTo>
                      <a:pt x="51" y="28"/>
                    </a:lnTo>
                    <a:lnTo>
                      <a:pt x="102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684400" y="2055240"/>
                <a:ext cx="77400" cy="21960"/>
              </a:xfrm>
              <a:custGeom>
                <a:avLst/>
                <a:gdLst/>
                <a:ahLst/>
                <a:rect l="l" t="t" r="r" b="b"/>
                <a:pathLst>
                  <a:path w="104" h="35">
                    <a:moveTo>
                      <a:pt x="0" y="8"/>
                    </a:moveTo>
                    <a:lnTo>
                      <a:pt x="23" y="0"/>
                    </a:lnTo>
                    <a:lnTo>
                      <a:pt x="78" y="21"/>
                    </a:lnTo>
                    <a:lnTo>
                      <a:pt x="103" y="15"/>
                    </a:lnTo>
                    <a:lnTo>
                      <a:pt x="89" y="34"/>
                    </a:lnTo>
                    <a:lnTo>
                      <a:pt x="24" y="34"/>
                    </a:lnTo>
                    <a:lnTo>
                      <a:pt x="51" y="2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84400" y="2055240"/>
                <a:ext cx="77400" cy="21960"/>
              </a:xfrm>
              <a:custGeom>
                <a:avLst/>
                <a:gdLst/>
                <a:ahLst/>
                <a:rect l="l" t="t" r="r" b="b"/>
                <a:pathLst>
                  <a:path w="104" h="35">
                    <a:moveTo>
                      <a:pt x="0" y="8"/>
                    </a:moveTo>
                    <a:lnTo>
                      <a:pt x="23" y="0"/>
                    </a:lnTo>
                    <a:lnTo>
                      <a:pt x="78" y="21"/>
                    </a:lnTo>
                    <a:lnTo>
                      <a:pt x="103" y="15"/>
                    </a:lnTo>
                    <a:lnTo>
                      <a:pt x="89" y="34"/>
                    </a:lnTo>
                    <a:lnTo>
                      <a:pt x="24" y="34"/>
                    </a:lnTo>
                    <a:lnTo>
                      <a:pt x="51" y="2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61080" y="2083680"/>
                <a:ext cx="75960" cy="2196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101" y="26"/>
                    </a:moveTo>
                    <a:lnTo>
                      <a:pt x="79" y="34"/>
                    </a:lnTo>
                    <a:lnTo>
                      <a:pt x="26" y="12"/>
                    </a:lnTo>
                    <a:lnTo>
                      <a:pt x="0" y="19"/>
                    </a:lnTo>
                    <a:lnTo>
                      <a:pt x="13" y="0"/>
                    </a:lnTo>
                    <a:lnTo>
                      <a:pt x="79" y="0"/>
                    </a:lnTo>
                    <a:lnTo>
                      <a:pt x="50" y="5"/>
                    </a:lnTo>
                    <a:lnTo>
                      <a:pt x="101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61080" y="2083680"/>
                <a:ext cx="75960" cy="2196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101" y="26"/>
                    </a:moveTo>
                    <a:lnTo>
                      <a:pt x="79" y="34"/>
                    </a:lnTo>
                    <a:lnTo>
                      <a:pt x="26" y="12"/>
                    </a:lnTo>
                    <a:lnTo>
                      <a:pt x="0" y="19"/>
                    </a:lnTo>
                    <a:lnTo>
                      <a:pt x="13" y="0"/>
                    </a:lnTo>
                    <a:lnTo>
                      <a:pt x="79" y="0"/>
                    </a:lnTo>
                    <a:lnTo>
                      <a:pt x="50" y="5"/>
                    </a:lnTo>
                    <a:lnTo>
                      <a:pt x="101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65040" y="205740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0" y="26"/>
                    </a:moveTo>
                    <a:lnTo>
                      <a:pt x="22" y="34"/>
                    </a:lnTo>
                    <a:lnTo>
                      <a:pt x="77" y="11"/>
                    </a:lnTo>
                    <a:lnTo>
                      <a:pt x="101" y="19"/>
                    </a:lnTo>
                    <a:lnTo>
                      <a:pt x="88" y="0"/>
                    </a:lnTo>
                    <a:lnTo>
                      <a:pt x="25" y="0"/>
                    </a:lnTo>
                    <a:lnTo>
                      <a:pt x="51" y="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65040" y="205740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0" y="26"/>
                    </a:moveTo>
                    <a:lnTo>
                      <a:pt x="22" y="34"/>
                    </a:lnTo>
                    <a:lnTo>
                      <a:pt x="77" y="11"/>
                    </a:lnTo>
                    <a:lnTo>
                      <a:pt x="101" y="19"/>
                    </a:lnTo>
                    <a:lnTo>
                      <a:pt x="88" y="0"/>
                    </a:lnTo>
                    <a:lnTo>
                      <a:pt x="25" y="0"/>
                    </a:lnTo>
                    <a:lnTo>
                      <a:pt x="51" y="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82240" y="208224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102" h="37">
                    <a:moveTo>
                      <a:pt x="101" y="8"/>
                    </a:moveTo>
                    <a:lnTo>
                      <a:pt x="79" y="0"/>
                    </a:lnTo>
                    <a:lnTo>
                      <a:pt x="26" y="23"/>
                    </a:lnTo>
                    <a:lnTo>
                      <a:pt x="0" y="15"/>
                    </a:lnTo>
                    <a:lnTo>
                      <a:pt x="13" y="36"/>
                    </a:lnTo>
                    <a:lnTo>
                      <a:pt x="79" y="36"/>
                    </a:lnTo>
                    <a:lnTo>
                      <a:pt x="50" y="28"/>
                    </a:lnTo>
                    <a:lnTo>
                      <a:pt x="101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682240" y="208224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102" h="37">
                    <a:moveTo>
                      <a:pt x="101" y="8"/>
                    </a:moveTo>
                    <a:lnTo>
                      <a:pt x="79" y="0"/>
                    </a:lnTo>
                    <a:lnTo>
                      <a:pt x="26" y="23"/>
                    </a:lnTo>
                    <a:lnTo>
                      <a:pt x="0" y="15"/>
                    </a:lnTo>
                    <a:lnTo>
                      <a:pt x="13" y="36"/>
                    </a:lnTo>
                    <a:lnTo>
                      <a:pt x="79" y="36"/>
                    </a:lnTo>
                    <a:lnTo>
                      <a:pt x="50" y="28"/>
                    </a:lnTo>
                    <a:lnTo>
                      <a:pt x="101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85840" y="205632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0" y="8"/>
                    </a:moveTo>
                    <a:lnTo>
                      <a:pt x="22" y="0"/>
                    </a:lnTo>
                    <a:lnTo>
                      <a:pt x="77" y="21"/>
                    </a:lnTo>
                    <a:lnTo>
                      <a:pt x="101" y="15"/>
                    </a:lnTo>
                    <a:lnTo>
                      <a:pt x="88" y="34"/>
                    </a:lnTo>
                    <a:lnTo>
                      <a:pt x="25" y="34"/>
                    </a:lnTo>
                    <a:lnTo>
                      <a:pt x="51" y="2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685840" y="205632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0" y="8"/>
                    </a:moveTo>
                    <a:lnTo>
                      <a:pt x="22" y="0"/>
                    </a:lnTo>
                    <a:lnTo>
                      <a:pt x="77" y="21"/>
                    </a:lnTo>
                    <a:lnTo>
                      <a:pt x="101" y="15"/>
                    </a:lnTo>
                    <a:lnTo>
                      <a:pt x="88" y="34"/>
                    </a:lnTo>
                    <a:lnTo>
                      <a:pt x="25" y="34"/>
                    </a:lnTo>
                    <a:lnTo>
                      <a:pt x="51" y="2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761080" y="2085120"/>
                <a:ext cx="77400" cy="2160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103" y="26"/>
                    </a:moveTo>
                    <a:lnTo>
                      <a:pt x="80" y="33"/>
                    </a:lnTo>
                    <a:lnTo>
                      <a:pt x="27" y="11"/>
                    </a:lnTo>
                    <a:lnTo>
                      <a:pt x="0" y="18"/>
                    </a:lnTo>
                    <a:lnTo>
                      <a:pt x="14" y="0"/>
                    </a:lnTo>
                    <a:lnTo>
                      <a:pt x="80" y="0"/>
                    </a:lnTo>
                    <a:lnTo>
                      <a:pt x="52" y="6"/>
                    </a:lnTo>
                    <a:lnTo>
                      <a:pt x="103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61080" y="2085120"/>
                <a:ext cx="77400" cy="2160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103" y="26"/>
                    </a:moveTo>
                    <a:lnTo>
                      <a:pt x="80" y="33"/>
                    </a:lnTo>
                    <a:lnTo>
                      <a:pt x="27" y="11"/>
                    </a:lnTo>
                    <a:lnTo>
                      <a:pt x="0" y="18"/>
                    </a:lnTo>
                    <a:lnTo>
                      <a:pt x="14" y="0"/>
                    </a:lnTo>
                    <a:lnTo>
                      <a:pt x="80" y="0"/>
                    </a:lnTo>
                    <a:lnTo>
                      <a:pt x="52" y="6"/>
                    </a:lnTo>
                    <a:lnTo>
                      <a:pt x="103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75920" y="2080440"/>
                <a:ext cx="720" cy="46800"/>
              </a:xfrm>
              <a:prstGeom prst="line">
                <a:avLst/>
              </a:prstGeom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7883640" y="2073240"/>
            <a:ext cx="301680" cy="450360"/>
            <a:chOff x="7883640" y="2073240"/>
            <a:chExt cx="301680" cy="45036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7883640" y="2130840"/>
              <a:ext cx="301680" cy="39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7920000" y="2073240"/>
              <a:ext cx="231840" cy="105480"/>
              <a:chOff x="7920000" y="2073240"/>
              <a:chExt cx="231840" cy="105480"/>
            </a:xfrm>
          </p:grpSpPr>
          <p:sp>
            <p:nvSpPr>
              <p:cNvPr id="279" name=""/>
              <p:cNvSpPr/>
              <p:nvPr/>
            </p:nvSpPr>
            <p:spPr>
              <a:xfrm>
                <a:off x="7922880" y="2118960"/>
                <a:ext cx="220680" cy="59760"/>
              </a:xfrm>
              <a:prstGeom prst="ellipse">
                <a:avLst/>
              </a:prstGeom>
              <a:solidFill>
                <a:srgbClr val="0078aa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920000" y="2105640"/>
                <a:ext cx="231120" cy="468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20000" y="2105640"/>
                <a:ext cx="231120" cy="468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22880" y="2073240"/>
                <a:ext cx="220680" cy="59760"/>
              </a:xfrm>
              <a:prstGeom prst="ellipse">
                <a:avLst/>
              </a:prstGeom>
              <a:solidFill>
                <a:srgbClr val="00b4ff"/>
              </a:solidFill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38440" y="2080080"/>
                <a:ext cx="76680" cy="22320"/>
              </a:xfrm>
              <a:custGeom>
                <a:avLst/>
                <a:gdLst/>
                <a:ahLst/>
                <a:rect l="l" t="t" r="r" b="b"/>
                <a:pathLst>
                  <a:path w="103" h="35">
                    <a:moveTo>
                      <a:pt x="0" y="26"/>
                    </a:moveTo>
                    <a:lnTo>
                      <a:pt x="23" y="34"/>
                    </a:lnTo>
                    <a:lnTo>
                      <a:pt x="77" y="12"/>
                    </a:lnTo>
                    <a:lnTo>
                      <a:pt x="102" y="19"/>
                    </a:lnTo>
                    <a:lnTo>
                      <a:pt x="88" y="0"/>
                    </a:lnTo>
                    <a:lnTo>
                      <a:pt x="24" y="0"/>
                    </a:lnTo>
                    <a:lnTo>
                      <a:pt x="51" y="5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38440" y="2080080"/>
                <a:ext cx="76680" cy="22320"/>
              </a:xfrm>
              <a:custGeom>
                <a:avLst/>
                <a:gdLst/>
                <a:ahLst/>
                <a:rect l="l" t="t" r="r" b="b"/>
                <a:pathLst>
                  <a:path w="103" h="35">
                    <a:moveTo>
                      <a:pt x="0" y="26"/>
                    </a:moveTo>
                    <a:lnTo>
                      <a:pt x="23" y="34"/>
                    </a:lnTo>
                    <a:lnTo>
                      <a:pt x="77" y="12"/>
                    </a:lnTo>
                    <a:lnTo>
                      <a:pt x="102" y="19"/>
                    </a:lnTo>
                    <a:lnTo>
                      <a:pt x="88" y="0"/>
                    </a:lnTo>
                    <a:lnTo>
                      <a:pt x="24" y="0"/>
                    </a:lnTo>
                    <a:lnTo>
                      <a:pt x="51" y="5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4920" y="2105640"/>
                <a:ext cx="76680" cy="22680"/>
              </a:xfrm>
              <a:custGeom>
                <a:avLst/>
                <a:gdLst/>
                <a:ahLst/>
                <a:rect l="l" t="t" r="r" b="b"/>
                <a:pathLst>
                  <a:path w="103" h="36">
                    <a:moveTo>
                      <a:pt x="102" y="7"/>
                    </a:moveTo>
                    <a:lnTo>
                      <a:pt x="79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4" y="35"/>
                    </a:lnTo>
                    <a:lnTo>
                      <a:pt x="79" y="35"/>
                    </a:lnTo>
                    <a:lnTo>
                      <a:pt x="51" y="28"/>
                    </a:lnTo>
                    <a:lnTo>
                      <a:pt x="102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54920" y="2105640"/>
                <a:ext cx="76680" cy="22680"/>
              </a:xfrm>
              <a:custGeom>
                <a:avLst/>
                <a:gdLst/>
                <a:ahLst/>
                <a:rect l="l" t="t" r="r" b="b"/>
                <a:pathLst>
                  <a:path w="103" h="36">
                    <a:moveTo>
                      <a:pt x="102" y="7"/>
                    </a:moveTo>
                    <a:lnTo>
                      <a:pt x="79" y="0"/>
                    </a:lnTo>
                    <a:lnTo>
                      <a:pt x="26" y="22"/>
                    </a:lnTo>
                    <a:lnTo>
                      <a:pt x="0" y="15"/>
                    </a:lnTo>
                    <a:lnTo>
                      <a:pt x="14" y="35"/>
                    </a:lnTo>
                    <a:lnTo>
                      <a:pt x="79" y="35"/>
                    </a:lnTo>
                    <a:lnTo>
                      <a:pt x="51" y="28"/>
                    </a:lnTo>
                    <a:lnTo>
                      <a:pt x="102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59240" y="2079000"/>
                <a:ext cx="77400" cy="21960"/>
              </a:xfrm>
              <a:custGeom>
                <a:avLst/>
                <a:gdLst/>
                <a:ahLst/>
                <a:rect l="l" t="t" r="r" b="b"/>
                <a:pathLst>
                  <a:path w="104" h="35">
                    <a:moveTo>
                      <a:pt x="0" y="8"/>
                    </a:moveTo>
                    <a:lnTo>
                      <a:pt x="23" y="0"/>
                    </a:lnTo>
                    <a:lnTo>
                      <a:pt x="78" y="21"/>
                    </a:lnTo>
                    <a:lnTo>
                      <a:pt x="103" y="15"/>
                    </a:lnTo>
                    <a:lnTo>
                      <a:pt x="89" y="34"/>
                    </a:lnTo>
                    <a:lnTo>
                      <a:pt x="24" y="34"/>
                    </a:lnTo>
                    <a:lnTo>
                      <a:pt x="51" y="2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959240" y="2079000"/>
                <a:ext cx="77400" cy="21960"/>
              </a:xfrm>
              <a:custGeom>
                <a:avLst/>
                <a:gdLst/>
                <a:ahLst/>
                <a:rect l="l" t="t" r="r" b="b"/>
                <a:pathLst>
                  <a:path w="104" h="35">
                    <a:moveTo>
                      <a:pt x="0" y="8"/>
                    </a:moveTo>
                    <a:lnTo>
                      <a:pt x="23" y="0"/>
                    </a:lnTo>
                    <a:lnTo>
                      <a:pt x="78" y="21"/>
                    </a:lnTo>
                    <a:lnTo>
                      <a:pt x="103" y="15"/>
                    </a:lnTo>
                    <a:lnTo>
                      <a:pt x="89" y="34"/>
                    </a:lnTo>
                    <a:lnTo>
                      <a:pt x="24" y="34"/>
                    </a:lnTo>
                    <a:lnTo>
                      <a:pt x="51" y="2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036280" y="2107440"/>
                <a:ext cx="75960" cy="2196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101" y="26"/>
                    </a:moveTo>
                    <a:lnTo>
                      <a:pt x="79" y="34"/>
                    </a:lnTo>
                    <a:lnTo>
                      <a:pt x="26" y="12"/>
                    </a:lnTo>
                    <a:lnTo>
                      <a:pt x="0" y="19"/>
                    </a:lnTo>
                    <a:lnTo>
                      <a:pt x="13" y="0"/>
                    </a:lnTo>
                    <a:lnTo>
                      <a:pt x="79" y="0"/>
                    </a:lnTo>
                    <a:lnTo>
                      <a:pt x="50" y="5"/>
                    </a:lnTo>
                    <a:lnTo>
                      <a:pt x="101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036280" y="2107440"/>
                <a:ext cx="75960" cy="2196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101" y="26"/>
                    </a:moveTo>
                    <a:lnTo>
                      <a:pt x="79" y="34"/>
                    </a:lnTo>
                    <a:lnTo>
                      <a:pt x="26" y="12"/>
                    </a:lnTo>
                    <a:lnTo>
                      <a:pt x="0" y="19"/>
                    </a:lnTo>
                    <a:lnTo>
                      <a:pt x="13" y="0"/>
                    </a:lnTo>
                    <a:lnTo>
                      <a:pt x="79" y="0"/>
                    </a:lnTo>
                    <a:lnTo>
                      <a:pt x="50" y="5"/>
                    </a:lnTo>
                    <a:lnTo>
                      <a:pt x="101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39880" y="208116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0" y="26"/>
                    </a:moveTo>
                    <a:lnTo>
                      <a:pt x="22" y="34"/>
                    </a:lnTo>
                    <a:lnTo>
                      <a:pt x="77" y="11"/>
                    </a:lnTo>
                    <a:lnTo>
                      <a:pt x="101" y="19"/>
                    </a:lnTo>
                    <a:lnTo>
                      <a:pt x="88" y="0"/>
                    </a:lnTo>
                    <a:lnTo>
                      <a:pt x="25" y="0"/>
                    </a:lnTo>
                    <a:lnTo>
                      <a:pt x="51" y="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39880" y="208116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0" y="26"/>
                    </a:moveTo>
                    <a:lnTo>
                      <a:pt x="22" y="34"/>
                    </a:lnTo>
                    <a:lnTo>
                      <a:pt x="77" y="11"/>
                    </a:lnTo>
                    <a:lnTo>
                      <a:pt x="101" y="19"/>
                    </a:lnTo>
                    <a:lnTo>
                      <a:pt x="88" y="0"/>
                    </a:lnTo>
                    <a:lnTo>
                      <a:pt x="25" y="0"/>
                    </a:lnTo>
                    <a:lnTo>
                      <a:pt x="51" y="6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57080" y="210600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102" h="37">
                    <a:moveTo>
                      <a:pt x="101" y="8"/>
                    </a:moveTo>
                    <a:lnTo>
                      <a:pt x="79" y="0"/>
                    </a:lnTo>
                    <a:lnTo>
                      <a:pt x="26" y="23"/>
                    </a:lnTo>
                    <a:lnTo>
                      <a:pt x="0" y="15"/>
                    </a:lnTo>
                    <a:lnTo>
                      <a:pt x="13" y="36"/>
                    </a:lnTo>
                    <a:lnTo>
                      <a:pt x="79" y="36"/>
                    </a:lnTo>
                    <a:lnTo>
                      <a:pt x="50" y="28"/>
                    </a:lnTo>
                    <a:lnTo>
                      <a:pt x="101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57080" y="210600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102" h="37">
                    <a:moveTo>
                      <a:pt x="101" y="8"/>
                    </a:moveTo>
                    <a:lnTo>
                      <a:pt x="79" y="0"/>
                    </a:lnTo>
                    <a:lnTo>
                      <a:pt x="26" y="23"/>
                    </a:lnTo>
                    <a:lnTo>
                      <a:pt x="0" y="15"/>
                    </a:lnTo>
                    <a:lnTo>
                      <a:pt x="13" y="36"/>
                    </a:lnTo>
                    <a:lnTo>
                      <a:pt x="79" y="36"/>
                    </a:lnTo>
                    <a:lnTo>
                      <a:pt x="50" y="28"/>
                    </a:lnTo>
                    <a:lnTo>
                      <a:pt x="101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961040" y="208008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0" y="8"/>
                    </a:moveTo>
                    <a:lnTo>
                      <a:pt x="22" y="0"/>
                    </a:lnTo>
                    <a:lnTo>
                      <a:pt x="77" y="21"/>
                    </a:lnTo>
                    <a:lnTo>
                      <a:pt x="101" y="15"/>
                    </a:lnTo>
                    <a:lnTo>
                      <a:pt x="88" y="34"/>
                    </a:lnTo>
                    <a:lnTo>
                      <a:pt x="25" y="34"/>
                    </a:lnTo>
                    <a:lnTo>
                      <a:pt x="51" y="2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61040" y="2080080"/>
                <a:ext cx="75960" cy="22320"/>
              </a:xfrm>
              <a:custGeom>
                <a:avLst/>
                <a:gdLst/>
                <a:ahLst/>
                <a:rect l="l" t="t" r="r" b="b"/>
                <a:pathLst>
                  <a:path w="102" h="35">
                    <a:moveTo>
                      <a:pt x="0" y="8"/>
                    </a:moveTo>
                    <a:lnTo>
                      <a:pt x="22" y="0"/>
                    </a:lnTo>
                    <a:lnTo>
                      <a:pt x="77" y="21"/>
                    </a:lnTo>
                    <a:lnTo>
                      <a:pt x="101" y="15"/>
                    </a:lnTo>
                    <a:lnTo>
                      <a:pt x="88" y="34"/>
                    </a:lnTo>
                    <a:lnTo>
                      <a:pt x="25" y="34"/>
                    </a:lnTo>
                    <a:lnTo>
                      <a:pt x="51" y="2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036280" y="2108880"/>
                <a:ext cx="77400" cy="2160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103" y="26"/>
                    </a:moveTo>
                    <a:lnTo>
                      <a:pt x="80" y="33"/>
                    </a:lnTo>
                    <a:lnTo>
                      <a:pt x="27" y="11"/>
                    </a:lnTo>
                    <a:lnTo>
                      <a:pt x="0" y="18"/>
                    </a:lnTo>
                    <a:lnTo>
                      <a:pt x="14" y="0"/>
                    </a:lnTo>
                    <a:lnTo>
                      <a:pt x="80" y="0"/>
                    </a:lnTo>
                    <a:lnTo>
                      <a:pt x="52" y="6"/>
                    </a:lnTo>
                    <a:lnTo>
                      <a:pt x="103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036280" y="2108880"/>
                <a:ext cx="77400" cy="2160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103" y="26"/>
                    </a:moveTo>
                    <a:lnTo>
                      <a:pt x="80" y="33"/>
                    </a:lnTo>
                    <a:lnTo>
                      <a:pt x="27" y="11"/>
                    </a:lnTo>
                    <a:lnTo>
                      <a:pt x="0" y="18"/>
                    </a:lnTo>
                    <a:lnTo>
                      <a:pt x="14" y="0"/>
                    </a:lnTo>
                    <a:lnTo>
                      <a:pt x="80" y="0"/>
                    </a:lnTo>
                    <a:lnTo>
                      <a:pt x="52" y="6"/>
                    </a:lnTo>
                    <a:lnTo>
                      <a:pt x="103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151120" y="2104200"/>
                <a:ext cx="720" cy="46800"/>
              </a:xfrm>
              <a:prstGeom prst="line">
                <a:avLst/>
              </a:prstGeom>
              <a:ln w="1260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6328440" y="301788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155 Mb/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3520" y="4419720"/>
            <a:ext cx="3504600" cy="1844640"/>
            <a:chOff x="533520" y="4419720"/>
            <a:chExt cx="3504600" cy="1844640"/>
          </a:xfrm>
        </p:grpSpPr>
        <p:sp>
          <p:nvSpPr>
            <p:cNvPr id="302" name=""/>
            <p:cNvSpPr/>
            <p:nvPr/>
          </p:nvSpPr>
          <p:spPr>
            <a:xfrm>
              <a:off x="703440" y="5574960"/>
              <a:ext cx="544320" cy="342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333399"/>
                  </a:solidFill>
                  <a:latin typeface="Comic Sans MS"/>
                </a:rPr>
                <a:t>NOD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333399"/>
                  </a:solidFill>
                  <a:latin typeface="Comic Sans MS"/>
                </a:rPr>
                <a:t>UACJ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87800" y="5574960"/>
              <a:ext cx="544320" cy="342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333399"/>
                  </a:solidFill>
                  <a:latin typeface="Comic Sans MS"/>
                </a:rPr>
                <a:t>NODO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00" spc="-1" strike="noStrike">
                  <a:solidFill>
                    <a:srgbClr val="333399"/>
                  </a:solidFill>
                  <a:latin typeface="Comic Sans MS"/>
                </a:rPr>
                <a:t>UTE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75600" y="5130720"/>
              <a:ext cx="0" cy="44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69080" y="4686120"/>
              <a:ext cx="0" cy="1196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34880" y="4849920"/>
              <a:ext cx="78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333399"/>
                  </a:solidFill>
                  <a:latin typeface="Comic Sans MS"/>
                </a:rPr>
                <a:t>U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18040" y="4857840"/>
              <a:ext cx="782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333399"/>
                  </a:solidFill>
                  <a:latin typeface="Comic Sans MS"/>
                </a:rPr>
                <a:t>MÉX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rot="20018400">
              <a:off x="1504080" y="5208120"/>
              <a:ext cx="271440" cy="27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80304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803048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84200" y="5361120"/>
              <a:ext cx="13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48120" y="5745960"/>
              <a:ext cx="13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84200" y="5369760"/>
              <a:ext cx="0" cy="37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rot="9404400">
              <a:off x="2641320" y="5227560"/>
              <a:ext cx="270720" cy="27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80304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803048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15280" y="5369760"/>
              <a:ext cx="13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51720" y="5369760"/>
              <a:ext cx="0" cy="37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51720" y="5745960"/>
              <a:ext cx="13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3920" y="4419720"/>
              <a:ext cx="1024200" cy="717840"/>
            </a:xfrm>
            <a:custGeom>
              <a:avLst/>
              <a:gdLst/>
              <a:ahLst/>
              <a:rect l="l" t="t" r="r" b="b"/>
              <a:pathLst>
                <a:path w="2213" h="1471">
                  <a:moveTo>
                    <a:pt x="1020" y="194"/>
                  </a:moveTo>
                  <a:lnTo>
                    <a:pt x="969" y="179"/>
                  </a:lnTo>
                  <a:lnTo>
                    <a:pt x="899" y="163"/>
                  </a:lnTo>
                  <a:lnTo>
                    <a:pt x="839" y="159"/>
                  </a:lnTo>
                  <a:lnTo>
                    <a:pt x="777" y="167"/>
                  </a:lnTo>
                  <a:lnTo>
                    <a:pt x="732" y="172"/>
                  </a:lnTo>
                  <a:lnTo>
                    <a:pt x="687" y="187"/>
                  </a:lnTo>
                  <a:lnTo>
                    <a:pt x="639" y="208"/>
                  </a:lnTo>
                  <a:lnTo>
                    <a:pt x="593" y="234"/>
                  </a:lnTo>
                  <a:lnTo>
                    <a:pt x="545" y="269"/>
                  </a:lnTo>
                  <a:lnTo>
                    <a:pt x="498" y="316"/>
                  </a:lnTo>
                  <a:lnTo>
                    <a:pt x="467" y="358"/>
                  </a:lnTo>
                  <a:lnTo>
                    <a:pt x="446" y="398"/>
                  </a:lnTo>
                  <a:lnTo>
                    <a:pt x="427" y="440"/>
                  </a:lnTo>
                  <a:lnTo>
                    <a:pt x="414" y="497"/>
                  </a:lnTo>
                  <a:lnTo>
                    <a:pt x="376" y="481"/>
                  </a:lnTo>
                  <a:lnTo>
                    <a:pt x="327" y="475"/>
                  </a:lnTo>
                  <a:lnTo>
                    <a:pt x="287" y="477"/>
                  </a:lnTo>
                  <a:lnTo>
                    <a:pt x="242" y="488"/>
                  </a:lnTo>
                  <a:lnTo>
                    <a:pt x="204" y="503"/>
                  </a:lnTo>
                  <a:lnTo>
                    <a:pt x="166" y="524"/>
                  </a:lnTo>
                  <a:lnTo>
                    <a:pt x="125" y="557"/>
                  </a:lnTo>
                  <a:lnTo>
                    <a:pt x="100" y="588"/>
                  </a:lnTo>
                  <a:lnTo>
                    <a:pt x="73" y="621"/>
                  </a:lnTo>
                  <a:lnTo>
                    <a:pt x="50" y="659"/>
                  </a:lnTo>
                  <a:lnTo>
                    <a:pt x="28" y="714"/>
                  </a:lnTo>
                  <a:lnTo>
                    <a:pt x="14" y="762"/>
                  </a:lnTo>
                  <a:lnTo>
                    <a:pt x="5" y="813"/>
                  </a:lnTo>
                  <a:lnTo>
                    <a:pt x="1" y="852"/>
                  </a:lnTo>
                  <a:lnTo>
                    <a:pt x="0" y="892"/>
                  </a:lnTo>
                  <a:lnTo>
                    <a:pt x="1" y="939"/>
                  </a:lnTo>
                  <a:lnTo>
                    <a:pt x="8" y="983"/>
                  </a:lnTo>
                  <a:lnTo>
                    <a:pt x="18" y="1025"/>
                  </a:lnTo>
                  <a:lnTo>
                    <a:pt x="29" y="1067"/>
                  </a:lnTo>
                  <a:lnTo>
                    <a:pt x="50" y="1116"/>
                  </a:lnTo>
                  <a:lnTo>
                    <a:pt x="75" y="1160"/>
                  </a:lnTo>
                  <a:lnTo>
                    <a:pt x="102" y="1196"/>
                  </a:lnTo>
                  <a:lnTo>
                    <a:pt x="138" y="1233"/>
                  </a:lnTo>
                  <a:lnTo>
                    <a:pt x="175" y="1260"/>
                  </a:lnTo>
                  <a:lnTo>
                    <a:pt x="207" y="1278"/>
                  </a:lnTo>
                  <a:lnTo>
                    <a:pt x="237" y="1290"/>
                  </a:lnTo>
                  <a:lnTo>
                    <a:pt x="273" y="1301"/>
                  </a:lnTo>
                  <a:lnTo>
                    <a:pt x="312" y="1302"/>
                  </a:lnTo>
                  <a:lnTo>
                    <a:pt x="351" y="1302"/>
                  </a:lnTo>
                  <a:lnTo>
                    <a:pt x="390" y="1293"/>
                  </a:lnTo>
                  <a:lnTo>
                    <a:pt x="420" y="1282"/>
                  </a:lnTo>
                  <a:lnTo>
                    <a:pt x="442" y="1273"/>
                  </a:lnTo>
                  <a:lnTo>
                    <a:pt x="464" y="1306"/>
                  </a:lnTo>
                  <a:lnTo>
                    <a:pt x="494" y="1334"/>
                  </a:lnTo>
                  <a:lnTo>
                    <a:pt x="527" y="1360"/>
                  </a:lnTo>
                  <a:lnTo>
                    <a:pt x="564" y="1388"/>
                  </a:lnTo>
                  <a:lnTo>
                    <a:pt x="609" y="1412"/>
                  </a:lnTo>
                  <a:lnTo>
                    <a:pt x="657" y="1433"/>
                  </a:lnTo>
                  <a:lnTo>
                    <a:pt x="713" y="1450"/>
                  </a:lnTo>
                  <a:lnTo>
                    <a:pt x="765" y="1462"/>
                  </a:lnTo>
                  <a:lnTo>
                    <a:pt x="822" y="1470"/>
                  </a:lnTo>
                  <a:lnTo>
                    <a:pt x="866" y="1470"/>
                  </a:lnTo>
                  <a:lnTo>
                    <a:pt x="912" y="1470"/>
                  </a:lnTo>
                  <a:lnTo>
                    <a:pt x="976" y="1460"/>
                  </a:lnTo>
                  <a:lnTo>
                    <a:pt x="1034" y="1448"/>
                  </a:lnTo>
                  <a:lnTo>
                    <a:pt x="1075" y="1436"/>
                  </a:lnTo>
                  <a:lnTo>
                    <a:pt x="1127" y="1415"/>
                  </a:lnTo>
                  <a:lnTo>
                    <a:pt x="1181" y="1388"/>
                  </a:lnTo>
                  <a:lnTo>
                    <a:pt x="1211" y="1366"/>
                  </a:lnTo>
                  <a:lnTo>
                    <a:pt x="1237" y="1342"/>
                  </a:lnTo>
                  <a:lnTo>
                    <a:pt x="1265" y="1359"/>
                  </a:lnTo>
                  <a:lnTo>
                    <a:pt x="1304" y="1379"/>
                  </a:lnTo>
                  <a:lnTo>
                    <a:pt x="1340" y="1392"/>
                  </a:lnTo>
                  <a:lnTo>
                    <a:pt x="1373" y="1399"/>
                  </a:lnTo>
                  <a:lnTo>
                    <a:pt x="1412" y="1404"/>
                  </a:lnTo>
                  <a:lnTo>
                    <a:pt x="1447" y="1404"/>
                  </a:lnTo>
                  <a:lnTo>
                    <a:pt x="1493" y="1398"/>
                  </a:lnTo>
                  <a:lnTo>
                    <a:pt x="1536" y="1383"/>
                  </a:lnTo>
                  <a:lnTo>
                    <a:pt x="1575" y="1366"/>
                  </a:lnTo>
                  <a:lnTo>
                    <a:pt x="1615" y="1339"/>
                  </a:lnTo>
                  <a:lnTo>
                    <a:pt x="1650" y="1310"/>
                  </a:lnTo>
                  <a:lnTo>
                    <a:pt x="1700" y="1334"/>
                  </a:lnTo>
                  <a:lnTo>
                    <a:pt x="1746" y="1346"/>
                  </a:lnTo>
                  <a:lnTo>
                    <a:pt x="1785" y="1354"/>
                  </a:lnTo>
                  <a:lnTo>
                    <a:pt x="1842" y="1354"/>
                  </a:lnTo>
                  <a:lnTo>
                    <a:pt x="1901" y="1345"/>
                  </a:lnTo>
                  <a:lnTo>
                    <a:pt x="1970" y="1317"/>
                  </a:lnTo>
                  <a:lnTo>
                    <a:pt x="2030" y="1278"/>
                  </a:lnTo>
                  <a:lnTo>
                    <a:pt x="2080" y="1229"/>
                  </a:lnTo>
                  <a:lnTo>
                    <a:pt x="2128" y="1170"/>
                  </a:lnTo>
                  <a:lnTo>
                    <a:pt x="2155" y="1122"/>
                  </a:lnTo>
                  <a:lnTo>
                    <a:pt x="2175" y="1071"/>
                  </a:lnTo>
                  <a:lnTo>
                    <a:pt x="2194" y="1006"/>
                  </a:lnTo>
                  <a:lnTo>
                    <a:pt x="2206" y="946"/>
                  </a:lnTo>
                  <a:lnTo>
                    <a:pt x="2212" y="878"/>
                  </a:lnTo>
                  <a:lnTo>
                    <a:pt x="2207" y="825"/>
                  </a:lnTo>
                  <a:lnTo>
                    <a:pt x="2197" y="762"/>
                  </a:lnTo>
                  <a:lnTo>
                    <a:pt x="2180" y="698"/>
                  </a:lnTo>
                  <a:lnTo>
                    <a:pt x="2156" y="643"/>
                  </a:lnTo>
                  <a:lnTo>
                    <a:pt x="2126" y="588"/>
                  </a:lnTo>
                  <a:lnTo>
                    <a:pt x="2091" y="543"/>
                  </a:lnTo>
                  <a:lnTo>
                    <a:pt x="2058" y="508"/>
                  </a:lnTo>
                  <a:lnTo>
                    <a:pt x="2022" y="479"/>
                  </a:lnTo>
                  <a:lnTo>
                    <a:pt x="1975" y="444"/>
                  </a:lnTo>
                  <a:lnTo>
                    <a:pt x="1932" y="424"/>
                  </a:lnTo>
                  <a:lnTo>
                    <a:pt x="1892" y="415"/>
                  </a:lnTo>
                  <a:lnTo>
                    <a:pt x="1850" y="407"/>
                  </a:lnTo>
                  <a:lnTo>
                    <a:pt x="1842" y="366"/>
                  </a:lnTo>
                  <a:lnTo>
                    <a:pt x="1828" y="322"/>
                  </a:lnTo>
                  <a:lnTo>
                    <a:pt x="1811" y="284"/>
                  </a:lnTo>
                  <a:lnTo>
                    <a:pt x="1788" y="238"/>
                  </a:lnTo>
                  <a:lnTo>
                    <a:pt x="1761" y="196"/>
                  </a:lnTo>
                  <a:lnTo>
                    <a:pt x="1726" y="152"/>
                  </a:lnTo>
                  <a:lnTo>
                    <a:pt x="1691" y="115"/>
                  </a:lnTo>
                  <a:lnTo>
                    <a:pt x="1652" y="86"/>
                  </a:lnTo>
                  <a:lnTo>
                    <a:pt x="1601" y="53"/>
                  </a:lnTo>
                  <a:lnTo>
                    <a:pt x="1553" y="30"/>
                  </a:lnTo>
                  <a:lnTo>
                    <a:pt x="1504" y="13"/>
                  </a:lnTo>
                  <a:lnTo>
                    <a:pt x="1452" y="4"/>
                  </a:lnTo>
                  <a:lnTo>
                    <a:pt x="1400" y="0"/>
                  </a:lnTo>
                  <a:lnTo>
                    <a:pt x="1344" y="1"/>
                  </a:lnTo>
                  <a:lnTo>
                    <a:pt x="1293" y="9"/>
                  </a:lnTo>
                  <a:lnTo>
                    <a:pt x="1233" y="28"/>
                  </a:lnTo>
                  <a:lnTo>
                    <a:pt x="1170" y="59"/>
                  </a:lnTo>
                  <a:lnTo>
                    <a:pt x="1129" y="86"/>
                  </a:lnTo>
                  <a:lnTo>
                    <a:pt x="1088" y="118"/>
                  </a:lnTo>
                  <a:lnTo>
                    <a:pt x="1052" y="156"/>
                  </a:lnTo>
                  <a:lnTo>
                    <a:pt x="1020" y="194"/>
                  </a:lnTo>
                </a:path>
              </a:pathLst>
            </a:custGeom>
            <a:solidFill>
              <a:srgbClr val="6699ff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87800" y="4727160"/>
              <a:ext cx="71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333399"/>
                  </a:solidFill>
                  <a:latin typeface="Comic Sans MS"/>
                </a:rPr>
                <a:t>ABILE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9960" y="5137560"/>
              <a:ext cx="0" cy="44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" y="4487760"/>
              <a:ext cx="850680" cy="717840"/>
            </a:xfrm>
            <a:custGeom>
              <a:avLst/>
              <a:gdLst/>
              <a:ahLst/>
              <a:rect l="l" t="t" r="r" b="b"/>
              <a:pathLst>
                <a:path w="2213" h="1471">
                  <a:moveTo>
                    <a:pt x="1020" y="194"/>
                  </a:moveTo>
                  <a:lnTo>
                    <a:pt x="969" y="179"/>
                  </a:lnTo>
                  <a:lnTo>
                    <a:pt x="899" y="163"/>
                  </a:lnTo>
                  <a:lnTo>
                    <a:pt x="839" y="159"/>
                  </a:lnTo>
                  <a:lnTo>
                    <a:pt x="777" y="167"/>
                  </a:lnTo>
                  <a:lnTo>
                    <a:pt x="732" y="172"/>
                  </a:lnTo>
                  <a:lnTo>
                    <a:pt x="687" y="187"/>
                  </a:lnTo>
                  <a:lnTo>
                    <a:pt x="639" y="208"/>
                  </a:lnTo>
                  <a:lnTo>
                    <a:pt x="593" y="234"/>
                  </a:lnTo>
                  <a:lnTo>
                    <a:pt x="545" y="269"/>
                  </a:lnTo>
                  <a:lnTo>
                    <a:pt x="498" y="316"/>
                  </a:lnTo>
                  <a:lnTo>
                    <a:pt x="467" y="358"/>
                  </a:lnTo>
                  <a:lnTo>
                    <a:pt x="446" y="398"/>
                  </a:lnTo>
                  <a:lnTo>
                    <a:pt x="427" y="440"/>
                  </a:lnTo>
                  <a:lnTo>
                    <a:pt x="414" y="497"/>
                  </a:lnTo>
                  <a:lnTo>
                    <a:pt x="376" y="481"/>
                  </a:lnTo>
                  <a:lnTo>
                    <a:pt x="327" y="475"/>
                  </a:lnTo>
                  <a:lnTo>
                    <a:pt x="287" y="477"/>
                  </a:lnTo>
                  <a:lnTo>
                    <a:pt x="242" y="488"/>
                  </a:lnTo>
                  <a:lnTo>
                    <a:pt x="204" y="503"/>
                  </a:lnTo>
                  <a:lnTo>
                    <a:pt x="166" y="524"/>
                  </a:lnTo>
                  <a:lnTo>
                    <a:pt x="125" y="557"/>
                  </a:lnTo>
                  <a:lnTo>
                    <a:pt x="100" y="588"/>
                  </a:lnTo>
                  <a:lnTo>
                    <a:pt x="73" y="621"/>
                  </a:lnTo>
                  <a:lnTo>
                    <a:pt x="50" y="659"/>
                  </a:lnTo>
                  <a:lnTo>
                    <a:pt x="28" y="714"/>
                  </a:lnTo>
                  <a:lnTo>
                    <a:pt x="14" y="762"/>
                  </a:lnTo>
                  <a:lnTo>
                    <a:pt x="5" y="813"/>
                  </a:lnTo>
                  <a:lnTo>
                    <a:pt x="1" y="852"/>
                  </a:lnTo>
                  <a:lnTo>
                    <a:pt x="0" y="892"/>
                  </a:lnTo>
                  <a:lnTo>
                    <a:pt x="1" y="939"/>
                  </a:lnTo>
                  <a:lnTo>
                    <a:pt x="8" y="983"/>
                  </a:lnTo>
                  <a:lnTo>
                    <a:pt x="18" y="1025"/>
                  </a:lnTo>
                  <a:lnTo>
                    <a:pt x="29" y="1067"/>
                  </a:lnTo>
                  <a:lnTo>
                    <a:pt x="50" y="1116"/>
                  </a:lnTo>
                  <a:lnTo>
                    <a:pt x="75" y="1160"/>
                  </a:lnTo>
                  <a:lnTo>
                    <a:pt x="102" y="1196"/>
                  </a:lnTo>
                  <a:lnTo>
                    <a:pt x="138" y="1233"/>
                  </a:lnTo>
                  <a:lnTo>
                    <a:pt x="175" y="1260"/>
                  </a:lnTo>
                  <a:lnTo>
                    <a:pt x="207" y="1278"/>
                  </a:lnTo>
                  <a:lnTo>
                    <a:pt x="237" y="1290"/>
                  </a:lnTo>
                  <a:lnTo>
                    <a:pt x="273" y="1301"/>
                  </a:lnTo>
                  <a:lnTo>
                    <a:pt x="312" y="1302"/>
                  </a:lnTo>
                  <a:lnTo>
                    <a:pt x="351" y="1302"/>
                  </a:lnTo>
                  <a:lnTo>
                    <a:pt x="390" y="1293"/>
                  </a:lnTo>
                  <a:lnTo>
                    <a:pt x="420" y="1282"/>
                  </a:lnTo>
                  <a:lnTo>
                    <a:pt x="442" y="1273"/>
                  </a:lnTo>
                  <a:lnTo>
                    <a:pt x="464" y="1306"/>
                  </a:lnTo>
                  <a:lnTo>
                    <a:pt x="494" y="1334"/>
                  </a:lnTo>
                  <a:lnTo>
                    <a:pt x="527" y="1360"/>
                  </a:lnTo>
                  <a:lnTo>
                    <a:pt x="564" y="1388"/>
                  </a:lnTo>
                  <a:lnTo>
                    <a:pt x="609" y="1412"/>
                  </a:lnTo>
                  <a:lnTo>
                    <a:pt x="657" y="1433"/>
                  </a:lnTo>
                  <a:lnTo>
                    <a:pt x="713" y="1450"/>
                  </a:lnTo>
                  <a:lnTo>
                    <a:pt x="765" y="1462"/>
                  </a:lnTo>
                  <a:lnTo>
                    <a:pt x="822" y="1470"/>
                  </a:lnTo>
                  <a:lnTo>
                    <a:pt x="866" y="1470"/>
                  </a:lnTo>
                  <a:lnTo>
                    <a:pt x="912" y="1470"/>
                  </a:lnTo>
                  <a:lnTo>
                    <a:pt x="976" y="1460"/>
                  </a:lnTo>
                  <a:lnTo>
                    <a:pt x="1034" y="1448"/>
                  </a:lnTo>
                  <a:lnTo>
                    <a:pt x="1075" y="1436"/>
                  </a:lnTo>
                  <a:lnTo>
                    <a:pt x="1127" y="1415"/>
                  </a:lnTo>
                  <a:lnTo>
                    <a:pt x="1181" y="1388"/>
                  </a:lnTo>
                  <a:lnTo>
                    <a:pt x="1211" y="1366"/>
                  </a:lnTo>
                  <a:lnTo>
                    <a:pt x="1237" y="1342"/>
                  </a:lnTo>
                  <a:lnTo>
                    <a:pt x="1265" y="1359"/>
                  </a:lnTo>
                  <a:lnTo>
                    <a:pt x="1304" y="1379"/>
                  </a:lnTo>
                  <a:lnTo>
                    <a:pt x="1340" y="1392"/>
                  </a:lnTo>
                  <a:lnTo>
                    <a:pt x="1373" y="1399"/>
                  </a:lnTo>
                  <a:lnTo>
                    <a:pt x="1412" y="1404"/>
                  </a:lnTo>
                  <a:lnTo>
                    <a:pt x="1447" y="1404"/>
                  </a:lnTo>
                  <a:lnTo>
                    <a:pt x="1493" y="1398"/>
                  </a:lnTo>
                  <a:lnTo>
                    <a:pt x="1536" y="1383"/>
                  </a:lnTo>
                  <a:lnTo>
                    <a:pt x="1575" y="1366"/>
                  </a:lnTo>
                  <a:lnTo>
                    <a:pt x="1615" y="1339"/>
                  </a:lnTo>
                  <a:lnTo>
                    <a:pt x="1650" y="1310"/>
                  </a:lnTo>
                  <a:lnTo>
                    <a:pt x="1700" y="1334"/>
                  </a:lnTo>
                  <a:lnTo>
                    <a:pt x="1746" y="1346"/>
                  </a:lnTo>
                  <a:lnTo>
                    <a:pt x="1785" y="1354"/>
                  </a:lnTo>
                  <a:lnTo>
                    <a:pt x="1842" y="1354"/>
                  </a:lnTo>
                  <a:lnTo>
                    <a:pt x="1901" y="1345"/>
                  </a:lnTo>
                  <a:lnTo>
                    <a:pt x="1970" y="1317"/>
                  </a:lnTo>
                  <a:lnTo>
                    <a:pt x="2030" y="1278"/>
                  </a:lnTo>
                  <a:lnTo>
                    <a:pt x="2080" y="1229"/>
                  </a:lnTo>
                  <a:lnTo>
                    <a:pt x="2128" y="1170"/>
                  </a:lnTo>
                  <a:lnTo>
                    <a:pt x="2155" y="1122"/>
                  </a:lnTo>
                  <a:lnTo>
                    <a:pt x="2175" y="1071"/>
                  </a:lnTo>
                  <a:lnTo>
                    <a:pt x="2194" y="1006"/>
                  </a:lnTo>
                  <a:lnTo>
                    <a:pt x="2206" y="946"/>
                  </a:lnTo>
                  <a:lnTo>
                    <a:pt x="2212" y="878"/>
                  </a:lnTo>
                  <a:lnTo>
                    <a:pt x="2207" y="825"/>
                  </a:lnTo>
                  <a:lnTo>
                    <a:pt x="2197" y="762"/>
                  </a:lnTo>
                  <a:lnTo>
                    <a:pt x="2180" y="698"/>
                  </a:lnTo>
                  <a:lnTo>
                    <a:pt x="2156" y="643"/>
                  </a:lnTo>
                  <a:lnTo>
                    <a:pt x="2126" y="588"/>
                  </a:lnTo>
                  <a:lnTo>
                    <a:pt x="2091" y="543"/>
                  </a:lnTo>
                  <a:lnTo>
                    <a:pt x="2058" y="508"/>
                  </a:lnTo>
                  <a:lnTo>
                    <a:pt x="2022" y="479"/>
                  </a:lnTo>
                  <a:lnTo>
                    <a:pt x="1975" y="444"/>
                  </a:lnTo>
                  <a:lnTo>
                    <a:pt x="1932" y="424"/>
                  </a:lnTo>
                  <a:lnTo>
                    <a:pt x="1892" y="415"/>
                  </a:lnTo>
                  <a:lnTo>
                    <a:pt x="1850" y="407"/>
                  </a:lnTo>
                  <a:lnTo>
                    <a:pt x="1842" y="366"/>
                  </a:lnTo>
                  <a:lnTo>
                    <a:pt x="1828" y="322"/>
                  </a:lnTo>
                  <a:lnTo>
                    <a:pt x="1811" y="284"/>
                  </a:lnTo>
                  <a:lnTo>
                    <a:pt x="1788" y="238"/>
                  </a:lnTo>
                  <a:lnTo>
                    <a:pt x="1761" y="196"/>
                  </a:lnTo>
                  <a:lnTo>
                    <a:pt x="1726" y="152"/>
                  </a:lnTo>
                  <a:lnTo>
                    <a:pt x="1691" y="115"/>
                  </a:lnTo>
                  <a:lnTo>
                    <a:pt x="1652" y="86"/>
                  </a:lnTo>
                  <a:lnTo>
                    <a:pt x="1601" y="53"/>
                  </a:lnTo>
                  <a:lnTo>
                    <a:pt x="1553" y="30"/>
                  </a:lnTo>
                  <a:lnTo>
                    <a:pt x="1504" y="13"/>
                  </a:lnTo>
                  <a:lnTo>
                    <a:pt x="1452" y="4"/>
                  </a:lnTo>
                  <a:lnTo>
                    <a:pt x="1400" y="0"/>
                  </a:lnTo>
                  <a:lnTo>
                    <a:pt x="1344" y="1"/>
                  </a:lnTo>
                  <a:lnTo>
                    <a:pt x="1293" y="9"/>
                  </a:lnTo>
                  <a:lnTo>
                    <a:pt x="1233" y="28"/>
                  </a:lnTo>
                  <a:lnTo>
                    <a:pt x="1170" y="59"/>
                  </a:lnTo>
                  <a:lnTo>
                    <a:pt x="1129" y="86"/>
                  </a:lnTo>
                  <a:lnTo>
                    <a:pt x="1088" y="118"/>
                  </a:lnTo>
                  <a:lnTo>
                    <a:pt x="1052" y="156"/>
                  </a:lnTo>
                  <a:lnTo>
                    <a:pt x="1020" y="194"/>
                  </a:lnTo>
                </a:path>
              </a:pathLst>
            </a:custGeom>
            <a:solidFill>
              <a:srgbClr val="6699ff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6560" y="4795560"/>
              <a:ext cx="54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333399"/>
                  </a:solidFill>
                  <a:latin typeface="Comic Sans MS"/>
                </a:rPr>
                <a:t>CUD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00680" y="4692960"/>
              <a:ext cx="0" cy="1196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77480" y="6063840"/>
              <a:ext cx="566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99"/>
                  </a:solidFill>
                  <a:latin typeface="Comic Sans MS"/>
                </a:rPr>
                <a:t>100 Mb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811840" y="3719520"/>
            <a:ext cx="20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Tijuana-San Di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62928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Cd. Juárez-El P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44680" y="2324160"/>
            <a:ext cx="0" cy="1197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11560" y="220968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33399"/>
                </a:solidFill>
                <a:latin typeface="Comic Sans MS"/>
              </a:rPr>
              <a:t>U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94000" y="221760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333399"/>
                </a:solidFill>
                <a:latin typeface="Comic Sans MS"/>
              </a:rPr>
              <a:t>MÉX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490840"/>
            <a:ext cx="1023840" cy="717480"/>
          </a:xfrm>
          <a:custGeom>
            <a:avLst/>
            <a:gdLst/>
            <a:ahLst/>
            <a:rect l="l" t="t" r="r" b="b"/>
            <a:pathLst>
              <a:path w="2213" h="1471">
                <a:moveTo>
                  <a:pt x="1020" y="194"/>
                </a:moveTo>
                <a:lnTo>
                  <a:pt x="969" y="179"/>
                </a:lnTo>
                <a:lnTo>
                  <a:pt x="899" y="163"/>
                </a:lnTo>
                <a:lnTo>
                  <a:pt x="839" y="159"/>
                </a:lnTo>
                <a:lnTo>
                  <a:pt x="777" y="167"/>
                </a:lnTo>
                <a:lnTo>
                  <a:pt x="732" y="172"/>
                </a:lnTo>
                <a:lnTo>
                  <a:pt x="687" y="187"/>
                </a:lnTo>
                <a:lnTo>
                  <a:pt x="639" y="208"/>
                </a:lnTo>
                <a:lnTo>
                  <a:pt x="593" y="234"/>
                </a:lnTo>
                <a:lnTo>
                  <a:pt x="545" y="269"/>
                </a:lnTo>
                <a:lnTo>
                  <a:pt x="498" y="316"/>
                </a:lnTo>
                <a:lnTo>
                  <a:pt x="467" y="358"/>
                </a:lnTo>
                <a:lnTo>
                  <a:pt x="446" y="398"/>
                </a:lnTo>
                <a:lnTo>
                  <a:pt x="427" y="440"/>
                </a:lnTo>
                <a:lnTo>
                  <a:pt x="414" y="497"/>
                </a:lnTo>
                <a:lnTo>
                  <a:pt x="376" y="481"/>
                </a:lnTo>
                <a:lnTo>
                  <a:pt x="327" y="475"/>
                </a:lnTo>
                <a:lnTo>
                  <a:pt x="287" y="477"/>
                </a:lnTo>
                <a:lnTo>
                  <a:pt x="242" y="488"/>
                </a:lnTo>
                <a:lnTo>
                  <a:pt x="204" y="503"/>
                </a:lnTo>
                <a:lnTo>
                  <a:pt x="166" y="524"/>
                </a:lnTo>
                <a:lnTo>
                  <a:pt x="125" y="557"/>
                </a:lnTo>
                <a:lnTo>
                  <a:pt x="100" y="588"/>
                </a:lnTo>
                <a:lnTo>
                  <a:pt x="73" y="621"/>
                </a:lnTo>
                <a:lnTo>
                  <a:pt x="50" y="659"/>
                </a:lnTo>
                <a:lnTo>
                  <a:pt x="28" y="714"/>
                </a:lnTo>
                <a:lnTo>
                  <a:pt x="14" y="762"/>
                </a:lnTo>
                <a:lnTo>
                  <a:pt x="5" y="813"/>
                </a:lnTo>
                <a:lnTo>
                  <a:pt x="1" y="852"/>
                </a:lnTo>
                <a:lnTo>
                  <a:pt x="0" y="892"/>
                </a:lnTo>
                <a:lnTo>
                  <a:pt x="1" y="939"/>
                </a:lnTo>
                <a:lnTo>
                  <a:pt x="8" y="983"/>
                </a:lnTo>
                <a:lnTo>
                  <a:pt x="18" y="1025"/>
                </a:lnTo>
                <a:lnTo>
                  <a:pt x="29" y="1067"/>
                </a:lnTo>
                <a:lnTo>
                  <a:pt x="50" y="1116"/>
                </a:lnTo>
                <a:lnTo>
                  <a:pt x="75" y="1160"/>
                </a:lnTo>
                <a:lnTo>
                  <a:pt x="102" y="1196"/>
                </a:lnTo>
                <a:lnTo>
                  <a:pt x="138" y="1233"/>
                </a:lnTo>
                <a:lnTo>
                  <a:pt x="175" y="1260"/>
                </a:lnTo>
                <a:lnTo>
                  <a:pt x="207" y="1278"/>
                </a:lnTo>
                <a:lnTo>
                  <a:pt x="237" y="1290"/>
                </a:lnTo>
                <a:lnTo>
                  <a:pt x="273" y="1301"/>
                </a:lnTo>
                <a:lnTo>
                  <a:pt x="312" y="1302"/>
                </a:lnTo>
                <a:lnTo>
                  <a:pt x="351" y="1302"/>
                </a:lnTo>
                <a:lnTo>
                  <a:pt x="390" y="1293"/>
                </a:lnTo>
                <a:lnTo>
                  <a:pt x="420" y="1282"/>
                </a:lnTo>
                <a:lnTo>
                  <a:pt x="442" y="1273"/>
                </a:lnTo>
                <a:lnTo>
                  <a:pt x="464" y="1306"/>
                </a:lnTo>
                <a:lnTo>
                  <a:pt x="494" y="1334"/>
                </a:lnTo>
                <a:lnTo>
                  <a:pt x="527" y="1360"/>
                </a:lnTo>
                <a:lnTo>
                  <a:pt x="564" y="1388"/>
                </a:lnTo>
                <a:lnTo>
                  <a:pt x="609" y="1412"/>
                </a:lnTo>
                <a:lnTo>
                  <a:pt x="657" y="1433"/>
                </a:lnTo>
                <a:lnTo>
                  <a:pt x="713" y="1450"/>
                </a:lnTo>
                <a:lnTo>
                  <a:pt x="765" y="1462"/>
                </a:lnTo>
                <a:lnTo>
                  <a:pt x="822" y="1470"/>
                </a:lnTo>
                <a:lnTo>
                  <a:pt x="866" y="1470"/>
                </a:lnTo>
                <a:lnTo>
                  <a:pt x="912" y="1470"/>
                </a:lnTo>
                <a:lnTo>
                  <a:pt x="976" y="1460"/>
                </a:lnTo>
                <a:lnTo>
                  <a:pt x="1034" y="1448"/>
                </a:lnTo>
                <a:lnTo>
                  <a:pt x="1075" y="1436"/>
                </a:lnTo>
                <a:lnTo>
                  <a:pt x="1127" y="1415"/>
                </a:lnTo>
                <a:lnTo>
                  <a:pt x="1181" y="1388"/>
                </a:lnTo>
                <a:lnTo>
                  <a:pt x="1211" y="1366"/>
                </a:lnTo>
                <a:lnTo>
                  <a:pt x="1237" y="1342"/>
                </a:lnTo>
                <a:lnTo>
                  <a:pt x="1265" y="1359"/>
                </a:lnTo>
                <a:lnTo>
                  <a:pt x="1304" y="1379"/>
                </a:lnTo>
                <a:lnTo>
                  <a:pt x="1340" y="1392"/>
                </a:lnTo>
                <a:lnTo>
                  <a:pt x="1373" y="1399"/>
                </a:lnTo>
                <a:lnTo>
                  <a:pt x="1412" y="1404"/>
                </a:lnTo>
                <a:lnTo>
                  <a:pt x="1447" y="1404"/>
                </a:lnTo>
                <a:lnTo>
                  <a:pt x="1493" y="1398"/>
                </a:lnTo>
                <a:lnTo>
                  <a:pt x="1536" y="1383"/>
                </a:lnTo>
                <a:lnTo>
                  <a:pt x="1575" y="1366"/>
                </a:lnTo>
                <a:lnTo>
                  <a:pt x="1615" y="1339"/>
                </a:lnTo>
                <a:lnTo>
                  <a:pt x="1650" y="1310"/>
                </a:lnTo>
                <a:lnTo>
                  <a:pt x="1700" y="1334"/>
                </a:lnTo>
                <a:lnTo>
                  <a:pt x="1746" y="1346"/>
                </a:lnTo>
                <a:lnTo>
                  <a:pt x="1785" y="1354"/>
                </a:lnTo>
                <a:lnTo>
                  <a:pt x="1842" y="1354"/>
                </a:lnTo>
                <a:lnTo>
                  <a:pt x="1901" y="1345"/>
                </a:lnTo>
                <a:lnTo>
                  <a:pt x="1970" y="1317"/>
                </a:lnTo>
                <a:lnTo>
                  <a:pt x="2030" y="1278"/>
                </a:lnTo>
                <a:lnTo>
                  <a:pt x="2080" y="1229"/>
                </a:lnTo>
                <a:lnTo>
                  <a:pt x="2128" y="1170"/>
                </a:lnTo>
                <a:lnTo>
                  <a:pt x="2155" y="1122"/>
                </a:lnTo>
                <a:lnTo>
                  <a:pt x="2175" y="1071"/>
                </a:lnTo>
                <a:lnTo>
                  <a:pt x="2194" y="1006"/>
                </a:lnTo>
                <a:lnTo>
                  <a:pt x="2206" y="946"/>
                </a:lnTo>
                <a:lnTo>
                  <a:pt x="2212" y="878"/>
                </a:lnTo>
                <a:lnTo>
                  <a:pt x="2207" y="825"/>
                </a:lnTo>
                <a:lnTo>
                  <a:pt x="2197" y="762"/>
                </a:lnTo>
                <a:lnTo>
                  <a:pt x="2180" y="698"/>
                </a:lnTo>
                <a:lnTo>
                  <a:pt x="2156" y="643"/>
                </a:lnTo>
                <a:lnTo>
                  <a:pt x="2126" y="588"/>
                </a:lnTo>
                <a:lnTo>
                  <a:pt x="2091" y="543"/>
                </a:lnTo>
                <a:lnTo>
                  <a:pt x="2058" y="508"/>
                </a:lnTo>
                <a:lnTo>
                  <a:pt x="2022" y="479"/>
                </a:lnTo>
                <a:lnTo>
                  <a:pt x="1975" y="444"/>
                </a:lnTo>
                <a:lnTo>
                  <a:pt x="1932" y="424"/>
                </a:lnTo>
                <a:lnTo>
                  <a:pt x="1892" y="415"/>
                </a:lnTo>
                <a:lnTo>
                  <a:pt x="1850" y="407"/>
                </a:lnTo>
                <a:lnTo>
                  <a:pt x="1842" y="366"/>
                </a:lnTo>
                <a:lnTo>
                  <a:pt x="1828" y="322"/>
                </a:lnTo>
                <a:lnTo>
                  <a:pt x="1811" y="284"/>
                </a:lnTo>
                <a:lnTo>
                  <a:pt x="1788" y="238"/>
                </a:lnTo>
                <a:lnTo>
                  <a:pt x="1761" y="196"/>
                </a:lnTo>
                <a:lnTo>
                  <a:pt x="1726" y="152"/>
                </a:lnTo>
                <a:lnTo>
                  <a:pt x="1691" y="115"/>
                </a:lnTo>
                <a:lnTo>
                  <a:pt x="1652" y="86"/>
                </a:lnTo>
                <a:lnTo>
                  <a:pt x="1601" y="53"/>
                </a:lnTo>
                <a:lnTo>
                  <a:pt x="1553" y="30"/>
                </a:lnTo>
                <a:lnTo>
                  <a:pt x="1504" y="13"/>
                </a:lnTo>
                <a:lnTo>
                  <a:pt x="1452" y="4"/>
                </a:lnTo>
                <a:lnTo>
                  <a:pt x="1400" y="0"/>
                </a:lnTo>
                <a:lnTo>
                  <a:pt x="1344" y="1"/>
                </a:lnTo>
                <a:lnTo>
                  <a:pt x="1293" y="9"/>
                </a:lnTo>
                <a:lnTo>
                  <a:pt x="1233" y="28"/>
                </a:lnTo>
                <a:lnTo>
                  <a:pt x="1170" y="59"/>
                </a:lnTo>
                <a:lnTo>
                  <a:pt x="1129" y="86"/>
                </a:lnTo>
                <a:lnTo>
                  <a:pt x="1088" y="118"/>
                </a:lnTo>
                <a:lnTo>
                  <a:pt x="1052" y="156"/>
                </a:lnTo>
                <a:lnTo>
                  <a:pt x="1020" y="194"/>
                </a:lnTo>
              </a:path>
            </a:pathLst>
          </a:custGeom>
          <a:solidFill>
            <a:srgbClr val="6699ff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2622600"/>
            <a:ext cx="85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33399"/>
                </a:solidFill>
                <a:latin typeface="Comic Sans MS"/>
              </a:rPr>
              <a:t>Red de transporte MC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4600" y="2514600"/>
            <a:ext cx="1079280" cy="838080"/>
          </a:xfrm>
          <a:custGeom>
            <a:avLst/>
            <a:gdLst/>
            <a:ahLst/>
            <a:rect l="l" t="t" r="r" b="b"/>
            <a:pathLst>
              <a:path w="2213" h="1471">
                <a:moveTo>
                  <a:pt x="1020" y="194"/>
                </a:moveTo>
                <a:lnTo>
                  <a:pt x="969" y="179"/>
                </a:lnTo>
                <a:lnTo>
                  <a:pt x="899" y="163"/>
                </a:lnTo>
                <a:lnTo>
                  <a:pt x="839" y="159"/>
                </a:lnTo>
                <a:lnTo>
                  <a:pt x="777" y="167"/>
                </a:lnTo>
                <a:lnTo>
                  <a:pt x="732" y="172"/>
                </a:lnTo>
                <a:lnTo>
                  <a:pt x="687" y="187"/>
                </a:lnTo>
                <a:lnTo>
                  <a:pt x="639" y="208"/>
                </a:lnTo>
                <a:lnTo>
                  <a:pt x="593" y="234"/>
                </a:lnTo>
                <a:lnTo>
                  <a:pt x="545" y="269"/>
                </a:lnTo>
                <a:lnTo>
                  <a:pt x="498" y="316"/>
                </a:lnTo>
                <a:lnTo>
                  <a:pt x="467" y="358"/>
                </a:lnTo>
                <a:lnTo>
                  <a:pt x="446" y="398"/>
                </a:lnTo>
                <a:lnTo>
                  <a:pt x="427" y="440"/>
                </a:lnTo>
                <a:lnTo>
                  <a:pt x="414" y="497"/>
                </a:lnTo>
                <a:lnTo>
                  <a:pt x="376" y="481"/>
                </a:lnTo>
                <a:lnTo>
                  <a:pt x="327" y="475"/>
                </a:lnTo>
                <a:lnTo>
                  <a:pt x="287" y="477"/>
                </a:lnTo>
                <a:lnTo>
                  <a:pt x="242" y="488"/>
                </a:lnTo>
                <a:lnTo>
                  <a:pt x="204" y="503"/>
                </a:lnTo>
                <a:lnTo>
                  <a:pt x="166" y="524"/>
                </a:lnTo>
                <a:lnTo>
                  <a:pt x="125" y="557"/>
                </a:lnTo>
                <a:lnTo>
                  <a:pt x="100" y="588"/>
                </a:lnTo>
                <a:lnTo>
                  <a:pt x="73" y="621"/>
                </a:lnTo>
                <a:lnTo>
                  <a:pt x="50" y="659"/>
                </a:lnTo>
                <a:lnTo>
                  <a:pt x="28" y="714"/>
                </a:lnTo>
                <a:lnTo>
                  <a:pt x="14" y="762"/>
                </a:lnTo>
                <a:lnTo>
                  <a:pt x="5" y="813"/>
                </a:lnTo>
                <a:lnTo>
                  <a:pt x="1" y="852"/>
                </a:lnTo>
                <a:lnTo>
                  <a:pt x="0" y="892"/>
                </a:lnTo>
                <a:lnTo>
                  <a:pt x="1" y="939"/>
                </a:lnTo>
                <a:lnTo>
                  <a:pt x="8" y="983"/>
                </a:lnTo>
                <a:lnTo>
                  <a:pt x="18" y="1025"/>
                </a:lnTo>
                <a:lnTo>
                  <a:pt x="29" y="1067"/>
                </a:lnTo>
                <a:lnTo>
                  <a:pt x="50" y="1116"/>
                </a:lnTo>
                <a:lnTo>
                  <a:pt x="75" y="1160"/>
                </a:lnTo>
                <a:lnTo>
                  <a:pt x="102" y="1196"/>
                </a:lnTo>
                <a:lnTo>
                  <a:pt x="138" y="1233"/>
                </a:lnTo>
                <a:lnTo>
                  <a:pt x="175" y="1260"/>
                </a:lnTo>
                <a:lnTo>
                  <a:pt x="207" y="1278"/>
                </a:lnTo>
                <a:lnTo>
                  <a:pt x="237" y="1290"/>
                </a:lnTo>
                <a:lnTo>
                  <a:pt x="273" y="1301"/>
                </a:lnTo>
                <a:lnTo>
                  <a:pt x="312" y="1302"/>
                </a:lnTo>
                <a:lnTo>
                  <a:pt x="351" y="1302"/>
                </a:lnTo>
                <a:lnTo>
                  <a:pt x="390" y="1293"/>
                </a:lnTo>
                <a:lnTo>
                  <a:pt x="420" y="1282"/>
                </a:lnTo>
                <a:lnTo>
                  <a:pt x="442" y="1273"/>
                </a:lnTo>
                <a:lnTo>
                  <a:pt x="464" y="1306"/>
                </a:lnTo>
                <a:lnTo>
                  <a:pt x="494" y="1334"/>
                </a:lnTo>
                <a:lnTo>
                  <a:pt x="527" y="1360"/>
                </a:lnTo>
                <a:lnTo>
                  <a:pt x="564" y="1388"/>
                </a:lnTo>
                <a:lnTo>
                  <a:pt x="609" y="1412"/>
                </a:lnTo>
                <a:lnTo>
                  <a:pt x="657" y="1433"/>
                </a:lnTo>
                <a:lnTo>
                  <a:pt x="713" y="1450"/>
                </a:lnTo>
                <a:lnTo>
                  <a:pt x="765" y="1462"/>
                </a:lnTo>
                <a:lnTo>
                  <a:pt x="822" y="1470"/>
                </a:lnTo>
                <a:lnTo>
                  <a:pt x="866" y="1470"/>
                </a:lnTo>
                <a:lnTo>
                  <a:pt x="912" y="1470"/>
                </a:lnTo>
                <a:lnTo>
                  <a:pt x="976" y="1460"/>
                </a:lnTo>
                <a:lnTo>
                  <a:pt x="1034" y="1448"/>
                </a:lnTo>
                <a:lnTo>
                  <a:pt x="1075" y="1436"/>
                </a:lnTo>
                <a:lnTo>
                  <a:pt x="1127" y="1415"/>
                </a:lnTo>
                <a:lnTo>
                  <a:pt x="1181" y="1388"/>
                </a:lnTo>
                <a:lnTo>
                  <a:pt x="1211" y="1366"/>
                </a:lnTo>
                <a:lnTo>
                  <a:pt x="1237" y="1342"/>
                </a:lnTo>
                <a:lnTo>
                  <a:pt x="1265" y="1359"/>
                </a:lnTo>
                <a:lnTo>
                  <a:pt x="1304" y="1379"/>
                </a:lnTo>
                <a:lnTo>
                  <a:pt x="1340" y="1392"/>
                </a:lnTo>
                <a:lnTo>
                  <a:pt x="1373" y="1399"/>
                </a:lnTo>
                <a:lnTo>
                  <a:pt x="1412" y="1404"/>
                </a:lnTo>
                <a:lnTo>
                  <a:pt x="1447" y="1404"/>
                </a:lnTo>
                <a:lnTo>
                  <a:pt x="1493" y="1398"/>
                </a:lnTo>
                <a:lnTo>
                  <a:pt x="1536" y="1383"/>
                </a:lnTo>
                <a:lnTo>
                  <a:pt x="1575" y="1366"/>
                </a:lnTo>
                <a:lnTo>
                  <a:pt x="1615" y="1339"/>
                </a:lnTo>
                <a:lnTo>
                  <a:pt x="1650" y="1310"/>
                </a:lnTo>
                <a:lnTo>
                  <a:pt x="1700" y="1334"/>
                </a:lnTo>
                <a:lnTo>
                  <a:pt x="1746" y="1346"/>
                </a:lnTo>
                <a:lnTo>
                  <a:pt x="1785" y="1354"/>
                </a:lnTo>
                <a:lnTo>
                  <a:pt x="1842" y="1354"/>
                </a:lnTo>
                <a:lnTo>
                  <a:pt x="1901" y="1345"/>
                </a:lnTo>
                <a:lnTo>
                  <a:pt x="1970" y="1317"/>
                </a:lnTo>
                <a:lnTo>
                  <a:pt x="2030" y="1278"/>
                </a:lnTo>
                <a:lnTo>
                  <a:pt x="2080" y="1229"/>
                </a:lnTo>
                <a:lnTo>
                  <a:pt x="2128" y="1170"/>
                </a:lnTo>
                <a:lnTo>
                  <a:pt x="2155" y="1122"/>
                </a:lnTo>
                <a:lnTo>
                  <a:pt x="2175" y="1071"/>
                </a:lnTo>
                <a:lnTo>
                  <a:pt x="2194" y="1006"/>
                </a:lnTo>
                <a:lnTo>
                  <a:pt x="2206" y="946"/>
                </a:lnTo>
                <a:lnTo>
                  <a:pt x="2212" y="878"/>
                </a:lnTo>
                <a:lnTo>
                  <a:pt x="2207" y="825"/>
                </a:lnTo>
                <a:lnTo>
                  <a:pt x="2197" y="762"/>
                </a:lnTo>
                <a:lnTo>
                  <a:pt x="2180" y="698"/>
                </a:lnTo>
                <a:lnTo>
                  <a:pt x="2156" y="643"/>
                </a:lnTo>
                <a:lnTo>
                  <a:pt x="2126" y="588"/>
                </a:lnTo>
                <a:lnTo>
                  <a:pt x="2091" y="543"/>
                </a:lnTo>
                <a:lnTo>
                  <a:pt x="2058" y="508"/>
                </a:lnTo>
                <a:lnTo>
                  <a:pt x="2022" y="479"/>
                </a:lnTo>
                <a:lnTo>
                  <a:pt x="1975" y="444"/>
                </a:lnTo>
                <a:lnTo>
                  <a:pt x="1932" y="424"/>
                </a:lnTo>
                <a:lnTo>
                  <a:pt x="1892" y="415"/>
                </a:lnTo>
                <a:lnTo>
                  <a:pt x="1850" y="407"/>
                </a:lnTo>
                <a:lnTo>
                  <a:pt x="1842" y="366"/>
                </a:lnTo>
                <a:lnTo>
                  <a:pt x="1828" y="322"/>
                </a:lnTo>
                <a:lnTo>
                  <a:pt x="1811" y="284"/>
                </a:lnTo>
                <a:lnTo>
                  <a:pt x="1788" y="238"/>
                </a:lnTo>
                <a:lnTo>
                  <a:pt x="1761" y="196"/>
                </a:lnTo>
                <a:lnTo>
                  <a:pt x="1726" y="152"/>
                </a:lnTo>
                <a:lnTo>
                  <a:pt x="1691" y="115"/>
                </a:lnTo>
                <a:lnTo>
                  <a:pt x="1652" y="86"/>
                </a:lnTo>
                <a:lnTo>
                  <a:pt x="1601" y="53"/>
                </a:lnTo>
                <a:lnTo>
                  <a:pt x="1553" y="30"/>
                </a:lnTo>
                <a:lnTo>
                  <a:pt x="1504" y="13"/>
                </a:lnTo>
                <a:lnTo>
                  <a:pt x="1452" y="4"/>
                </a:lnTo>
                <a:lnTo>
                  <a:pt x="1400" y="0"/>
                </a:lnTo>
                <a:lnTo>
                  <a:pt x="1344" y="1"/>
                </a:lnTo>
                <a:lnTo>
                  <a:pt x="1293" y="9"/>
                </a:lnTo>
                <a:lnTo>
                  <a:pt x="1233" y="28"/>
                </a:lnTo>
                <a:lnTo>
                  <a:pt x="1170" y="59"/>
                </a:lnTo>
                <a:lnTo>
                  <a:pt x="1129" y="86"/>
                </a:lnTo>
                <a:lnTo>
                  <a:pt x="1088" y="118"/>
                </a:lnTo>
                <a:lnTo>
                  <a:pt x="1052" y="156"/>
                </a:lnTo>
                <a:lnTo>
                  <a:pt x="1020" y="194"/>
                </a:lnTo>
              </a:path>
            </a:pathLst>
          </a:custGeom>
          <a:solidFill>
            <a:srgbClr val="6699ff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269892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33399"/>
                </a:solidFill>
                <a:latin typeface="Comic Sans MS"/>
              </a:rPr>
              <a:t>Red de transporte Avant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76640" y="2330280"/>
            <a:ext cx="0" cy="1197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701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Comic Sans MS"/>
              </a:rPr>
              <a:t>Monterrey - Hou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676520"/>
            <a:ext cx="1024200" cy="717480"/>
          </a:xfrm>
          <a:custGeom>
            <a:avLst/>
            <a:gdLst/>
            <a:ahLst/>
            <a:rect l="l" t="t" r="r" b="b"/>
            <a:pathLst>
              <a:path w="2213" h="1471">
                <a:moveTo>
                  <a:pt x="1020" y="194"/>
                </a:moveTo>
                <a:lnTo>
                  <a:pt x="969" y="179"/>
                </a:lnTo>
                <a:lnTo>
                  <a:pt x="899" y="163"/>
                </a:lnTo>
                <a:lnTo>
                  <a:pt x="839" y="159"/>
                </a:lnTo>
                <a:lnTo>
                  <a:pt x="777" y="167"/>
                </a:lnTo>
                <a:lnTo>
                  <a:pt x="732" y="172"/>
                </a:lnTo>
                <a:lnTo>
                  <a:pt x="687" y="187"/>
                </a:lnTo>
                <a:lnTo>
                  <a:pt x="639" y="208"/>
                </a:lnTo>
                <a:lnTo>
                  <a:pt x="593" y="234"/>
                </a:lnTo>
                <a:lnTo>
                  <a:pt x="545" y="269"/>
                </a:lnTo>
                <a:lnTo>
                  <a:pt x="498" y="316"/>
                </a:lnTo>
                <a:lnTo>
                  <a:pt x="467" y="358"/>
                </a:lnTo>
                <a:lnTo>
                  <a:pt x="446" y="398"/>
                </a:lnTo>
                <a:lnTo>
                  <a:pt x="427" y="440"/>
                </a:lnTo>
                <a:lnTo>
                  <a:pt x="414" y="497"/>
                </a:lnTo>
                <a:lnTo>
                  <a:pt x="376" y="481"/>
                </a:lnTo>
                <a:lnTo>
                  <a:pt x="327" y="475"/>
                </a:lnTo>
                <a:lnTo>
                  <a:pt x="287" y="477"/>
                </a:lnTo>
                <a:lnTo>
                  <a:pt x="242" y="488"/>
                </a:lnTo>
                <a:lnTo>
                  <a:pt x="204" y="503"/>
                </a:lnTo>
                <a:lnTo>
                  <a:pt x="166" y="524"/>
                </a:lnTo>
                <a:lnTo>
                  <a:pt x="125" y="557"/>
                </a:lnTo>
                <a:lnTo>
                  <a:pt x="100" y="588"/>
                </a:lnTo>
                <a:lnTo>
                  <a:pt x="73" y="621"/>
                </a:lnTo>
                <a:lnTo>
                  <a:pt x="50" y="659"/>
                </a:lnTo>
                <a:lnTo>
                  <a:pt x="28" y="714"/>
                </a:lnTo>
                <a:lnTo>
                  <a:pt x="14" y="762"/>
                </a:lnTo>
                <a:lnTo>
                  <a:pt x="5" y="813"/>
                </a:lnTo>
                <a:lnTo>
                  <a:pt x="1" y="852"/>
                </a:lnTo>
                <a:lnTo>
                  <a:pt x="0" y="892"/>
                </a:lnTo>
                <a:lnTo>
                  <a:pt x="1" y="939"/>
                </a:lnTo>
                <a:lnTo>
                  <a:pt x="8" y="983"/>
                </a:lnTo>
                <a:lnTo>
                  <a:pt x="18" y="1025"/>
                </a:lnTo>
                <a:lnTo>
                  <a:pt x="29" y="1067"/>
                </a:lnTo>
                <a:lnTo>
                  <a:pt x="50" y="1116"/>
                </a:lnTo>
                <a:lnTo>
                  <a:pt x="75" y="1160"/>
                </a:lnTo>
                <a:lnTo>
                  <a:pt x="102" y="1196"/>
                </a:lnTo>
                <a:lnTo>
                  <a:pt x="138" y="1233"/>
                </a:lnTo>
                <a:lnTo>
                  <a:pt x="175" y="1260"/>
                </a:lnTo>
                <a:lnTo>
                  <a:pt x="207" y="1278"/>
                </a:lnTo>
                <a:lnTo>
                  <a:pt x="237" y="1290"/>
                </a:lnTo>
                <a:lnTo>
                  <a:pt x="273" y="1301"/>
                </a:lnTo>
                <a:lnTo>
                  <a:pt x="312" y="1302"/>
                </a:lnTo>
                <a:lnTo>
                  <a:pt x="351" y="1302"/>
                </a:lnTo>
                <a:lnTo>
                  <a:pt x="390" y="1293"/>
                </a:lnTo>
                <a:lnTo>
                  <a:pt x="420" y="1282"/>
                </a:lnTo>
                <a:lnTo>
                  <a:pt x="442" y="1273"/>
                </a:lnTo>
                <a:lnTo>
                  <a:pt x="464" y="1306"/>
                </a:lnTo>
                <a:lnTo>
                  <a:pt x="494" y="1334"/>
                </a:lnTo>
                <a:lnTo>
                  <a:pt x="527" y="1360"/>
                </a:lnTo>
                <a:lnTo>
                  <a:pt x="564" y="1388"/>
                </a:lnTo>
                <a:lnTo>
                  <a:pt x="609" y="1412"/>
                </a:lnTo>
                <a:lnTo>
                  <a:pt x="657" y="1433"/>
                </a:lnTo>
                <a:lnTo>
                  <a:pt x="713" y="1450"/>
                </a:lnTo>
                <a:lnTo>
                  <a:pt x="765" y="1462"/>
                </a:lnTo>
                <a:lnTo>
                  <a:pt x="822" y="1470"/>
                </a:lnTo>
                <a:lnTo>
                  <a:pt x="866" y="1470"/>
                </a:lnTo>
                <a:lnTo>
                  <a:pt x="912" y="1470"/>
                </a:lnTo>
                <a:lnTo>
                  <a:pt x="976" y="1460"/>
                </a:lnTo>
                <a:lnTo>
                  <a:pt x="1034" y="1448"/>
                </a:lnTo>
                <a:lnTo>
                  <a:pt x="1075" y="1436"/>
                </a:lnTo>
                <a:lnTo>
                  <a:pt x="1127" y="1415"/>
                </a:lnTo>
                <a:lnTo>
                  <a:pt x="1181" y="1388"/>
                </a:lnTo>
                <a:lnTo>
                  <a:pt x="1211" y="1366"/>
                </a:lnTo>
                <a:lnTo>
                  <a:pt x="1237" y="1342"/>
                </a:lnTo>
                <a:lnTo>
                  <a:pt x="1265" y="1359"/>
                </a:lnTo>
                <a:lnTo>
                  <a:pt x="1304" y="1379"/>
                </a:lnTo>
                <a:lnTo>
                  <a:pt x="1340" y="1392"/>
                </a:lnTo>
                <a:lnTo>
                  <a:pt x="1373" y="1399"/>
                </a:lnTo>
                <a:lnTo>
                  <a:pt x="1412" y="1404"/>
                </a:lnTo>
                <a:lnTo>
                  <a:pt x="1447" y="1404"/>
                </a:lnTo>
                <a:lnTo>
                  <a:pt x="1493" y="1398"/>
                </a:lnTo>
                <a:lnTo>
                  <a:pt x="1536" y="1383"/>
                </a:lnTo>
                <a:lnTo>
                  <a:pt x="1575" y="1366"/>
                </a:lnTo>
                <a:lnTo>
                  <a:pt x="1615" y="1339"/>
                </a:lnTo>
                <a:lnTo>
                  <a:pt x="1650" y="1310"/>
                </a:lnTo>
                <a:lnTo>
                  <a:pt x="1700" y="1334"/>
                </a:lnTo>
                <a:lnTo>
                  <a:pt x="1746" y="1346"/>
                </a:lnTo>
                <a:lnTo>
                  <a:pt x="1785" y="1354"/>
                </a:lnTo>
                <a:lnTo>
                  <a:pt x="1842" y="1354"/>
                </a:lnTo>
                <a:lnTo>
                  <a:pt x="1901" y="1345"/>
                </a:lnTo>
                <a:lnTo>
                  <a:pt x="1970" y="1317"/>
                </a:lnTo>
                <a:lnTo>
                  <a:pt x="2030" y="1278"/>
                </a:lnTo>
                <a:lnTo>
                  <a:pt x="2080" y="1229"/>
                </a:lnTo>
                <a:lnTo>
                  <a:pt x="2128" y="1170"/>
                </a:lnTo>
                <a:lnTo>
                  <a:pt x="2155" y="1122"/>
                </a:lnTo>
                <a:lnTo>
                  <a:pt x="2175" y="1071"/>
                </a:lnTo>
                <a:lnTo>
                  <a:pt x="2194" y="1006"/>
                </a:lnTo>
                <a:lnTo>
                  <a:pt x="2206" y="946"/>
                </a:lnTo>
                <a:lnTo>
                  <a:pt x="2212" y="878"/>
                </a:lnTo>
                <a:lnTo>
                  <a:pt x="2207" y="825"/>
                </a:lnTo>
                <a:lnTo>
                  <a:pt x="2197" y="762"/>
                </a:lnTo>
                <a:lnTo>
                  <a:pt x="2180" y="698"/>
                </a:lnTo>
                <a:lnTo>
                  <a:pt x="2156" y="643"/>
                </a:lnTo>
                <a:lnTo>
                  <a:pt x="2126" y="588"/>
                </a:lnTo>
                <a:lnTo>
                  <a:pt x="2091" y="543"/>
                </a:lnTo>
                <a:lnTo>
                  <a:pt x="2058" y="508"/>
                </a:lnTo>
                <a:lnTo>
                  <a:pt x="2022" y="479"/>
                </a:lnTo>
                <a:lnTo>
                  <a:pt x="1975" y="444"/>
                </a:lnTo>
                <a:lnTo>
                  <a:pt x="1932" y="424"/>
                </a:lnTo>
                <a:lnTo>
                  <a:pt x="1892" y="415"/>
                </a:lnTo>
                <a:lnTo>
                  <a:pt x="1850" y="407"/>
                </a:lnTo>
                <a:lnTo>
                  <a:pt x="1842" y="366"/>
                </a:lnTo>
                <a:lnTo>
                  <a:pt x="1828" y="322"/>
                </a:lnTo>
                <a:lnTo>
                  <a:pt x="1811" y="284"/>
                </a:lnTo>
                <a:lnTo>
                  <a:pt x="1788" y="238"/>
                </a:lnTo>
                <a:lnTo>
                  <a:pt x="1761" y="196"/>
                </a:lnTo>
                <a:lnTo>
                  <a:pt x="1726" y="152"/>
                </a:lnTo>
                <a:lnTo>
                  <a:pt x="1691" y="115"/>
                </a:lnTo>
                <a:lnTo>
                  <a:pt x="1652" y="86"/>
                </a:lnTo>
                <a:lnTo>
                  <a:pt x="1601" y="53"/>
                </a:lnTo>
                <a:lnTo>
                  <a:pt x="1553" y="30"/>
                </a:lnTo>
                <a:lnTo>
                  <a:pt x="1504" y="13"/>
                </a:lnTo>
                <a:lnTo>
                  <a:pt x="1452" y="4"/>
                </a:lnTo>
                <a:lnTo>
                  <a:pt x="1400" y="0"/>
                </a:lnTo>
                <a:lnTo>
                  <a:pt x="1344" y="1"/>
                </a:lnTo>
                <a:lnTo>
                  <a:pt x="1293" y="9"/>
                </a:lnTo>
                <a:lnTo>
                  <a:pt x="1233" y="28"/>
                </a:lnTo>
                <a:lnTo>
                  <a:pt x="1170" y="59"/>
                </a:lnTo>
                <a:lnTo>
                  <a:pt x="1129" y="86"/>
                </a:lnTo>
                <a:lnTo>
                  <a:pt x="1088" y="118"/>
                </a:lnTo>
                <a:lnTo>
                  <a:pt x="1052" y="156"/>
                </a:lnTo>
                <a:lnTo>
                  <a:pt x="1020" y="194"/>
                </a:lnTo>
              </a:path>
            </a:pathLst>
          </a:custGeom>
          <a:solidFill>
            <a:srgbClr val="6699ff"/>
          </a:solidFill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1905120"/>
            <a:ext cx="85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33399"/>
                </a:solidFill>
                <a:latin typeface="Comic Sans MS"/>
              </a:rPr>
              <a:t>vB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3880" y="297180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7040" y="298620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155 Mb/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352680" y="236196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 flipV="1">
            <a:off x="3425760" y="2017800"/>
            <a:ext cx="36720" cy="420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1981080"/>
            <a:ext cx="1522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89320" y="3817800"/>
            <a:ext cx="687600" cy="1343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5335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57b1"/>
                </a:solidFill>
                <a:latin typeface="Comic Sans MS"/>
              </a:rPr>
              <a:t>Topología de la 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5400" y="4546440"/>
            <a:ext cx="18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57b1"/>
                </a:solidFill>
                <a:latin typeface="Comic Sans MS"/>
              </a:rPr>
              <a:t>Nodos Acce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57b1"/>
                </a:solidFill>
                <a:latin typeface="Comic Sans MS"/>
              </a:rPr>
              <a:t>(Asociados Académic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3960" y="539604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57b1"/>
                </a:solidFill>
                <a:latin typeface="Comic Sans MS"/>
              </a:rPr>
              <a:t>Nodos afili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2120" y="3179880"/>
            <a:ext cx="9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57b1"/>
                </a:solidFill>
                <a:latin typeface="Comic Sans MS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3591000"/>
            <a:ext cx="12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57b1"/>
                </a:solidFill>
                <a:latin typeface="Comic Sans MS"/>
              </a:rPr>
              <a:t>Guadalaj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2895480"/>
            <a:ext cx="11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57b1"/>
                </a:solidFill>
                <a:latin typeface="Comic Sans MS"/>
              </a:rPr>
              <a:t>Monter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516040"/>
            <a:ext cx="91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57b1"/>
                </a:solidFill>
                <a:latin typeface="Comic Sans MS"/>
              </a:rPr>
              <a:t>Tij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798640"/>
            <a:ext cx="762120" cy="838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13040"/>
            <a:ext cx="1447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743200" y="2722320"/>
            <a:ext cx="609480" cy="990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90920" y="3865320"/>
            <a:ext cx="15228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209680" y="4932360"/>
            <a:ext cx="381240" cy="349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932360"/>
            <a:ext cx="304920" cy="272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05120" y="2017800"/>
            <a:ext cx="36360" cy="420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038480" y="5889600"/>
            <a:ext cx="555840" cy="5335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5127480" y="5812920"/>
            <a:ext cx="587520" cy="6858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576760" y="5289120"/>
            <a:ext cx="366840" cy="328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0840" y="5008680"/>
            <a:ext cx="12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57b1"/>
                </a:solidFill>
                <a:latin typeface="Comic Sans MS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75160" y="5999040"/>
            <a:ext cx="9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57b1"/>
                </a:solidFill>
                <a:latin typeface="Comic Sans MS"/>
              </a:rPr>
              <a:t>2 Mb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629080" y="3487680"/>
            <a:ext cx="269640" cy="463320"/>
            <a:chOff x="2629080" y="3487680"/>
            <a:chExt cx="269640" cy="46332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2629080" y="3549240"/>
              <a:ext cx="269640" cy="40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3" name=""/>
            <p:cNvGrpSpPr/>
            <p:nvPr/>
          </p:nvGrpSpPr>
          <p:grpSpPr>
            <a:xfrm>
              <a:off x="2662200" y="3487680"/>
              <a:ext cx="210960" cy="112680"/>
              <a:chOff x="2662200" y="3487680"/>
              <a:chExt cx="210960" cy="112680"/>
            </a:xfrm>
          </p:grpSpPr>
          <p:sp>
            <p:nvSpPr>
              <p:cNvPr id="364" name=""/>
              <p:cNvSpPr/>
              <p:nvPr/>
            </p:nvSpPr>
            <p:spPr>
              <a:xfrm>
                <a:off x="2662560" y="3534840"/>
                <a:ext cx="205560" cy="6552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62200" y="3522960"/>
                <a:ext cx="21060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62200" y="3522960"/>
                <a:ext cx="21060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62560" y="3487680"/>
                <a:ext cx="205560" cy="6552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770200" y="349704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770200" y="349704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93880" y="352296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693880" y="352296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698200" y="3495240"/>
                <a:ext cx="6948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98200" y="3495240"/>
                <a:ext cx="6948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767680" y="352512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67680" y="352512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771280" y="3498120"/>
                <a:ext cx="6876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71280" y="3498120"/>
                <a:ext cx="6876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695680" y="352332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95680" y="352332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699280" y="349704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99280" y="349704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68400" y="352620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68400" y="352620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72800" y="3521160"/>
                <a:ext cx="360" cy="4896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1784520" y="2411280"/>
            <a:ext cx="269640" cy="463320"/>
            <a:chOff x="1784520" y="2411280"/>
            <a:chExt cx="269640" cy="463320"/>
          </a:xfrm>
        </p:grpSpPr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1784520" y="2472840"/>
              <a:ext cx="269640" cy="40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7" name=""/>
            <p:cNvGrpSpPr/>
            <p:nvPr/>
          </p:nvGrpSpPr>
          <p:grpSpPr>
            <a:xfrm>
              <a:off x="1817640" y="2411280"/>
              <a:ext cx="210960" cy="112680"/>
              <a:chOff x="1817640" y="2411280"/>
              <a:chExt cx="210960" cy="112680"/>
            </a:xfrm>
          </p:grpSpPr>
          <p:sp>
            <p:nvSpPr>
              <p:cNvPr id="388" name=""/>
              <p:cNvSpPr/>
              <p:nvPr/>
            </p:nvSpPr>
            <p:spPr>
              <a:xfrm>
                <a:off x="1818000" y="2458440"/>
                <a:ext cx="205560" cy="6552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817640" y="2446560"/>
                <a:ext cx="21060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817640" y="2446560"/>
                <a:ext cx="21060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18000" y="2411280"/>
                <a:ext cx="205560" cy="6552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25640" y="242064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5640" y="242064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49320" y="244656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49320" y="244656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53640" y="2418840"/>
                <a:ext cx="6948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53640" y="2418840"/>
                <a:ext cx="6948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23120" y="244872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23120" y="244872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26720" y="2421720"/>
                <a:ext cx="6876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26720" y="2421720"/>
                <a:ext cx="6876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51120" y="244692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51120" y="244692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54720" y="242064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54720" y="242064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23840" y="244980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23840" y="244980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28240" y="2444760"/>
                <a:ext cx="360" cy="4896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304920" y="4246560"/>
            <a:ext cx="350496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37120" y="5051520"/>
            <a:ext cx="1600200" cy="1062000"/>
          </a:xfrm>
          <a:custGeom>
            <a:avLst/>
            <a:gdLst/>
            <a:ahLst/>
            <a:rect l="l" t="t" r="r" b="b"/>
            <a:pathLst>
              <a:path w="563" h="295">
                <a:moveTo>
                  <a:pt x="561" y="155"/>
                </a:moveTo>
                <a:lnTo>
                  <a:pt x="559" y="150"/>
                </a:lnTo>
                <a:lnTo>
                  <a:pt x="557" y="145"/>
                </a:lnTo>
                <a:lnTo>
                  <a:pt x="555" y="139"/>
                </a:lnTo>
                <a:lnTo>
                  <a:pt x="552" y="134"/>
                </a:lnTo>
                <a:lnTo>
                  <a:pt x="549" y="129"/>
                </a:lnTo>
                <a:lnTo>
                  <a:pt x="544" y="123"/>
                </a:lnTo>
                <a:lnTo>
                  <a:pt x="540" y="118"/>
                </a:lnTo>
                <a:lnTo>
                  <a:pt x="535" y="113"/>
                </a:lnTo>
                <a:lnTo>
                  <a:pt x="530" y="108"/>
                </a:lnTo>
                <a:lnTo>
                  <a:pt x="524" y="104"/>
                </a:lnTo>
                <a:lnTo>
                  <a:pt x="519" y="101"/>
                </a:lnTo>
                <a:lnTo>
                  <a:pt x="512" y="98"/>
                </a:lnTo>
                <a:lnTo>
                  <a:pt x="505" y="96"/>
                </a:lnTo>
                <a:lnTo>
                  <a:pt x="497" y="96"/>
                </a:lnTo>
                <a:lnTo>
                  <a:pt x="490" y="96"/>
                </a:lnTo>
                <a:lnTo>
                  <a:pt x="482" y="98"/>
                </a:lnTo>
                <a:lnTo>
                  <a:pt x="483" y="93"/>
                </a:lnTo>
                <a:lnTo>
                  <a:pt x="485" y="89"/>
                </a:lnTo>
                <a:lnTo>
                  <a:pt x="485" y="84"/>
                </a:lnTo>
                <a:lnTo>
                  <a:pt x="484" y="80"/>
                </a:lnTo>
                <a:lnTo>
                  <a:pt x="482" y="76"/>
                </a:lnTo>
                <a:lnTo>
                  <a:pt x="480" y="73"/>
                </a:lnTo>
                <a:lnTo>
                  <a:pt x="475" y="68"/>
                </a:lnTo>
                <a:lnTo>
                  <a:pt x="470" y="63"/>
                </a:lnTo>
                <a:lnTo>
                  <a:pt x="467" y="61"/>
                </a:lnTo>
                <a:lnTo>
                  <a:pt x="464" y="60"/>
                </a:lnTo>
                <a:lnTo>
                  <a:pt x="461" y="58"/>
                </a:lnTo>
                <a:lnTo>
                  <a:pt x="458" y="57"/>
                </a:lnTo>
                <a:lnTo>
                  <a:pt x="454" y="56"/>
                </a:lnTo>
                <a:lnTo>
                  <a:pt x="451" y="54"/>
                </a:lnTo>
                <a:lnTo>
                  <a:pt x="446" y="54"/>
                </a:lnTo>
                <a:lnTo>
                  <a:pt x="443" y="53"/>
                </a:lnTo>
                <a:lnTo>
                  <a:pt x="439" y="53"/>
                </a:lnTo>
                <a:lnTo>
                  <a:pt x="435" y="52"/>
                </a:lnTo>
                <a:lnTo>
                  <a:pt x="431" y="51"/>
                </a:lnTo>
                <a:lnTo>
                  <a:pt x="427" y="51"/>
                </a:lnTo>
                <a:lnTo>
                  <a:pt x="424" y="51"/>
                </a:lnTo>
                <a:lnTo>
                  <a:pt x="419" y="51"/>
                </a:lnTo>
                <a:lnTo>
                  <a:pt x="415" y="51"/>
                </a:lnTo>
                <a:lnTo>
                  <a:pt x="411" y="51"/>
                </a:lnTo>
                <a:lnTo>
                  <a:pt x="407" y="52"/>
                </a:lnTo>
                <a:lnTo>
                  <a:pt x="403" y="53"/>
                </a:lnTo>
                <a:lnTo>
                  <a:pt x="399" y="53"/>
                </a:lnTo>
                <a:lnTo>
                  <a:pt x="395" y="54"/>
                </a:lnTo>
                <a:lnTo>
                  <a:pt x="390" y="54"/>
                </a:lnTo>
                <a:lnTo>
                  <a:pt x="387" y="55"/>
                </a:lnTo>
                <a:lnTo>
                  <a:pt x="382" y="56"/>
                </a:lnTo>
                <a:lnTo>
                  <a:pt x="379" y="58"/>
                </a:lnTo>
                <a:lnTo>
                  <a:pt x="375" y="58"/>
                </a:lnTo>
                <a:lnTo>
                  <a:pt x="371" y="59"/>
                </a:lnTo>
                <a:lnTo>
                  <a:pt x="368" y="61"/>
                </a:lnTo>
                <a:lnTo>
                  <a:pt x="364" y="62"/>
                </a:lnTo>
                <a:lnTo>
                  <a:pt x="360" y="64"/>
                </a:lnTo>
                <a:lnTo>
                  <a:pt x="358" y="65"/>
                </a:lnTo>
                <a:lnTo>
                  <a:pt x="354" y="67"/>
                </a:lnTo>
                <a:lnTo>
                  <a:pt x="351" y="68"/>
                </a:lnTo>
                <a:lnTo>
                  <a:pt x="351" y="65"/>
                </a:lnTo>
                <a:lnTo>
                  <a:pt x="351" y="63"/>
                </a:lnTo>
                <a:lnTo>
                  <a:pt x="350" y="60"/>
                </a:lnTo>
                <a:lnTo>
                  <a:pt x="348" y="58"/>
                </a:lnTo>
                <a:lnTo>
                  <a:pt x="346" y="56"/>
                </a:lnTo>
                <a:lnTo>
                  <a:pt x="344" y="54"/>
                </a:lnTo>
                <a:lnTo>
                  <a:pt x="341" y="53"/>
                </a:lnTo>
                <a:lnTo>
                  <a:pt x="338" y="51"/>
                </a:lnTo>
                <a:lnTo>
                  <a:pt x="334" y="51"/>
                </a:lnTo>
                <a:lnTo>
                  <a:pt x="331" y="50"/>
                </a:lnTo>
                <a:lnTo>
                  <a:pt x="326" y="50"/>
                </a:lnTo>
                <a:lnTo>
                  <a:pt x="322" y="50"/>
                </a:lnTo>
                <a:lnTo>
                  <a:pt x="318" y="51"/>
                </a:lnTo>
                <a:lnTo>
                  <a:pt x="314" y="52"/>
                </a:lnTo>
                <a:lnTo>
                  <a:pt x="309" y="53"/>
                </a:lnTo>
                <a:lnTo>
                  <a:pt x="304" y="54"/>
                </a:lnTo>
                <a:lnTo>
                  <a:pt x="307" y="50"/>
                </a:lnTo>
                <a:lnTo>
                  <a:pt x="307" y="44"/>
                </a:lnTo>
                <a:lnTo>
                  <a:pt x="308" y="39"/>
                </a:lnTo>
                <a:lnTo>
                  <a:pt x="308" y="34"/>
                </a:lnTo>
                <a:lnTo>
                  <a:pt x="307" y="28"/>
                </a:lnTo>
                <a:lnTo>
                  <a:pt x="305" y="23"/>
                </a:lnTo>
                <a:lnTo>
                  <a:pt x="302" y="19"/>
                </a:lnTo>
                <a:lnTo>
                  <a:pt x="299" y="16"/>
                </a:lnTo>
                <a:lnTo>
                  <a:pt x="297" y="14"/>
                </a:lnTo>
                <a:lnTo>
                  <a:pt x="294" y="12"/>
                </a:lnTo>
                <a:lnTo>
                  <a:pt x="290" y="10"/>
                </a:lnTo>
                <a:lnTo>
                  <a:pt x="287" y="8"/>
                </a:lnTo>
                <a:lnTo>
                  <a:pt x="285" y="7"/>
                </a:lnTo>
                <a:lnTo>
                  <a:pt x="281" y="5"/>
                </a:lnTo>
                <a:lnTo>
                  <a:pt x="277" y="4"/>
                </a:lnTo>
                <a:lnTo>
                  <a:pt x="273" y="3"/>
                </a:lnTo>
                <a:lnTo>
                  <a:pt x="270" y="2"/>
                </a:lnTo>
                <a:lnTo>
                  <a:pt x="265" y="1"/>
                </a:lnTo>
                <a:lnTo>
                  <a:pt x="260" y="1"/>
                </a:lnTo>
                <a:lnTo>
                  <a:pt x="256" y="0"/>
                </a:lnTo>
                <a:lnTo>
                  <a:pt x="251" y="0"/>
                </a:lnTo>
                <a:lnTo>
                  <a:pt x="246" y="0"/>
                </a:lnTo>
                <a:lnTo>
                  <a:pt x="241" y="0"/>
                </a:lnTo>
                <a:lnTo>
                  <a:pt x="235" y="1"/>
                </a:lnTo>
                <a:lnTo>
                  <a:pt x="230" y="1"/>
                </a:lnTo>
                <a:lnTo>
                  <a:pt x="226" y="1"/>
                </a:lnTo>
                <a:lnTo>
                  <a:pt x="222" y="2"/>
                </a:lnTo>
                <a:lnTo>
                  <a:pt x="218" y="3"/>
                </a:lnTo>
                <a:lnTo>
                  <a:pt x="214" y="4"/>
                </a:lnTo>
                <a:lnTo>
                  <a:pt x="209" y="4"/>
                </a:lnTo>
                <a:lnTo>
                  <a:pt x="205" y="6"/>
                </a:lnTo>
                <a:lnTo>
                  <a:pt x="202" y="7"/>
                </a:lnTo>
                <a:lnTo>
                  <a:pt x="197" y="8"/>
                </a:lnTo>
                <a:lnTo>
                  <a:pt x="194" y="9"/>
                </a:lnTo>
                <a:lnTo>
                  <a:pt x="190" y="11"/>
                </a:lnTo>
                <a:lnTo>
                  <a:pt x="187" y="13"/>
                </a:lnTo>
                <a:lnTo>
                  <a:pt x="183" y="14"/>
                </a:lnTo>
                <a:lnTo>
                  <a:pt x="180" y="16"/>
                </a:lnTo>
                <a:lnTo>
                  <a:pt x="176" y="18"/>
                </a:lnTo>
                <a:lnTo>
                  <a:pt x="172" y="19"/>
                </a:lnTo>
                <a:lnTo>
                  <a:pt x="169" y="21"/>
                </a:lnTo>
                <a:lnTo>
                  <a:pt x="166" y="23"/>
                </a:lnTo>
                <a:lnTo>
                  <a:pt x="162" y="26"/>
                </a:lnTo>
                <a:lnTo>
                  <a:pt x="159" y="28"/>
                </a:lnTo>
                <a:lnTo>
                  <a:pt x="156" y="31"/>
                </a:lnTo>
                <a:lnTo>
                  <a:pt x="153" y="33"/>
                </a:lnTo>
                <a:lnTo>
                  <a:pt x="150" y="36"/>
                </a:lnTo>
                <a:lnTo>
                  <a:pt x="147" y="38"/>
                </a:lnTo>
                <a:lnTo>
                  <a:pt x="144" y="41"/>
                </a:lnTo>
                <a:lnTo>
                  <a:pt x="141" y="44"/>
                </a:lnTo>
                <a:lnTo>
                  <a:pt x="138" y="47"/>
                </a:lnTo>
                <a:lnTo>
                  <a:pt x="136" y="50"/>
                </a:lnTo>
                <a:lnTo>
                  <a:pt x="133" y="53"/>
                </a:lnTo>
                <a:lnTo>
                  <a:pt x="131" y="56"/>
                </a:lnTo>
                <a:lnTo>
                  <a:pt x="128" y="59"/>
                </a:lnTo>
                <a:lnTo>
                  <a:pt x="125" y="63"/>
                </a:lnTo>
                <a:lnTo>
                  <a:pt x="121" y="69"/>
                </a:lnTo>
                <a:lnTo>
                  <a:pt x="119" y="66"/>
                </a:lnTo>
                <a:lnTo>
                  <a:pt x="116" y="64"/>
                </a:lnTo>
                <a:lnTo>
                  <a:pt x="114" y="63"/>
                </a:lnTo>
                <a:lnTo>
                  <a:pt x="111" y="63"/>
                </a:lnTo>
                <a:lnTo>
                  <a:pt x="107" y="63"/>
                </a:lnTo>
                <a:lnTo>
                  <a:pt x="104" y="63"/>
                </a:lnTo>
                <a:lnTo>
                  <a:pt x="100" y="64"/>
                </a:lnTo>
                <a:lnTo>
                  <a:pt x="97" y="66"/>
                </a:lnTo>
                <a:lnTo>
                  <a:pt x="93" y="68"/>
                </a:lnTo>
                <a:lnTo>
                  <a:pt x="90" y="71"/>
                </a:lnTo>
                <a:lnTo>
                  <a:pt x="87" y="74"/>
                </a:lnTo>
                <a:lnTo>
                  <a:pt x="84" y="77"/>
                </a:lnTo>
                <a:lnTo>
                  <a:pt x="82" y="81"/>
                </a:lnTo>
                <a:lnTo>
                  <a:pt x="80" y="86"/>
                </a:lnTo>
                <a:lnTo>
                  <a:pt x="78" y="90"/>
                </a:lnTo>
                <a:lnTo>
                  <a:pt x="77" y="95"/>
                </a:lnTo>
                <a:lnTo>
                  <a:pt x="74" y="94"/>
                </a:lnTo>
                <a:lnTo>
                  <a:pt x="70" y="93"/>
                </a:lnTo>
                <a:lnTo>
                  <a:pt x="66" y="92"/>
                </a:lnTo>
                <a:lnTo>
                  <a:pt x="62" y="93"/>
                </a:lnTo>
                <a:lnTo>
                  <a:pt x="58" y="93"/>
                </a:lnTo>
                <a:lnTo>
                  <a:pt x="54" y="94"/>
                </a:lnTo>
                <a:lnTo>
                  <a:pt x="50" y="95"/>
                </a:lnTo>
                <a:lnTo>
                  <a:pt x="46" y="97"/>
                </a:lnTo>
                <a:lnTo>
                  <a:pt x="42" y="99"/>
                </a:lnTo>
                <a:lnTo>
                  <a:pt x="38" y="101"/>
                </a:lnTo>
                <a:lnTo>
                  <a:pt x="34" y="104"/>
                </a:lnTo>
                <a:lnTo>
                  <a:pt x="30" y="107"/>
                </a:lnTo>
                <a:lnTo>
                  <a:pt x="26" y="111"/>
                </a:lnTo>
                <a:lnTo>
                  <a:pt x="23" y="114"/>
                </a:lnTo>
                <a:lnTo>
                  <a:pt x="20" y="118"/>
                </a:lnTo>
                <a:lnTo>
                  <a:pt x="16" y="121"/>
                </a:lnTo>
                <a:lnTo>
                  <a:pt x="13" y="125"/>
                </a:lnTo>
                <a:lnTo>
                  <a:pt x="11" y="129"/>
                </a:lnTo>
                <a:lnTo>
                  <a:pt x="9" y="133"/>
                </a:lnTo>
                <a:lnTo>
                  <a:pt x="6" y="138"/>
                </a:lnTo>
                <a:lnTo>
                  <a:pt x="4" y="142"/>
                </a:lnTo>
                <a:lnTo>
                  <a:pt x="3" y="146"/>
                </a:lnTo>
                <a:lnTo>
                  <a:pt x="2" y="150"/>
                </a:lnTo>
                <a:lnTo>
                  <a:pt x="1" y="155"/>
                </a:lnTo>
                <a:lnTo>
                  <a:pt x="1" y="158"/>
                </a:lnTo>
                <a:lnTo>
                  <a:pt x="1" y="163"/>
                </a:lnTo>
                <a:lnTo>
                  <a:pt x="2" y="166"/>
                </a:lnTo>
                <a:lnTo>
                  <a:pt x="4" y="170"/>
                </a:lnTo>
                <a:lnTo>
                  <a:pt x="5" y="173"/>
                </a:lnTo>
                <a:lnTo>
                  <a:pt x="7" y="176"/>
                </a:lnTo>
                <a:lnTo>
                  <a:pt x="11" y="180"/>
                </a:lnTo>
                <a:lnTo>
                  <a:pt x="14" y="182"/>
                </a:lnTo>
                <a:lnTo>
                  <a:pt x="9" y="184"/>
                </a:lnTo>
                <a:lnTo>
                  <a:pt x="5" y="186"/>
                </a:lnTo>
                <a:lnTo>
                  <a:pt x="2" y="191"/>
                </a:lnTo>
                <a:lnTo>
                  <a:pt x="1" y="195"/>
                </a:lnTo>
                <a:lnTo>
                  <a:pt x="0" y="201"/>
                </a:lnTo>
                <a:lnTo>
                  <a:pt x="1" y="206"/>
                </a:lnTo>
                <a:lnTo>
                  <a:pt x="2" y="212"/>
                </a:lnTo>
                <a:lnTo>
                  <a:pt x="5" y="218"/>
                </a:lnTo>
                <a:lnTo>
                  <a:pt x="9" y="223"/>
                </a:lnTo>
                <a:lnTo>
                  <a:pt x="13" y="228"/>
                </a:lnTo>
                <a:lnTo>
                  <a:pt x="18" y="233"/>
                </a:lnTo>
                <a:lnTo>
                  <a:pt x="25" y="236"/>
                </a:lnTo>
                <a:lnTo>
                  <a:pt x="31" y="240"/>
                </a:lnTo>
                <a:lnTo>
                  <a:pt x="39" y="241"/>
                </a:lnTo>
                <a:lnTo>
                  <a:pt x="47" y="241"/>
                </a:lnTo>
                <a:lnTo>
                  <a:pt x="55" y="240"/>
                </a:lnTo>
                <a:lnTo>
                  <a:pt x="54" y="245"/>
                </a:lnTo>
                <a:lnTo>
                  <a:pt x="52" y="249"/>
                </a:lnTo>
                <a:lnTo>
                  <a:pt x="52" y="254"/>
                </a:lnTo>
                <a:lnTo>
                  <a:pt x="52" y="259"/>
                </a:lnTo>
                <a:lnTo>
                  <a:pt x="53" y="263"/>
                </a:lnTo>
                <a:lnTo>
                  <a:pt x="54" y="268"/>
                </a:lnTo>
                <a:lnTo>
                  <a:pt x="57" y="272"/>
                </a:lnTo>
                <a:lnTo>
                  <a:pt x="60" y="276"/>
                </a:lnTo>
                <a:lnTo>
                  <a:pt x="64" y="280"/>
                </a:lnTo>
                <a:lnTo>
                  <a:pt x="69" y="283"/>
                </a:lnTo>
                <a:lnTo>
                  <a:pt x="74" y="286"/>
                </a:lnTo>
                <a:lnTo>
                  <a:pt x="80" y="288"/>
                </a:lnTo>
                <a:lnTo>
                  <a:pt x="87" y="291"/>
                </a:lnTo>
                <a:lnTo>
                  <a:pt x="94" y="292"/>
                </a:lnTo>
                <a:lnTo>
                  <a:pt x="101" y="293"/>
                </a:lnTo>
                <a:lnTo>
                  <a:pt x="110" y="294"/>
                </a:lnTo>
                <a:lnTo>
                  <a:pt x="115" y="294"/>
                </a:lnTo>
                <a:lnTo>
                  <a:pt x="119" y="294"/>
                </a:lnTo>
                <a:lnTo>
                  <a:pt x="123" y="294"/>
                </a:lnTo>
                <a:lnTo>
                  <a:pt x="128" y="293"/>
                </a:lnTo>
                <a:lnTo>
                  <a:pt x="132" y="293"/>
                </a:lnTo>
                <a:lnTo>
                  <a:pt x="136" y="293"/>
                </a:lnTo>
                <a:lnTo>
                  <a:pt x="141" y="293"/>
                </a:lnTo>
                <a:lnTo>
                  <a:pt x="144" y="292"/>
                </a:lnTo>
                <a:lnTo>
                  <a:pt x="148" y="291"/>
                </a:lnTo>
                <a:lnTo>
                  <a:pt x="152" y="291"/>
                </a:lnTo>
                <a:lnTo>
                  <a:pt x="156" y="290"/>
                </a:lnTo>
                <a:lnTo>
                  <a:pt x="160" y="290"/>
                </a:lnTo>
                <a:lnTo>
                  <a:pt x="163" y="289"/>
                </a:lnTo>
                <a:lnTo>
                  <a:pt x="167" y="288"/>
                </a:lnTo>
                <a:lnTo>
                  <a:pt x="170" y="287"/>
                </a:lnTo>
                <a:lnTo>
                  <a:pt x="174" y="286"/>
                </a:lnTo>
                <a:lnTo>
                  <a:pt x="177" y="285"/>
                </a:lnTo>
                <a:lnTo>
                  <a:pt x="181" y="284"/>
                </a:lnTo>
                <a:lnTo>
                  <a:pt x="184" y="283"/>
                </a:lnTo>
                <a:lnTo>
                  <a:pt x="188" y="281"/>
                </a:lnTo>
                <a:lnTo>
                  <a:pt x="192" y="280"/>
                </a:lnTo>
                <a:lnTo>
                  <a:pt x="194" y="278"/>
                </a:lnTo>
                <a:lnTo>
                  <a:pt x="198" y="276"/>
                </a:lnTo>
                <a:lnTo>
                  <a:pt x="202" y="275"/>
                </a:lnTo>
                <a:lnTo>
                  <a:pt x="204" y="272"/>
                </a:lnTo>
                <a:lnTo>
                  <a:pt x="208" y="270"/>
                </a:lnTo>
                <a:lnTo>
                  <a:pt x="211" y="268"/>
                </a:lnTo>
                <a:lnTo>
                  <a:pt x="215" y="265"/>
                </a:lnTo>
                <a:lnTo>
                  <a:pt x="218" y="263"/>
                </a:lnTo>
                <a:lnTo>
                  <a:pt x="221" y="260"/>
                </a:lnTo>
                <a:lnTo>
                  <a:pt x="225" y="258"/>
                </a:lnTo>
                <a:lnTo>
                  <a:pt x="228" y="255"/>
                </a:lnTo>
                <a:lnTo>
                  <a:pt x="231" y="257"/>
                </a:lnTo>
                <a:lnTo>
                  <a:pt x="235" y="260"/>
                </a:lnTo>
                <a:lnTo>
                  <a:pt x="239" y="261"/>
                </a:lnTo>
                <a:lnTo>
                  <a:pt x="243" y="263"/>
                </a:lnTo>
                <a:lnTo>
                  <a:pt x="246" y="264"/>
                </a:lnTo>
                <a:lnTo>
                  <a:pt x="250" y="265"/>
                </a:lnTo>
                <a:lnTo>
                  <a:pt x="254" y="265"/>
                </a:lnTo>
                <a:lnTo>
                  <a:pt x="258" y="265"/>
                </a:lnTo>
                <a:lnTo>
                  <a:pt x="261" y="265"/>
                </a:lnTo>
                <a:lnTo>
                  <a:pt x="265" y="265"/>
                </a:lnTo>
                <a:lnTo>
                  <a:pt x="269" y="263"/>
                </a:lnTo>
                <a:lnTo>
                  <a:pt x="272" y="262"/>
                </a:lnTo>
                <a:lnTo>
                  <a:pt x="276" y="261"/>
                </a:lnTo>
                <a:lnTo>
                  <a:pt x="280" y="259"/>
                </a:lnTo>
                <a:lnTo>
                  <a:pt x="283" y="256"/>
                </a:lnTo>
                <a:lnTo>
                  <a:pt x="286" y="254"/>
                </a:lnTo>
                <a:lnTo>
                  <a:pt x="289" y="258"/>
                </a:lnTo>
                <a:lnTo>
                  <a:pt x="292" y="262"/>
                </a:lnTo>
                <a:lnTo>
                  <a:pt x="295" y="266"/>
                </a:lnTo>
                <a:lnTo>
                  <a:pt x="298" y="269"/>
                </a:lnTo>
                <a:lnTo>
                  <a:pt x="302" y="272"/>
                </a:lnTo>
                <a:lnTo>
                  <a:pt x="305" y="275"/>
                </a:lnTo>
                <a:lnTo>
                  <a:pt x="309" y="277"/>
                </a:lnTo>
                <a:lnTo>
                  <a:pt x="313" y="279"/>
                </a:lnTo>
                <a:lnTo>
                  <a:pt x="317" y="281"/>
                </a:lnTo>
                <a:lnTo>
                  <a:pt x="321" y="283"/>
                </a:lnTo>
                <a:lnTo>
                  <a:pt x="325" y="284"/>
                </a:lnTo>
                <a:lnTo>
                  <a:pt x="329" y="285"/>
                </a:lnTo>
                <a:lnTo>
                  <a:pt x="334" y="285"/>
                </a:lnTo>
                <a:lnTo>
                  <a:pt x="338" y="286"/>
                </a:lnTo>
                <a:lnTo>
                  <a:pt x="342" y="286"/>
                </a:lnTo>
                <a:lnTo>
                  <a:pt x="346" y="286"/>
                </a:lnTo>
                <a:lnTo>
                  <a:pt x="350" y="286"/>
                </a:lnTo>
                <a:lnTo>
                  <a:pt x="354" y="285"/>
                </a:lnTo>
                <a:lnTo>
                  <a:pt x="358" y="284"/>
                </a:lnTo>
                <a:lnTo>
                  <a:pt x="363" y="283"/>
                </a:lnTo>
                <a:lnTo>
                  <a:pt x="367" y="281"/>
                </a:lnTo>
                <a:lnTo>
                  <a:pt x="370" y="280"/>
                </a:lnTo>
                <a:lnTo>
                  <a:pt x="375" y="278"/>
                </a:lnTo>
                <a:lnTo>
                  <a:pt x="378" y="276"/>
                </a:lnTo>
                <a:lnTo>
                  <a:pt x="381" y="273"/>
                </a:lnTo>
                <a:lnTo>
                  <a:pt x="385" y="271"/>
                </a:lnTo>
                <a:lnTo>
                  <a:pt x="388" y="268"/>
                </a:lnTo>
                <a:lnTo>
                  <a:pt x="391" y="265"/>
                </a:lnTo>
                <a:lnTo>
                  <a:pt x="394" y="261"/>
                </a:lnTo>
                <a:lnTo>
                  <a:pt x="397" y="257"/>
                </a:lnTo>
                <a:lnTo>
                  <a:pt x="399" y="253"/>
                </a:lnTo>
                <a:lnTo>
                  <a:pt x="401" y="249"/>
                </a:lnTo>
                <a:lnTo>
                  <a:pt x="404" y="251"/>
                </a:lnTo>
                <a:lnTo>
                  <a:pt x="407" y="252"/>
                </a:lnTo>
                <a:lnTo>
                  <a:pt x="411" y="253"/>
                </a:lnTo>
                <a:lnTo>
                  <a:pt x="414" y="255"/>
                </a:lnTo>
                <a:lnTo>
                  <a:pt x="417" y="255"/>
                </a:lnTo>
                <a:lnTo>
                  <a:pt x="420" y="255"/>
                </a:lnTo>
                <a:lnTo>
                  <a:pt x="423" y="255"/>
                </a:lnTo>
                <a:lnTo>
                  <a:pt x="426" y="255"/>
                </a:lnTo>
                <a:lnTo>
                  <a:pt x="429" y="255"/>
                </a:lnTo>
                <a:lnTo>
                  <a:pt x="432" y="255"/>
                </a:lnTo>
                <a:lnTo>
                  <a:pt x="435" y="253"/>
                </a:lnTo>
                <a:lnTo>
                  <a:pt x="439" y="252"/>
                </a:lnTo>
                <a:lnTo>
                  <a:pt x="441" y="250"/>
                </a:lnTo>
                <a:lnTo>
                  <a:pt x="444" y="248"/>
                </a:lnTo>
                <a:lnTo>
                  <a:pt x="447" y="246"/>
                </a:lnTo>
                <a:lnTo>
                  <a:pt x="450" y="243"/>
                </a:lnTo>
                <a:lnTo>
                  <a:pt x="453" y="245"/>
                </a:lnTo>
                <a:lnTo>
                  <a:pt x="456" y="248"/>
                </a:lnTo>
                <a:lnTo>
                  <a:pt x="458" y="250"/>
                </a:lnTo>
                <a:lnTo>
                  <a:pt x="461" y="251"/>
                </a:lnTo>
                <a:lnTo>
                  <a:pt x="464" y="253"/>
                </a:lnTo>
                <a:lnTo>
                  <a:pt x="467" y="255"/>
                </a:lnTo>
                <a:lnTo>
                  <a:pt x="470" y="256"/>
                </a:lnTo>
                <a:lnTo>
                  <a:pt x="473" y="258"/>
                </a:lnTo>
                <a:lnTo>
                  <a:pt x="476" y="259"/>
                </a:lnTo>
                <a:lnTo>
                  <a:pt x="480" y="260"/>
                </a:lnTo>
                <a:lnTo>
                  <a:pt x="483" y="261"/>
                </a:lnTo>
                <a:lnTo>
                  <a:pt x="486" y="261"/>
                </a:lnTo>
                <a:lnTo>
                  <a:pt x="490" y="262"/>
                </a:lnTo>
                <a:lnTo>
                  <a:pt x="494" y="262"/>
                </a:lnTo>
                <a:lnTo>
                  <a:pt x="497" y="262"/>
                </a:lnTo>
                <a:lnTo>
                  <a:pt x="502" y="262"/>
                </a:lnTo>
                <a:lnTo>
                  <a:pt x="509" y="260"/>
                </a:lnTo>
                <a:lnTo>
                  <a:pt x="516" y="257"/>
                </a:lnTo>
                <a:lnTo>
                  <a:pt x="523" y="254"/>
                </a:lnTo>
                <a:lnTo>
                  <a:pt x="529" y="250"/>
                </a:lnTo>
                <a:lnTo>
                  <a:pt x="535" y="245"/>
                </a:lnTo>
                <a:lnTo>
                  <a:pt x="541" y="240"/>
                </a:lnTo>
                <a:lnTo>
                  <a:pt x="545" y="233"/>
                </a:lnTo>
                <a:lnTo>
                  <a:pt x="550" y="227"/>
                </a:lnTo>
                <a:lnTo>
                  <a:pt x="553" y="220"/>
                </a:lnTo>
                <a:lnTo>
                  <a:pt x="556" y="213"/>
                </a:lnTo>
                <a:lnTo>
                  <a:pt x="559" y="204"/>
                </a:lnTo>
                <a:lnTo>
                  <a:pt x="561" y="195"/>
                </a:lnTo>
                <a:lnTo>
                  <a:pt x="562" y="186"/>
                </a:lnTo>
                <a:lnTo>
                  <a:pt x="562" y="176"/>
                </a:lnTo>
                <a:lnTo>
                  <a:pt x="562" y="166"/>
                </a:lnTo>
                <a:lnTo>
                  <a:pt x="561" y="155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21080" y="5308560"/>
            <a:ext cx="1393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3357b1"/>
                </a:solidFill>
                <a:latin typeface="Comic Sans MS"/>
              </a:rPr>
              <a:t>Red VPN de Telm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3713040"/>
            <a:ext cx="19051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1960" y="2722680"/>
            <a:ext cx="6858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6049800"/>
            <a:ext cx="3429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cc"/>
                </a:solidFill>
                <a:latin typeface="Comic Sans MS"/>
              </a:rPr>
              <a:t>Estructura de conexión en los nodos de acceso a la dors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cc"/>
                </a:solidFill>
                <a:latin typeface="Comic Sans MS"/>
              </a:rPr>
              <a:t>(Guadalajara, Tijuana, </a:t>
            </a:r>
            <a:r>
              <a:rPr b="0" lang="es-MX" sz="1200" spc="-1" strike="noStrike">
                <a:solidFill>
                  <a:srgbClr val="3357b1"/>
                </a:solidFill>
                <a:latin typeface="Comic Sans MS"/>
              </a:rPr>
              <a:t>México</a:t>
            </a:r>
            <a:r>
              <a:rPr b="0" lang="es-MX" sz="1200" spc="-1" strike="noStrike">
                <a:solidFill>
                  <a:srgbClr val="0033cc"/>
                </a:solidFill>
                <a:latin typeface="Comic Sans MS"/>
              </a:rPr>
              <a:t>, D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073400" y="3484440"/>
            <a:ext cx="270000" cy="463320"/>
            <a:chOff x="4073400" y="3484440"/>
            <a:chExt cx="270000" cy="463320"/>
          </a:xfrm>
        </p:grpSpPr>
        <p:pic>
          <p:nvPicPr>
            <p:cNvPr id="416" name="" descr=""/>
            <p:cNvPicPr/>
            <p:nvPr/>
          </p:nvPicPr>
          <p:blipFill>
            <a:blip r:embed="rId3"/>
            <a:stretch/>
          </p:blipFill>
          <p:spPr>
            <a:xfrm>
              <a:off x="4073400" y="3546000"/>
              <a:ext cx="270000" cy="40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7" name=""/>
            <p:cNvGrpSpPr/>
            <p:nvPr/>
          </p:nvGrpSpPr>
          <p:grpSpPr>
            <a:xfrm>
              <a:off x="4106520" y="3484440"/>
              <a:ext cx="211320" cy="112680"/>
              <a:chOff x="4106520" y="3484440"/>
              <a:chExt cx="211320" cy="112680"/>
            </a:xfrm>
          </p:grpSpPr>
          <p:sp>
            <p:nvSpPr>
              <p:cNvPr id="418" name=""/>
              <p:cNvSpPr/>
              <p:nvPr/>
            </p:nvSpPr>
            <p:spPr>
              <a:xfrm>
                <a:off x="4106880" y="3531600"/>
                <a:ext cx="205920" cy="6552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06520" y="3519720"/>
                <a:ext cx="21096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06520" y="3519720"/>
                <a:ext cx="21096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06880" y="3484440"/>
                <a:ext cx="205920" cy="6552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214520" y="349380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14520" y="349380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38560" y="351972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38560" y="351972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42520" y="3492000"/>
                <a:ext cx="6984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142520" y="3492000"/>
                <a:ext cx="6984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212360" y="352188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212360" y="352188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215960" y="349488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15960" y="349488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40000" y="352008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40000" y="352008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43600" y="349380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43600" y="349380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13080" y="352296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213080" y="352296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17480" y="3517920"/>
                <a:ext cx="360" cy="4896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3321000" y="2411280"/>
            <a:ext cx="270000" cy="463320"/>
            <a:chOff x="3321000" y="2411280"/>
            <a:chExt cx="270000" cy="463320"/>
          </a:xfrm>
        </p:grpSpPr>
        <p:pic>
          <p:nvPicPr>
            <p:cNvPr id="440" name="" descr=""/>
            <p:cNvPicPr/>
            <p:nvPr/>
          </p:nvPicPr>
          <p:blipFill>
            <a:blip r:embed="rId4"/>
            <a:stretch/>
          </p:blipFill>
          <p:spPr>
            <a:xfrm>
              <a:off x="3321000" y="2472840"/>
              <a:ext cx="270000" cy="40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1" name=""/>
            <p:cNvGrpSpPr/>
            <p:nvPr/>
          </p:nvGrpSpPr>
          <p:grpSpPr>
            <a:xfrm>
              <a:off x="3354120" y="2411280"/>
              <a:ext cx="211320" cy="112680"/>
              <a:chOff x="3354120" y="2411280"/>
              <a:chExt cx="211320" cy="112680"/>
            </a:xfrm>
          </p:grpSpPr>
          <p:sp>
            <p:nvSpPr>
              <p:cNvPr id="442" name=""/>
              <p:cNvSpPr/>
              <p:nvPr/>
            </p:nvSpPr>
            <p:spPr>
              <a:xfrm>
                <a:off x="3354480" y="2458440"/>
                <a:ext cx="205920" cy="6552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354120" y="2446560"/>
                <a:ext cx="21096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354120" y="2446560"/>
                <a:ext cx="21096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54480" y="2411280"/>
                <a:ext cx="205920" cy="6552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62120" y="242064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462120" y="242064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386160" y="244656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86160" y="244656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390120" y="2418840"/>
                <a:ext cx="6984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390120" y="2418840"/>
                <a:ext cx="6984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59960" y="244872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59960" y="244872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63560" y="242172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63560" y="242172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387600" y="244692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7600" y="244692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91200" y="242064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91200" y="242064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460680" y="244980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60680" y="244980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65080" y="2444760"/>
                <a:ext cx="360" cy="4896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"/>
          <p:cNvSpPr/>
          <p:nvPr/>
        </p:nvSpPr>
        <p:spPr>
          <a:xfrm rot="3261600">
            <a:off x="5475960" y="3044520"/>
            <a:ext cx="106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ff3300"/>
                </a:solidFill>
                <a:latin typeface="Comic Sans MS"/>
              </a:rPr>
              <a:t>155 Mb/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0600" y="3666960"/>
            <a:ext cx="106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ff3300"/>
                </a:solidFill>
                <a:latin typeface="Comic Sans MS"/>
              </a:rPr>
              <a:t>155 Mb/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334120" y="2401920"/>
            <a:ext cx="269640" cy="463320"/>
            <a:chOff x="5334120" y="2401920"/>
            <a:chExt cx="269640" cy="463320"/>
          </a:xfrm>
        </p:grpSpPr>
        <p:pic>
          <p:nvPicPr>
            <p:cNvPr id="466" name="" descr=""/>
            <p:cNvPicPr/>
            <p:nvPr/>
          </p:nvPicPr>
          <p:blipFill>
            <a:blip r:embed="rId5"/>
            <a:stretch/>
          </p:blipFill>
          <p:spPr>
            <a:xfrm>
              <a:off x="5334120" y="2463480"/>
              <a:ext cx="269640" cy="40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7" name=""/>
            <p:cNvGrpSpPr/>
            <p:nvPr/>
          </p:nvGrpSpPr>
          <p:grpSpPr>
            <a:xfrm>
              <a:off x="5367240" y="2401920"/>
              <a:ext cx="210960" cy="112680"/>
              <a:chOff x="5367240" y="2401920"/>
              <a:chExt cx="210960" cy="112680"/>
            </a:xfrm>
          </p:grpSpPr>
          <p:sp>
            <p:nvSpPr>
              <p:cNvPr id="468" name=""/>
              <p:cNvSpPr/>
              <p:nvPr/>
            </p:nvSpPr>
            <p:spPr>
              <a:xfrm>
                <a:off x="5367600" y="2449080"/>
                <a:ext cx="205560" cy="6552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67240" y="2437200"/>
                <a:ext cx="21060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67240" y="2437200"/>
                <a:ext cx="21060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67600" y="2401920"/>
                <a:ext cx="205560" cy="6552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75240" y="241128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475240" y="241128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98920" y="243720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98920" y="243720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403240" y="2409480"/>
                <a:ext cx="6948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03240" y="2409480"/>
                <a:ext cx="6948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72720" y="243936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72720" y="243936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76320" y="2412360"/>
                <a:ext cx="6876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76320" y="2412360"/>
                <a:ext cx="6876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400720" y="243756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400720" y="243756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04320" y="241128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04320" y="241128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3440" y="244044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73440" y="244044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577840" y="2435400"/>
                <a:ext cx="360" cy="4896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"/>
          <p:cNvSpPr/>
          <p:nvPr/>
        </p:nvSpPr>
        <p:spPr>
          <a:xfrm>
            <a:off x="4724280" y="4322880"/>
            <a:ext cx="152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357b1"/>
                </a:solidFill>
                <a:latin typeface="Comic Sans MS"/>
              </a:rPr>
              <a:t>Nodo Concentrador de VPNs de Telm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09680" y="2895480"/>
            <a:ext cx="106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357b1"/>
                </a:solidFill>
                <a:latin typeface="Comic Sans MS"/>
              </a:rPr>
              <a:t>155Mb/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4419720" y="4398840"/>
            <a:ext cx="326880" cy="3654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7"/>
          <a:stretch/>
        </p:blipFill>
        <p:spPr>
          <a:xfrm>
            <a:off x="5562720" y="6303960"/>
            <a:ext cx="326880" cy="3650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3886200" y="6227640"/>
            <a:ext cx="326880" cy="3654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895480" y="5160960"/>
            <a:ext cx="327240" cy="3650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2057400" y="5160960"/>
            <a:ext cx="326880" cy="3650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438280" y="4551480"/>
            <a:ext cx="327240" cy="3650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5791320" y="241776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3300"/>
                </a:solidFill>
                <a:latin typeface="Comic Sans MS"/>
              </a:rPr>
              <a:t>Monter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8120" y="3865680"/>
            <a:ext cx="9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3300"/>
                </a:solidFill>
                <a:latin typeface="Comic Sans MS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24480" y="3713040"/>
            <a:ext cx="121932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121440" y="3478320"/>
            <a:ext cx="270000" cy="462960"/>
            <a:chOff x="6121440" y="3478320"/>
            <a:chExt cx="270000" cy="462960"/>
          </a:xfrm>
        </p:grpSpPr>
        <p:pic>
          <p:nvPicPr>
            <p:cNvPr id="501" name="" descr=""/>
            <p:cNvPicPr/>
            <p:nvPr/>
          </p:nvPicPr>
          <p:blipFill>
            <a:blip r:embed="rId12"/>
            <a:stretch/>
          </p:blipFill>
          <p:spPr>
            <a:xfrm>
              <a:off x="6121440" y="3539880"/>
              <a:ext cx="270000" cy="40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54560" y="3478320"/>
              <a:ext cx="211320" cy="112680"/>
              <a:chOff x="6154560" y="3478320"/>
              <a:chExt cx="211320" cy="112680"/>
            </a:xfrm>
          </p:grpSpPr>
          <p:sp>
            <p:nvSpPr>
              <p:cNvPr id="503" name=""/>
              <p:cNvSpPr/>
              <p:nvPr/>
            </p:nvSpPr>
            <p:spPr>
              <a:xfrm>
                <a:off x="6154920" y="3525480"/>
                <a:ext cx="205920" cy="65520"/>
              </a:xfrm>
              <a:prstGeom prst="ellipse">
                <a:avLst/>
              </a:prstGeom>
              <a:solidFill>
                <a:srgbClr val="0078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54560" y="3513600"/>
                <a:ext cx="21096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154560" y="3513600"/>
                <a:ext cx="210960" cy="4896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154920" y="3478320"/>
                <a:ext cx="205920" cy="65520"/>
              </a:xfrm>
              <a:prstGeom prst="ellipse">
                <a:avLst/>
              </a:prstGeom>
              <a:solidFill>
                <a:srgbClr val="00b4ff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62560" y="348768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62560" y="348768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34"/>
                    </a:moveTo>
                    <a:lnTo>
                      <a:pt x="30" y="44"/>
                    </a:lnTo>
                    <a:lnTo>
                      <a:pt x="102" y="15"/>
                    </a:lnTo>
                    <a:lnTo>
                      <a:pt x="135" y="25"/>
                    </a:lnTo>
                    <a:lnTo>
                      <a:pt x="117" y="0"/>
                    </a:lnTo>
                    <a:lnTo>
                      <a:pt x="32" y="0"/>
                    </a:lnTo>
                    <a:lnTo>
                      <a:pt x="67" y="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186600" y="351360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186600" y="3513600"/>
                <a:ext cx="69120" cy="2304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29"/>
                    </a:lnTo>
                    <a:lnTo>
                      <a:pt x="0" y="20"/>
                    </a:lnTo>
                    <a:lnTo>
                      <a:pt x="18" y="47"/>
                    </a:lnTo>
                    <a:lnTo>
                      <a:pt x="105" y="47"/>
                    </a:lnTo>
                    <a:lnTo>
                      <a:pt x="68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90560" y="3485880"/>
                <a:ext cx="6984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190560" y="3485880"/>
                <a:ext cx="69840" cy="2268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10"/>
                    </a:moveTo>
                    <a:lnTo>
                      <a:pt x="30" y="0"/>
                    </a:lnTo>
                    <a:lnTo>
                      <a:pt x="102" y="28"/>
                    </a:lnTo>
                    <a:lnTo>
                      <a:pt x="135" y="20"/>
                    </a:lnTo>
                    <a:lnTo>
                      <a:pt x="117" y="45"/>
                    </a:lnTo>
                    <a:lnTo>
                      <a:pt x="32" y="45"/>
                    </a:lnTo>
                    <a:lnTo>
                      <a:pt x="67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60400" y="351576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60400" y="351576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135" y="34"/>
                    </a:moveTo>
                    <a:lnTo>
                      <a:pt x="105" y="44"/>
                    </a:lnTo>
                    <a:lnTo>
                      <a:pt x="35" y="15"/>
                    </a:lnTo>
                    <a:lnTo>
                      <a:pt x="0" y="24"/>
                    </a:lnTo>
                    <a:lnTo>
                      <a:pt x="17" y="0"/>
                    </a:lnTo>
                    <a:lnTo>
                      <a:pt x="105" y="0"/>
                    </a:lnTo>
                    <a:lnTo>
                      <a:pt x="67" y="7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64000" y="348876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264000" y="348876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0" y="35"/>
                    </a:moveTo>
                    <a:lnTo>
                      <a:pt x="30" y="45"/>
                    </a:lnTo>
                    <a:lnTo>
                      <a:pt x="103" y="15"/>
                    </a:lnTo>
                    <a:lnTo>
                      <a:pt x="135" y="25"/>
                    </a:lnTo>
                    <a:lnTo>
                      <a:pt x="118" y="0"/>
                    </a:lnTo>
                    <a:lnTo>
                      <a:pt x="33" y="0"/>
                    </a:lnTo>
                    <a:lnTo>
                      <a:pt x="68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188040" y="351396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188040" y="3513960"/>
                <a:ext cx="69120" cy="23400"/>
              </a:xfrm>
              <a:custGeom>
                <a:avLst/>
                <a:gdLst/>
                <a:ahLst/>
                <a:rect l="l" t="t" r="r" b="b"/>
                <a:pathLst>
                  <a:path w="135" h="47">
                    <a:moveTo>
                      <a:pt x="135" y="10"/>
                    </a:moveTo>
                    <a:lnTo>
                      <a:pt x="105" y="0"/>
                    </a:lnTo>
                    <a:lnTo>
                      <a:pt x="35" y="30"/>
                    </a:lnTo>
                    <a:lnTo>
                      <a:pt x="0" y="20"/>
                    </a:lnTo>
                    <a:lnTo>
                      <a:pt x="17" y="47"/>
                    </a:lnTo>
                    <a:lnTo>
                      <a:pt x="105" y="47"/>
                    </a:lnTo>
                    <a:lnTo>
                      <a:pt x="67" y="37"/>
                    </a:lnTo>
                    <a:lnTo>
                      <a:pt x="13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191640" y="348768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91640" y="3487680"/>
                <a:ext cx="69120" cy="21960"/>
              </a:xfrm>
              <a:custGeom>
                <a:avLst/>
                <a:gdLst/>
                <a:ahLst/>
                <a:rect l="l" t="t" r="r" b="b"/>
                <a:pathLst>
                  <a:path w="135" h="44">
                    <a:moveTo>
                      <a:pt x="0" y="10"/>
                    </a:moveTo>
                    <a:lnTo>
                      <a:pt x="30" y="0"/>
                    </a:lnTo>
                    <a:lnTo>
                      <a:pt x="103" y="27"/>
                    </a:lnTo>
                    <a:lnTo>
                      <a:pt x="135" y="20"/>
                    </a:lnTo>
                    <a:lnTo>
                      <a:pt x="118" y="44"/>
                    </a:lnTo>
                    <a:lnTo>
                      <a:pt x="33" y="44"/>
                    </a:lnTo>
                    <a:lnTo>
                      <a:pt x="68" y="3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261120" y="351684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261120" y="3516840"/>
                <a:ext cx="69480" cy="21960"/>
              </a:xfrm>
              <a:custGeom>
                <a:avLst/>
                <a:gdLst/>
                <a:ahLst/>
                <a:rect l="l" t="t" r="r" b="b"/>
                <a:pathLst>
                  <a:path w="135" h="45">
                    <a:moveTo>
                      <a:pt x="135" y="35"/>
                    </a:moveTo>
                    <a:lnTo>
                      <a:pt x="105" y="45"/>
                    </a:lnTo>
                    <a:lnTo>
                      <a:pt x="35" y="15"/>
                    </a:lnTo>
                    <a:lnTo>
                      <a:pt x="0" y="25"/>
                    </a:lnTo>
                    <a:lnTo>
                      <a:pt x="18" y="0"/>
                    </a:lnTo>
                    <a:lnTo>
                      <a:pt x="105" y="0"/>
                    </a:lnTo>
                    <a:lnTo>
                      <a:pt x="68" y="8"/>
                    </a:lnTo>
                    <a:lnTo>
                      <a:pt x="13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65520" y="3511800"/>
                <a:ext cx="360" cy="4896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24" name="" descr=""/>
          <p:cNvPicPr/>
          <p:nvPr/>
        </p:nvPicPr>
        <p:blipFill>
          <a:blip r:embed="rId13"/>
          <a:stretch/>
        </p:blipFill>
        <p:spPr>
          <a:xfrm>
            <a:off x="7543800" y="3637080"/>
            <a:ext cx="326880" cy="3650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343400" y="4017960"/>
            <a:ext cx="106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357b1"/>
                </a:solidFill>
                <a:latin typeface="Comic Sans MS"/>
              </a:rPr>
              <a:t>155 Mb/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66880" y="4017960"/>
            <a:ext cx="106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357b1"/>
                </a:solidFill>
                <a:latin typeface="Comic Sans MS"/>
              </a:rPr>
              <a:t>34 Mb/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553080" y="3484440"/>
            <a:ext cx="106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ff3300"/>
                </a:solidFill>
                <a:latin typeface="Comic Sans MS"/>
              </a:rPr>
              <a:t>34 Mb/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34320" y="3179880"/>
            <a:ext cx="1371600" cy="1600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226548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3300"/>
                </a:solidFill>
                <a:latin typeface="Comic Sans MS"/>
              </a:rPr>
              <a:t>Estructura de conexión en los nodos de acceso a la dors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3300"/>
                </a:solidFill>
                <a:latin typeface="Comic Sans MS"/>
              </a:rPr>
              <a:t>(Monterrey, México, D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579924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5418000"/>
            <a:ext cx="3049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5342040"/>
            <a:ext cx="152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357b1"/>
                </a:solidFill>
                <a:latin typeface="Comic Sans MS"/>
              </a:rPr>
              <a:t>Infraestructura de Telm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722920"/>
            <a:ext cx="152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ff3300"/>
                </a:solidFill>
                <a:latin typeface="Comic Sans MS"/>
              </a:rPr>
              <a:t>Infraestructura de Avant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502920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15200" y="4952880"/>
            <a:ext cx="152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Comic Sans MS"/>
              </a:rPr>
              <a:t>Infraestructura de CUD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71800" y="3473280"/>
            <a:ext cx="106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3357b1"/>
                </a:solidFill>
                <a:latin typeface="Comic Sans MS"/>
              </a:rPr>
              <a:t>155 Mb/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16002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UCSD CalRen Abi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34120" y="1523880"/>
            <a:ext cx="11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3300"/>
                </a:solidFill>
                <a:latin typeface="Comic Sans MS"/>
              </a:rPr>
              <a:t>Houston vB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6280" y="1600200"/>
            <a:ext cx="167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UACJ, UTEP Abi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1629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000" spc="-1" strike="noStrike">
                <a:solidFill>
                  <a:srgbClr val="333399"/>
                </a:solidFill>
                <a:latin typeface="Comic Sans MS"/>
              </a:rPr>
              <a:t>Opciones de Conexión de una institución Afiliada 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Enlace hacia un nodo de acceso a Internet2 (asociado)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Enlace propio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Fibra óptica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Enlace de radio de banda angosta (E1, 10 Mb/s)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Enlace de radio de banda amplia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Enlace óptico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Enlace punto a punto contratado con Telmex o </a:t>
            </a:r>
            <a:r>
              <a:rPr b="0" lang="es-MX" sz="1900" spc="-1" strike="noStrike" u="sng">
                <a:solidFill>
                  <a:srgbClr val="333399"/>
                </a:solidFill>
                <a:uFillTx/>
                <a:latin typeface="Comic Sans MS"/>
              </a:rPr>
              <a:t>Avantel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E1 enlace local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E1 Larga distancia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Enlace VPN contratado con Telmex o </a:t>
            </a:r>
            <a:r>
              <a:rPr b="0" lang="es-MX" sz="1900" spc="-1" strike="noStrike" u="sng">
                <a:solidFill>
                  <a:srgbClr val="333399"/>
                </a:solidFill>
                <a:uFillTx/>
                <a:latin typeface="Comic Sans MS"/>
              </a:rPr>
              <a:t>Avantel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E1 para dedicado completamente a Internet2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E1 compartido para conectarse a Internet e Internet2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99"/>
                </a:solidFill>
                <a:latin typeface="Comic Sans MS"/>
              </a:rPr>
              <a:t>Instituciones conectadas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603396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55008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" y="1981080"/>
            <a:ext cx="3429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es-ES_tradnl" sz="1800" spc="-1" strike="noStrike">
                <a:solidFill>
                  <a:srgbClr val="333399"/>
                </a:solidFill>
                <a:latin typeface="Comic Sans MS"/>
              </a:rPr>
              <a:t>Asociadas (34 Mb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CIC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I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ITESM M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AN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D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D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INT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ITESM Edo. De 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UAC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Comic Sans MS"/>
              </a:rPr>
              <a:t>CICESE La Paz I+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1981080"/>
            <a:ext cx="29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57b1"/>
                </a:solidFill>
                <a:latin typeface="Comic Sans MS"/>
              </a:rPr>
              <a:t>Afiliadas (2 Mb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66"/>
                </a:solidFill>
                <a:latin typeface="Comic Sans MS"/>
              </a:rPr>
              <a:t>U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UL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INA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I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I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TAM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IT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UAEME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Centro G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Oficinas C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U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57b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57b1"/>
                </a:solidFill>
                <a:latin typeface="Comic Sans MS"/>
              </a:rPr>
              <a:t>ECOS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51460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BU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UV</a:t>
            </a: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U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UAE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UA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CONACY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omic Sans MS"/>
              </a:rPr>
              <a:t>IL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99"/>
                </a:solidFill>
                <a:latin typeface="Comic Sans MS"/>
              </a:rPr>
              <a:t>Instituciones conectadas en el período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603396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05720" y="55008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066680" y="1905120"/>
          <a:ext cx="7574040" cy="4665600"/>
        </p:xfrm>
        <a:graphic>
          <a:graphicData uri="http://schemas.openxmlformats.org/drawingml/2006/table">
            <a:tbl>
              <a:tblPr/>
              <a:tblGrid>
                <a:gridCol w="1295640"/>
                <a:gridCol w="6278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1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FEC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1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5/10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Instalación E3 en BU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1/10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Interconexión Telmex-Avant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7/11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ES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Instalación E3 en 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5/11/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Conexión de la U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pt-BR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1/01/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pt-BR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Instalación E3 en CONAC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pt-BR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1/01/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pt-BR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Instalación E1 I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pt-BR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7/02/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pt-BR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Instalación E3 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8/02/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Instalación E1 en oficinas de CU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8/03/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1422360"/>
                          <a:tab algn="l" pos="2133720"/>
                          <a:tab algn="l" pos="2844720"/>
                          <a:tab algn="l" pos="3556080"/>
                          <a:tab algn="l" pos="4267080"/>
                          <a:tab algn="l" pos="4978440"/>
                          <a:tab algn="l" pos="5689440"/>
                          <a:tab algn="l" pos="6400800"/>
                          <a:tab algn="l" pos="7112160"/>
                          <a:tab algn="l" pos="7823160"/>
                          <a:tab algn="l" pos="8534520"/>
                          <a:tab algn="l" pos="9245520"/>
                          <a:tab algn="l" pos="9956880"/>
                          <a:tab algn="l" pos="10667880"/>
                        </a:tabLst>
                      </a:pPr>
                      <a:r>
                        <a:rPr b="0" lang="es-MX" sz="16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Instalación E1 Ecos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omic Sans MS"/>
              </a:rPr>
              <a:t>Quienes somos?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95680" y="3124080"/>
            <a:ext cx="4572000" cy="38102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333399"/>
                </a:solidFill>
                <a:latin typeface="Comic Sans MS"/>
              </a:rPr>
              <a:t>Objetivos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333399"/>
                </a:solidFill>
                <a:latin typeface="Comic Sans MS"/>
              </a:rPr>
              <a:t>Definir, Recomendar, Vigilar</a:t>
            </a:r>
            <a:endParaRPr b="1" lang="en-US" sz="25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Operación de la red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Estándares de interconexión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Nodos de telecomunicaciones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Utilización de la red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Conectividad al exterior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Seguridad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Crecimiento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600200"/>
            <a:ext cx="7696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333399"/>
                </a:solidFill>
                <a:latin typeface="Comic Sans MS"/>
              </a:rPr>
              <a:t>Mi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Promover y coordinar el desarrollo de redes de telecomunicaciones y cómputo, enfocadas al desarrollo científico y educativo en Méxic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124080"/>
            <a:ext cx="40388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333399"/>
                </a:solidFill>
                <a:latin typeface="Comic Sans MS"/>
              </a:rPr>
              <a:t>Participa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5 asociados académi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P Rodolfo Castañeda CICE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S José Guadalupe H. UAN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2 asociados institu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1 afiliado académic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1 COFET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3400"/>
            </a:br>
            <a:br>
              <a:rPr sz="3400"/>
            </a:br>
            <a:r>
              <a:rPr b="1" lang="es-MX" sz="3400" spc="-1" strike="noStrike">
                <a:solidFill>
                  <a:srgbClr val="333399"/>
                </a:solidFill>
                <a:latin typeface="Comic Sans MS"/>
              </a:rPr>
              <a:t>http://www.cudi.edu.mx</a:t>
            </a:r>
            <a:endParaRPr b="1" lang="en-US" sz="3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1484280" y="609480"/>
            <a:ext cx="598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99"/>
                </a:solidFill>
                <a:latin typeface="Comic Sans MS"/>
              </a:rPr>
              <a:t>Referenci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133720" y="16002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 fontScale="86000"/>
          </a:bodyPr>
          <a:p>
            <a:pPr marL="294840" indent="-29484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3399"/>
                </a:solidFill>
                <a:latin typeface="Comic Sans MS"/>
              </a:rPr>
              <a:t>Enlace CUDI-CalRen-Abilene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lvl="1" marL="639000" indent="-2455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33399"/>
                </a:solidFill>
                <a:latin typeface="Comic Sans MS"/>
              </a:rPr>
              <a:t>Se activó tunel GRE (opción provisional)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639000" indent="-2455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33399"/>
                </a:solidFill>
                <a:latin typeface="Comic Sans MS"/>
              </a:rPr>
              <a:t>Se hicieron pruebas al tunel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639000" indent="-2455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33399"/>
                </a:solidFill>
                <a:latin typeface="Comic Sans MS"/>
              </a:rPr>
              <a:t>Pruebas al router de Tijuana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2" marL="933480" indent="-196560"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Comic Sans MS"/>
              </a:rPr>
              <a:t>Incremento al 40% en el procesamiento.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933480" indent="-196560"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Comic Sans MS"/>
              </a:rPr>
              <a:t>50MB de tráfico promedio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1" marL="639000" indent="-2455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33399"/>
                </a:solidFill>
                <a:latin typeface="Comic Sans MS"/>
              </a:rPr>
              <a:t>Revisión en conjunto (CENIC-UCAID-CUDI) de la conexión definitiva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294840" indent="-29484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3399"/>
                </a:solidFill>
                <a:latin typeface="Comic Sans MS"/>
              </a:rPr>
              <a:t>Workshop de Ruteo 13-14 de marzo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lvl="1" marL="639000" indent="-2455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33399"/>
                </a:solidFill>
                <a:latin typeface="Comic Sans MS"/>
              </a:rPr>
              <a:t>25 asistentes presenciales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639000" indent="-2455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33399"/>
                </a:solidFill>
                <a:latin typeface="Comic Sans MS"/>
              </a:rPr>
              <a:t>3 sitios por VC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marL="294840" indent="-29484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Enlace UACJ-UTEP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lvl="1" marL="639000" indent="-2455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Interferencia en el enlace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639000" indent="-2455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Reubicación de la antena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639000" indent="-2455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Definición enlace por fibra óptica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omic Sans MS"/>
              </a:rPr>
              <a:t>Actividades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omic Sans MS"/>
              </a:rPr>
              <a:t>Actividades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619760" cy="38102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 fontScale="77000"/>
          </a:bodyPr>
          <a:p>
            <a:pPr marL="263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263880" indent="-263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Definición del nuevo esquema de direccionamiento IPv6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263880" indent="-2638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Reunión de Primavera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lvl="1" marL="572040" indent="-219960">
              <a:spcBef>
                <a:spcPts val="524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Conectividad CICESE-Hotel Marina Coral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lvl="2" marL="835920" indent="-175680"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1 enlace óptico de 155 Mbps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lvl="2" marL="835920" indent="-175680"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Comic Sans MS"/>
              </a:rPr>
              <a:t>2 enlaces de radio 802.11b</a:t>
            </a:r>
            <a:endParaRPr b="1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263880" indent="-26388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Oficialización de los grupos de trabajo HDTV y Topología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263880" indent="-26388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Maqueta de Pruebas de VoIP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lvl="1" marL="572040" indent="-219960">
              <a:spcBef>
                <a:spcPts val="524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Pruebas realizadas desde la UNAM con universidades Estadounidenses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263880" indent="-263880"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33399"/>
                </a:solidFill>
                <a:latin typeface="Comic Sans MS"/>
              </a:rPr>
              <a:t>RFC “</a:t>
            </a:r>
            <a:r>
              <a:rPr b="0" lang="es-ES" sz="2100" spc="-1" strike="noStrike">
                <a:solidFill>
                  <a:srgbClr val="333399"/>
                </a:solidFill>
                <a:latin typeface="Comic Sans MS"/>
              </a:rPr>
              <a:t>Políticas generales de uso adecuado de la RedCUDI” , </a:t>
            </a: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http://rfc.cudi.edu.mx/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263880" indent="-263880"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Reemplazo del enrutador en la UACJ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263880" indent="-263880"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Reunión de trabajo con el personal del NOC de Abilene y de CENIC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562720"/>
            <a:ext cx="541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omic Sans MS"/>
              </a:rPr>
              <a:t>Actividades proyecto Avantel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5254560" cy="41130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lvl="1" marL="577800" indent="0">
              <a:spcBef>
                <a:spcPts val="5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266760" indent="-266760">
              <a:spcBef>
                <a:spcPts val="524"/>
              </a:spcBef>
              <a:buSzPct val="122421"/>
              <a:buBlip>
                <a:blip r:embed="rId1"/>
              </a:buBlip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Establecimientos de enlaces E3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266760" indent="0">
              <a:spcBef>
                <a:spcPts val="5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marL="266760" indent="-266760">
              <a:spcBef>
                <a:spcPts val="524"/>
              </a:spcBef>
              <a:buSzPct val="122421"/>
              <a:buBlip>
                <a:blip r:embed="rId2"/>
              </a:buBlip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Revisión conjunta con Avantel de:</a:t>
            </a:r>
            <a:endParaRPr b="1" lang="en-US" sz="2100" spc="-1" strike="noStrike">
              <a:solidFill>
                <a:srgbClr val="333399"/>
              </a:solidFill>
              <a:latin typeface="Comic Sans MS"/>
            </a:endParaRPr>
          </a:p>
          <a:p>
            <a:pPr lvl="1" marL="577800" indent="-2221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Propuesta del crecimiento de la dorsal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577800" indent="-2221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Esquemas de conexión a Asociados (E3)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577800" indent="-2221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Esquemas de conexión a Afiliados (E1)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  <a:p>
            <a:pPr lvl="1" marL="577800" indent="-222120">
              <a:spcBef>
                <a:spcPts val="476"/>
              </a:spcBef>
              <a:buClr>
                <a:srgbClr val="333399"/>
              </a:buClr>
              <a:buFont typeface="Comic Sans MS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Esquemas de conexión VPN</a:t>
            </a:r>
            <a:endParaRPr b="1" lang="en-US" sz="19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omic Sans MS"/>
              </a:rPr>
              <a:t>Participación en congresos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828800"/>
            <a:ext cx="7391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Segundo Congreso Internacional de Telemática CITEL2002, noviemb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333399"/>
              </a:buClr>
              <a:buFont typeface="Comic Sans MS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333399"/>
                </a:solidFill>
                <a:latin typeface="Comic Sans MS"/>
              </a:rPr>
              <a:t>Cursos precongre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333399"/>
              </a:buClr>
              <a:buFont typeface="Comic Sans MS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333399"/>
                </a:solidFill>
                <a:latin typeface="Comic Sans MS"/>
              </a:rPr>
              <a:t>Taller Internet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Comic Sans MS"/>
              </a:rPr>
              <a:t>AMPATH™ Workshop: Fostering Collaborations and Next Generation Infrastructure, enero 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ESCC/Internet2 Techs Workshop, febrero 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Dia CUDI virtual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3399"/>
                </a:solidFill>
                <a:latin typeface="Comic Sans MS"/>
              </a:rPr>
              <a:t>Décimo encuentro Académico Regional de los Colegios de Bachilleres de la Zona Norte</a:t>
            </a: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, marzo 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Conferencia en la UAEM "Delitos Informáticos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Conferencia en la UAM "Seguridad interna"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omic Sans MS"/>
              </a:rPr>
              <a:t>Grupos de Trabajo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863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http://telematica.cicese.mx/internet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2792520"/>
            <a:ext cx="1828800" cy="680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90920" y="38354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Comic Sans MS"/>
              </a:rPr>
              <a:t>http://sun-ipv6.redes.unam.mx/Internet2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45920" y="487836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http:multicast.mty.itesm.mx/cudi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3763800"/>
          <a:ext cx="1914480" cy="6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763800"/>
                    <a:ext cx="1914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4768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ccff"/>
                </a:solidFill>
                <a:latin typeface="Verdana"/>
              </a:rPr>
              <a:t>Multicas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1805040"/>
            <a:ext cx="2209680" cy="677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54920" y="195120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Comic Sans MS"/>
              </a:rPr>
              <a:t>http://www.noc-internet2.unam.mx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5320" y="2292480"/>
            <a:ext cx="75898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5638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Comic Sans MS"/>
              </a:rPr>
              <a:t>http://telecomunicaciones.uat.mx/h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914400" y="5398920"/>
            <a:ext cx="91440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99"/>
                </a:solidFill>
                <a:latin typeface="Comic Sans MS"/>
              </a:rPr>
              <a:t>Grupos de Trabajo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3816360"/>
            <a:ext cx="1219320" cy="557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1371600" cy="609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19652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http://i2.uanl.mx/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65320" y="2139840"/>
            <a:ext cx="7589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0512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3300"/>
                </a:solidFill>
                <a:latin typeface="Arial Black"/>
              </a:rPr>
              <a:t>mp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Seguridad en Internet 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873520"/>
            <a:ext cx="990360" cy="712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39720" y="301464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http://seguridad.internet2.ulsa.mx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15600" y="388620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Comic Sans MS"/>
              </a:rPr>
              <a:t>http://e2e.udg.mx/pagprinc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12360" y="4724280"/>
            <a:ext cx="66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Comic Sans MS"/>
              </a:rPr>
              <a:t>http://www.internet2.unam.mx/cgi-bin/ve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2600" y="607680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Comic Sans MS"/>
              </a:rPr>
              <a:t>HD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066680" y="5257800"/>
            <a:ext cx="914400" cy="606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465640" y="5315040"/>
            <a:ext cx="63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ttp://haro.inaoep.mx/internet2/topologi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Comic Sans MS"/>
              </a:rPr>
              <a:t>Actividades grupos de trabajo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752480"/>
            <a:ext cx="8534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333399"/>
                </a:solidFill>
                <a:latin typeface="Comic Sans MS"/>
              </a:rPr>
              <a:t>Segur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RFCMX "</a:t>
            </a:r>
            <a:r>
              <a:rPr b="0" i="1" lang="es-MX" sz="2100" spc="-1" strike="noStrike">
                <a:solidFill>
                  <a:srgbClr val="333399"/>
                </a:solidFill>
                <a:latin typeface="Comic Sans MS"/>
              </a:rPr>
              <a:t>Políticas generales de uso adecuado de la RedCUDI</a:t>
            </a: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Definición del perfil del oficial de segur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Aceptación de dos papers para ser publicados como parte del contenido del libro "Techno-Legal Aspects of Information Society and New Economy: an Overview", cuyos títulos son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100" spc="-1" strike="noStrike">
                <a:solidFill>
                  <a:srgbClr val="333399"/>
                </a:solidFill>
                <a:latin typeface="Comic Sans MS"/>
              </a:rPr>
              <a:t>The impact of the Computer Legislation in the audit of Information Technology</a:t>
            </a: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100" spc="-1" strike="noStrike">
                <a:solidFill>
                  <a:srgbClr val="333399"/>
                </a:solidFill>
                <a:latin typeface="Comic Sans MS"/>
              </a:rPr>
              <a:t>Las Políticas de Seguridad como apoyo a la falta de Legislación Informática</a:t>
            </a: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333399"/>
                </a:solidFill>
                <a:latin typeface="Comic Sans MS"/>
              </a:rPr>
              <a:t>Auditoría de seguridad a la red interna de la U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2:08:22Z</dcterms:created>
  <dc:creator>Saul Rodriguez V</dc:creator>
  <dc:description/>
  <dc:language>en-US</dc:language>
  <cp:lastModifiedBy>rodolfo</cp:lastModifiedBy>
  <dcterms:modified xsi:type="dcterms:W3CDTF">2003-04-04T16:43:40Z</dcterms:modified>
  <cp:revision>68</cp:revision>
  <dc:subject/>
  <dc:title>PowerPoint Presentation</dc:title>
</cp:coreProperties>
</file>