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5.wmf" ContentType="image/x-wmf"/>
  <Override PartName="/ppt/media/image23.wmf" ContentType="image/x-wmf"/>
  <Override PartName="/ppt/media/image1.png" ContentType="image/png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81F-D1E6-4C3E-AFDD-F954A82B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01F-112A-46E5-B48D-9DE34AA7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3CE-57D4-4623-93EF-BC76DC5A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FA8-010E-4F29-AA7C-4630332E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58D-4702-4E41-BA60-5B9DA0DC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379-D1C6-468A-B526-CB0090E2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AFA-7C43-47FC-AFC1-A912066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969-6C91-4E60-96A3-BEE13960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6E0-6644-4C57-B2B7-CA466CF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C5E-EAF9-491F-B486-5274E98C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8B4-B538-4EB5-B2A4-C99673A1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28C-DD74-4FBE-92DE-D20A7EB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1C65-5056-4040-B54F-18684D94C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3352680" y="1488600"/>
            <a:ext cx="502920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020000" y="152280"/>
            <a:ext cx="1995480" cy="228600"/>
            <a:chOff x="7020000" y="152280"/>
            <a:chExt cx="1995480" cy="228600"/>
          </a:xfrm>
        </p:grpSpPr>
        <p:sp>
          <p:nvSpPr>
            <p:cNvPr id="11" name=""/>
            <p:cNvSpPr/>
            <p:nvPr/>
          </p:nvSpPr>
          <p:spPr>
            <a:xfrm>
              <a:off x="7020000" y="31896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259760" y="31896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40760" y="31896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41996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500960" y="318960"/>
              <a:ext cx="5868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61480" y="15228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40680" y="15228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21680" y="152280"/>
              <a:ext cx="586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00880" y="15228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81880" y="152280"/>
              <a:ext cx="5904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61440" y="15228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540640" y="15228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180200" y="235080"/>
              <a:ext cx="60480" cy="633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340760" y="235080"/>
              <a:ext cx="60120" cy="633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419960" y="235080"/>
              <a:ext cx="60480" cy="633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500960" y="235080"/>
              <a:ext cx="58680" cy="633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259760" y="15228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500960" y="152280"/>
              <a:ext cx="5868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58016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661160" y="318960"/>
              <a:ext cx="5904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740720" y="31896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81992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0092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580160" y="235080"/>
              <a:ext cx="60480" cy="633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661160" y="235080"/>
              <a:ext cx="59040" cy="633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740720" y="235080"/>
              <a:ext cx="60120" cy="633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819920" y="235080"/>
              <a:ext cx="60480" cy="633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900920" y="235080"/>
              <a:ext cx="60480" cy="633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580160" y="15228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661160" y="152280"/>
              <a:ext cx="5904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740720" y="15228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819920" y="15228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00920" y="15228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701200" y="15228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782200" y="15228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80480" y="235080"/>
              <a:ext cx="6012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61480" y="235080"/>
              <a:ext cx="6012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21680" y="235080"/>
              <a:ext cx="5868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00880" y="235080"/>
              <a:ext cx="6048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81880" y="235080"/>
              <a:ext cx="5904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461440" y="235080"/>
              <a:ext cx="6012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540640" y="235080"/>
              <a:ext cx="6048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21640" y="235080"/>
              <a:ext cx="6048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701200" y="235080"/>
              <a:ext cx="6012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82200" y="235080"/>
              <a:ext cx="6012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61400" y="235080"/>
              <a:ext cx="60480" cy="633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80480" y="31896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61480" y="31896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4068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0088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81880" y="318960"/>
              <a:ext cx="5904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61440" y="31896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4064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2164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82200" y="318960"/>
              <a:ext cx="6012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6140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55000" y="318960"/>
              <a:ext cx="60480" cy="6192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0" y="762120"/>
            <a:ext cx="9143640" cy="590040"/>
            <a:chOff x="0" y="762120"/>
            <a:chExt cx="9143640" cy="590040"/>
          </a:xfrm>
        </p:grpSpPr>
        <p:sp>
          <p:nvSpPr>
            <p:cNvPr id="69" name=""/>
            <p:cNvSpPr/>
            <p:nvPr/>
          </p:nvSpPr>
          <p:spPr>
            <a:xfrm>
              <a:off x="0" y="762120"/>
              <a:ext cx="9143640" cy="1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ff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850680"/>
              <a:ext cx="9143640" cy="1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ff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933480"/>
              <a:ext cx="9143640" cy="1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ff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009440"/>
              <a:ext cx="9143640" cy="1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ff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085760"/>
              <a:ext cx="9143640" cy="1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ff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174680"/>
              <a:ext cx="9143640" cy="1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ff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257120"/>
              <a:ext cx="9143640" cy="1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ff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1333440"/>
              <a:ext cx="9143640" cy="1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ff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0" y="6324480"/>
            <a:ext cx="9144000" cy="19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095880"/>
            <a:ext cx="9144000" cy="19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553080"/>
            <a:ext cx="9144000" cy="19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746760"/>
            <a:ext cx="9144000" cy="19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584F-481E-4F01-8240-8C513C9E207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14600" y="6019920"/>
            <a:ext cx="6378480" cy="591840"/>
            <a:chOff x="2514600" y="6019920"/>
            <a:chExt cx="6378480" cy="591840"/>
          </a:xfrm>
        </p:grpSpPr>
        <p:sp>
          <p:nvSpPr>
            <p:cNvPr id="84" name=""/>
            <p:cNvSpPr/>
            <p:nvPr/>
          </p:nvSpPr>
          <p:spPr>
            <a:xfrm>
              <a:off x="3154320" y="6445080"/>
              <a:ext cx="16056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68520" y="6445080"/>
              <a:ext cx="15876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6445080"/>
              <a:ext cx="16056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94040" y="6445080"/>
              <a:ext cx="16056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0860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27760" y="601992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41960" y="601992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54720" y="601992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8920" y="6019920"/>
              <a:ext cx="1587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81680" y="601992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94440" y="601992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09000" y="601992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21400" y="601992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35960" y="6019920"/>
              <a:ext cx="1587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1560" y="623268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68520" y="6232680"/>
              <a:ext cx="1587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81280" y="623268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4040" y="623268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860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54320" y="601992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4040" y="601992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08600" y="601992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21000" y="6445080"/>
              <a:ext cx="160560" cy="160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35560" y="6445080"/>
              <a:ext cx="15876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832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6108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528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21000" y="623268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35560" y="6232680"/>
              <a:ext cx="1587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108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528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21000" y="601992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35560" y="6019920"/>
              <a:ext cx="1587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8320" y="601992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61080" y="601992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5280" y="601992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48720" y="601992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2776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41960" y="623268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4720" y="623268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68920" y="6232680"/>
              <a:ext cx="1587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623268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94440" y="623268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0900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21400" y="6232680"/>
              <a:ext cx="1605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35960" y="6232680"/>
              <a:ext cx="15876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4872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148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7568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2776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41960" y="6445080"/>
              <a:ext cx="16056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54720" y="6445080"/>
              <a:ext cx="160560" cy="16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68920" y="6445080"/>
              <a:ext cx="15876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1680" y="6445080"/>
              <a:ext cx="16056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94440" y="6445080"/>
              <a:ext cx="16056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0900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1400" y="6445080"/>
              <a:ext cx="16056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5960" y="6445080"/>
              <a:ext cx="15876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4872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6148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7568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8804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2240" y="6445080"/>
              <a:ext cx="158760" cy="16056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8804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02240" y="6232680"/>
              <a:ext cx="1587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88040" y="601992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2240" y="6019920"/>
              <a:ext cx="15876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623268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6019920"/>
              <a:ext cx="160200" cy="160200"/>
            </a:xfrm>
            <a:prstGeom prst="rect">
              <a:avLst/>
            </a:prstGeom>
            <a:gradFill rotWithShape="0">
              <a:gsLst>
                <a:gs pos="0">
                  <a:srgbClr val="46465e"/>
                </a:gs>
                <a:gs pos="100000">
                  <a:srgbClr val="99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88440" y="6445080"/>
              <a:ext cx="160200" cy="16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728200" y="6446880"/>
              <a:ext cx="164880" cy="16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85800" y="127080"/>
            <a:ext cx="1371600" cy="13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1.wmf"/><Relationship Id="rId6" Type="http://schemas.openxmlformats.org/officeDocument/2006/relationships/image" Target="../media/image23.wmf"/><Relationship Id="rId7" Type="http://schemas.openxmlformats.org/officeDocument/2006/relationships/image" Target="../media/image21.wmf"/><Relationship Id="rId8" Type="http://schemas.openxmlformats.org/officeDocument/2006/relationships/image" Target="../media/image23.wmf"/><Relationship Id="rId9" Type="http://schemas.openxmlformats.org/officeDocument/2006/relationships/image" Target="../media/image21.wmf"/><Relationship Id="rId10" Type="http://schemas.openxmlformats.org/officeDocument/2006/relationships/image" Target="../media/image23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1.wmf"/><Relationship Id="rId6" Type="http://schemas.openxmlformats.org/officeDocument/2006/relationships/image" Target="../media/image23.wmf"/><Relationship Id="rId7" Type="http://schemas.openxmlformats.org/officeDocument/2006/relationships/image" Target="../media/image21.wmf"/><Relationship Id="rId8" Type="http://schemas.openxmlformats.org/officeDocument/2006/relationships/image" Target="../media/image23.wmf"/><Relationship Id="rId9" Type="http://schemas.openxmlformats.org/officeDocument/2006/relationships/image" Target="../media/image21.wmf"/><Relationship Id="rId10" Type="http://schemas.openxmlformats.org/officeDocument/2006/relationships/image" Target="../media/image23.wmf"/><Relationship Id="rId11" Type="http://schemas.openxmlformats.org/officeDocument/2006/relationships/image" Target="../media/image21.wmf"/><Relationship Id="rId12" Type="http://schemas.openxmlformats.org/officeDocument/2006/relationships/image" Target="../media/image10.wmf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1.wmf"/><Relationship Id="rId6" Type="http://schemas.openxmlformats.org/officeDocument/2006/relationships/image" Target="../media/image23.wmf"/><Relationship Id="rId7" Type="http://schemas.openxmlformats.org/officeDocument/2006/relationships/image" Target="../media/image21.wmf"/><Relationship Id="rId8" Type="http://schemas.openxmlformats.org/officeDocument/2006/relationships/image" Target="../media/image23.wmf"/><Relationship Id="rId9" Type="http://schemas.openxmlformats.org/officeDocument/2006/relationships/image" Target="../media/image21.wmf"/><Relationship Id="rId10" Type="http://schemas.openxmlformats.org/officeDocument/2006/relationships/image" Target="../media/image23.wmf"/><Relationship Id="rId11" Type="http://schemas.openxmlformats.org/officeDocument/2006/relationships/image" Target="../media/image21.wmf"/><Relationship Id="rId12" Type="http://schemas.openxmlformats.org/officeDocument/2006/relationships/image" Target="../media/image11.wmf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18.wmf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1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1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1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2.wmf"/><Relationship Id="rId16" Type="http://schemas.openxmlformats.org/officeDocument/2006/relationships/image" Target="../media/image13.wmf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362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e5"/>
                </a:solidFill>
                <a:latin typeface="Century"/>
              </a:rPr>
              <a:t>Corporación Universitaria para el desarrollo de Internet</a:t>
            </a:r>
            <a:r>
              <a:rPr b="0" lang="en-US" sz="5400" spc="-1" strike="noStrike">
                <a:solidFill>
                  <a:srgbClr val="faffe5"/>
                </a:solidFill>
                <a:latin typeface="Edwardian Script IT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23880" y="45716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entury"/>
              </a:rPr>
              <a:t>Reunión de Primavera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mpus Acto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mpus Tlahuelil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mpus Real del Mo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mpus Tulancin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mpus Tizayu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51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Expansión de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3526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74320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1337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39625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44956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stos de administración y mantenimiento de la tecnología T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fraestructura de los carriers en 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untos de falla en la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2960" y="322416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5040" y="21700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38098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51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Restri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90720" y="2370240"/>
            <a:ext cx="5357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Charlesworth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560" y="25066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30481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560" y="35812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411480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ar nuevas tecnologías que ínter operen con la infraestructura actual de las red de datos y telefónica, para optimizar su aprovech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isfaciendo las necesidades de los usuarios y darle valores agre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r la dependencia de los equipos T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5909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428004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8280" y="55879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Dauphin"/>
              </a:rPr>
              <a:t>Diseño del Proyecto</a:t>
            </a:r>
            <a:r>
              <a:rPr b="0" lang="es-ES_tradnl" sz="6000" spc="-1" strike="noStrike">
                <a:solidFill>
                  <a:srgbClr val="666699"/>
                </a:solidFill>
                <a:latin typeface="Edwardian Script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na red telefonica unifi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pacidad de agregación a otras zonas de voz sobre ip en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 alcance de los usuarios de diferentes campus y facultades, de manera transpa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Que no representara un gasto excesivo para la institu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Objetivos del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000" y="266688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213372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7000" y="363384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7000" y="505296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fe5"/>
                </a:solidFill>
                <a:latin typeface="Times New Roman"/>
              </a:rPr>
              <a:t>Planeación de los nuevos proyectos 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unicación, bajo este nuevo esquema en un plazo med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gración de las nuevas soluciones a la infraestructura ac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luando su desempeño durante un corto plazo por los usuarios re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car la estandarización de estos nuevos proyectos de comun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3962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Que ha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0000" y="4319640"/>
            <a:ext cx="152280" cy="152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0000" y="4997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Vo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00"/>
                </a:solidFill>
                <a:latin typeface="Times New Roman"/>
              </a:rPr>
              <a:t>Voice Over 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pa de enlace de datos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últiples troncales multiplexadas por un numero de puerto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esión RTP para una mejor eficiencia del ancho de b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tegración de la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213372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80988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487692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274320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338560"/>
                <a:gridCol w="2682720"/>
                <a:gridCol w="2751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F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o del Ancho de band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o sin cR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jo con cR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j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oS del rout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BWFQ con LL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P prioridad R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 Latente baj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olamiento(LL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2927520" y="2759040"/>
            <a:ext cx="228600" cy="152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1320" y="3292560"/>
            <a:ext cx="228600" cy="152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27520" y="3886200"/>
            <a:ext cx="228600" cy="152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4343400"/>
            <a:ext cx="228600" cy="152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62720" y="3886200"/>
            <a:ext cx="228600" cy="152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4724280"/>
            <a:ext cx="228600" cy="152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R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00"/>
                </a:solidFill>
                <a:latin typeface="Times New Roman"/>
              </a:rPr>
              <a:t>Real Tim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gración de VozI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77600" y="4096800"/>
            <a:ext cx="5713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dwardian Script ITC"/>
              </a:rPr>
              <a:t>Miguel Ángel Hernández Váz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gel@uaeh.reduaeh.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5410080"/>
            <a:ext cx="4133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ww.reduaeh.mx/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2720" y="1125360"/>
            <a:ext cx="59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Universidad Autónoma del Estado de Hidal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dentificación del tipo de carg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umeración secu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ampado de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onitore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ransporte sobre los puertos impares con R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8280" y="21463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8280" y="274320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8280" y="33274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8280" y="391176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44956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R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00"/>
                </a:solidFill>
                <a:latin typeface="Times New Roman"/>
              </a:rPr>
              <a:t>Real Time Control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vee una regeneración sobre la calidad de la distribución de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ansporta un mínimo de información sesión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istas participantes en una sesión R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mita su propia tarifa de envio (&lt;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ansportado sobre puertos uniformes con el R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21337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8280" y="30607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68280" y="35686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408924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459756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00"/>
                </a:solidFill>
                <a:latin typeface="Times New Roman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ajo estado de latencia en encol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trol de ad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ragmentación de en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560" y="276876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34008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394956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VoF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00"/>
                </a:solidFill>
                <a:latin typeface="Times New Roman"/>
              </a:rPr>
              <a:t>Voice Over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rea varios canales lógicos con un único PV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 encabezado del sub-frame es transparente a la W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 encabezado de sub-frame puede ser visto como una extensión a las direcciones DLCI cabecera F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3840" y="217188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3840" y="323856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428004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ermite empacar varios sub-frames en un frame de 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PE usa el encabezado sub-frame para distinguir entre diferentes conversaciones y/o flujos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1463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323856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24160" y="2438280"/>
            <a:ext cx="5357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eñ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59092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Charlesworth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312408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77760" y="365760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77760" y="419112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39640" y="4365720"/>
            <a:ext cx="7920" cy="5382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22860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cc00"/>
                </a:solidFill>
                <a:latin typeface="Verdana"/>
              </a:rPr>
              <a:t>UA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1524240" cy="1218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581280" y="2362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1071720" cy="533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6705720" y="25909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2057400" y="3962520"/>
            <a:ext cx="1217520" cy="8031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5334120" y="4038480"/>
            <a:ext cx="1217520" cy="803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181480" y="3733920"/>
            <a:ext cx="9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68680" y="3657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327672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5880" y="4876920"/>
            <a:ext cx="0" cy="7617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218960" y="3352680"/>
            <a:ext cx="685800" cy="6098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643000" y="5567040"/>
            <a:ext cx="601920" cy="473760"/>
            <a:chOff x="5643000" y="5567040"/>
            <a:chExt cx="601920" cy="473760"/>
          </a:xfrm>
        </p:grpSpPr>
        <p:sp>
          <p:nvSpPr>
            <p:cNvPr id="400" name=""/>
            <p:cNvSpPr/>
            <p:nvPr/>
          </p:nvSpPr>
          <p:spPr>
            <a:xfrm>
              <a:off x="5643000" y="5943240"/>
              <a:ext cx="404640" cy="9756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5520" y="5946120"/>
              <a:ext cx="399600" cy="9144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3000" y="5623200"/>
              <a:ext cx="601560" cy="319680"/>
            </a:xfrm>
            <a:custGeom>
              <a:avLst/>
              <a:gdLst/>
              <a:ahLst/>
              <a:rect l="l" t="t" r="r" b="b"/>
              <a:pathLst>
                <a:path w="504" h="223">
                  <a:moveTo>
                    <a:pt x="0" y="223"/>
                  </a:moveTo>
                  <a:lnTo>
                    <a:pt x="164" y="0"/>
                  </a:lnTo>
                  <a:lnTo>
                    <a:pt x="504" y="0"/>
                  </a:lnTo>
                  <a:lnTo>
                    <a:pt x="339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43000" y="5623200"/>
              <a:ext cx="601560" cy="319680"/>
            </a:xfrm>
            <a:custGeom>
              <a:avLst/>
              <a:gdLst/>
              <a:ahLst/>
              <a:rect l="l" t="t" r="r" b="b"/>
              <a:pathLst>
                <a:path w="504" h="223">
                  <a:moveTo>
                    <a:pt x="0" y="223"/>
                  </a:moveTo>
                  <a:lnTo>
                    <a:pt x="164" y="0"/>
                  </a:lnTo>
                  <a:lnTo>
                    <a:pt x="504" y="0"/>
                  </a:lnTo>
                  <a:lnTo>
                    <a:pt x="339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9c9b6"/>
            </a:solidFill>
            <a:ln w="64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48000" y="5623200"/>
              <a:ext cx="196920" cy="417600"/>
            </a:xfrm>
            <a:custGeom>
              <a:avLst/>
              <a:gdLst/>
              <a:ahLst/>
              <a:rect l="l" t="t" r="r" b="b"/>
              <a:pathLst>
                <a:path w="165" h="291">
                  <a:moveTo>
                    <a:pt x="0" y="291"/>
                  </a:moveTo>
                  <a:lnTo>
                    <a:pt x="165" y="151"/>
                  </a:lnTo>
                  <a:lnTo>
                    <a:pt x="165" y="0"/>
                  </a:lnTo>
                  <a:lnTo>
                    <a:pt x="0" y="22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48000" y="5623200"/>
              <a:ext cx="196920" cy="417600"/>
            </a:xfrm>
            <a:custGeom>
              <a:avLst/>
              <a:gdLst/>
              <a:ahLst/>
              <a:rect l="l" t="t" r="r" b="b"/>
              <a:pathLst>
                <a:path w="165" h="291">
                  <a:moveTo>
                    <a:pt x="0" y="291"/>
                  </a:moveTo>
                  <a:lnTo>
                    <a:pt x="165" y="151"/>
                  </a:lnTo>
                  <a:lnTo>
                    <a:pt x="165" y="0"/>
                  </a:lnTo>
                  <a:lnTo>
                    <a:pt x="0" y="22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7a7a5a"/>
            </a:solidFill>
            <a:ln w="64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5738760" y="5567040"/>
              <a:ext cx="300240" cy="354240"/>
              <a:chOff x="5738760" y="5567040"/>
              <a:chExt cx="300240" cy="354240"/>
            </a:xfrm>
          </p:grpSpPr>
          <p:sp>
            <p:nvSpPr>
              <p:cNvPr id="407" name=""/>
              <p:cNvSpPr/>
              <p:nvPr/>
            </p:nvSpPr>
            <p:spPr>
              <a:xfrm>
                <a:off x="5738760" y="5567040"/>
                <a:ext cx="292320" cy="285120"/>
              </a:xfrm>
              <a:custGeom>
                <a:avLst/>
                <a:gdLst/>
                <a:ahLst/>
                <a:rect l="l" t="t" r="r" b="b"/>
                <a:pathLst>
                  <a:path w="245" h="199">
                    <a:moveTo>
                      <a:pt x="0" y="199"/>
                    </a:moveTo>
                    <a:lnTo>
                      <a:pt x="39" y="137"/>
                    </a:lnTo>
                    <a:lnTo>
                      <a:pt x="109" y="62"/>
                    </a:lnTo>
                    <a:lnTo>
                      <a:pt x="175" y="0"/>
                    </a:lnTo>
                    <a:lnTo>
                      <a:pt x="245" y="0"/>
                    </a:lnTo>
                    <a:lnTo>
                      <a:pt x="172" y="65"/>
                    </a:lnTo>
                    <a:lnTo>
                      <a:pt x="102" y="143"/>
                    </a:lnTo>
                    <a:lnTo>
                      <a:pt x="67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38760" y="5567040"/>
                <a:ext cx="292320" cy="285120"/>
              </a:xfrm>
              <a:custGeom>
                <a:avLst/>
                <a:gdLst/>
                <a:ahLst/>
                <a:rect l="l" t="t" r="r" b="b"/>
                <a:pathLst>
                  <a:path w="245" h="199">
                    <a:moveTo>
                      <a:pt x="0" y="199"/>
                    </a:moveTo>
                    <a:lnTo>
                      <a:pt x="39" y="137"/>
                    </a:lnTo>
                    <a:lnTo>
                      <a:pt x="109" y="62"/>
                    </a:lnTo>
                    <a:lnTo>
                      <a:pt x="175" y="0"/>
                    </a:lnTo>
                    <a:lnTo>
                      <a:pt x="245" y="0"/>
                    </a:lnTo>
                    <a:lnTo>
                      <a:pt x="172" y="65"/>
                    </a:lnTo>
                    <a:lnTo>
                      <a:pt x="102" y="143"/>
                    </a:lnTo>
                    <a:lnTo>
                      <a:pt x="67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c9c9b6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38760" y="5852160"/>
                <a:ext cx="88200" cy="6876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0" y="0"/>
                    </a:moveTo>
                    <a:lnTo>
                      <a:pt x="0" y="48"/>
                    </a:lnTo>
                    <a:lnTo>
                      <a:pt x="74" y="4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38760" y="5852160"/>
                <a:ext cx="88200" cy="6876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0" y="0"/>
                    </a:moveTo>
                    <a:lnTo>
                      <a:pt x="0" y="48"/>
                    </a:lnTo>
                    <a:lnTo>
                      <a:pt x="74" y="4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9d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18680" y="5567040"/>
                <a:ext cx="220320" cy="354240"/>
              </a:xfrm>
              <a:custGeom>
                <a:avLst/>
                <a:gdLst/>
                <a:ahLst/>
                <a:rect l="l" t="t" r="r" b="b"/>
                <a:pathLst>
                  <a:path w="185" h="247">
                    <a:moveTo>
                      <a:pt x="178" y="0"/>
                    </a:moveTo>
                    <a:lnTo>
                      <a:pt x="185" y="48"/>
                    </a:lnTo>
                    <a:lnTo>
                      <a:pt x="136" y="98"/>
                    </a:lnTo>
                    <a:lnTo>
                      <a:pt x="133" y="83"/>
                    </a:lnTo>
                    <a:lnTo>
                      <a:pt x="66" y="152"/>
                    </a:lnTo>
                    <a:lnTo>
                      <a:pt x="66" y="166"/>
                    </a:lnTo>
                    <a:lnTo>
                      <a:pt x="7" y="247"/>
                    </a:lnTo>
                    <a:lnTo>
                      <a:pt x="0" y="199"/>
                    </a:lnTo>
                    <a:lnTo>
                      <a:pt x="35" y="143"/>
                    </a:lnTo>
                    <a:lnTo>
                      <a:pt x="105" y="6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18680" y="5567040"/>
                <a:ext cx="220320" cy="354240"/>
              </a:xfrm>
              <a:custGeom>
                <a:avLst/>
                <a:gdLst/>
                <a:ahLst/>
                <a:rect l="l" t="t" r="r" b="b"/>
                <a:pathLst>
                  <a:path w="185" h="247">
                    <a:moveTo>
                      <a:pt x="178" y="0"/>
                    </a:moveTo>
                    <a:lnTo>
                      <a:pt x="185" y="48"/>
                    </a:lnTo>
                    <a:lnTo>
                      <a:pt x="136" y="98"/>
                    </a:lnTo>
                    <a:lnTo>
                      <a:pt x="133" y="83"/>
                    </a:lnTo>
                    <a:lnTo>
                      <a:pt x="66" y="152"/>
                    </a:lnTo>
                    <a:lnTo>
                      <a:pt x="66" y="166"/>
                    </a:lnTo>
                    <a:lnTo>
                      <a:pt x="7" y="247"/>
                    </a:lnTo>
                    <a:lnTo>
                      <a:pt x="0" y="199"/>
                    </a:lnTo>
                    <a:lnTo>
                      <a:pt x="35" y="143"/>
                    </a:lnTo>
                    <a:lnTo>
                      <a:pt x="105" y="6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7a7a5a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5889240" y="5767920"/>
              <a:ext cx="208080" cy="144720"/>
              <a:chOff x="5889240" y="5767920"/>
              <a:chExt cx="208080" cy="144720"/>
            </a:xfrm>
          </p:grpSpPr>
          <p:sp>
            <p:nvSpPr>
              <p:cNvPr id="414" name=""/>
              <p:cNvSpPr/>
              <p:nvPr/>
            </p:nvSpPr>
            <p:spPr>
              <a:xfrm>
                <a:off x="5889240" y="5767920"/>
                <a:ext cx="204840" cy="136080"/>
              </a:xfrm>
              <a:custGeom>
                <a:avLst/>
                <a:gdLst/>
                <a:ahLst/>
                <a:rect l="l" t="t" r="r" b="b"/>
                <a:pathLst>
                  <a:path w="172" h="95">
                    <a:moveTo>
                      <a:pt x="0" y="95"/>
                    </a:moveTo>
                    <a:lnTo>
                      <a:pt x="70" y="0"/>
                    </a:lnTo>
                    <a:lnTo>
                      <a:pt x="172" y="0"/>
                    </a:lnTo>
                    <a:lnTo>
                      <a:pt x="102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93560" y="5771880"/>
                <a:ext cx="203760" cy="136080"/>
              </a:xfrm>
              <a:custGeom>
                <a:avLst/>
                <a:gdLst/>
                <a:ahLst/>
                <a:rect l="l" t="t" r="r" b="b"/>
                <a:pathLst>
                  <a:path w="171" h="95">
                    <a:moveTo>
                      <a:pt x="0" y="95"/>
                    </a:moveTo>
                    <a:lnTo>
                      <a:pt x="70" y="0"/>
                    </a:lnTo>
                    <a:lnTo>
                      <a:pt x="171" y="0"/>
                    </a:lnTo>
                    <a:lnTo>
                      <a:pt x="101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7a7a5a"/>
              </a:solidFill>
              <a:ln w="11160">
                <a:solidFill>
                  <a:srgbClr val="eded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5933160" y="5767920"/>
                <a:ext cx="87840" cy="14472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974560" y="5767920"/>
                <a:ext cx="88200" cy="14472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5951880" y="5805000"/>
                <a:ext cx="124920" cy="108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935680" y="5839200"/>
                <a:ext cx="120240" cy="144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5914080" y="5873760"/>
                <a:ext cx="121680" cy="144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5508720" y="23493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1836720" y="2811600"/>
            <a:ext cx="1008000" cy="6919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7"/>
          <a:stretch/>
        </p:blipFill>
        <p:spPr>
          <a:xfrm>
            <a:off x="5291280" y="2743200"/>
            <a:ext cx="863280" cy="760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6012000" y="3500280"/>
            <a:ext cx="7920" cy="5382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69400" y="24210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248520" y="281952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7523280" y="3711600"/>
            <a:ext cx="718920" cy="900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315200" y="3124080"/>
            <a:ext cx="457200" cy="9907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20120" y="4572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c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780000" y="83664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Dauphin"/>
              </a:rPr>
              <a:t>Topología  Tradi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20400000">
            <a:off x="2411280" y="2637000"/>
            <a:ext cx="1008360" cy="71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466400">
            <a:off x="4716000" y="2492280"/>
            <a:ext cx="863640" cy="716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9640" y="148428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N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achu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7080" y="1773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250920" y="4724280"/>
            <a:ext cx="761760" cy="900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4600" y="5584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c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344320" y="5233680"/>
            <a:ext cx="601560" cy="473760"/>
            <a:chOff x="2344320" y="5233680"/>
            <a:chExt cx="601560" cy="473760"/>
          </a:xfrm>
        </p:grpSpPr>
        <p:sp>
          <p:nvSpPr>
            <p:cNvPr id="438" name=""/>
            <p:cNvSpPr/>
            <p:nvPr/>
          </p:nvSpPr>
          <p:spPr>
            <a:xfrm>
              <a:off x="2344320" y="5609880"/>
              <a:ext cx="404280" cy="9756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46840" y="5612760"/>
              <a:ext cx="399600" cy="9144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44320" y="5289840"/>
              <a:ext cx="601200" cy="319680"/>
            </a:xfrm>
            <a:custGeom>
              <a:avLst/>
              <a:gdLst/>
              <a:ahLst/>
              <a:rect l="l" t="t" r="r" b="b"/>
              <a:pathLst>
                <a:path w="504" h="223">
                  <a:moveTo>
                    <a:pt x="0" y="223"/>
                  </a:moveTo>
                  <a:lnTo>
                    <a:pt x="164" y="0"/>
                  </a:lnTo>
                  <a:lnTo>
                    <a:pt x="504" y="0"/>
                  </a:lnTo>
                  <a:lnTo>
                    <a:pt x="339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44320" y="5289840"/>
              <a:ext cx="601200" cy="319680"/>
            </a:xfrm>
            <a:custGeom>
              <a:avLst/>
              <a:gdLst/>
              <a:ahLst/>
              <a:rect l="l" t="t" r="r" b="b"/>
              <a:pathLst>
                <a:path w="504" h="223">
                  <a:moveTo>
                    <a:pt x="0" y="223"/>
                  </a:moveTo>
                  <a:lnTo>
                    <a:pt x="164" y="0"/>
                  </a:lnTo>
                  <a:lnTo>
                    <a:pt x="504" y="0"/>
                  </a:lnTo>
                  <a:lnTo>
                    <a:pt x="339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9c9b6"/>
            </a:solidFill>
            <a:ln w="64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8960" y="5289840"/>
              <a:ext cx="196920" cy="417600"/>
            </a:xfrm>
            <a:custGeom>
              <a:avLst/>
              <a:gdLst/>
              <a:ahLst/>
              <a:rect l="l" t="t" r="r" b="b"/>
              <a:pathLst>
                <a:path w="165" h="291">
                  <a:moveTo>
                    <a:pt x="0" y="291"/>
                  </a:moveTo>
                  <a:lnTo>
                    <a:pt x="165" y="151"/>
                  </a:lnTo>
                  <a:lnTo>
                    <a:pt x="165" y="0"/>
                  </a:lnTo>
                  <a:lnTo>
                    <a:pt x="0" y="22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48960" y="5289840"/>
              <a:ext cx="196920" cy="417600"/>
            </a:xfrm>
            <a:custGeom>
              <a:avLst/>
              <a:gdLst/>
              <a:ahLst/>
              <a:rect l="l" t="t" r="r" b="b"/>
              <a:pathLst>
                <a:path w="165" h="291">
                  <a:moveTo>
                    <a:pt x="0" y="291"/>
                  </a:moveTo>
                  <a:lnTo>
                    <a:pt x="165" y="151"/>
                  </a:lnTo>
                  <a:lnTo>
                    <a:pt x="165" y="0"/>
                  </a:lnTo>
                  <a:lnTo>
                    <a:pt x="0" y="22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7a7a5a"/>
            </a:solidFill>
            <a:ln w="64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2440080" y="5233680"/>
              <a:ext cx="299880" cy="354240"/>
              <a:chOff x="2440080" y="5233680"/>
              <a:chExt cx="299880" cy="354240"/>
            </a:xfrm>
          </p:grpSpPr>
          <p:sp>
            <p:nvSpPr>
              <p:cNvPr id="445" name=""/>
              <p:cNvSpPr/>
              <p:nvPr/>
            </p:nvSpPr>
            <p:spPr>
              <a:xfrm>
                <a:off x="2440080" y="5233680"/>
                <a:ext cx="291960" cy="285120"/>
              </a:xfrm>
              <a:custGeom>
                <a:avLst/>
                <a:gdLst/>
                <a:ahLst/>
                <a:rect l="l" t="t" r="r" b="b"/>
                <a:pathLst>
                  <a:path w="245" h="199">
                    <a:moveTo>
                      <a:pt x="0" y="199"/>
                    </a:moveTo>
                    <a:lnTo>
                      <a:pt x="39" y="137"/>
                    </a:lnTo>
                    <a:lnTo>
                      <a:pt x="109" y="62"/>
                    </a:lnTo>
                    <a:lnTo>
                      <a:pt x="175" y="0"/>
                    </a:lnTo>
                    <a:lnTo>
                      <a:pt x="245" y="0"/>
                    </a:lnTo>
                    <a:lnTo>
                      <a:pt x="172" y="65"/>
                    </a:lnTo>
                    <a:lnTo>
                      <a:pt x="102" y="143"/>
                    </a:lnTo>
                    <a:lnTo>
                      <a:pt x="67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40080" y="5233680"/>
                <a:ext cx="291960" cy="285120"/>
              </a:xfrm>
              <a:custGeom>
                <a:avLst/>
                <a:gdLst/>
                <a:ahLst/>
                <a:rect l="l" t="t" r="r" b="b"/>
                <a:pathLst>
                  <a:path w="245" h="199">
                    <a:moveTo>
                      <a:pt x="0" y="199"/>
                    </a:moveTo>
                    <a:lnTo>
                      <a:pt x="39" y="137"/>
                    </a:lnTo>
                    <a:lnTo>
                      <a:pt x="109" y="62"/>
                    </a:lnTo>
                    <a:lnTo>
                      <a:pt x="175" y="0"/>
                    </a:lnTo>
                    <a:lnTo>
                      <a:pt x="245" y="0"/>
                    </a:lnTo>
                    <a:lnTo>
                      <a:pt x="172" y="65"/>
                    </a:lnTo>
                    <a:lnTo>
                      <a:pt x="102" y="143"/>
                    </a:lnTo>
                    <a:lnTo>
                      <a:pt x="67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c9c9b6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40080" y="5518800"/>
                <a:ext cx="87840" cy="6876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0" y="0"/>
                    </a:moveTo>
                    <a:lnTo>
                      <a:pt x="0" y="48"/>
                    </a:lnTo>
                    <a:lnTo>
                      <a:pt x="74" y="4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440080" y="5518800"/>
                <a:ext cx="87840" cy="6876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0" y="0"/>
                    </a:moveTo>
                    <a:lnTo>
                      <a:pt x="0" y="48"/>
                    </a:lnTo>
                    <a:lnTo>
                      <a:pt x="74" y="4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9d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520000" y="5233680"/>
                <a:ext cx="219960" cy="354240"/>
              </a:xfrm>
              <a:custGeom>
                <a:avLst/>
                <a:gdLst/>
                <a:ahLst/>
                <a:rect l="l" t="t" r="r" b="b"/>
                <a:pathLst>
                  <a:path w="185" h="247">
                    <a:moveTo>
                      <a:pt x="178" y="0"/>
                    </a:moveTo>
                    <a:lnTo>
                      <a:pt x="185" y="48"/>
                    </a:lnTo>
                    <a:lnTo>
                      <a:pt x="136" y="98"/>
                    </a:lnTo>
                    <a:lnTo>
                      <a:pt x="133" y="83"/>
                    </a:lnTo>
                    <a:lnTo>
                      <a:pt x="66" y="152"/>
                    </a:lnTo>
                    <a:lnTo>
                      <a:pt x="66" y="166"/>
                    </a:lnTo>
                    <a:lnTo>
                      <a:pt x="7" y="247"/>
                    </a:lnTo>
                    <a:lnTo>
                      <a:pt x="0" y="199"/>
                    </a:lnTo>
                    <a:lnTo>
                      <a:pt x="35" y="143"/>
                    </a:lnTo>
                    <a:lnTo>
                      <a:pt x="105" y="6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20000" y="5233680"/>
                <a:ext cx="219960" cy="354240"/>
              </a:xfrm>
              <a:custGeom>
                <a:avLst/>
                <a:gdLst/>
                <a:ahLst/>
                <a:rect l="l" t="t" r="r" b="b"/>
                <a:pathLst>
                  <a:path w="185" h="247">
                    <a:moveTo>
                      <a:pt x="178" y="0"/>
                    </a:moveTo>
                    <a:lnTo>
                      <a:pt x="185" y="48"/>
                    </a:lnTo>
                    <a:lnTo>
                      <a:pt x="136" y="98"/>
                    </a:lnTo>
                    <a:lnTo>
                      <a:pt x="133" y="83"/>
                    </a:lnTo>
                    <a:lnTo>
                      <a:pt x="66" y="152"/>
                    </a:lnTo>
                    <a:lnTo>
                      <a:pt x="66" y="166"/>
                    </a:lnTo>
                    <a:lnTo>
                      <a:pt x="7" y="247"/>
                    </a:lnTo>
                    <a:lnTo>
                      <a:pt x="0" y="199"/>
                    </a:lnTo>
                    <a:lnTo>
                      <a:pt x="35" y="143"/>
                    </a:lnTo>
                    <a:lnTo>
                      <a:pt x="105" y="6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7a7a5a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590200" y="5434560"/>
              <a:ext cx="208080" cy="144720"/>
              <a:chOff x="2590200" y="5434560"/>
              <a:chExt cx="208080" cy="144720"/>
            </a:xfrm>
          </p:grpSpPr>
          <p:sp>
            <p:nvSpPr>
              <p:cNvPr id="452" name=""/>
              <p:cNvSpPr/>
              <p:nvPr/>
            </p:nvSpPr>
            <p:spPr>
              <a:xfrm>
                <a:off x="2590200" y="5434560"/>
                <a:ext cx="204840" cy="136080"/>
              </a:xfrm>
              <a:custGeom>
                <a:avLst/>
                <a:gdLst/>
                <a:ahLst/>
                <a:rect l="l" t="t" r="r" b="b"/>
                <a:pathLst>
                  <a:path w="172" h="95">
                    <a:moveTo>
                      <a:pt x="0" y="95"/>
                    </a:moveTo>
                    <a:lnTo>
                      <a:pt x="70" y="0"/>
                    </a:lnTo>
                    <a:lnTo>
                      <a:pt x="172" y="0"/>
                    </a:lnTo>
                    <a:lnTo>
                      <a:pt x="102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594520" y="5438520"/>
                <a:ext cx="203760" cy="136080"/>
              </a:xfrm>
              <a:custGeom>
                <a:avLst/>
                <a:gdLst/>
                <a:ahLst/>
                <a:rect l="l" t="t" r="r" b="b"/>
                <a:pathLst>
                  <a:path w="171" h="95">
                    <a:moveTo>
                      <a:pt x="0" y="95"/>
                    </a:moveTo>
                    <a:lnTo>
                      <a:pt x="70" y="0"/>
                    </a:lnTo>
                    <a:lnTo>
                      <a:pt x="171" y="0"/>
                    </a:lnTo>
                    <a:lnTo>
                      <a:pt x="101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7a7a5a"/>
              </a:solidFill>
              <a:ln w="11160">
                <a:solidFill>
                  <a:srgbClr val="eded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634120" y="5434560"/>
                <a:ext cx="87840" cy="14472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675520" y="5434560"/>
                <a:ext cx="88200" cy="14472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652840" y="5471640"/>
                <a:ext cx="124920" cy="108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2636640" y="5505840"/>
                <a:ext cx="120240" cy="144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2615040" y="5540400"/>
                <a:ext cx="121680" cy="1440"/>
              </a:xfrm>
              <a:prstGeom prst="line">
                <a:avLst/>
              </a:prstGeom>
              <a:ln w="1116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2771640" y="4797360"/>
            <a:ext cx="7920" cy="5382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400" y="2923920"/>
            <a:ext cx="82296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eñ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Charlesworth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0120" y="31240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8960" y="36892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6880" y="42670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6880" y="48610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80880" y="1143000"/>
            <a:ext cx="7969320" cy="5181480"/>
            <a:chOff x="380880" y="1143000"/>
            <a:chExt cx="7969320" cy="518148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3583080" y="121932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963960" y="14479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ed con Q of 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1449360" y="1981080"/>
              <a:ext cx="10717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6478560" y="1828800"/>
              <a:ext cx="1071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6629400" y="114300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Vo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47920" y="1219320"/>
              <a:ext cx="110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Nodo  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4"/>
            <a:stretch/>
          </p:blipFill>
          <p:spPr>
            <a:xfrm>
              <a:off x="382680" y="3657600"/>
              <a:ext cx="10382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5"/>
            <a:stretch/>
          </p:blipFill>
          <p:spPr>
            <a:xfrm>
              <a:off x="5259240" y="3657600"/>
              <a:ext cx="10382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6"/>
            <a:stretch/>
          </p:blipFill>
          <p:spPr>
            <a:xfrm>
              <a:off x="1754280" y="2819520"/>
              <a:ext cx="121752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7"/>
            <a:stretch/>
          </p:blipFill>
          <p:spPr>
            <a:xfrm>
              <a:off x="7012080" y="2971800"/>
              <a:ext cx="12175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335560" y="3276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s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4480" y="3276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s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88040" y="3809880"/>
              <a:ext cx="91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PB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365560" y="36572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PB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16040" y="25146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X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2960" y="2438280"/>
              <a:ext cx="8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E&amp;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16040" y="2057400"/>
              <a:ext cx="12193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35560" y="2057400"/>
              <a:ext cx="1143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068480" y="2438280"/>
              <a:ext cx="457200" cy="121932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87440" y="2514600"/>
              <a:ext cx="0" cy="30492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87440" y="3657600"/>
              <a:ext cx="0" cy="68580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869080" y="2362320"/>
              <a:ext cx="838080" cy="129528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40680" y="2362320"/>
              <a:ext cx="0" cy="60948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4680" y="3809880"/>
              <a:ext cx="0" cy="45720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" descr=""/>
            <p:cNvPicPr/>
            <p:nvPr/>
          </p:nvPicPr>
          <p:blipFill>
            <a:blip r:embed="rId8"/>
            <a:stretch/>
          </p:blipFill>
          <p:spPr>
            <a:xfrm>
              <a:off x="380880" y="5257800"/>
              <a:ext cx="1067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523880" y="5257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Verdana"/>
                </a:rPr>
                <a:t>Pc´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6680" y="4572000"/>
              <a:ext cx="0" cy="68580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" descr=""/>
            <p:cNvPicPr/>
            <p:nvPr/>
          </p:nvPicPr>
          <p:blipFill>
            <a:blip r:embed="rId9"/>
            <a:stretch/>
          </p:blipFill>
          <p:spPr>
            <a:xfrm>
              <a:off x="5105520" y="5181480"/>
              <a:ext cx="10666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5638680" y="4572000"/>
              <a:ext cx="0" cy="60948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7120" y="5180760"/>
              <a:ext cx="70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Verdana"/>
                </a:rPr>
                <a:t>Pc´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1989000" y="4272120"/>
              <a:ext cx="800280" cy="523800"/>
              <a:chOff x="1989000" y="4272120"/>
              <a:chExt cx="800280" cy="523800"/>
            </a:xfrm>
          </p:grpSpPr>
          <p:sp>
            <p:nvSpPr>
              <p:cNvPr id="492" name=""/>
              <p:cNvSpPr/>
              <p:nvPr/>
            </p:nvSpPr>
            <p:spPr>
              <a:xfrm>
                <a:off x="1989000" y="4687920"/>
                <a:ext cx="538200" cy="108000"/>
              </a:xfrm>
              <a:prstGeom prst="rect">
                <a:avLst/>
              </a:pr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92240" y="4691160"/>
                <a:ext cx="531720" cy="101520"/>
              </a:xfrm>
              <a:prstGeom prst="rect">
                <a:avLst/>
              </a:prstGeom>
              <a:solidFill>
                <a:srgbClr val="b7b79d"/>
              </a:solidFill>
              <a:ln w="648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89000" y="4334040"/>
                <a:ext cx="800280" cy="353880"/>
              </a:xfrm>
              <a:custGeom>
                <a:avLst/>
                <a:gdLst/>
                <a:ahLst/>
                <a:rect l="l" t="t" r="r" b="b"/>
                <a:pathLst>
                  <a:path w="504" h="223">
                    <a:moveTo>
                      <a:pt x="0" y="223"/>
                    </a:moveTo>
                    <a:lnTo>
                      <a:pt x="164" y="0"/>
                    </a:lnTo>
                    <a:lnTo>
                      <a:pt x="504" y="0"/>
                    </a:lnTo>
                    <a:lnTo>
                      <a:pt x="339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89000" y="4334040"/>
                <a:ext cx="800280" cy="353880"/>
              </a:xfrm>
              <a:custGeom>
                <a:avLst/>
                <a:gdLst/>
                <a:ahLst/>
                <a:rect l="l" t="t" r="r" b="b"/>
                <a:pathLst>
                  <a:path w="504" h="223">
                    <a:moveTo>
                      <a:pt x="0" y="223"/>
                    </a:moveTo>
                    <a:lnTo>
                      <a:pt x="164" y="0"/>
                    </a:lnTo>
                    <a:lnTo>
                      <a:pt x="504" y="0"/>
                    </a:lnTo>
                    <a:lnTo>
                      <a:pt x="339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c9c9b6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27200" y="4334040"/>
                <a:ext cx="262080" cy="461880"/>
              </a:xfrm>
              <a:custGeom>
                <a:avLst/>
                <a:gdLst/>
                <a:ahLst/>
                <a:rect l="l" t="t" r="r" b="b"/>
                <a:pathLst>
                  <a:path w="165" h="291">
                    <a:moveTo>
                      <a:pt x="0" y="291"/>
                    </a:moveTo>
                    <a:lnTo>
                      <a:pt x="165" y="151"/>
                    </a:lnTo>
                    <a:lnTo>
                      <a:pt x="165" y="0"/>
                    </a:lnTo>
                    <a:lnTo>
                      <a:pt x="0" y="223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527200" y="4334040"/>
                <a:ext cx="262080" cy="461880"/>
              </a:xfrm>
              <a:custGeom>
                <a:avLst/>
                <a:gdLst/>
                <a:ahLst/>
                <a:rect l="l" t="t" r="r" b="b"/>
                <a:pathLst>
                  <a:path w="165" h="291">
                    <a:moveTo>
                      <a:pt x="0" y="291"/>
                    </a:moveTo>
                    <a:lnTo>
                      <a:pt x="165" y="151"/>
                    </a:lnTo>
                    <a:lnTo>
                      <a:pt x="165" y="0"/>
                    </a:lnTo>
                    <a:lnTo>
                      <a:pt x="0" y="223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7a7a5a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2116080" y="4272120"/>
                <a:ext cx="399960" cy="392040"/>
                <a:chOff x="2116080" y="4272120"/>
                <a:chExt cx="399960" cy="3920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2116080" y="4272120"/>
                  <a:ext cx="389160" cy="315720"/>
                </a:xfrm>
                <a:custGeom>
                  <a:avLst/>
                  <a:gdLst/>
                  <a:ahLst/>
                  <a:rect l="l" t="t" r="r" b="b"/>
                  <a:pathLst>
                    <a:path w="245" h="199">
                      <a:moveTo>
                        <a:pt x="0" y="199"/>
                      </a:moveTo>
                      <a:lnTo>
                        <a:pt x="39" y="137"/>
                      </a:lnTo>
                      <a:lnTo>
                        <a:pt x="109" y="62"/>
                      </a:lnTo>
                      <a:lnTo>
                        <a:pt x="175" y="0"/>
                      </a:lnTo>
                      <a:lnTo>
                        <a:pt x="245" y="0"/>
                      </a:lnTo>
                      <a:lnTo>
                        <a:pt x="172" y="65"/>
                      </a:lnTo>
                      <a:lnTo>
                        <a:pt x="102" y="143"/>
                      </a:lnTo>
                      <a:lnTo>
                        <a:pt x="67" y="19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116080" y="4272120"/>
                  <a:ext cx="389160" cy="315720"/>
                </a:xfrm>
                <a:custGeom>
                  <a:avLst/>
                  <a:gdLst/>
                  <a:ahLst/>
                  <a:rect l="l" t="t" r="r" b="b"/>
                  <a:pathLst>
                    <a:path w="245" h="199">
                      <a:moveTo>
                        <a:pt x="0" y="199"/>
                      </a:moveTo>
                      <a:lnTo>
                        <a:pt x="39" y="137"/>
                      </a:lnTo>
                      <a:lnTo>
                        <a:pt x="109" y="62"/>
                      </a:lnTo>
                      <a:lnTo>
                        <a:pt x="175" y="0"/>
                      </a:lnTo>
                      <a:lnTo>
                        <a:pt x="245" y="0"/>
                      </a:lnTo>
                      <a:lnTo>
                        <a:pt x="172" y="65"/>
                      </a:lnTo>
                      <a:lnTo>
                        <a:pt x="102" y="143"/>
                      </a:lnTo>
                      <a:lnTo>
                        <a:pt x="67" y="19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116080" y="4587840"/>
                  <a:ext cx="117360" cy="7632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74" y="48"/>
                      </a:lnTo>
                      <a:lnTo>
                        <a:pt x="6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116080" y="4587840"/>
                  <a:ext cx="117360" cy="7632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74" y="48"/>
                      </a:lnTo>
                      <a:lnTo>
                        <a:pt x="6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222640" y="4272120"/>
                  <a:ext cx="293400" cy="392040"/>
                </a:xfrm>
                <a:custGeom>
                  <a:avLst/>
                  <a:gdLst/>
                  <a:ahLst/>
                  <a:rect l="l" t="t" r="r" b="b"/>
                  <a:pathLst>
                    <a:path w="185" h="247">
                      <a:moveTo>
                        <a:pt x="178" y="0"/>
                      </a:moveTo>
                      <a:lnTo>
                        <a:pt x="185" y="48"/>
                      </a:lnTo>
                      <a:lnTo>
                        <a:pt x="136" y="98"/>
                      </a:lnTo>
                      <a:lnTo>
                        <a:pt x="133" y="83"/>
                      </a:lnTo>
                      <a:lnTo>
                        <a:pt x="66" y="152"/>
                      </a:lnTo>
                      <a:lnTo>
                        <a:pt x="66" y="166"/>
                      </a:lnTo>
                      <a:lnTo>
                        <a:pt x="7" y="247"/>
                      </a:lnTo>
                      <a:lnTo>
                        <a:pt x="0" y="199"/>
                      </a:lnTo>
                      <a:lnTo>
                        <a:pt x="35" y="143"/>
                      </a:lnTo>
                      <a:lnTo>
                        <a:pt x="105" y="65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222640" y="4272120"/>
                  <a:ext cx="293400" cy="392040"/>
                </a:xfrm>
                <a:custGeom>
                  <a:avLst/>
                  <a:gdLst/>
                  <a:ahLst/>
                  <a:rect l="l" t="t" r="r" b="b"/>
                  <a:pathLst>
                    <a:path w="185" h="247">
                      <a:moveTo>
                        <a:pt x="178" y="0"/>
                      </a:moveTo>
                      <a:lnTo>
                        <a:pt x="185" y="48"/>
                      </a:lnTo>
                      <a:lnTo>
                        <a:pt x="136" y="98"/>
                      </a:lnTo>
                      <a:lnTo>
                        <a:pt x="133" y="83"/>
                      </a:lnTo>
                      <a:lnTo>
                        <a:pt x="66" y="152"/>
                      </a:lnTo>
                      <a:lnTo>
                        <a:pt x="66" y="166"/>
                      </a:lnTo>
                      <a:lnTo>
                        <a:pt x="7" y="247"/>
                      </a:lnTo>
                      <a:lnTo>
                        <a:pt x="0" y="199"/>
                      </a:lnTo>
                      <a:lnTo>
                        <a:pt x="35" y="143"/>
                      </a:lnTo>
                      <a:lnTo>
                        <a:pt x="105" y="65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2316240" y="4494240"/>
                <a:ext cx="277560" cy="160200"/>
                <a:chOff x="2316240" y="4494240"/>
                <a:chExt cx="277560" cy="1602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316240" y="4494240"/>
                  <a:ext cx="272880" cy="150840"/>
                </a:xfrm>
                <a:custGeom>
                  <a:avLst/>
                  <a:gdLst/>
                  <a:ahLst/>
                  <a:rect l="l" t="t" r="r" b="b"/>
                  <a:pathLst>
                    <a:path w="172" h="95">
                      <a:moveTo>
                        <a:pt x="0" y="95"/>
                      </a:moveTo>
                      <a:lnTo>
                        <a:pt x="70" y="0"/>
                      </a:lnTo>
                      <a:lnTo>
                        <a:pt x="172" y="0"/>
                      </a:lnTo>
                      <a:lnTo>
                        <a:pt x="102" y="9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322360" y="4498920"/>
                  <a:ext cx="271440" cy="150840"/>
                </a:xfrm>
                <a:custGeom>
                  <a:avLst/>
                  <a:gdLst/>
                  <a:ahLst/>
                  <a:rect l="l" t="t" r="r" b="b"/>
                  <a:pathLst>
                    <a:path w="171" h="95">
                      <a:moveTo>
                        <a:pt x="0" y="95"/>
                      </a:moveTo>
                      <a:lnTo>
                        <a:pt x="70" y="0"/>
                      </a:lnTo>
                      <a:lnTo>
                        <a:pt x="171" y="0"/>
                      </a:lnTo>
                      <a:lnTo>
                        <a:pt x="101" y="9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11160">
                  <a:solidFill>
                    <a:srgbClr val="eded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2374920" y="4494240"/>
                  <a:ext cx="117360" cy="16020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2430000" y="4494240"/>
                  <a:ext cx="117720" cy="16020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2400120" y="4535640"/>
                  <a:ext cx="166680" cy="144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2377800" y="4573440"/>
                  <a:ext cx="160200" cy="180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2349360" y="4611600"/>
                  <a:ext cx="162000" cy="180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"/>
            <p:cNvGrpSpPr/>
            <p:nvPr/>
          </p:nvGrpSpPr>
          <p:grpSpPr>
            <a:xfrm>
              <a:off x="7549920" y="4272120"/>
              <a:ext cx="800280" cy="523800"/>
              <a:chOff x="7549920" y="4272120"/>
              <a:chExt cx="800280" cy="523800"/>
            </a:xfrm>
          </p:grpSpPr>
          <p:sp>
            <p:nvSpPr>
              <p:cNvPr id="514" name=""/>
              <p:cNvSpPr/>
              <p:nvPr/>
            </p:nvSpPr>
            <p:spPr>
              <a:xfrm>
                <a:off x="7549920" y="4687920"/>
                <a:ext cx="538200" cy="108000"/>
              </a:xfrm>
              <a:prstGeom prst="rect">
                <a:avLst/>
              </a:pr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553160" y="4691160"/>
                <a:ext cx="531720" cy="101520"/>
              </a:xfrm>
              <a:prstGeom prst="rect">
                <a:avLst/>
              </a:prstGeom>
              <a:solidFill>
                <a:srgbClr val="b7b79d"/>
              </a:solidFill>
              <a:ln w="648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49920" y="4334040"/>
                <a:ext cx="800280" cy="353880"/>
              </a:xfrm>
              <a:custGeom>
                <a:avLst/>
                <a:gdLst/>
                <a:ahLst/>
                <a:rect l="l" t="t" r="r" b="b"/>
                <a:pathLst>
                  <a:path w="504" h="223">
                    <a:moveTo>
                      <a:pt x="0" y="223"/>
                    </a:moveTo>
                    <a:lnTo>
                      <a:pt x="164" y="0"/>
                    </a:lnTo>
                    <a:lnTo>
                      <a:pt x="504" y="0"/>
                    </a:lnTo>
                    <a:lnTo>
                      <a:pt x="339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549920" y="4334040"/>
                <a:ext cx="800280" cy="353880"/>
              </a:xfrm>
              <a:custGeom>
                <a:avLst/>
                <a:gdLst/>
                <a:ahLst/>
                <a:rect l="l" t="t" r="r" b="b"/>
                <a:pathLst>
                  <a:path w="504" h="223">
                    <a:moveTo>
                      <a:pt x="0" y="223"/>
                    </a:moveTo>
                    <a:lnTo>
                      <a:pt x="164" y="0"/>
                    </a:lnTo>
                    <a:lnTo>
                      <a:pt x="504" y="0"/>
                    </a:lnTo>
                    <a:lnTo>
                      <a:pt x="339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c9c9b6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088120" y="4334040"/>
                <a:ext cx="262080" cy="461880"/>
              </a:xfrm>
              <a:custGeom>
                <a:avLst/>
                <a:gdLst/>
                <a:ahLst/>
                <a:rect l="l" t="t" r="r" b="b"/>
                <a:pathLst>
                  <a:path w="165" h="291">
                    <a:moveTo>
                      <a:pt x="0" y="291"/>
                    </a:moveTo>
                    <a:lnTo>
                      <a:pt x="165" y="151"/>
                    </a:lnTo>
                    <a:lnTo>
                      <a:pt x="165" y="0"/>
                    </a:lnTo>
                    <a:lnTo>
                      <a:pt x="0" y="223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088120" y="4334040"/>
                <a:ext cx="262080" cy="461880"/>
              </a:xfrm>
              <a:custGeom>
                <a:avLst/>
                <a:gdLst/>
                <a:ahLst/>
                <a:rect l="l" t="t" r="r" b="b"/>
                <a:pathLst>
                  <a:path w="165" h="291">
                    <a:moveTo>
                      <a:pt x="0" y="291"/>
                    </a:moveTo>
                    <a:lnTo>
                      <a:pt x="165" y="151"/>
                    </a:lnTo>
                    <a:lnTo>
                      <a:pt x="165" y="0"/>
                    </a:lnTo>
                    <a:lnTo>
                      <a:pt x="0" y="223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7a7a5a"/>
              </a:solidFill>
              <a:ln w="64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7677000" y="4272120"/>
                <a:ext cx="399960" cy="392040"/>
                <a:chOff x="7677000" y="4272120"/>
                <a:chExt cx="399960" cy="3920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677000" y="4272120"/>
                  <a:ext cx="389160" cy="315720"/>
                </a:xfrm>
                <a:custGeom>
                  <a:avLst/>
                  <a:gdLst/>
                  <a:ahLst/>
                  <a:rect l="l" t="t" r="r" b="b"/>
                  <a:pathLst>
                    <a:path w="245" h="199">
                      <a:moveTo>
                        <a:pt x="0" y="199"/>
                      </a:moveTo>
                      <a:lnTo>
                        <a:pt x="39" y="137"/>
                      </a:lnTo>
                      <a:lnTo>
                        <a:pt x="109" y="62"/>
                      </a:lnTo>
                      <a:lnTo>
                        <a:pt x="175" y="0"/>
                      </a:lnTo>
                      <a:lnTo>
                        <a:pt x="245" y="0"/>
                      </a:lnTo>
                      <a:lnTo>
                        <a:pt x="172" y="65"/>
                      </a:lnTo>
                      <a:lnTo>
                        <a:pt x="102" y="143"/>
                      </a:lnTo>
                      <a:lnTo>
                        <a:pt x="67" y="19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677000" y="4272120"/>
                  <a:ext cx="389160" cy="315720"/>
                </a:xfrm>
                <a:custGeom>
                  <a:avLst/>
                  <a:gdLst/>
                  <a:ahLst/>
                  <a:rect l="l" t="t" r="r" b="b"/>
                  <a:pathLst>
                    <a:path w="245" h="199">
                      <a:moveTo>
                        <a:pt x="0" y="199"/>
                      </a:moveTo>
                      <a:lnTo>
                        <a:pt x="39" y="137"/>
                      </a:lnTo>
                      <a:lnTo>
                        <a:pt x="109" y="62"/>
                      </a:lnTo>
                      <a:lnTo>
                        <a:pt x="175" y="0"/>
                      </a:lnTo>
                      <a:lnTo>
                        <a:pt x="245" y="0"/>
                      </a:lnTo>
                      <a:lnTo>
                        <a:pt x="172" y="65"/>
                      </a:lnTo>
                      <a:lnTo>
                        <a:pt x="102" y="143"/>
                      </a:lnTo>
                      <a:lnTo>
                        <a:pt x="67" y="19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677000" y="4587840"/>
                  <a:ext cx="117360" cy="7632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74" y="48"/>
                      </a:lnTo>
                      <a:lnTo>
                        <a:pt x="6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677000" y="4587840"/>
                  <a:ext cx="117360" cy="7632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74" y="48"/>
                      </a:lnTo>
                      <a:lnTo>
                        <a:pt x="6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783560" y="4272120"/>
                  <a:ext cx="293400" cy="392040"/>
                </a:xfrm>
                <a:custGeom>
                  <a:avLst/>
                  <a:gdLst/>
                  <a:ahLst/>
                  <a:rect l="l" t="t" r="r" b="b"/>
                  <a:pathLst>
                    <a:path w="185" h="247">
                      <a:moveTo>
                        <a:pt x="178" y="0"/>
                      </a:moveTo>
                      <a:lnTo>
                        <a:pt x="185" y="48"/>
                      </a:lnTo>
                      <a:lnTo>
                        <a:pt x="136" y="98"/>
                      </a:lnTo>
                      <a:lnTo>
                        <a:pt x="133" y="83"/>
                      </a:lnTo>
                      <a:lnTo>
                        <a:pt x="66" y="152"/>
                      </a:lnTo>
                      <a:lnTo>
                        <a:pt x="66" y="166"/>
                      </a:lnTo>
                      <a:lnTo>
                        <a:pt x="7" y="247"/>
                      </a:lnTo>
                      <a:lnTo>
                        <a:pt x="0" y="199"/>
                      </a:lnTo>
                      <a:lnTo>
                        <a:pt x="35" y="143"/>
                      </a:lnTo>
                      <a:lnTo>
                        <a:pt x="105" y="65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783560" y="4272120"/>
                  <a:ext cx="293400" cy="392040"/>
                </a:xfrm>
                <a:custGeom>
                  <a:avLst/>
                  <a:gdLst/>
                  <a:ahLst/>
                  <a:rect l="l" t="t" r="r" b="b"/>
                  <a:pathLst>
                    <a:path w="185" h="247">
                      <a:moveTo>
                        <a:pt x="178" y="0"/>
                      </a:moveTo>
                      <a:lnTo>
                        <a:pt x="185" y="48"/>
                      </a:lnTo>
                      <a:lnTo>
                        <a:pt x="136" y="98"/>
                      </a:lnTo>
                      <a:lnTo>
                        <a:pt x="133" y="83"/>
                      </a:lnTo>
                      <a:lnTo>
                        <a:pt x="66" y="152"/>
                      </a:lnTo>
                      <a:lnTo>
                        <a:pt x="66" y="166"/>
                      </a:lnTo>
                      <a:lnTo>
                        <a:pt x="7" y="247"/>
                      </a:lnTo>
                      <a:lnTo>
                        <a:pt x="0" y="199"/>
                      </a:lnTo>
                      <a:lnTo>
                        <a:pt x="35" y="143"/>
                      </a:lnTo>
                      <a:lnTo>
                        <a:pt x="105" y="65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877160" y="4494240"/>
                <a:ext cx="277560" cy="160200"/>
                <a:chOff x="7877160" y="4494240"/>
                <a:chExt cx="277560" cy="1602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877160" y="4494240"/>
                  <a:ext cx="272880" cy="150840"/>
                </a:xfrm>
                <a:custGeom>
                  <a:avLst/>
                  <a:gdLst/>
                  <a:ahLst/>
                  <a:rect l="l" t="t" r="r" b="b"/>
                  <a:pathLst>
                    <a:path w="172" h="95">
                      <a:moveTo>
                        <a:pt x="0" y="95"/>
                      </a:moveTo>
                      <a:lnTo>
                        <a:pt x="70" y="0"/>
                      </a:lnTo>
                      <a:lnTo>
                        <a:pt x="172" y="0"/>
                      </a:lnTo>
                      <a:lnTo>
                        <a:pt x="102" y="9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883280" y="4498920"/>
                  <a:ext cx="271440" cy="150840"/>
                </a:xfrm>
                <a:custGeom>
                  <a:avLst/>
                  <a:gdLst/>
                  <a:ahLst/>
                  <a:rect l="l" t="t" r="r" b="b"/>
                  <a:pathLst>
                    <a:path w="171" h="95">
                      <a:moveTo>
                        <a:pt x="0" y="95"/>
                      </a:moveTo>
                      <a:lnTo>
                        <a:pt x="70" y="0"/>
                      </a:lnTo>
                      <a:lnTo>
                        <a:pt x="171" y="0"/>
                      </a:lnTo>
                      <a:lnTo>
                        <a:pt x="101" y="9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11160">
                  <a:solidFill>
                    <a:srgbClr val="eded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7935840" y="4494240"/>
                  <a:ext cx="117360" cy="16020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7990920" y="4494240"/>
                  <a:ext cx="117720" cy="16020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>
                  <a:off x="7961040" y="4535640"/>
                  <a:ext cx="166680" cy="144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7938720" y="4573440"/>
                  <a:ext cx="160200" cy="180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910280" y="4611600"/>
                  <a:ext cx="162000" cy="1800"/>
                </a:xfrm>
                <a:prstGeom prst="line">
                  <a:avLst/>
                </a:prstGeom>
                <a:ln w="1116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676160" cy="12956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4191120" y="1600200"/>
            <a:ext cx="930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ram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6629400" y="1219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Vo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13399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odo  Pachu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533520" y="3733920"/>
            <a:ext cx="877680" cy="8636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5"/>
          <a:stretch/>
        </p:blipFill>
        <p:spPr>
          <a:xfrm>
            <a:off x="5562720" y="3429000"/>
            <a:ext cx="877680" cy="8636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6"/>
          <a:stretch/>
        </p:blipFill>
        <p:spPr>
          <a:xfrm>
            <a:off x="1905120" y="2895480"/>
            <a:ext cx="1030320" cy="8035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7"/>
          <a:stretch/>
        </p:blipFill>
        <p:spPr>
          <a:xfrm>
            <a:off x="7162920" y="3048120"/>
            <a:ext cx="1030320" cy="8031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57150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5320" y="3352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3888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16400" y="3733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8"/>
          <a:stretch/>
        </p:blipFill>
        <p:spPr>
          <a:xfrm>
            <a:off x="2286000" y="43434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66688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FX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43800" y="25146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&amp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9"/>
          <a:stretch/>
        </p:blipFill>
        <p:spPr>
          <a:xfrm>
            <a:off x="7772400" y="44197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438280" y="213372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4120" y="213372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066680" y="2514600"/>
            <a:ext cx="609840" cy="12193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0" y="259092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391520" y="2438280"/>
            <a:ext cx="0" cy="6098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172200" y="2361960"/>
            <a:ext cx="609480" cy="10666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14600" y="373392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077320" y="3886200"/>
            <a:ext cx="0" cy="6094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0"/>
          <a:stretch/>
        </p:blipFill>
        <p:spPr>
          <a:xfrm>
            <a:off x="380880" y="5334120"/>
            <a:ext cx="909720" cy="8222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1"/>
          <a:stretch/>
        </p:blipFill>
        <p:spPr>
          <a:xfrm>
            <a:off x="5791320" y="4800600"/>
            <a:ext cx="909360" cy="8222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flipV="1">
            <a:off x="6248520" y="4343400"/>
            <a:ext cx="0" cy="4572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38080" y="464832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907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c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80680" y="4571280"/>
            <a:ext cx="60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c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 flipH="1" flipV="1">
            <a:off x="5843520" y="4487760"/>
            <a:ext cx="93672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2819520" y="3263760"/>
            <a:ext cx="1057320" cy="2232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3108240" y="4199040"/>
            <a:ext cx="936720" cy="5508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4764240" y="4127400"/>
            <a:ext cx="1180800" cy="714600"/>
          </a:xfrm>
          <a:prstGeom prst="rect">
            <a:avLst/>
          </a:prstGeom>
          <a:ln w="0">
            <a:noFill/>
          </a:ln>
        </p:spPr>
      </p:pic>
      <p:grpSp>
        <p:nvGrpSpPr>
          <p:cNvPr id="571" name=""/>
          <p:cNvGrpSpPr/>
          <p:nvPr/>
        </p:nvGrpSpPr>
        <p:grpSpPr>
          <a:xfrm>
            <a:off x="6780240" y="2759040"/>
            <a:ext cx="1138320" cy="647640"/>
            <a:chOff x="6780240" y="2759040"/>
            <a:chExt cx="1138320" cy="647640"/>
          </a:xfrm>
        </p:grpSpPr>
        <p:pic>
          <p:nvPicPr>
            <p:cNvPr id="572" name="" descr=""/>
            <p:cNvPicPr/>
            <p:nvPr/>
          </p:nvPicPr>
          <p:blipFill>
            <a:blip r:embed="rId4"/>
            <a:stretch/>
          </p:blipFill>
          <p:spPr>
            <a:xfrm>
              <a:off x="6996240" y="275904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5"/>
            <a:stretch/>
          </p:blipFill>
          <p:spPr>
            <a:xfrm>
              <a:off x="6780240" y="297468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"/>
          <p:cNvGrpSpPr/>
          <p:nvPr/>
        </p:nvGrpSpPr>
        <p:grpSpPr>
          <a:xfrm>
            <a:off x="6780240" y="3479760"/>
            <a:ext cx="1138320" cy="647640"/>
            <a:chOff x="6780240" y="3479760"/>
            <a:chExt cx="1138320" cy="647640"/>
          </a:xfrm>
        </p:grpSpPr>
        <p:pic>
          <p:nvPicPr>
            <p:cNvPr id="575" name="" descr=""/>
            <p:cNvPicPr/>
            <p:nvPr/>
          </p:nvPicPr>
          <p:blipFill>
            <a:blip r:embed="rId6"/>
            <a:stretch/>
          </p:blipFill>
          <p:spPr>
            <a:xfrm>
              <a:off x="6996240" y="347976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7"/>
            <a:stretch/>
          </p:blipFill>
          <p:spPr>
            <a:xfrm>
              <a:off x="6780240" y="369540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"/>
          <p:cNvGrpSpPr/>
          <p:nvPr/>
        </p:nvGrpSpPr>
        <p:grpSpPr>
          <a:xfrm>
            <a:off x="6780240" y="4272120"/>
            <a:ext cx="1138320" cy="647640"/>
            <a:chOff x="6780240" y="4272120"/>
            <a:chExt cx="1138320" cy="647640"/>
          </a:xfrm>
        </p:grpSpPr>
        <p:pic>
          <p:nvPicPr>
            <p:cNvPr id="578" name="" descr=""/>
            <p:cNvPicPr/>
            <p:nvPr/>
          </p:nvPicPr>
          <p:blipFill>
            <a:blip r:embed="rId8"/>
            <a:stretch/>
          </p:blipFill>
          <p:spPr>
            <a:xfrm>
              <a:off x="6996240" y="427212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9"/>
            <a:stretch/>
          </p:blipFill>
          <p:spPr>
            <a:xfrm>
              <a:off x="6780240" y="448776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"/>
          <p:cNvGrpSpPr/>
          <p:nvPr/>
        </p:nvGrpSpPr>
        <p:grpSpPr>
          <a:xfrm>
            <a:off x="6708600" y="4991040"/>
            <a:ext cx="1138320" cy="647640"/>
            <a:chOff x="6708600" y="4991040"/>
            <a:chExt cx="1138320" cy="647640"/>
          </a:xfrm>
        </p:grpSpPr>
        <p:pic>
          <p:nvPicPr>
            <p:cNvPr id="581" name="" descr=""/>
            <p:cNvPicPr/>
            <p:nvPr/>
          </p:nvPicPr>
          <p:blipFill>
            <a:blip r:embed="rId10"/>
            <a:stretch/>
          </p:blipFill>
          <p:spPr>
            <a:xfrm>
              <a:off x="6924600" y="499104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" descr=""/>
            <p:cNvPicPr/>
            <p:nvPr/>
          </p:nvPicPr>
          <p:blipFill>
            <a:blip r:embed="rId11"/>
            <a:stretch/>
          </p:blipFill>
          <p:spPr>
            <a:xfrm>
              <a:off x="6708600" y="520668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"/>
          <p:cNvSpPr/>
          <p:nvPr/>
        </p:nvSpPr>
        <p:spPr>
          <a:xfrm flipH="1">
            <a:off x="5700240" y="3263760"/>
            <a:ext cx="1079640" cy="935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843520" y="3911760"/>
            <a:ext cx="936720" cy="431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5771880" y="4774680"/>
            <a:ext cx="863640" cy="576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971520" y="4559400"/>
            <a:ext cx="7923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0400" y="202248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Camp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Univers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283068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fe5"/>
                </a:solidFill>
                <a:latin typeface="Tahoma"/>
              </a:rPr>
              <a:t>Nodo Pachu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89600" y="412740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o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o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22040" y="1494000"/>
            <a:ext cx="47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Características de integ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Red de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 flipH="1" flipV="1">
            <a:off x="6443640" y="3851280"/>
            <a:ext cx="93672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419640" y="2627280"/>
            <a:ext cx="1056960" cy="22320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3708360" y="3562200"/>
            <a:ext cx="936720" cy="5511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5364000" y="3490920"/>
            <a:ext cx="1181160" cy="71424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7380360" y="2119320"/>
            <a:ext cx="1138320" cy="647640"/>
            <a:chOff x="7380360" y="2119320"/>
            <a:chExt cx="1138320" cy="647640"/>
          </a:xfrm>
        </p:grpSpPr>
        <p:pic>
          <p:nvPicPr>
            <p:cNvPr id="597" name="" descr=""/>
            <p:cNvPicPr/>
            <p:nvPr/>
          </p:nvPicPr>
          <p:blipFill>
            <a:blip r:embed="rId4"/>
            <a:stretch/>
          </p:blipFill>
          <p:spPr>
            <a:xfrm>
              <a:off x="7596360" y="211932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5"/>
            <a:stretch/>
          </p:blipFill>
          <p:spPr>
            <a:xfrm>
              <a:off x="7380360" y="233496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"/>
          <p:cNvGrpSpPr/>
          <p:nvPr/>
        </p:nvGrpSpPr>
        <p:grpSpPr>
          <a:xfrm>
            <a:off x="7380360" y="2843280"/>
            <a:ext cx="1138320" cy="647640"/>
            <a:chOff x="7380360" y="2843280"/>
            <a:chExt cx="1138320" cy="647640"/>
          </a:xfrm>
        </p:grpSpPr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7596360" y="284328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7"/>
            <a:stretch/>
          </p:blipFill>
          <p:spPr>
            <a:xfrm>
              <a:off x="7380360" y="305892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2" name=""/>
          <p:cNvGrpSpPr/>
          <p:nvPr/>
        </p:nvGrpSpPr>
        <p:grpSpPr>
          <a:xfrm>
            <a:off x="7380360" y="3635280"/>
            <a:ext cx="1138320" cy="647640"/>
            <a:chOff x="7380360" y="3635280"/>
            <a:chExt cx="1138320" cy="647640"/>
          </a:xfrm>
        </p:grpSpPr>
        <p:pic>
          <p:nvPicPr>
            <p:cNvPr id="603" name="" descr=""/>
            <p:cNvPicPr/>
            <p:nvPr/>
          </p:nvPicPr>
          <p:blipFill>
            <a:blip r:embed="rId8"/>
            <a:stretch/>
          </p:blipFill>
          <p:spPr>
            <a:xfrm>
              <a:off x="7596360" y="363528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"/>
            <a:stretch/>
          </p:blipFill>
          <p:spPr>
            <a:xfrm>
              <a:off x="7380360" y="385092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"/>
          <p:cNvGrpSpPr/>
          <p:nvPr/>
        </p:nvGrpSpPr>
        <p:grpSpPr>
          <a:xfrm>
            <a:off x="7308720" y="4354560"/>
            <a:ext cx="1138320" cy="647640"/>
            <a:chOff x="7308720" y="4354560"/>
            <a:chExt cx="1138320" cy="647640"/>
          </a:xfrm>
        </p:grpSpPr>
        <p:pic>
          <p:nvPicPr>
            <p:cNvPr id="606" name="" descr=""/>
            <p:cNvPicPr/>
            <p:nvPr/>
          </p:nvPicPr>
          <p:blipFill>
            <a:blip r:embed="rId10"/>
            <a:stretch/>
          </p:blipFill>
          <p:spPr>
            <a:xfrm>
              <a:off x="7524720" y="435456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11"/>
            <a:stretch/>
          </p:blipFill>
          <p:spPr>
            <a:xfrm>
              <a:off x="7308720" y="457020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"/>
          <p:cNvSpPr/>
          <p:nvPr/>
        </p:nvSpPr>
        <p:spPr>
          <a:xfrm flipH="1">
            <a:off x="6300360" y="2627280"/>
            <a:ext cx="1079640" cy="93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443640" y="3274920"/>
            <a:ext cx="936720" cy="432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6372000" y="4138200"/>
            <a:ext cx="863640" cy="576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572000" y="3922560"/>
            <a:ext cx="792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011000" y="148896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Camp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Univers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80000" y="211932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do Pachu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589720" y="349092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o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o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2040" y="1476360"/>
            <a:ext cx="47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Características de integ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1979640" y="3562200"/>
            <a:ext cx="1030320" cy="80352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flipH="1">
            <a:off x="2987640" y="3851280"/>
            <a:ext cx="720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090880" y="37940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5160" y="2328840"/>
            <a:ext cx="274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004"/>
                </a:solidFill>
                <a:latin typeface="Tahoma"/>
              </a:rPr>
              <a:t>Integración a la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004"/>
                </a:solidFill>
                <a:latin typeface="Tahoma"/>
              </a:rPr>
              <a:t>de Telefónica</a:t>
            </a: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08000" y="3429000"/>
            <a:ext cx="146196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xt.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xt.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xt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47640" y="385128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71400" y="4859280"/>
            <a:ext cx="316260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Tahoma"/>
              </a:rPr>
              <a:t>Llamada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Tahoma"/>
              </a:rPr>
              <a:t>Llamada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Tahoma"/>
              </a:rPr>
              <a:t>Códigos de Aut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84360" y="435456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Red de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 flipH="1">
            <a:off x="4572000" y="3573360"/>
            <a:ext cx="792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6443640" y="3573360"/>
            <a:ext cx="93672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1056960" cy="22320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3708360" y="3284640"/>
            <a:ext cx="936720" cy="5508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1181160" cy="71460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7380360" y="1844640"/>
            <a:ext cx="1138320" cy="647640"/>
            <a:chOff x="7380360" y="1844640"/>
            <a:chExt cx="1138320" cy="647640"/>
          </a:xfrm>
        </p:grpSpPr>
        <p:pic>
          <p:nvPicPr>
            <p:cNvPr id="631" name="" descr=""/>
            <p:cNvPicPr/>
            <p:nvPr/>
          </p:nvPicPr>
          <p:blipFill>
            <a:blip r:embed="rId4"/>
            <a:stretch/>
          </p:blipFill>
          <p:spPr>
            <a:xfrm>
              <a:off x="7596360" y="184464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5"/>
            <a:stretch/>
          </p:blipFill>
          <p:spPr>
            <a:xfrm>
              <a:off x="7380360" y="206028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3" name=""/>
          <p:cNvGrpSpPr/>
          <p:nvPr/>
        </p:nvGrpSpPr>
        <p:grpSpPr>
          <a:xfrm>
            <a:off x="7380360" y="2565360"/>
            <a:ext cx="1138320" cy="647640"/>
            <a:chOff x="7380360" y="2565360"/>
            <a:chExt cx="1138320" cy="647640"/>
          </a:xfrm>
        </p:grpSpPr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596360" y="256536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7"/>
            <a:stretch/>
          </p:blipFill>
          <p:spPr>
            <a:xfrm>
              <a:off x="7380360" y="278100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6" name=""/>
          <p:cNvGrpSpPr/>
          <p:nvPr/>
        </p:nvGrpSpPr>
        <p:grpSpPr>
          <a:xfrm>
            <a:off x="7380360" y="3357720"/>
            <a:ext cx="1138320" cy="647640"/>
            <a:chOff x="7380360" y="3357720"/>
            <a:chExt cx="1138320" cy="647640"/>
          </a:xfrm>
        </p:grpSpPr>
        <p:pic>
          <p:nvPicPr>
            <p:cNvPr id="637" name="" descr=""/>
            <p:cNvPicPr/>
            <p:nvPr/>
          </p:nvPicPr>
          <p:blipFill>
            <a:blip r:embed="rId8"/>
            <a:stretch/>
          </p:blipFill>
          <p:spPr>
            <a:xfrm>
              <a:off x="7596360" y="335772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9"/>
            <a:stretch/>
          </p:blipFill>
          <p:spPr>
            <a:xfrm>
              <a:off x="7380360" y="357336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9" name=""/>
          <p:cNvGrpSpPr/>
          <p:nvPr/>
        </p:nvGrpSpPr>
        <p:grpSpPr>
          <a:xfrm>
            <a:off x="7308720" y="4076640"/>
            <a:ext cx="1138320" cy="647640"/>
            <a:chOff x="7308720" y="4076640"/>
            <a:chExt cx="1138320" cy="647640"/>
          </a:xfrm>
        </p:grpSpPr>
        <p:pic>
          <p:nvPicPr>
            <p:cNvPr id="640" name="" descr=""/>
            <p:cNvPicPr/>
            <p:nvPr/>
          </p:nvPicPr>
          <p:blipFill>
            <a:blip r:embed="rId10"/>
            <a:stretch/>
          </p:blipFill>
          <p:spPr>
            <a:xfrm>
              <a:off x="7524720" y="4076640"/>
              <a:ext cx="922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11"/>
            <a:stretch/>
          </p:blipFill>
          <p:spPr>
            <a:xfrm>
              <a:off x="7308720" y="4292280"/>
              <a:ext cx="649080" cy="38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 flipH="1">
            <a:off x="6300360" y="2349360"/>
            <a:ext cx="1079640" cy="935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443640" y="2997360"/>
            <a:ext cx="936720" cy="431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6372000" y="3860280"/>
            <a:ext cx="863640" cy="576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01280" y="487692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Camp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Univers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780000" y="191628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do Pachu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589720" y="321300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o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o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2040" y="1494000"/>
            <a:ext cx="47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Características de integ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987640" y="3573360"/>
            <a:ext cx="720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5160" y="2050920"/>
            <a:ext cx="274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004"/>
                </a:solidFill>
                <a:latin typeface="Tahoma"/>
              </a:rPr>
              <a:t>Integración a la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004"/>
                </a:solidFill>
                <a:latin typeface="Tahoma"/>
              </a:rPr>
              <a:t>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2"/>
          <a:stretch/>
        </p:blipFill>
        <p:spPr>
          <a:xfrm>
            <a:off x="3924360" y="4365720"/>
            <a:ext cx="611280" cy="5983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211640" y="3860640"/>
            <a:ext cx="0" cy="505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90880" y="5383080"/>
            <a:ext cx="2937240" cy="146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eso a la In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a Control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rol de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dad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067280" y="5013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8"/>
          <a:stretch/>
        </p:blipFill>
        <p:spPr>
          <a:xfrm>
            <a:off x="1476360" y="2997360"/>
            <a:ext cx="1539720" cy="122364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659600" y="3284640"/>
            <a:ext cx="11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e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79280" y="4292640"/>
            <a:ext cx="2448000" cy="146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deocon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0800000">
            <a:off x="755640" y="3499920"/>
            <a:ext cx="790560" cy="792360"/>
          </a:xfrm>
          <a:custGeom>
            <a:avLst/>
            <a:gdLst>
              <a:gd name="textAreaLeft" fmla="*/ 263520 w 790560"/>
              <a:gd name="textAreaRight" fmla="*/ 677160 w 79056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Red de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792000" y="2278080"/>
            <a:ext cx="1152720" cy="63324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0" y="2278080"/>
            <a:ext cx="520560" cy="5684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2303640" y="2349360"/>
            <a:ext cx="936360" cy="5511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503280" y="2494080"/>
            <a:ext cx="431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943280" y="2494080"/>
            <a:ext cx="3603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792000" y="4437000"/>
            <a:ext cx="1152720" cy="63360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5"/>
          <a:stretch/>
        </p:blipFill>
        <p:spPr>
          <a:xfrm>
            <a:off x="0" y="4437000"/>
            <a:ext cx="520560" cy="5684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6"/>
          <a:stretch/>
        </p:blipFill>
        <p:spPr>
          <a:xfrm>
            <a:off x="2303640" y="4508640"/>
            <a:ext cx="936360" cy="5508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503280" y="4653000"/>
            <a:ext cx="431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943280" y="4653000"/>
            <a:ext cx="3603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7"/>
          <a:stretch/>
        </p:blipFill>
        <p:spPr>
          <a:xfrm>
            <a:off x="792000" y="3429000"/>
            <a:ext cx="1152720" cy="63324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8"/>
          <a:stretch/>
        </p:blipFill>
        <p:spPr>
          <a:xfrm>
            <a:off x="0" y="3429000"/>
            <a:ext cx="520560" cy="56844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9"/>
          <a:stretch/>
        </p:blipFill>
        <p:spPr>
          <a:xfrm>
            <a:off x="2303640" y="3500280"/>
            <a:ext cx="936360" cy="55116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503280" y="3645000"/>
            <a:ext cx="431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43280" y="3645000"/>
            <a:ext cx="3603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0"/>
          <a:stretch/>
        </p:blipFill>
        <p:spPr>
          <a:xfrm>
            <a:off x="8028000" y="2565360"/>
            <a:ext cx="716040" cy="25146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1"/>
          <a:stretch/>
        </p:blipFill>
        <p:spPr>
          <a:xfrm>
            <a:off x="6877080" y="2349360"/>
            <a:ext cx="785880" cy="26067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3276720" y="2349360"/>
            <a:ext cx="3671640" cy="574920"/>
          </a:xfrm>
          <a:custGeom>
            <a:avLst/>
            <a:gdLst>
              <a:gd name="textAreaLeft" fmla="*/ 0 w 3671640"/>
              <a:gd name="textAreaRight" fmla="*/ 3672000 w 36716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ansparencia en 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3429000"/>
            <a:ext cx="3671640" cy="647640"/>
          </a:xfrm>
          <a:custGeom>
            <a:avLst/>
            <a:gdLst>
              <a:gd name="textAreaLeft" fmla="*/ 0 w 3671640"/>
              <a:gd name="textAreaRight" fmla="*/ 3672000 w 3671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Capacidad de agre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a otras zonas de voz sobr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4437000"/>
            <a:ext cx="3671640" cy="647640"/>
          </a:xfrm>
          <a:custGeom>
            <a:avLst/>
            <a:gdLst>
              <a:gd name="textAreaLeft" fmla="*/ 0 w 3671640"/>
              <a:gd name="textAreaRight" fmla="*/ 3672000 w 3671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ponibilidad del servic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 si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Red Voz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1117080" y="2819520"/>
            <a:ext cx="5357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eñ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Charlesworth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00280" y="297180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00280" y="350532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00280" y="403848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12880" y="457200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1117080" y="2971800"/>
            <a:ext cx="5357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Ventajas de Vo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Experiencia en la UAEH, que hacer y no ha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Crecimiento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Dauphin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8080" y="312408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65760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38080" y="461016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332000" y="2924280"/>
            <a:ext cx="3024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ci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556000" y="5300640"/>
            <a:ext cx="4962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ww.reduaeh.mx/i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 de telecomunicaciones de la UAE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cesidades de comunic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ciones tecno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0600" y="2771640"/>
            <a:ext cx="30492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Dauphin"/>
              </a:rPr>
              <a:t>Anteced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240" y="334008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40" y="3933720"/>
            <a:ext cx="304560" cy="228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11240" y="1143000"/>
            <a:ext cx="6927840" cy="555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47840" y="476280"/>
            <a:ext cx="58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auphin"/>
              </a:rPr>
              <a:t>Red de Telecomunicaciones de la UA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4581360"/>
            <a:ext cx="865080" cy="432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580000" y="3860640"/>
            <a:ext cx="107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ulanci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503280" cy="287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646520" y="4365720"/>
            <a:ext cx="816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chu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501336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Cd Saha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796000" y="5302080"/>
            <a:ext cx="503280" cy="287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700360" y="4508640"/>
            <a:ext cx="107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Tlahelil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2987640" y="4869000"/>
            <a:ext cx="503280" cy="28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411280" y="3357720"/>
            <a:ext cx="1079640" cy="276480"/>
          </a:xfrm>
          <a:prstGeom prst="rect">
            <a:avLst/>
          </a:prstGeom>
          <a:solidFill>
            <a:srgbClr val="fa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Tula-Tepe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2698920" y="3718080"/>
            <a:ext cx="502920" cy="287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348000" y="20606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Huejut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3419640" y="2421000"/>
            <a:ext cx="502920" cy="287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708360" y="414972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Acto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3924360" y="4438800"/>
            <a:ext cx="503280" cy="287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995640" y="5013360"/>
            <a:ext cx="935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Tizayu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4140360" y="5302080"/>
            <a:ext cx="5029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581040" cy="762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763640" y="263700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1057320" cy="834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1979640" y="3933720"/>
            <a:ext cx="774720" cy="650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332000" y="3213000"/>
            <a:ext cx="662040" cy="576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179280" y="4076640"/>
            <a:ext cx="814320" cy="503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76760" y="3141720"/>
            <a:ext cx="7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1400" y="13669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iudad Univers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2050920" y="4797360"/>
            <a:ext cx="611280" cy="598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2124000" y="5734080"/>
            <a:ext cx="695520" cy="647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179280" y="4869000"/>
            <a:ext cx="720720" cy="576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V="1">
            <a:off x="755640" y="3789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378936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4581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458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5445000"/>
            <a:ext cx="7128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20550000">
            <a:off x="1922400" y="2949120"/>
            <a:ext cx="1943280" cy="73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0"/>
          <a:stretch/>
        </p:blipFill>
        <p:spPr>
          <a:xfrm>
            <a:off x="3564000" y="155736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7885080" y="3357720"/>
            <a:ext cx="774720" cy="650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7237440" y="2637000"/>
            <a:ext cx="662040" cy="576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6084720" y="3500280"/>
            <a:ext cx="81468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4"/>
          <a:stretch/>
        </p:blipFill>
        <p:spPr>
          <a:xfrm>
            <a:off x="7956720" y="4221000"/>
            <a:ext cx="610920" cy="598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5"/>
          <a:stretch/>
        </p:blipFill>
        <p:spPr>
          <a:xfrm>
            <a:off x="8029440" y="5157720"/>
            <a:ext cx="695520" cy="64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6"/>
          <a:stretch/>
        </p:blipFill>
        <p:spPr>
          <a:xfrm>
            <a:off x="6084720" y="4292640"/>
            <a:ext cx="72072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6661080" y="32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3213000"/>
            <a:ext cx="288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1672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45440" y="4005360"/>
            <a:ext cx="0" cy="21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45440" y="4869000"/>
            <a:ext cx="71640" cy="288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602400">
            <a:off x="5219280" y="2700000"/>
            <a:ext cx="2016360" cy="73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51560" y="400536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65600" y="393372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60480" y="479736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Gigabit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7"/>
          <a:stretch/>
        </p:blipFill>
        <p:spPr>
          <a:xfrm>
            <a:off x="7236000" y="1557360"/>
            <a:ext cx="1056960" cy="836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025120" y="2565360"/>
            <a:ext cx="7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28640" y="350028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776000" y="47973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23320" y="3789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55000" y="90792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Tahoma"/>
              </a:rPr>
              <a:t>24 Facultades y 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16440" y="178740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icro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E1 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225440" cy="231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124000" y="1905120"/>
            <a:ext cx="3888000" cy="4038480"/>
          </a:xfrm>
          <a:custGeom>
            <a:avLst/>
            <a:gdLst>
              <a:gd name="textAreaLeft" fmla="*/ 607320 w 3888000"/>
              <a:gd name="textAreaRight" fmla="*/ 3402000 w 3888000"/>
              <a:gd name="textAreaTop" fmla="*/ 1009440 h 4038480"/>
              <a:gd name="textAreaBottom" fmla="*/ 3029040 h 4038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Intern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Videocon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1584360" cy="13716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Necesidades de los usua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3276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3886200"/>
            <a:ext cx="152280" cy="1522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191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4495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3581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225440" cy="2313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133720" y="1981080"/>
            <a:ext cx="4267080" cy="3753000"/>
          </a:xfrm>
          <a:custGeom>
            <a:avLst/>
            <a:gdLst>
              <a:gd name="textAreaLeft" fmla="*/ 666720 w 4267080"/>
              <a:gd name="textAreaRight" fmla="*/ 3733920 w 4267080"/>
              <a:gd name="textAreaTop" fmla="*/ 938160 h 3753000"/>
              <a:gd name="textAreaBottom" fmla="*/ 2814840 h 375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xt. Inter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odigos de autoriz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516720" y="2997360"/>
            <a:ext cx="1584360" cy="936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Necesidades de los usua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3352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3962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4267080"/>
            <a:ext cx="152280" cy="152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_s43029"/>
          <p:cNvSpPr/>
          <p:nvPr/>
        </p:nvSpPr>
        <p:spPr>
          <a:xfrm flipH="1">
            <a:off x="3742920" y="4608360"/>
            <a:ext cx="55404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_s43028"/>
          <p:cNvSpPr/>
          <p:nvPr/>
        </p:nvSpPr>
        <p:spPr>
          <a:xfrm>
            <a:off x="2739960" y="4530600"/>
            <a:ext cx="1270080" cy="11844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i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 la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_s43027"/>
          <p:cNvSpPr/>
          <p:nvPr/>
        </p:nvSpPr>
        <p:spPr>
          <a:xfrm>
            <a:off x="5143680" y="4608360"/>
            <a:ext cx="55224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_s43026"/>
          <p:cNvSpPr/>
          <p:nvPr/>
        </p:nvSpPr>
        <p:spPr>
          <a:xfrm>
            <a:off x="5540400" y="4530600"/>
            <a:ext cx="1270080" cy="11844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lefó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_s43025"/>
          <p:cNvSpPr/>
          <p:nvPr/>
        </p:nvSpPr>
        <p:spPr>
          <a:xfrm flipV="1">
            <a:off x="4678200" y="3233520"/>
            <a:ext cx="1800" cy="59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_s43024"/>
          <p:cNvSpPr/>
          <p:nvPr/>
        </p:nvSpPr>
        <p:spPr>
          <a:xfrm>
            <a:off x="4140360" y="2104920"/>
            <a:ext cx="1269720" cy="11844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món.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_s43023"/>
          <p:cNvSpPr/>
          <p:nvPr/>
        </p:nvSpPr>
        <p:spPr>
          <a:xfrm>
            <a:off x="4140360" y="3722760"/>
            <a:ext cx="1269720" cy="11840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chu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1320" y="2849400"/>
            <a:ext cx="32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Red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Tele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44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Dauphin"/>
              </a:rPr>
              <a:t>Servicios  Centraliz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23:24:36Z</dcterms:created>
  <dc:creator>Miguel Angel Hernandez Vazque</dc:creator>
  <dc:description/>
  <dc:language>en-US</dc:language>
  <cp:lastModifiedBy>Miguel Angel Hernandez Vazque</cp:lastModifiedBy>
  <dcterms:modified xsi:type="dcterms:W3CDTF">2003-04-03T22:20:03Z</dcterms:modified>
  <cp:revision>35</cp:revision>
  <dc:subject/>
  <dc:title>Intergracion de VozIp en la UAEH</dc:title>
</cp:coreProperties>
</file>