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564-1E7A-4328-BC0D-1058110A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84CE-CB3B-42E6-BF6E-94ECF2E2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C143-BAF2-42A7-82C8-4145EC15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AE63-75AC-46C0-8A97-9AC389F5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4825-1AD4-46D0-A0C3-62D3BCCA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E032-0AF5-4D1D-8EFE-BF308992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1DF2-E351-467E-B44A-31F1ABDB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CF41-DF69-4005-8620-A325F22F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A8AC-5B50-4197-AABC-BDC34E21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3BC6-F4DE-4023-AC40-5AC46362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DA7D-74F8-4D51-9A41-F93299E4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607C-6567-41D6-8744-5E27AE62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49DD-C5D8-446C-BFE5-DA461739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9B42-F395-4F82-BF18-84F09FE6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E644-BA40-4D07-9F36-241A088D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5D3F-9C6F-4DD7-86D9-9BA6CF67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6626-5A1A-47C7-B0DD-17BFEFC5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1A76-A582-4488-938E-FA65F1AB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DF2E-19C5-4B64-A029-DF9E7AB2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92D-6F54-48B1-A500-141BB660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FAD5-C244-4796-A6B9-AAD52726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3CDB-EC82-4E98-9DAF-924E909C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B8B-60BE-4FA6-A0F7-4288FF84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C7C-6E19-468D-88D9-8806C0DC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31D3-37C4-450A-A7DE-C015D11A53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818C-AEB5-4A24-94C8-014B4FCE10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Times New Roman"/>
              </a:rPr>
              <a:t>SEMINARIO “TECNOLOGÍA, COMUNICACIÓN Y SOCIEDAD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362320" y="510516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entro de Cultura Digi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telm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ulio César Dozal Andre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e los reconocimientos y acredit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instituciones asociadas al seminario, se deberán responsabilizar  de la acreditación y reconocimiento de quienes participen en sus se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el forma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da sesión contará con tres segmentos o bloqu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sentación inicial (45 min.) desde la sede emis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onda de intervenciones de las sedes enlazadas (45 min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ierre y resumen por el ponen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e la present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ponentes deberán ofrec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ma o título de la se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bjetivo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suntos o palabras cl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aterial adicional relevante (página web, zona de desarrollo, referencias bibliográficas, 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urriculum sintético de los pon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cceso (de ser posible) a información adi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Requerimien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exión a I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sponsable del seminari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spectos de conexión y reservación de espa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vitación en su institu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ponga y coordine la participación de ponentes de su institu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tienda: controles, reconocimiento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ograma inici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múltiples dimensiones de la brecha digita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r. Manuel Gánd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8 de may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ograma inici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lecentros, la experiencia Latinoamerican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tra. Marypaz Sil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 de jun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ograma inici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entros Regionales del Sistema de Información y Comunicación del Estado de Puebl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ic. Yunuen Manjarr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 de jul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ogramación inici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-aprendizaje, la participación del sector educativo en el proyecto e-México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g. Gustavo Fl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7 de ago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el futur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ordinación descentralizada y rot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ubscripción de carta de int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ganización en ciclos de primavera-verano y otoño-invi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rnacionalización del semin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Contac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Julio César Dozal Andre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jdozal@telmex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Times New Roman"/>
              </a:rPr>
              <a:t>Semina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pacio de análisis y diálo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ía para divulgar conocimientos, experiencias y aplicaciones educa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íneas de reflex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cn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recha dig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mover la formación de recursos huma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mover  la interconex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fundir los desarrollos realiz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opósi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pacio de encuentro que propicia la reflexión y el intercambio académico y social con animo de contribuir al desarrollo de las redes de telecomunicaciones y el cómputo, el uso de la tecnología y sus impactos sociales, así como al análisis de los cambios en la comunicación y el proceso educativ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irigido 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Áreas académicas vinculadas a las problemáticas de tecnología, comunicación y soci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sonal académico, administrativo y alumnos de instituciones de educación supe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articipan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bierto a la participación de académicos de reconocido prestigio, organismos promotores de las “nuevas” tecnologías, asociaciones no gubernamentales, empresa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e la periodicidad y horar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man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gramación mens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jueves primeros de cada 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orario de 17:00 a 19:00  (hora D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Aspectos lega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organización del seminario no persigue fines de lucro y en ese entendido se deben respetar los derechos de autor de los conferencist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el inici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Centro de Cultura Digital del Instituto Tecnológico de Teléfonos de México, asume la organización y coordinación inicial del seminar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 partir de la postulación voluntaria de otras instituciones, la organización de las sesiones se realizará desde dicha se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2:45:12Z</dcterms:created>
  <dc:creator>Telmex</dc:creator>
  <dc:description/>
  <dc:language>en-US</dc:language>
  <cp:lastModifiedBy>redes</cp:lastModifiedBy>
  <dcterms:modified xsi:type="dcterms:W3CDTF">2003-04-04T16:58:19Z</dcterms:modified>
  <cp:revision>13</cp:revision>
  <dc:subject/>
  <dc:title>SEMINARIO “TECNOLOGÍA, COMUNICACIÓN Y SOCIEDAD”</dc:title>
</cp:coreProperties>
</file>