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10.png" ContentType="image/png"/>
  <Override PartName="/ppt/media/image27.jpeg" ContentType="image/jpeg"/>
  <Override PartName="/ppt/media/image12.jpeg" ContentType="image/jpeg"/>
  <Override PartName="/ppt/media/image34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32.jpeg" ContentType="image/jpeg"/>
  <Override PartName="/ppt/media/image4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4550-B1AC-41FD-B91B-6B4062482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639440" y="413064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0B8A-2ADE-47A8-927C-1A1C3B20C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898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82F2-8D75-45B1-A83F-D68DAD1BC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820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5660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63944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4820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5660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3F53-2B80-4F04-845B-B0FF18997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39440" y="198108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616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639440" y="198108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073D-36F1-4AE9-BF17-D1D8234F2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898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639440" y="413064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898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20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56600" y="198108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63944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04820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56600" y="4130640"/>
            <a:ext cx="2293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F762-9CC8-409E-A69C-659CC4182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F6FA-5CD0-4133-8357-9DC30C15B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609F-EB0E-4704-A661-D54AAF0D3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67616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715-930C-44D5-BCE1-95975170E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B5CB-290C-4D18-B194-B6BB2DF19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89840" y="413064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93BA-2AB7-4E66-BC72-CBEE8DD92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394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9840" y="1981080"/>
            <a:ext cx="34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39440" y="4130640"/>
            <a:ext cx="712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C772-2267-40A6-BC85-E077B5241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0080"/>
            <a:ext cx="1219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613480" y="4097160"/>
            <a:ext cx="711000" cy="474480"/>
            <a:chOff x="5613480" y="4097160"/>
            <a:chExt cx="711000" cy="474480"/>
          </a:xfrm>
        </p:grpSpPr>
        <p:sp>
          <p:nvSpPr>
            <p:cNvPr id="2" name=""/>
            <p:cNvSpPr/>
            <p:nvPr/>
          </p:nvSpPr>
          <p:spPr>
            <a:xfrm>
              <a:off x="5613480" y="4097160"/>
              <a:ext cx="43812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96160" y="4097160"/>
              <a:ext cx="32832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395280" y="306360"/>
            <a:ext cx="360360" cy="57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522360"/>
            <a:ext cx="382320" cy="533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738360"/>
            <a:ext cx="412560" cy="70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639440" y="198108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122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374-DAFE-453F-9109-7DC8B9DB515B}" type="slidenum">
              <a:rPr b="1" lang="es-E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102600" y="738360"/>
            <a:ext cx="75960" cy="4419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8153280" y="152280"/>
          <a:ext cx="838440" cy="8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152280"/>
                    <a:ext cx="8384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"/>
          <p:cNvSpPr/>
          <p:nvPr/>
        </p:nvSpPr>
        <p:spPr>
          <a:xfrm flipH="1">
            <a:off x="178560" y="6453360"/>
            <a:ext cx="461340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380700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13480" y="5773680"/>
            <a:ext cx="711000" cy="474480"/>
            <a:chOff x="5613480" y="5773680"/>
            <a:chExt cx="711000" cy="474480"/>
          </a:xfrm>
        </p:grpSpPr>
        <p:sp>
          <p:nvSpPr>
            <p:cNvPr id="53" name=""/>
            <p:cNvSpPr/>
            <p:nvPr/>
          </p:nvSpPr>
          <p:spPr>
            <a:xfrm>
              <a:off x="5613480" y="5773680"/>
              <a:ext cx="43812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96160" y="5773680"/>
              <a:ext cx="328320" cy="47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6553080" y="4475160"/>
          <a:ext cx="1752840" cy="16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4475160"/>
                    <a:ext cx="175284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600" y="0"/>
            <a:ext cx="1219320" cy="6831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560" y="1628640"/>
            <a:ext cx="360360" cy="57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62280"/>
            <a:ext cx="422280" cy="533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6680" y="2077920"/>
            <a:ext cx="412920" cy="70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2600" y="2060640"/>
            <a:ext cx="75960" cy="4419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380700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buap.mx/" TargetMode="External"/><Relationship Id="rId4" Type="http://schemas.openxmlformats.org/officeDocument/2006/relationships/hyperlink" Target="http://www.buap.mx/" TargetMode="External"/><Relationship Id="rId5" Type="http://schemas.openxmlformats.org/officeDocument/2006/relationships/hyperlink" Target="http://www.buap.mx/" TargetMode="External"/><Relationship Id="rId6" Type="http://schemas.openxmlformats.org/officeDocument/2006/relationships/hyperlink" Target="mailto:rafael@siu.buap.mx" TargetMode="External"/><Relationship Id="rId7" Type="http://schemas.openxmlformats.org/officeDocument/2006/relationships/hyperlink" Target="http://www.cicese.mx/" TargetMode="External"/><Relationship Id="rId8" Type="http://schemas.openxmlformats.org/officeDocument/2006/relationships/hyperlink" Target="http://www.cicese.mx/" TargetMode="External"/><Relationship Id="rId9" Type="http://schemas.openxmlformats.org/officeDocument/2006/relationships/hyperlink" Target="mailto:jprecia@cicese.mx" TargetMode="External"/><Relationship Id="rId10" Type="http://schemas.openxmlformats.org/officeDocument/2006/relationships/hyperlink" Target="mailto:jprecia@cicese.mx" TargetMode="External"/><Relationship Id="rId11" Type="http://schemas.openxmlformats.org/officeDocument/2006/relationships/hyperlink" Target="http://www.conacyt.mx/dacssc/index.html" TargetMode="External"/><Relationship Id="rId12" Type="http://schemas.openxmlformats.org/officeDocument/2006/relationships/hyperlink" Target="http://www.cudi.edu.mx/members/membre017.html" TargetMode="External"/><Relationship Id="rId13" Type="http://schemas.openxmlformats.org/officeDocument/2006/relationships/hyperlink" Target="http://www.cudi.edu.mx/members/membre017.html" TargetMode="External"/><Relationship Id="rId14" Type="http://schemas.openxmlformats.org/officeDocument/2006/relationships/hyperlink" Target="http://www.cudi.edu.mx/members/membre017.html" TargetMode="External"/><Relationship Id="rId15" Type="http://schemas.openxmlformats.org/officeDocument/2006/relationships/hyperlink" Target="mailto:rulo@infotec.com.mx" TargetMode="External"/><Relationship Id="rId16" Type="http://schemas.openxmlformats.org/officeDocument/2006/relationships/hyperlink" Target="mailto:rulo@infotec.com.mx" TargetMode="External"/><Relationship Id="rId17" Type="http://schemas.openxmlformats.org/officeDocument/2006/relationships/hyperlink" Target="mailto:rulo@infotec.com.mx" TargetMode="External"/><Relationship Id="rId18" Type="http://schemas.openxmlformats.org/officeDocument/2006/relationships/hyperlink" Target="http://www.ipn.mx/" TargetMode="External"/><Relationship Id="rId19" Type="http://schemas.openxmlformats.org/officeDocument/2006/relationships/hyperlink" Target="http://www.ipn.mx/" TargetMode="External"/><Relationship Id="rId20" Type="http://schemas.openxmlformats.org/officeDocument/2006/relationships/hyperlink" Target="mailto:svinals@inp.mx" TargetMode="External"/><Relationship Id="rId21" Type="http://schemas.openxmlformats.org/officeDocument/2006/relationships/hyperlink" Target="mailto:svinals@inp.mx" TargetMode="External"/><Relationship Id="rId22" Type="http://schemas.openxmlformats.org/officeDocument/2006/relationships/hyperlink" Target="mailto:svinals@inp.mx" TargetMode="External"/><Relationship Id="rId23" Type="http://schemas.openxmlformats.org/officeDocument/2006/relationships/hyperlink" Target="http://www.ilce.edu.mx/" TargetMode="External"/><Relationship Id="rId24" Type="http://schemas.openxmlformats.org/officeDocument/2006/relationships/hyperlink" Target="http://www.ilce.edu.mx/" TargetMode="External"/><Relationship Id="rId25" Type="http://schemas.openxmlformats.org/officeDocument/2006/relationships/hyperlink" Target="mailto:gfloresv@ilce.edu.mx" TargetMode="External"/><Relationship Id="rId26" Type="http://schemas.openxmlformats.org/officeDocument/2006/relationships/hyperlink" Target="http://www.sistema.itesm.mx/" TargetMode="External"/><Relationship Id="rId27" Type="http://schemas.openxmlformats.org/officeDocument/2006/relationships/hyperlink" Target="http://www.sistema.itesm.mx/" TargetMode="External"/><Relationship Id="rId28" Type="http://schemas.openxmlformats.org/officeDocument/2006/relationships/hyperlink" Target="mailto:jjzamani@campus.rzc.itesm.mx" TargetMode="External"/><Relationship Id="rId29" Type="http://schemas.openxmlformats.org/officeDocument/2006/relationships/hyperlink" Target="mailto:jjzamani@campus.rzc.itesm.mx" TargetMode="External"/><Relationship Id="rId30" Type="http://schemas.openxmlformats.org/officeDocument/2006/relationships/hyperlink" Target="mailto:jjzamani@campus.rzc.itesm.mx" TargetMode="External"/><Relationship Id="rId31" Type="http://schemas.openxmlformats.org/officeDocument/2006/relationships/hyperlink" Target="http://www.lania.mx/" TargetMode="External"/><Relationship Id="rId32" Type="http://schemas.openxmlformats.org/officeDocument/2006/relationships/hyperlink" Target="http://www.lania.mx/" TargetMode="External"/><Relationship Id="rId33" Type="http://schemas.openxmlformats.org/officeDocument/2006/relationships/hyperlink" Target="mailto:direccion@xalapa.lania.mx" TargetMode="External"/><Relationship Id="rId34" Type="http://schemas.openxmlformats.org/officeDocument/2006/relationships/hyperlink" Target="http://www.uacj.mx/" TargetMode="External"/><Relationship Id="rId35" Type="http://schemas.openxmlformats.org/officeDocument/2006/relationships/hyperlink" Target="http://www.uacj.mx/" TargetMode="External"/><Relationship Id="rId36" Type="http://schemas.openxmlformats.org/officeDocument/2006/relationships/hyperlink" Target="mailto:festrada@uacj.mx" TargetMode="External"/><Relationship Id="rId37" Type="http://schemas.openxmlformats.org/officeDocument/2006/relationships/hyperlink" Target="mailto:festrada@uacj.mx" TargetMode="External"/><Relationship Id="rId38" Type="http://schemas.openxmlformats.org/officeDocument/2006/relationships/hyperlink" Target="http://www.uanl.mx/" TargetMode="External"/><Relationship Id="rId39" Type="http://schemas.openxmlformats.org/officeDocument/2006/relationships/hyperlink" Target="http://www.uanl.mx/" TargetMode="External"/><Relationship Id="rId40" Type="http://schemas.openxmlformats.org/officeDocument/2006/relationships/hyperlink" Target="mailto:romercad@ccr.dsi.uanl.mx" TargetMode="External"/><Relationship Id="rId41" Type="http://schemas.openxmlformats.org/officeDocument/2006/relationships/hyperlink" Target="http://www.uat.mx/" TargetMode="External"/><Relationship Id="rId42" Type="http://schemas.openxmlformats.org/officeDocument/2006/relationships/hyperlink" Target="http://www.uat.mx/" TargetMode="External"/><Relationship Id="rId43" Type="http://schemas.openxmlformats.org/officeDocument/2006/relationships/hyperlink" Target="mailto:imartine@cgit.uat.mx" TargetMode="External"/><Relationship Id="rId44" Type="http://schemas.openxmlformats.org/officeDocument/2006/relationships/hyperlink" Target="mailto:imartine@cgit.uat.mx" TargetMode="External"/><Relationship Id="rId45" Type="http://schemas.openxmlformats.org/officeDocument/2006/relationships/hyperlink" Target="mailto:imartine@cgit.uat.mx" TargetMode="External"/><Relationship Id="rId46" Type="http://schemas.openxmlformats.org/officeDocument/2006/relationships/hyperlink" Target="mailto:imartine@cgit.uat.mx" TargetMode="External"/><Relationship Id="rId47" Type="http://schemas.openxmlformats.org/officeDocument/2006/relationships/hyperlink" Target="mailto:imartine@cgit.uat.mx" TargetMode="External"/><Relationship Id="rId48" Type="http://schemas.openxmlformats.org/officeDocument/2006/relationships/hyperlink" Target="http://www.reduaeh.mx/" TargetMode="External"/><Relationship Id="rId49" Type="http://schemas.openxmlformats.org/officeDocument/2006/relationships/hyperlink" Target="http://www.reduaeh.mx/" TargetMode="External"/><Relationship Id="rId50" Type="http://schemas.openxmlformats.org/officeDocument/2006/relationships/hyperlink" Target="mailto:amendoza@uaeh.reduaeh.mx" TargetMode="External"/><Relationship Id="rId51" Type="http://schemas.openxmlformats.org/officeDocument/2006/relationships/hyperlink" Target="mailto:amendoza@uaeh.reduaeh.mx" TargetMode="External"/><Relationship Id="rId52" Type="http://schemas.openxmlformats.org/officeDocument/2006/relationships/hyperlink" Target="mailto:amendoza@uaeh.reduaeh.mx" TargetMode="External"/><Relationship Id="rId53" Type="http://schemas.openxmlformats.org/officeDocument/2006/relationships/hyperlink" Target="http://www.uaem.mx/" TargetMode="External"/><Relationship Id="rId54" Type="http://schemas.openxmlformats.org/officeDocument/2006/relationships/hyperlink" Target="http://www.uaem.mx/" TargetMode="External"/><Relationship Id="rId55" Type="http://schemas.openxmlformats.org/officeDocument/2006/relationships/hyperlink" Target="http://www.uaem.mx/" TargetMode="External"/><Relationship Id="rId56" Type="http://schemas.openxmlformats.org/officeDocument/2006/relationships/hyperlink" Target="http://www.uaem.mx/" TargetMode="External"/><Relationship Id="rId57" Type="http://schemas.openxmlformats.org/officeDocument/2006/relationships/hyperlink" Target="mailto:rpelanis@uaem.mx" TargetMode="External"/><Relationship Id="rId58" Type="http://schemas.openxmlformats.org/officeDocument/2006/relationships/hyperlink" Target="mailto:rpelanis@uaem.mx" TargetMode="External"/><Relationship Id="rId59" Type="http://schemas.openxmlformats.org/officeDocument/2006/relationships/hyperlink" Target="mailto:rpelanis@uaem.mx" TargetMode="External"/><Relationship Id="rId60" Type="http://schemas.openxmlformats.org/officeDocument/2006/relationships/hyperlink" Target="mailto:rpelanis@uaem.mx" TargetMode="External"/><Relationship Id="rId61" Type="http://schemas.openxmlformats.org/officeDocument/2006/relationships/hyperlink" Target="http://www.uam.mx/" TargetMode="External"/><Relationship Id="rId62" Type="http://schemas.openxmlformats.org/officeDocument/2006/relationships/hyperlink" Target="http://www.uam.mx/" TargetMode="External"/><Relationship Id="rId63" Type="http://schemas.openxmlformats.org/officeDocument/2006/relationships/hyperlink" Target="mailto:walther@correo.uam.mx" TargetMode="External"/><Relationship Id="rId64" Type="http://schemas.openxmlformats.org/officeDocument/2006/relationships/hyperlink" Target="mailto:walther@correo.uam.mx" TargetMode="External"/><Relationship Id="rId65" Type="http://schemas.openxmlformats.org/officeDocument/2006/relationships/hyperlink" Target="mailto:walther@correo.uam.mx" TargetMode="External"/><Relationship Id="rId66" Type="http://schemas.openxmlformats.org/officeDocument/2006/relationships/hyperlink" Target="mailto:walther@correo.uam.mx" TargetMode="External"/><Relationship Id="rId67" Type="http://schemas.openxmlformats.org/officeDocument/2006/relationships/hyperlink" Target="mailto:walther@correo.uam.mx" TargetMode="External"/><Relationship Id="rId68" Type="http://schemas.openxmlformats.org/officeDocument/2006/relationships/hyperlink" Target="mailto:walther@correo.uam.mx" TargetMode="External"/><Relationship Id="rId69" Type="http://schemas.openxmlformats.org/officeDocument/2006/relationships/hyperlink" Target="mailto:walther@correo.uam.mx" TargetMode="External"/><Relationship Id="rId70" Type="http://schemas.openxmlformats.org/officeDocument/2006/relationships/hyperlink" Target="http://www.udg.mx/" TargetMode="External"/><Relationship Id="rId71" Type="http://schemas.openxmlformats.org/officeDocument/2006/relationships/hyperlink" Target="http://www.udg.mx/" TargetMode="External"/><Relationship Id="rId72" Type="http://schemas.openxmlformats.org/officeDocument/2006/relationships/hyperlink" Target="mailto:hgomez@cencar.udg.mx" TargetMode="External"/><Relationship Id="rId73" Type="http://schemas.openxmlformats.org/officeDocument/2006/relationships/hyperlink" Target="http://www.ual.mx/" TargetMode="External"/><Relationship Id="rId74" Type="http://schemas.openxmlformats.org/officeDocument/2006/relationships/hyperlink" Target="http://www.ual.mx/" TargetMode="External"/><Relationship Id="rId75" Type="http://schemas.openxmlformats.org/officeDocument/2006/relationships/hyperlink" Target="mailto:phernand@ual.mx" TargetMode="External"/><Relationship Id="rId76" Type="http://schemas.openxmlformats.org/officeDocument/2006/relationships/hyperlink" Target="http://www.pue.udlap.mx/index.html" TargetMode="External"/><Relationship Id="rId77" Type="http://schemas.openxmlformats.org/officeDocument/2006/relationships/hyperlink" Target="http://www.pue.udlap.mx/index.html" TargetMode="External"/><Relationship Id="rId78" Type="http://schemas.openxmlformats.org/officeDocument/2006/relationships/hyperlink" Target="http://www.pue.udlap.mx/index.html" TargetMode="External"/><Relationship Id="rId79" Type="http://schemas.openxmlformats.org/officeDocument/2006/relationships/hyperlink" Target="http://www.pue.udlap.mx/index.html" TargetMode="External"/><Relationship Id="rId80" Type="http://schemas.openxmlformats.org/officeDocument/2006/relationships/hyperlink" Target="mailto:lazzeri@mail.udlap.mx" TargetMode="External"/><Relationship Id="rId81" Type="http://schemas.openxmlformats.org/officeDocument/2006/relationships/hyperlink" Target="mailto:lazzeri@mail.udlap.mx" TargetMode="External"/><Relationship Id="rId82" Type="http://schemas.openxmlformats.org/officeDocument/2006/relationships/hyperlink" Target="http://www.unam.mx/" TargetMode="External"/><Relationship Id="rId83" Type="http://schemas.openxmlformats.org/officeDocument/2006/relationships/hyperlink" Target="http://www.unam.mx/" TargetMode="External"/><Relationship Id="rId84" Type="http://schemas.openxmlformats.org/officeDocument/2006/relationships/hyperlink" Target="mailto:apisan@servidor.unam.mx" TargetMode="External"/><Relationship Id="rId85" Type="http://schemas.openxmlformats.org/officeDocument/2006/relationships/hyperlink" Target="mailto:apisan@servidor.unam.mx" TargetMode="External"/><Relationship Id="rId86" Type="http://schemas.openxmlformats.org/officeDocument/2006/relationships/hyperlink" Target="mailto:apisan@servidor.unam.mx" TargetMode="External"/><Relationship Id="rId87" Type="http://schemas.openxmlformats.org/officeDocument/2006/relationships/hyperlink" Target="mailto:apisan@servidor.unam.mx" TargetMode="External"/><Relationship Id="rId88" Type="http://schemas.openxmlformats.org/officeDocument/2006/relationships/hyperlink" Target="mailto:apisan@servidor.unam.mx" TargetMode="External"/><Relationship Id="rId89" Type="http://schemas.openxmlformats.org/officeDocument/2006/relationships/hyperlink" Target="http://www.uv.mx/" TargetMode="External"/><Relationship Id="rId90" Type="http://schemas.openxmlformats.org/officeDocument/2006/relationships/hyperlink" Target="http://www.uv.mx/" TargetMode="External"/><Relationship Id="rId91" Type="http://schemas.openxmlformats.org/officeDocument/2006/relationships/hyperlink" Target="mailto:rparra@uv.mx" TargetMode="External"/><Relationship Id="rId92" Type="http://schemas.openxmlformats.org/officeDocument/2006/relationships/hyperlink" Target="mailto:rparra@uv.mx" TargetMode="External"/><Relationship Id="rId93" Type="http://schemas.openxmlformats.org/officeDocument/2006/relationships/hyperlink" Target="mailto:rparra@uv.mx" TargetMode="External"/><Relationship Id="rId94" Type="http://schemas.openxmlformats.org/officeDocument/2006/relationships/hyperlink" Target="http://www.cudi.edu.mx/" TargetMode="External"/><Relationship Id="rId95" Type="http://schemas.openxmlformats.org/officeDocument/2006/relationships/hyperlink" Target="mailto:cudi@cudi.edu.mx" TargetMode="External"/><Relationship Id="rId96" Type="http://schemas.openxmlformats.org/officeDocument/2006/relationships/hyperlink" Target="mailto:cudi@cudi.edu.mx" TargetMode="External"/><Relationship Id="rId97" Type="http://schemas.openxmlformats.org/officeDocument/2006/relationships/hyperlink" Target="http://www.cudi.edu.mx/" TargetMode="External"/><Relationship Id="rId98" Type="http://schemas.openxmlformats.org/officeDocument/2006/relationships/hyperlink" Target="http://www.cudi.edu.mx/" TargetMode="External"/><Relationship Id="rId99" Type="http://schemas.openxmlformats.org/officeDocument/2006/relationships/image" Target="../media/image10.png"/><Relationship Id="rId100" Type="http://schemas.openxmlformats.org/officeDocument/2006/relationships/hyperlink" Target="http://www.buap.mx/" TargetMode="External"/><Relationship Id="rId101" Type="http://schemas.openxmlformats.org/officeDocument/2006/relationships/image" Target="../media/image11.jpeg"/><Relationship Id="rId102" Type="http://schemas.openxmlformats.org/officeDocument/2006/relationships/hyperlink" Target="http://www.cicese.mx/" TargetMode="External"/><Relationship Id="rId103" Type="http://schemas.openxmlformats.org/officeDocument/2006/relationships/image" Target="../media/image12.jpeg"/><Relationship Id="rId104" Type="http://schemas.openxmlformats.org/officeDocument/2006/relationships/hyperlink" Target="http://www.conacyt.mx/dacssc/index.html" TargetMode="External"/><Relationship Id="rId105" Type="http://schemas.openxmlformats.org/officeDocument/2006/relationships/image" Target="../media/image13.jpeg"/><Relationship Id="rId106" Type="http://schemas.openxmlformats.org/officeDocument/2006/relationships/hyperlink" Target="http://www.ipn.mx/" TargetMode="External"/><Relationship Id="rId107" Type="http://schemas.openxmlformats.org/officeDocument/2006/relationships/image" Target="../media/image14.jpeg"/><Relationship Id="rId108" Type="http://schemas.openxmlformats.org/officeDocument/2006/relationships/hyperlink" Target="http://www.ilce.edu.mx/" TargetMode="External"/><Relationship Id="rId109" Type="http://schemas.openxmlformats.org/officeDocument/2006/relationships/image" Target="../media/image15.jpeg"/><Relationship Id="rId110" Type="http://schemas.openxmlformats.org/officeDocument/2006/relationships/hyperlink" Target="http://www.sistema.itesm.mx/" TargetMode="External"/><Relationship Id="rId111" Type="http://schemas.openxmlformats.org/officeDocument/2006/relationships/image" Target="../media/image16.jpeg"/><Relationship Id="rId112" Type="http://schemas.openxmlformats.org/officeDocument/2006/relationships/hyperlink" Target="http://www.lania.mx/" TargetMode="External"/><Relationship Id="rId113" Type="http://schemas.openxmlformats.org/officeDocument/2006/relationships/image" Target="../media/image17.jpeg"/><Relationship Id="rId114" Type="http://schemas.openxmlformats.org/officeDocument/2006/relationships/hyperlink" Target="http://www.uacj.mx/" TargetMode="External"/><Relationship Id="rId115" Type="http://schemas.openxmlformats.org/officeDocument/2006/relationships/image" Target="../media/image18.jpeg"/><Relationship Id="rId116" Type="http://schemas.openxmlformats.org/officeDocument/2006/relationships/hyperlink" Target="http://www.uanl.mx/" TargetMode="External"/><Relationship Id="rId117" Type="http://schemas.openxmlformats.org/officeDocument/2006/relationships/image" Target="../media/image19.jpeg"/><Relationship Id="rId118" Type="http://schemas.openxmlformats.org/officeDocument/2006/relationships/hyperlink" Target="http://www.uat.mx/" TargetMode="External"/><Relationship Id="rId119" Type="http://schemas.openxmlformats.org/officeDocument/2006/relationships/image" Target="../media/image20.jpeg"/><Relationship Id="rId120" Type="http://schemas.openxmlformats.org/officeDocument/2006/relationships/hyperlink" Target="http://www.reduaeh.mx/" TargetMode="External"/><Relationship Id="rId121" Type="http://schemas.openxmlformats.org/officeDocument/2006/relationships/image" Target="../media/image21.jpeg"/><Relationship Id="rId122" Type="http://schemas.openxmlformats.org/officeDocument/2006/relationships/hyperlink" Target="http://www.uaem.mx/" TargetMode="External"/><Relationship Id="rId123" Type="http://schemas.openxmlformats.org/officeDocument/2006/relationships/image" Target="../media/image22.jpeg"/><Relationship Id="rId124" Type="http://schemas.openxmlformats.org/officeDocument/2006/relationships/hyperlink" Target="http://www.uam.mx/" TargetMode="External"/><Relationship Id="rId125" Type="http://schemas.openxmlformats.org/officeDocument/2006/relationships/image" Target="../media/image23.jpeg"/><Relationship Id="rId126" Type="http://schemas.openxmlformats.org/officeDocument/2006/relationships/hyperlink" Target="http://www.udg.mx/" TargetMode="External"/><Relationship Id="rId127" Type="http://schemas.openxmlformats.org/officeDocument/2006/relationships/image" Target="../media/image24.jpeg"/><Relationship Id="rId128" Type="http://schemas.openxmlformats.org/officeDocument/2006/relationships/hyperlink" Target="http://www.ual.mx/" TargetMode="External"/><Relationship Id="rId129" Type="http://schemas.openxmlformats.org/officeDocument/2006/relationships/image" Target="../media/image25.jpeg"/><Relationship Id="rId130" Type="http://schemas.openxmlformats.org/officeDocument/2006/relationships/hyperlink" Target="http://www.pue.udlap.mx/index.html" TargetMode="External"/><Relationship Id="rId131" Type="http://schemas.openxmlformats.org/officeDocument/2006/relationships/image" Target="../media/image26.jpeg"/><Relationship Id="rId132" Type="http://schemas.openxmlformats.org/officeDocument/2006/relationships/hyperlink" Target="http://www.unam.mx/" TargetMode="External"/><Relationship Id="rId133" Type="http://schemas.openxmlformats.org/officeDocument/2006/relationships/image" Target="../media/image27.jpeg"/><Relationship Id="rId134" Type="http://schemas.openxmlformats.org/officeDocument/2006/relationships/hyperlink" Target="http://www.uv.mx/" TargetMode="External"/><Relationship Id="rId135" Type="http://schemas.openxmlformats.org/officeDocument/2006/relationships/image" Target="../media/image28.jpeg"/><Relationship Id="rId136" Type="http://schemas.openxmlformats.org/officeDocument/2006/relationships/image" Target="../media/image29.png"/><Relationship Id="rId137" Type="http://schemas.openxmlformats.org/officeDocument/2006/relationships/hyperlink" Target="http://www.cudi.edu.mx/" TargetMode="External"/><Relationship Id="rId138" Type="http://schemas.openxmlformats.org/officeDocument/2006/relationships/image" Target="../media/image30.png"/><Relationship Id="rId139" Type="http://schemas.openxmlformats.org/officeDocument/2006/relationships/oleObject" Target="../embeddings/oleObject1.bin"/><Relationship Id="rId140" Type="http://schemas.openxmlformats.org/officeDocument/2006/relationships/image" Target="../media/image31.png"/><Relationship Id="rId14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rguzman@telmex.com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buap.mx/" TargetMode="External"/><Relationship Id="rId4" Type="http://schemas.openxmlformats.org/officeDocument/2006/relationships/hyperlink" Target="http://www.buap.mx/" TargetMode="External"/><Relationship Id="rId5" Type="http://schemas.openxmlformats.org/officeDocument/2006/relationships/hyperlink" Target="http://www.buap.mx/" TargetMode="External"/><Relationship Id="rId6" Type="http://schemas.openxmlformats.org/officeDocument/2006/relationships/hyperlink" Target="mailto:rafael@siu.buap.mx" TargetMode="External"/><Relationship Id="rId7" Type="http://schemas.openxmlformats.org/officeDocument/2006/relationships/hyperlink" Target="http://www.cicese.mx/" TargetMode="External"/><Relationship Id="rId8" Type="http://schemas.openxmlformats.org/officeDocument/2006/relationships/hyperlink" Target="http://www.cicese.mx/" TargetMode="External"/><Relationship Id="rId9" Type="http://schemas.openxmlformats.org/officeDocument/2006/relationships/hyperlink" Target="mailto:jprecia@cicese.mx" TargetMode="External"/><Relationship Id="rId10" Type="http://schemas.openxmlformats.org/officeDocument/2006/relationships/hyperlink" Target="mailto:jprecia@cicese.mx" TargetMode="External"/><Relationship Id="rId11" Type="http://schemas.openxmlformats.org/officeDocument/2006/relationships/hyperlink" Target="http://www.conacyt.mx/dacssc/index.html" TargetMode="External"/><Relationship Id="rId12" Type="http://schemas.openxmlformats.org/officeDocument/2006/relationships/hyperlink" Target="http://www.cudi.edu.mx/members/membre017.html" TargetMode="External"/><Relationship Id="rId13" Type="http://schemas.openxmlformats.org/officeDocument/2006/relationships/hyperlink" Target="http://www.cudi.edu.mx/members/membre017.html" TargetMode="External"/><Relationship Id="rId14" Type="http://schemas.openxmlformats.org/officeDocument/2006/relationships/hyperlink" Target="http://www.cudi.edu.mx/members/membre017.html" TargetMode="External"/><Relationship Id="rId15" Type="http://schemas.openxmlformats.org/officeDocument/2006/relationships/hyperlink" Target="mailto:rulo@infotec.com.mx" TargetMode="External"/><Relationship Id="rId16" Type="http://schemas.openxmlformats.org/officeDocument/2006/relationships/hyperlink" Target="mailto:rulo@infotec.com.mx" TargetMode="External"/><Relationship Id="rId17" Type="http://schemas.openxmlformats.org/officeDocument/2006/relationships/hyperlink" Target="mailto:rulo@infotec.com.mx" TargetMode="External"/><Relationship Id="rId18" Type="http://schemas.openxmlformats.org/officeDocument/2006/relationships/hyperlink" Target="http://www.ipn.mx/" TargetMode="External"/><Relationship Id="rId19" Type="http://schemas.openxmlformats.org/officeDocument/2006/relationships/hyperlink" Target="http://www.ipn.mx/" TargetMode="External"/><Relationship Id="rId20" Type="http://schemas.openxmlformats.org/officeDocument/2006/relationships/hyperlink" Target="mailto:svinals@inp.mx" TargetMode="External"/><Relationship Id="rId21" Type="http://schemas.openxmlformats.org/officeDocument/2006/relationships/hyperlink" Target="mailto:svinals@inp.mx" TargetMode="External"/><Relationship Id="rId22" Type="http://schemas.openxmlformats.org/officeDocument/2006/relationships/hyperlink" Target="mailto:svinals@inp.mx" TargetMode="External"/><Relationship Id="rId23" Type="http://schemas.openxmlformats.org/officeDocument/2006/relationships/hyperlink" Target="http://www.ilce.edu.mx/" TargetMode="External"/><Relationship Id="rId24" Type="http://schemas.openxmlformats.org/officeDocument/2006/relationships/hyperlink" Target="http://www.ilce.edu.mx/" TargetMode="External"/><Relationship Id="rId25" Type="http://schemas.openxmlformats.org/officeDocument/2006/relationships/hyperlink" Target="mailto:gfloresv@ilce.edu.mx" TargetMode="External"/><Relationship Id="rId26" Type="http://schemas.openxmlformats.org/officeDocument/2006/relationships/hyperlink" Target="http://www.sistema.itesm.mx/" TargetMode="External"/><Relationship Id="rId27" Type="http://schemas.openxmlformats.org/officeDocument/2006/relationships/hyperlink" Target="http://www.sistema.itesm.mx/" TargetMode="External"/><Relationship Id="rId28" Type="http://schemas.openxmlformats.org/officeDocument/2006/relationships/hyperlink" Target="mailto:jjzamani@campus.rzc.itesm.mx" TargetMode="External"/><Relationship Id="rId29" Type="http://schemas.openxmlformats.org/officeDocument/2006/relationships/hyperlink" Target="mailto:jjzamani@campus.rzc.itesm.mx" TargetMode="External"/><Relationship Id="rId30" Type="http://schemas.openxmlformats.org/officeDocument/2006/relationships/hyperlink" Target="mailto:jjzamani@campus.rzc.itesm.mx" TargetMode="External"/><Relationship Id="rId31" Type="http://schemas.openxmlformats.org/officeDocument/2006/relationships/hyperlink" Target="http://www.lania.mx/" TargetMode="External"/><Relationship Id="rId32" Type="http://schemas.openxmlformats.org/officeDocument/2006/relationships/hyperlink" Target="http://www.lania.mx/" TargetMode="External"/><Relationship Id="rId33" Type="http://schemas.openxmlformats.org/officeDocument/2006/relationships/hyperlink" Target="mailto:direccion@xalapa.lania.mx" TargetMode="External"/><Relationship Id="rId34" Type="http://schemas.openxmlformats.org/officeDocument/2006/relationships/hyperlink" Target="http://www.uacj.mx/" TargetMode="External"/><Relationship Id="rId35" Type="http://schemas.openxmlformats.org/officeDocument/2006/relationships/hyperlink" Target="http://www.uacj.mx/" TargetMode="External"/><Relationship Id="rId36" Type="http://schemas.openxmlformats.org/officeDocument/2006/relationships/hyperlink" Target="mailto:festrada@uacj.mx" TargetMode="External"/><Relationship Id="rId37" Type="http://schemas.openxmlformats.org/officeDocument/2006/relationships/hyperlink" Target="mailto:festrada@uacj.mx" TargetMode="External"/><Relationship Id="rId38" Type="http://schemas.openxmlformats.org/officeDocument/2006/relationships/hyperlink" Target="http://www.uanl.mx/" TargetMode="External"/><Relationship Id="rId39" Type="http://schemas.openxmlformats.org/officeDocument/2006/relationships/hyperlink" Target="http://www.uanl.mx/" TargetMode="External"/><Relationship Id="rId40" Type="http://schemas.openxmlformats.org/officeDocument/2006/relationships/hyperlink" Target="mailto:romercad@ccr.dsi.uanl.mx" TargetMode="External"/><Relationship Id="rId41" Type="http://schemas.openxmlformats.org/officeDocument/2006/relationships/hyperlink" Target="http://www.uat.mx/" TargetMode="External"/><Relationship Id="rId42" Type="http://schemas.openxmlformats.org/officeDocument/2006/relationships/hyperlink" Target="http://www.uat.mx/" TargetMode="External"/><Relationship Id="rId43" Type="http://schemas.openxmlformats.org/officeDocument/2006/relationships/hyperlink" Target="mailto:imartine@cgit.uat.mx" TargetMode="External"/><Relationship Id="rId44" Type="http://schemas.openxmlformats.org/officeDocument/2006/relationships/hyperlink" Target="mailto:imartine@cgit.uat.mx" TargetMode="External"/><Relationship Id="rId45" Type="http://schemas.openxmlformats.org/officeDocument/2006/relationships/hyperlink" Target="mailto:imartine@cgit.uat.mx" TargetMode="External"/><Relationship Id="rId46" Type="http://schemas.openxmlformats.org/officeDocument/2006/relationships/hyperlink" Target="mailto:imartine@cgit.uat.mx" TargetMode="External"/><Relationship Id="rId47" Type="http://schemas.openxmlformats.org/officeDocument/2006/relationships/hyperlink" Target="mailto:imartine@cgit.uat.mx" TargetMode="External"/><Relationship Id="rId48" Type="http://schemas.openxmlformats.org/officeDocument/2006/relationships/hyperlink" Target="http://www.reduaeh.mx/" TargetMode="External"/><Relationship Id="rId49" Type="http://schemas.openxmlformats.org/officeDocument/2006/relationships/hyperlink" Target="http://www.reduaeh.mx/" TargetMode="External"/><Relationship Id="rId50" Type="http://schemas.openxmlformats.org/officeDocument/2006/relationships/hyperlink" Target="mailto:amendoza@uaeh.reduaeh.mx" TargetMode="External"/><Relationship Id="rId51" Type="http://schemas.openxmlformats.org/officeDocument/2006/relationships/hyperlink" Target="mailto:amendoza@uaeh.reduaeh.mx" TargetMode="External"/><Relationship Id="rId52" Type="http://schemas.openxmlformats.org/officeDocument/2006/relationships/hyperlink" Target="mailto:amendoza@uaeh.reduaeh.mx" TargetMode="External"/><Relationship Id="rId53" Type="http://schemas.openxmlformats.org/officeDocument/2006/relationships/hyperlink" Target="http://www.uaem.mx/" TargetMode="External"/><Relationship Id="rId54" Type="http://schemas.openxmlformats.org/officeDocument/2006/relationships/hyperlink" Target="http://www.uaem.mx/" TargetMode="External"/><Relationship Id="rId55" Type="http://schemas.openxmlformats.org/officeDocument/2006/relationships/hyperlink" Target="http://www.uaem.mx/" TargetMode="External"/><Relationship Id="rId56" Type="http://schemas.openxmlformats.org/officeDocument/2006/relationships/hyperlink" Target="http://www.uaem.mx/" TargetMode="External"/><Relationship Id="rId57" Type="http://schemas.openxmlformats.org/officeDocument/2006/relationships/hyperlink" Target="mailto:rpelanis@uaem.mx" TargetMode="External"/><Relationship Id="rId58" Type="http://schemas.openxmlformats.org/officeDocument/2006/relationships/hyperlink" Target="mailto:rpelanis@uaem.mx" TargetMode="External"/><Relationship Id="rId59" Type="http://schemas.openxmlformats.org/officeDocument/2006/relationships/hyperlink" Target="mailto:rpelanis@uaem.mx" TargetMode="External"/><Relationship Id="rId60" Type="http://schemas.openxmlformats.org/officeDocument/2006/relationships/hyperlink" Target="mailto:rpelanis@uaem.mx" TargetMode="External"/><Relationship Id="rId61" Type="http://schemas.openxmlformats.org/officeDocument/2006/relationships/hyperlink" Target="http://www.uam.mx/" TargetMode="External"/><Relationship Id="rId62" Type="http://schemas.openxmlformats.org/officeDocument/2006/relationships/hyperlink" Target="http://www.uam.mx/" TargetMode="External"/><Relationship Id="rId63" Type="http://schemas.openxmlformats.org/officeDocument/2006/relationships/hyperlink" Target="mailto:walther@correo.uam.mx" TargetMode="External"/><Relationship Id="rId64" Type="http://schemas.openxmlformats.org/officeDocument/2006/relationships/hyperlink" Target="mailto:walther@correo.uam.mx" TargetMode="External"/><Relationship Id="rId65" Type="http://schemas.openxmlformats.org/officeDocument/2006/relationships/hyperlink" Target="mailto:walther@correo.uam.mx" TargetMode="External"/><Relationship Id="rId66" Type="http://schemas.openxmlformats.org/officeDocument/2006/relationships/hyperlink" Target="mailto:walther@correo.uam.mx" TargetMode="External"/><Relationship Id="rId67" Type="http://schemas.openxmlformats.org/officeDocument/2006/relationships/hyperlink" Target="mailto:walther@correo.uam.mx" TargetMode="External"/><Relationship Id="rId68" Type="http://schemas.openxmlformats.org/officeDocument/2006/relationships/hyperlink" Target="mailto:walther@correo.uam.mx" TargetMode="External"/><Relationship Id="rId69" Type="http://schemas.openxmlformats.org/officeDocument/2006/relationships/hyperlink" Target="mailto:walther@correo.uam.mx" TargetMode="External"/><Relationship Id="rId70" Type="http://schemas.openxmlformats.org/officeDocument/2006/relationships/hyperlink" Target="http://www.udg.mx/" TargetMode="External"/><Relationship Id="rId71" Type="http://schemas.openxmlformats.org/officeDocument/2006/relationships/hyperlink" Target="http://www.udg.mx/" TargetMode="External"/><Relationship Id="rId72" Type="http://schemas.openxmlformats.org/officeDocument/2006/relationships/hyperlink" Target="mailto:hgomez@cencar.udg.mx" TargetMode="External"/><Relationship Id="rId73" Type="http://schemas.openxmlformats.org/officeDocument/2006/relationships/hyperlink" Target="http://www.ual.mx/" TargetMode="External"/><Relationship Id="rId74" Type="http://schemas.openxmlformats.org/officeDocument/2006/relationships/hyperlink" Target="http://www.ual.mx/" TargetMode="External"/><Relationship Id="rId75" Type="http://schemas.openxmlformats.org/officeDocument/2006/relationships/hyperlink" Target="mailto:phernand@ual.mx" TargetMode="External"/><Relationship Id="rId76" Type="http://schemas.openxmlformats.org/officeDocument/2006/relationships/hyperlink" Target="http://www.pue.udlap.mx/index.html" TargetMode="External"/><Relationship Id="rId77" Type="http://schemas.openxmlformats.org/officeDocument/2006/relationships/hyperlink" Target="http://www.pue.udlap.mx/index.html" TargetMode="External"/><Relationship Id="rId78" Type="http://schemas.openxmlformats.org/officeDocument/2006/relationships/hyperlink" Target="http://www.pue.udlap.mx/index.html" TargetMode="External"/><Relationship Id="rId79" Type="http://schemas.openxmlformats.org/officeDocument/2006/relationships/hyperlink" Target="http://www.pue.udlap.mx/index.html" TargetMode="External"/><Relationship Id="rId80" Type="http://schemas.openxmlformats.org/officeDocument/2006/relationships/hyperlink" Target="mailto:lazzeri@mail.udlap.mx" TargetMode="External"/><Relationship Id="rId81" Type="http://schemas.openxmlformats.org/officeDocument/2006/relationships/hyperlink" Target="mailto:lazzeri@mail.udlap.mx" TargetMode="External"/><Relationship Id="rId82" Type="http://schemas.openxmlformats.org/officeDocument/2006/relationships/hyperlink" Target="http://www.unam.mx/" TargetMode="External"/><Relationship Id="rId83" Type="http://schemas.openxmlformats.org/officeDocument/2006/relationships/hyperlink" Target="http://www.unam.mx/" TargetMode="External"/><Relationship Id="rId84" Type="http://schemas.openxmlformats.org/officeDocument/2006/relationships/hyperlink" Target="mailto:apisan@servidor.unam.mx" TargetMode="External"/><Relationship Id="rId85" Type="http://schemas.openxmlformats.org/officeDocument/2006/relationships/hyperlink" Target="mailto:apisan@servidor.unam.mx" TargetMode="External"/><Relationship Id="rId86" Type="http://schemas.openxmlformats.org/officeDocument/2006/relationships/hyperlink" Target="mailto:apisan@servidor.unam.mx" TargetMode="External"/><Relationship Id="rId87" Type="http://schemas.openxmlformats.org/officeDocument/2006/relationships/hyperlink" Target="mailto:apisan@servidor.unam.mx" TargetMode="External"/><Relationship Id="rId88" Type="http://schemas.openxmlformats.org/officeDocument/2006/relationships/hyperlink" Target="mailto:apisan@servidor.unam.mx" TargetMode="External"/><Relationship Id="rId89" Type="http://schemas.openxmlformats.org/officeDocument/2006/relationships/hyperlink" Target="http://www.uv.mx/" TargetMode="External"/><Relationship Id="rId90" Type="http://schemas.openxmlformats.org/officeDocument/2006/relationships/hyperlink" Target="http://www.uv.mx/" TargetMode="External"/><Relationship Id="rId91" Type="http://schemas.openxmlformats.org/officeDocument/2006/relationships/hyperlink" Target="mailto:rparra@uv.mx" TargetMode="External"/><Relationship Id="rId92" Type="http://schemas.openxmlformats.org/officeDocument/2006/relationships/hyperlink" Target="mailto:rparra@uv.mx" TargetMode="External"/><Relationship Id="rId93" Type="http://schemas.openxmlformats.org/officeDocument/2006/relationships/hyperlink" Target="mailto:rparra@uv.mx" TargetMode="External"/><Relationship Id="rId94" Type="http://schemas.openxmlformats.org/officeDocument/2006/relationships/hyperlink" Target="http://www.cudi.edu.mx/" TargetMode="External"/><Relationship Id="rId95" Type="http://schemas.openxmlformats.org/officeDocument/2006/relationships/hyperlink" Target="mailto:cudi@cudi.edu.mx" TargetMode="External"/><Relationship Id="rId96" Type="http://schemas.openxmlformats.org/officeDocument/2006/relationships/hyperlink" Target="mailto:cudi@cudi.edu.mx" TargetMode="External"/><Relationship Id="rId97" Type="http://schemas.openxmlformats.org/officeDocument/2006/relationships/hyperlink" Target="http://www.cudi.edu.mx/" TargetMode="External"/><Relationship Id="rId98" Type="http://schemas.openxmlformats.org/officeDocument/2006/relationships/hyperlink" Target="http://www.cudi.edu.mx/" TargetMode="External"/><Relationship Id="rId99" Type="http://schemas.openxmlformats.org/officeDocument/2006/relationships/image" Target="../media/image10.png"/><Relationship Id="rId100" Type="http://schemas.openxmlformats.org/officeDocument/2006/relationships/hyperlink" Target="http://www.buap.mx/" TargetMode="External"/><Relationship Id="rId101" Type="http://schemas.openxmlformats.org/officeDocument/2006/relationships/image" Target="../media/image11.jpeg"/><Relationship Id="rId102" Type="http://schemas.openxmlformats.org/officeDocument/2006/relationships/hyperlink" Target="http://www.cicese.mx/" TargetMode="External"/><Relationship Id="rId103" Type="http://schemas.openxmlformats.org/officeDocument/2006/relationships/image" Target="../media/image12.jpeg"/><Relationship Id="rId104" Type="http://schemas.openxmlformats.org/officeDocument/2006/relationships/hyperlink" Target="http://www.conacyt.mx/dacssc/index.html" TargetMode="External"/><Relationship Id="rId105" Type="http://schemas.openxmlformats.org/officeDocument/2006/relationships/image" Target="../media/image13.jpeg"/><Relationship Id="rId106" Type="http://schemas.openxmlformats.org/officeDocument/2006/relationships/hyperlink" Target="http://www.ipn.mx/" TargetMode="External"/><Relationship Id="rId107" Type="http://schemas.openxmlformats.org/officeDocument/2006/relationships/image" Target="../media/image14.jpeg"/><Relationship Id="rId108" Type="http://schemas.openxmlformats.org/officeDocument/2006/relationships/hyperlink" Target="http://www.ilce.edu.mx/" TargetMode="External"/><Relationship Id="rId109" Type="http://schemas.openxmlformats.org/officeDocument/2006/relationships/image" Target="../media/image15.jpeg"/><Relationship Id="rId110" Type="http://schemas.openxmlformats.org/officeDocument/2006/relationships/hyperlink" Target="http://www.sistema.itesm.mx/" TargetMode="External"/><Relationship Id="rId111" Type="http://schemas.openxmlformats.org/officeDocument/2006/relationships/image" Target="../media/image16.jpeg"/><Relationship Id="rId112" Type="http://schemas.openxmlformats.org/officeDocument/2006/relationships/hyperlink" Target="http://www.lania.mx/" TargetMode="External"/><Relationship Id="rId113" Type="http://schemas.openxmlformats.org/officeDocument/2006/relationships/image" Target="../media/image17.jpeg"/><Relationship Id="rId114" Type="http://schemas.openxmlformats.org/officeDocument/2006/relationships/hyperlink" Target="http://www.uacj.mx/" TargetMode="External"/><Relationship Id="rId115" Type="http://schemas.openxmlformats.org/officeDocument/2006/relationships/image" Target="../media/image18.jpeg"/><Relationship Id="rId116" Type="http://schemas.openxmlformats.org/officeDocument/2006/relationships/hyperlink" Target="http://www.uanl.mx/" TargetMode="External"/><Relationship Id="rId117" Type="http://schemas.openxmlformats.org/officeDocument/2006/relationships/image" Target="../media/image19.jpeg"/><Relationship Id="rId118" Type="http://schemas.openxmlformats.org/officeDocument/2006/relationships/hyperlink" Target="http://www.uat.mx/" TargetMode="External"/><Relationship Id="rId119" Type="http://schemas.openxmlformats.org/officeDocument/2006/relationships/image" Target="../media/image20.jpeg"/><Relationship Id="rId120" Type="http://schemas.openxmlformats.org/officeDocument/2006/relationships/hyperlink" Target="http://www.reduaeh.mx/" TargetMode="External"/><Relationship Id="rId121" Type="http://schemas.openxmlformats.org/officeDocument/2006/relationships/image" Target="../media/image21.jpeg"/><Relationship Id="rId122" Type="http://schemas.openxmlformats.org/officeDocument/2006/relationships/hyperlink" Target="http://www.uaem.mx/" TargetMode="External"/><Relationship Id="rId123" Type="http://schemas.openxmlformats.org/officeDocument/2006/relationships/image" Target="../media/image22.jpeg"/><Relationship Id="rId124" Type="http://schemas.openxmlformats.org/officeDocument/2006/relationships/hyperlink" Target="http://www.uam.mx/" TargetMode="External"/><Relationship Id="rId125" Type="http://schemas.openxmlformats.org/officeDocument/2006/relationships/image" Target="../media/image23.jpeg"/><Relationship Id="rId126" Type="http://schemas.openxmlformats.org/officeDocument/2006/relationships/hyperlink" Target="http://www.udg.mx/" TargetMode="External"/><Relationship Id="rId127" Type="http://schemas.openxmlformats.org/officeDocument/2006/relationships/image" Target="../media/image24.jpeg"/><Relationship Id="rId128" Type="http://schemas.openxmlformats.org/officeDocument/2006/relationships/hyperlink" Target="http://www.ual.mx/" TargetMode="External"/><Relationship Id="rId129" Type="http://schemas.openxmlformats.org/officeDocument/2006/relationships/image" Target="../media/image25.jpeg"/><Relationship Id="rId130" Type="http://schemas.openxmlformats.org/officeDocument/2006/relationships/hyperlink" Target="http://www.pue.udlap.mx/index.html" TargetMode="External"/><Relationship Id="rId131" Type="http://schemas.openxmlformats.org/officeDocument/2006/relationships/image" Target="../media/image26.jpeg"/><Relationship Id="rId132" Type="http://schemas.openxmlformats.org/officeDocument/2006/relationships/hyperlink" Target="http://www.unam.mx/" TargetMode="External"/><Relationship Id="rId133" Type="http://schemas.openxmlformats.org/officeDocument/2006/relationships/image" Target="../media/image27.jpeg"/><Relationship Id="rId134" Type="http://schemas.openxmlformats.org/officeDocument/2006/relationships/hyperlink" Target="http://www.uv.mx/" TargetMode="External"/><Relationship Id="rId135" Type="http://schemas.openxmlformats.org/officeDocument/2006/relationships/image" Target="../media/image28.jpeg"/><Relationship Id="rId136" Type="http://schemas.openxmlformats.org/officeDocument/2006/relationships/image" Target="../media/image29.png"/><Relationship Id="rId137" Type="http://schemas.openxmlformats.org/officeDocument/2006/relationships/hyperlink" Target="http://www.cudi.edu.mx/" TargetMode="External"/><Relationship Id="rId138" Type="http://schemas.openxmlformats.org/officeDocument/2006/relationships/image" Target="../media/image30.png"/><Relationship Id="rId139" Type="http://schemas.openxmlformats.org/officeDocument/2006/relationships/image" Target="../media/image8.png"/><Relationship Id="rId140" Type="http://schemas.openxmlformats.org/officeDocument/2006/relationships/image" Target="../media/image9.png"/><Relationship Id="rId141" Type="http://schemas.openxmlformats.org/officeDocument/2006/relationships/hyperlink" Target="http://www.buap.mx/" TargetMode="External"/><Relationship Id="rId142" Type="http://schemas.openxmlformats.org/officeDocument/2006/relationships/hyperlink" Target="http://www.buap.mx/" TargetMode="External"/><Relationship Id="rId143" Type="http://schemas.openxmlformats.org/officeDocument/2006/relationships/hyperlink" Target="http://www.buap.mx/" TargetMode="External"/><Relationship Id="rId144" Type="http://schemas.openxmlformats.org/officeDocument/2006/relationships/hyperlink" Target="mailto:rafael@siu.buap.mx" TargetMode="External"/><Relationship Id="rId145" Type="http://schemas.openxmlformats.org/officeDocument/2006/relationships/hyperlink" Target="http://www.cicese.mx/" TargetMode="External"/><Relationship Id="rId146" Type="http://schemas.openxmlformats.org/officeDocument/2006/relationships/hyperlink" Target="http://www.cicese.mx/" TargetMode="External"/><Relationship Id="rId147" Type="http://schemas.openxmlformats.org/officeDocument/2006/relationships/hyperlink" Target="mailto:jprecia@cicese.mx" TargetMode="External"/><Relationship Id="rId148" Type="http://schemas.openxmlformats.org/officeDocument/2006/relationships/hyperlink" Target="mailto:jprecia@cicese.mx" TargetMode="External"/><Relationship Id="rId149" Type="http://schemas.openxmlformats.org/officeDocument/2006/relationships/hyperlink" Target="http://www.conacyt.mx/dacssc/index.html" TargetMode="External"/><Relationship Id="rId150" Type="http://schemas.openxmlformats.org/officeDocument/2006/relationships/hyperlink" Target="http://www.cudi.edu.mx/members/membre017.html" TargetMode="External"/><Relationship Id="rId151" Type="http://schemas.openxmlformats.org/officeDocument/2006/relationships/hyperlink" Target="http://www.cudi.edu.mx/members/membre017.html" TargetMode="External"/><Relationship Id="rId152" Type="http://schemas.openxmlformats.org/officeDocument/2006/relationships/hyperlink" Target="http://www.cudi.edu.mx/members/membre017.html" TargetMode="External"/><Relationship Id="rId153" Type="http://schemas.openxmlformats.org/officeDocument/2006/relationships/hyperlink" Target="mailto:rulo@infotec.com.mx" TargetMode="External"/><Relationship Id="rId154" Type="http://schemas.openxmlformats.org/officeDocument/2006/relationships/hyperlink" Target="mailto:rulo@infotec.com.mx" TargetMode="External"/><Relationship Id="rId155" Type="http://schemas.openxmlformats.org/officeDocument/2006/relationships/hyperlink" Target="mailto:rulo@infotec.com.mx" TargetMode="External"/><Relationship Id="rId156" Type="http://schemas.openxmlformats.org/officeDocument/2006/relationships/hyperlink" Target="http://www.ipn.mx/" TargetMode="External"/><Relationship Id="rId157" Type="http://schemas.openxmlformats.org/officeDocument/2006/relationships/hyperlink" Target="http://www.ipn.mx/" TargetMode="External"/><Relationship Id="rId158" Type="http://schemas.openxmlformats.org/officeDocument/2006/relationships/hyperlink" Target="mailto:svinals@inp.mx" TargetMode="External"/><Relationship Id="rId159" Type="http://schemas.openxmlformats.org/officeDocument/2006/relationships/hyperlink" Target="mailto:svinals@inp.mx" TargetMode="External"/><Relationship Id="rId160" Type="http://schemas.openxmlformats.org/officeDocument/2006/relationships/hyperlink" Target="mailto:svinals@inp.mx" TargetMode="External"/><Relationship Id="rId161" Type="http://schemas.openxmlformats.org/officeDocument/2006/relationships/hyperlink" Target="http://www.ilce.edu.mx/" TargetMode="External"/><Relationship Id="rId162" Type="http://schemas.openxmlformats.org/officeDocument/2006/relationships/hyperlink" Target="http://www.ilce.edu.mx/" TargetMode="External"/><Relationship Id="rId163" Type="http://schemas.openxmlformats.org/officeDocument/2006/relationships/hyperlink" Target="mailto:gfloresv@ilce.edu.mx" TargetMode="External"/><Relationship Id="rId164" Type="http://schemas.openxmlformats.org/officeDocument/2006/relationships/hyperlink" Target="http://www.sistema.itesm.mx/" TargetMode="External"/><Relationship Id="rId165" Type="http://schemas.openxmlformats.org/officeDocument/2006/relationships/hyperlink" Target="http://www.sistema.itesm.mx/" TargetMode="External"/><Relationship Id="rId166" Type="http://schemas.openxmlformats.org/officeDocument/2006/relationships/hyperlink" Target="mailto:jjzamani@campus.rzc.itesm.mx" TargetMode="External"/><Relationship Id="rId167" Type="http://schemas.openxmlformats.org/officeDocument/2006/relationships/hyperlink" Target="mailto:jjzamani@campus.rzc.itesm.mx" TargetMode="External"/><Relationship Id="rId168" Type="http://schemas.openxmlformats.org/officeDocument/2006/relationships/hyperlink" Target="mailto:jjzamani@campus.rzc.itesm.mx" TargetMode="External"/><Relationship Id="rId169" Type="http://schemas.openxmlformats.org/officeDocument/2006/relationships/hyperlink" Target="http://www.lania.mx/" TargetMode="External"/><Relationship Id="rId170" Type="http://schemas.openxmlformats.org/officeDocument/2006/relationships/hyperlink" Target="http://www.lania.mx/" TargetMode="External"/><Relationship Id="rId171" Type="http://schemas.openxmlformats.org/officeDocument/2006/relationships/hyperlink" Target="mailto:direccion@xalapa.lania.mx" TargetMode="External"/><Relationship Id="rId172" Type="http://schemas.openxmlformats.org/officeDocument/2006/relationships/hyperlink" Target="http://www.uacj.mx/" TargetMode="External"/><Relationship Id="rId173" Type="http://schemas.openxmlformats.org/officeDocument/2006/relationships/hyperlink" Target="http://www.uacj.mx/" TargetMode="External"/><Relationship Id="rId174" Type="http://schemas.openxmlformats.org/officeDocument/2006/relationships/hyperlink" Target="mailto:festrada@uacj.mx" TargetMode="External"/><Relationship Id="rId175" Type="http://schemas.openxmlformats.org/officeDocument/2006/relationships/hyperlink" Target="mailto:festrada@uacj.mx" TargetMode="External"/><Relationship Id="rId176" Type="http://schemas.openxmlformats.org/officeDocument/2006/relationships/hyperlink" Target="http://www.uanl.mx/" TargetMode="External"/><Relationship Id="rId177" Type="http://schemas.openxmlformats.org/officeDocument/2006/relationships/hyperlink" Target="http://www.uanl.mx/" TargetMode="External"/><Relationship Id="rId178" Type="http://schemas.openxmlformats.org/officeDocument/2006/relationships/hyperlink" Target="mailto:romercad@ccr.dsi.uanl.mx" TargetMode="External"/><Relationship Id="rId179" Type="http://schemas.openxmlformats.org/officeDocument/2006/relationships/hyperlink" Target="http://www.uat.mx/" TargetMode="External"/><Relationship Id="rId180" Type="http://schemas.openxmlformats.org/officeDocument/2006/relationships/hyperlink" Target="http://www.uat.mx/" TargetMode="External"/><Relationship Id="rId181" Type="http://schemas.openxmlformats.org/officeDocument/2006/relationships/hyperlink" Target="mailto:imartine@cgit.uat.mx" TargetMode="External"/><Relationship Id="rId182" Type="http://schemas.openxmlformats.org/officeDocument/2006/relationships/hyperlink" Target="mailto:imartine@cgit.uat.mx" TargetMode="External"/><Relationship Id="rId183" Type="http://schemas.openxmlformats.org/officeDocument/2006/relationships/hyperlink" Target="mailto:imartine@cgit.uat.mx" TargetMode="External"/><Relationship Id="rId184" Type="http://schemas.openxmlformats.org/officeDocument/2006/relationships/hyperlink" Target="mailto:imartine@cgit.uat.mx" TargetMode="External"/><Relationship Id="rId185" Type="http://schemas.openxmlformats.org/officeDocument/2006/relationships/hyperlink" Target="mailto:imartine@cgit.uat.mx" TargetMode="External"/><Relationship Id="rId186" Type="http://schemas.openxmlformats.org/officeDocument/2006/relationships/hyperlink" Target="http://www.reduaeh.mx/" TargetMode="External"/><Relationship Id="rId187" Type="http://schemas.openxmlformats.org/officeDocument/2006/relationships/hyperlink" Target="http://www.reduaeh.mx/" TargetMode="External"/><Relationship Id="rId188" Type="http://schemas.openxmlformats.org/officeDocument/2006/relationships/hyperlink" Target="mailto:amendoza@uaeh.reduaeh.mx" TargetMode="External"/><Relationship Id="rId189" Type="http://schemas.openxmlformats.org/officeDocument/2006/relationships/hyperlink" Target="mailto:amendoza@uaeh.reduaeh.mx" TargetMode="External"/><Relationship Id="rId190" Type="http://schemas.openxmlformats.org/officeDocument/2006/relationships/hyperlink" Target="mailto:amendoza@uaeh.reduaeh.mx" TargetMode="External"/><Relationship Id="rId191" Type="http://schemas.openxmlformats.org/officeDocument/2006/relationships/hyperlink" Target="http://www.uaem.mx/" TargetMode="External"/><Relationship Id="rId192" Type="http://schemas.openxmlformats.org/officeDocument/2006/relationships/hyperlink" Target="http://www.uaem.mx/" TargetMode="External"/><Relationship Id="rId193" Type="http://schemas.openxmlformats.org/officeDocument/2006/relationships/hyperlink" Target="http://www.uaem.mx/" TargetMode="External"/><Relationship Id="rId194" Type="http://schemas.openxmlformats.org/officeDocument/2006/relationships/hyperlink" Target="http://www.uaem.mx/" TargetMode="External"/><Relationship Id="rId195" Type="http://schemas.openxmlformats.org/officeDocument/2006/relationships/hyperlink" Target="mailto:rpelanis@uaem.mx" TargetMode="External"/><Relationship Id="rId196" Type="http://schemas.openxmlformats.org/officeDocument/2006/relationships/hyperlink" Target="mailto:rpelanis@uaem.mx" TargetMode="External"/><Relationship Id="rId197" Type="http://schemas.openxmlformats.org/officeDocument/2006/relationships/hyperlink" Target="mailto:rpelanis@uaem.mx" TargetMode="External"/><Relationship Id="rId198" Type="http://schemas.openxmlformats.org/officeDocument/2006/relationships/hyperlink" Target="mailto:rpelanis@uaem.mx" TargetMode="External"/><Relationship Id="rId199" Type="http://schemas.openxmlformats.org/officeDocument/2006/relationships/hyperlink" Target="http://www.uam.mx/" TargetMode="External"/><Relationship Id="rId200" Type="http://schemas.openxmlformats.org/officeDocument/2006/relationships/hyperlink" Target="http://www.uam.mx/" TargetMode="External"/><Relationship Id="rId201" Type="http://schemas.openxmlformats.org/officeDocument/2006/relationships/hyperlink" Target="mailto:walther@correo.uam.mx" TargetMode="External"/><Relationship Id="rId202" Type="http://schemas.openxmlformats.org/officeDocument/2006/relationships/hyperlink" Target="mailto:walther@correo.uam.mx" TargetMode="External"/><Relationship Id="rId203" Type="http://schemas.openxmlformats.org/officeDocument/2006/relationships/hyperlink" Target="mailto:walther@correo.uam.mx" TargetMode="External"/><Relationship Id="rId204" Type="http://schemas.openxmlformats.org/officeDocument/2006/relationships/hyperlink" Target="mailto:walther@correo.uam.mx" TargetMode="External"/><Relationship Id="rId205" Type="http://schemas.openxmlformats.org/officeDocument/2006/relationships/hyperlink" Target="mailto:walther@correo.uam.mx" TargetMode="External"/><Relationship Id="rId206" Type="http://schemas.openxmlformats.org/officeDocument/2006/relationships/hyperlink" Target="mailto:walther@correo.uam.mx" TargetMode="External"/><Relationship Id="rId207" Type="http://schemas.openxmlformats.org/officeDocument/2006/relationships/hyperlink" Target="mailto:walther@correo.uam.mx" TargetMode="External"/><Relationship Id="rId208" Type="http://schemas.openxmlformats.org/officeDocument/2006/relationships/hyperlink" Target="http://www.udg.mx/" TargetMode="External"/><Relationship Id="rId209" Type="http://schemas.openxmlformats.org/officeDocument/2006/relationships/hyperlink" Target="http://www.udg.mx/" TargetMode="External"/><Relationship Id="rId210" Type="http://schemas.openxmlformats.org/officeDocument/2006/relationships/hyperlink" Target="mailto:hgomez@cencar.udg.mx" TargetMode="External"/><Relationship Id="rId211" Type="http://schemas.openxmlformats.org/officeDocument/2006/relationships/hyperlink" Target="http://www.ual.mx/" TargetMode="External"/><Relationship Id="rId212" Type="http://schemas.openxmlformats.org/officeDocument/2006/relationships/hyperlink" Target="http://www.ual.mx/" TargetMode="External"/><Relationship Id="rId213" Type="http://schemas.openxmlformats.org/officeDocument/2006/relationships/hyperlink" Target="mailto:phernand@ual.mx" TargetMode="External"/><Relationship Id="rId214" Type="http://schemas.openxmlformats.org/officeDocument/2006/relationships/hyperlink" Target="http://www.pue.udlap.mx/index.html" TargetMode="External"/><Relationship Id="rId215" Type="http://schemas.openxmlformats.org/officeDocument/2006/relationships/image" Target="../media/image10.png"/><Relationship Id="rId216" Type="http://schemas.openxmlformats.org/officeDocument/2006/relationships/hyperlink" Target="http://www.buap.mx/" TargetMode="External"/><Relationship Id="rId217" Type="http://schemas.openxmlformats.org/officeDocument/2006/relationships/image" Target="../media/image11.jpeg"/><Relationship Id="rId218" Type="http://schemas.openxmlformats.org/officeDocument/2006/relationships/hyperlink" Target="http://www.cicese.mx/" TargetMode="External"/><Relationship Id="rId219" Type="http://schemas.openxmlformats.org/officeDocument/2006/relationships/image" Target="../media/image12.jpeg"/><Relationship Id="rId220" Type="http://schemas.openxmlformats.org/officeDocument/2006/relationships/hyperlink" Target="http://www.conacyt.mx/dacssc/index.html" TargetMode="External"/><Relationship Id="rId221" Type="http://schemas.openxmlformats.org/officeDocument/2006/relationships/image" Target="../media/image13.jpeg"/><Relationship Id="rId222" Type="http://schemas.openxmlformats.org/officeDocument/2006/relationships/hyperlink" Target="http://www.ipn.mx/" TargetMode="External"/><Relationship Id="rId223" Type="http://schemas.openxmlformats.org/officeDocument/2006/relationships/image" Target="../media/image14.jpeg"/><Relationship Id="rId224" Type="http://schemas.openxmlformats.org/officeDocument/2006/relationships/hyperlink" Target="http://www.ilce.edu.mx/" TargetMode="External"/><Relationship Id="rId225" Type="http://schemas.openxmlformats.org/officeDocument/2006/relationships/image" Target="../media/image15.jpeg"/><Relationship Id="rId226" Type="http://schemas.openxmlformats.org/officeDocument/2006/relationships/hyperlink" Target="http://www.sistema.itesm.mx/" TargetMode="External"/><Relationship Id="rId227" Type="http://schemas.openxmlformats.org/officeDocument/2006/relationships/image" Target="../media/image16.jpeg"/><Relationship Id="rId228" Type="http://schemas.openxmlformats.org/officeDocument/2006/relationships/hyperlink" Target="http://www.lania.mx/" TargetMode="External"/><Relationship Id="rId229" Type="http://schemas.openxmlformats.org/officeDocument/2006/relationships/image" Target="../media/image17.jpeg"/><Relationship Id="rId230" Type="http://schemas.openxmlformats.org/officeDocument/2006/relationships/hyperlink" Target="http://www.uacj.mx/" TargetMode="External"/><Relationship Id="rId231" Type="http://schemas.openxmlformats.org/officeDocument/2006/relationships/image" Target="../media/image18.jpeg"/><Relationship Id="rId232" Type="http://schemas.openxmlformats.org/officeDocument/2006/relationships/hyperlink" Target="http://www.uanl.mx/" TargetMode="External"/><Relationship Id="rId233" Type="http://schemas.openxmlformats.org/officeDocument/2006/relationships/image" Target="../media/image19.jpeg"/><Relationship Id="rId234" Type="http://schemas.openxmlformats.org/officeDocument/2006/relationships/hyperlink" Target="http://www.uat.mx/" TargetMode="External"/><Relationship Id="rId235" Type="http://schemas.openxmlformats.org/officeDocument/2006/relationships/image" Target="../media/image20.jpeg"/><Relationship Id="rId236" Type="http://schemas.openxmlformats.org/officeDocument/2006/relationships/hyperlink" Target="http://www.reduaeh.mx/" TargetMode="External"/><Relationship Id="rId237" Type="http://schemas.openxmlformats.org/officeDocument/2006/relationships/image" Target="../media/image21.jpeg"/><Relationship Id="rId238" Type="http://schemas.openxmlformats.org/officeDocument/2006/relationships/hyperlink" Target="http://www.uaem.mx/" TargetMode="External"/><Relationship Id="rId239" Type="http://schemas.openxmlformats.org/officeDocument/2006/relationships/image" Target="../media/image22.jpeg"/><Relationship Id="rId240" Type="http://schemas.openxmlformats.org/officeDocument/2006/relationships/hyperlink" Target="http://www.uam.mx/" TargetMode="External"/><Relationship Id="rId241" Type="http://schemas.openxmlformats.org/officeDocument/2006/relationships/image" Target="../media/image23.jpeg"/><Relationship Id="rId242" Type="http://schemas.openxmlformats.org/officeDocument/2006/relationships/hyperlink" Target="http://www.udg.mx/" TargetMode="External"/><Relationship Id="rId243" Type="http://schemas.openxmlformats.org/officeDocument/2006/relationships/image" Target="../media/image24.jpeg"/><Relationship Id="rId244" Type="http://schemas.openxmlformats.org/officeDocument/2006/relationships/hyperlink" Target="http://www.ual.mx/" TargetMode="External"/><Relationship Id="rId245" Type="http://schemas.openxmlformats.org/officeDocument/2006/relationships/image" Target="../media/image25.jpeg"/><Relationship Id="rId246" Type="http://schemas.openxmlformats.org/officeDocument/2006/relationships/hyperlink" Target="http://www.pue.udlap.mx/index.html" TargetMode="External"/><Relationship Id="rId247" Type="http://schemas.openxmlformats.org/officeDocument/2006/relationships/image" Target="../media/image26.jpeg"/><Relationship Id="rId248" Type="http://schemas.openxmlformats.org/officeDocument/2006/relationships/image" Target="../media/image27.jpeg"/><Relationship Id="rId249" Type="http://schemas.openxmlformats.org/officeDocument/2006/relationships/image" Target="../media/image28.jpeg"/><Relationship Id="rId250" Type="http://schemas.openxmlformats.org/officeDocument/2006/relationships/image" Target="../media/image29.png"/><Relationship Id="rId251" Type="http://schemas.openxmlformats.org/officeDocument/2006/relationships/image" Target="../media/image30.png"/><Relationship Id="rId25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../../../Documents%20and%20Settings/Administrador/Presentaciones/Pagina%20CUDI.htm" TargetMode="External"/><Relationship Id="rId2" Type="http://schemas.openxmlformats.org/officeDocument/2006/relationships/hyperlink" Target="file:///../../../../Documents%20and%20Settings/Administrador/Presentaciones/Pagina%20CUDI.htm" TargetMode="External"/><Relationship Id="rId3" Type="http://schemas.openxmlformats.org/officeDocument/2006/relationships/hyperlink" Target="file:///../../../../Documents%20and%20Settings/Administrador/Presentaciones/Pagina%20CUDI.htm" TargetMode="External"/><Relationship Id="rId4" Type="http://schemas.openxmlformats.org/officeDocument/2006/relationships/hyperlink" Target="file:///../../../../Documents%20and%20Settings/Administrador/Presentaciones/Pagina%20CUDI.htm" TargetMode="External"/><Relationship Id="rId5" Type="http://schemas.openxmlformats.org/officeDocument/2006/relationships/hyperlink" Target="file:///../../../../Documents%20and%20Settings/Administrador/Presentaciones/Pagina%20CUDI.htm" TargetMode="External"/><Relationship Id="rId6" Type="http://schemas.openxmlformats.org/officeDocument/2006/relationships/hyperlink" Target="file:///../../../../Documents%20and%20Settings/Administrador/Presentaciones/Pagina%20CUDI.htm" TargetMode="External"/><Relationship Id="rId7" Type="http://schemas.openxmlformats.org/officeDocument/2006/relationships/hyperlink" Target="file:///../../../../Documents%20and%20Settings/Administrador/Presentaciones/Pagina%20CUDI.htm" TargetMode="External"/><Relationship Id="rId8" Type="http://schemas.openxmlformats.org/officeDocument/2006/relationships/hyperlink" Target="http://www.cudi.edu.mx/" TargetMode="External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ALTERNATIVAS DE CONEXIÓN EN LA RED CUDI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1276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  <p:grpSp>
          <p:nvGrpSpPr>
            <p:cNvPr id="1277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1278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9" name=""/>
          <p:cNvGrpSpPr/>
          <p:nvPr/>
        </p:nvGrpSpPr>
        <p:grpSpPr>
          <a:xfrm>
            <a:off x="1523880" y="3200400"/>
            <a:ext cx="462240" cy="615240"/>
            <a:chOff x="1523880" y="3200400"/>
            <a:chExt cx="462240" cy="615240"/>
          </a:xfrm>
        </p:grpSpPr>
        <p:grpSp>
          <p:nvGrpSpPr>
            <p:cNvPr id="1300" name=""/>
            <p:cNvGrpSpPr/>
            <p:nvPr/>
          </p:nvGrpSpPr>
          <p:grpSpPr>
            <a:xfrm>
              <a:off x="1523880" y="3390840"/>
              <a:ext cx="462240" cy="424800"/>
              <a:chOff x="1523880" y="3390840"/>
              <a:chExt cx="462240" cy="42480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1542240" y="3400920"/>
                <a:ext cx="443880" cy="414720"/>
                <a:chOff x="1542240" y="3400920"/>
                <a:chExt cx="443880" cy="414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542240" y="345240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7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523880" y="343440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1553400" y="3473280"/>
                <a:ext cx="334080" cy="301320"/>
                <a:chOff x="1553400" y="3473280"/>
                <a:chExt cx="334080" cy="3013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158292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57644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83384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183384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55340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55340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9" name=""/>
            <p:cNvGrpSpPr/>
            <p:nvPr/>
          </p:nvGrpSpPr>
          <p:grpSpPr>
            <a:xfrm>
              <a:off x="1533240" y="3200400"/>
              <a:ext cx="424080" cy="250560"/>
              <a:chOff x="1533240" y="3200400"/>
              <a:chExt cx="424080" cy="250560"/>
            </a:xfrm>
          </p:grpSpPr>
          <p:sp>
            <p:nvSpPr>
              <p:cNvPr id="1320" name=""/>
              <p:cNvSpPr/>
              <p:nvPr/>
            </p:nvSpPr>
            <p:spPr>
              <a:xfrm>
                <a:off x="1534320" y="330552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534320" y="320040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95624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1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915000" y="22860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GUADALAJ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835360" y="9144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752480" y="1600200"/>
            <a:ext cx="228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297080" y="38098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d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70280" y="3429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Guadalajara J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44DC-AC32-4534-8F2B-BB5B91853F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1352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  <p:grpSp>
          <p:nvGrpSpPr>
            <p:cNvPr id="1353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1354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5" name=""/>
          <p:cNvGrpSpPr/>
          <p:nvPr/>
        </p:nvGrpSpPr>
        <p:grpSpPr>
          <a:xfrm>
            <a:off x="1523880" y="3200400"/>
            <a:ext cx="462240" cy="615240"/>
            <a:chOff x="1523880" y="3200400"/>
            <a:chExt cx="462240" cy="615240"/>
          </a:xfrm>
        </p:grpSpPr>
        <p:grpSp>
          <p:nvGrpSpPr>
            <p:cNvPr id="1376" name=""/>
            <p:cNvGrpSpPr/>
            <p:nvPr/>
          </p:nvGrpSpPr>
          <p:grpSpPr>
            <a:xfrm>
              <a:off x="1523880" y="3390840"/>
              <a:ext cx="462240" cy="424800"/>
              <a:chOff x="1523880" y="3390840"/>
              <a:chExt cx="462240" cy="42480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1542240" y="3400920"/>
                <a:ext cx="443880" cy="414720"/>
                <a:chOff x="1542240" y="3400920"/>
                <a:chExt cx="443880" cy="4147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542240" y="345240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523880" y="343440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1553400" y="3473280"/>
                <a:ext cx="334080" cy="301320"/>
                <a:chOff x="1553400" y="3473280"/>
                <a:chExt cx="334080" cy="3013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158292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57644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83384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83384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55340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155340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1533240" y="3200400"/>
              <a:ext cx="424080" cy="250560"/>
              <a:chOff x="1533240" y="3200400"/>
              <a:chExt cx="424080" cy="250560"/>
            </a:xfrm>
          </p:grpSpPr>
          <p:sp>
            <p:nvSpPr>
              <p:cNvPr id="1396" name=""/>
              <p:cNvSpPr/>
              <p:nvPr/>
            </p:nvSpPr>
            <p:spPr>
              <a:xfrm>
                <a:off x="1534320" y="330552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534320" y="320040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95624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7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19320" y="2286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Cd.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35360" y="9144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52480" y="1600200"/>
            <a:ext cx="228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316520" y="380988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AC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675680" y="3429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Nodo Cd. Juá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1F46-BFB0-491A-98D0-0C7CB4FC93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7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  <p:grpSp>
          <p:nvGrpSpPr>
            <p:cNvPr id="1429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1430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1" name=""/>
          <p:cNvGrpSpPr/>
          <p:nvPr/>
        </p:nvGrpSpPr>
        <p:grpSpPr>
          <a:xfrm>
            <a:off x="1523880" y="3200400"/>
            <a:ext cx="462240" cy="615240"/>
            <a:chOff x="1523880" y="3200400"/>
            <a:chExt cx="462240" cy="615240"/>
          </a:xfrm>
        </p:grpSpPr>
        <p:grpSp>
          <p:nvGrpSpPr>
            <p:cNvPr id="1452" name=""/>
            <p:cNvGrpSpPr/>
            <p:nvPr/>
          </p:nvGrpSpPr>
          <p:grpSpPr>
            <a:xfrm>
              <a:off x="1523880" y="3390840"/>
              <a:ext cx="462240" cy="424800"/>
              <a:chOff x="1523880" y="3390840"/>
              <a:chExt cx="462240" cy="4248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1542240" y="3400920"/>
                <a:ext cx="443880" cy="414720"/>
                <a:chOff x="1542240" y="3400920"/>
                <a:chExt cx="443880" cy="41472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542240" y="345240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9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523880" y="343440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1553400" y="3473280"/>
                <a:ext cx="334080" cy="301320"/>
                <a:chOff x="1553400" y="3473280"/>
                <a:chExt cx="334080" cy="3013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158292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57644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183384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183384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155340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155340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1" name=""/>
            <p:cNvGrpSpPr/>
            <p:nvPr/>
          </p:nvGrpSpPr>
          <p:grpSpPr>
            <a:xfrm>
              <a:off x="1533240" y="3200400"/>
              <a:ext cx="424080" cy="250560"/>
              <a:chOff x="1533240" y="3200400"/>
              <a:chExt cx="424080" cy="250560"/>
            </a:xfrm>
          </p:grpSpPr>
          <p:sp>
            <p:nvSpPr>
              <p:cNvPr id="1472" name=""/>
              <p:cNvSpPr/>
              <p:nvPr/>
            </p:nvSpPr>
            <p:spPr>
              <a:xfrm>
                <a:off x="1534320" y="330552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534320" y="320040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624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3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15000" y="2286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TIJ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835360" y="9144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752480" y="1600200"/>
            <a:ext cx="228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336680" y="38098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CIC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662720" y="34290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senada B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E3A5-7FC3-4D1C-A9C7-5F215B9B0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1504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</p:pic>
        <p:grpSp>
          <p:nvGrpSpPr>
            <p:cNvPr id="1505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1506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ff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7" name=""/>
          <p:cNvGrpSpPr/>
          <p:nvPr/>
        </p:nvGrpSpPr>
        <p:grpSpPr>
          <a:xfrm>
            <a:off x="7162920" y="3200400"/>
            <a:ext cx="461880" cy="615240"/>
            <a:chOff x="7162920" y="3200400"/>
            <a:chExt cx="461880" cy="615240"/>
          </a:xfrm>
        </p:grpSpPr>
        <p:grpSp>
          <p:nvGrpSpPr>
            <p:cNvPr id="1528" name=""/>
            <p:cNvGrpSpPr/>
            <p:nvPr/>
          </p:nvGrpSpPr>
          <p:grpSpPr>
            <a:xfrm>
              <a:off x="7162920" y="3390840"/>
              <a:ext cx="461880" cy="424800"/>
              <a:chOff x="7162920" y="3390840"/>
              <a:chExt cx="461880" cy="424800"/>
            </a:xfrm>
          </p:grpSpPr>
          <p:grpSp>
            <p:nvGrpSpPr>
              <p:cNvPr id="1529" name=""/>
              <p:cNvGrpSpPr/>
              <p:nvPr/>
            </p:nvGrpSpPr>
            <p:grpSpPr>
              <a:xfrm>
                <a:off x="7181280" y="3400920"/>
                <a:ext cx="443520" cy="414720"/>
                <a:chOff x="7181280" y="3400920"/>
                <a:chExt cx="443520" cy="41472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18128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718128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181280" y="345240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757980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757980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5" name=""/>
              <p:cNvSpPr/>
              <p:nvPr/>
            </p:nvSpPr>
            <p:spPr>
              <a:xfrm>
                <a:off x="716292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16292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162920" y="343440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56288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56288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0" name=""/>
              <p:cNvGrpSpPr/>
              <p:nvPr/>
            </p:nvGrpSpPr>
            <p:grpSpPr>
              <a:xfrm>
                <a:off x="7192440" y="3473280"/>
                <a:ext cx="333720" cy="301320"/>
                <a:chOff x="7192440" y="3473280"/>
                <a:chExt cx="333720" cy="301320"/>
              </a:xfrm>
            </p:grpSpPr>
            <p:sp>
              <p:nvSpPr>
                <p:cNvPr id="1541" name=""/>
                <p:cNvSpPr/>
                <p:nvPr/>
              </p:nvSpPr>
              <p:spPr>
                <a:xfrm>
                  <a:off x="722196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21548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47252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47252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19244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19244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7" name=""/>
            <p:cNvGrpSpPr/>
            <p:nvPr/>
          </p:nvGrpSpPr>
          <p:grpSpPr>
            <a:xfrm>
              <a:off x="7172280" y="3200400"/>
              <a:ext cx="423720" cy="250560"/>
              <a:chOff x="7172280" y="3200400"/>
              <a:chExt cx="423720" cy="250560"/>
            </a:xfrm>
          </p:grpSpPr>
          <p:sp>
            <p:nvSpPr>
              <p:cNvPr id="1548" name=""/>
              <p:cNvSpPr/>
              <p:nvPr/>
            </p:nvSpPr>
            <p:spPr>
              <a:xfrm>
                <a:off x="7173360" y="330552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17228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17228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173360" y="320040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38900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38900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23636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3636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24428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24428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8432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38432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39116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39116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23960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23960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24680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4680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38540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38540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59492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54860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73600" y="2286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CANC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391520" y="1600200"/>
            <a:ext cx="0" cy="16002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9900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819520" y="914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105520" y="1600200"/>
            <a:ext cx="2286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048560" y="342900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ancún Q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571720" y="9907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Tahoma"/>
              </a:rPr>
              <a:t>AVA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D769-DB32-49F2-B9D3-719C6E020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33399"/>
                </a:solidFill>
                <a:latin typeface="Tahoma"/>
              </a:rPr>
              <a:t>Alternativas de Conexión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"/>
          <p:cNvSpPr/>
          <p:nvPr/>
        </p:nvSpPr>
        <p:spPr>
          <a:xfrm>
            <a:off x="900000" y="32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1.- Asociados Académico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2.- Vía V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2666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nexión de Afiliad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2" name=""/>
          <p:cNvSpPr/>
          <p:nvPr/>
        </p:nvSpPr>
        <p:spPr>
          <a:xfrm>
            <a:off x="2666880" y="1981080"/>
            <a:ext cx="3200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590920" y="2209680"/>
            <a:ext cx="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019920" y="2209680"/>
            <a:ext cx="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1905120" y="3885840"/>
            <a:ext cx="53316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 flipV="1">
            <a:off x="2666880" y="3885840"/>
            <a:ext cx="45720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200400" y="2895480"/>
            <a:ext cx="2209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Nodos de Asociados Académ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429000" y="464832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Nodos Afili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6320" y="403848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Mínimo 2 Mb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1600" y="43434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6320" y="243828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Mínimo 34 Mb/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523880" y="2743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24480" y="365760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72400" y="3352680"/>
            <a:ext cx="1143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COAHIMP     ILCE        IIE     INAOE TAMU UPN  CG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5867280" y="1219320"/>
            <a:ext cx="685440" cy="1066320"/>
            <a:chOff x="5867280" y="1219320"/>
            <a:chExt cx="685440" cy="1066320"/>
          </a:xfrm>
        </p:grpSpPr>
        <p:pic>
          <p:nvPicPr>
            <p:cNvPr id="1596" name="" descr=""/>
            <p:cNvPicPr/>
            <p:nvPr/>
          </p:nvPicPr>
          <p:blipFill>
            <a:blip r:embed="rId1"/>
            <a:stretch/>
          </p:blipFill>
          <p:spPr>
            <a:xfrm>
              <a:off x="5867280" y="1361520"/>
              <a:ext cx="685440" cy="92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7" name=""/>
            <p:cNvGrpSpPr/>
            <p:nvPr/>
          </p:nvGrpSpPr>
          <p:grpSpPr>
            <a:xfrm>
              <a:off x="5951880" y="1219320"/>
              <a:ext cx="536760" cy="260280"/>
              <a:chOff x="5951880" y="1219320"/>
              <a:chExt cx="536760" cy="260280"/>
            </a:xfrm>
          </p:grpSpPr>
          <p:sp>
            <p:nvSpPr>
              <p:cNvPr id="1598" name=""/>
              <p:cNvSpPr/>
              <p:nvPr/>
            </p:nvSpPr>
            <p:spPr>
              <a:xfrm>
                <a:off x="5953320" y="1328400"/>
                <a:ext cx="522000" cy="1512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951880" y="1300320"/>
                <a:ext cx="535320" cy="1130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951880" y="1300320"/>
                <a:ext cx="535320" cy="1130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953320" y="1219320"/>
                <a:ext cx="522000" cy="1512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226200" y="1240920"/>
                <a:ext cx="17676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226200" y="1240920"/>
                <a:ext cx="17676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032880" y="1300320"/>
                <a:ext cx="175680" cy="532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32880" y="1300320"/>
                <a:ext cx="175680" cy="532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043320" y="1236960"/>
                <a:ext cx="176760" cy="518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043320" y="1236960"/>
                <a:ext cx="176760" cy="518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220440" y="13057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220440" y="13057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229080" y="1243440"/>
                <a:ext cx="17532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229080" y="1243440"/>
                <a:ext cx="17532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037200" y="1301760"/>
                <a:ext cx="175680" cy="54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037200" y="1301760"/>
                <a:ext cx="175680" cy="54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46200" y="12409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046200" y="12409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221880" y="1308240"/>
                <a:ext cx="17640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221880" y="1308240"/>
                <a:ext cx="17640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487200" y="1296720"/>
                <a:ext cx="1440" cy="1126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9" name=""/>
          <p:cNvGrpSpPr/>
          <p:nvPr/>
        </p:nvGrpSpPr>
        <p:grpSpPr>
          <a:xfrm>
            <a:off x="1981080" y="1219320"/>
            <a:ext cx="685440" cy="1066320"/>
            <a:chOff x="1981080" y="1219320"/>
            <a:chExt cx="685440" cy="1066320"/>
          </a:xfrm>
        </p:grpSpPr>
        <p:pic>
          <p:nvPicPr>
            <p:cNvPr id="1620" name="" descr=""/>
            <p:cNvPicPr/>
            <p:nvPr/>
          </p:nvPicPr>
          <p:blipFill>
            <a:blip r:embed="rId2"/>
            <a:stretch/>
          </p:blipFill>
          <p:spPr>
            <a:xfrm>
              <a:off x="1981080" y="1361520"/>
              <a:ext cx="685440" cy="92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1" name=""/>
            <p:cNvGrpSpPr/>
            <p:nvPr/>
          </p:nvGrpSpPr>
          <p:grpSpPr>
            <a:xfrm>
              <a:off x="2065680" y="1219320"/>
              <a:ext cx="536760" cy="260280"/>
              <a:chOff x="2065680" y="1219320"/>
              <a:chExt cx="536760" cy="260280"/>
            </a:xfrm>
          </p:grpSpPr>
          <p:sp>
            <p:nvSpPr>
              <p:cNvPr id="1622" name=""/>
              <p:cNvSpPr/>
              <p:nvPr/>
            </p:nvSpPr>
            <p:spPr>
              <a:xfrm>
                <a:off x="2067120" y="1328400"/>
                <a:ext cx="522000" cy="1512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065680" y="1300320"/>
                <a:ext cx="535320" cy="1130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065680" y="1300320"/>
                <a:ext cx="535320" cy="1130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067120" y="1219320"/>
                <a:ext cx="522000" cy="1512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340000" y="1240920"/>
                <a:ext cx="17676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340000" y="1240920"/>
                <a:ext cx="17676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146680" y="1300320"/>
                <a:ext cx="175680" cy="532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146680" y="1300320"/>
                <a:ext cx="175680" cy="532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157120" y="1236960"/>
                <a:ext cx="176760" cy="518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157120" y="1236960"/>
                <a:ext cx="176760" cy="518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334240" y="13057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334240" y="13057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342880" y="1243440"/>
                <a:ext cx="17532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342880" y="1243440"/>
                <a:ext cx="17532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151000" y="1301760"/>
                <a:ext cx="175680" cy="54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151000" y="1301760"/>
                <a:ext cx="175680" cy="54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160000" y="12409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160000" y="1240920"/>
                <a:ext cx="175680" cy="504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335680" y="1308240"/>
                <a:ext cx="17640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35680" y="1308240"/>
                <a:ext cx="176400" cy="504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601000" y="1296720"/>
                <a:ext cx="1440" cy="1126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3" name=""/>
          <p:cNvGrpSpPr/>
          <p:nvPr/>
        </p:nvGrpSpPr>
        <p:grpSpPr>
          <a:xfrm>
            <a:off x="5791320" y="3352680"/>
            <a:ext cx="461880" cy="615240"/>
            <a:chOff x="5791320" y="3352680"/>
            <a:chExt cx="461880" cy="615240"/>
          </a:xfrm>
        </p:grpSpPr>
        <p:grpSp>
          <p:nvGrpSpPr>
            <p:cNvPr id="1644" name=""/>
            <p:cNvGrpSpPr/>
            <p:nvPr/>
          </p:nvGrpSpPr>
          <p:grpSpPr>
            <a:xfrm>
              <a:off x="5791320" y="3543120"/>
              <a:ext cx="461880" cy="424800"/>
              <a:chOff x="5791320" y="3543120"/>
              <a:chExt cx="461880" cy="424800"/>
            </a:xfrm>
          </p:grpSpPr>
          <p:grpSp>
            <p:nvGrpSpPr>
              <p:cNvPr id="1645" name=""/>
              <p:cNvGrpSpPr/>
              <p:nvPr/>
            </p:nvGrpSpPr>
            <p:grpSpPr>
              <a:xfrm>
                <a:off x="5809680" y="3553200"/>
                <a:ext cx="443520" cy="414720"/>
                <a:chOff x="5809680" y="3553200"/>
                <a:chExt cx="443520" cy="41472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5809680" y="355320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809680" y="355320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809680" y="360468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208200" y="35532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208200" y="35532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1" name=""/>
              <p:cNvSpPr/>
              <p:nvPr/>
            </p:nvSpPr>
            <p:spPr>
              <a:xfrm>
                <a:off x="5791320" y="354312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91320" y="354312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91320" y="358668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191280" y="35431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191280" y="35431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6" name=""/>
              <p:cNvGrpSpPr/>
              <p:nvPr/>
            </p:nvGrpSpPr>
            <p:grpSpPr>
              <a:xfrm>
                <a:off x="5820840" y="3625560"/>
                <a:ext cx="333720" cy="301320"/>
                <a:chOff x="5820840" y="3625560"/>
                <a:chExt cx="333720" cy="3013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5850360" y="365904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843880" y="365904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6100920" y="362556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6100920" y="384264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820840" y="362556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820840" y="384876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3" name=""/>
            <p:cNvGrpSpPr/>
            <p:nvPr/>
          </p:nvGrpSpPr>
          <p:grpSpPr>
            <a:xfrm>
              <a:off x="5800680" y="3352680"/>
              <a:ext cx="423720" cy="250560"/>
              <a:chOff x="5800680" y="3352680"/>
              <a:chExt cx="423720" cy="250560"/>
            </a:xfrm>
          </p:grpSpPr>
          <p:sp>
            <p:nvSpPr>
              <p:cNvPr id="1664" name=""/>
              <p:cNvSpPr/>
              <p:nvPr/>
            </p:nvSpPr>
            <p:spPr>
              <a:xfrm>
                <a:off x="5801760" y="345780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800680" y="343080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800680" y="343080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01760" y="335268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17400" y="33732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17400" y="33732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864760" y="34308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864760" y="34308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872680" y="33696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872680" y="33696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012720" y="34358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12720" y="34358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019560" y="337572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019560" y="337572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868000" y="34322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868000" y="34322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875200" y="33732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875200" y="33732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013800" y="343836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013800" y="343836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223320" y="342720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5" name=""/>
          <p:cNvGrpSpPr/>
          <p:nvPr/>
        </p:nvGrpSpPr>
        <p:grpSpPr>
          <a:xfrm>
            <a:off x="2362320" y="3276720"/>
            <a:ext cx="461880" cy="615240"/>
            <a:chOff x="2362320" y="3276720"/>
            <a:chExt cx="461880" cy="615240"/>
          </a:xfrm>
        </p:grpSpPr>
        <p:grpSp>
          <p:nvGrpSpPr>
            <p:cNvPr id="1686" name=""/>
            <p:cNvGrpSpPr/>
            <p:nvPr/>
          </p:nvGrpSpPr>
          <p:grpSpPr>
            <a:xfrm>
              <a:off x="2362320" y="3467160"/>
              <a:ext cx="461880" cy="424800"/>
              <a:chOff x="2362320" y="3467160"/>
              <a:chExt cx="461880" cy="424800"/>
            </a:xfrm>
          </p:grpSpPr>
          <p:grpSp>
            <p:nvGrpSpPr>
              <p:cNvPr id="1687" name=""/>
              <p:cNvGrpSpPr/>
              <p:nvPr/>
            </p:nvGrpSpPr>
            <p:grpSpPr>
              <a:xfrm>
                <a:off x="2380680" y="3477240"/>
                <a:ext cx="443520" cy="414720"/>
                <a:chOff x="2380680" y="3477240"/>
                <a:chExt cx="443520" cy="41472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2380680" y="34772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380680" y="34772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380680" y="352872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779200" y="34772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779200" y="34772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3" name=""/>
              <p:cNvSpPr/>
              <p:nvPr/>
            </p:nvSpPr>
            <p:spPr>
              <a:xfrm>
                <a:off x="2362320" y="34671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362320" y="34671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362320" y="351072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762280" y="34671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762280" y="34671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"/>
              <p:cNvGrpSpPr/>
              <p:nvPr/>
            </p:nvGrpSpPr>
            <p:grpSpPr>
              <a:xfrm>
                <a:off x="2391840" y="3549600"/>
                <a:ext cx="333720" cy="301320"/>
                <a:chOff x="2391840" y="3549600"/>
                <a:chExt cx="333720" cy="30132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421360" y="358308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414880" y="358308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671920" y="354960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671920" y="376668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391840" y="3549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2391840" y="377280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5" name=""/>
            <p:cNvGrpSpPr/>
            <p:nvPr/>
          </p:nvGrpSpPr>
          <p:grpSpPr>
            <a:xfrm>
              <a:off x="2371680" y="3276720"/>
              <a:ext cx="423720" cy="250560"/>
              <a:chOff x="2371680" y="3276720"/>
              <a:chExt cx="423720" cy="250560"/>
            </a:xfrm>
          </p:grpSpPr>
          <p:sp>
            <p:nvSpPr>
              <p:cNvPr id="1706" name=""/>
              <p:cNvSpPr/>
              <p:nvPr/>
            </p:nvSpPr>
            <p:spPr>
              <a:xfrm>
                <a:off x="2372760" y="338184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371680" y="33548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371680" y="33548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372760" y="327672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88400" y="32972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588400" y="32972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435760" y="33548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435760" y="33548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443680" y="32936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443680" y="32936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583720" y="33598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583720" y="33598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590560" y="32997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590560" y="32997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439000" y="33562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439000" y="33562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446200" y="329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46200" y="329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584800" y="33624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584800" y="33624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794320" y="335124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7" name=""/>
          <p:cNvGrpSpPr/>
          <p:nvPr/>
        </p:nvGrpSpPr>
        <p:grpSpPr>
          <a:xfrm>
            <a:off x="6400800" y="4952880"/>
            <a:ext cx="527040" cy="301320"/>
            <a:chOff x="6400800" y="4952880"/>
            <a:chExt cx="527040" cy="301320"/>
          </a:xfrm>
        </p:grpSpPr>
        <p:sp>
          <p:nvSpPr>
            <p:cNvPr id="1728" name=""/>
            <p:cNvSpPr/>
            <p:nvPr/>
          </p:nvSpPr>
          <p:spPr>
            <a:xfrm>
              <a:off x="6401880" y="5078880"/>
              <a:ext cx="512640" cy="1753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00800" y="5046840"/>
              <a:ext cx="525960" cy="131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00800" y="5046840"/>
              <a:ext cx="525960" cy="13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01880" y="4952880"/>
              <a:ext cx="512640" cy="1753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7008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67008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48036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8036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9044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9044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6432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66432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7332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7332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48468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48468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49332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49332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66540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66540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926760" y="5042520"/>
              <a:ext cx="1080" cy="1310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 flipH="1" flipV="1">
            <a:off x="6172200" y="3962160"/>
            <a:ext cx="45720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410080" y="3885840"/>
            <a:ext cx="533520" cy="1066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2819520" y="4952880"/>
            <a:ext cx="527040" cy="301320"/>
            <a:chOff x="2819520" y="4952880"/>
            <a:chExt cx="527040" cy="301320"/>
          </a:xfrm>
        </p:grpSpPr>
        <p:sp>
          <p:nvSpPr>
            <p:cNvPr id="1752" name=""/>
            <p:cNvSpPr/>
            <p:nvPr/>
          </p:nvSpPr>
          <p:spPr>
            <a:xfrm>
              <a:off x="2820600" y="5078880"/>
              <a:ext cx="512640" cy="1753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819520" y="5046840"/>
              <a:ext cx="525960" cy="131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819520" y="5046840"/>
              <a:ext cx="525960" cy="13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20600" y="4952880"/>
              <a:ext cx="512640" cy="1753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08880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08880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89908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89908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90916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90916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08304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08304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09204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09204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90340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90340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91204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1204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08412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08412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345480" y="5042520"/>
              <a:ext cx="1080" cy="1310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600200" y="4952880"/>
            <a:ext cx="527040" cy="301320"/>
            <a:chOff x="1600200" y="4952880"/>
            <a:chExt cx="527040" cy="301320"/>
          </a:xfrm>
        </p:grpSpPr>
        <p:sp>
          <p:nvSpPr>
            <p:cNvPr id="1774" name=""/>
            <p:cNvSpPr/>
            <p:nvPr/>
          </p:nvSpPr>
          <p:spPr>
            <a:xfrm>
              <a:off x="1601280" y="5078880"/>
              <a:ext cx="512640" cy="1753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600200" y="5046840"/>
              <a:ext cx="525960" cy="131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600200" y="5046840"/>
              <a:ext cx="525960" cy="13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601280" y="4952880"/>
              <a:ext cx="512640" cy="1753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6948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86948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7976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67976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8984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68984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6372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86372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7272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87272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68408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68408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69272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69272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86480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86480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26160" y="5042520"/>
              <a:ext cx="1080" cy="1310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5181480" y="4952880"/>
            <a:ext cx="527040" cy="301320"/>
            <a:chOff x="5181480" y="4952880"/>
            <a:chExt cx="527040" cy="301320"/>
          </a:xfrm>
        </p:grpSpPr>
        <p:sp>
          <p:nvSpPr>
            <p:cNvPr id="1796" name=""/>
            <p:cNvSpPr/>
            <p:nvPr/>
          </p:nvSpPr>
          <p:spPr>
            <a:xfrm>
              <a:off x="5182560" y="5078880"/>
              <a:ext cx="512640" cy="1753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181480" y="5046840"/>
              <a:ext cx="525960" cy="131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181480" y="5046840"/>
              <a:ext cx="525960" cy="13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182560" y="4952880"/>
              <a:ext cx="512640" cy="1753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5076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450760" y="49777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6104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261040" y="50468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27112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71120" y="49734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44500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445000" y="50529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45400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54000" y="49806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6536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265360" y="50490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27400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4000" y="49777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4608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6080" y="50562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07440" y="5042520"/>
              <a:ext cx="1080" cy="1310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6404040" y="350532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do Acadé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143840" y="48070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fi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53040" y="137160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9126-547D-42D2-A76A-754AA3B7B5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"/>
          <p:cNvGrpSpPr/>
          <p:nvPr/>
        </p:nvGrpSpPr>
        <p:grpSpPr>
          <a:xfrm>
            <a:off x="1447920" y="1219320"/>
            <a:ext cx="812160" cy="1217880"/>
            <a:chOff x="1447920" y="1219320"/>
            <a:chExt cx="812160" cy="1217880"/>
          </a:xfrm>
        </p:grpSpPr>
        <p:grpSp>
          <p:nvGrpSpPr>
            <p:cNvPr id="1821" name=""/>
            <p:cNvGrpSpPr/>
            <p:nvPr/>
          </p:nvGrpSpPr>
          <p:grpSpPr>
            <a:xfrm>
              <a:off x="1447920" y="1596600"/>
              <a:ext cx="812160" cy="840600"/>
              <a:chOff x="1447920" y="1596600"/>
              <a:chExt cx="812160" cy="840600"/>
            </a:xfrm>
          </p:grpSpPr>
          <p:grpSp>
            <p:nvGrpSpPr>
              <p:cNvPr id="1822" name=""/>
              <p:cNvGrpSpPr/>
              <p:nvPr/>
            </p:nvGrpSpPr>
            <p:grpSpPr>
              <a:xfrm>
                <a:off x="1479960" y="1616760"/>
                <a:ext cx="780120" cy="820440"/>
                <a:chOff x="1479960" y="1616760"/>
                <a:chExt cx="780120" cy="8204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479960" y="1616760"/>
                  <a:ext cx="780120" cy="9504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479960" y="1616760"/>
                  <a:ext cx="780120" cy="9504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479960" y="1718640"/>
                  <a:ext cx="696240" cy="71856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180880" y="1616760"/>
                  <a:ext cx="78840" cy="8204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180880" y="1616760"/>
                  <a:ext cx="78840" cy="8204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"/>
              <p:cNvSpPr/>
              <p:nvPr/>
            </p:nvSpPr>
            <p:spPr>
              <a:xfrm>
                <a:off x="1447920" y="1596600"/>
                <a:ext cx="779760" cy="813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447920" y="1596600"/>
                <a:ext cx="779760" cy="813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447920" y="1683000"/>
                <a:ext cx="694800" cy="73404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151360" y="1596600"/>
                <a:ext cx="75960" cy="820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151360" y="1596600"/>
                <a:ext cx="75960" cy="820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3" name=""/>
              <p:cNvGrpSpPr/>
              <p:nvPr/>
            </p:nvGrpSpPr>
            <p:grpSpPr>
              <a:xfrm>
                <a:off x="1500120" y="1759680"/>
                <a:ext cx="587520" cy="595800"/>
                <a:chOff x="1500120" y="1759680"/>
                <a:chExt cx="587520" cy="59580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1552320" y="1825920"/>
                  <a:ext cx="483120" cy="44136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540800" y="1825920"/>
                  <a:ext cx="514080" cy="44136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992960" y="1759680"/>
                  <a:ext cx="94680" cy="15768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992960" y="2189160"/>
                  <a:ext cx="94680" cy="1562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500120" y="1759680"/>
                  <a:ext cx="73080" cy="15768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500120" y="2201040"/>
                  <a:ext cx="73080" cy="15444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1464840" y="1219320"/>
              <a:ext cx="745560" cy="495720"/>
              <a:chOff x="1464840" y="1219320"/>
              <a:chExt cx="745560" cy="4957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67000" y="1427040"/>
                <a:ext cx="725040" cy="2880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1464840" y="1374120"/>
                <a:ext cx="743400" cy="2156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464840" y="1374120"/>
                <a:ext cx="743400" cy="2156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1467000" y="1219320"/>
                <a:ext cx="725040" cy="2880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845720" y="1260360"/>
                <a:ext cx="2455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845720" y="1260360"/>
                <a:ext cx="2455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1577520" y="1374120"/>
                <a:ext cx="243720" cy="1015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577520" y="1374120"/>
                <a:ext cx="243720" cy="1015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591560" y="1253160"/>
                <a:ext cx="245520" cy="993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591560" y="1253160"/>
                <a:ext cx="245520" cy="993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837440" y="1383840"/>
                <a:ext cx="2437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837440" y="1383840"/>
                <a:ext cx="2437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850040" y="1265400"/>
                <a:ext cx="243360" cy="964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850040" y="1265400"/>
                <a:ext cx="243360" cy="964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583640" y="1376640"/>
                <a:ext cx="243720" cy="1036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583640" y="1376640"/>
                <a:ext cx="243720" cy="1036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595880" y="1260360"/>
                <a:ext cx="2437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595880" y="1260360"/>
                <a:ext cx="243720" cy="9648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839960" y="1388880"/>
                <a:ext cx="245160" cy="964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839960" y="1388880"/>
                <a:ext cx="245160" cy="964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208240" y="1366920"/>
                <a:ext cx="2160" cy="214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2" name=""/>
          <p:cNvGrpSpPr/>
          <p:nvPr/>
        </p:nvGrpSpPr>
        <p:grpSpPr>
          <a:xfrm>
            <a:off x="7772400" y="1371600"/>
            <a:ext cx="990000" cy="565920"/>
            <a:chOff x="7772400" y="1371600"/>
            <a:chExt cx="990000" cy="565920"/>
          </a:xfrm>
        </p:grpSpPr>
        <p:sp>
          <p:nvSpPr>
            <p:cNvPr id="1863" name=""/>
            <p:cNvSpPr/>
            <p:nvPr/>
          </p:nvSpPr>
          <p:spPr>
            <a:xfrm>
              <a:off x="7774200" y="1608120"/>
              <a:ext cx="963720" cy="3294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772400" y="1548000"/>
              <a:ext cx="988200" cy="2462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772400" y="1548000"/>
              <a:ext cx="988200" cy="246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74200" y="1371600"/>
              <a:ext cx="963720" cy="32940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278920" y="1418040"/>
              <a:ext cx="326160" cy="1101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78920" y="1418040"/>
              <a:ext cx="326160" cy="1101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922520" y="1548000"/>
              <a:ext cx="324360" cy="116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922520" y="1548000"/>
              <a:ext cx="324360" cy="116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941240" y="1410120"/>
              <a:ext cx="326520" cy="112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41240" y="1410120"/>
              <a:ext cx="326520" cy="112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67760" y="1559520"/>
              <a:ext cx="324000" cy="1108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267760" y="1559520"/>
              <a:ext cx="324000" cy="1108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84320" y="1423800"/>
              <a:ext cx="322560" cy="1101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284320" y="1423800"/>
              <a:ext cx="322560" cy="1101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930080" y="1551960"/>
              <a:ext cx="324360" cy="1180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930080" y="1551960"/>
              <a:ext cx="324360" cy="11808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946640" y="1418040"/>
              <a:ext cx="322560" cy="1101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946640" y="1418040"/>
              <a:ext cx="322560" cy="1101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269560" y="1565640"/>
              <a:ext cx="328320" cy="1101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269560" y="1565640"/>
              <a:ext cx="328320" cy="1101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760600" y="1540080"/>
              <a:ext cx="1800" cy="2462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148840" y="49068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Conexión con Línea Privada Local</a:t>
            </a:r>
            <a:r>
              <a:rPr b="0" lang="es-MX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0000" y="3048120"/>
            <a:ext cx="841032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iudades en donde se pude conectar un Afiliad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inea Priva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exico D.F.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  Monterrey N.L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Guadalajara Jal.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uebla Pue.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  Cd. Juarez Chih.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nsenada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Jalapa Ver.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     Cd. Victoria         Cuernavaca M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chuca H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2209680" y="1600200"/>
            <a:ext cx="556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37840" y="2438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sociado Acadé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7792920" y="22860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fil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83920" y="114948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inea Priv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341680" y="114300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lmex o Ava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4D21-FEC8-455A-8EF4-2761857AD5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533520" y="2666880"/>
            <a:ext cx="710640" cy="1066320"/>
            <a:chOff x="533520" y="2666880"/>
            <a:chExt cx="710640" cy="1066320"/>
          </a:xfrm>
        </p:grpSpPr>
        <p:grpSp>
          <p:nvGrpSpPr>
            <p:cNvPr id="1893" name=""/>
            <p:cNvGrpSpPr/>
            <p:nvPr/>
          </p:nvGrpSpPr>
          <p:grpSpPr>
            <a:xfrm>
              <a:off x="533520" y="2997000"/>
              <a:ext cx="710640" cy="736200"/>
              <a:chOff x="533520" y="2997000"/>
              <a:chExt cx="710640" cy="736200"/>
            </a:xfrm>
          </p:grpSpPr>
          <p:grpSp>
            <p:nvGrpSpPr>
              <p:cNvPr id="1894" name=""/>
              <p:cNvGrpSpPr/>
              <p:nvPr/>
            </p:nvGrpSpPr>
            <p:grpSpPr>
              <a:xfrm>
                <a:off x="561600" y="3014640"/>
                <a:ext cx="682560" cy="718560"/>
                <a:chOff x="561600" y="3014640"/>
                <a:chExt cx="682560" cy="71856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561600" y="3014640"/>
                  <a:ext cx="682560" cy="831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561600" y="3014640"/>
                  <a:ext cx="682560" cy="831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561600" y="3103920"/>
                  <a:ext cx="609120" cy="62892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74680" y="3014640"/>
                  <a:ext cx="69120" cy="71856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174680" y="3014640"/>
                  <a:ext cx="69120" cy="71856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0" name=""/>
              <p:cNvSpPr/>
              <p:nvPr/>
            </p:nvSpPr>
            <p:spPr>
              <a:xfrm>
                <a:off x="533520" y="2997000"/>
                <a:ext cx="682200" cy="7128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3520" y="2997000"/>
                <a:ext cx="682200" cy="7128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33520" y="3072600"/>
                <a:ext cx="608040" cy="64260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149120" y="2997000"/>
                <a:ext cx="66600" cy="71856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149120" y="2997000"/>
                <a:ext cx="66600" cy="71856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5" name=""/>
              <p:cNvGrpSpPr/>
              <p:nvPr/>
            </p:nvGrpSpPr>
            <p:grpSpPr>
              <a:xfrm>
                <a:off x="578880" y="3139920"/>
                <a:ext cx="514080" cy="521280"/>
                <a:chOff x="578880" y="3139920"/>
                <a:chExt cx="514080" cy="5212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624240" y="3197880"/>
                  <a:ext cx="422640" cy="38628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14520" y="3197880"/>
                  <a:ext cx="450000" cy="38628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010160" y="3139920"/>
                  <a:ext cx="82800" cy="13824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010160" y="3515760"/>
                  <a:ext cx="82800" cy="1368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78880" y="3139920"/>
                  <a:ext cx="64080" cy="13824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578880" y="3526200"/>
                  <a:ext cx="64080" cy="13500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2" name=""/>
            <p:cNvGrpSpPr/>
            <p:nvPr/>
          </p:nvGrpSpPr>
          <p:grpSpPr>
            <a:xfrm>
              <a:off x="548280" y="2666880"/>
              <a:ext cx="652320" cy="433800"/>
              <a:chOff x="548280" y="2666880"/>
              <a:chExt cx="652320" cy="433800"/>
            </a:xfrm>
          </p:grpSpPr>
          <p:sp>
            <p:nvSpPr>
              <p:cNvPr id="1913" name=""/>
              <p:cNvSpPr/>
              <p:nvPr/>
            </p:nvSpPr>
            <p:spPr>
              <a:xfrm>
                <a:off x="550080" y="2848680"/>
                <a:ext cx="634320" cy="2520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48280" y="2802240"/>
                <a:ext cx="650520" cy="1886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48280" y="2802240"/>
                <a:ext cx="650520" cy="1886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50080" y="2666880"/>
                <a:ext cx="634320" cy="2520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881640" y="2702880"/>
                <a:ext cx="21492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881640" y="2702880"/>
                <a:ext cx="21492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46920" y="2802240"/>
                <a:ext cx="213480" cy="88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6920" y="2802240"/>
                <a:ext cx="213480" cy="88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59160" y="2696400"/>
                <a:ext cx="214920" cy="86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59160" y="2696400"/>
                <a:ext cx="214920" cy="86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74440" y="2810880"/>
                <a:ext cx="21348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874440" y="2810880"/>
                <a:ext cx="21348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885240" y="2707200"/>
                <a:ext cx="213120" cy="842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885240" y="2707200"/>
                <a:ext cx="213120" cy="842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51960" y="2804760"/>
                <a:ext cx="213480" cy="90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51960" y="2804760"/>
                <a:ext cx="213480" cy="90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62760" y="2702880"/>
                <a:ext cx="21348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62760" y="2702880"/>
                <a:ext cx="213480" cy="842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876240" y="2815200"/>
                <a:ext cx="214560" cy="842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876240" y="2815200"/>
                <a:ext cx="214560" cy="842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198800" y="2796120"/>
                <a:ext cx="1800" cy="1882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8001000" y="5486400"/>
            <a:ext cx="837720" cy="480600"/>
            <a:chOff x="8001000" y="5486400"/>
            <a:chExt cx="837720" cy="480600"/>
          </a:xfrm>
        </p:grpSpPr>
        <p:sp>
          <p:nvSpPr>
            <p:cNvPr id="1935" name=""/>
            <p:cNvSpPr/>
            <p:nvPr/>
          </p:nvSpPr>
          <p:spPr>
            <a:xfrm>
              <a:off x="8002440" y="5687280"/>
              <a:ext cx="815400" cy="2797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001000" y="5636160"/>
              <a:ext cx="836280" cy="209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001000" y="5636160"/>
              <a:ext cx="836280" cy="20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002440" y="5486400"/>
              <a:ext cx="815400" cy="2797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429400" y="5526000"/>
              <a:ext cx="275760" cy="936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429400" y="5526000"/>
              <a:ext cx="275760" cy="936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127720" y="5636160"/>
              <a:ext cx="274320" cy="99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127720" y="5636160"/>
              <a:ext cx="274320" cy="99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143560" y="5519160"/>
              <a:ext cx="276120" cy="954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8143560" y="5519160"/>
              <a:ext cx="276120" cy="954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420040" y="5645880"/>
              <a:ext cx="273960" cy="939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20040" y="5645880"/>
              <a:ext cx="273960" cy="9396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4080" y="5530680"/>
              <a:ext cx="272880" cy="93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434080" y="5530680"/>
              <a:ext cx="272880" cy="93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134200" y="5639400"/>
              <a:ext cx="274320" cy="1004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134200" y="5639400"/>
              <a:ext cx="274320" cy="1004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148240" y="5526000"/>
              <a:ext cx="272880" cy="936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148240" y="5526000"/>
              <a:ext cx="272880" cy="936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421480" y="5650920"/>
              <a:ext cx="277560" cy="93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8421480" y="5650920"/>
              <a:ext cx="277560" cy="93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837280" y="5629320"/>
              <a:ext cx="1440" cy="209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723240" y="91440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Tahoma"/>
              </a:rPr>
              <a:t>Conexión con Enlace Dedicado de Larg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55520" y="22096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sociado Acadé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931080" y="591660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fi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516480" y="185580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elmex o Ava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066680" y="1600200"/>
            <a:ext cx="7010640" cy="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791320" y="4495680"/>
            <a:ext cx="5331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438280" y="4572000"/>
            <a:ext cx="53352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324480" y="4876920"/>
            <a:ext cx="17528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987640" y="486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914400" y="3733920"/>
            <a:ext cx="15238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15120" y="5105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ol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996200" y="518148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Mexico D.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4137120" y="2971800"/>
            <a:ext cx="869760" cy="550800"/>
            <a:chOff x="4137120" y="2971800"/>
            <a:chExt cx="869760" cy="550800"/>
          </a:xfrm>
        </p:grpSpPr>
        <p:sp>
          <p:nvSpPr>
            <p:cNvPr id="1969" name=""/>
            <p:cNvSpPr/>
            <p:nvPr/>
          </p:nvSpPr>
          <p:spPr>
            <a:xfrm>
              <a:off x="4137120" y="2971800"/>
              <a:ext cx="37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137120" y="2971800"/>
              <a:ext cx="869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4146480" y="31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46D0-E351-4AD7-91E4-E3EC0E88F6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/>
          <p:nvPr/>
        </p:nvSpPr>
        <p:spPr>
          <a:xfrm>
            <a:off x="2133720" y="50292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dos de afi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676520" y="53352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ahoma"/>
              </a:rPr>
              <a:t>Conexión por VPN 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219320" y="1143000"/>
            <a:ext cx="6516720" cy="14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95680" y="1828800"/>
            <a:ext cx="4267440" cy="259236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943600" y="2895480"/>
            <a:ext cx="12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5486400" y="4343400"/>
            <a:ext cx="3268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7391160" y="4266720"/>
            <a:ext cx="492120" cy="90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5029200" y="5105520"/>
            <a:ext cx="1218960" cy="697680"/>
            <a:chOff x="5029200" y="5105520"/>
            <a:chExt cx="1218960" cy="697680"/>
          </a:xfrm>
        </p:grpSpPr>
        <p:sp>
          <p:nvSpPr>
            <p:cNvPr id="1980" name=""/>
            <p:cNvSpPr/>
            <p:nvPr/>
          </p:nvSpPr>
          <p:spPr>
            <a:xfrm>
              <a:off x="5031720" y="5397120"/>
              <a:ext cx="1185840" cy="40608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029200" y="5322960"/>
              <a:ext cx="1216440" cy="3034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029200" y="5322960"/>
              <a:ext cx="1216440" cy="303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031720" y="5105520"/>
              <a:ext cx="1185840" cy="40608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652360" y="5162760"/>
              <a:ext cx="40140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652360" y="5162760"/>
              <a:ext cx="40140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13880" y="5322960"/>
              <a:ext cx="399240" cy="143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213880" y="5322960"/>
              <a:ext cx="399240" cy="143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236920" y="5153040"/>
              <a:ext cx="401760" cy="138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36920" y="5153040"/>
              <a:ext cx="401760" cy="138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639040" y="5337000"/>
              <a:ext cx="398880" cy="1364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639040" y="5337000"/>
              <a:ext cx="398880" cy="1364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659200" y="51699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59200" y="51699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223240" y="5327640"/>
              <a:ext cx="399240" cy="145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223240" y="5327640"/>
              <a:ext cx="399240" cy="145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243760" y="51627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43760" y="51627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640840" y="5344560"/>
              <a:ext cx="40392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640840" y="5344560"/>
              <a:ext cx="40392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245640" y="5313240"/>
              <a:ext cx="2520" cy="3034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620120" y="5105520"/>
            <a:ext cx="1218600" cy="697680"/>
            <a:chOff x="7620120" y="5105520"/>
            <a:chExt cx="1218600" cy="697680"/>
          </a:xfrm>
        </p:grpSpPr>
        <p:sp>
          <p:nvSpPr>
            <p:cNvPr id="2002" name=""/>
            <p:cNvSpPr/>
            <p:nvPr/>
          </p:nvSpPr>
          <p:spPr>
            <a:xfrm>
              <a:off x="7622640" y="5397120"/>
              <a:ext cx="1185480" cy="40608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620120" y="5322960"/>
              <a:ext cx="1216080" cy="30348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20120" y="5322960"/>
              <a:ext cx="1216080" cy="303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622640" y="5105520"/>
              <a:ext cx="1185480" cy="40608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243280" y="5162760"/>
              <a:ext cx="40104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243280" y="5162760"/>
              <a:ext cx="40104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804800" y="5322960"/>
              <a:ext cx="399240" cy="143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804800" y="5322960"/>
              <a:ext cx="399240" cy="14364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827840" y="5153040"/>
              <a:ext cx="401760" cy="138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827840" y="5153040"/>
              <a:ext cx="401760" cy="1386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229600" y="5337000"/>
              <a:ext cx="398520" cy="1364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229600" y="5337000"/>
              <a:ext cx="398520" cy="1364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250120" y="51699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0120" y="51699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814160" y="5327640"/>
              <a:ext cx="399240" cy="145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814160" y="5327640"/>
              <a:ext cx="399240" cy="145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834320" y="51627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834320" y="5162760"/>
              <a:ext cx="397080" cy="1360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231760" y="5344560"/>
              <a:ext cx="40392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31760" y="5344560"/>
              <a:ext cx="403920" cy="1360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836200" y="5313240"/>
              <a:ext cx="2520" cy="30348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5883120" y="335268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57200" y="2438280"/>
            <a:ext cx="237816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235880" y="30481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2666880" y="2924280"/>
            <a:ext cx="1976400" cy="4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9731-B9EC-4908-9921-4AE8373BE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990720" y="228600"/>
            <a:ext cx="716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Enlaces VPN para Internet 2 e Internet comer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6934320" y="5257800"/>
            <a:ext cx="934560" cy="534600"/>
            <a:chOff x="6934320" y="5257800"/>
            <a:chExt cx="934560" cy="534600"/>
          </a:xfrm>
        </p:grpSpPr>
        <p:sp>
          <p:nvSpPr>
            <p:cNvPr id="2029" name=""/>
            <p:cNvSpPr/>
            <p:nvPr/>
          </p:nvSpPr>
          <p:spPr>
            <a:xfrm>
              <a:off x="6936120" y="5481360"/>
              <a:ext cx="909360" cy="31104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934320" y="5424120"/>
              <a:ext cx="932760" cy="2325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934320" y="5424120"/>
              <a:ext cx="932760" cy="232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936120" y="5257800"/>
              <a:ext cx="909360" cy="31104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412040" y="5301720"/>
              <a:ext cx="30780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412040" y="5301720"/>
              <a:ext cx="30780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075800" y="5424120"/>
              <a:ext cx="306000" cy="109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75800" y="5424120"/>
              <a:ext cx="306000" cy="109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093440" y="5294160"/>
              <a:ext cx="308160" cy="1062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093440" y="5294160"/>
              <a:ext cx="308160" cy="1062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401960" y="5434920"/>
              <a:ext cx="305640" cy="1044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401960" y="5434920"/>
              <a:ext cx="305640" cy="1044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417440" y="530712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417440" y="530712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083000" y="5428080"/>
              <a:ext cx="306000" cy="1116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83000" y="5428080"/>
              <a:ext cx="306000" cy="1116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098840" y="530172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098840" y="530172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03400" y="5441040"/>
              <a:ext cx="30960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403400" y="5441040"/>
              <a:ext cx="30960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867080" y="5416920"/>
              <a:ext cx="1800" cy="2325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1295280" y="1371600"/>
            <a:ext cx="5702400" cy="14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419720" y="3200400"/>
            <a:ext cx="237780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876920" y="358128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4267080" y="4343400"/>
            <a:ext cx="32724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H="1" flipV="1">
            <a:off x="6552720" y="4495320"/>
            <a:ext cx="492120" cy="90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556000" y="2708280"/>
            <a:ext cx="2608200" cy="63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095880" y="1295280"/>
            <a:ext cx="1905120" cy="135576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7712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OD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5943600" y="2286000"/>
            <a:ext cx="380880" cy="1295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04920" y="48006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dos de afil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3657600" y="5181480"/>
            <a:ext cx="934560" cy="534600"/>
            <a:chOff x="3657600" y="5181480"/>
            <a:chExt cx="934560" cy="534600"/>
          </a:xfrm>
        </p:grpSpPr>
        <p:sp>
          <p:nvSpPr>
            <p:cNvPr id="2061" name=""/>
            <p:cNvSpPr/>
            <p:nvPr/>
          </p:nvSpPr>
          <p:spPr>
            <a:xfrm>
              <a:off x="3659400" y="5405040"/>
              <a:ext cx="909360" cy="31104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57600" y="5347800"/>
              <a:ext cx="932760" cy="2325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657600" y="5347800"/>
              <a:ext cx="932760" cy="232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659400" y="5181480"/>
              <a:ext cx="909360" cy="31104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135320" y="5225400"/>
              <a:ext cx="30780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135320" y="5225400"/>
              <a:ext cx="30780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9080" y="5347800"/>
              <a:ext cx="306000" cy="109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9080" y="5347800"/>
              <a:ext cx="306000" cy="1098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816720" y="5217840"/>
              <a:ext cx="308160" cy="1062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16720" y="5217840"/>
              <a:ext cx="308160" cy="10620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125240" y="5358600"/>
              <a:ext cx="305640" cy="1044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125240" y="5358600"/>
              <a:ext cx="305640" cy="10440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140720" y="523080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140720" y="523080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06280" y="5351760"/>
              <a:ext cx="306000" cy="1116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06280" y="5351760"/>
              <a:ext cx="306000" cy="1116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22120" y="522540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22120" y="5225400"/>
              <a:ext cx="304560" cy="104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126680" y="5364720"/>
              <a:ext cx="30960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26680" y="5364720"/>
              <a:ext cx="309600" cy="10404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90360" y="5340600"/>
              <a:ext cx="1800" cy="2325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 rot="871200">
            <a:off x="3211920" y="32004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terne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4920" y="1981080"/>
            <a:ext cx="237780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57200" y="2438280"/>
            <a:ext cx="237816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09480" y="2590920"/>
            <a:ext cx="237816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159560" y="28195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740120" y="38862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B3E0-107B-4A99-9BBC-E6F1202B50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. Avances en el la red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I. Alternativas de Conexión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II. Coordinación de Instalación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V. Información Técnic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/>
          <p:nvPr/>
        </p:nvSpPr>
        <p:spPr>
          <a:xfrm>
            <a:off x="-15017760" y="-49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9" name="" descr=""/>
          <p:cNvPicPr/>
          <p:nvPr/>
        </p:nvPicPr>
        <p:blipFill>
          <a:blip r:embed="rId1"/>
          <a:stretch/>
        </p:blipFill>
        <p:spPr>
          <a:xfrm>
            <a:off x="-15017760" y="-4917960"/>
            <a:ext cx="92160" cy="342720"/>
          </a:xfrm>
          <a:prstGeom prst="rect">
            <a:avLst/>
          </a:prstGeom>
          <a:ln w="0">
            <a:noFill/>
          </a:ln>
        </p:spPr>
      </p:pic>
      <p:grpSp>
        <p:nvGrpSpPr>
          <p:cNvPr id="2090" name=""/>
          <p:cNvGrpSpPr/>
          <p:nvPr/>
        </p:nvGrpSpPr>
        <p:grpSpPr>
          <a:xfrm>
            <a:off x="-10536120" y="-4917960"/>
            <a:ext cx="181080" cy="457200"/>
            <a:chOff x="-10536120" y="-4917960"/>
            <a:chExt cx="181080" cy="457200"/>
          </a:xfrm>
        </p:grpSpPr>
        <p:sp>
          <p:nvSpPr>
            <p:cNvPr id="2091" name=""/>
            <p:cNvSpPr/>
            <p:nvPr/>
          </p:nvSpPr>
          <p:spPr>
            <a:xfrm>
              <a:off x="-10536120" y="-4917960"/>
              <a:ext cx="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-10445400" y="-4917960"/>
              <a:ext cx="88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-10356480" y="-4917960"/>
              <a:ext cx="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4" name="" descr=""/>
          <p:cNvPicPr/>
          <p:nvPr/>
        </p:nvPicPr>
        <p:blipFill>
          <a:blip r:embed="rId2"/>
          <a:stretch/>
        </p:blipFill>
        <p:spPr>
          <a:xfrm>
            <a:off x="-15017760" y="-4917960"/>
            <a:ext cx="4308480" cy="296640"/>
          </a:xfrm>
          <a:prstGeom prst="rect">
            <a:avLst/>
          </a:prstGeom>
          <a:ln w="0">
            <a:noFill/>
          </a:ln>
        </p:spPr>
      </p:pic>
      <p:grpSp>
        <p:nvGrpSpPr>
          <p:cNvPr id="2095" name=""/>
          <p:cNvGrpSpPr/>
          <p:nvPr/>
        </p:nvGrpSpPr>
        <p:grpSpPr>
          <a:xfrm>
            <a:off x="-15017760" y="-4460760"/>
            <a:ext cx="39180960" cy="15600240"/>
            <a:chOff x="-15017760" y="-4460760"/>
            <a:chExt cx="39180960" cy="15600240"/>
          </a:xfrm>
        </p:grpSpPr>
        <p:sp>
          <p:nvSpPr>
            <p:cNvPr id="2096" name=""/>
            <p:cNvSpPr/>
            <p:nvPr/>
          </p:nvSpPr>
          <p:spPr>
            <a:xfrm>
              <a:off x="-15017760" y="-4460760"/>
              <a:ext cx="914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"/>
            <p:cNvGrpSpPr/>
            <p:nvPr/>
          </p:nvGrpSpPr>
          <p:grpSpPr>
            <a:xfrm>
              <a:off x="-15017760" y="-4003560"/>
              <a:ext cx="39180960" cy="15143040"/>
              <a:chOff x="-15017760" y="-4003560"/>
              <a:chExt cx="39180960" cy="15143040"/>
            </a:xfrm>
          </p:grpSpPr>
          <p:grpSp>
            <p:nvGrpSpPr>
              <p:cNvPr id="2098" name=""/>
              <p:cNvGrpSpPr/>
              <p:nvPr/>
            </p:nvGrpSpPr>
            <p:grpSpPr>
              <a:xfrm>
                <a:off x="-15017760" y="-4003560"/>
                <a:ext cx="39180960" cy="15143040"/>
                <a:chOff x="-15017760" y="-4003560"/>
                <a:chExt cx="39180960" cy="15143040"/>
              </a:xfrm>
            </p:grpSpPr>
            <p:sp>
              <p:nvSpPr>
                <p:cNvPr id="2099" name=""/>
                <p:cNvSpPr/>
                <p:nvPr/>
              </p:nvSpPr>
              <p:spPr>
                <a:xfrm>
                  <a:off x="-15017760" y="-400356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-15017760" y="-4003560"/>
                  <a:ext cx="7772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 su carácter de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sociados Académicos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1" name=""/>
                <p:cNvGrpSpPr/>
                <p:nvPr/>
              </p:nvGrpSpPr>
              <p:grpSpPr>
                <a:xfrm>
                  <a:off x="-15017760" y="-3759120"/>
                  <a:ext cx="39180960" cy="14898600"/>
                  <a:chOff x="-15017760" y="-3759120"/>
                  <a:chExt cx="39180960" cy="14898600"/>
                </a:xfrm>
              </p:grpSpPr>
              <p:grpSp>
                <p:nvGrpSpPr>
                  <p:cNvPr id="2102" name=""/>
                  <p:cNvGrpSpPr/>
                  <p:nvPr/>
                </p:nvGrpSpPr>
                <p:grpSpPr>
                  <a:xfrm>
                    <a:off x="-14925600" y="-3759120"/>
                    <a:ext cx="39088800" cy="14119200"/>
                    <a:chOff x="-14925600" y="-3759120"/>
                    <a:chExt cx="39088800" cy="14119200"/>
                  </a:xfrm>
                </p:grpSpPr>
                <p:grpSp>
                  <p:nvGrpSpPr>
                    <p:cNvPr id="2103" name=""/>
                    <p:cNvGrpSpPr/>
                    <p:nvPr/>
                  </p:nvGrpSpPr>
                  <p:grpSpPr>
                    <a:xfrm>
                      <a:off x="-14925600" y="-3759120"/>
                      <a:ext cx="583920" cy="581400"/>
                      <a:chOff x="-14925600" y="-3759120"/>
                      <a:chExt cx="583920" cy="581400"/>
                    </a:xfrm>
                  </p:grpSpPr>
                  <p:sp>
                    <p:nvSpPr>
                      <p:cNvPr id="2104" name=""/>
                      <p:cNvSpPr/>
                      <p:nvPr/>
                    </p:nvSpPr>
                    <p:spPr>
                      <a:xfrm>
                        <a:off x="-14925600" y="-375912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5" name=""/>
                      <p:cNvSpPr/>
                      <p:nvPr/>
                    </p:nvSpPr>
                    <p:spPr>
                      <a:xfrm>
                        <a:off x="-14925600" y="-3759120"/>
                        <a:ext cx="58392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3"/>
                          </a:rPr>
                          <a:t>  </a:t>
                        </a:r>
                        <a:r>
                          <a:rPr b="0" lang="en-US" sz="32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06" name=""/>
                    <p:cNvSpPr/>
                    <p:nvPr/>
                  </p:nvSpPr>
                  <p:spPr>
                    <a:xfrm>
                      <a:off x="-14341320" y="-375912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Benemérita Universidad Autónoma de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Puebla 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Lic. Rafael Campos 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7" name=""/>
                    <p:cNvSpPr/>
                    <p:nvPr/>
                  </p:nvSpPr>
                  <p:spPr>
                    <a:xfrm>
                      <a:off x="-14925600" y="-2997000"/>
                      <a:ext cx="166320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8" name=""/>
                    <p:cNvSpPr/>
                    <p:nvPr/>
                  </p:nvSpPr>
                  <p:spPr>
                    <a:xfrm>
                      <a:off x="-13262040" y="-2997000"/>
                      <a:ext cx="3742524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Centro de Investigación Científica y de Educación Superior de Ensenad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. Jorge Enrique Preciado Velas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"/>
                    <p:cNvSpPr/>
                    <p:nvPr/>
                  </p:nvSpPr>
                  <p:spPr>
                    <a:xfrm>
                      <a:off x="-14925600" y="-2235240"/>
                      <a:ext cx="166320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  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0" name=""/>
                    <p:cNvSpPr/>
                    <p:nvPr/>
                  </p:nvSpPr>
                  <p:spPr>
                    <a:xfrm>
                      <a:off x="-13262040" y="-2235240"/>
                      <a:ext cx="3742524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2"/>
                        </a:rPr>
                        <a:t>Centros Públicos de Investigación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Conacyt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"/>
                        </a:rPr>
                        <a:t>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Ing. Raúl Flores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Arreola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1" name=""/>
                    <p:cNvGrpSpPr/>
                    <p:nvPr/>
                  </p:nvGrpSpPr>
                  <p:grpSpPr>
                    <a:xfrm>
                      <a:off x="-14925600" y="-1625400"/>
                      <a:ext cx="583920" cy="550800"/>
                      <a:chOff x="-14925600" y="-1625400"/>
                      <a:chExt cx="583920" cy="550800"/>
                    </a:xfrm>
                  </p:grpSpPr>
                  <p:sp>
                    <p:nvSpPr>
                      <p:cNvPr id="2112" name=""/>
                      <p:cNvSpPr/>
                      <p:nvPr/>
                    </p:nvSpPr>
                    <p:spPr>
                      <a:xfrm>
                        <a:off x="-14925600" y="-162540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3" name=""/>
                      <p:cNvSpPr/>
                      <p:nvPr/>
                    </p:nvSpPr>
                    <p:spPr>
                      <a:xfrm>
                        <a:off x="-14925600" y="-1625400"/>
                        <a:ext cx="58392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18"/>
                          </a:rPr>
                          <a:t>  </a:t>
                        </a:r>
                        <a:r>
                          <a:rPr b="0" lang="en-US" sz="30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4" name=""/>
                    <p:cNvSpPr/>
                    <p:nvPr/>
                  </p:nvSpPr>
                  <p:spPr>
                    <a:xfrm>
                      <a:off x="-14341320" y="-1625400"/>
                      <a:ext cx="3742488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"/>
                        </a:rPr>
                        <a:t>Instituto Politécnico Nacional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"/>
                        </a:rPr>
                        <a:t> Ing. Sergio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1"/>
                        </a:rPr>
                        <a:t>Viñals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2"/>
                        </a:rPr>
                        <a:t> Padilla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15" name=""/>
                    <p:cNvGrpSpPr/>
                    <p:nvPr/>
                  </p:nvGrpSpPr>
                  <p:grpSpPr>
                    <a:xfrm>
                      <a:off x="-14925600" y="-863640"/>
                      <a:ext cx="869760" cy="459720"/>
                      <a:chOff x="-14925600" y="-863640"/>
                      <a:chExt cx="869760" cy="459720"/>
                    </a:xfrm>
                  </p:grpSpPr>
                  <p:sp>
                    <p:nvSpPr>
                      <p:cNvPr id="2116" name=""/>
                      <p:cNvSpPr/>
                      <p:nvPr/>
                    </p:nvSpPr>
                    <p:spPr>
                      <a:xfrm>
                        <a:off x="-14925600" y="-86364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7" name=""/>
                      <p:cNvSpPr/>
                      <p:nvPr/>
                    </p:nvSpPr>
                    <p:spPr>
                      <a:xfrm>
                        <a:off x="-14925600" y="-863640"/>
                        <a:ext cx="869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23"/>
                          </a:rPr>
                          <a:t>  </a:t>
                        </a:r>
                        <a:r>
                          <a:rPr b="0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Times New Roman"/>
                          </a:rPr>
                          <a:t> 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8" name=""/>
                    <p:cNvSpPr/>
                    <p:nvPr/>
                  </p:nvSpPr>
                  <p:spPr>
                    <a:xfrm>
                      <a:off x="-14055480" y="-86364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4"/>
                        </a:rPr>
                        <a:t>Instituto Latinoamericano de Comunicación Educativ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5"/>
                        </a:rPr>
                        <a:t>Lic. Gustavo Flores Verdugo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>
                      <a:off x="-14925600" y="-1015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6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-13262040" y="-1015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7"/>
                        </a:rPr>
                        <a:t>Instituto Tecnológico de Estudios Superiores de Monterrey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8"/>
                        </a:rPr>
                        <a:t>Ing. Juan José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9"/>
                        </a:rPr>
                        <a:t>Zamanill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0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-14925600" y="67644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1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-13262040" y="67644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2"/>
                        </a:rPr>
                        <a:t>Laboratorio Nacional de Informática Avanzad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3"/>
                        </a:rPr>
                        <a:t>Dra. Cristina Loyo Vare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-14925600" y="145440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4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-13262040" y="145440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5"/>
                        </a:rPr>
                        <a:t>Universidad Autónoma de Ciudad Juárez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6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7"/>
                        </a:rPr>
                        <a:t>. Fernando Estrada Saldañ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-14925600" y="223200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-13262040" y="223200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9"/>
                        </a:rPr>
                        <a:t>Universidad Autónoma de Nuevo León _x000b_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0"/>
                        </a:rPr>
                        <a:t>Dr. Roberto Mercado Hernánde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-14925600" y="30099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-13262040" y="30099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2"/>
                        </a:rPr>
                        <a:t>Universidad Autónoma de Tamaulipas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3"/>
                        </a:rPr>
                        <a:t>Ing. Iván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4"/>
                        </a:rPr>
                        <a:t>Ogota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5"/>
                        </a:rPr>
                        <a:t> Martínez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6"/>
                        </a:rPr>
                        <a:t>Moriel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7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-14925600" y="37879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0" name=""/>
                    <p:cNvSpPr/>
                    <p:nvPr/>
                  </p:nvSpPr>
                  <p:spPr>
                    <a:xfrm>
                      <a:off x="-13262040" y="37879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9"/>
                        </a:rPr>
                        <a:t>Universidad Autónoma del Estado de Hidalgo </a:t>
                      </a:r>
                      <a:br>
                        <a:rPr sz="11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0"/>
                        </a:rPr>
                        <a:t>Alejandro Mendoza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1"/>
                        </a:rPr>
                        <a:t>Gamiñ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2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1" name=""/>
                    <p:cNvGrpSpPr/>
                    <p:nvPr/>
                  </p:nvGrpSpPr>
                  <p:grpSpPr>
                    <a:xfrm>
                      <a:off x="-14925600" y="4565880"/>
                      <a:ext cx="793440" cy="977400"/>
                      <a:chOff x="-14925600" y="4565880"/>
                      <a:chExt cx="793440" cy="977400"/>
                    </a:xfrm>
                  </p:grpSpPr>
                  <p:sp>
                    <p:nvSpPr>
                      <p:cNvPr id="2132" name=""/>
                      <p:cNvSpPr/>
                      <p:nvPr/>
                    </p:nvSpPr>
                    <p:spPr>
                      <a:xfrm>
                        <a:off x="-14925600" y="456588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3" name=""/>
                      <p:cNvSpPr/>
                      <p:nvPr/>
                    </p:nvSpPr>
                    <p:spPr>
                      <a:xfrm>
                        <a:off x="-14925600" y="4565880"/>
                        <a:ext cx="793440" cy="97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53"/>
                          </a:rPr>
                          <a:t>  </a:t>
                        </a:r>
                        <a:r>
                          <a:rPr b="0" lang="en-US" sz="3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34" name=""/>
                    <p:cNvSpPr/>
                    <p:nvPr/>
                  </p:nvSpPr>
                  <p:spPr>
                    <a:xfrm>
                      <a:off x="-14131800" y="4565880"/>
                      <a:ext cx="37424880" cy="97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4"/>
                        </a:rPr>
                        <a:t>Universidad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5"/>
                        </a:rPr>
                        <a:t>Autonoma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6"/>
                        </a:rPr>
                        <a:t> del Estado de Morelos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7"/>
                        </a:rPr>
                        <a:t>Ing. Rafael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8"/>
                        </a:rPr>
                        <a:t>Abur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9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0"/>
                        </a:rPr>
                        <a:t>Pelanis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5" name=""/>
                    <p:cNvSpPr/>
                    <p:nvPr/>
                  </p:nvSpPr>
                  <p:spPr>
                    <a:xfrm>
                      <a:off x="-14925600" y="554040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6" name=""/>
                    <p:cNvSpPr/>
                    <p:nvPr/>
                  </p:nvSpPr>
                  <p:spPr>
                    <a:xfrm>
                      <a:off x="-13262040" y="554040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2"/>
                        </a:rPr>
                        <a:t>Universidad Autónoma Metropolit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3"/>
                        </a:rPr>
                        <a:t>Ing.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4"/>
                        </a:rPr>
                        <a:t>Walther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5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6"/>
                        </a:rPr>
                        <a:t>Antoniol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7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8"/>
                        </a:rPr>
                        <a:t>Ravet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9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7" name=""/>
                    <p:cNvSpPr/>
                    <p:nvPr/>
                  </p:nvSpPr>
                  <p:spPr>
                    <a:xfrm>
                      <a:off x="-14925600" y="63183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0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8" name=""/>
                    <p:cNvSpPr/>
                    <p:nvPr/>
                  </p:nvSpPr>
                  <p:spPr>
                    <a:xfrm>
                      <a:off x="-13262040" y="63183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1"/>
                        </a:rPr>
                        <a:t>Universidad de Guadalajar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2"/>
                        </a:rPr>
                        <a:t>Dr. Héctor Gómez Hernández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39" name=""/>
                    <p:cNvGrpSpPr/>
                    <p:nvPr/>
                  </p:nvGrpSpPr>
                  <p:grpSpPr>
                    <a:xfrm>
                      <a:off x="-14925600" y="7096320"/>
                      <a:ext cx="869760" cy="932040"/>
                      <a:chOff x="-14925600" y="7096320"/>
                      <a:chExt cx="869760" cy="932040"/>
                    </a:xfrm>
                  </p:grpSpPr>
                  <p:sp>
                    <p:nvSpPr>
                      <p:cNvPr id="2140" name=""/>
                      <p:cNvSpPr/>
                      <p:nvPr/>
                    </p:nvSpPr>
                    <p:spPr>
                      <a:xfrm>
                        <a:off x="-14925600" y="709632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1" name=""/>
                      <p:cNvSpPr/>
                      <p:nvPr/>
                    </p:nvSpPr>
                    <p:spPr>
                      <a:xfrm>
                        <a:off x="-14925600" y="7096320"/>
                        <a:ext cx="869760" cy="93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73"/>
                          </a:rPr>
                          <a:t>  </a:t>
                        </a:r>
                        <a:r>
                          <a:rPr b="0" lang="en-US" sz="3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42" name=""/>
                    <p:cNvSpPr/>
                    <p:nvPr/>
                  </p:nvSpPr>
                  <p:spPr>
                    <a:xfrm>
                      <a:off x="-14055480" y="7096320"/>
                      <a:ext cx="37424880" cy="930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4"/>
                        </a:rPr>
                        <a:t>Universidad Autónoma de La Lagu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5"/>
                        </a:rPr>
                        <a:t>Dr. Pascual Arturo Hernández Guerra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3" name=""/>
                    <p:cNvSpPr/>
                    <p:nvPr/>
                  </p:nvSpPr>
                  <p:spPr>
                    <a:xfrm>
                      <a:off x="-14925600" y="80265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6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4" name=""/>
                    <p:cNvSpPr/>
                    <p:nvPr/>
                  </p:nvSpPr>
                  <p:spPr>
                    <a:xfrm>
                      <a:off x="-13262040" y="80265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7"/>
                        </a:rPr>
                        <a:t>Universidad de Las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8"/>
                        </a:rPr>
                        <a:t>Américas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9"/>
                        </a:rPr>
                        <a:t>-Puebla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0"/>
                        </a:rPr>
                        <a:t>Héctor Eduardo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1"/>
                        </a:rPr>
                        <a:t>Lazzeri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5" name=""/>
                    <p:cNvSpPr/>
                    <p:nvPr/>
                  </p:nvSpPr>
                  <p:spPr>
                    <a:xfrm>
                      <a:off x="-14925600" y="880452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2"/>
                        </a:rPr>
                        <a:t>  </a:t>
                      </a: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6" name=""/>
                    <p:cNvSpPr/>
                    <p:nvPr/>
                  </p:nvSpPr>
                  <p:spPr>
                    <a:xfrm>
                      <a:off x="-13262040" y="880452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3"/>
                        </a:rPr>
                        <a:t>Universidad Nacional Autónoma de México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4"/>
                        </a:rPr>
                        <a:t>Dr. Alejandro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5"/>
                        </a:rPr>
                        <a:t>Pisanty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6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7"/>
                        </a:rPr>
                        <a:t>Baruch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8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7" name=""/>
                    <p:cNvSpPr/>
                    <p:nvPr/>
                  </p:nvSpPr>
                  <p:spPr>
                    <a:xfrm>
                      <a:off x="-14925600" y="95821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9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8" name=""/>
                    <p:cNvSpPr/>
                    <p:nvPr/>
                  </p:nvSpPr>
                  <p:spPr>
                    <a:xfrm>
                      <a:off x="-13262040" y="95821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0"/>
                        </a:rPr>
                        <a:t>Universidad Veracruz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1"/>
                        </a:rPr>
                        <a:t>Dr. Ramón Parra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2"/>
                        </a:rPr>
                        <a:t>Loera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3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49" name=""/>
                  <p:cNvSpPr/>
                  <p:nvPr/>
                </p:nvSpPr>
                <p:spPr>
                  <a:xfrm>
                    <a:off x="-15017760" y="10314000"/>
                    <a:ext cx="1839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0" name=""/>
              <p:cNvGrpSpPr/>
              <p:nvPr/>
            </p:nvGrpSpPr>
            <p:grpSpPr>
              <a:xfrm>
                <a:off x="-15017760" y="-4003560"/>
                <a:ext cx="2742120" cy="595080"/>
                <a:chOff x="-15017760" y="-4003560"/>
                <a:chExt cx="2742120" cy="595080"/>
              </a:xfrm>
            </p:grpSpPr>
            <p:sp>
              <p:nvSpPr>
                <p:cNvPr id="2151" name=""/>
                <p:cNvSpPr/>
                <p:nvPr/>
              </p:nvSpPr>
              <p:spPr>
                <a:xfrm>
                  <a:off x="-15017760" y="-4003560"/>
                  <a:ext cx="87480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-14142960" y="-4003560"/>
                  <a:ext cx="186696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hlinkClick r:id="rId94"/>
                    </a:rPr>
                    <a:t>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-12276000" y="-4003560"/>
                  <a:ext cx="36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54" name=""/>
          <p:cNvSpPr/>
          <p:nvPr/>
        </p:nvSpPr>
        <p:spPr>
          <a:xfrm>
            <a:off x="-15017760" y="11136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330066"/>
                </a:solidFill>
                <a:latin typeface="Arial"/>
                <a:ea typeface="Arial"/>
              </a:rPr>
              <a:t>Si tiene algún problema técnico para ver este sitio escríbanos 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5"/>
              </a:rPr>
              <a:t>cudi@cudi.edu.mx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6"/>
              </a:rPr>
              <a:t> </a:t>
            </a:r>
            <a:br>
              <a:rPr sz="1100"/>
            </a:br>
            <a:r>
              <a:rPr b="1" lang="es-MX" sz="600" spc="-1" strike="noStrike">
                <a:solidFill>
                  <a:srgbClr val="000000"/>
                </a:solidFill>
                <a:latin typeface="Arial"/>
                <a:ea typeface="Arial"/>
              </a:rPr>
              <a:t>Sitio elaborado por: 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7"/>
              </a:rPr>
              <a:t>www.cudi.edu.mx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8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5" name="" descr=""/>
          <p:cNvPicPr/>
          <p:nvPr/>
        </p:nvPicPr>
        <p:blipFill>
          <a:blip r:embed="rId99"/>
          <a:stretch/>
        </p:blipFill>
        <p:spPr>
          <a:xfrm>
            <a:off x="-10491840" y="-4506840"/>
            <a:ext cx="92160" cy="342720"/>
          </a:xfrm>
          <a:prstGeom prst="rect">
            <a:avLst/>
          </a:prstGeom>
          <a:ln w="0">
            <a:noFill/>
          </a:ln>
        </p:spPr>
      </p:pic>
      <p:pic>
        <p:nvPicPr>
          <p:cNvPr id="2156" name="" descr="">
            <a:hlinkClick r:id="rId100"/>
          </p:cNvPr>
          <p:cNvPicPr/>
          <p:nvPr/>
        </p:nvPicPr>
        <p:blipFill>
          <a:blip r:embed="rId101"/>
          <a:stretch/>
        </p:blipFill>
        <p:spPr>
          <a:xfrm>
            <a:off x="-14785920" y="-3713040"/>
            <a:ext cx="342720" cy="514080"/>
          </a:xfrm>
          <a:prstGeom prst="rect">
            <a:avLst/>
          </a:prstGeom>
          <a:ln w="0">
            <a:noFill/>
          </a:ln>
        </p:spPr>
      </p:pic>
      <p:pic>
        <p:nvPicPr>
          <p:cNvPr id="2157" name="" descr="">
            <a:hlinkClick r:id="rId102"/>
          </p:cNvPr>
          <p:cNvPicPr/>
          <p:nvPr/>
        </p:nvPicPr>
        <p:blipFill>
          <a:blip r:embed="rId103"/>
          <a:stretch/>
        </p:blipFill>
        <p:spPr>
          <a:xfrm>
            <a:off x="-14757480" y="-2951280"/>
            <a:ext cx="514440" cy="354240"/>
          </a:xfrm>
          <a:prstGeom prst="rect">
            <a:avLst/>
          </a:prstGeom>
          <a:ln w="0">
            <a:noFill/>
          </a:ln>
        </p:spPr>
      </p:pic>
      <p:pic>
        <p:nvPicPr>
          <p:cNvPr id="2158" name="" descr="">
            <a:hlinkClick r:id="rId104"/>
          </p:cNvPr>
          <p:cNvPicPr/>
          <p:nvPr/>
        </p:nvPicPr>
        <p:blipFill>
          <a:blip r:embed="rId105"/>
          <a:stretch/>
        </p:blipFill>
        <p:spPr>
          <a:xfrm>
            <a:off x="-14798520" y="-218916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2159" name="" descr="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-14782680" y="-1579680"/>
            <a:ext cx="342720" cy="479520"/>
          </a:xfrm>
          <a:prstGeom prst="rect">
            <a:avLst/>
          </a:prstGeom>
          <a:ln w="0">
            <a:noFill/>
          </a:ln>
        </p:spPr>
      </p:pic>
      <p:pic>
        <p:nvPicPr>
          <p:cNvPr id="2160" name="" descr="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-14757480" y="-817560"/>
            <a:ext cx="549360" cy="388800"/>
          </a:xfrm>
          <a:prstGeom prst="rect">
            <a:avLst/>
          </a:prstGeom>
          <a:ln w="0">
            <a:noFill/>
          </a:ln>
        </p:spPr>
      </p:pic>
      <p:pic>
        <p:nvPicPr>
          <p:cNvPr id="2161" name="" descr="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-14757480" y="-55440"/>
            <a:ext cx="492120" cy="617400"/>
          </a:xfrm>
          <a:prstGeom prst="rect">
            <a:avLst/>
          </a:prstGeom>
          <a:ln w="0">
            <a:noFill/>
          </a:ln>
        </p:spPr>
      </p:pic>
      <p:pic>
        <p:nvPicPr>
          <p:cNvPr id="2162" name="" descr="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-14757480" y="72216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163" name="" descr="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-14757480" y="150012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164" name="" descr="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-14757480" y="2278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165" name="" descr="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-14757480" y="3056040"/>
            <a:ext cx="514440" cy="446040"/>
          </a:xfrm>
          <a:prstGeom prst="rect">
            <a:avLst/>
          </a:prstGeom>
          <a:ln w="0">
            <a:noFill/>
          </a:ln>
        </p:spPr>
      </p:pic>
      <p:pic>
        <p:nvPicPr>
          <p:cNvPr id="2166" name="" descr="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-14757480" y="3833640"/>
            <a:ext cx="457200" cy="525600"/>
          </a:xfrm>
          <a:prstGeom prst="rect">
            <a:avLst/>
          </a:prstGeom>
          <a:ln w="0">
            <a:noFill/>
          </a:ln>
        </p:spPr>
      </p:pic>
      <p:pic>
        <p:nvPicPr>
          <p:cNvPr id="2167" name="" descr="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-14757480" y="4611600"/>
            <a:ext cx="457200" cy="549360"/>
          </a:xfrm>
          <a:prstGeom prst="rect">
            <a:avLst/>
          </a:prstGeom>
          <a:ln w="0">
            <a:noFill/>
          </a:ln>
        </p:spPr>
      </p:pic>
      <p:pic>
        <p:nvPicPr>
          <p:cNvPr id="2168" name="" descr="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-14789160" y="5586480"/>
            <a:ext cx="514440" cy="250920"/>
          </a:xfrm>
          <a:prstGeom prst="rect">
            <a:avLst/>
          </a:prstGeom>
          <a:ln w="0">
            <a:noFill/>
          </a:ln>
        </p:spPr>
      </p:pic>
      <p:pic>
        <p:nvPicPr>
          <p:cNvPr id="2169" name="" descr="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-14757480" y="6364440"/>
            <a:ext cx="514440" cy="650880"/>
          </a:xfrm>
          <a:prstGeom prst="rect">
            <a:avLst/>
          </a:prstGeom>
          <a:ln w="0">
            <a:noFill/>
          </a:ln>
        </p:spPr>
      </p:pic>
      <p:pic>
        <p:nvPicPr>
          <p:cNvPr id="2170" name="" descr="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-14730480" y="7142040"/>
            <a:ext cx="549360" cy="503280"/>
          </a:xfrm>
          <a:prstGeom prst="rect">
            <a:avLst/>
          </a:prstGeom>
          <a:ln w="0">
            <a:noFill/>
          </a:ln>
        </p:spPr>
      </p:pic>
      <p:pic>
        <p:nvPicPr>
          <p:cNvPr id="2171" name="" descr="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-14757480" y="807228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172" name="" descr="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-14757480" y="8850240"/>
            <a:ext cx="514440" cy="560520"/>
          </a:xfrm>
          <a:prstGeom prst="rect">
            <a:avLst/>
          </a:prstGeom>
          <a:ln w="0">
            <a:noFill/>
          </a:ln>
        </p:spPr>
      </p:pic>
      <p:pic>
        <p:nvPicPr>
          <p:cNvPr id="2173" name="" descr="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-14757480" y="9628200"/>
            <a:ext cx="549360" cy="606240"/>
          </a:xfrm>
          <a:prstGeom prst="rect">
            <a:avLst/>
          </a:prstGeom>
          <a:ln w="0">
            <a:noFill/>
          </a:ln>
        </p:spPr>
      </p:pic>
      <p:pic>
        <p:nvPicPr>
          <p:cNvPr id="2174" name="" descr=""/>
          <p:cNvPicPr/>
          <p:nvPr/>
        </p:nvPicPr>
        <p:blipFill>
          <a:blip r:embed="rId136"/>
          <a:stretch/>
        </p:blipFill>
        <p:spPr>
          <a:xfrm>
            <a:off x="-14671800" y="-3957480"/>
            <a:ext cx="171720" cy="536400"/>
          </a:xfrm>
          <a:prstGeom prst="rect">
            <a:avLst/>
          </a:prstGeom>
          <a:ln w="0">
            <a:noFill/>
          </a:ln>
        </p:spPr>
      </p:pic>
      <p:pic>
        <p:nvPicPr>
          <p:cNvPr id="2175" name="" descr="">
            <a:hlinkClick r:id="rId137"/>
          </p:cNvPr>
          <p:cNvPicPr/>
          <p:nvPr/>
        </p:nvPicPr>
        <p:blipFill>
          <a:blip r:embed="rId138"/>
          <a:stretch/>
        </p:blipFill>
        <p:spPr>
          <a:xfrm>
            <a:off x="-13593600" y="-3957480"/>
            <a:ext cx="765000" cy="4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6" name=""/>
          <p:cNvGraphicFramePr/>
          <p:nvPr/>
        </p:nvGraphicFramePr>
        <p:xfrm>
          <a:off x="-17640" y="0"/>
          <a:ext cx="9161640" cy="6858000"/>
        </p:xfrm>
        <a:graphic>
          <a:graphicData uri="http://schemas.openxmlformats.org/presentationml/2006/ole">
            <p:oleObj r:id="rId139" spid="">
              <p:embed/>
              <p:pic>
                <p:nvPicPr>
                  <p:cNvPr id="2177" name="" descr=""/>
                  <p:cNvPicPr/>
                  <p:nvPr/>
                </p:nvPicPr>
                <p:blipFill>
                  <a:blip r:embed="rId140"/>
                  <a:stretch/>
                </p:blipFill>
                <p:spPr>
                  <a:xfrm>
                    <a:off x="-17640" y="0"/>
                    <a:ext cx="9161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8" name=""/>
          <p:cNvSpPr/>
          <p:nvPr/>
        </p:nvSpPr>
        <p:spPr>
          <a:xfrm>
            <a:off x="3657600" y="0"/>
            <a:ext cx="4114800" cy="131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Cobertura 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1AF2-BB6E-426F-98EF-05FB2E9607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/>
          <p:nvPr/>
        </p:nvSpPr>
        <p:spPr>
          <a:xfrm>
            <a:off x="426240" y="1828800"/>
            <a:ext cx="8417880" cy="26542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información que a continuación se describen s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presentan un orden de magnitud de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conectarse a la red CUDI, los costo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ueden variar de acuerdo a los descuento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ELMEX y AVANTEL otorgan a los miembros de CUD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cuales deberan consultarse con los represen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e estas compañ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166400" y="5335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Costos de 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4CA5-A41C-4D2B-A4B8-E6AFFFC69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2133720" y="2362320"/>
            <a:ext cx="91440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Lic. Rogelio Guzmán Fernández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l. 5328-8838 TelBip 5124-0424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elcel 044-5-408-1796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Miguel de Cervantes Saavedra 369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l. Anáhuac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México 11320, D.F. </a:t>
            </a:r>
            <a:br>
              <a:rPr sz="2000"/>
            </a:br>
            <a:r>
              <a:rPr b="0" lang="es-MX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rguzman@telmex.com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954680" y="19810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2286000" cy="114948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/>
          <p:nvPr/>
        </p:nvSpPr>
        <p:spPr>
          <a:xfrm>
            <a:off x="1187640" y="30492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Costos de Conexión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F073-1C13-497D-9B61-3A3D816FA9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2286000" y="2590920"/>
            <a:ext cx="5715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Tahoma"/>
              </a:rPr>
              <a:t>Ing. Federico Veláz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Tahoma"/>
              </a:rPr>
              <a:t>Tel 5092-11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Tahoma"/>
              </a:rPr>
              <a:t>Reforma 265, piso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Tahoma"/>
              </a:rPr>
              <a:t>Col. Cuahtemoc 06600, México D.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0000"/>
                </a:solidFill>
                <a:uFillTx/>
                <a:latin typeface="Tahoma"/>
              </a:rPr>
              <a:t>Federico.velazquez@avantel.com.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40608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7" name=""/>
          <p:cNvGraphicFramePr/>
          <p:nvPr/>
        </p:nvGraphicFramePr>
        <p:xfrm>
          <a:off x="2971800" y="1219320"/>
          <a:ext cx="3200400" cy="1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9320"/>
                    <a:ext cx="32004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9" name=""/>
          <p:cNvSpPr/>
          <p:nvPr/>
        </p:nvSpPr>
        <p:spPr>
          <a:xfrm>
            <a:off x="1119600" y="30492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Costos de Conexión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3C32-4312-4871-A1A9-486E7DC5E1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333399"/>
                </a:solidFill>
                <a:latin typeface="Tahoma"/>
              </a:rPr>
              <a:t>III.-Coordinación de Instalació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/>
          <p:nvPr/>
        </p:nvSpPr>
        <p:spPr>
          <a:xfrm>
            <a:off x="2310480" y="175248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quisitos para Con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79000" y="2438280"/>
            <a:ext cx="8760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iembro de CUDI como Asociado o Afiliado Acadé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tratar su enlace a la Red Cu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venir con el Asociado Académico el equipamiento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conexióna su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ordinar con el NOC (UNAM) la conex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tar con una dirección IP (sistema autóno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036440" y="3808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Coordinación de Instalación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D897-7CEF-4CAC-8DC5-91D491000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"/>
          <p:cNvSpPr/>
          <p:nvPr/>
        </p:nvSpPr>
        <p:spPr>
          <a:xfrm>
            <a:off x="2057400" y="83808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Arial"/>
              </a:rPr>
              <a:t>Funciones del N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705720" y="3168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62120" y="3473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Help De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629400" y="4235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629400" y="3701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lane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990720" y="2940120"/>
            <a:ext cx="129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62120" y="4387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62120" y="3930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oporte 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62120" y="4844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v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2120" y="5302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Bases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21016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sponsabilidades Dir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477120" y="21016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ctividades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038480" y="3778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29400" y="5302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rmatividad y proced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29400" y="4800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209680" y="3168720"/>
            <a:ext cx="1676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105520" y="4083120"/>
            <a:ext cx="16002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029200" y="4311720"/>
            <a:ext cx="1676520" cy="761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2209680" y="42350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5105520" y="332064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2209680" y="4387680"/>
            <a:ext cx="18288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590920" y="4539960"/>
            <a:ext cx="175248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334120" y="3854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209680" y="3701880"/>
            <a:ext cx="16765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733920" y="3397320"/>
            <a:ext cx="1600200" cy="114300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100000">
                <a:srgbClr val="755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038480" y="34732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NOC C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914400" y="347328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629400" y="4235400"/>
            <a:ext cx="1523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629400" y="3701880"/>
            <a:ext cx="1600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62120" y="2940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990720" y="438768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62120" y="3930480"/>
            <a:ext cx="2209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3520" y="21016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477120" y="21016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038480" y="3778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209680" y="3168720"/>
            <a:ext cx="167652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105520" y="4083120"/>
            <a:ext cx="1600200" cy="304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029200" y="4311720"/>
            <a:ext cx="1676520" cy="6411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800600" y="4464000"/>
            <a:ext cx="1828800" cy="1098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V="1">
            <a:off x="2209680" y="4235040"/>
            <a:ext cx="167652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5105520" y="3320640"/>
            <a:ext cx="160020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2209680" y="4387680"/>
            <a:ext cx="1828800" cy="609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2819520" y="4540320"/>
            <a:ext cx="1523880" cy="8697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334120" y="38545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209680" y="3701880"/>
            <a:ext cx="1676520" cy="152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2819520" y="4083120"/>
            <a:ext cx="990360" cy="108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733920" y="3397320"/>
            <a:ext cx="16002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886200" y="3581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Black"/>
              </a:rPr>
              <a:t>NOC CU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85800" y="2895480"/>
            <a:ext cx="2057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400800" y="2895480"/>
            <a:ext cx="2057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404A-C45E-4DB7-A478-AAFE8A9F9C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-15017760" y="-49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5" name="" descr=""/>
          <p:cNvPicPr/>
          <p:nvPr/>
        </p:nvPicPr>
        <p:blipFill>
          <a:blip r:embed="rId1"/>
          <a:stretch/>
        </p:blipFill>
        <p:spPr>
          <a:xfrm>
            <a:off x="-15017760" y="-4917960"/>
            <a:ext cx="92160" cy="342720"/>
          </a:xfrm>
          <a:prstGeom prst="rect">
            <a:avLst/>
          </a:prstGeom>
          <a:ln w="0">
            <a:noFill/>
          </a:ln>
        </p:spPr>
      </p:pic>
      <p:grpSp>
        <p:nvGrpSpPr>
          <p:cNvPr id="2246" name=""/>
          <p:cNvGrpSpPr/>
          <p:nvPr/>
        </p:nvGrpSpPr>
        <p:grpSpPr>
          <a:xfrm>
            <a:off x="-10536120" y="-4917960"/>
            <a:ext cx="181080" cy="457200"/>
            <a:chOff x="-10536120" y="-4917960"/>
            <a:chExt cx="181080" cy="457200"/>
          </a:xfrm>
        </p:grpSpPr>
        <p:sp>
          <p:nvSpPr>
            <p:cNvPr id="2247" name=""/>
            <p:cNvSpPr/>
            <p:nvPr/>
          </p:nvSpPr>
          <p:spPr>
            <a:xfrm>
              <a:off x="-10536120" y="-4917960"/>
              <a:ext cx="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-10445400" y="-4917960"/>
              <a:ext cx="88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-10356480" y="-4917960"/>
              <a:ext cx="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0" name="" descr=""/>
          <p:cNvPicPr/>
          <p:nvPr/>
        </p:nvPicPr>
        <p:blipFill>
          <a:blip r:embed="rId2"/>
          <a:stretch/>
        </p:blipFill>
        <p:spPr>
          <a:xfrm>
            <a:off x="-15017760" y="-4917960"/>
            <a:ext cx="4308480" cy="296640"/>
          </a:xfrm>
          <a:prstGeom prst="rect">
            <a:avLst/>
          </a:prstGeom>
          <a:ln w="0">
            <a:noFill/>
          </a:ln>
        </p:spPr>
      </p:pic>
      <p:grpSp>
        <p:nvGrpSpPr>
          <p:cNvPr id="2251" name=""/>
          <p:cNvGrpSpPr/>
          <p:nvPr/>
        </p:nvGrpSpPr>
        <p:grpSpPr>
          <a:xfrm>
            <a:off x="-16382880" y="-4724280"/>
            <a:ext cx="39180960" cy="15600240"/>
            <a:chOff x="-16382880" y="-4724280"/>
            <a:chExt cx="39180960" cy="15600240"/>
          </a:xfrm>
        </p:grpSpPr>
        <p:sp>
          <p:nvSpPr>
            <p:cNvPr id="2252" name=""/>
            <p:cNvSpPr/>
            <p:nvPr/>
          </p:nvSpPr>
          <p:spPr>
            <a:xfrm>
              <a:off x="-16382880" y="-4724280"/>
              <a:ext cx="9144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3" name=""/>
            <p:cNvGrpSpPr/>
            <p:nvPr/>
          </p:nvGrpSpPr>
          <p:grpSpPr>
            <a:xfrm>
              <a:off x="-16382880" y="-4267080"/>
              <a:ext cx="39180960" cy="15143040"/>
              <a:chOff x="-16382880" y="-4267080"/>
              <a:chExt cx="39180960" cy="15143040"/>
            </a:xfrm>
          </p:grpSpPr>
          <p:grpSp>
            <p:nvGrpSpPr>
              <p:cNvPr id="2254" name=""/>
              <p:cNvGrpSpPr/>
              <p:nvPr/>
            </p:nvGrpSpPr>
            <p:grpSpPr>
              <a:xfrm>
                <a:off x="-16382880" y="-4267080"/>
                <a:ext cx="39180960" cy="15143040"/>
                <a:chOff x="-16382880" y="-4267080"/>
                <a:chExt cx="39180960" cy="1514304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-16382880" y="-426708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-16382880" y="-4267080"/>
                  <a:ext cx="7772400" cy="24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 su carácter de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sociados Académicos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-16382880" y="-4022640"/>
                  <a:ext cx="39180960" cy="14898600"/>
                  <a:chOff x="-16382880" y="-4022640"/>
                  <a:chExt cx="39180960" cy="14898600"/>
                </a:xfrm>
              </p:grpSpPr>
              <p:grpSp>
                <p:nvGrpSpPr>
                  <p:cNvPr id="2258" name=""/>
                  <p:cNvGrpSpPr/>
                  <p:nvPr/>
                </p:nvGrpSpPr>
                <p:grpSpPr>
                  <a:xfrm>
                    <a:off x="-16290720" y="-4022640"/>
                    <a:ext cx="39088800" cy="14119200"/>
                    <a:chOff x="-16290720" y="-4022640"/>
                    <a:chExt cx="39088800" cy="14119200"/>
                  </a:xfrm>
                </p:grpSpPr>
                <p:grpSp>
                  <p:nvGrpSpPr>
                    <p:cNvPr id="2259" name=""/>
                    <p:cNvGrpSpPr/>
                    <p:nvPr/>
                  </p:nvGrpSpPr>
                  <p:grpSpPr>
                    <a:xfrm>
                      <a:off x="-16290720" y="-4022640"/>
                      <a:ext cx="583920" cy="581400"/>
                      <a:chOff x="-16290720" y="-4022640"/>
                      <a:chExt cx="583920" cy="581400"/>
                    </a:xfrm>
                  </p:grpSpPr>
                  <p:sp>
                    <p:nvSpPr>
                      <p:cNvPr id="2260" name=""/>
                      <p:cNvSpPr/>
                      <p:nvPr/>
                    </p:nvSpPr>
                    <p:spPr>
                      <a:xfrm>
                        <a:off x="-16290720" y="-402264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1" name=""/>
                      <p:cNvSpPr/>
                      <p:nvPr/>
                    </p:nvSpPr>
                    <p:spPr>
                      <a:xfrm>
                        <a:off x="-16290720" y="-4022640"/>
                        <a:ext cx="58392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3"/>
                          </a:rPr>
                          <a:t>  </a:t>
                        </a:r>
                        <a:r>
                          <a:rPr b="0" lang="en-US" sz="32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62" name=""/>
                    <p:cNvSpPr/>
                    <p:nvPr/>
                  </p:nvSpPr>
                  <p:spPr>
                    <a:xfrm>
                      <a:off x="-15706440" y="-402264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Benemérita Universidad Autónoma de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Puebla 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Lic. Rafael Campos 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3" name=""/>
                    <p:cNvSpPr/>
                    <p:nvPr/>
                  </p:nvSpPr>
                  <p:spPr>
                    <a:xfrm>
                      <a:off x="-16290720" y="-3260520"/>
                      <a:ext cx="166320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4" name=""/>
                    <p:cNvSpPr/>
                    <p:nvPr/>
                  </p:nvSpPr>
                  <p:spPr>
                    <a:xfrm>
                      <a:off x="-14627160" y="-3260520"/>
                      <a:ext cx="3742524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Centro de Investigación Científica y de Educación Superior de Ensenad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. Jorge Enrique Preciado Velas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5" name=""/>
                    <p:cNvSpPr/>
                    <p:nvPr/>
                  </p:nvSpPr>
                  <p:spPr>
                    <a:xfrm>
                      <a:off x="-16290720" y="-2498760"/>
                      <a:ext cx="166320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  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6" name=""/>
                    <p:cNvSpPr/>
                    <p:nvPr/>
                  </p:nvSpPr>
                  <p:spPr>
                    <a:xfrm>
                      <a:off x="-14627160" y="-2498760"/>
                      <a:ext cx="3742524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2"/>
                        </a:rPr>
                        <a:t>Centros Públicos de Investigación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Conacyt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"/>
                        </a:rPr>
                        <a:t>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Ing. Raúl Flores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Arreola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67" name=""/>
                    <p:cNvGrpSpPr/>
                    <p:nvPr/>
                  </p:nvGrpSpPr>
                  <p:grpSpPr>
                    <a:xfrm>
                      <a:off x="-16290720" y="-1888920"/>
                      <a:ext cx="583920" cy="550800"/>
                      <a:chOff x="-16290720" y="-1888920"/>
                      <a:chExt cx="583920" cy="550800"/>
                    </a:xfrm>
                  </p:grpSpPr>
                  <p:sp>
                    <p:nvSpPr>
                      <p:cNvPr id="2268" name=""/>
                      <p:cNvSpPr/>
                      <p:nvPr/>
                    </p:nvSpPr>
                    <p:spPr>
                      <a:xfrm>
                        <a:off x="-16290720" y="-188892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-16290720" y="-1888920"/>
                        <a:ext cx="58392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18"/>
                          </a:rPr>
                          <a:t>  </a:t>
                        </a:r>
                        <a:r>
                          <a:rPr b="0" lang="en-US" sz="30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-15706440" y="-1888920"/>
                      <a:ext cx="3742488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"/>
                        </a:rPr>
                        <a:t>Instituto Politécnico Nacional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"/>
                        </a:rPr>
                        <a:t> Ing. Sergio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1"/>
                        </a:rPr>
                        <a:t>Viñals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2"/>
                        </a:rPr>
                        <a:t> Padilla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71" name=""/>
                    <p:cNvGrpSpPr/>
                    <p:nvPr/>
                  </p:nvGrpSpPr>
                  <p:grpSpPr>
                    <a:xfrm>
                      <a:off x="-16290720" y="-1127160"/>
                      <a:ext cx="869760" cy="459720"/>
                      <a:chOff x="-16290720" y="-1127160"/>
                      <a:chExt cx="869760" cy="459720"/>
                    </a:xfrm>
                  </p:grpSpPr>
                  <p:sp>
                    <p:nvSpPr>
                      <p:cNvPr id="2272" name=""/>
                      <p:cNvSpPr/>
                      <p:nvPr/>
                    </p:nvSpPr>
                    <p:spPr>
                      <a:xfrm>
                        <a:off x="-16290720" y="-112716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-16290720" y="-1127160"/>
                        <a:ext cx="869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23"/>
                          </a:rPr>
                          <a:t>  </a:t>
                        </a:r>
                        <a:r>
                          <a:rPr b="0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Times New Roman"/>
                          </a:rPr>
                          <a:t> 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74" name=""/>
                    <p:cNvSpPr/>
                    <p:nvPr/>
                  </p:nvSpPr>
                  <p:spPr>
                    <a:xfrm>
                      <a:off x="-15420600" y="-112716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4"/>
                        </a:rPr>
                        <a:t>Instituto Latinoamericano de Comunicación Educativ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5"/>
                        </a:rPr>
                        <a:t>Lic. Gustavo Flores Verdugo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5" name=""/>
                    <p:cNvSpPr/>
                    <p:nvPr/>
                  </p:nvSpPr>
                  <p:spPr>
                    <a:xfrm>
                      <a:off x="-16290720" y="-36504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6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>
                      <a:off x="-14627160" y="-36504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7"/>
                        </a:rPr>
                        <a:t>Instituto Tecnológico de Estudios Superiores de Monterrey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8"/>
                        </a:rPr>
                        <a:t>Ing. Juan José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9"/>
                        </a:rPr>
                        <a:t>Zamanill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0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"/>
                    <p:cNvSpPr/>
                    <p:nvPr/>
                  </p:nvSpPr>
                  <p:spPr>
                    <a:xfrm>
                      <a:off x="-16290720" y="4129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1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-14627160" y="4129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2"/>
                        </a:rPr>
                        <a:t>Laboratorio Nacional de Informática Avanzad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3"/>
                        </a:rPr>
                        <a:t>Dra. Cristina Loyo Vare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9" name=""/>
                    <p:cNvSpPr/>
                    <p:nvPr/>
                  </p:nvSpPr>
                  <p:spPr>
                    <a:xfrm>
                      <a:off x="-16290720" y="119088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4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0" name=""/>
                    <p:cNvSpPr/>
                    <p:nvPr/>
                  </p:nvSpPr>
                  <p:spPr>
                    <a:xfrm>
                      <a:off x="-14627160" y="119088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5"/>
                        </a:rPr>
                        <a:t>Universidad Autónoma de Ciudad Juárez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6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7"/>
                        </a:rPr>
                        <a:t>. Fernando Estrada Saldañ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1" name=""/>
                    <p:cNvSpPr/>
                    <p:nvPr/>
                  </p:nvSpPr>
                  <p:spPr>
                    <a:xfrm>
                      <a:off x="-16290720" y="196848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2" name=""/>
                    <p:cNvSpPr/>
                    <p:nvPr/>
                  </p:nvSpPr>
                  <p:spPr>
                    <a:xfrm>
                      <a:off x="-14627160" y="196848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9"/>
                        </a:rPr>
                        <a:t>Universidad Autónoma de Nuevo León _x000b_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0"/>
                        </a:rPr>
                        <a:t>Dr. Roberto Mercado Hernánde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/>
                    <p:nvPr/>
                  </p:nvSpPr>
                  <p:spPr>
                    <a:xfrm>
                      <a:off x="-16290720" y="274644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4" name=""/>
                    <p:cNvSpPr/>
                    <p:nvPr/>
                  </p:nvSpPr>
                  <p:spPr>
                    <a:xfrm>
                      <a:off x="-14627160" y="274644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2"/>
                        </a:rPr>
                        <a:t>Universidad Autónoma de Tamaulipas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3"/>
                        </a:rPr>
                        <a:t>Ing. Iván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4"/>
                        </a:rPr>
                        <a:t>Ogota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5"/>
                        </a:rPr>
                        <a:t> Martínez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6"/>
                        </a:rPr>
                        <a:t>Moriel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7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5" name=""/>
                    <p:cNvSpPr/>
                    <p:nvPr/>
                  </p:nvSpPr>
                  <p:spPr>
                    <a:xfrm>
                      <a:off x="-16290720" y="352440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>
                      <a:off x="-14627160" y="352440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9"/>
                        </a:rPr>
                        <a:t>Universidad Autónoma del Estado de Hidalgo </a:t>
                      </a:r>
                      <a:br>
                        <a:rPr sz="11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0"/>
                        </a:rPr>
                        <a:t>Alejandro Mendoza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1"/>
                        </a:rPr>
                        <a:t>Gamiñ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2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87" name=""/>
                    <p:cNvGrpSpPr/>
                    <p:nvPr/>
                  </p:nvGrpSpPr>
                  <p:grpSpPr>
                    <a:xfrm>
                      <a:off x="-16290720" y="4302360"/>
                      <a:ext cx="793440" cy="977400"/>
                      <a:chOff x="-16290720" y="4302360"/>
                      <a:chExt cx="793440" cy="977400"/>
                    </a:xfrm>
                  </p:grpSpPr>
                  <p:sp>
                    <p:nvSpPr>
                      <p:cNvPr id="2288" name=""/>
                      <p:cNvSpPr/>
                      <p:nvPr/>
                    </p:nvSpPr>
                    <p:spPr>
                      <a:xfrm>
                        <a:off x="-16290720" y="430236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9" name=""/>
                      <p:cNvSpPr/>
                      <p:nvPr/>
                    </p:nvSpPr>
                    <p:spPr>
                      <a:xfrm>
                        <a:off x="-16290720" y="4302360"/>
                        <a:ext cx="793440" cy="97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53"/>
                          </a:rPr>
                          <a:t>  </a:t>
                        </a:r>
                        <a:r>
                          <a:rPr b="0" lang="en-US" sz="3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90" name=""/>
                    <p:cNvSpPr/>
                    <p:nvPr/>
                  </p:nvSpPr>
                  <p:spPr>
                    <a:xfrm>
                      <a:off x="-15496920" y="4302360"/>
                      <a:ext cx="37424880" cy="97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4"/>
                        </a:rPr>
                        <a:t>Universidad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5"/>
                        </a:rPr>
                        <a:t>Autonoma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6"/>
                        </a:rPr>
                        <a:t> del Estado de Morelos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7"/>
                        </a:rPr>
                        <a:t>Ing. Rafael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8"/>
                        </a:rPr>
                        <a:t>Abur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9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0"/>
                        </a:rPr>
                        <a:t>Pelanis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1" name=""/>
                    <p:cNvSpPr/>
                    <p:nvPr/>
                  </p:nvSpPr>
                  <p:spPr>
                    <a:xfrm>
                      <a:off x="-16290720" y="527688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/>
                    <p:nvPr/>
                  </p:nvSpPr>
                  <p:spPr>
                    <a:xfrm>
                      <a:off x="-14627160" y="527688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2"/>
                        </a:rPr>
                        <a:t>Universidad Autónoma Metropolit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3"/>
                        </a:rPr>
                        <a:t>Ing.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4"/>
                        </a:rPr>
                        <a:t>Walther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5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6"/>
                        </a:rPr>
                        <a:t>Antoniol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7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8"/>
                        </a:rPr>
                        <a:t>Ravet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9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3" name=""/>
                    <p:cNvSpPr/>
                    <p:nvPr/>
                  </p:nvSpPr>
                  <p:spPr>
                    <a:xfrm>
                      <a:off x="-16290720" y="605484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0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4" name=""/>
                    <p:cNvSpPr/>
                    <p:nvPr/>
                  </p:nvSpPr>
                  <p:spPr>
                    <a:xfrm>
                      <a:off x="-14627160" y="605484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1"/>
                        </a:rPr>
                        <a:t>Universidad de Guadalajar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2"/>
                        </a:rPr>
                        <a:t>Dr. Héctor Gómez Hernández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95" name=""/>
                    <p:cNvGrpSpPr/>
                    <p:nvPr/>
                  </p:nvGrpSpPr>
                  <p:grpSpPr>
                    <a:xfrm>
                      <a:off x="-16290720" y="6832800"/>
                      <a:ext cx="869760" cy="932040"/>
                      <a:chOff x="-16290720" y="6832800"/>
                      <a:chExt cx="869760" cy="932040"/>
                    </a:xfrm>
                  </p:grpSpPr>
                  <p:sp>
                    <p:nvSpPr>
                      <p:cNvPr id="2296" name=""/>
                      <p:cNvSpPr/>
                      <p:nvPr/>
                    </p:nvSpPr>
                    <p:spPr>
                      <a:xfrm>
                        <a:off x="-16290720" y="683280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7" name=""/>
                      <p:cNvSpPr/>
                      <p:nvPr/>
                    </p:nvSpPr>
                    <p:spPr>
                      <a:xfrm>
                        <a:off x="-16290720" y="6832800"/>
                        <a:ext cx="869760" cy="93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73"/>
                          </a:rPr>
                          <a:t>  </a:t>
                        </a:r>
                        <a:r>
                          <a:rPr b="0" lang="en-US" sz="3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98" name=""/>
                    <p:cNvSpPr/>
                    <p:nvPr/>
                  </p:nvSpPr>
                  <p:spPr>
                    <a:xfrm>
                      <a:off x="-15420600" y="6832800"/>
                      <a:ext cx="37424880" cy="930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4"/>
                        </a:rPr>
                        <a:t>Universidad Autónoma de La Lagu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5"/>
                        </a:rPr>
                        <a:t>Dr. Pascual Arturo Hernández Guerra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/>
                    <p:nvPr/>
                  </p:nvSpPr>
                  <p:spPr>
                    <a:xfrm>
                      <a:off x="-16290720" y="776304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6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0" name=""/>
                    <p:cNvSpPr/>
                    <p:nvPr/>
                  </p:nvSpPr>
                  <p:spPr>
                    <a:xfrm>
                      <a:off x="-14627160" y="776304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7"/>
                        </a:rPr>
                        <a:t>Universidad de Las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8"/>
                        </a:rPr>
                        <a:t>Américas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9"/>
                        </a:rPr>
                        <a:t>-Puebla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0"/>
                        </a:rPr>
                        <a:t>Héctor Eduardo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1"/>
                        </a:rPr>
                        <a:t>Lazzeri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>
                      <a:off x="-16290720" y="854100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2"/>
                        </a:rPr>
                        <a:t>  </a:t>
                      </a: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2" name=""/>
                    <p:cNvSpPr/>
                    <p:nvPr/>
                  </p:nvSpPr>
                  <p:spPr>
                    <a:xfrm>
                      <a:off x="-14627160" y="854100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3"/>
                        </a:rPr>
                        <a:t>Universidad Nacional Autónoma de México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4"/>
                        </a:rPr>
                        <a:t>Dr. Alejandro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5"/>
                        </a:rPr>
                        <a:t>Pisanty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6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7"/>
                        </a:rPr>
                        <a:t>Baruch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8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3" name=""/>
                    <p:cNvSpPr/>
                    <p:nvPr/>
                  </p:nvSpPr>
                  <p:spPr>
                    <a:xfrm>
                      <a:off x="-16290720" y="931860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9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4" name=""/>
                    <p:cNvSpPr/>
                    <p:nvPr/>
                  </p:nvSpPr>
                  <p:spPr>
                    <a:xfrm>
                      <a:off x="-14627160" y="931860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0"/>
                        </a:rPr>
                        <a:t>Universidad Veracruz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1"/>
                        </a:rPr>
                        <a:t>Dr. Ramón Parra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2"/>
                        </a:rPr>
                        <a:t>Loera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93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05" name=""/>
                  <p:cNvSpPr/>
                  <p:nvPr/>
                </p:nvSpPr>
                <p:spPr>
                  <a:xfrm>
                    <a:off x="-16382880" y="10050480"/>
                    <a:ext cx="1839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06" name=""/>
              <p:cNvGrpSpPr/>
              <p:nvPr/>
            </p:nvGrpSpPr>
            <p:grpSpPr>
              <a:xfrm>
                <a:off x="-16382880" y="-4267080"/>
                <a:ext cx="2742120" cy="595080"/>
                <a:chOff x="-16382880" y="-4267080"/>
                <a:chExt cx="2742120" cy="595080"/>
              </a:xfrm>
            </p:grpSpPr>
            <p:sp>
              <p:nvSpPr>
                <p:cNvPr id="2307" name=""/>
                <p:cNvSpPr/>
                <p:nvPr/>
              </p:nvSpPr>
              <p:spPr>
                <a:xfrm>
                  <a:off x="-16382880" y="-4267080"/>
                  <a:ext cx="87480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-15508080" y="-4267080"/>
                  <a:ext cx="186696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hlinkClick r:id="rId94"/>
                    </a:rPr>
                    <a:t>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-13641120" y="-4267080"/>
                  <a:ext cx="360" cy="59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10" name=""/>
          <p:cNvSpPr/>
          <p:nvPr/>
        </p:nvSpPr>
        <p:spPr>
          <a:xfrm>
            <a:off x="-15017760" y="11136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330066"/>
                </a:solidFill>
                <a:latin typeface="Arial"/>
                <a:ea typeface="Arial"/>
              </a:rPr>
              <a:t>Si tiene algún problema técnico para ver este sitio escríbanos 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5"/>
              </a:rPr>
              <a:t>cudi@cudi.edu.mx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6"/>
              </a:rPr>
              <a:t> </a:t>
            </a:r>
            <a:br>
              <a:rPr sz="1100"/>
            </a:br>
            <a:r>
              <a:rPr b="1" lang="es-MX" sz="600" spc="-1" strike="noStrike">
                <a:solidFill>
                  <a:srgbClr val="000000"/>
                </a:solidFill>
                <a:latin typeface="Arial"/>
                <a:ea typeface="Arial"/>
              </a:rPr>
              <a:t>Sitio elaborado por: 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7"/>
              </a:rPr>
              <a:t>www.cudi.edu.mx</a:t>
            </a:r>
            <a:r>
              <a:rPr b="0" lang="es-MX" sz="6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8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1" name="" descr=""/>
          <p:cNvPicPr/>
          <p:nvPr/>
        </p:nvPicPr>
        <p:blipFill>
          <a:blip r:embed="rId99"/>
          <a:stretch/>
        </p:blipFill>
        <p:spPr>
          <a:xfrm>
            <a:off x="-10491840" y="-4506840"/>
            <a:ext cx="92160" cy="342720"/>
          </a:xfrm>
          <a:prstGeom prst="rect">
            <a:avLst/>
          </a:prstGeom>
          <a:ln w="0">
            <a:noFill/>
          </a:ln>
        </p:spPr>
      </p:pic>
      <p:pic>
        <p:nvPicPr>
          <p:cNvPr id="2312" name="" descr="">
            <a:hlinkClick r:id="rId100"/>
          </p:cNvPr>
          <p:cNvPicPr/>
          <p:nvPr/>
        </p:nvPicPr>
        <p:blipFill>
          <a:blip r:embed="rId101"/>
          <a:stretch/>
        </p:blipFill>
        <p:spPr>
          <a:xfrm>
            <a:off x="-14785920" y="-3713040"/>
            <a:ext cx="342720" cy="514080"/>
          </a:xfrm>
          <a:prstGeom prst="rect">
            <a:avLst/>
          </a:prstGeom>
          <a:ln w="0">
            <a:noFill/>
          </a:ln>
        </p:spPr>
      </p:pic>
      <p:pic>
        <p:nvPicPr>
          <p:cNvPr id="2313" name="" descr="">
            <a:hlinkClick r:id="rId102"/>
          </p:cNvPr>
          <p:cNvPicPr/>
          <p:nvPr/>
        </p:nvPicPr>
        <p:blipFill>
          <a:blip r:embed="rId103"/>
          <a:stretch/>
        </p:blipFill>
        <p:spPr>
          <a:xfrm>
            <a:off x="-14757480" y="-2951280"/>
            <a:ext cx="514440" cy="354240"/>
          </a:xfrm>
          <a:prstGeom prst="rect">
            <a:avLst/>
          </a:prstGeom>
          <a:ln w="0">
            <a:noFill/>
          </a:ln>
        </p:spPr>
      </p:pic>
      <p:pic>
        <p:nvPicPr>
          <p:cNvPr id="2314" name="" descr="">
            <a:hlinkClick r:id="rId104"/>
          </p:cNvPr>
          <p:cNvPicPr/>
          <p:nvPr/>
        </p:nvPicPr>
        <p:blipFill>
          <a:blip r:embed="rId105"/>
          <a:stretch/>
        </p:blipFill>
        <p:spPr>
          <a:xfrm>
            <a:off x="-14798520" y="-218916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2315" name="" descr="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-14782680" y="-1579680"/>
            <a:ext cx="342720" cy="479520"/>
          </a:xfrm>
          <a:prstGeom prst="rect">
            <a:avLst/>
          </a:prstGeom>
          <a:ln w="0">
            <a:noFill/>
          </a:ln>
        </p:spPr>
      </p:pic>
      <p:pic>
        <p:nvPicPr>
          <p:cNvPr id="2316" name="" descr="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-14757480" y="-817560"/>
            <a:ext cx="549360" cy="388800"/>
          </a:xfrm>
          <a:prstGeom prst="rect">
            <a:avLst/>
          </a:prstGeom>
          <a:ln w="0">
            <a:noFill/>
          </a:ln>
        </p:spPr>
      </p:pic>
      <p:pic>
        <p:nvPicPr>
          <p:cNvPr id="2317" name="" descr="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-14757480" y="-55440"/>
            <a:ext cx="492120" cy="617400"/>
          </a:xfrm>
          <a:prstGeom prst="rect">
            <a:avLst/>
          </a:prstGeom>
          <a:ln w="0">
            <a:noFill/>
          </a:ln>
        </p:spPr>
      </p:pic>
      <p:pic>
        <p:nvPicPr>
          <p:cNvPr id="2318" name="" descr="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-14757480" y="72216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319" name="" descr="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-14757480" y="150012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320" name="" descr="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-14757480" y="2278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321" name="" descr="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-14757480" y="3056040"/>
            <a:ext cx="514440" cy="446040"/>
          </a:xfrm>
          <a:prstGeom prst="rect">
            <a:avLst/>
          </a:prstGeom>
          <a:ln w="0">
            <a:noFill/>
          </a:ln>
        </p:spPr>
      </p:pic>
      <p:pic>
        <p:nvPicPr>
          <p:cNvPr id="2322" name="" descr="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-14757480" y="3833640"/>
            <a:ext cx="457200" cy="525600"/>
          </a:xfrm>
          <a:prstGeom prst="rect">
            <a:avLst/>
          </a:prstGeom>
          <a:ln w="0">
            <a:noFill/>
          </a:ln>
        </p:spPr>
      </p:pic>
      <p:pic>
        <p:nvPicPr>
          <p:cNvPr id="2323" name="" descr="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-14757480" y="4611600"/>
            <a:ext cx="457200" cy="549360"/>
          </a:xfrm>
          <a:prstGeom prst="rect">
            <a:avLst/>
          </a:prstGeom>
          <a:ln w="0">
            <a:noFill/>
          </a:ln>
        </p:spPr>
      </p:pic>
      <p:pic>
        <p:nvPicPr>
          <p:cNvPr id="2324" name="" descr="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-14789160" y="5586480"/>
            <a:ext cx="514440" cy="250920"/>
          </a:xfrm>
          <a:prstGeom prst="rect">
            <a:avLst/>
          </a:prstGeom>
          <a:ln w="0">
            <a:noFill/>
          </a:ln>
        </p:spPr>
      </p:pic>
      <p:pic>
        <p:nvPicPr>
          <p:cNvPr id="2325" name="" descr="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-14757480" y="6364440"/>
            <a:ext cx="514440" cy="650880"/>
          </a:xfrm>
          <a:prstGeom prst="rect">
            <a:avLst/>
          </a:prstGeom>
          <a:ln w="0">
            <a:noFill/>
          </a:ln>
        </p:spPr>
      </p:pic>
      <p:pic>
        <p:nvPicPr>
          <p:cNvPr id="2326" name="" descr="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-14730480" y="7142040"/>
            <a:ext cx="549360" cy="503280"/>
          </a:xfrm>
          <a:prstGeom prst="rect">
            <a:avLst/>
          </a:prstGeom>
          <a:ln w="0">
            <a:noFill/>
          </a:ln>
        </p:spPr>
      </p:pic>
      <p:pic>
        <p:nvPicPr>
          <p:cNvPr id="2327" name="" descr="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-14757480" y="807228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328" name="" descr="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-14757480" y="8850240"/>
            <a:ext cx="514440" cy="560520"/>
          </a:xfrm>
          <a:prstGeom prst="rect">
            <a:avLst/>
          </a:prstGeom>
          <a:ln w="0">
            <a:noFill/>
          </a:ln>
        </p:spPr>
      </p:pic>
      <p:pic>
        <p:nvPicPr>
          <p:cNvPr id="2329" name="" descr="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-14757480" y="9628200"/>
            <a:ext cx="549360" cy="606240"/>
          </a:xfrm>
          <a:prstGeom prst="rect">
            <a:avLst/>
          </a:prstGeom>
          <a:ln w="0">
            <a:noFill/>
          </a:ln>
        </p:spPr>
      </p:pic>
      <p:pic>
        <p:nvPicPr>
          <p:cNvPr id="2330" name="" descr=""/>
          <p:cNvPicPr/>
          <p:nvPr/>
        </p:nvPicPr>
        <p:blipFill>
          <a:blip r:embed="rId136"/>
          <a:stretch/>
        </p:blipFill>
        <p:spPr>
          <a:xfrm>
            <a:off x="-14671800" y="-3957480"/>
            <a:ext cx="171720" cy="536400"/>
          </a:xfrm>
          <a:prstGeom prst="rect">
            <a:avLst/>
          </a:prstGeom>
          <a:ln w="0">
            <a:noFill/>
          </a:ln>
        </p:spPr>
      </p:pic>
      <p:pic>
        <p:nvPicPr>
          <p:cNvPr id="2331" name="" descr="">
            <a:hlinkClick r:id="rId137"/>
          </p:cNvPr>
          <p:cNvPicPr/>
          <p:nvPr/>
        </p:nvPicPr>
        <p:blipFill>
          <a:blip r:embed="rId138"/>
          <a:stretch/>
        </p:blipFill>
        <p:spPr>
          <a:xfrm>
            <a:off x="-13593600" y="-3957480"/>
            <a:ext cx="765000" cy="422280"/>
          </a:xfrm>
          <a:prstGeom prst="rect">
            <a:avLst/>
          </a:prstGeom>
          <a:ln w="0">
            <a:noFill/>
          </a:ln>
        </p:spPr>
      </p:pic>
      <p:sp>
        <p:nvSpPr>
          <p:cNvPr id="2332" name=""/>
          <p:cNvSpPr/>
          <p:nvPr/>
        </p:nvSpPr>
        <p:spPr>
          <a:xfrm>
            <a:off x="-15017760" y="-49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3" name="" descr=""/>
          <p:cNvPicPr/>
          <p:nvPr/>
        </p:nvPicPr>
        <p:blipFill>
          <a:blip r:embed="rId139"/>
          <a:stretch/>
        </p:blipFill>
        <p:spPr>
          <a:xfrm>
            <a:off x="-15017760" y="-4917960"/>
            <a:ext cx="92160" cy="342720"/>
          </a:xfrm>
          <a:prstGeom prst="rect">
            <a:avLst/>
          </a:prstGeom>
          <a:ln w="0">
            <a:noFill/>
          </a:ln>
        </p:spPr>
      </p:pic>
      <p:grpSp>
        <p:nvGrpSpPr>
          <p:cNvPr id="2334" name=""/>
          <p:cNvGrpSpPr/>
          <p:nvPr/>
        </p:nvGrpSpPr>
        <p:grpSpPr>
          <a:xfrm>
            <a:off x="-10536120" y="-4917960"/>
            <a:ext cx="181080" cy="457200"/>
            <a:chOff x="-10536120" y="-4917960"/>
            <a:chExt cx="181080" cy="457200"/>
          </a:xfrm>
        </p:grpSpPr>
        <p:sp>
          <p:nvSpPr>
            <p:cNvPr id="2335" name=""/>
            <p:cNvSpPr/>
            <p:nvPr/>
          </p:nvSpPr>
          <p:spPr>
            <a:xfrm>
              <a:off x="-10536120" y="-4917960"/>
              <a:ext cx="9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-10445400" y="-4917960"/>
              <a:ext cx="88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-10356480" y="-4917960"/>
              <a:ext cx="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8" name="" descr=""/>
          <p:cNvPicPr/>
          <p:nvPr/>
        </p:nvPicPr>
        <p:blipFill>
          <a:blip r:embed="rId140"/>
          <a:stretch/>
        </p:blipFill>
        <p:spPr>
          <a:xfrm>
            <a:off x="-15017760" y="-4917960"/>
            <a:ext cx="4308480" cy="296640"/>
          </a:xfrm>
          <a:prstGeom prst="rect">
            <a:avLst/>
          </a:prstGeom>
          <a:ln w="0">
            <a:noFill/>
          </a:ln>
        </p:spPr>
      </p:pic>
      <p:grpSp>
        <p:nvGrpSpPr>
          <p:cNvPr id="2339" name=""/>
          <p:cNvGrpSpPr/>
          <p:nvPr/>
        </p:nvGrpSpPr>
        <p:grpSpPr>
          <a:xfrm>
            <a:off x="-15316200" y="-4572000"/>
            <a:ext cx="39180960" cy="15600240"/>
            <a:chOff x="-15316200" y="-4572000"/>
            <a:chExt cx="39180960" cy="15600240"/>
          </a:xfrm>
        </p:grpSpPr>
        <p:sp>
          <p:nvSpPr>
            <p:cNvPr id="2340" name=""/>
            <p:cNvSpPr/>
            <p:nvPr/>
          </p:nvSpPr>
          <p:spPr>
            <a:xfrm>
              <a:off x="-15316200" y="-457200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1" name=""/>
            <p:cNvGrpSpPr/>
            <p:nvPr/>
          </p:nvGrpSpPr>
          <p:grpSpPr>
            <a:xfrm>
              <a:off x="-15316200" y="-4114800"/>
              <a:ext cx="39180960" cy="15143040"/>
              <a:chOff x="-15316200" y="-4114800"/>
              <a:chExt cx="39180960" cy="1514304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-15316200" y="-4114800"/>
                <a:ext cx="39180960" cy="15143040"/>
                <a:chOff x="-15316200" y="-4114800"/>
                <a:chExt cx="39180960" cy="1514304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-15316200" y="-4114800"/>
                  <a:ext cx="7772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-15316200" y="-4114800"/>
                  <a:ext cx="7772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 su carácter de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sociados Académicos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5" name=""/>
                <p:cNvGrpSpPr/>
                <p:nvPr/>
              </p:nvGrpSpPr>
              <p:grpSpPr>
                <a:xfrm>
                  <a:off x="-15316200" y="-3870360"/>
                  <a:ext cx="39180960" cy="14898600"/>
                  <a:chOff x="-15316200" y="-3870360"/>
                  <a:chExt cx="39180960" cy="14898600"/>
                </a:xfrm>
              </p:grpSpPr>
              <p:grpSp>
                <p:nvGrpSpPr>
                  <p:cNvPr id="2346" name=""/>
                  <p:cNvGrpSpPr/>
                  <p:nvPr/>
                </p:nvGrpSpPr>
                <p:grpSpPr>
                  <a:xfrm>
                    <a:off x="-15224040" y="-3870360"/>
                    <a:ext cx="39088800" cy="14119200"/>
                    <a:chOff x="-15224040" y="-3870360"/>
                    <a:chExt cx="39088800" cy="14119200"/>
                  </a:xfrm>
                </p:grpSpPr>
                <p:grpSp>
                  <p:nvGrpSpPr>
                    <p:cNvPr id="2347" name=""/>
                    <p:cNvGrpSpPr/>
                    <p:nvPr/>
                  </p:nvGrpSpPr>
                  <p:grpSpPr>
                    <a:xfrm>
                      <a:off x="-15224040" y="-3870360"/>
                      <a:ext cx="583920" cy="581400"/>
                      <a:chOff x="-15224040" y="-3870360"/>
                      <a:chExt cx="583920" cy="581400"/>
                    </a:xfrm>
                  </p:grpSpPr>
                  <p:sp>
                    <p:nvSpPr>
                      <p:cNvPr id="2348" name=""/>
                      <p:cNvSpPr/>
                      <p:nvPr/>
                    </p:nvSpPr>
                    <p:spPr>
                      <a:xfrm>
                        <a:off x="-15224040" y="-387036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9" name=""/>
                      <p:cNvSpPr/>
                      <p:nvPr/>
                    </p:nvSpPr>
                    <p:spPr>
                      <a:xfrm>
                        <a:off x="-15224040" y="-3870360"/>
                        <a:ext cx="58392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141"/>
                          </a:rPr>
                          <a:t>  </a:t>
                        </a:r>
                        <a:r>
                          <a:rPr b="0" lang="en-US" sz="32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50" name=""/>
                    <p:cNvSpPr/>
                    <p:nvPr/>
                  </p:nvSpPr>
                  <p:spPr>
                    <a:xfrm>
                      <a:off x="-14639760" y="-387036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2"/>
                        </a:rPr>
                        <a:t>Benemérita Universidad Autónoma de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3"/>
                        </a:rPr>
                        <a:t>Puebla 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4"/>
                        </a:rPr>
                        <a:t>Lic. Rafael Campos Pére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1" name=""/>
                    <p:cNvSpPr/>
                    <p:nvPr/>
                  </p:nvSpPr>
                  <p:spPr>
                    <a:xfrm>
                      <a:off x="-15224040" y="-3108240"/>
                      <a:ext cx="166320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45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2" name=""/>
                    <p:cNvSpPr/>
                    <p:nvPr/>
                  </p:nvSpPr>
                  <p:spPr>
                    <a:xfrm>
                      <a:off x="-13560480" y="-3108240"/>
                      <a:ext cx="3742524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6"/>
                        </a:rPr>
                        <a:t>Centro de Investigación Científica y de Educación Superior de Ensenad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7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8"/>
                        </a:rPr>
                        <a:t>. Jorge Enrique Preciado Velas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>
                      <a:off x="-15224040" y="-2346480"/>
                      <a:ext cx="166320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49"/>
                        </a:rPr>
                        <a:t>  </a:t>
                      </a: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-13560480" y="-2346480"/>
                      <a:ext cx="37425240" cy="609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0"/>
                        </a:rPr>
                        <a:t>Centros Públicos de Investigación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1"/>
                        </a:rPr>
                        <a:t>Conacyt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2"/>
                        </a:rPr>
                        <a:t>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3"/>
                        </a:rPr>
                        <a:t>Ing. Raúl Flores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4"/>
                        </a:rPr>
                        <a:t>Arreola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5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55" name=""/>
                    <p:cNvGrpSpPr/>
                    <p:nvPr/>
                  </p:nvGrpSpPr>
                  <p:grpSpPr>
                    <a:xfrm>
                      <a:off x="-15224040" y="-1736640"/>
                      <a:ext cx="583920" cy="550800"/>
                      <a:chOff x="-15224040" y="-1736640"/>
                      <a:chExt cx="583920" cy="550800"/>
                    </a:xfrm>
                  </p:grpSpPr>
                  <p:sp>
                    <p:nvSpPr>
                      <p:cNvPr id="2356" name=""/>
                      <p:cNvSpPr/>
                      <p:nvPr/>
                    </p:nvSpPr>
                    <p:spPr>
                      <a:xfrm>
                        <a:off x="-15224040" y="-173664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7" name=""/>
                      <p:cNvSpPr/>
                      <p:nvPr/>
                    </p:nvSpPr>
                    <p:spPr>
                      <a:xfrm>
                        <a:off x="-15224040" y="-1736640"/>
                        <a:ext cx="58392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100" spc="-1" strike="noStrike" u="sng">
                            <a:solidFill>
                              <a:srgbClr val="ff0000"/>
                            </a:solidFill>
                            <a:uFillTx/>
                            <a:latin typeface="Tahoma"/>
                            <a:hlinkClick r:id="rId156"/>
                          </a:rPr>
                          <a:t>  </a:t>
                        </a:r>
                        <a:r>
                          <a:rPr b="0" lang="en-US" sz="30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</a:t>
                        </a:r>
                        <a:r>
                          <a:rPr b="0" lang="en-US" sz="11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      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58" name=""/>
                    <p:cNvSpPr/>
                    <p:nvPr/>
                  </p:nvSpPr>
                  <p:spPr>
                    <a:xfrm>
                      <a:off x="-14639760" y="-1736640"/>
                      <a:ext cx="37424880" cy="76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7"/>
                        </a:rPr>
                        <a:t>Instituto Politécnico Nacional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8"/>
                        </a:rPr>
                        <a:t> Ing. Sergio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59"/>
                        </a:rPr>
                        <a:t>Viñals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0"/>
                        </a:rPr>
                        <a:t> Padilla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59" name=""/>
                    <p:cNvGrpSpPr/>
                    <p:nvPr/>
                  </p:nvGrpSpPr>
                  <p:grpSpPr>
                    <a:xfrm>
                      <a:off x="-15224040" y="-974880"/>
                      <a:ext cx="869760" cy="459720"/>
                      <a:chOff x="-15224040" y="-974880"/>
                      <a:chExt cx="869760" cy="459720"/>
                    </a:xfrm>
                  </p:grpSpPr>
                  <p:sp>
                    <p:nvSpPr>
                      <p:cNvPr id="2360" name=""/>
                      <p:cNvSpPr/>
                      <p:nvPr/>
                    </p:nvSpPr>
                    <p:spPr>
                      <a:xfrm>
                        <a:off x="-15224040" y="-97488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1" name=""/>
                      <p:cNvSpPr/>
                      <p:nvPr/>
                    </p:nvSpPr>
                    <p:spPr>
                      <a:xfrm>
                        <a:off x="-15224040" y="-974880"/>
                        <a:ext cx="8697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161"/>
                          </a:rPr>
                          <a:t>  </a:t>
                        </a:r>
                        <a:r>
                          <a:rPr b="0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Times New Roman"/>
                          </a:rPr>
                          <a:t> 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62" name=""/>
                    <p:cNvSpPr/>
                    <p:nvPr/>
                  </p:nvSpPr>
                  <p:spPr>
                    <a:xfrm>
                      <a:off x="-14353920" y="-974880"/>
                      <a:ext cx="37424880" cy="762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2"/>
                        </a:rPr>
                        <a:t>Instituto Latinoamericano de Comunicación Educativ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3"/>
                        </a:rPr>
                        <a:t>Lic. Gustavo Flores Verdugo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3" name=""/>
                    <p:cNvSpPr/>
                    <p:nvPr/>
                  </p:nvSpPr>
                  <p:spPr>
                    <a:xfrm>
                      <a:off x="-15224040" y="-2127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4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4" name=""/>
                    <p:cNvSpPr/>
                    <p:nvPr/>
                  </p:nvSpPr>
                  <p:spPr>
                    <a:xfrm>
                      <a:off x="-13560480" y="-2127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5"/>
                        </a:rPr>
                        <a:t>Instituto Tecnológico de Estudios Superiores de Monterrey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6"/>
                        </a:rPr>
                        <a:t>Ing. Juan José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7"/>
                        </a:rPr>
                        <a:t>Zamanill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68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5" name=""/>
                    <p:cNvSpPr/>
                    <p:nvPr/>
                  </p:nvSpPr>
                  <p:spPr>
                    <a:xfrm>
                      <a:off x="-15224040" y="56520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9"/>
                        </a:rPr>
                        <a:t>  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6" name=""/>
                    <p:cNvSpPr/>
                    <p:nvPr/>
                  </p:nvSpPr>
                  <p:spPr>
                    <a:xfrm>
                      <a:off x="-13560480" y="56520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0"/>
                        </a:rPr>
                        <a:t>Laboratorio Nacional de Informática Avanzad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1"/>
                        </a:rPr>
                        <a:t>Dra. Cristina Loyo Vare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7" name=""/>
                    <p:cNvSpPr/>
                    <p:nvPr/>
                  </p:nvSpPr>
                  <p:spPr>
                    <a:xfrm>
                      <a:off x="-15224040" y="134316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2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/>
                    <p:nvPr/>
                  </p:nvSpPr>
                  <p:spPr>
                    <a:xfrm>
                      <a:off x="-13560480" y="134316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3"/>
                        </a:rPr>
                        <a:t>Universidad Autónoma de Ciudad Juárez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4"/>
                        </a:rPr>
                        <a:t>M.C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5"/>
                        </a:rPr>
                        <a:t>. Fernando Estrada Saldañ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9" name=""/>
                    <p:cNvSpPr/>
                    <p:nvPr/>
                  </p:nvSpPr>
                  <p:spPr>
                    <a:xfrm>
                      <a:off x="-15224040" y="21207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6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0" name=""/>
                    <p:cNvSpPr/>
                    <p:nvPr/>
                  </p:nvSpPr>
                  <p:spPr>
                    <a:xfrm>
                      <a:off x="-13560480" y="21207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7"/>
                        </a:rPr>
                        <a:t>Universidad Autónoma de Nuevo León _x000b_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78"/>
                        </a:rPr>
                        <a:t>Dr. Roberto Mercado Hernánde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1" name=""/>
                    <p:cNvSpPr/>
                    <p:nvPr/>
                  </p:nvSpPr>
                  <p:spPr>
                    <a:xfrm>
                      <a:off x="-15224040" y="28987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9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2" name=""/>
                    <p:cNvSpPr/>
                    <p:nvPr/>
                  </p:nvSpPr>
                  <p:spPr>
                    <a:xfrm>
                      <a:off x="-13560480" y="28987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0"/>
                        </a:rPr>
                        <a:t>Universidad Autónoma de Tamaulipas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1"/>
                        </a:rPr>
                        <a:t>Ing. Iván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2"/>
                        </a:rPr>
                        <a:t>Ogota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3"/>
                        </a:rPr>
                        <a:t> Martínez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4"/>
                        </a:rPr>
                        <a:t>Moriel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5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3" name=""/>
                    <p:cNvSpPr/>
                    <p:nvPr/>
                  </p:nvSpPr>
                  <p:spPr>
                    <a:xfrm>
                      <a:off x="-15224040" y="367668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86"/>
                        </a:rPr>
                        <a:t>  </a:t>
                      </a: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-13560480" y="367668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7"/>
                        </a:rPr>
                        <a:t>Universidad Autónoma del Estado de Hidalgo </a:t>
                      </a:r>
                      <a:br>
                        <a:rPr sz="11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8"/>
                        </a:rPr>
                        <a:t>Alejandro Mendoza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89"/>
                        </a:rPr>
                        <a:t>Gamiñ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0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75" name=""/>
                    <p:cNvGrpSpPr/>
                    <p:nvPr/>
                  </p:nvGrpSpPr>
                  <p:grpSpPr>
                    <a:xfrm>
                      <a:off x="-15224040" y="4454640"/>
                      <a:ext cx="793440" cy="977400"/>
                      <a:chOff x="-15224040" y="4454640"/>
                      <a:chExt cx="793440" cy="977400"/>
                    </a:xfrm>
                  </p:grpSpPr>
                  <p:sp>
                    <p:nvSpPr>
                      <p:cNvPr id="2376" name=""/>
                      <p:cNvSpPr/>
                      <p:nvPr/>
                    </p:nvSpPr>
                    <p:spPr>
                      <a:xfrm>
                        <a:off x="-15224040" y="445464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7" name=""/>
                      <p:cNvSpPr/>
                      <p:nvPr/>
                    </p:nvSpPr>
                    <p:spPr>
                      <a:xfrm>
                        <a:off x="-15224040" y="4454640"/>
                        <a:ext cx="793440" cy="977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191"/>
                          </a:rPr>
                          <a:t>  </a:t>
                        </a:r>
                        <a:r>
                          <a:rPr b="0" lang="en-US" sz="3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78" name=""/>
                    <p:cNvSpPr/>
                    <p:nvPr/>
                  </p:nvSpPr>
                  <p:spPr>
                    <a:xfrm>
                      <a:off x="-14430240" y="4454640"/>
                      <a:ext cx="37424880" cy="97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2"/>
                        </a:rPr>
                        <a:t>Universidad 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3"/>
                        </a:rPr>
                        <a:t>Autonoma</a:t>
                      </a: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4"/>
                        </a:rPr>
                        <a:t> del Estado de Morelos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5"/>
                        </a:rPr>
                        <a:t>Ing. Rafael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6"/>
                        </a:rPr>
                        <a:t>Abur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7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198"/>
                        </a:rPr>
                        <a:t>Pelanis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9" name=""/>
                    <p:cNvSpPr/>
                    <p:nvPr/>
                  </p:nvSpPr>
                  <p:spPr>
                    <a:xfrm>
                      <a:off x="-15224040" y="542916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9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>
                      <a:off x="-13560480" y="542916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0"/>
                        </a:rPr>
                        <a:t>Universidad Autónoma Metropolit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1"/>
                        </a:rPr>
                        <a:t>Ing.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2"/>
                        </a:rPr>
                        <a:t>Walther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3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4"/>
                        </a:rPr>
                        <a:t>Antonioli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5"/>
                        </a:rPr>
                        <a:t> 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6"/>
                        </a:rPr>
                        <a:t>Ravetto</a:t>
                      </a:r>
                      <a:r>
                        <a:rPr b="1" lang="es-MX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7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/>
                    <p:nvPr/>
                  </p:nvSpPr>
                  <p:spPr>
                    <a:xfrm>
                      <a:off x="-15224040" y="62071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08"/>
                        </a:rPr>
                        <a:t>  </a:t>
                      </a:r>
                      <a:r>
                        <a:rPr b="0" lang="en-US" sz="4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2" name=""/>
                    <p:cNvSpPr/>
                    <p:nvPr/>
                  </p:nvSpPr>
                  <p:spPr>
                    <a:xfrm>
                      <a:off x="-13560480" y="62071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09"/>
                        </a:rPr>
                        <a:t>Universidad de Guadalajar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10"/>
                        </a:rPr>
                        <a:t>Dr. Héctor Gómez Hernández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83" name=""/>
                    <p:cNvGrpSpPr/>
                    <p:nvPr/>
                  </p:nvGrpSpPr>
                  <p:grpSpPr>
                    <a:xfrm>
                      <a:off x="-15224040" y="6985080"/>
                      <a:ext cx="869760" cy="932040"/>
                      <a:chOff x="-15224040" y="6985080"/>
                      <a:chExt cx="869760" cy="932040"/>
                    </a:xfrm>
                  </p:grpSpPr>
                  <p:sp>
                    <p:nvSpPr>
                      <p:cNvPr id="2384" name=""/>
                      <p:cNvSpPr/>
                      <p:nvPr/>
                    </p:nvSpPr>
                    <p:spPr>
                      <a:xfrm>
                        <a:off x="-15224040" y="6985080"/>
                        <a:ext cx="3744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5" name=""/>
                      <p:cNvSpPr/>
                      <p:nvPr/>
                    </p:nvSpPr>
                    <p:spPr>
                      <a:xfrm>
                        <a:off x="-15224040" y="6985080"/>
                        <a:ext cx="869760" cy="93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 u="sng">
                            <a:solidFill>
                              <a:srgbClr val="ff0000"/>
                            </a:solidFill>
                            <a:uFillTx/>
                            <a:latin typeface="Times New Roman"/>
                            <a:hlinkClick r:id="rId211"/>
                          </a:rPr>
                          <a:t>  </a:t>
                        </a:r>
                        <a:r>
                          <a:rPr b="0" lang="en-US" sz="3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86" name=""/>
                    <p:cNvSpPr/>
                    <p:nvPr/>
                  </p:nvSpPr>
                  <p:spPr>
                    <a:xfrm>
                      <a:off x="-14353920" y="6985080"/>
                      <a:ext cx="37424880" cy="930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12"/>
                        </a:rPr>
                        <a:t>Universidad Autónoma de La Lagun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 </a:t>
                      </a:r>
                      <a:r>
                        <a:rPr b="1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213"/>
                        </a:rPr>
                        <a:t>Dr. Pascual Arturo Hernández Guerra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>
                      <a:off x="-15224040" y="791532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14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>
                      <a:off x="-13560480" y="791532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dad de Las Américas-Puebla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éctor Eduardo Lazzer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9" name=""/>
                    <p:cNvSpPr/>
                    <p:nvPr/>
                  </p:nvSpPr>
                  <p:spPr>
                    <a:xfrm>
                      <a:off x="-15224040" y="8693280"/>
                      <a:ext cx="166320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0" name=""/>
                    <p:cNvSpPr/>
                    <p:nvPr/>
                  </p:nvSpPr>
                  <p:spPr>
                    <a:xfrm>
                      <a:off x="-13560480" y="8693280"/>
                      <a:ext cx="37425240" cy="77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dad Nacional Autónoma de México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Alejandro Pisanty Baru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/>
                    <p:nvPr/>
                  </p:nvSpPr>
                  <p:spPr>
                    <a:xfrm>
                      <a:off x="-15224040" y="9470880"/>
                      <a:ext cx="166320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2" name=""/>
                    <p:cNvSpPr/>
                    <p:nvPr/>
                  </p:nvSpPr>
                  <p:spPr>
                    <a:xfrm>
                      <a:off x="-13560480" y="9470880"/>
                      <a:ext cx="37425240" cy="77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dad Veracruzana </a:t>
                      </a:r>
                      <a:br>
                        <a:rPr sz="1000"/>
                      </a:b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: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. Ramón Parra Loe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3" name=""/>
                  <p:cNvSpPr/>
                  <p:nvPr/>
                </p:nvSpPr>
                <p:spPr>
                  <a:xfrm>
                    <a:off x="-15316200" y="10202760"/>
                    <a:ext cx="18396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4" name=""/>
              <p:cNvGrpSpPr/>
              <p:nvPr/>
            </p:nvGrpSpPr>
            <p:grpSpPr>
              <a:xfrm>
                <a:off x="-15316200" y="-4114800"/>
                <a:ext cx="2742120" cy="595440"/>
                <a:chOff x="-15316200" y="-4114800"/>
                <a:chExt cx="2742120" cy="59544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-15316200" y="-4114800"/>
                  <a:ext cx="874800" cy="5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-14441400" y="-4114800"/>
                  <a:ext cx="1866960" cy="5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-12574440" y="-4114800"/>
                  <a:ext cx="360" cy="5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8" name=""/>
          <p:cNvSpPr/>
          <p:nvPr/>
        </p:nvSpPr>
        <p:spPr>
          <a:xfrm>
            <a:off x="-15017760" y="11136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330066"/>
                </a:solidFill>
                <a:latin typeface="Arial"/>
                <a:ea typeface="Arial"/>
              </a:rPr>
              <a:t>Si tiene algún problema técnico para ver este sitio escríbanos cudi@cudi.edu.mx </a:t>
            </a:r>
            <a:br>
              <a:rPr sz="1100"/>
            </a:br>
            <a:r>
              <a:rPr b="1" lang="es-MX" sz="600" spc="-1" strike="noStrike">
                <a:solidFill>
                  <a:srgbClr val="000000"/>
                </a:solidFill>
                <a:latin typeface="Arial"/>
                <a:ea typeface="Arial"/>
              </a:rPr>
              <a:t>Sitio elaborado por: www.cudi.edu.mx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9" name="" descr=""/>
          <p:cNvPicPr/>
          <p:nvPr/>
        </p:nvPicPr>
        <p:blipFill>
          <a:blip r:embed="rId215"/>
          <a:stretch/>
        </p:blipFill>
        <p:spPr>
          <a:xfrm>
            <a:off x="-10491840" y="-4506840"/>
            <a:ext cx="92160" cy="342720"/>
          </a:xfrm>
          <a:prstGeom prst="rect">
            <a:avLst/>
          </a:prstGeom>
          <a:ln w="0">
            <a:noFill/>
          </a:ln>
        </p:spPr>
      </p:pic>
      <p:pic>
        <p:nvPicPr>
          <p:cNvPr id="2400" name="" descr="">
            <a:hlinkClick r:id="rId216"/>
          </p:cNvPr>
          <p:cNvPicPr/>
          <p:nvPr/>
        </p:nvPicPr>
        <p:blipFill>
          <a:blip r:embed="rId217"/>
          <a:stretch/>
        </p:blipFill>
        <p:spPr>
          <a:xfrm>
            <a:off x="-14785920" y="-3713040"/>
            <a:ext cx="342720" cy="514080"/>
          </a:xfrm>
          <a:prstGeom prst="rect">
            <a:avLst/>
          </a:prstGeom>
          <a:ln w="0">
            <a:noFill/>
          </a:ln>
        </p:spPr>
      </p:pic>
      <p:pic>
        <p:nvPicPr>
          <p:cNvPr id="2401" name="" descr="">
            <a:hlinkClick r:id="rId218"/>
          </p:cNvPr>
          <p:cNvPicPr/>
          <p:nvPr/>
        </p:nvPicPr>
        <p:blipFill>
          <a:blip r:embed="rId219"/>
          <a:stretch/>
        </p:blipFill>
        <p:spPr>
          <a:xfrm>
            <a:off x="-14757480" y="-2951280"/>
            <a:ext cx="514440" cy="354240"/>
          </a:xfrm>
          <a:prstGeom prst="rect">
            <a:avLst/>
          </a:prstGeom>
          <a:ln w="0">
            <a:noFill/>
          </a:ln>
        </p:spPr>
      </p:pic>
      <p:pic>
        <p:nvPicPr>
          <p:cNvPr id="2402" name="" descr="">
            <a:hlinkClick r:id="rId220"/>
          </p:cNvPr>
          <p:cNvPicPr/>
          <p:nvPr/>
        </p:nvPicPr>
        <p:blipFill>
          <a:blip r:embed="rId221"/>
          <a:stretch/>
        </p:blipFill>
        <p:spPr>
          <a:xfrm>
            <a:off x="-14798520" y="-218916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2403" name="" descr="">
            <a:hlinkClick r:id="rId222"/>
          </p:cNvPr>
          <p:cNvPicPr/>
          <p:nvPr/>
        </p:nvPicPr>
        <p:blipFill>
          <a:blip r:embed="rId223"/>
          <a:stretch/>
        </p:blipFill>
        <p:spPr>
          <a:xfrm>
            <a:off x="-14782680" y="-1579680"/>
            <a:ext cx="342720" cy="479520"/>
          </a:xfrm>
          <a:prstGeom prst="rect">
            <a:avLst/>
          </a:prstGeom>
          <a:ln w="0">
            <a:noFill/>
          </a:ln>
        </p:spPr>
      </p:pic>
      <p:pic>
        <p:nvPicPr>
          <p:cNvPr id="2404" name="" descr="">
            <a:hlinkClick r:id="rId224"/>
          </p:cNvPr>
          <p:cNvPicPr/>
          <p:nvPr/>
        </p:nvPicPr>
        <p:blipFill>
          <a:blip r:embed="rId225"/>
          <a:stretch/>
        </p:blipFill>
        <p:spPr>
          <a:xfrm>
            <a:off x="-14757480" y="-817560"/>
            <a:ext cx="549360" cy="388800"/>
          </a:xfrm>
          <a:prstGeom prst="rect">
            <a:avLst/>
          </a:prstGeom>
          <a:ln w="0">
            <a:noFill/>
          </a:ln>
        </p:spPr>
      </p:pic>
      <p:pic>
        <p:nvPicPr>
          <p:cNvPr id="2405" name="" descr="">
            <a:hlinkClick r:id="rId226"/>
          </p:cNvPr>
          <p:cNvPicPr/>
          <p:nvPr/>
        </p:nvPicPr>
        <p:blipFill>
          <a:blip r:embed="rId227"/>
          <a:stretch/>
        </p:blipFill>
        <p:spPr>
          <a:xfrm>
            <a:off x="-14757480" y="-55440"/>
            <a:ext cx="492120" cy="617400"/>
          </a:xfrm>
          <a:prstGeom prst="rect">
            <a:avLst/>
          </a:prstGeom>
          <a:ln w="0">
            <a:noFill/>
          </a:ln>
        </p:spPr>
      </p:pic>
      <p:pic>
        <p:nvPicPr>
          <p:cNvPr id="2406" name="" descr="">
            <a:hlinkClick r:id="rId228"/>
          </p:cNvPr>
          <p:cNvPicPr/>
          <p:nvPr/>
        </p:nvPicPr>
        <p:blipFill>
          <a:blip r:embed="rId229"/>
          <a:stretch/>
        </p:blipFill>
        <p:spPr>
          <a:xfrm>
            <a:off x="-14757480" y="722160"/>
            <a:ext cx="503280" cy="479520"/>
          </a:xfrm>
          <a:prstGeom prst="rect">
            <a:avLst/>
          </a:prstGeom>
          <a:ln w="0">
            <a:noFill/>
          </a:ln>
        </p:spPr>
      </p:pic>
      <p:pic>
        <p:nvPicPr>
          <p:cNvPr id="2407" name="" descr="">
            <a:hlinkClick r:id="rId230"/>
          </p:cNvPr>
          <p:cNvPicPr/>
          <p:nvPr/>
        </p:nvPicPr>
        <p:blipFill>
          <a:blip r:embed="rId231"/>
          <a:stretch/>
        </p:blipFill>
        <p:spPr>
          <a:xfrm>
            <a:off x="-14757480" y="150012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408" name="" descr="">
            <a:hlinkClick r:id="rId232"/>
          </p:cNvPr>
          <p:cNvPicPr/>
          <p:nvPr/>
        </p:nvPicPr>
        <p:blipFill>
          <a:blip r:embed="rId233"/>
          <a:stretch/>
        </p:blipFill>
        <p:spPr>
          <a:xfrm>
            <a:off x="-14757480" y="22780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2409" name="" descr="">
            <a:hlinkClick r:id="rId234"/>
          </p:cNvPr>
          <p:cNvPicPr/>
          <p:nvPr/>
        </p:nvPicPr>
        <p:blipFill>
          <a:blip r:embed="rId235"/>
          <a:stretch/>
        </p:blipFill>
        <p:spPr>
          <a:xfrm>
            <a:off x="-14757480" y="3056040"/>
            <a:ext cx="514440" cy="446040"/>
          </a:xfrm>
          <a:prstGeom prst="rect">
            <a:avLst/>
          </a:prstGeom>
          <a:ln w="0">
            <a:noFill/>
          </a:ln>
        </p:spPr>
      </p:pic>
      <p:pic>
        <p:nvPicPr>
          <p:cNvPr id="2410" name="" descr="">
            <a:hlinkClick r:id="rId236"/>
          </p:cNvPr>
          <p:cNvPicPr/>
          <p:nvPr/>
        </p:nvPicPr>
        <p:blipFill>
          <a:blip r:embed="rId237"/>
          <a:stretch/>
        </p:blipFill>
        <p:spPr>
          <a:xfrm>
            <a:off x="-14757480" y="3833640"/>
            <a:ext cx="457200" cy="525600"/>
          </a:xfrm>
          <a:prstGeom prst="rect">
            <a:avLst/>
          </a:prstGeom>
          <a:ln w="0">
            <a:noFill/>
          </a:ln>
        </p:spPr>
      </p:pic>
      <p:pic>
        <p:nvPicPr>
          <p:cNvPr id="2411" name="" descr="">
            <a:hlinkClick r:id="rId238"/>
          </p:cNvPr>
          <p:cNvPicPr/>
          <p:nvPr/>
        </p:nvPicPr>
        <p:blipFill>
          <a:blip r:embed="rId239"/>
          <a:stretch/>
        </p:blipFill>
        <p:spPr>
          <a:xfrm>
            <a:off x="-14757480" y="4611600"/>
            <a:ext cx="457200" cy="549360"/>
          </a:xfrm>
          <a:prstGeom prst="rect">
            <a:avLst/>
          </a:prstGeom>
          <a:ln w="0">
            <a:noFill/>
          </a:ln>
        </p:spPr>
      </p:pic>
      <p:pic>
        <p:nvPicPr>
          <p:cNvPr id="2412" name="" descr="">
            <a:hlinkClick r:id="rId240"/>
          </p:cNvPr>
          <p:cNvPicPr/>
          <p:nvPr/>
        </p:nvPicPr>
        <p:blipFill>
          <a:blip r:embed="rId241"/>
          <a:stretch/>
        </p:blipFill>
        <p:spPr>
          <a:xfrm>
            <a:off x="-14789160" y="5586480"/>
            <a:ext cx="514440" cy="250920"/>
          </a:xfrm>
          <a:prstGeom prst="rect">
            <a:avLst/>
          </a:prstGeom>
          <a:ln w="0">
            <a:noFill/>
          </a:ln>
        </p:spPr>
      </p:pic>
      <p:pic>
        <p:nvPicPr>
          <p:cNvPr id="2413" name="" descr="">
            <a:hlinkClick r:id="rId242"/>
          </p:cNvPr>
          <p:cNvPicPr/>
          <p:nvPr/>
        </p:nvPicPr>
        <p:blipFill>
          <a:blip r:embed="rId243"/>
          <a:stretch/>
        </p:blipFill>
        <p:spPr>
          <a:xfrm>
            <a:off x="-14757480" y="6364440"/>
            <a:ext cx="514440" cy="650880"/>
          </a:xfrm>
          <a:prstGeom prst="rect">
            <a:avLst/>
          </a:prstGeom>
          <a:ln w="0">
            <a:noFill/>
          </a:ln>
        </p:spPr>
      </p:pic>
      <p:pic>
        <p:nvPicPr>
          <p:cNvPr id="2414" name="" descr="">
            <a:hlinkClick r:id="rId244"/>
          </p:cNvPr>
          <p:cNvPicPr/>
          <p:nvPr/>
        </p:nvPicPr>
        <p:blipFill>
          <a:blip r:embed="rId245"/>
          <a:stretch/>
        </p:blipFill>
        <p:spPr>
          <a:xfrm>
            <a:off x="-14730480" y="7142040"/>
            <a:ext cx="549360" cy="503280"/>
          </a:xfrm>
          <a:prstGeom prst="rect">
            <a:avLst/>
          </a:prstGeom>
          <a:ln w="0">
            <a:noFill/>
          </a:ln>
        </p:spPr>
      </p:pic>
      <p:pic>
        <p:nvPicPr>
          <p:cNvPr id="2415" name="" descr="">
            <a:hlinkClick r:id="rId246"/>
          </p:cNvPr>
          <p:cNvPicPr/>
          <p:nvPr/>
        </p:nvPicPr>
        <p:blipFill>
          <a:blip r:embed="rId247"/>
          <a:stretch/>
        </p:blipFill>
        <p:spPr>
          <a:xfrm>
            <a:off x="-14757480" y="8072280"/>
            <a:ext cx="514440" cy="503280"/>
          </a:xfrm>
          <a:prstGeom prst="rect">
            <a:avLst/>
          </a:prstGeom>
          <a:ln w="0">
            <a:noFill/>
          </a:ln>
        </p:spPr>
      </p:pic>
      <p:pic>
        <p:nvPicPr>
          <p:cNvPr id="2416" name="" descr=""/>
          <p:cNvPicPr/>
          <p:nvPr/>
        </p:nvPicPr>
        <p:blipFill>
          <a:blip r:embed="rId248"/>
          <a:stretch/>
        </p:blipFill>
        <p:spPr>
          <a:xfrm>
            <a:off x="-14757480" y="8850240"/>
            <a:ext cx="514440" cy="560520"/>
          </a:xfrm>
          <a:prstGeom prst="rect">
            <a:avLst/>
          </a:prstGeom>
          <a:ln w="0">
            <a:noFill/>
          </a:ln>
        </p:spPr>
      </p:pic>
      <p:pic>
        <p:nvPicPr>
          <p:cNvPr id="2417" name="" descr=""/>
          <p:cNvPicPr/>
          <p:nvPr/>
        </p:nvPicPr>
        <p:blipFill>
          <a:blip r:embed="rId249"/>
          <a:stretch/>
        </p:blipFill>
        <p:spPr>
          <a:xfrm>
            <a:off x="-14757480" y="9628200"/>
            <a:ext cx="549360" cy="606240"/>
          </a:xfrm>
          <a:prstGeom prst="rect">
            <a:avLst/>
          </a:prstGeom>
          <a:ln w="0">
            <a:noFill/>
          </a:ln>
        </p:spPr>
      </p:pic>
      <p:pic>
        <p:nvPicPr>
          <p:cNvPr id="2418" name="" descr=""/>
          <p:cNvPicPr/>
          <p:nvPr/>
        </p:nvPicPr>
        <p:blipFill>
          <a:blip r:embed="rId250"/>
          <a:stretch/>
        </p:blipFill>
        <p:spPr>
          <a:xfrm>
            <a:off x="-14671800" y="-3957480"/>
            <a:ext cx="171720" cy="536400"/>
          </a:xfrm>
          <a:prstGeom prst="rect">
            <a:avLst/>
          </a:prstGeom>
          <a:ln w="0">
            <a:noFill/>
          </a:ln>
        </p:spPr>
      </p:pic>
      <p:pic>
        <p:nvPicPr>
          <p:cNvPr id="2419" name="" descr=""/>
          <p:cNvPicPr/>
          <p:nvPr/>
        </p:nvPicPr>
        <p:blipFill>
          <a:blip r:embed="rId251"/>
          <a:stretch/>
        </p:blipFill>
        <p:spPr>
          <a:xfrm>
            <a:off x="-13593600" y="-3957480"/>
            <a:ext cx="765000" cy="4222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146480" y="32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10220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4419720" y="2666880"/>
            <a:ext cx="641160" cy="459720"/>
            <a:chOff x="4419720" y="2666880"/>
            <a:chExt cx="641160" cy="459720"/>
          </a:xfrm>
        </p:grpSpPr>
        <p:sp>
          <p:nvSpPr>
            <p:cNvPr id="2425" name=""/>
            <p:cNvSpPr/>
            <p:nvPr/>
          </p:nvSpPr>
          <p:spPr>
            <a:xfrm>
              <a:off x="4419720" y="2666880"/>
              <a:ext cx="37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419720" y="2666880"/>
              <a:ext cx="64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7" name=""/>
          <p:cNvSpPr/>
          <p:nvPr/>
        </p:nvSpPr>
        <p:spPr>
          <a:xfrm>
            <a:off x="415764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15296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14648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14648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14648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1752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4648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1464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7" name=""/>
          <p:cNvGrpSpPr/>
          <p:nvPr/>
        </p:nvGrpSpPr>
        <p:grpSpPr>
          <a:xfrm>
            <a:off x="4137120" y="2963880"/>
            <a:ext cx="869760" cy="459720"/>
            <a:chOff x="4137120" y="2963880"/>
            <a:chExt cx="869760" cy="459720"/>
          </a:xfrm>
        </p:grpSpPr>
        <p:sp>
          <p:nvSpPr>
            <p:cNvPr id="2438" name=""/>
            <p:cNvSpPr/>
            <p:nvPr/>
          </p:nvSpPr>
          <p:spPr>
            <a:xfrm>
              <a:off x="4137120" y="2963880"/>
              <a:ext cx="374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137120" y="2963880"/>
              <a:ext cx="8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414648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146480" y="310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12920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68720" y="1219320"/>
            <a:ext cx="880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los interesados en conectarse en un nod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e algún Asociado Académico los datos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presentantes de cada Institución pueden consult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n la pági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ahoma"/>
              </a:rPr>
              <a:t>http://www.cudi.edu.mx/members/membre0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930960" y="3049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ahoma"/>
              </a:rPr>
              <a:t>Coordinación de Insta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94440" y="4316400"/>
            <a:ext cx="8251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Para coordinar la instalación al backbone de CUDI, contactar 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g. Hans Reyes o a un representante del NOC en la dire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http://www.noc.cudi.edu.m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BE7-8DF6-4309-8E05-1D935B084E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_x000b__x000b__x000b_</a:t>
            </a:r>
            <a:r>
              <a:rPr b="0" lang="es-MX" sz="43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mmurom@cudi.edu.mx</a:t>
            </a:r>
            <a:r>
              <a:rPr b="0" lang="es-MX" sz="43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_x000b_ </a:t>
            </a:r>
            <a:r>
              <a:rPr b="0" lang="es-MX" sz="4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</a:t>
            </a:r>
            <a:r>
              <a:rPr b="0" lang="es-MX" sz="4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://</a:t>
            </a:r>
            <a:r>
              <a:rPr b="0" lang="es-MX" sz="4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www.cudi.edu</a:t>
            </a:r>
            <a:r>
              <a:rPr b="0" lang="es-MX" sz="43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mx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7" name=""/>
          <p:cNvSpPr/>
          <p:nvPr/>
        </p:nvSpPr>
        <p:spPr>
          <a:xfrm>
            <a:off x="1143000" y="4038480"/>
            <a:ext cx="67816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95480" y="4343400"/>
            <a:ext cx="3429000" cy="16668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1440720" y="185760"/>
            <a:ext cx="47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ara cualquier aclar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g. Fernando M. Muro M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el: (55) 5211-30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9005-CED8-4FD4-8C2C-7296EDAAD6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1c1c1c"/>
                </a:solidFill>
                <a:latin typeface="Tahoma"/>
              </a:rPr>
              <a:t>Red patrocinada por Telmex y Avant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1c1c1c"/>
                </a:solidFill>
                <a:latin typeface="Tahoma"/>
              </a:rPr>
              <a:t>Backbone con enlaces de 155 Mb/s de 8000K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1c1c1c"/>
                </a:solidFill>
                <a:latin typeface="Tahoma"/>
              </a:rPr>
              <a:t>Red sólo para aplicaciones de Educación e Investigació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371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vances en el Back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05560" y="48888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Avances en la red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0A02-C540-4ABF-8196-C8BA2D7CC3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Backbone de la red CUD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572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ectivi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04920" y="2171880"/>
            <a:ext cx="619128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FBA2-BCA2-4758-8BC7-F6E82F5E5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pología de la red CUD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5720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ectivida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407960"/>
          <a:ext cx="873432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7960"/>
                    <a:ext cx="873432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5F50-D3C5-4AE2-AF02-B3F8992A0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quipamiento multiproveedor de los nodos de acceso de los Asociados Académ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868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3284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l equipamiento de los nodos de acceso a los asociados académicos puede ser multi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68BE-4734-4E09-9872-C16492ACF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502920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dos de afil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520"/>
            <a:ext cx="6019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Opciones actuales de con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694480" y="5302080"/>
            <a:ext cx="527040" cy="301320"/>
            <a:chOff x="5694480" y="5302080"/>
            <a:chExt cx="527040" cy="301320"/>
          </a:xfrm>
        </p:grpSpPr>
        <p:sp>
          <p:nvSpPr>
            <p:cNvPr id="119" name=""/>
            <p:cNvSpPr/>
            <p:nvPr/>
          </p:nvSpPr>
          <p:spPr>
            <a:xfrm>
              <a:off x="5695560" y="5428080"/>
              <a:ext cx="512640" cy="1753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94480" y="5396040"/>
              <a:ext cx="525960" cy="13104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94480" y="5396040"/>
              <a:ext cx="525960" cy="13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95560" y="5302080"/>
              <a:ext cx="512640" cy="175320"/>
            </a:xfrm>
            <a:prstGeom prst="ellipse">
              <a:avLst/>
            </a:prstGeom>
            <a:solidFill>
              <a:srgbClr val="339966"/>
            </a:solidFill>
            <a:ln w="3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3760" y="53269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63760" y="5326920"/>
              <a:ext cx="1735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34"/>
                  </a:moveTo>
                  <a:lnTo>
                    <a:pt x="30" y="44"/>
                  </a:lnTo>
                  <a:lnTo>
                    <a:pt x="102" y="15"/>
                  </a:lnTo>
                  <a:lnTo>
                    <a:pt x="135" y="25"/>
                  </a:lnTo>
                  <a:lnTo>
                    <a:pt x="117" y="0"/>
                  </a:lnTo>
                  <a:lnTo>
                    <a:pt x="32" y="0"/>
                  </a:lnTo>
                  <a:lnTo>
                    <a:pt x="67" y="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4040" y="53960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4040" y="5396040"/>
              <a:ext cx="172440" cy="6192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29"/>
                  </a:lnTo>
                  <a:lnTo>
                    <a:pt x="0" y="20"/>
                  </a:lnTo>
                  <a:lnTo>
                    <a:pt x="18" y="47"/>
                  </a:lnTo>
                  <a:lnTo>
                    <a:pt x="105" y="47"/>
                  </a:lnTo>
                  <a:lnTo>
                    <a:pt x="68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4120" y="53226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4120" y="5322600"/>
              <a:ext cx="173520" cy="5976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10"/>
                  </a:moveTo>
                  <a:lnTo>
                    <a:pt x="30" y="0"/>
                  </a:lnTo>
                  <a:lnTo>
                    <a:pt x="102" y="28"/>
                  </a:lnTo>
                  <a:lnTo>
                    <a:pt x="135" y="20"/>
                  </a:lnTo>
                  <a:lnTo>
                    <a:pt x="117" y="45"/>
                  </a:lnTo>
                  <a:lnTo>
                    <a:pt x="32" y="45"/>
                  </a:lnTo>
                  <a:lnTo>
                    <a:pt x="67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8000" y="54021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8000" y="5402160"/>
              <a:ext cx="172440" cy="5904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135" y="34"/>
                  </a:moveTo>
                  <a:lnTo>
                    <a:pt x="105" y="44"/>
                  </a:lnTo>
                  <a:lnTo>
                    <a:pt x="35" y="15"/>
                  </a:lnTo>
                  <a:lnTo>
                    <a:pt x="0" y="24"/>
                  </a:lnTo>
                  <a:lnTo>
                    <a:pt x="17" y="0"/>
                  </a:lnTo>
                  <a:lnTo>
                    <a:pt x="105" y="0"/>
                  </a:lnTo>
                  <a:lnTo>
                    <a:pt x="67" y="7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67000" y="53298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67000" y="532980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0" y="35"/>
                  </a:moveTo>
                  <a:lnTo>
                    <a:pt x="30" y="45"/>
                  </a:lnTo>
                  <a:lnTo>
                    <a:pt x="103" y="15"/>
                  </a:lnTo>
                  <a:lnTo>
                    <a:pt x="135" y="25"/>
                  </a:lnTo>
                  <a:lnTo>
                    <a:pt x="118" y="0"/>
                  </a:lnTo>
                  <a:lnTo>
                    <a:pt x="33" y="0"/>
                  </a:lnTo>
                  <a:lnTo>
                    <a:pt x="68" y="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78360" y="53982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8360" y="5398200"/>
              <a:ext cx="172440" cy="63000"/>
            </a:xfrm>
            <a:custGeom>
              <a:avLst/>
              <a:gdLst/>
              <a:ahLst/>
              <a:rect l="l" t="t" r="r" b="b"/>
              <a:pathLst>
                <a:path w="135" h="47">
                  <a:moveTo>
                    <a:pt x="135" y="10"/>
                  </a:moveTo>
                  <a:lnTo>
                    <a:pt x="105" y="0"/>
                  </a:lnTo>
                  <a:lnTo>
                    <a:pt x="35" y="30"/>
                  </a:lnTo>
                  <a:lnTo>
                    <a:pt x="0" y="20"/>
                  </a:lnTo>
                  <a:lnTo>
                    <a:pt x="17" y="47"/>
                  </a:lnTo>
                  <a:lnTo>
                    <a:pt x="105" y="47"/>
                  </a:lnTo>
                  <a:lnTo>
                    <a:pt x="67" y="37"/>
                  </a:lnTo>
                  <a:lnTo>
                    <a:pt x="13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87000" y="53269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7000" y="5326920"/>
              <a:ext cx="171720" cy="58680"/>
            </a:xfrm>
            <a:custGeom>
              <a:avLst/>
              <a:gdLst/>
              <a:ahLst/>
              <a:rect l="l" t="t" r="r" b="b"/>
              <a:pathLst>
                <a:path w="135" h="44">
                  <a:moveTo>
                    <a:pt x="0" y="10"/>
                  </a:moveTo>
                  <a:lnTo>
                    <a:pt x="30" y="0"/>
                  </a:lnTo>
                  <a:lnTo>
                    <a:pt x="103" y="27"/>
                  </a:lnTo>
                  <a:lnTo>
                    <a:pt x="135" y="20"/>
                  </a:lnTo>
                  <a:lnTo>
                    <a:pt x="118" y="44"/>
                  </a:lnTo>
                  <a:lnTo>
                    <a:pt x="33" y="44"/>
                  </a:lnTo>
                  <a:lnTo>
                    <a:pt x="68" y="3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9080" y="54054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59080" y="5405400"/>
              <a:ext cx="174600" cy="58680"/>
            </a:xfrm>
            <a:custGeom>
              <a:avLst/>
              <a:gdLst/>
              <a:ahLst/>
              <a:rect l="l" t="t" r="r" b="b"/>
              <a:pathLst>
                <a:path w="135" h="45">
                  <a:moveTo>
                    <a:pt x="135" y="35"/>
                  </a:moveTo>
                  <a:lnTo>
                    <a:pt x="105" y="45"/>
                  </a:lnTo>
                  <a:lnTo>
                    <a:pt x="35" y="15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105" y="0"/>
                  </a:lnTo>
                  <a:lnTo>
                    <a:pt x="68" y="8"/>
                  </a:lnTo>
                  <a:lnTo>
                    <a:pt x="135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0440" y="5391720"/>
              <a:ext cx="1080" cy="13104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0240" y="397188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dos de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soci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286000" y="5230800"/>
            <a:ext cx="546120" cy="490680"/>
            <a:chOff x="2286000" y="5230800"/>
            <a:chExt cx="546120" cy="490680"/>
          </a:xfrm>
        </p:grpSpPr>
        <p:grpSp>
          <p:nvGrpSpPr>
            <p:cNvPr id="142" name=""/>
            <p:cNvGrpSpPr/>
            <p:nvPr/>
          </p:nvGrpSpPr>
          <p:grpSpPr>
            <a:xfrm>
              <a:off x="2307960" y="5242680"/>
              <a:ext cx="524160" cy="478800"/>
              <a:chOff x="2307960" y="5242680"/>
              <a:chExt cx="524160" cy="478800"/>
            </a:xfrm>
          </p:grpSpPr>
          <p:sp>
            <p:nvSpPr>
              <p:cNvPr id="143" name=""/>
              <p:cNvSpPr/>
              <p:nvPr/>
            </p:nvSpPr>
            <p:spPr>
              <a:xfrm>
                <a:off x="2307960" y="5242680"/>
                <a:ext cx="524160" cy="55440"/>
              </a:xfrm>
              <a:custGeom>
                <a:avLst/>
                <a:gdLst/>
                <a:ahLst/>
                <a:rect l="l" t="t" r="r" b="b"/>
                <a:pathLst>
                  <a:path w="552" h="56">
                    <a:moveTo>
                      <a:pt x="0" y="55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07960" y="5242680"/>
                <a:ext cx="524160" cy="55440"/>
              </a:xfrm>
              <a:custGeom>
                <a:avLst/>
                <a:gdLst/>
                <a:ahLst/>
                <a:rect l="l" t="t" r="r" b="b"/>
                <a:pathLst>
                  <a:path w="552" h="56">
                    <a:moveTo>
                      <a:pt x="0" y="55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07960" y="5302080"/>
                <a:ext cx="468000" cy="419040"/>
              </a:xfrm>
              <a:custGeom>
                <a:avLst/>
                <a:gdLst/>
                <a:ahLst/>
                <a:rect l="l" t="t" r="r" b="b"/>
                <a:pathLst>
                  <a:path w="493" h="423">
                    <a:moveTo>
                      <a:pt x="0" y="0"/>
                    </a:moveTo>
                    <a:lnTo>
                      <a:pt x="492" y="0"/>
                    </a:lnTo>
                    <a:lnTo>
                      <a:pt x="492" y="422"/>
                    </a:lnTo>
                    <a:lnTo>
                      <a:pt x="0" y="4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78840" y="5242680"/>
                <a:ext cx="52920" cy="478800"/>
              </a:xfrm>
              <a:custGeom>
                <a:avLst/>
                <a:gdLst/>
                <a:ahLst/>
                <a:rect l="l" t="t" r="r" b="b"/>
                <a:pathLst>
                  <a:path w="56" h="483">
                    <a:moveTo>
                      <a:pt x="0" y="59"/>
                    </a:moveTo>
                    <a:lnTo>
                      <a:pt x="55" y="0"/>
                    </a:lnTo>
                    <a:lnTo>
                      <a:pt x="55" y="424"/>
                    </a:lnTo>
                    <a:lnTo>
                      <a:pt x="0" y="482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78840" y="5242680"/>
                <a:ext cx="52920" cy="478800"/>
              </a:xfrm>
              <a:custGeom>
                <a:avLst/>
                <a:gdLst/>
                <a:ahLst/>
                <a:rect l="l" t="t" r="r" b="b"/>
                <a:pathLst>
                  <a:path w="56" h="483">
                    <a:moveTo>
                      <a:pt x="0" y="59"/>
                    </a:moveTo>
                    <a:lnTo>
                      <a:pt x="55" y="0"/>
                    </a:lnTo>
                    <a:lnTo>
                      <a:pt x="55" y="424"/>
                    </a:lnTo>
                    <a:lnTo>
                      <a:pt x="0" y="482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286000" y="5230800"/>
              <a:ext cx="524160" cy="47160"/>
            </a:xfrm>
            <a:custGeom>
              <a:avLst/>
              <a:gdLst/>
              <a:ahLst/>
              <a:rect l="l" t="t" r="r" b="b"/>
              <a:pathLst>
                <a:path w="552" h="48">
                  <a:moveTo>
                    <a:pt x="0" y="47"/>
                  </a:moveTo>
                  <a:lnTo>
                    <a:pt x="66" y="0"/>
                  </a:lnTo>
                  <a:lnTo>
                    <a:pt x="551" y="0"/>
                  </a:lnTo>
                  <a:lnTo>
                    <a:pt x="493" y="47"/>
                  </a:lnTo>
                  <a:lnTo>
                    <a:pt x="0" y="47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5230800"/>
              <a:ext cx="524160" cy="47160"/>
            </a:xfrm>
            <a:custGeom>
              <a:avLst/>
              <a:gdLst/>
              <a:ahLst/>
              <a:rect l="l" t="t" r="r" b="b"/>
              <a:pathLst>
                <a:path w="552" h="48">
                  <a:moveTo>
                    <a:pt x="0" y="47"/>
                  </a:moveTo>
                  <a:lnTo>
                    <a:pt x="66" y="0"/>
                  </a:lnTo>
                  <a:lnTo>
                    <a:pt x="551" y="0"/>
                  </a:lnTo>
                  <a:lnTo>
                    <a:pt x="493" y="47"/>
                  </a:lnTo>
                  <a:lnTo>
                    <a:pt x="0" y="47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5281200"/>
              <a:ext cx="467280" cy="428400"/>
            </a:xfrm>
            <a:custGeom>
              <a:avLst/>
              <a:gdLst/>
              <a:ahLst/>
              <a:rect l="l" t="t" r="r" b="b"/>
              <a:pathLst>
                <a:path w="492" h="432">
                  <a:moveTo>
                    <a:pt x="0" y="0"/>
                  </a:moveTo>
                  <a:lnTo>
                    <a:pt x="491" y="0"/>
                  </a:lnTo>
                  <a:lnTo>
                    <a:pt x="491" y="431"/>
                  </a:lnTo>
                  <a:lnTo>
                    <a:pt x="0" y="43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58680" y="5230800"/>
              <a:ext cx="51480" cy="478800"/>
            </a:xfrm>
            <a:custGeom>
              <a:avLst/>
              <a:gdLst/>
              <a:ahLst/>
              <a:rect l="l" t="t" r="r" b="b"/>
              <a:pathLst>
                <a:path w="54" h="483">
                  <a:moveTo>
                    <a:pt x="0" y="52"/>
                  </a:moveTo>
                  <a:lnTo>
                    <a:pt x="53" y="0"/>
                  </a:lnTo>
                  <a:lnTo>
                    <a:pt x="53" y="424"/>
                  </a:lnTo>
                  <a:lnTo>
                    <a:pt x="0" y="482"/>
                  </a:lnTo>
                  <a:lnTo>
                    <a:pt x="0" y="52"/>
                  </a:lnTo>
                </a:path>
              </a:pathLst>
            </a:custGeom>
            <a:solidFill>
              <a:srgbClr val="004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58680" y="5230800"/>
              <a:ext cx="51480" cy="478800"/>
            </a:xfrm>
            <a:custGeom>
              <a:avLst/>
              <a:gdLst/>
              <a:ahLst/>
              <a:rect l="l" t="t" r="r" b="b"/>
              <a:pathLst>
                <a:path w="54" h="483">
                  <a:moveTo>
                    <a:pt x="0" y="52"/>
                  </a:moveTo>
                  <a:lnTo>
                    <a:pt x="53" y="0"/>
                  </a:lnTo>
                  <a:lnTo>
                    <a:pt x="53" y="424"/>
                  </a:lnTo>
                  <a:lnTo>
                    <a:pt x="0" y="482"/>
                  </a:lnTo>
                  <a:lnTo>
                    <a:pt x="0" y="52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324880" y="5325840"/>
              <a:ext cx="394920" cy="347760"/>
              <a:chOff x="2324880" y="5325840"/>
              <a:chExt cx="394920" cy="347760"/>
            </a:xfrm>
          </p:grpSpPr>
          <p:sp>
            <p:nvSpPr>
              <p:cNvPr id="154" name=""/>
              <p:cNvSpPr/>
              <p:nvPr/>
            </p:nvSpPr>
            <p:spPr>
              <a:xfrm>
                <a:off x="2359800" y="536436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342" h="260">
                    <a:moveTo>
                      <a:pt x="341" y="259"/>
                    </a:moveTo>
                    <a:lnTo>
                      <a:pt x="237" y="259"/>
                    </a:lnTo>
                    <a:lnTo>
                      <a:pt x="8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52240" y="5364360"/>
                <a:ext cx="345240" cy="257760"/>
              </a:xfrm>
              <a:custGeom>
                <a:avLst/>
                <a:gdLst/>
                <a:ahLst/>
                <a:rect l="l" t="t" r="r" b="b"/>
                <a:pathLst>
                  <a:path w="364" h="260">
                    <a:moveTo>
                      <a:pt x="0" y="259"/>
                    </a:moveTo>
                    <a:lnTo>
                      <a:pt x="95" y="259"/>
                    </a:lnTo>
                    <a:lnTo>
                      <a:pt x="237" y="0"/>
                    </a:lnTo>
                    <a:lnTo>
                      <a:pt x="363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56080" y="5325840"/>
                <a:ext cx="63720" cy="9216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0" y="0"/>
                    </a:moveTo>
                    <a:lnTo>
                      <a:pt x="0" y="92"/>
                    </a:lnTo>
                    <a:lnTo>
                      <a:pt x="66" y="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56080" y="5576760"/>
                <a:ext cx="63720" cy="91080"/>
              </a:xfrm>
              <a:custGeom>
                <a:avLst/>
                <a:gdLst/>
                <a:ahLst/>
                <a:rect l="l" t="t" r="r" b="b"/>
                <a:pathLst>
                  <a:path w="67" h="92">
                    <a:moveTo>
                      <a:pt x="0" y="0"/>
                    </a:moveTo>
                    <a:lnTo>
                      <a:pt x="0" y="91"/>
                    </a:lnTo>
                    <a:lnTo>
                      <a:pt x="66" y="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24880" y="5325840"/>
                <a:ext cx="48960" cy="9216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51" y="92"/>
                    </a:moveTo>
                    <a:lnTo>
                      <a:pt x="51" y="0"/>
                    </a:lnTo>
                    <a:lnTo>
                      <a:pt x="0" y="46"/>
                    </a:lnTo>
                    <a:lnTo>
                      <a:pt x="51" y="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24880" y="5583600"/>
                <a:ext cx="48960" cy="90000"/>
              </a:xfrm>
              <a:custGeom>
                <a:avLst/>
                <a:gdLst/>
                <a:ahLst/>
                <a:rect l="l" t="t" r="r" b="b"/>
                <a:pathLst>
                  <a:path w="52" h="91">
                    <a:moveTo>
                      <a:pt x="51" y="90"/>
                    </a:moveTo>
                    <a:lnTo>
                      <a:pt x="51" y="0"/>
                    </a:lnTo>
                    <a:lnTo>
                      <a:pt x="0" y="45"/>
                    </a:lnTo>
                    <a:lnTo>
                      <a:pt x="51" y="9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436920" y="2573280"/>
            <a:ext cx="312840" cy="488880"/>
            <a:chOff x="3436920" y="2573280"/>
            <a:chExt cx="312840" cy="48888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436920" y="2638440"/>
              <a:ext cx="312840" cy="42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3475440" y="2573280"/>
              <a:ext cx="245160" cy="119160"/>
              <a:chOff x="3475440" y="2573280"/>
              <a:chExt cx="245160" cy="1191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76160" y="2623320"/>
                <a:ext cx="238320" cy="691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75440" y="261036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5440" y="261036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76160" y="2573280"/>
                <a:ext cx="238320" cy="691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00720" y="25830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00720" y="25830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12520" y="2610360"/>
                <a:ext cx="80280" cy="24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12520" y="2610360"/>
                <a:ext cx="80280" cy="24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17200" y="258120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17200" y="258120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97840" y="261288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97840" y="261288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02160" y="258408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02160" y="258408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14320" y="261108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14320" y="261108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18280" y="258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18280" y="258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98560" y="261396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98560" y="261396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19880" y="2608560"/>
                <a:ext cx="720" cy="514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952880" y="2590920"/>
            <a:ext cx="312840" cy="488880"/>
            <a:chOff x="4952880" y="2590920"/>
            <a:chExt cx="312840" cy="4888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4952880" y="2656080"/>
              <a:ext cx="312840" cy="42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"/>
            <p:cNvGrpSpPr/>
            <p:nvPr/>
          </p:nvGrpSpPr>
          <p:grpSpPr>
            <a:xfrm>
              <a:off x="4991400" y="2590920"/>
              <a:ext cx="245160" cy="119160"/>
              <a:chOff x="4991400" y="2590920"/>
              <a:chExt cx="245160" cy="11916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2120" y="2640960"/>
                <a:ext cx="238320" cy="691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1400" y="262800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91400" y="262800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92120" y="2590920"/>
                <a:ext cx="238320" cy="691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16680" y="2600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16680" y="2600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8480" y="2628000"/>
                <a:ext cx="80280" cy="24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28480" y="2628000"/>
                <a:ext cx="80280" cy="24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33160" y="2598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33160" y="2598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13800" y="26305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13800" y="26305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18120" y="2601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18120" y="2601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30280" y="262872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30280" y="262872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34240" y="260064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34240" y="260064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14520" y="26316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14520" y="26316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35840" y="2626200"/>
                <a:ext cx="720" cy="5148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4130640" y="1733400"/>
            <a:ext cx="312840" cy="490320"/>
            <a:chOff x="4130640" y="1733400"/>
            <a:chExt cx="312840" cy="49032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4130640" y="1798560"/>
              <a:ext cx="312840" cy="42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" name=""/>
            <p:cNvGrpSpPr/>
            <p:nvPr/>
          </p:nvGrpSpPr>
          <p:grpSpPr>
            <a:xfrm>
              <a:off x="4169160" y="1733400"/>
              <a:ext cx="245160" cy="119520"/>
              <a:chOff x="4169160" y="1733400"/>
              <a:chExt cx="245160" cy="119520"/>
            </a:xfrm>
          </p:grpSpPr>
          <p:sp>
            <p:nvSpPr>
              <p:cNvPr id="211" name=""/>
              <p:cNvSpPr/>
              <p:nvPr/>
            </p:nvSpPr>
            <p:spPr>
              <a:xfrm>
                <a:off x="4169880" y="1783440"/>
                <a:ext cx="238320" cy="6948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69160" y="177048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69160" y="177048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69880" y="1733400"/>
                <a:ext cx="238320" cy="6948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94440" y="174312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94440" y="174312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06240" y="177048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06240" y="177048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10920" y="174132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10920" y="174132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91560" y="177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91560" y="177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95880" y="174420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95880" y="174420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08040" y="177120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08040" y="177120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12000" y="17431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12000" y="17431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92280" y="177408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92280" y="177408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13600" y="1768680"/>
                <a:ext cx="720" cy="518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2589120" y="1733400"/>
            <a:ext cx="312840" cy="490320"/>
            <a:chOff x="2589120" y="1733400"/>
            <a:chExt cx="312840" cy="49032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2589120" y="1798560"/>
              <a:ext cx="312840" cy="42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2627640" y="1733400"/>
              <a:ext cx="245160" cy="119520"/>
              <a:chOff x="2627640" y="1733400"/>
              <a:chExt cx="245160" cy="119520"/>
            </a:xfrm>
          </p:grpSpPr>
          <p:sp>
            <p:nvSpPr>
              <p:cNvPr id="235" name=""/>
              <p:cNvSpPr/>
              <p:nvPr/>
            </p:nvSpPr>
            <p:spPr>
              <a:xfrm>
                <a:off x="2628360" y="1783440"/>
                <a:ext cx="238320" cy="6948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27640" y="177048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27640" y="177048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28360" y="1733400"/>
                <a:ext cx="238320" cy="6948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52920" y="174312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52920" y="174312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64720" y="177048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64720" y="177048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9400" y="174132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69400" y="174132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50040" y="177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50040" y="17730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54360" y="174420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754360" y="174420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520" y="177120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66520" y="177120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0480" y="17431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70480" y="17431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50760" y="177408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50760" y="177408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72080" y="1768680"/>
                <a:ext cx="720" cy="518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5261040" y="2643120"/>
            <a:ext cx="106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643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adalaj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02080" y="175248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ter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65440" y="1844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ju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1600" y="2084400"/>
            <a:ext cx="65556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3760" y="2782800"/>
            <a:ext cx="1474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681360" y="2013120"/>
            <a:ext cx="492120" cy="63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65720" y="2154240"/>
            <a:ext cx="655560" cy="48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165640" y="3956040"/>
            <a:ext cx="483840" cy="645840"/>
            <a:chOff x="5165640" y="3956040"/>
            <a:chExt cx="483840" cy="645840"/>
          </a:xfrm>
        </p:grpSpPr>
        <p:grpSp>
          <p:nvGrpSpPr>
            <p:cNvPr id="265" name=""/>
            <p:cNvGrpSpPr/>
            <p:nvPr/>
          </p:nvGrpSpPr>
          <p:grpSpPr>
            <a:xfrm>
              <a:off x="5165640" y="4155840"/>
              <a:ext cx="483840" cy="446040"/>
              <a:chOff x="5165640" y="4155840"/>
              <a:chExt cx="483840" cy="44604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5184720" y="4166640"/>
                <a:ext cx="464760" cy="435240"/>
                <a:chOff x="5184720" y="4166640"/>
                <a:chExt cx="464760" cy="435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184720" y="4166640"/>
                  <a:ext cx="464760" cy="5040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84720" y="4166640"/>
                  <a:ext cx="464760" cy="5040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184720" y="4220640"/>
                  <a:ext cx="415080" cy="38088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602320" y="4166640"/>
                  <a:ext cx="47160" cy="4352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602320" y="4166640"/>
                  <a:ext cx="47160" cy="4352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165640" y="4155840"/>
                <a:ext cx="464760" cy="4320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65640" y="4155840"/>
                <a:ext cx="464760" cy="4320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65640" y="4201560"/>
                <a:ext cx="414000" cy="389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85040" y="4155840"/>
                <a:ext cx="45360" cy="43524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85040" y="4155840"/>
                <a:ext cx="45360" cy="43524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5196600" y="4242240"/>
                <a:ext cx="350280" cy="315720"/>
                <a:chOff x="5196600" y="4242240"/>
                <a:chExt cx="350280" cy="315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227560" y="4277160"/>
                  <a:ext cx="287640" cy="2340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220720" y="4277160"/>
                  <a:ext cx="306360" cy="2340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490360" y="4242240"/>
                  <a:ext cx="56520" cy="8352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490360" y="4470120"/>
                  <a:ext cx="56520" cy="828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196600" y="4242240"/>
                  <a:ext cx="43560" cy="8352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196600" y="4476240"/>
                  <a:ext cx="43560" cy="817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5175720" y="3956040"/>
              <a:ext cx="444240" cy="262800"/>
              <a:chOff x="5175720" y="3956040"/>
              <a:chExt cx="444240" cy="262800"/>
            </a:xfrm>
          </p:grpSpPr>
          <p:sp>
            <p:nvSpPr>
              <p:cNvPr id="285" name=""/>
              <p:cNvSpPr/>
              <p:nvPr/>
            </p:nvSpPr>
            <p:spPr>
              <a:xfrm>
                <a:off x="5176800" y="4066200"/>
                <a:ext cx="432360" cy="1526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75720" y="4038120"/>
                <a:ext cx="443160" cy="114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75720" y="4038120"/>
                <a:ext cx="443160" cy="114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76800" y="3956040"/>
                <a:ext cx="432360" cy="1526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02880" y="3977640"/>
                <a:ext cx="14652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2880" y="3977640"/>
                <a:ext cx="14652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42680" y="403812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2680" y="403812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51320" y="3974040"/>
                <a:ext cx="146520" cy="525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51320" y="3974040"/>
                <a:ext cx="146520" cy="525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97840" y="404316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97840" y="404316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05400" y="3980160"/>
                <a:ext cx="14508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5400" y="3980160"/>
                <a:ext cx="14508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46280" y="4039560"/>
                <a:ext cx="145440" cy="54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46280" y="4039560"/>
                <a:ext cx="145440" cy="54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3840" y="397764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53840" y="397764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399280" y="4045680"/>
                <a:ext cx="14616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399280" y="4045680"/>
                <a:ext cx="14616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618880" y="4034160"/>
                <a:ext cx="1080" cy="1141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4535640" y="5160960"/>
            <a:ext cx="484200" cy="630360"/>
            <a:chOff x="4535640" y="5160960"/>
            <a:chExt cx="484200" cy="630360"/>
          </a:xfrm>
        </p:grpSpPr>
        <p:grpSp>
          <p:nvGrpSpPr>
            <p:cNvPr id="307" name=""/>
            <p:cNvGrpSpPr/>
            <p:nvPr/>
          </p:nvGrpSpPr>
          <p:grpSpPr>
            <a:xfrm>
              <a:off x="4535640" y="5356080"/>
              <a:ext cx="484200" cy="435240"/>
              <a:chOff x="4535640" y="5356080"/>
              <a:chExt cx="484200" cy="4352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555080" y="5366520"/>
                <a:ext cx="464760" cy="424800"/>
                <a:chOff x="4555080" y="5366520"/>
                <a:chExt cx="464760" cy="4248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55508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5508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555080" y="5419080"/>
                  <a:ext cx="415080" cy="37188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7268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97268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453564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3564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35640" y="5400720"/>
                <a:ext cx="414360" cy="37980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5504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504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570200" y="5440320"/>
                <a:ext cx="350280" cy="308520"/>
                <a:chOff x="4570200" y="5440320"/>
                <a:chExt cx="350280" cy="308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601160" y="547452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94320" y="5474520"/>
                  <a:ext cx="306360" cy="2286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863960" y="5440320"/>
                  <a:ext cx="56520" cy="8172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863960" y="5662800"/>
                  <a:ext cx="56520" cy="810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70200" y="5440320"/>
                  <a:ext cx="43560" cy="8172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0200" y="5668920"/>
                  <a:ext cx="43560" cy="799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544640" y="5160960"/>
              <a:ext cx="444240" cy="256680"/>
              <a:chOff x="4544640" y="5160960"/>
              <a:chExt cx="444240" cy="256680"/>
            </a:xfrm>
          </p:grpSpPr>
          <p:sp>
            <p:nvSpPr>
              <p:cNvPr id="327" name=""/>
              <p:cNvSpPr/>
              <p:nvPr/>
            </p:nvSpPr>
            <p:spPr>
              <a:xfrm>
                <a:off x="4545360" y="5268240"/>
                <a:ext cx="432720" cy="149400"/>
              </a:xfrm>
              <a:prstGeom prst="ellipse">
                <a:avLst/>
              </a:prstGeom>
              <a:solidFill>
                <a:srgbClr val="008000"/>
              </a:solidFill>
              <a:ln w="3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44640" y="5240880"/>
                <a:ext cx="443520" cy="111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44640" y="5240880"/>
                <a:ext cx="443520" cy="111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45360" y="5160960"/>
                <a:ext cx="432720" cy="149400"/>
              </a:xfrm>
              <a:prstGeom prst="ellipse">
                <a:avLst/>
              </a:prstGeom>
              <a:solidFill>
                <a:srgbClr val="339966"/>
              </a:solidFill>
              <a:ln w="3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7180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7180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1196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1196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2024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62024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6712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6712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7432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7432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1520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520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2276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2276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6784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6784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88160" y="5237280"/>
                <a:ext cx="720" cy="11160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2913120" y="3971880"/>
            <a:ext cx="483840" cy="645840"/>
            <a:chOff x="2913120" y="3971880"/>
            <a:chExt cx="483840" cy="645840"/>
          </a:xfrm>
        </p:grpSpPr>
        <p:grpSp>
          <p:nvGrpSpPr>
            <p:cNvPr id="349" name=""/>
            <p:cNvGrpSpPr/>
            <p:nvPr/>
          </p:nvGrpSpPr>
          <p:grpSpPr>
            <a:xfrm>
              <a:off x="2913120" y="4171680"/>
              <a:ext cx="483840" cy="446040"/>
              <a:chOff x="2913120" y="4171680"/>
              <a:chExt cx="483840" cy="446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932200" y="4182480"/>
                <a:ext cx="464760" cy="435240"/>
                <a:chOff x="2932200" y="4182480"/>
                <a:chExt cx="464760" cy="4352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32200" y="4182480"/>
                  <a:ext cx="464760" cy="5040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32200" y="4182480"/>
                  <a:ext cx="464760" cy="5040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932200" y="4236480"/>
                  <a:ext cx="415080" cy="38088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349800" y="4182480"/>
                  <a:ext cx="47160" cy="4352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349800" y="4182480"/>
                  <a:ext cx="47160" cy="43524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2913120" y="4171680"/>
                <a:ext cx="464760" cy="4320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13120" y="4171680"/>
                <a:ext cx="464760" cy="4320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13120" y="4217400"/>
                <a:ext cx="414000" cy="389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32520" y="4171680"/>
                <a:ext cx="45360" cy="43524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520" y="4171680"/>
                <a:ext cx="45360" cy="43524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2944080" y="4258080"/>
                <a:ext cx="350280" cy="315720"/>
                <a:chOff x="2944080" y="4258080"/>
                <a:chExt cx="350280" cy="315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975040" y="4293000"/>
                  <a:ext cx="287640" cy="2340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68200" y="4293000"/>
                  <a:ext cx="306360" cy="2340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237840" y="4258080"/>
                  <a:ext cx="56520" cy="8352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37840" y="4485960"/>
                  <a:ext cx="56520" cy="828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944080" y="4258080"/>
                  <a:ext cx="43560" cy="8352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944080" y="4492080"/>
                  <a:ext cx="43560" cy="817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2923200" y="3971880"/>
              <a:ext cx="444240" cy="262800"/>
              <a:chOff x="2923200" y="3971880"/>
              <a:chExt cx="444240" cy="262800"/>
            </a:xfrm>
          </p:grpSpPr>
          <p:sp>
            <p:nvSpPr>
              <p:cNvPr id="369" name=""/>
              <p:cNvSpPr/>
              <p:nvPr/>
            </p:nvSpPr>
            <p:spPr>
              <a:xfrm>
                <a:off x="2924280" y="4082040"/>
                <a:ext cx="432360" cy="1526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23200" y="4053960"/>
                <a:ext cx="443160" cy="114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23200" y="4053960"/>
                <a:ext cx="443160" cy="1141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24280" y="3971880"/>
                <a:ext cx="432360" cy="1526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50360" y="3993480"/>
                <a:ext cx="14652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150360" y="3993480"/>
                <a:ext cx="14652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0160" y="405396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90160" y="405396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98800" y="3989880"/>
                <a:ext cx="146520" cy="525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98800" y="3989880"/>
                <a:ext cx="146520" cy="525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45320" y="405900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145320" y="405900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52880" y="3996000"/>
                <a:ext cx="14508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152880" y="3996000"/>
                <a:ext cx="14508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93760" y="4055400"/>
                <a:ext cx="145440" cy="54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93760" y="4055400"/>
                <a:ext cx="145440" cy="547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01320" y="399348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01320" y="3993480"/>
                <a:ext cx="145440" cy="5112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46760" y="4061520"/>
                <a:ext cx="14616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46760" y="4061520"/>
                <a:ext cx="146160" cy="51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66360" y="4050000"/>
                <a:ext cx="1080" cy="1141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3406680" y="5160960"/>
            <a:ext cx="484200" cy="630360"/>
            <a:chOff x="3406680" y="5160960"/>
            <a:chExt cx="484200" cy="630360"/>
          </a:xfrm>
        </p:grpSpPr>
        <p:grpSp>
          <p:nvGrpSpPr>
            <p:cNvPr id="391" name=""/>
            <p:cNvGrpSpPr/>
            <p:nvPr/>
          </p:nvGrpSpPr>
          <p:grpSpPr>
            <a:xfrm>
              <a:off x="3406680" y="5356080"/>
              <a:ext cx="484200" cy="435240"/>
              <a:chOff x="3406680" y="5356080"/>
              <a:chExt cx="484200" cy="435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3426120" y="5366520"/>
                <a:ext cx="464760" cy="424800"/>
                <a:chOff x="3426120" y="5366520"/>
                <a:chExt cx="464760" cy="4248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42612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42612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426120" y="5419080"/>
                  <a:ext cx="415080" cy="37188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4372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84372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340668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0668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06680" y="5400720"/>
                <a:ext cx="414360" cy="37980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2608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2608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3441240" y="5440320"/>
                <a:ext cx="350280" cy="308520"/>
                <a:chOff x="3441240" y="5440320"/>
                <a:chExt cx="350280" cy="3085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72200" y="547452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65360" y="5474520"/>
                  <a:ext cx="306360" cy="2286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735000" y="5440320"/>
                  <a:ext cx="56520" cy="8172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735000" y="5662800"/>
                  <a:ext cx="56520" cy="810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441240" y="5440320"/>
                  <a:ext cx="43560" cy="8172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441240" y="5668920"/>
                  <a:ext cx="43560" cy="799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3415680" y="5160960"/>
              <a:ext cx="444240" cy="256680"/>
              <a:chOff x="3415680" y="5160960"/>
              <a:chExt cx="444240" cy="256680"/>
            </a:xfrm>
          </p:grpSpPr>
          <p:sp>
            <p:nvSpPr>
              <p:cNvPr id="411" name=""/>
              <p:cNvSpPr/>
              <p:nvPr/>
            </p:nvSpPr>
            <p:spPr>
              <a:xfrm>
                <a:off x="3416400" y="5268240"/>
                <a:ext cx="432720" cy="149400"/>
              </a:xfrm>
              <a:prstGeom prst="ellipse">
                <a:avLst/>
              </a:prstGeom>
              <a:solidFill>
                <a:srgbClr val="008000"/>
              </a:solidFill>
              <a:ln w="3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15680" y="5240880"/>
                <a:ext cx="443520" cy="111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15680" y="5240880"/>
                <a:ext cx="443520" cy="111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16400" y="5160960"/>
                <a:ext cx="432720" cy="149400"/>
              </a:xfrm>
              <a:prstGeom prst="ellipse">
                <a:avLst/>
              </a:prstGeom>
              <a:solidFill>
                <a:srgbClr val="339966"/>
              </a:solidFill>
              <a:ln w="3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64284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4284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8300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8300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49128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49128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3816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3816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4536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4536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8624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48624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9380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9380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3888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3888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859200" y="5237280"/>
                <a:ext cx="720" cy="11160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 flipV="1">
            <a:off x="3116160" y="2991960"/>
            <a:ext cx="492120" cy="9795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5044680" y="2991960"/>
            <a:ext cx="328680" cy="9795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622600" y="4532400"/>
            <a:ext cx="492120" cy="69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98960" y="4602240"/>
            <a:ext cx="409320" cy="55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811400" y="4602240"/>
            <a:ext cx="492120" cy="62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46800" y="4602240"/>
            <a:ext cx="492120" cy="69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822400" y="1523880"/>
            <a:ext cx="3286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376880" y="1523880"/>
            <a:ext cx="3268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143000"/>
            <a:ext cx="6516720" cy="14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796080" y="5160960"/>
            <a:ext cx="484200" cy="630360"/>
            <a:chOff x="6796080" y="5160960"/>
            <a:chExt cx="484200" cy="630360"/>
          </a:xfrm>
        </p:grpSpPr>
        <p:grpSp>
          <p:nvGrpSpPr>
            <p:cNvPr id="442" name=""/>
            <p:cNvGrpSpPr/>
            <p:nvPr/>
          </p:nvGrpSpPr>
          <p:grpSpPr>
            <a:xfrm>
              <a:off x="6796080" y="5356080"/>
              <a:ext cx="484200" cy="435240"/>
              <a:chOff x="6796080" y="5356080"/>
              <a:chExt cx="484200" cy="4352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815520" y="5366520"/>
                <a:ext cx="464760" cy="424800"/>
                <a:chOff x="6815520" y="5366520"/>
                <a:chExt cx="464760" cy="4248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81552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815520" y="5366520"/>
                  <a:ext cx="464760" cy="4896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815520" y="5419080"/>
                  <a:ext cx="415080" cy="37188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23312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233120" y="5366520"/>
                  <a:ext cx="47160" cy="42480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679608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96080" y="5356080"/>
                <a:ext cx="464760" cy="4176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6080" y="5400720"/>
                <a:ext cx="414360" cy="37980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21548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15480" y="5356080"/>
                <a:ext cx="45360" cy="42480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6830640" y="5440320"/>
                <a:ext cx="350280" cy="308520"/>
                <a:chOff x="6830640" y="5440320"/>
                <a:chExt cx="350280" cy="308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861600" y="547452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4760" y="5474520"/>
                  <a:ext cx="306360" cy="2286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124400" y="5440320"/>
                  <a:ext cx="56520" cy="8172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124400" y="5662800"/>
                  <a:ext cx="56520" cy="8100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830640" y="5440320"/>
                  <a:ext cx="43560" cy="8172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30640" y="5668920"/>
                  <a:ext cx="43560" cy="799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6805080" y="5160960"/>
              <a:ext cx="444240" cy="256680"/>
              <a:chOff x="6805080" y="5160960"/>
              <a:chExt cx="444240" cy="256680"/>
            </a:xfrm>
          </p:grpSpPr>
          <p:sp>
            <p:nvSpPr>
              <p:cNvPr id="462" name=""/>
              <p:cNvSpPr/>
              <p:nvPr/>
            </p:nvSpPr>
            <p:spPr>
              <a:xfrm>
                <a:off x="6805800" y="5268240"/>
                <a:ext cx="432720" cy="149400"/>
              </a:xfrm>
              <a:prstGeom prst="ellipse">
                <a:avLst/>
              </a:prstGeom>
              <a:solidFill>
                <a:srgbClr val="008000"/>
              </a:solidFill>
              <a:ln w="3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805080" y="5240880"/>
                <a:ext cx="443520" cy="1116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805080" y="5240880"/>
                <a:ext cx="443520" cy="111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05800" y="5160960"/>
                <a:ext cx="432720" cy="149400"/>
              </a:xfrm>
              <a:prstGeom prst="ellipse">
                <a:avLst/>
              </a:prstGeom>
              <a:solidFill>
                <a:srgbClr val="339966"/>
              </a:solidFill>
              <a:ln w="3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3224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32240" y="5181840"/>
                <a:ext cx="14616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7240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72400" y="5240880"/>
                <a:ext cx="145440" cy="525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8068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80680" y="5178240"/>
                <a:ext cx="146520" cy="50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02756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027560" y="5245920"/>
                <a:ext cx="14544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03476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034760" y="518436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7564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75640" y="5242680"/>
                <a:ext cx="145440" cy="536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8320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83200" y="5181840"/>
                <a:ext cx="144720" cy="50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2828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28280" y="5248800"/>
                <a:ext cx="14724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248600" y="5237280"/>
                <a:ext cx="720" cy="11160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8147160" y="5230800"/>
            <a:ext cx="546120" cy="490680"/>
            <a:chOff x="8147160" y="5230800"/>
            <a:chExt cx="546120" cy="490680"/>
          </a:xfrm>
        </p:grpSpPr>
        <p:grpSp>
          <p:nvGrpSpPr>
            <p:cNvPr id="484" name=""/>
            <p:cNvGrpSpPr/>
            <p:nvPr/>
          </p:nvGrpSpPr>
          <p:grpSpPr>
            <a:xfrm>
              <a:off x="8169120" y="5242680"/>
              <a:ext cx="524160" cy="478800"/>
              <a:chOff x="8169120" y="5242680"/>
              <a:chExt cx="524160" cy="478800"/>
            </a:xfrm>
          </p:grpSpPr>
          <p:sp>
            <p:nvSpPr>
              <p:cNvPr id="485" name=""/>
              <p:cNvSpPr/>
              <p:nvPr/>
            </p:nvSpPr>
            <p:spPr>
              <a:xfrm>
                <a:off x="8169120" y="5242680"/>
                <a:ext cx="524160" cy="55440"/>
              </a:xfrm>
              <a:custGeom>
                <a:avLst/>
                <a:gdLst/>
                <a:ahLst/>
                <a:rect l="l" t="t" r="r" b="b"/>
                <a:pathLst>
                  <a:path w="552" h="56">
                    <a:moveTo>
                      <a:pt x="0" y="55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169120" y="5242680"/>
                <a:ext cx="524160" cy="55440"/>
              </a:xfrm>
              <a:custGeom>
                <a:avLst/>
                <a:gdLst/>
                <a:ahLst/>
                <a:rect l="l" t="t" r="r" b="b"/>
                <a:pathLst>
                  <a:path w="552" h="56">
                    <a:moveTo>
                      <a:pt x="0" y="55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5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169120" y="5302080"/>
                <a:ext cx="468000" cy="419040"/>
              </a:xfrm>
              <a:custGeom>
                <a:avLst/>
                <a:gdLst/>
                <a:ahLst/>
                <a:rect l="l" t="t" r="r" b="b"/>
                <a:pathLst>
                  <a:path w="493" h="423">
                    <a:moveTo>
                      <a:pt x="0" y="0"/>
                    </a:moveTo>
                    <a:lnTo>
                      <a:pt x="492" y="0"/>
                    </a:lnTo>
                    <a:lnTo>
                      <a:pt x="492" y="422"/>
                    </a:lnTo>
                    <a:lnTo>
                      <a:pt x="0" y="4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640000" y="5242680"/>
                <a:ext cx="52920" cy="478800"/>
              </a:xfrm>
              <a:custGeom>
                <a:avLst/>
                <a:gdLst/>
                <a:ahLst/>
                <a:rect l="l" t="t" r="r" b="b"/>
                <a:pathLst>
                  <a:path w="56" h="483">
                    <a:moveTo>
                      <a:pt x="0" y="59"/>
                    </a:moveTo>
                    <a:lnTo>
                      <a:pt x="55" y="0"/>
                    </a:lnTo>
                    <a:lnTo>
                      <a:pt x="55" y="424"/>
                    </a:lnTo>
                    <a:lnTo>
                      <a:pt x="0" y="482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640000" y="5242680"/>
                <a:ext cx="52920" cy="478800"/>
              </a:xfrm>
              <a:custGeom>
                <a:avLst/>
                <a:gdLst/>
                <a:ahLst/>
                <a:rect l="l" t="t" r="r" b="b"/>
                <a:pathLst>
                  <a:path w="56" h="483">
                    <a:moveTo>
                      <a:pt x="0" y="59"/>
                    </a:moveTo>
                    <a:lnTo>
                      <a:pt x="55" y="0"/>
                    </a:lnTo>
                    <a:lnTo>
                      <a:pt x="55" y="424"/>
                    </a:lnTo>
                    <a:lnTo>
                      <a:pt x="0" y="482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8147160" y="5230800"/>
              <a:ext cx="524160" cy="47160"/>
            </a:xfrm>
            <a:custGeom>
              <a:avLst/>
              <a:gdLst/>
              <a:ahLst/>
              <a:rect l="l" t="t" r="r" b="b"/>
              <a:pathLst>
                <a:path w="552" h="48">
                  <a:moveTo>
                    <a:pt x="0" y="47"/>
                  </a:moveTo>
                  <a:lnTo>
                    <a:pt x="66" y="0"/>
                  </a:lnTo>
                  <a:lnTo>
                    <a:pt x="551" y="0"/>
                  </a:lnTo>
                  <a:lnTo>
                    <a:pt x="493" y="47"/>
                  </a:lnTo>
                  <a:lnTo>
                    <a:pt x="0" y="47"/>
                  </a:lnTo>
                </a:path>
              </a:pathLst>
            </a:cu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47160" y="5230800"/>
              <a:ext cx="524160" cy="47160"/>
            </a:xfrm>
            <a:custGeom>
              <a:avLst/>
              <a:gdLst/>
              <a:ahLst/>
              <a:rect l="l" t="t" r="r" b="b"/>
              <a:pathLst>
                <a:path w="552" h="48">
                  <a:moveTo>
                    <a:pt x="0" y="47"/>
                  </a:moveTo>
                  <a:lnTo>
                    <a:pt x="66" y="0"/>
                  </a:lnTo>
                  <a:lnTo>
                    <a:pt x="551" y="0"/>
                  </a:lnTo>
                  <a:lnTo>
                    <a:pt x="493" y="47"/>
                  </a:lnTo>
                  <a:lnTo>
                    <a:pt x="0" y="47"/>
                  </a:lnTo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47160" y="5281200"/>
              <a:ext cx="467280" cy="428400"/>
            </a:xfrm>
            <a:custGeom>
              <a:avLst/>
              <a:gdLst/>
              <a:ahLst/>
              <a:rect l="l" t="t" r="r" b="b"/>
              <a:pathLst>
                <a:path w="492" h="432">
                  <a:moveTo>
                    <a:pt x="0" y="0"/>
                  </a:moveTo>
                  <a:lnTo>
                    <a:pt x="491" y="0"/>
                  </a:lnTo>
                  <a:lnTo>
                    <a:pt x="491" y="431"/>
                  </a:lnTo>
                  <a:lnTo>
                    <a:pt x="0" y="431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19840" y="5230800"/>
              <a:ext cx="51480" cy="478800"/>
            </a:xfrm>
            <a:custGeom>
              <a:avLst/>
              <a:gdLst/>
              <a:ahLst/>
              <a:rect l="l" t="t" r="r" b="b"/>
              <a:pathLst>
                <a:path w="54" h="483">
                  <a:moveTo>
                    <a:pt x="0" y="52"/>
                  </a:moveTo>
                  <a:lnTo>
                    <a:pt x="53" y="0"/>
                  </a:lnTo>
                  <a:lnTo>
                    <a:pt x="53" y="424"/>
                  </a:lnTo>
                  <a:lnTo>
                    <a:pt x="0" y="482"/>
                  </a:lnTo>
                  <a:lnTo>
                    <a:pt x="0" y="52"/>
                  </a:lnTo>
                </a:path>
              </a:pathLst>
            </a:custGeom>
            <a:solidFill>
              <a:srgbClr val="004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9840" y="5230800"/>
              <a:ext cx="51480" cy="478800"/>
            </a:xfrm>
            <a:custGeom>
              <a:avLst/>
              <a:gdLst/>
              <a:ahLst/>
              <a:rect l="l" t="t" r="r" b="b"/>
              <a:pathLst>
                <a:path w="54" h="483">
                  <a:moveTo>
                    <a:pt x="0" y="52"/>
                  </a:moveTo>
                  <a:lnTo>
                    <a:pt x="53" y="0"/>
                  </a:lnTo>
                  <a:lnTo>
                    <a:pt x="53" y="424"/>
                  </a:lnTo>
                  <a:lnTo>
                    <a:pt x="0" y="482"/>
                  </a:lnTo>
                  <a:lnTo>
                    <a:pt x="0" y="52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8186040" y="5325840"/>
              <a:ext cx="394920" cy="347760"/>
              <a:chOff x="8186040" y="5325840"/>
              <a:chExt cx="394920" cy="347760"/>
            </a:xfrm>
          </p:grpSpPr>
          <p:sp>
            <p:nvSpPr>
              <p:cNvPr id="496" name=""/>
              <p:cNvSpPr/>
              <p:nvPr/>
            </p:nvSpPr>
            <p:spPr>
              <a:xfrm>
                <a:off x="8220960" y="536436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342" h="260">
                    <a:moveTo>
                      <a:pt x="341" y="259"/>
                    </a:moveTo>
                    <a:lnTo>
                      <a:pt x="237" y="259"/>
                    </a:lnTo>
                    <a:lnTo>
                      <a:pt x="8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13400" y="5364360"/>
                <a:ext cx="345240" cy="257760"/>
              </a:xfrm>
              <a:custGeom>
                <a:avLst/>
                <a:gdLst/>
                <a:ahLst/>
                <a:rect l="l" t="t" r="r" b="b"/>
                <a:pathLst>
                  <a:path w="364" h="260">
                    <a:moveTo>
                      <a:pt x="0" y="259"/>
                    </a:moveTo>
                    <a:lnTo>
                      <a:pt x="95" y="259"/>
                    </a:lnTo>
                    <a:lnTo>
                      <a:pt x="237" y="0"/>
                    </a:lnTo>
                    <a:lnTo>
                      <a:pt x="363" y="0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517240" y="5325840"/>
                <a:ext cx="63720" cy="92160"/>
              </a:xfrm>
              <a:custGeom>
                <a:avLst/>
                <a:gdLst/>
                <a:ahLst/>
                <a:rect l="l" t="t" r="r" b="b"/>
                <a:pathLst>
                  <a:path w="67" h="93">
                    <a:moveTo>
                      <a:pt x="0" y="0"/>
                    </a:moveTo>
                    <a:lnTo>
                      <a:pt x="0" y="92"/>
                    </a:lnTo>
                    <a:lnTo>
                      <a:pt x="66" y="4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17240" y="5576760"/>
                <a:ext cx="63720" cy="91080"/>
              </a:xfrm>
              <a:custGeom>
                <a:avLst/>
                <a:gdLst/>
                <a:ahLst/>
                <a:rect l="l" t="t" r="r" b="b"/>
                <a:pathLst>
                  <a:path w="67" h="92">
                    <a:moveTo>
                      <a:pt x="0" y="0"/>
                    </a:moveTo>
                    <a:lnTo>
                      <a:pt x="0" y="91"/>
                    </a:lnTo>
                    <a:lnTo>
                      <a:pt x="66" y="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186040" y="5325840"/>
                <a:ext cx="48960" cy="9216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51" y="92"/>
                    </a:moveTo>
                    <a:lnTo>
                      <a:pt x="51" y="0"/>
                    </a:lnTo>
                    <a:lnTo>
                      <a:pt x="0" y="46"/>
                    </a:lnTo>
                    <a:lnTo>
                      <a:pt x="51" y="9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86040" y="5583600"/>
                <a:ext cx="48960" cy="90000"/>
              </a:xfrm>
              <a:custGeom>
                <a:avLst/>
                <a:gdLst/>
                <a:ahLst/>
                <a:rect l="l" t="t" r="r" b="b"/>
                <a:pathLst>
                  <a:path w="52" h="91">
                    <a:moveTo>
                      <a:pt x="51" y="90"/>
                    </a:moveTo>
                    <a:lnTo>
                      <a:pt x="51" y="0"/>
                    </a:lnTo>
                    <a:lnTo>
                      <a:pt x="0" y="45"/>
                    </a:lnTo>
                    <a:lnTo>
                      <a:pt x="51" y="9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6384960" y="2948040"/>
            <a:ext cx="2378160" cy="144468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1c1c1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39080" y="3552840"/>
            <a:ext cx="12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023240" y="4322880"/>
            <a:ext cx="3268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7988040" y="4322880"/>
            <a:ext cx="492120" cy="90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811160" cy="44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01960" y="4707000"/>
            <a:ext cx="714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63920" y="4741920"/>
            <a:ext cx="1130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M +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37400" y="4673520"/>
            <a:ext cx="409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429000" y="1447920"/>
            <a:ext cx="312840" cy="489960"/>
            <a:chOff x="3429000" y="1447920"/>
            <a:chExt cx="312840" cy="489960"/>
          </a:xfrm>
        </p:grpSpPr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3429000" y="1513080"/>
              <a:ext cx="312840" cy="42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"/>
            <p:cNvGrpSpPr/>
            <p:nvPr/>
          </p:nvGrpSpPr>
          <p:grpSpPr>
            <a:xfrm>
              <a:off x="3467520" y="1447920"/>
              <a:ext cx="245160" cy="119520"/>
              <a:chOff x="3467520" y="1447920"/>
              <a:chExt cx="245160" cy="119520"/>
            </a:xfrm>
          </p:grpSpPr>
          <p:sp>
            <p:nvSpPr>
              <p:cNvPr id="513" name=""/>
              <p:cNvSpPr/>
              <p:nvPr/>
            </p:nvSpPr>
            <p:spPr>
              <a:xfrm>
                <a:off x="3468240" y="1497960"/>
                <a:ext cx="238320" cy="6948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467520" y="148500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67520" y="1485000"/>
                <a:ext cx="24444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68240" y="1447920"/>
                <a:ext cx="238320" cy="6948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92800" y="1457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592800" y="1457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04600" y="148500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04600" y="1485000"/>
                <a:ext cx="8028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509280" y="1455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09280" y="1455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89920" y="14875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589920" y="148752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594240" y="1458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94240" y="1458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06400" y="148572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06400" y="1485720"/>
                <a:ext cx="8028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10360" y="145764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10360" y="145764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590640" y="14886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590640" y="148860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11960" y="1483200"/>
                <a:ext cx="720" cy="518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6477120" y="1447920"/>
            <a:ext cx="312480" cy="489960"/>
            <a:chOff x="6477120" y="1447920"/>
            <a:chExt cx="312480" cy="489960"/>
          </a:xfrm>
        </p:grpSpPr>
        <p:pic>
          <p:nvPicPr>
            <p:cNvPr id="535" name="" descr=""/>
            <p:cNvPicPr/>
            <p:nvPr/>
          </p:nvPicPr>
          <p:blipFill>
            <a:blip r:embed="rId6"/>
            <a:stretch/>
          </p:blipFill>
          <p:spPr>
            <a:xfrm>
              <a:off x="6477120" y="1513080"/>
              <a:ext cx="312480" cy="42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6" name=""/>
            <p:cNvGrpSpPr/>
            <p:nvPr/>
          </p:nvGrpSpPr>
          <p:grpSpPr>
            <a:xfrm>
              <a:off x="6515640" y="1447920"/>
              <a:ext cx="244800" cy="119520"/>
              <a:chOff x="6515640" y="1447920"/>
              <a:chExt cx="244800" cy="119520"/>
            </a:xfrm>
          </p:grpSpPr>
          <p:sp>
            <p:nvSpPr>
              <p:cNvPr id="537" name=""/>
              <p:cNvSpPr/>
              <p:nvPr/>
            </p:nvSpPr>
            <p:spPr>
              <a:xfrm>
                <a:off x="6516360" y="1497960"/>
                <a:ext cx="237960" cy="6948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15640" y="1485000"/>
                <a:ext cx="24408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15640" y="1485000"/>
                <a:ext cx="244080" cy="5184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16360" y="1447920"/>
                <a:ext cx="237960" cy="6948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40560" y="1457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40560" y="1457640"/>
                <a:ext cx="8064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52720" y="148500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52720" y="148500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57040" y="1455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57040" y="1455840"/>
                <a:ext cx="80640" cy="237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38040" y="14875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638040" y="14875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642000" y="1458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42000" y="145872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554520" y="1485720"/>
                <a:ext cx="7992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54520" y="1485720"/>
                <a:ext cx="79920" cy="248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558480" y="145764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558480" y="1457640"/>
                <a:ext cx="79920" cy="2304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38760" y="14886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638760" y="1488600"/>
                <a:ext cx="80280" cy="23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59720" y="1483200"/>
                <a:ext cx="720" cy="5184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" name=""/>
          <p:cNvSpPr/>
          <p:nvPr/>
        </p:nvSpPr>
        <p:spPr>
          <a:xfrm>
            <a:off x="3733920" y="182880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733920" y="1219320"/>
            <a:ext cx="3283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257800" y="1828800"/>
            <a:ext cx="12952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91320" y="15098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anc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3960" y="1828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d. Ju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7"/>
          <a:stretch/>
        </p:blipFill>
        <p:spPr>
          <a:xfrm>
            <a:off x="900000" y="2997360"/>
            <a:ext cx="390600" cy="180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8"/>
          <a:stretch/>
        </p:blipFill>
        <p:spPr>
          <a:xfrm>
            <a:off x="900000" y="3213000"/>
            <a:ext cx="390600" cy="181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9"/>
          <a:stretch/>
        </p:blipFill>
        <p:spPr>
          <a:xfrm>
            <a:off x="900000" y="3429000"/>
            <a:ext cx="390600" cy="1810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476360" y="2924280"/>
            <a:ext cx="71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155 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76360" y="3139920"/>
            <a:ext cx="71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34 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77800" y="3357720"/>
            <a:ext cx="7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2 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D352-7D46-4691-AA32-FE34AC18D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570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  <p:grpSp>
          <p:nvGrpSpPr>
            <p:cNvPr id="571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572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3" name=""/>
          <p:cNvGrpSpPr/>
          <p:nvPr/>
        </p:nvGrpSpPr>
        <p:grpSpPr>
          <a:xfrm>
            <a:off x="5638680" y="1219320"/>
            <a:ext cx="1066680" cy="1599480"/>
            <a:chOff x="5638680" y="1219320"/>
            <a:chExt cx="1066680" cy="1599480"/>
          </a:xfrm>
        </p:grpSpPr>
        <p:pic>
          <p:nvPicPr>
            <p:cNvPr id="594" name="" descr=""/>
            <p:cNvPicPr/>
            <p:nvPr/>
          </p:nvPicPr>
          <p:blipFill>
            <a:blip r:embed="rId2"/>
            <a:stretch/>
          </p:blipFill>
          <p:spPr>
            <a:xfrm>
              <a:off x="5638680" y="1432440"/>
              <a:ext cx="1066680" cy="1386360"/>
            </a:xfrm>
            <a:prstGeom prst="rect">
              <a:avLst/>
            </a:prstGeom>
            <a:ln w="12600">
              <a:solidFill>
                <a:srgbClr val="ff9900"/>
              </a:solidFill>
              <a:miter/>
            </a:ln>
          </p:spPr>
        </p:pic>
        <p:grpSp>
          <p:nvGrpSpPr>
            <p:cNvPr id="595" name=""/>
            <p:cNvGrpSpPr/>
            <p:nvPr/>
          </p:nvGrpSpPr>
          <p:grpSpPr>
            <a:xfrm>
              <a:off x="5770080" y="1219320"/>
              <a:ext cx="835200" cy="390240"/>
              <a:chOff x="5770080" y="1219320"/>
              <a:chExt cx="835200" cy="3902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726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26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966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966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64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64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9122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122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876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876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013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013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029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029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169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9169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902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1902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602760" y="1335240"/>
                <a:ext cx="2520" cy="169200"/>
              </a:xfrm>
              <a:prstGeom prst="line">
                <a:avLst/>
              </a:prstGeom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523880" y="3200400"/>
            <a:ext cx="462240" cy="615240"/>
            <a:chOff x="1523880" y="3200400"/>
            <a:chExt cx="462240" cy="615240"/>
          </a:xfrm>
        </p:grpSpPr>
        <p:grpSp>
          <p:nvGrpSpPr>
            <p:cNvPr id="618" name=""/>
            <p:cNvGrpSpPr/>
            <p:nvPr/>
          </p:nvGrpSpPr>
          <p:grpSpPr>
            <a:xfrm>
              <a:off x="1523880" y="3390840"/>
              <a:ext cx="462240" cy="424800"/>
              <a:chOff x="1523880" y="3390840"/>
              <a:chExt cx="462240" cy="4248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1542240" y="3400920"/>
                <a:ext cx="443880" cy="414720"/>
                <a:chOff x="1542240" y="3400920"/>
                <a:chExt cx="443880" cy="4147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542240" y="345240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23880" y="343440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1553400" y="3473280"/>
                <a:ext cx="334080" cy="301320"/>
                <a:chOff x="1553400" y="3473280"/>
                <a:chExt cx="334080" cy="3013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58292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57644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83384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83384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55340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55340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7" name=""/>
            <p:cNvGrpSpPr/>
            <p:nvPr/>
          </p:nvGrpSpPr>
          <p:grpSpPr>
            <a:xfrm>
              <a:off x="1533240" y="3200400"/>
              <a:ext cx="424080" cy="250560"/>
              <a:chOff x="1533240" y="3200400"/>
              <a:chExt cx="424080" cy="250560"/>
            </a:xfrm>
          </p:grpSpPr>
          <p:sp>
            <p:nvSpPr>
              <p:cNvPr id="638" name=""/>
              <p:cNvSpPr/>
              <p:nvPr/>
            </p:nvSpPr>
            <p:spPr>
              <a:xfrm>
                <a:off x="1534320" y="330552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534320" y="320040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95624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200400" y="3200400"/>
            <a:ext cx="461880" cy="615240"/>
            <a:chOff x="3200400" y="3200400"/>
            <a:chExt cx="461880" cy="615240"/>
          </a:xfrm>
        </p:grpSpPr>
        <p:grpSp>
          <p:nvGrpSpPr>
            <p:cNvPr id="660" name=""/>
            <p:cNvGrpSpPr/>
            <p:nvPr/>
          </p:nvGrpSpPr>
          <p:grpSpPr>
            <a:xfrm>
              <a:off x="3200400" y="3390840"/>
              <a:ext cx="461880" cy="424800"/>
              <a:chOff x="3200400" y="3390840"/>
              <a:chExt cx="461880" cy="42480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218760" y="3400920"/>
                <a:ext cx="443520" cy="414720"/>
                <a:chOff x="3218760" y="3400920"/>
                <a:chExt cx="443520" cy="4147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21876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21876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218760" y="345240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61728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61728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>
                <a:off x="320040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0040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200400" y="343440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0036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0036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3229920" y="3473280"/>
                <a:ext cx="333720" cy="301320"/>
                <a:chOff x="3229920" y="3473280"/>
                <a:chExt cx="333720" cy="3013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25944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25296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1000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51000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22992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22992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"/>
            <p:cNvGrpSpPr/>
            <p:nvPr/>
          </p:nvGrpSpPr>
          <p:grpSpPr>
            <a:xfrm>
              <a:off x="3209760" y="3200400"/>
              <a:ext cx="423720" cy="250560"/>
              <a:chOff x="3209760" y="3200400"/>
              <a:chExt cx="423720" cy="250560"/>
            </a:xfrm>
          </p:grpSpPr>
          <p:sp>
            <p:nvSpPr>
              <p:cNvPr id="680" name=""/>
              <p:cNvSpPr/>
              <p:nvPr/>
            </p:nvSpPr>
            <p:spPr>
              <a:xfrm>
                <a:off x="3210840" y="330552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0976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0976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10840" y="320040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2648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2648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7384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27384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8176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28176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42180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2180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2864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42864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7708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7708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28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8428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288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42288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3240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2362320" y="3200400"/>
            <a:ext cx="461880" cy="615240"/>
            <a:chOff x="2362320" y="3200400"/>
            <a:chExt cx="461880" cy="615240"/>
          </a:xfrm>
        </p:grpSpPr>
        <p:grpSp>
          <p:nvGrpSpPr>
            <p:cNvPr id="702" name=""/>
            <p:cNvGrpSpPr/>
            <p:nvPr/>
          </p:nvGrpSpPr>
          <p:grpSpPr>
            <a:xfrm>
              <a:off x="2362320" y="3390840"/>
              <a:ext cx="461880" cy="424800"/>
              <a:chOff x="2362320" y="3390840"/>
              <a:chExt cx="461880" cy="42480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2380680" y="3400920"/>
                <a:ext cx="443520" cy="414720"/>
                <a:chOff x="2380680" y="3400920"/>
                <a:chExt cx="443520" cy="4147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238068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38068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380680" y="345240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77920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77920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236232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6232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62320" y="343440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76228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76228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2391840" y="3473280"/>
                <a:ext cx="333720" cy="301320"/>
                <a:chOff x="2391840" y="3473280"/>
                <a:chExt cx="333720" cy="3013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42136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1488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7192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67192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39184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39184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1" name=""/>
            <p:cNvGrpSpPr/>
            <p:nvPr/>
          </p:nvGrpSpPr>
          <p:grpSpPr>
            <a:xfrm>
              <a:off x="2371680" y="3200400"/>
              <a:ext cx="423720" cy="250560"/>
              <a:chOff x="2371680" y="3200400"/>
              <a:chExt cx="423720" cy="250560"/>
            </a:xfrm>
          </p:grpSpPr>
          <p:sp>
            <p:nvSpPr>
              <p:cNvPr id="722" name=""/>
              <p:cNvSpPr/>
              <p:nvPr/>
            </p:nvSpPr>
            <p:spPr>
              <a:xfrm>
                <a:off x="2372760" y="330552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37168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7168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372760" y="320040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58840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58840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43576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43576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44368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44368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8372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8372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9056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59056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43900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43900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44620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44620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58480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58480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9432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7467480" y="3124080"/>
            <a:ext cx="462240" cy="615240"/>
            <a:chOff x="7467480" y="3124080"/>
            <a:chExt cx="462240" cy="615240"/>
          </a:xfrm>
        </p:grpSpPr>
        <p:grpSp>
          <p:nvGrpSpPr>
            <p:cNvPr id="744" name=""/>
            <p:cNvGrpSpPr/>
            <p:nvPr/>
          </p:nvGrpSpPr>
          <p:grpSpPr>
            <a:xfrm>
              <a:off x="7467480" y="3314520"/>
              <a:ext cx="462240" cy="424800"/>
              <a:chOff x="7467480" y="3314520"/>
              <a:chExt cx="462240" cy="4248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7485840" y="3324600"/>
                <a:ext cx="443880" cy="414720"/>
                <a:chOff x="7485840" y="3324600"/>
                <a:chExt cx="443880" cy="4147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485840" y="332460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485840" y="332460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485840" y="337608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884720" y="33246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884720" y="33246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7467480" y="331452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467480" y="331452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467480" y="335808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67800" y="33145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867800" y="33145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7497000" y="3396960"/>
                <a:ext cx="334080" cy="301320"/>
                <a:chOff x="7497000" y="3396960"/>
                <a:chExt cx="334080" cy="3013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526520" y="343044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520040" y="343044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7440" y="339696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777440" y="361404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497000" y="339696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497000" y="362016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"/>
            <p:cNvGrpSpPr/>
            <p:nvPr/>
          </p:nvGrpSpPr>
          <p:grpSpPr>
            <a:xfrm>
              <a:off x="7476840" y="3124080"/>
              <a:ext cx="424080" cy="250560"/>
              <a:chOff x="7476840" y="3124080"/>
              <a:chExt cx="424080" cy="250560"/>
            </a:xfrm>
          </p:grpSpPr>
          <p:sp>
            <p:nvSpPr>
              <p:cNvPr id="764" name=""/>
              <p:cNvSpPr/>
              <p:nvPr/>
            </p:nvSpPr>
            <p:spPr>
              <a:xfrm>
                <a:off x="7477920" y="322920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476840" y="320220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76840" y="320220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477920" y="312408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93560" y="31446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93560" y="31446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540920" y="32022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40920" y="32022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48840" y="31410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548840" y="31410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88880" y="320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88880" y="320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96080" y="31471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96080" y="31471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544160" y="32036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544160" y="32036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551360" y="31446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551360" y="31446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90320" y="320976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90320" y="320976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99840" y="319860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6705720" y="3124080"/>
            <a:ext cx="461880" cy="615240"/>
            <a:chOff x="6705720" y="3124080"/>
            <a:chExt cx="461880" cy="615240"/>
          </a:xfrm>
        </p:grpSpPr>
        <p:grpSp>
          <p:nvGrpSpPr>
            <p:cNvPr id="786" name=""/>
            <p:cNvGrpSpPr/>
            <p:nvPr/>
          </p:nvGrpSpPr>
          <p:grpSpPr>
            <a:xfrm>
              <a:off x="6705720" y="3314520"/>
              <a:ext cx="461880" cy="424800"/>
              <a:chOff x="6705720" y="3314520"/>
              <a:chExt cx="461880" cy="4248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6724080" y="3324600"/>
                <a:ext cx="443520" cy="414720"/>
                <a:chOff x="6724080" y="3324600"/>
                <a:chExt cx="443520" cy="4147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724080" y="332460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724080" y="332460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724080" y="337608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122600" y="33246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122600" y="332460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6705720" y="331452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705720" y="331452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05720" y="335808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05680" y="33145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05680" y="331452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6735240" y="3396960"/>
                <a:ext cx="333720" cy="301320"/>
                <a:chOff x="6735240" y="3396960"/>
                <a:chExt cx="333720" cy="3013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764760" y="343044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758280" y="343044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015320" y="339696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015320" y="361404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735240" y="339696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35240" y="362016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6715080" y="3124080"/>
              <a:ext cx="423720" cy="250560"/>
              <a:chOff x="6715080" y="3124080"/>
              <a:chExt cx="423720" cy="250560"/>
            </a:xfrm>
          </p:grpSpPr>
          <p:sp>
            <p:nvSpPr>
              <p:cNvPr id="806" name=""/>
              <p:cNvSpPr/>
              <p:nvPr/>
            </p:nvSpPr>
            <p:spPr>
              <a:xfrm>
                <a:off x="6716160" y="322920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5080" y="320220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715080" y="320220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716160" y="312408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1800" y="31446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31800" y="31446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779160" y="32022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779160" y="320220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787080" y="31410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787080" y="314100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27120" y="320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27120" y="32072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33960" y="314712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33960" y="314712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782400" y="32036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782400" y="320364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89600" y="31446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9600" y="31446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928200" y="320976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928200" y="320976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137720" y="319860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108000" y="4191120"/>
            <a:ext cx="461880" cy="615240"/>
            <a:chOff x="108000" y="4191120"/>
            <a:chExt cx="461880" cy="615240"/>
          </a:xfrm>
        </p:grpSpPr>
        <p:grpSp>
          <p:nvGrpSpPr>
            <p:cNvPr id="828" name=""/>
            <p:cNvGrpSpPr/>
            <p:nvPr/>
          </p:nvGrpSpPr>
          <p:grpSpPr>
            <a:xfrm>
              <a:off x="108000" y="4381560"/>
              <a:ext cx="461880" cy="424800"/>
              <a:chOff x="108000" y="4381560"/>
              <a:chExt cx="461880" cy="42480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26360" y="4391640"/>
                <a:ext cx="443520" cy="414720"/>
                <a:chOff x="126360" y="4391640"/>
                <a:chExt cx="443520" cy="4147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126360" y="43916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26360" y="43916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26360" y="444312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24880" y="43916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4880" y="43916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108000" y="43815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8000" y="43815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08000" y="442512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07960" y="43815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7960" y="43815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137520" y="4464000"/>
                <a:ext cx="333720" cy="301320"/>
                <a:chOff x="137520" y="4464000"/>
                <a:chExt cx="333720" cy="3013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167040" y="449748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60560" y="449748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17600" y="446400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17600" y="468108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37520" y="44640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37520" y="468720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117360" y="4191120"/>
              <a:ext cx="423720" cy="250560"/>
              <a:chOff x="117360" y="4191120"/>
              <a:chExt cx="423720" cy="25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118440" y="429624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7360" y="42692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7360" y="42692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8440" y="419112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4080" y="42116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4080" y="42116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81440" y="42692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81440" y="42692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9360" y="42080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9360" y="42080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9400" y="42742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9400" y="42742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6240" y="42141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6240" y="42141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84680" y="42706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84680" y="42706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1880" y="42116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1880" y="42116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30480" y="42768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30480" y="42768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000" y="426564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8305920" y="4876920"/>
            <a:ext cx="461880" cy="615240"/>
            <a:chOff x="8305920" y="4876920"/>
            <a:chExt cx="461880" cy="615240"/>
          </a:xfrm>
        </p:grpSpPr>
        <p:grpSp>
          <p:nvGrpSpPr>
            <p:cNvPr id="870" name=""/>
            <p:cNvGrpSpPr/>
            <p:nvPr/>
          </p:nvGrpSpPr>
          <p:grpSpPr>
            <a:xfrm>
              <a:off x="8305920" y="5067360"/>
              <a:ext cx="461880" cy="424800"/>
              <a:chOff x="8305920" y="5067360"/>
              <a:chExt cx="461880" cy="42480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8324280" y="5077440"/>
                <a:ext cx="443520" cy="414720"/>
                <a:chOff x="8324280" y="5077440"/>
                <a:chExt cx="443520" cy="4147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8324280" y="50774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8324280" y="50774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324280" y="512892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8722800" y="50774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722800" y="50774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8305920" y="50673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05920" y="50673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305920" y="511092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05880" y="50673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05880" y="50673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2" name=""/>
              <p:cNvGrpSpPr/>
              <p:nvPr/>
            </p:nvGrpSpPr>
            <p:grpSpPr>
              <a:xfrm>
                <a:off x="8335440" y="5149800"/>
                <a:ext cx="333720" cy="301320"/>
                <a:chOff x="8335440" y="5149800"/>
                <a:chExt cx="333720" cy="30132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8364960" y="518328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8358480" y="518328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8615520" y="514980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8615520" y="536688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8335440" y="51498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8335440" y="537300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"/>
            <p:cNvGrpSpPr/>
            <p:nvPr/>
          </p:nvGrpSpPr>
          <p:grpSpPr>
            <a:xfrm>
              <a:off x="8315280" y="4876920"/>
              <a:ext cx="423720" cy="250560"/>
              <a:chOff x="8315280" y="4876920"/>
              <a:chExt cx="423720" cy="250560"/>
            </a:xfrm>
          </p:grpSpPr>
          <p:sp>
            <p:nvSpPr>
              <p:cNvPr id="890" name=""/>
              <p:cNvSpPr/>
              <p:nvPr/>
            </p:nvSpPr>
            <p:spPr>
              <a:xfrm>
                <a:off x="8316360" y="498204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315280" y="49550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315280" y="49550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16360" y="487692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532000" y="48974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532000" y="48974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379360" y="49550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379360" y="49550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387280" y="48938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387280" y="48938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527320" y="49600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527320" y="49600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534160" y="48999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534160" y="48999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82600" y="49564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382600" y="49564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389800" y="4897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389800" y="4897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528400" y="49626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528400" y="49626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37920" y="495144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7924680" y="4191120"/>
            <a:ext cx="462240" cy="615240"/>
            <a:chOff x="7924680" y="4191120"/>
            <a:chExt cx="462240" cy="615240"/>
          </a:xfrm>
        </p:grpSpPr>
        <p:grpSp>
          <p:nvGrpSpPr>
            <p:cNvPr id="912" name=""/>
            <p:cNvGrpSpPr/>
            <p:nvPr/>
          </p:nvGrpSpPr>
          <p:grpSpPr>
            <a:xfrm>
              <a:off x="7924680" y="4381560"/>
              <a:ext cx="462240" cy="424800"/>
              <a:chOff x="7924680" y="4381560"/>
              <a:chExt cx="462240" cy="424800"/>
            </a:xfrm>
          </p:grpSpPr>
          <p:grpSp>
            <p:nvGrpSpPr>
              <p:cNvPr id="913" name=""/>
              <p:cNvGrpSpPr/>
              <p:nvPr/>
            </p:nvGrpSpPr>
            <p:grpSpPr>
              <a:xfrm>
                <a:off x="7943040" y="4391640"/>
                <a:ext cx="443880" cy="414720"/>
                <a:chOff x="7943040" y="4391640"/>
                <a:chExt cx="443880" cy="4147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943040" y="439164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943040" y="439164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943040" y="444312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8341920" y="43916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8341920" y="43916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9" name=""/>
              <p:cNvSpPr/>
              <p:nvPr/>
            </p:nvSpPr>
            <p:spPr>
              <a:xfrm>
                <a:off x="7924680" y="438156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24680" y="438156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24680" y="442512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25000" y="43815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25000" y="43815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7954200" y="4464000"/>
                <a:ext cx="334080" cy="301320"/>
                <a:chOff x="7954200" y="4464000"/>
                <a:chExt cx="334080" cy="3013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7983720" y="449748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977240" y="449748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234640" y="446400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234640" y="468108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954200" y="44640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954200" y="468720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1" name=""/>
            <p:cNvGrpSpPr/>
            <p:nvPr/>
          </p:nvGrpSpPr>
          <p:grpSpPr>
            <a:xfrm>
              <a:off x="7934040" y="4191120"/>
              <a:ext cx="424080" cy="250560"/>
              <a:chOff x="7934040" y="4191120"/>
              <a:chExt cx="424080" cy="250560"/>
            </a:xfrm>
          </p:grpSpPr>
          <p:sp>
            <p:nvSpPr>
              <p:cNvPr id="932" name=""/>
              <p:cNvSpPr/>
              <p:nvPr/>
            </p:nvSpPr>
            <p:spPr>
              <a:xfrm>
                <a:off x="7935120" y="429624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934040" y="426924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34040" y="426924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935120" y="419112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150760" y="42116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150760" y="42116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8120" y="42692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998120" y="42692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006040" y="42080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006040" y="42080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146080" y="42742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146080" y="42742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153280" y="42141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153280" y="42141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01360" y="42706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001360" y="42706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08560" y="42116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08560" y="42116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147520" y="42768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147520" y="427680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357040" y="426564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3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45360" y="3429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éxico D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33480" y="44956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uebla P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8682120" y="5715000"/>
            <a:ext cx="461880" cy="615240"/>
            <a:chOff x="8682120" y="5715000"/>
            <a:chExt cx="461880" cy="615240"/>
          </a:xfrm>
        </p:grpSpPr>
        <p:grpSp>
          <p:nvGrpSpPr>
            <p:cNvPr id="957" name=""/>
            <p:cNvGrpSpPr/>
            <p:nvPr/>
          </p:nvGrpSpPr>
          <p:grpSpPr>
            <a:xfrm>
              <a:off x="8682120" y="5905440"/>
              <a:ext cx="461880" cy="424800"/>
              <a:chOff x="8682120" y="5905440"/>
              <a:chExt cx="461880" cy="42480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8700480" y="5915520"/>
                <a:ext cx="443520" cy="414720"/>
                <a:chOff x="8700480" y="5915520"/>
                <a:chExt cx="443520" cy="4147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8700480" y="59155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8700480" y="59155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700480" y="596700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9099000" y="59155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9099000" y="59155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8682120" y="59054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682120" y="59054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682120" y="594900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082080" y="59054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9082080" y="59054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9" name=""/>
              <p:cNvGrpSpPr/>
              <p:nvPr/>
            </p:nvGrpSpPr>
            <p:grpSpPr>
              <a:xfrm>
                <a:off x="8711640" y="5987880"/>
                <a:ext cx="333720" cy="301320"/>
                <a:chOff x="8711640" y="5987880"/>
                <a:chExt cx="333720" cy="3013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8741160" y="60213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734680" y="60213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991720" y="59878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991720" y="62049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711640" y="59878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711640" y="62110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6" name=""/>
            <p:cNvGrpSpPr/>
            <p:nvPr/>
          </p:nvGrpSpPr>
          <p:grpSpPr>
            <a:xfrm>
              <a:off x="8691480" y="5715000"/>
              <a:ext cx="423720" cy="250560"/>
              <a:chOff x="8691480" y="5715000"/>
              <a:chExt cx="423720" cy="250560"/>
            </a:xfrm>
          </p:grpSpPr>
          <p:sp>
            <p:nvSpPr>
              <p:cNvPr id="977" name=""/>
              <p:cNvSpPr/>
              <p:nvPr/>
            </p:nvSpPr>
            <p:spPr>
              <a:xfrm>
                <a:off x="8692560" y="582012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691480" y="57931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691480" y="57931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692560" y="571500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908200" y="57355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08200" y="57355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755560" y="57931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755560" y="57931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763480" y="57319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763480" y="57319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903520" y="57981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903520" y="57981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910360" y="57380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910360" y="57380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758800" y="57945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758800" y="57945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766000" y="57355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766000" y="57355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904600" y="58006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904600" y="58006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114120" y="57895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8" name=""/>
          <p:cNvSpPr/>
          <p:nvPr/>
        </p:nvSpPr>
        <p:spPr>
          <a:xfrm>
            <a:off x="4511880" y="5181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uernavaca M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68760" y="59436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Jalapa 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8669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899160" y="22860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59800" y="3786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I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279880" y="3786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37320" y="37861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76520" y="37339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CONACy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56684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IL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31320" y="47563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D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90920" y="426708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BU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4360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0080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6172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79120" y="5715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133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95280" y="1600200"/>
            <a:ext cx="3643200" cy="28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2920" y="1600200"/>
            <a:ext cx="0" cy="2590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75248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0532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300080" y="49849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A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705720" y="1600200"/>
            <a:ext cx="22096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915400" y="1600200"/>
            <a:ext cx="0" cy="4114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610480" y="1600200"/>
            <a:ext cx="0" cy="327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229600" y="1600200"/>
            <a:ext cx="0" cy="2666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772400" y="1600200"/>
            <a:ext cx="0" cy="1523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10280" y="1600200"/>
            <a:ext cx="0" cy="1523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42880" y="18288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15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527560" y="56386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9900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835360" y="9144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91040" y="9144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Tahoma"/>
              </a:rPr>
              <a:t>AVA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676160" y="4724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00200" y="586728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84360" y="3228840"/>
            <a:ext cx="461880" cy="615240"/>
            <a:chOff x="684360" y="3228840"/>
            <a:chExt cx="461880" cy="615240"/>
          </a:xfrm>
        </p:grpSpPr>
        <p:grpSp>
          <p:nvGrpSpPr>
            <p:cNvPr id="1036" name=""/>
            <p:cNvGrpSpPr/>
            <p:nvPr/>
          </p:nvGrpSpPr>
          <p:grpSpPr>
            <a:xfrm>
              <a:off x="684360" y="3419280"/>
              <a:ext cx="461880" cy="424800"/>
              <a:chOff x="684360" y="3419280"/>
              <a:chExt cx="461880" cy="42480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702720" y="3429360"/>
                <a:ext cx="443520" cy="414720"/>
                <a:chOff x="702720" y="3429360"/>
                <a:chExt cx="443520" cy="41472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702720" y="342936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02720" y="342936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02720" y="348084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1101240" y="342936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1101240" y="342936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84360" y="341928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84360" y="341928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4360" y="346284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084320" y="341928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84320" y="341928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713880" y="3501720"/>
                <a:ext cx="333720" cy="301320"/>
                <a:chOff x="713880" y="3501720"/>
                <a:chExt cx="333720" cy="30132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743400" y="353520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36920" y="353520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993960" y="350172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993960" y="371880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13880" y="350172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13880" y="372492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5" name=""/>
            <p:cNvGrpSpPr/>
            <p:nvPr/>
          </p:nvGrpSpPr>
          <p:grpSpPr>
            <a:xfrm>
              <a:off x="693720" y="3228840"/>
              <a:ext cx="423720" cy="250560"/>
              <a:chOff x="693720" y="3228840"/>
              <a:chExt cx="423720" cy="250560"/>
            </a:xfrm>
          </p:grpSpPr>
          <p:sp>
            <p:nvSpPr>
              <p:cNvPr id="1056" name=""/>
              <p:cNvSpPr/>
              <p:nvPr/>
            </p:nvSpPr>
            <p:spPr>
              <a:xfrm>
                <a:off x="694800" y="333396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3720" y="330696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93720" y="330696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94800" y="322884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910440" y="324936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910440" y="324936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57800" y="330696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57800" y="330696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5720" y="3245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5720" y="324576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905760" y="33120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905760" y="331200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912600" y="325188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912600" y="325188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1040" y="330840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1040" y="330840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8240" y="32493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8240" y="32493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906840" y="331452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06840" y="331452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116360" y="330336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7" name=""/>
          <p:cNvSpPr/>
          <p:nvPr/>
        </p:nvSpPr>
        <p:spPr>
          <a:xfrm>
            <a:off x="912960" y="162864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3280" y="3860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DGT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2EA2-0E69-46BC-B6D6-B7C4FE18B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4038480" y="1219320"/>
            <a:ext cx="1066680" cy="1599480"/>
            <a:chOff x="4038480" y="1219320"/>
            <a:chExt cx="1066680" cy="1599480"/>
          </a:xfrm>
        </p:grpSpPr>
        <p:pic>
          <p:nvPicPr>
            <p:cNvPr id="1080" name="" descr=""/>
            <p:cNvPicPr/>
            <p:nvPr/>
          </p:nvPicPr>
          <p:blipFill>
            <a:blip r:embed="rId1"/>
            <a:stretch/>
          </p:blipFill>
          <p:spPr>
            <a:xfrm>
              <a:off x="4038480" y="1432440"/>
              <a:ext cx="1066680" cy="138636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  <p:grpSp>
          <p:nvGrpSpPr>
            <p:cNvPr id="1081" name=""/>
            <p:cNvGrpSpPr/>
            <p:nvPr/>
          </p:nvGrpSpPr>
          <p:grpSpPr>
            <a:xfrm>
              <a:off x="4169880" y="1219320"/>
              <a:ext cx="835200" cy="390240"/>
              <a:chOff x="4169880" y="1219320"/>
              <a:chExt cx="835200" cy="390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41724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1698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1724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5964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962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3120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5874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6011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027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167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900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2560" y="1335240"/>
                <a:ext cx="2520" cy="169200"/>
              </a:xfrm>
              <a:prstGeom prst="line">
                <a:avLst/>
              </a:prstGeom>
              <a:ln w="3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3" name=""/>
          <p:cNvGrpSpPr/>
          <p:nvPr/>
        </p:nvGrpSpPr>
        <p:grpSpPr>
          <a:xfrm>
            <a:off x="5638680" y="1219320"/>
            <a:ext cx="1066680" cy="1599480"/>
            <a:chOff x="5638680" y="1219320"/>
            <a:chExt cx="1066680" cy="1599480"/>
          </a:xfrm>
        </p:grpSpPr>
        <p:pic>
          <p:nvPicPr>
            <p:cNvPr id="1104" name="" descr=""/>
            <p:cNvPicPr/>
            <p:nvPr/>
          </p:nvPicPr>
          <p:blipFill>
            <a:blip r:embed="rId2"/>
            <a:stretch/>
          </p:blipFill>
          <p:spPr>
            <a:xfrm>
              <a:off x="5638680" y="1432440"/>
              <a:ext cx="1066680" cy="1386360"/>
            </a:xfrm>
            <a:prstGeom prst="rect">
              <a:avLst/>
            </a:prstGeom>
            <a:ln w="12600">
              <a:solidFill>
                <a:srgbClr val="ff9900"/>
              </a:solidFill>
              <a:miter/>
            </a:ln>
          </p:spPr>
        </p:pic>
        <p:grpSp>
          <p:nvGrpSpPr>
            <p:cNvPr id="1105" name=""/>
            <p:cNvGrpSpPr/>
            <p:nvPr/>
          </p:nvGrpSpPr>
          <p:grpSpPr>
            <a:xfrm>
              <a:off x="5770080" y="1219320"/>
              <a:ext cx="835200" cy="390240"/>
              <a:chOff x="5770080" y="1219320"/>
              <a:chExt cx="835200" cy="390240"/>
            </a:xfrm>
          </p:grpSpPr>
          <p:sp>
            <p:nvSpPr>
              <p:cNvPr id="1106" name=""/>
              <p:cNvSpPr/>
              <p:nvPr/>
            </p:nvSpPr>
            <p:spPr>
              <a:xfrm>
                <a:off x="5772600" y="1382760"/>
                <a:ext cx="812160" cy="22680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7700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770080" y="1341000"/>
                <a:ext cx="832680" cy="169560"/>
              </a:xfrm>
              <a:prstGeom prst="rect">
                <a:avLst/>
              </a:prstGeom>
              <a:solidFill>
                <a:srgbClr val="0078aa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772600" y="1219320"/>
                <a:ext cx="812160" cy="22680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1966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96680" y="1251720"/>
                <a:ext cx="2750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964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96440" y="1341000"/>
                <a:ext cx="273240" cy="799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122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912280" y="1245960"/>
                <a:ext cx="275040" cy="7812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1876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187680" y="13489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013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01360" y="1255320"/>
                <a:ext cx="27252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9029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02920" y="1343160"/>
                <a:ext cx="273240" cy="8136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9169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916960" y="1251720"/>
                <a:ext cx="273240" cy="75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1902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190200" y="1352520"/>
                <a:ext cx="274680" cy="75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602760" y="1335240"/>
                <a:ext cx="2520" cy="169200"/>
              </a:xfrm>
              <a:prstGeom prst="line">
                <a:avLst/>
              </a:prstGeom>
              <a:ln w="3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1523880" y="3200400"/>
            <a:ext cx="462240" cy="615240"/>
            <a:chOff x="1523880" y="3200400"/>
            <a:chExt cx="462240" cy="615240"/>
          </a:xfrm>
        </p:grpSpPr>
        <p:grpSp>
          <p:nvGrpSpPr>
            <p:cNvPr id="1128" name=""/>
            <p:cNvGrpSpPr/>
            <p:nvPr/>
          </p:nvGrpSpPr>
          <p:grpSpPr>
            <a:xfrm>
              <a:off x="1523880" y="3390840"/>
              <a:ext cx="462240" cy="424800"/>
              <a:chOff x="1523880" y="3390840"/>
              <a:chExt cx="462240" cy="424800"/>
            </a:xfrm>
          </p:grpSpPr>
          <p:grpSp>
            <p:nvGrpSpPr>
              <p:cNvPr id="1129" name=""/>
              <p:cNvGrpSpPr/>
              <p:nvPr/>
            </p:nvGrpSpPr>
            <p:grpSpPr>
              <a:xfrm>
                <a:off x="1542240" y="3400920"/>
                <a:ext cx="443880" cy="414720"/>
                <a:chOff x="1542240" y="3400920"/>
                <a:chExt cx="443880" cy="41472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542240" y="3400920"/>
                  <a:ext cx="44388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542240" y="3452400"/>
                  <a:ext cx="39636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94112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523880" y="3390840"/>
                <a:ext cx="44352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523880" y="3434400"/>
                <a:ext cx="39528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2420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0" name=""/>
              <p:cNvGrpSpPr/>
              <p:nvPr/>
            </p:nvGrpSpPr>
            <p:grpSpPr>
              <a:xfrm>
                <a:off x="1553400" y="3473280"/>
                <a:ext cx="334080" cy="301320"/>
                <a:chOff x="1553400" y="3473280"/>
                <a:chExt cx="334080" cy="3013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158292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57644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83384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83384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55340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55340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7" name=""/>
            <p:cNvGrpSpPr/>
            <p:nvPr/>
          </p:nvGrpSpPr>
          <p:grpSpPr>
            <a:xfrm>
              <a:off x="1533240" y="3200400"/>
              <a:ext cx="424080" cy="250560"/>
              <a:chOff x="1533240" y="3200400"/>
              <a:chExt cx="424080" cy="250560"/>
            </a:xfrm>
          </p:grpSpPr>
          <p:sp>
            <p:nvSpPr>
              <p:cNvPr id="1148" name=""/>
              <p:cNvSpPr/>
              <p:nvPr/>
            </p:nvSpPr>
            <p:spPr>
              <a:xfrm>
                <a:off x="1534320" y="3305520"/>
                <a:ext cx="41256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33240" y="3278520"/>
                <a:ext cx="42300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534320" y="3200400"/>
                <a:ext cx="41256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74996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59732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60524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74528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752480" y="3223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60056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0776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746720" y="328608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95624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9" name=""/>
          <p:cNvGrpSpPr/>
          <p:nvPr/>
        </p:nvGrpSpPr>
        <p:grpSpPr>
          <a:xfrm>
            <a:off x="3200400" y="3200400"/>
            <a:ext cx="461880" cy="615240"/>
            <a:chOff x="3200400" y="3200400"/>
            <a:chExt cx="461880" cy="615240"/>
          </a:xfrm>
        </p:grpSpPr>
        <p:grpSp>
          <p:nvGrpSpPr>
            <p:cNvPr id="1170" name=""/>
            <p:cNvGrpSpPr/>
            <p:nvPr/>
          </p:nvGrpSpPr>
          <p:grpSpPr>
            <a:xfrm>
              <a:off x="3200400" y="3390840"/>
              <a:ext cx="461880" cy="424800"/>
              <a:chOff x="3200400" y="3390840"/>
              <a:chExt cx="461880" cy="424800"/>
            </a:xfrm>
          </p:grpSpPr>
          <p:grpSp>
            <p:nvGrpSpPr>
              <p:cNvPr id="1171" name=""/>
              <p:cNvGrpSpPr/>
              <p:nvPr/>
            </p:nvGrpSpPr>
            <p:grpSpPr>
              <a:xfrm>
                <a:off x="3218760" y="3400920"/>
                <a:ext cx="443520" cy="414720"/>
                <a:chOff x="3218760" y="3400920"/>
                <a:chExt cx="443520" cy="4147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321876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218760" y="340092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218760" y="345240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61728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617280" y="340092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7" name=""/>
              <p:cNvSpPr/>
              <p:nvPr/>
            </p:nvSpPr>
            <p:spPr>
              <a:xfrm>
                <a:off x="320040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200400" y="339084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200400" y="343440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60036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00360" y="339084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2" name=""/>
              <p:cNvGrpSpPr/>
              <p:nvPr/>
            </p:nvGrpSpPr>
            <p:grpSpPr>
              <a:xfrm>
                <a:off x="3229920" y="3473280"/>
                <a:ext cx="333720" cy="301320"/>
                <a:chOff x="3229920" y="3473280"/>
                <a:chExt cx="333720" cy="30132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3259440" y="350676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252960" y="350676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510000" y="347328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510000" y="369036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229920" y="347328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229920" y="369648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9" name=""/>
            <p:cNvGrpSpPr/>
            <p:nvPr/>
          </p:nvGrpSpPr>
          <p:grpSpPr>
            <a:xfrm>
              <a:off x="3209760" y="3200400"/>
              <a:ext cx="423720" cy="250560"/>
              <a:chOff x="3209760" y="3200400"/>
              <a:chExt cx="423720" cy="250560"/>
            </a:xfrm>
          </p:grpSpPr>
          <p:sp>
            <p:nvSpPr>
              <p:cNvPr id="1190" name=""/>
              <p:cNvSpPr/>
              <p:nvPr/>
            </p:nvSpPr>
            <p:spPr>
              <a:xfrm>
                <a:off x="3210840" y="330552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20976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209760" y="327852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210840" y="320040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42648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426480" y="322092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27384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273840" y="327852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28176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281760" y="321732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2180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21800" y="328356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2864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28640" y="322344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27708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277080" y="327996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28428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284280" y="322092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342288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22880" y="328608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632400" y="327492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1" name=""/>
          <p:cNvGrpSpPr/>
          <p:nvPr/>
        </p:nvGrpSpPr>
        <p:grpSpPr>
          <a:xfrm>
            <a:off x="8305920" y="4876920"/>
            <a:ext cx="461880" cy="615240"/>
            <a:chOff x="8305920" y="4876920"/>
            <a:chExt cx="461880" cy="615240"/>
          </a:xfrm>
        </p:grpSpPr>
        <p:grpSp>
          <p:nvGrpSpPr>
            <p:cNvPr id="1212" name=""/>
            <p:cNvGrpSpPr/>
            <p:nvPr/>
          </p:nvGrpSpPr>
          <p:grpSpPr>
            <a:xfrm>
              <a:off x="8305920" y="5067360"/>
              <a:ext cx="461880" cy="424800"/>
              <a:chOff x="8305920" y="5067360"/>
              <a:chExt cx="461880" cy="42480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8324280" y="5077440"/>
                <a:ext cx="443520" cy="414720"/>
                <a:chOff x="8324280" y="5077440"/>
                <a:chExt cx="443520" cy="41472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8324280" y="50774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324280" y="5077440"/>
                  <a:ext cx="443520" cy="47880"/>
                </a:xfrm>
                <a:custGeom>
                  <a:avLst/>
                  <a:gdLst/>
                  <a:ahLst/>
                  <a:rect l="l" t="t" r="r" b="b"/>
                  <a:pathLst>
                    <a:path w="552" h="56">
                      <a:moveTo>
                        <a:pt x="0" y="55"/>
                      </a:moveTo>
                      <a:lnTo>
                        <a:pt x="66" y="0"/>
                      </a:lnTo>
                      <a:lnTo>
                        <a:pt x="551" y="0"/>
                      </a:lnTo>
                      <a:lnTo>
                        <a:pt x="493" y="55"/>
                      </a:lnTo>
                      <a:lnTo>
                        <a:pt x="0" y="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8324280" y="5128920"/>
                  <a:ext cx="396000" cy="363240"/>
                </a:xfrm>
                <a:custGeom>
                  <a:avLst/>
                  <a:gdLst/>
                  <a:ahLst/>
                  <a:rect l="l" t="t" r="r" b="b"/>
                  <a:pathLst>
                    <a:path w="493" h="423">
                      <a:moveTo>
                        <a:pt x="0" y="0"/>
                      </a:moveTo>
                      <a:lnTo>
                        <a:pt x="492" y="0"/>
                      </a:lnTo>
                      <a:lnTo>
                        <a:pt x="492" y="422"/>
                      </a:lnTo>
                      <a:lnTo>
                        <a:pt x="0" y="4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722800" y="50774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722800" y="5077440"/>
                  <a:ext cx="45000" cy="414720"/>
                </a:xfrm>
                <a:custGeom>
                  <a:avLst/>
                  <a:gdLst/>
                  <a:ahLst/>
                  <a:rect l="l" t="t" r="r" b="b"/>
                  <a:pathLst>
                    <a:path w="56" h="483">
                      <a:moveTo>
                        <a:pt x="0" y="59"/>
                      </a:moveTo>
                      <a:lnTo>
                        <a:pt x="55" y="0"/>
                      </a:lnTo>
                      <a:lnTo>
                        <a:pt x="55" y="424"/>
                      </a:lnTo>
                      <a:lnTo>
                        <a:pt x="0" y="482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" name=""/>
              <p:cNvSpPr/>
              <p:nvPr/>
            </p:nvSpPr>
            <p:spPr>
              <a:xfrm>
                <a:off x="8305920" y="50673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05920" y="5067360"/>
                <a:ext cx="443160" cy="41040"/>
              </a:xfrm>
              <a:custGeom>
                <a:avLst/>
                <a:gdLst/>
                <a:ahLst/>
                <a:rect l="l" t="t" r="r" b="b"/>
                <a:pathLst>
                  <a:path w="552" h="48">
                    <a:moveTo>
                      <a:pt x="0" y="47"/>
                    </a:moveTo>
                    <a:lnTo>
                      <a:pt x="66" y="0"/>
                    </a:lnTo>
                    <a:lnTo>
                      <a:pt x="551" y="0"/>
                    </a:lnTo>
                    <a:lnTo>
                      <a:pt x="493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05920" y="5110920"/>
                <a:ext cx="394920" cy="371160"/>
              </a:xfrm>
              <a:custGeom>
                <a:avLst/>
                <a:gdLst/>
                <a:ahLst/>
                <a:rect l="l" t="t" r="r" b="b"/>
                <a:pathLst>
                  <a:path w="492" h="432">
                    <a:moveTo>
                      <a:pt x="0" y="0"/>
                    </a:moveTo>
                    <a:lnTo>
                      <a:pt x="491" y="0"/>
                    </a:lnTo>
                    <a:lnTo>
                      <a:pt x="491" y="431"/>
                    </a:lnTo>
                    <a:lnTo>
                      <a:pt x="0" y="4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05880" y="50673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05880" y="5067360"/>
                <a:ext cx="43200" cy="414720"/>
              </a:xfrm>
              <a:custGeom>
                <a:avLst/>
                <a:gdLst/>
                <a:ahLst/>
                <a:rect l="l" t="t" r="r" b="b"/>
                <a:pathLst>
                  <a:path w="54" h="483">
                    <a:moveTo>
                      <a:pt x="0" y="52"/>
                    </a:moveTo>
                    <a:lnTo>
                      <a:pt x="53" y="0"/>
                    </a:lnTo>
                    <a:lnTo>
                      <a:pt x="53" y="424"/>
                    </a:lnTo>
                    <a:lnTo>
                      <a:pt x="0" y="48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41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8335440" y="5149800"/>
                <a:ext cx="333720" cy="301320"/>
                <a:chOff x="8335440" y="5149800"/>
                <a:chExt cx="333720" cy="30132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8364960" y="5183280"/>
                  <a:ext cx="274680" cy="223200"/>
                </a:xfrm>
                <a:custGeom>
                  <a:avLst/>
                  <a:gdLst/>
                  <a:ahLst/>
                  <a:rect l="l" t="t" r="r" b="b"/>
                  <a:pathLst>
                    <a:path w="342" h="260">
                      <a:moveTo>
                        <a:pt x="341" y="259"/>
                      </a:moveTo>
                      <a:lnTo>
                        <a:pt x="237" y="259"/>
                      </a:lnTo>
                      <a:lnTo>
                        <a:pt x="8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358480" y="5183280"/>
                  <a:ext cx="292320" cy="223200"/>
                </a:xfrm>
                <a:custGeom>
                  <a:avLst/>
                  <a:gdLst/>
                  <a:ahLst/>
                  <a:rect l="l" t="t" r="r" b="b"/>
                  <a:pathLst>
                    <a:path w="364" h="260">
                      <a:moveTo>
                        <a:pt x="0" y="259"/>
                      </a:moveTo>
                      <a:lnTo>
                        <a:pt x="95" y="259"/>
                      </a:lnTo>
                      <a:lnTo>
                        <a:pt x="237" y="0"/>
                      </a:lnTo>
                      <a:lnTo>
                        <a:pt x="363" y="0"/>
                      </a:lnTo>
                    </a:path>
                  </a:pathLst>
                </a:custGeom>
                <a:noFill/>
                <a:ln cap="rnd" w="507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615520" y="5149800"/>
                  <a:ext cx="53640" cy="795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0"/>
                      </a:moveTo>
                      <a:lnTo>
                        <a:pt x="0" y="92"/>
                      </a:lnTo>
                      <a:lnTo>
                        <a:pt x="66" y="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615520" y="5366880"/>
                  <a:ext cx="53640" cy="78840"/>
                </a:xfrm>
                <a:custGeom>
                  <a:avLst/>
                  <a:gdLst/>
                  <a:ahLst/>
                  <a:rect l="l" t="t" r="r" b="b"/>
                  <a:pathLst>
                    <a:path w="67" h="92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66" y="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335440" y="51498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52" h="93">
                      <a:moveTo>
                        <a:pt x="51" y="92"/>
                      </a:moveTo>
                      <a:lnTo>
                        <a:pt x="51" y="0"/>
                      </a:lnTo>
                      <a:lnTo>
                        <a:pt x="0" y="46"/>
                      </a:lnTo>
                      <a:lnTo>
                        <a:pt x="51" y="92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335440" y="5373000"/>
                  <a:ext cx="41400" cy="78120"/>
                </a:xfrm>
                <a:custGeom>
                  <a:avLst/>
                  <a:gdLst/>
                  <a:ahLst/>
                  <a:rect l="l" t="t" r="r" b="b"/>
                  <a:pathLst>
                    <a:path w="52" h="91">
                      <a:moveTo>
                        <a:pt x="51" y="90"/>
                      </a:moveTo>
                      <a:lnTo>
                        <a:pt x="51" y="0"/>
                      </a:lnTo>
                      <a:lnTo>
                        <a:pt x="0" y="45"/>
                      </a:lnTo>
                      <a:lnTo>
                        <a:pt x="51" y="90"/>
                      </a:lnTo>
                    </a:path>
                  </a:pathLst>
                </a:custGeom>
                <a:solidFill>
                  <a:srgbClr val="ffffff"/>
                </a:solidFill>
                <a:ln cap="rnd"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1" name=""/>
            <p:cNvGrpSpPr/>
            <p:nvPr/>
          </p:nvGrpSpPr>
          <p:grpSpPr>
            <a:xfrm>
              <a:off x="8315280" y="4876920"/>
              <a:ext cx="423720" cy="250560"/>
              <a:chOff x="8315280" y="4876920"/>
              <a:chExt cx="423720" cy="250560"/>
            </a:xfrm>
          </p:grpSpPr>
          <p:sp>
            <p:nvSpPr>
              <p:cNvPr id="1232" name=""/>
              <p:cNvSpPr/>
              <p:nvPr/>
            </p:nvSpPr>
            <p:spPr>
              <a:xfrm>
                <a:off x="8316360" y="4982040"/>
                <a:ext cx="412200" cy="14544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315280" y="49550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15280" y="4955040"/>
                <a:ext cx="422640" cy="1090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316360" y="4876920"/>
                <a:ext cx="412200" cy="14544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32000" y="48974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532000" y="4897440"/>
                <a:ext cx="13968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379360" y="49550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379360" y="4955040"/>
                <a:ext cx="138600" cy="5112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387280" y="48938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387280" y="4893840"/>
                <a:ext cx="139680" cy="5004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527320" y="49600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527320" y="496008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534160" y="48999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534160" y="4899960"/>
                <a:ext cx="13824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382600" y="49564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382600" y="4956480"/>
                <a:ext cx="138600" cy="522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389800" y="4897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389800" y="4897440"/>
                <a:ext cx="138600" cy="4860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528400" y="49626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528400" y="4962600"/>
                <a:ext cx="139320" cy="4860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37920" y="4951440"/>
                <a:ext cx="1080" cy="1087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3" name=""/>
          <p:cNvSpPr/>
          <p:nvPr/>
        </p:nvSpPr>
        <p:spPr>
          <a:xfrm>
            <a:off x="609480" y="335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519080" y="3429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onterrey N.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38520" y="5181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d Victoria T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96216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910680" y="2286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NODO MONTER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40080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105520" y="2133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75248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505320" y="1600200"/>
            <a:ext cx="0" cy="1600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610480" y="1600200"/>
            <a:ext cx="0" cy="327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042880" y="18288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ahoma"/>
              </a:rPr>
              <a:t>15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27560" y="53341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27560" y="56386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9900"/>
                </a:solidFill>
                <a:latin typeface="Tahoma"/>
              </a:rPr>
              <a:t>34 M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35360" y="9144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ahoma"/>
              </a:rPr>
              <a:t>TELM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791040" y="9144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00"/>
                </a:solidFill>
                <a:latin typeface="Tahoma"/>
              </a:rPr>
              <a:t>AVA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600200" y="5562720"/>
            <a:ext cx="838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5867280"/>
            <a:ext cx="838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52480" y="1600200"/>
            <a:ext cx="228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6705360" y="1600200"/>
            <a:ext cx="19047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289880" y="3809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A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982960" y="3841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ITE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232120" y="5410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ahoma"/>
              </a:rPr>
              <a:t>U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8F39-B25F-46A0-8A9A-E27905D545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5:50:40Z</dcterms:created>
  <dc:creator>Lic.Carlos Casasus</dc:creator>
  <dc:description/>
  <dc:language>en-US</dc:language>
  <cp:lastModifiedBy>MarthaAvila</cp:lastModifiedBy>
  <dcterms:modified xsi:type="dcterms:W3CDTF">2007-01-30T17:09:40Z</dcterms:modified>
  <cp:revision>132</cp:revision>
  <dc:subject/>
  <dc:title>Cudi update</dc:title>
</cp:coreProperties>
</file>