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6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11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ADC-EEDE-424B-A58E-7035565A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B7B-6B9E-4CB5-9284-F92E81CD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2E0-FA63-4789-AA7A-40113289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D62-49B7-4EE8-BB44-6892B65E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080-D889-4CBB-B6AF-A04904FC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108-4BF6-44A2-8166-CE86D1C6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ACB-31F1-4C37-8FD3-DE0F60F8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A3D-FFC1-4503-84B1-5139B36B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2E0-EDF8-46C4-A731-A79ABF37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24C-D732-4E02-B2B2-551BF05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990-9C66-461C-937F-263C2210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9C1-B2A0-4CE7-BA08-3EEC17AE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cudi.edu.mx/primavera2003/index.html" TargetMode="Externa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40AA-0C22-48AD-AEDC-3AC0E0CD1A9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197964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191440" y="0"/>
            <a:ext cx="95256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hyperlink" Target="mailto:carmenta@cencar.udg.mx" TargetMode="External"/><Relationship Id="rId4" Type="http://schemas.openxmlformats.org/officeDocument/2006/relationships/hyperlink" Target="mailto:ruben@cencar.udg.mx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2000" y="4365720"/>
            <a:ext cx="7485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e496c"/>
                </a:solidFill>
                <a:latin typeface="Verdana"/>
              </a:rPr>
              <a:t>Bases para la implementación de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2e496c"/>
                </a:solidFill>
                <a:latin typeface="Times New Roman"/>
              </a:rPr>
              <a:t>GRID en Méx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229360"/>
            <a:ext cx="73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e496c"/>
                </a:solidFill>
                <a:latin typeface="Arial"/>
              </a:rPr>
              <a:t>Héctor Gómez, Carmen Rodríguez, Rubén Yáñez. Abril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917640" cy="129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1995-2002: Maduración de la época de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Escritura de libros al respecto: </a:t>
            </a: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consolidación de te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Primeros intentos de middleware (software encargado de la arquitectura del GRI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Globus, Legion, Condor, NWS, SRB, NetSolve, Ninf, App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25336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6561000" cy="3978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4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ROSSGRID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6330960" cy="489888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86" name=""/>
          <p:cNvSpPr/>
          <p:nvPr/>
        </p:nvSpPr>
        <p:spPr>
          <a:xfrm>
            <a:off x="5904360" y="2016000"/>
            <a:ext cx="2088720" cy="155700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l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yfro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&amp; INP Cra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SNC Poz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ICM &amp; IPJ Wars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5720" y="4592520"/>
            <a:ext cx="1494360" cy="73404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rtug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LIP Lisb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82600" y="4316400"/>
            <a:ext cx="1843560" cy="210564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p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SIC Sant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Valencia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d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AB Barcel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SC Santia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&amp; CES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16760" y="1925640"/>
            <a:ext cx="1389240" cy="73404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rel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TCD Dub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50800" y="4648320"/>
            <a:ext cx="1247400" cy="73404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ta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ATA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0040" y="2763720"/>
            <a:ext cx="2036880" cy="73404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etherla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vA Amsterd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58720" y="2438280"/>
            <a:ext cx="1785600" cy="128268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erma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FZK Karlsr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TUM Mun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STU Stuttg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4760" y="3733920"/>
            <a:ext cx="1905840" cy="73404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lovak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II SAS Bratisl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72000"/>
            <a:ext cx="2030400" cy="155700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ree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lgo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mo Ath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AuTh Thessalon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08880" y="5410080"/>
            <a:ext cx="1473120" cy="73404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ypr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CY Niko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4600" y="3809880"/>
            <a:ext cx="1279440" cy="734040"/>
          </a:xfrm>
          <a:prstGeom prst="rect">
            <a:avLst/>
          </a:prstGeom>
          <a:solidFill>
            <a:srgbClr val="c6c6c6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t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.Li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3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728640"/>
            <a:ext cx="90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U.S. PIs: Avery, Foster, Gardner, Newman, Szalay      www.ivdg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27640" y="4624560"/>
            <a:ext cx="1574640" cy="1625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85880" y="3978360"/>
            <a:ext cx="2624040" cy="24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99880" y="1041480"/>
          <a:ext cx="4032360" cy="25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9880" y="1041480"/>
                    <a:ext cx="403236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flipV="1">
            <a:off x="770040" y="1862280"/>
            <a:ext cx="2144520" cy="782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65600" y="1855800"/>
            <a:ext cx="42840" cy="23328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2440" y="2443320"/>
            <a:ext cx="110880" cy="2016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32320" y="2968560"/>
            <a:ext cx="79200" cy="81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16360" y="1790640"/>
            <a:ext cx="1110960" cy="7776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73320" y="2003400"/>
            <a:ext cx="81000" cy="81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859120" y="2082960"/>
            <a:ext cx="714240" cy="91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9360" y="2376360"/>
            <a:ext cx="147600" cy="146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7880" y="2577960"/>
            <a:ext cx="146160" cy="146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25600" y="1355760"/>
            <a:ext cx="8100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9200" y="2163600"/>
            <a:ext cx="81000" cy="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7600" y="3352680"/>
            <a:ext cx="81000" cy="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22080" y="2457000"/>
            <a:ext cx="1623960" cy="939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9200" y="1406520"/>
            <a:ext cx="828720" cy="10508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9720" y="2414520"/>
            <a:ext cx="81000" cy="81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73480" y="1611360"/>
            <a:ext cx="81000" cy="81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9240" y="1868400"/>
            <a:ext cx="18432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73520" y="2053800"/>
            <a:ext cx="9252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068720" y="1653840"/>
            <a:ext cx="146160" cy="1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9520" y="1728720"/>
            <a:ext cx="145800" cy="146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2400" y="1703520"/>
            <a:ext cx="81000" cy="81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859120" y="1735200"/>
            <a:ext cx="55440" cy="13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08440" y="1855800"/>
            <a:ext cx="8064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91080" y="1819440"/>
            <a:ext cx="79200" cy="80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1200" y="2087640"/>
            <a:ext cx="1052640" cy="112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72080" y="2013120"/>
            <a:ext cx="80640" cy="80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92520" y="2014560"/>
            <a:ext cx="145800" cy="1476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4520" y="1666800"/>
            <a:ext cx="81000" cy="81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714760" y="1700280"/>
            <a:ext cx="1965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35360" y="1789200"/>
            <a:ext cx="145800" cy="1458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095800" y="865080"/>
            <a:ext cx="3611520" cy="3700440"/>
            <a:chOff x="5095800" y="865080"/>
            <a:chExt cx="3611520" cy="3700440"/>
          </a:xfrm>
        </p:grpSpPr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5095800" y="865080"/>
              <a:ext cx="361152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508440" y="3305880"/>
              <a:ext cx="347040" cy="47484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313320" y="3299760"/>
              <a:ext cx="189000" cy="2448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87960" y="2556360"/>
              <a:ext cx="408240" cy="75564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74640" y="2288520"/>
              <a:ext cx="7956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68520" y="2715480"/>
              <a:ext cx="8028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16600" y="2489760"/>
              <a:ext cx="7956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83200" y="3202560"/>
              <a:ext cx="7956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11000" y="2946600"/>
              <a:ext cx="8028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05240" y="3409560"/>
              <a:ext cx="7992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094440" y="2331000"/>
              <a:ext cx="1188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947920" y="2526120"/>
              <a:ext cx="11556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06320" y="2574720"/>
              <a:ext cx="0" cy="1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49160" y="2977200"/>
              <a:ext cx="158400" cy="35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009120" y="3245040"/>
              <a:ext cx="28620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136920" y="3324600"/>
              <a:ext cx="170640" cy="11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6441480" y="2690640"/>
              <a:ext cx="60840" cy="60912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99320" y="3446640"/>
              <a:ext cx="8028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4080" y="3927240"/>
              <a:ext cx="80280" cy="80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13480" y="3470400"/>
              <a:ext cx="7992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6831360" y="3482280"/>
              <a:ext cx="17640" cy="29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550560" y="3519000"/>
              <a:ext cx="286200" cy="25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5840" y="3793320"/>
              <a:ext cx="188280" cy="18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40600" y="3255120"/>
              <a:ext cx="145800" cy="14580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2760" y="3718440"/>
              <a:ext cx="145800" cy="14580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1360" y="2499840"/>
              <a:ext cx="145800" cy="14580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35360" y="3243240"/>
              <a:ext cx="145800" cy="1461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952720" y="1884240"/>
            <a:ext cx="1138320" cy="2824200"/>
          </a:xfrm>
          <a:custGeom>
            <a:avLst/>
            <a:gdLst/>
            <a:ahLst/>
            <a:rect l="l" t="t" r="r" b="b"/>
            <a:pathLst>
              <a:path w="1792" h="4944">
                <a:moveTo>
                  <a:pt x="288" y="4944"/>
                </a:moveTo>
                <a:cubicBezTo>
                  <a:pt x="1040" y="3660"/>
                  <a:pt x="1792" y="2376"/>
                  <a:pt x="1744" y="1552"/>
                </a:cubicBezTo>
                <a:cubicBezTo>
                  <a:pt x="1696" y="728"/>
                  <a:pt x="848" y="364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2600" y="1916280"/>
            <a:ext cx="3240000" cy="882360"/>
          </a:xfrm>
          <a:custGeom>
            <a:avLst/>
            <a:gdLst/>
            <a:ahLst/>
            <a:rect l="l" t="t" r="r" b="b"/>
            <a:pathLst>
              <a:path w="5104" h="1392">
                <a:moveTo>
                  <a:pt x="5104" y="1392"/>
                </a:moveTo>
                <a:cubicBezTo>
                  <a:pt x="3441" y="1324"/>
                  <a:pt x="1779" y="1256"/>
                  <a:pt x="928" y="1024"/>
                </a:cubicBezTo>
                <a:cubicBezTo>
                  <a:pt x="77" y="792"/>
                  <a:pt x="38" y="396"/>
                  <a:pt x="0" y="0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22480" y="1884240"/>
            <a:ext cx="3119400" cy="671760"/>
          </a:xfrm>
          <a:custGeom>
            <a:avLst/>
            <a:gdLst/>
            <a:ahLst/>
            <a:rect l="l" t="t" r="r" b="b"/>
            <a:pathLst>
              <a:path w="4448" h="288">
                <a:moveTo>
                  <a:pt x="4448" y="288"/>
                </a:moveTo>
                <a:cubicBezTo>
                  <a:pt x="4448" y="288"/>
                  <a:pt x="2224" y="144"/>
                  <a:pt x="0" y="0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944640"/>
            <a:ext cx="2419560" cy="1762200"/>
          </a:xfrm>
          <a:custGeom>
            <a:avLst/>
            <a:gdLst/>
            <a:ahLst/>
            <a:rect l="l" t="t" r="r" b="b"/>
            <a:pathLst>
              <a:path w="3312" h="1205">
                <a:moveTo>
                  <a:pt x="3312" y="1205"/>
                </a:moveTo>
                <a:cubicBezTo>
                  <a:pt x="2476" y="703"/>
                  <a:pt x="1640" y="202"/>
                  <a:pt x="1088" y="101"/>
                </a:cubicBezTo>
                <a:cubicBezTo>
                  <a:pt x="536" y="0"/>
                  <a:pt x="181" y="514"/>
                  <a:pt x="0" y="597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90960" y="4705200"/>
            <a:ext cx="79200" cy="81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99360" y="4721400"/>
            <a:ext cx="1325520" cy="1585800"/>
            <a:chOff x="7299360" y="4721400"/>
            <a:chExt cx="1325520" cy="1585800"/>
          </a:xfrm>
        </p:grpSpPr>
        <p:sp>
          <p:nvSpPr>
            <p:cNvPr id="168" name=""/>
            <p:cNvSpPr/>
            <p:nvPr/>
          </p:nvSpPr>
          <p:spPr>
            <a:xfrm>
              <a:off x="7511400" y="4751640"/>
              <a:ext cx="145800" cy="1461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71600" y="4721400"/>
              <a:ext cx="953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ier0/1 facil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99360" y="5740560"/>
              <a:ext cx="29736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9360" y="5513040"/>
              <a:ext cx="297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99360" y="5968080"/>
              <a:ext cx="29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4520" y="4972680"/>
              <a:ext cx="79920" cy="799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5188680"/>
              <a:ext cx="81000" cy="8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99360" y="6195240"/>
              <a:ext cx="297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71600" y="4927320"/>
              <a:ext cx="953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ier2 facil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71600" y="5140440"/>
              <a:ext cx="953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71600" y="5415120"/>
              <a:ext cx="953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 Gbps lin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71600" y="5651640"/>
              <a:ext cx="953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.5 Gbps lin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71600" y="5887800"/>
              <a:ext cx="953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22 Mbps lin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71600" y="6124320"/>
              <a:ext cx="953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ther lin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71600" y="5138280"/>
              <a:ext cx="953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ier3 facil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910120" y="3319560"/>
            <a:ext cx="571680" cy="2313000"/>
          </a:xfrm>
          <a:custGeom>
            <a:avLst/>
            <a:gdLst/>
            <a:ahLst/>
            <a:rect l="l" t="t" r="r" b="b"/>
            <a:pathLst>
              <a:path w="360" h="1528">
                <a:moveTo>
                  <a:pt x="207" y="1415"/>
                </a:moveTo>
                <a:cubicBezTo>
                  <a:pt x="218" y="1471"/>
                  <a:pt x="230" y="1528"/>
                  <a:pt x="200" y="1357"/>
                </a:cubicBezTo>
                <a:cubicBezTo>
                  <a:pt x="170" y="1186"/>
                  <a:pt x="0" y="617"/>
                  <a:pt x="27" y="391"/>
                </a:cubicBezTo>
                <a:cubicBezTo>
                  <a:pt x="54" y="165"/>
                  <a:pt x="207" y="82"/>
                  <a:pt x="360" y="0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89840" y="5521320"/>
            <a:ext cx="145800" cy="146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932360" y="9079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88000" y="2924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Arquitecturas y A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794720" cy="3512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86160" y="50846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rganizaciones vir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Arquitecturas y A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03440" y="508464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267080" y="1052640"/>
            <a:ext cx="3165480" cy="2560680"/>
            <a:chOff x="4267080" y="1052640"/>
            <a:chExt cx="3165480" cy="2560680"/>
          </a:xfrm>
        </p:grpSpPr>
        <p:sp>
          <p:nvSpPr>
            <p:cNvPr id="201" name=""/>
            <p:cNvSpPr/>
            <p:nvPr/>
          </p:nvSpPr>
          <p:spPr>
            <a:xfrm>
              <a:off x="4267080" y="1052640"/>
              <a:ext cx="3165480" cy="43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1509840"/>
              <a:ext cx="0" cy="21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0080" y="150984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2880" y="1509840"/>
              <a:ext cx="0" cy="125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4443480"/>
            <a:ext cx="7432560" cy="642600"/>
            <a:chOff x="0" y="4443480"/>
            <a:chExt cx="7432560" cy="642600"/>
          </a:xfrm>
        </p:grpSpPr>
        <p:sp>
          <p:nvSpPr>
            <p:cNvPr id="206" name=""/>
            <p:cNvSpPr/>
            <p:nvPr/>
          </p:nvSpPr>
          <p:spPr>
            <a:xfrm>
              <a:off x="4267080" y="4538520"/>
              <a:ext cx="3165480" cy="43776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ab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4443480"/>
              <a:ext cx="42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rol de los recursos localmente, acceso y control de l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535200"/>
            <a:ext cx="7432560" cy="916920"/>
            <a:chOff x="0" y="3535200"/>
            <a:chExt cx="7432560" cy="916920"/>
          </a:xfrm>
        </p:grpSpPr>
        <p:sp>
          <p:nvSpPr>
            <p:cNvPr id="209" name=""/>
            <p:cNvSpPr/>
            <p:nvPr/>
          </p:nvSpPr>
          <p:spPr>
            <a:xfrm>
              <a:off x="4267080" y="3632040"/>
              <a:ext cx="3165480" cy="4381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ne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535200"/>
              <a:ext cx="4267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municación entre los diversos recursos a través de protocolos de Internet y segur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2697120"/>
            <a:ext cx="7432560" cy="642600"/>
            <a:chOff x="0" y="2697120"/>
            <a:chExt cx="7432560" cy="642600"/>
          </a:xfrm>
        </p:grpSpPr>
        <p:sp>
          <p:nvSpPr>
            <p:cNvPr id="212" name=""/>
            <p:cNvSpPr/>
            <p:nvPr/>
          </p:nvSpPr>
          <p:spPr>
            <a:xfrm>
              <a:off x="4778280" y="2797200"/>
              <a:ext cx="2654280" cy="438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269712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mpartir recurso único: negociación de acceso, control de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0" y="1660680"/>
            <a:ext cx="7432560" cy="916920"/>
            <a:chOff x="0" y="1660680"/>
            <a:chExt cx="7432560" cy="916920"/>
          </a:xfrm>
        </p:grpSpPr>
        <p:sp>
          <p:nvSpPr>
            <p:cNvPr id="215" name=""/>
            <p:cNvSpPr/>
            <p:nvPr/>
          </p:nvSpPr>
          <p:spPr>
            <a:xfrm>
              <a:off x="5283360" y="1908360"/>
              <a:ext cx="2149200" cy="4381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ll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660680"/>
              <a:ext cx="449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ordina múltiples recursos, define servicios distribuidos de aplicación específ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543800" y="1125360"/>
            <a:ext cx="1676520" cy="3810240"/>
            <a:chOff x="7543800" y="1125360"/>
            <a:chExt cx="1676520" cy="3810240"/>
          </a:xfrm>
        </p:grpSpPr>
        <p:sp>
          <p:nvSpPr>
            <p:cNvPr id="218" name=""/>
            <p:cNvSpPr/>
            <p:nvPr/>
          </p:nvSpPr>
          <p:spPr>
            <a:xfrm>
              <a:off x="7543800" y="4097160"/>
              <a:ext cx="1219320" cy="304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43800" y="3792600"/>
              <a:ext cx="1219320" cy="304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43800" y="1125360"/>
              <a:ext cx="1219320" cy="2667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3800" y="4554360"/>
              <a:ext cx="1219320" cy="381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765640" y="1448640"/>
              <a:ext cx="454680" cy="33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984f5"/>
                  </a:solidFill>
                  <a:latin typeface="Verdana"/>
                </a:rPr>
                <a:t>Internet Protocol Archite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Arquitecturas y A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us Toolkit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916280"/>
            <a:ext cx="792000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un conjunto de herramientas de software que se encargan de los problemas técnicos en el desarrollo de utilerías, servicios y aplicaciones para Gr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frece elementos mod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ermite el desarrollo incremental de herramientas y 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mplementa protocolos y APIs para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ftware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Las aplicaciones de los GRIDs pueden darse en diversos ámb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Supercómputo distribuido: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 para problemas muy grandes que requieren demasiad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ómputo de alto rendimiento: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 uso de recursos disponibles que no están utilizados en el momento para incrementar el 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ómputo en demanda: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 utilización de recursos periód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ómputo intensivo de datos: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 grandes cantidades de información (bibliote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ómputo colaborativo:</a:t>
            </a: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 interactivo y en tiempo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Arquitecturas y A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437920" y="1469520"/>
            <a:ext cx="6248520" cy="49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Qué es u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Arquitectura y Aplicaciones en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Futuro de los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Bases para la implementación de un GRID en Méx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Arquitecturas y A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619280" y="836640"/>
            <a:ext cx="4572000" cy="2962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2498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84360" y="4005360"/>
            <a:ext cx="31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plicaciones en ingeniería para el estudio de suelos e hidr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Arquitecturas y A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rcRect l="18753" t="16252" r="20628" b="23754"/>
          <a:stretch/>
        </p:blipFill>
        <p:spPr>
          <a:xfrm>
            <a:off x="1403280" y="1197000"/>
            <a:ext cx="59626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10920" y="112536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El avance de la tecnología traerá consigo el desarrollo de nuevas aplicaciones, por el trabajo conjunto y multidiscipli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s-ES_tradnl" sz="3000" spc="-1" strike="noStrike">
                <a:solidFill>
                  <a:srgbClr val="2e496c"/>
                </a:solidFill>
                <a:latin typeface="Verdana"/>
              </a:rPr>
              <a:t>Futuro de los GR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2565360"/>
            <a:ext cx="62625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s-ES_tradnl" sz="3000" spc="-1" strike="noStrike">
                <a:solidFill>
                  <a:srgbClr val="2e496c"/>
                </a:solidFill>
                <a:latin typeface="Verdana"/>
              </a:rPr>
              <a:t>Futuro de los GR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43513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s-ES_tradnl" sz="3000" spc="-1" strike="noStrike">
                <a:solidFill>
                  <a:srgbClr val="2e496c"/>
                </a:solidFill>
                <a:latin typeface="Verdana"/>
              </a:rPr>
              <a:t>Futuro de los GR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65036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s-ES_tradnl" sz="3000" spc="-1" strike="noStrike">
                <a:solidFill>
                  <a:srgbClr val="2e496c"/>
                </a:solidFill>
                <a:latin typeface="Verdana"/>
              </a:rPr>
              <a:t>Futuro de los GR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148360" y="3213000"/>
            <a:ext cx="3752640" cy="2819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9640" y="18446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nueva generación de GRIDs incluye las nuevas tecnologí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os dispos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DAs, sonsores, ropa intel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positivos inalámb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s-ES_tradnl" sz="3000" spc="-1" strike="noStrike">
                <a:solidFill>
                  <a:srgbClr val="2e496c"/>
                </a:solidFill>
                <a:latin typeface="Verdana"/>
              </a:rPr>
              <a:t>Futuro de los GR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112536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eación urb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sualización esp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Elementos que requieren alto procesamiento de cómp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3809880" cy="1820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732720" y="1197000"/>
            <a:ext cx="19065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99024" presetSubtype="181145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2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32000" y="4365720"/>
            <a:ext cx="735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Bases para la implementación de un GRID en Méx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99024" presetSubtype="1786640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4000" y="105264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Site de Servidores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con la infraestructura adecuada de operación y debidamente certificado por Sun Microsystems de Mé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140360" y="3249720"/>
            <a:ext cx="34797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23600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4581360"/>
            <a:ext cx="6107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Shark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.  Actualmente tiene 5.1 Tbytes en FlashCop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rreglo de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 RAID5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s-ES" sz="2400" spc="-1" strike="noStrike">
                <a:solidFill>
                  <a:srgbClr val="003366"/>
                </a:solidFill>
                <a:latin typeface="Verdana"/>
              </a:rPr>
              <a:t>Sistema de Almacenamiento Mas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936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4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7128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Compartir recursos a gran esc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Aplicaciones innovadoras orientadas a alto ren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Organizaciones vir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Qué es un GR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7280" y="1341360"/>
            <a:ext cx="2791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653000"/>
            <a:ext cx="61074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Regatta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.  Equipo con 32 procesadores Power4, 64 Gbytes en RA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2 particiones: AIX y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s-ES" sz="2400" spc="-1" strike="noStrike">
                <a:solidFill>
                  <a:srgbClr val="003366"/>
                </a:solidFill>
                <a:latin typeface="Verdana"/>
              </a:rPr>
              <a:t>Equipo para el GR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9960" y="566100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a0000"/>
                </a:solidFill>
                <a:latin typeface="Tahoma"/>
              </a:rPr>
              <a:t>A su disposición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pSeries 690"/>
          <p:cNvPicPr/>
          <p:nvPr/>
        </p:nvPicPr>
        <p:blipFill>
          <a:blip r:embed="rId2"/>
          <a:stretch/>
        </p:blipFill>
        <p:spPr>
          <a:xfrm>
            <a:off x="3348000" y="1125360"/>
            <a:ext cx="26179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8000" y="4653000"/>
            <a:ext cx="610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Lista para conectarse en el Grid de Méx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s-ES" sz="2400" spc="-1" strike="noStrike">
                <a:solidFill>
                  <a:srgbClr val="003366"/>
                </a:solidFill>
                <a:latin typeface="Verdana"/>
              </a:rPr>
              <a:t>Equipo para el GR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pSeries 690"/>
          <p:cNvPicPr/>
          <p:nvPr/>
        </p:nvPicPr>
        <p:blipFill>
          <a:blip r:embed="rId2"/>
          <a:stretch/>
        </p:blipFill>
        <p:spPr>
          <a:xfrm>
            <a:off x="3348000" y="1125360"/>
            <a:ext cx="26179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4421160" cy="2939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1280" y="4541760"/>
            <a:ext cx="748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2e496c"/>
                </a:solidFill>
                <a:latin typeface="Tahoma"/>
              </a:rPr>
              <a:t>Centro de Cómputo de Alto Rendi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carmenta@cencar.udg.m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ruben@cencar.udg.m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48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Infraestructura de hardware y software que proporciona capacidad computacional de alto rendimiento de manera confiable, consistente, flexible y de bajo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Qué es un GR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7280" y="1341360"/>
            <a:ext cx="2791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Proble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Compartir de manera segura, flexible y coordinada todos los recursos entre grupos dinámicos de individuos o institu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Autenticación ú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Autorización (delim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Definición de los recursos que conforman el GRID (descrip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Qué es un GR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1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Pregun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¿Por qué necesitamos de los GR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¿Qué aplicaciones us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¿Quién los usar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¿Cómo serán us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¿Qué comprende la implementación de un GR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¿Qué problemas solucionar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Qué es un GR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55280" y="14749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 Narrow"/>
              </a:rPr>
              <a:t>Respuest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La solución de problemas se acelera debido a la capacidad multiplicada de los recursos que integran el Gri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Incremento del poder de cómputo basado en la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Utilización de los ciclos no usados (</a:t>
            </a:r>
            <a:r>
              <a:rPr b="0" i="1" lang="es-MX" sz="2600" spc="-1" strike="noStrike">
                <a:solidFill>
                  <a:srgbClr val="000000"/>
                </a:solidFill>
                <a:latin typeface="Arial Narrow"/>
              </a:rPr>
              <a:t>idle</a:t>
            </a: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) de los procesadores que conforman el GR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Compartir el conocimiento entre institu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Equipos multidisciplinarios de trabaj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Flexibilidad para conformar parte de diversos GRI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Comunidades con objetivos comu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Qué es un GR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Arial Narrow"/>
              </a:rPr>
              <a:t>Usuarios de un GRI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Usuarios fin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Desarrolladores de aplic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Desarrolladores de GR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Narrow"/>
              </a:rPr>
              <a:t>Administradores de sistem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Qué es un GR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00720" y="4221000"/>
            <a:ext cx="244476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424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Ciencia multidisciplin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Requerimientos de computación paral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Programa de tested Gigabit </a:t>
            </a: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conexión de los recursos a altas velo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Primer experimento GRID en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aa0000"/>
                </a:solidFill>
                <a:latin typeface="Verdana"/>
              </a:rPr>
              <a:t>&gt; </a:t>
            </a:r>
            <a:r>
              <a:rPr b="1" lang="en-US" sz="3000" spc="-1" strike="noStrike">
                <a:solidFill>
                  <a:srgbClr val="2e496c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292716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01616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22:34:56Z</dcterms:created>
  <dc:creator>Genaro Ramírez</dc:creator>
  <dc:description/>
  <dc:language>en-US</dc:language>
  <cp:lastModifiedBy>CGSI</cp:lastModifiedBy>
  <dcterms:modified xsi:type="dcterms:W3CDTF">2003-04-04T17:14:25Z</dcterms:modified>
  <cp:revision>130</cp:revision>
  <dc:subject/>
  <dc:title>PowerPoint Presentation</dc:title>
</cp:coreProperties>
</file>