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F2C1-6B8A-4D21-8B16-6647AAC53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B87F-F836-42C7-B658-4F95FEA4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AA7C-4291-4A2A-A23A-482191E3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FF02-887E-4E7E-908C-4E9B667F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68AC-BE57-4B31-8E9E-5062F979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C782-9171-40ED-A9AC-A8833CC9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6CA0-24AD-40C6-9AC4-1BA732F3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481A-A9E9-4AC4-91AF-93631365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169E-A773-43AA-B168-4C1DC878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B54A-053C-4B14-9935-57748382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29DF-D632-4E39-A6A7-7CE7326A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7C4D-0AC7-41FA-8611-B3FBA7B80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9D7A-4F74-4732-988B-A637021D81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0.jpeg"/><Relationship Id="rId12" Type="http://schemas.openxmlformats.org/officeDocument/2006/relationships/image" Target="../media/image17.png"/><Relationship Id="rId13" Type="http://schemas.openxmlformats.org/officeDocument/2006/relationships/image" Target="../media/image18.jpeg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019920" y="4343400"/>
            <a:ext cx="2581200" cy="1360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233040" y="5943600"/>
            <a:ext cx="23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Verdana"/>
              </a:rPr>
              <a:t>Dirección de Planeac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31320" y="6632640"/>
            <a:ext cx="38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1-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8440" y="6723000"/>
            <a:ext cx="71280" cy="68400"/>
          </a:xfrm>
          <a:prstGeom prst="rect">
            <a:avLst/>
          </a:prstGeom>
          <a:solidFill>
            <a:srgbClr val="b92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68440" y="6723000"/>
            <a:ext cx="71280" cy="684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39720" y="6723000"/>
            <a:ext cx="71640" cy="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39720" y="6723000"/>
            <a:ext cx="71640" cy="684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1360" y="6723000"/>
            <a:ext cx="69840" cy="684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81200" y="6723000"/>
            <a:ext cx="74520" cy="684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55720" y="6723000"/>
            <a:ext cx="71280" cy="684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27000" y="6723000"/>
            <a:ext cx="69840" cy="684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6840" y="6723000"/>
            <a:ext cx="71640" cy="684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8480" y="6723000"/>
            <a:ext cx="71280" cy="684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39760" y="6723000"/>
            <a:ext cx="69840" cy="684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09600" y="6723000"/>
            <a:ext cx="74520" cy="684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5400" y="449568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Abril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35840" y="449280"/>
            <a:ext cx="658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s-ES" sz="2400" spc="-1" strike="noStrike">
                <a:solidFill>
                  <a:srgbClr val="ffff00"/>
                </a:solidFill>
                <a:latin typeface="Verdana"/>
                <a:ea typeface="Arial"/>
              </a:rPr>
              <a:t>Explorando un Marco de Referencia p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Verdana"/>
                <a:ea typeface="Arial"/>
              </a:rPr>
              <a:t>Estimular y Ampli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Verdana"/>
                <a:ea typeface="Arial"/>
              </a:rPr>
              <a:t>las Aplicaciones de Internet 2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Arial"/>
              </a:rPr>
              <a:t>”</a:t>
            </a:r>
            <a:r>
              <a:rPr b="1" lang="es-ES" sz="2400" spc="-1" strike="noStrike">
                <a:solidFill>
                  <a:srgbClr val="ffff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28920" y="3352680"/>
            <a:ext cx="259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Verdana"/>
              </a:rPr>
              <a:t>Dr. Arturo Serrano Santo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Verdana"/>
              </a:rPr>
              <a:t>Proyectos Estratégico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050840" y="15462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8320" y="2104920"/>
            <a:ext cx="29498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Dr. Arturo Serr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cc"/>
                </a:solidFill>
                <a:latin typeface="Verdana"/>
              </a:rPr>
              <a:t>Proyectos Estratég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cc"/>
                </a:solidFill>
                <a:latin typeface="Verdana"/>
              </a:rPr>
              <a:t>Dirección de Planeación CIC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280" y="6632640"/>
            <a:ext cx="44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10-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68440" y="6723000"/>
            <a:ext cx="71280" cy="68400"/>
          </a:xfrm>
          <a:prstGeom prst="rect">
            <a:avLst/>
          </a:prstGeom>
          <a:solidFill>
            <a:srgbClr val="b92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68440" y="6723000"/>
            <a:ext cx="71280" cy="684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9720" y="6723000"/>
            <a:ext cx="71640" cy="68400"/>
          </a:xfrm>
          <a:prstGeom prst="rect">
            <a:avLst/>
          </a:prstGeom>
          <a:solidFill>
            <a:srgbClr val="b92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39720" y="6723000"/>
            <a:ext cx="71640" cy="684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1360" y="6723000"/>
            <a:ext cx="69840" cy="68400"/>
          </a:xfrm>
          <a:prstGeom prst="rect">
            <a:avLst/>
          </a:prstGeom>
          <a:solidFill>
            <a:srgbClr val="d33801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1200" y="6723000"/>
            <a:ext cx="74520" cy="68400"/>
          </a:xfrm>
          <a:prstGeom prst="rect">
            <a:avLst/>
          </a:prstGeom>
          <a:solidFill>
            <a:srgbClr val="ff993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55720" y="6723000"/>
            <a:ext cx="71280" cy="68400"/>
          </a:xfrm>
          <a:prstGeom prst="rect">
            <a:avLst/>
          </a:prstGeom>
          <a:solidFill>
            <a:srgbClr val="ff993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27000" y="6723000"/>
            <a:ext cx="69840" cy="68400"/>
          </a:xfrm>
          <a:prstGeom prst="rect">
            <a:avLst/>
          </a:prstGeom>
          <a:solidFill>
            <a:srgbClr val="ff993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96840" y="6723000"/>
            <a:ext cx="71640" cy="68400"/>
          </a:xfrm>
          <a:prstGeom prst="rect">
            <a:avLst/>
          </a:prstGeom>
          <a:solidFill>
            <a:srgbClr val="ff993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068480" y="6723000"/>
            <a:ext cx="71280" cy="68400"/>
          </a:xfrm>
          <a:prstGeom prst="rect">
            <a:avLst/>
          </a:prstGeom>
          <a:solidFill>
            <a:srgbClr val="ff993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139760" y="6723000"/>
            <a:ext cx="69840" cy="68400"/>
          </a:xfrm>
          <a:prstGeom prst="rect">
            <a:avLst/>
          </a:prstGeom>
          <a:solidFill>
            <a:srgbClr val="ff993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09600" y="6723000"/>
            <a:ext cx="74520" cy="68400"/>
          </a:xfrm>
          <a:prstGeom prst="rect">
            <a:avLst/>
          </a:prstGeom>
          <a:solidFill>
            <a:srgbClr val="ff993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19240" y="228600"/>
            <a:ext cx="3590640" cy="619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80880" y="2590920"/>
            <a:ext cx="662940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os países, particularmente los llamados </a:t>
            </a: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desarrolladores potenciales como México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, buscan afanosamente insertarse en la economía mundial no solo como observadores o protagonistas pasivos en el impacto de la ciencia y tecnología al desarrollo sostenible, sino también como generadores de conocimiento científico y tecnológic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nte este reto, buscan estrategias y modelos que puedan apoyar iniciativas que conlleven a una </a:t>
            </a: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liga exitosa entre los esfuerzos de sus actividades de I&amp;D y la creación de riqueza que contribuya al mejoramiento de su Indice de Desarrollo Human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467480" y="2495520"/>
            <a:ext cx="1447920" cy="1066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467480" y="4448160"/>
            <a:ext cx="1447920" cy="961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7467480" y="3537000"/>
            <a:ext cx="1447920" cy="955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31320" y="6632640"/>
            <a:ext cx="38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2-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8440" y="6723000"/>
            <a:ext cx="71280" cy="68400"/>
          </a:xfrm>
          <a:prstGeom prst="rect">
            <a:avLst/>
          </a:prstGeom>
          <a:solidFill>
            <a:srgbClr val="b92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8440" y="6723000"/>
            <a:ext cx="71280" cy="684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9720" y="6723000"/>
            <a:ext cx="71640" cy="68400"/>
          </a:xfrm>
          <a:prstGeom prst="rect">
            <a:avLst/>
          </a:prstGeom>
          <a:solidFill>
            <a:srgbClr val="b92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9720" y="6723000"/>
            <a:ext cx="71640" cy="684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1360" y="6723000"/>
            <a:ext cx="69840" cy="68400"/>
          </a:xfrm>
          <a:prstGeom prst="rect">
            <a:avLst/>
          </a:prstGeom>
          <a:solidFill>
            <a:srgbClr val="d33801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1200" y="6723000"/>
            <a:ext cx="74520" cy="684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55720" y="6723000"/>
            <a:ext cx="71280" cy="684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27000" y="6723000"/>
            <a:ext cx="69840" cy="684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96840" y="6723000"/>
            <a:ext cx="71640" cy="684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8480" y="6723000"/>
            <a:ext cx="71280" cy="684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39760" y="6723000"/>
            <a:ext cx="69840" cy="684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09600" y="6723000"/>
            <a:ext cx="74520" cy="684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591000" cy="619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-31320" y="6632640"/>
            <a:ext cx="38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3-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8440" y="6723000"/>
            <a:ext cx="71280" cy="68400"/>
          </a:xfrm>
          <a:prstGeom prst="rect">
            <a:avLst/>
          </a:prstGeom>
          <a:solidFill>
            <a:srgbClr val="b92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8440" y="6723000"/>
            <a:ext cx="71280" cy="684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9720" y="6723000"/>
            <a:ext cx="71640" cy="68400"/>
          </a:xfrm>
          <a:prstGeom prst="rect">
            <a:avLst/>
          </a:prstGeom>
          <a:solidFill>
            <a:srgbClr val="b92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9720" y="6723000"/>
            <a:ext cx="71640" cy="684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1360" y="6723000"/>
            <a:ext cx="69840" cy="68400"/>
          </a:xfrm>
          <a:prstGeom prst="rect">
            <a:avLst/>
          </a:prstGeom>
          <a:solidFill>
            <a:srgbClr val="d33801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81200" y="6723000"/>
            <a:ext cx="74520" cy="68400"/>
          </a:xfrm>
          <a:prstGeom prst="rect">
            <a:avLst/>
          </a:prstGeom>
          <a:solidFill>
            <a:srgbClr val="f95d51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55720" y="6723000"/>
            <a:ext cx="71280" cy="684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7000" y="6723000"/>
            <a:ext cx="69840" cy="684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96840" y="6723000"/>
            <a:ext cx="71640" cy="684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8480" y="6723000"/>
            <a:ext cx="71280" cy="684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39760" y="6723000"/>
            <a:ext cx="69840" cy="684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09600" y="6723000"/>
            <a:ext cx="74520" cy="684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1295280"/>
            <a:ext cx="7315200" cy="46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El panorama de México en TI se puede resumir como sig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La riqueza en TI se genera por exportación de bienes y como el principal importador esta en crisis (EUA) , esto presenta un efecto de ries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Las maquiladoras están emigrando hacia Asia y posiblemente después hacia Af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Hay un menor movimiento de Capit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Son pocos los ejemplos exitosos de vinculación Academia / Empresa en TI, por lo tant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200" spc="-1" strike="noStrike">
                <a:solidFill>
                  <a:srgbClr val="ffff00"/>
                </a:solidFill>
                <a:latin typeface="Verdana"/>
              </a:rPr>
              <a:t>México es un país muy débil en innovación en 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ES" sz="1200" spc="-1" strike="noStrike">
                <a:solidFill>
                  <a:srgbClr val="ffff00"/>
                </a:solidFill>
                <a:latin typeface="Verdana"/>
              </a:rPr>
              <a:t>Es necesario actuar pronto y con estrategias diferentes que promuevan un cambio cultural y estructu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19240" y="228600"/>
            <a:ext cx="3590640" cy="619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666880" y="2957400"/>
            <a:ext cx="5639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n este contexto existe una oportunidad sin precedentes para aprovechar las capacidades de </a:t>
            </a:r>
            <a:r>
              <a:rPr b="1" lang="en-US" sz="1600" spc="-1" strike="noStrike">
                <a:solidFill>
                  <a:srgbClr val="ffff00"/>
                </a:solidFill>
                <a:latin typeface="Verdana"/>
              </a:rPr>
              <a:t>INTERNET2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en la Educación, Salud, en la I&amp;D y en general en el desarrollo sostenible de Méx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33520" y="3809880"/>
            <a:ext cx="1904760" cy="1219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533520" y="2374920"/>
            <a:ext cx="1904760" cy="1434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-31320" y="6632640"/>
            <a:ext cx="38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4-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8440" y="6723000"/>
            <a:ext cx="71280" cy="68400"/>
          </a:xfrm>
          <a:prstGeom prst="rect">
            <a:avLst/>
          </a:prstGeom>
          <a:solidFill>
            <a:srgbClr val="b92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8440" y="6723000"/>
            <a:ext cx="71280" cy="684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9720" y="6723000"/>
            <a:ext cx="71640" cy="68400"/>
          </a:xfrm>
          <a:prstGeom prst="rect">
            <a:avLst/>
          </a:prstGeom>
          <a:solidFill>
            <a:srgbClr val="b92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9720" y="6723000"/>
            <a:ext cx="71640" cy="684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1360" y="6723000"/>
            <a:ext cx="69840" cy="68400"/>
          </a:xfrm>
          <a:prstGeom prst="rect">
            <a:avLst/>
          </a:prstGeom>
          <a:solidFill>
            <a:srgbClr val="d33801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81200" y="6723000"/>
            <a:ext cx="74520" cy="68400"/>
          </a:xfrm>
          <a:prstGeom prst="rect">
            <a:avLst/>
          </a:prstGeom>
          <a:solidFill>
            <a:srgbClr val="f95d51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55720" y="6723000"/>
            <a:ext cx="71280" cy="684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27000" y="6723000"/>
            <a:ext cx="69840" cy="684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96840" y="6723000"/>
            <a:ext cx="71640" cy="684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8480" y="6723000"/>
            <a:ext cx="71280" cy="684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39760" y="6723000"/>
            <a:ext cx="69840" cy="684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09600" y="6723000"/>
            <a:ext cx="74520" cy="684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09480" y="4978440"/>
            <a:ext cx="1447920" cy="10414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981080" y="1666800"/>
            <a:ext cx="7010640" cy="41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 Analizar la interrelación entre las disciplinas científico–tecnológicas de impacto del 2003 al 2020 se desprenden las siguientes consideraci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cc00"/>
              </a:buClr>
              <a:buSzPct val="1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Las TI están en su “ 3er trimestre “ de desarrollo, Biotecnología 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encuentra en el 2do trimes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cc00"/>
              </a:buClr>
              <a:buSzPct val="1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cc00"/>
              </a:buClr>
              <a:buSzPct val="1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Se espera que las TI llegarán a su pico en 2020( alrededor de 75 añ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después de que comenzaron su despegue acelerado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cc00"/>
              </a:buClr>
              <a:buSzPct val="1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En sum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cc00"/>
              </a:buClr>
              <a:buSzPct val="1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Las ECONOMIAS de la información e industrial se construyeron en bas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desarrollos de la Fís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cc00"/>
              </a:buClr>
              <a:buSzPct val="1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cc00"/>
              </a:buClr>
              <a:buSzPct val="1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La SIGUIENTE ECONOMIA se construirá en base a tecnologías deriv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de la Biología y estrechamente conectadas con TI, Ciencia de   Mater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y Energ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cc00"/>
                </a:solidFill>
                <a:latin typeface="Verdana"/>
              </a:rPr>
              <a:t>¿Como empezamos a generar el capital humano que sostendrá tales Economías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900" spc="-1" strike="noStrike">
                <a:solidFill>
                  <a:srgbClr val="ffcc99"/>
                </a:solidFill>
                <a:latin typeface="Verdana"/>
              </a:rPr>
              <a:t>Fuentes : Business 2.0 y Optimize Magazine, Dec 200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797040" y="1447920"/>
            <a:ext cx="836640" cy="990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838080" y="2590920"/>
            <a:ext cx="836640" cy="990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812880" y="3733920"/>
            <a:ext cx="939600" cy="990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7"/>
          <a:stretch/>
        </p:blipFill>
        <p:spPr>
          <a:xfrm>
            <a:off x="380880" y="5867280"/>
            <a:ext cx="2133720" cy="2145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8"/>
          <a:stretch/>
        </p:blipFill>
        <p:spPr>
          <a:xfrm>
            <a:off x="152280" y="3429000"/>
            <a:ext cx="2133720" cy="214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1104840" y="3352680"/>
            <a:ext cx="343080" cy="2858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0"/>
          <a:stretch/>
        </p:blipFill>
        <p:spPr>
          <a:xfrm>
            <a:off x="685800" y="5810400"/>
            <a:ext cx="1228680" cy="285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1"/>
          <a:stretch/>
        </p:blipFill>
        <p:spPr>
          <a:xfrm>
            <a:off x="380880" y="4572000"/>
            <a:ext cx="2133720" cy="214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2"/>
          <a:stretch/>
        </p:blipFill>
        <p:spPr>
          <a:xfrm>
            <a:off x="628560" y="4572000"/>
            <a:ext cx="1276560" cy="2858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3"/>
          <a:stretch/>
        </p:blipFill>
        <p:spPr>
          <a:xfrm>
            <a:off x="1600200" y="228600"/>
            <a:ext cx="5535720" cy="530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6720" y="6632640"/>
            <a:ext cx="38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5-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8440" y="6723000"/>
            <a:ext cx="71280" cy="68400"/>
          </a:xfrm>
          <a:prstGeom prst="rect">
            <a:avLst/>
          </a:prstGeom>
          <a:solidFill>
            <a:srgbClr val="b92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8440" y="6723000"/>
            <a:ext cx="71280" cy="684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9720" y="6723000"/>
            <a:ext cx="71640" cy="68400"/>
          </a:xfrm>
          <a:prstGeom prst="rect">
            <a:avLst/>
          </a:prstGeom>
          <a:solidFill>
            <a:srgbClr val="b92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9720" y="6723000"/>
            <a:ext cx="71640" cy="684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11360" y="6723000"/>
            <a:ext cx="69840" cy="68400"/>
          </a:xfrm>
          <a:prstGeom prst="rect">
            <a:avLst/>
          </a:prstGeom>
          <a:solidFill>
            <a:srgbClr val="d33801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81200" y="6723000"/>
            <a:ext cx="74520" cy="68400"/>
          </a:xfrm>
          <a:prstGeom prst="rect">
            <a:avLst/>
          </a:prstGeom>
          <a:solidFill>
            <a:srgbClr val="ff993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55720" y="6723000"/>
            <a:ext cx="71280" cy="68400"/>
          </a:xfrm>
          <a:prstGeom prst="rect">
            <a:avLst/>
          </a:prstGeom>
          <a:solidFill>
            <a:srgbClr val="ff993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27000" y="6723000"/>
            <a:ext cx="69840" cy="68400"/>
          </a:xfrm>
          <a:prstGeom prst="rect">
            <a:avLst/>
          </a:prstGeom>
          <a:solidFill>
            <a:srgbClr val="ff993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96840" y="6723000"/>
            <a:ext cx="71640" cy="68400"/>
          </a:xfrm>
          <a:prstGeom prst="rect">
            <a:avLst/>
          </a:prstGeom>
          <a:solidFill>
            <a:srgbClr val="ff993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68480" y="6723000"/>
            <a:ext cx="71280" cy="68400"/>
          </a:xfrm>
          <a:prstGeom prst="rect">
            <a:avLst/>
          </a:prstGeom>
          <a:solidFill>
            <a:srgbClr val="ff993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39760" y="6723000"/>
            <a:ext cx="69840" cy="68400"/>
          </a:xfrm>
          <a:prstGeom prst="rect">
            <a:avLst/>
          </a:prstGeom>
          <a:solidFill>
            <a:srgbClr val="ff993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1752480"/>
            <a:ext cx="845172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Los centros educativos y de I&amp;D deben convertirse en agentes de cambio que respondan con sus actividades a las necesidades sociales, industriales y educativas del reg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arios expertos en prospectiva consideran que en los próximos 10 años se requerirá gente que piense y trabaje interdisciplinariamente (Arte, Ciencia, Desarrollo ) y que se involucre de manera flexible a zonas de experiencia (expertise areas) diferentes a las de su área principal de competenc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9900"/>
                </a:solidFill>
                <a:latin typeface="Verdana"/>
              </a:rPr>
              <a:t>¿Cómo generamos este Capital Human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124080" y="2514600"/>
            <a:ext cx="2667240" cy="1295280"/>
            <a:chOff x="3124080" y="2514600"/>
            <a:chExt cx="2667240" cy="1295280"/>
          </a:xfrm>
        </p:grpSpPr>
        <p:sp>
          <p:nvSpPr>
            <p:cNvPr id="174" name=""/>
            <p:cNvSpPr/>
            <p:nvPr/>
          </p:nvSpPr>
          <p:spPr>
            <a:xfrm>
              <a:off x="3200400" y="2514600"/>
              <a:ext cx="1371600" cy="1295280"/>
            </a:xfrm>
            <a:prstGeom prst="ellipse">
              <a:avLst/>
            </a:prstGeom>
            <a:solidFill>
              <a:srgbClr val="006699">
                <a:alpha val="6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343400" y="2514600"/>
              <a:ext cx="1371600" cy="1295280"/>
            </a:xfrm>
            <a:prstGeom prst="ellipse">
              <a:avLst/>
            </a:prstGeom>
            <a:solidFill>
              <a:srgbClr val="006699">
                <a:alpha val="6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24080" y="295560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</a:rPr>
                <a:t>I&amp;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495680" y="2923920"/>
              <a:ext cx="1295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Bienest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Soc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286000" y="228600"/>
            <a:ext cx="3422520" cy="5032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6720" y="6632640"/>
            <a:ext cx="38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6-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8440" y="6723000"/>
            <a:ext cx="71280" cy="68400"/>
          </a:xfrm>
          <a:prstGeom prst="rect">
            <a:avLst/>
          </a:prstGeom>
          <a:solidFill>
            <a:srgbClr val="b92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68440" y="6723000"/>
            <a:ext cx="71280" cy="684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9720" y="6723000"/>
            <a:ext cx="71640" cy="68400"/>
          </a:xfrm>
          <a:prstGeom prst="rect">
            <a:avLst/>
          </a:prstGeom>
          <a:solidFill>
            <a:srgbClr val="b92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9720" y="6723000"/>
            <a:ext cx="71640" cy="684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11360" y="6723000"/>
            <a:ext cx="69840" cy="68400"/>
          </a:xfrm>
          <a:prstGeom prst="rect">
            <a:avLst/>
          </a:prstGeom>
          <a:solidFill>
            <a:srgbClr val="d33801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81200" y="6723000"/>
            <a:ext cx="74520" cy="68400"/>
          </a:xfrm>
          <a:prstGeom prst="rect">
            <a:avLst/>
          </a:prstGeom>
          <a:solidFill>
            <a:srgbClr val="ff993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55720" y="6723000"/>
            <a:ext cx="71280" cy="68400"/>
          </a:xfrm>
          <a:prstGeom prst="rect">
            <a:avLst/>
          </a:prstGeom>
          <a:solidFill>
            <a:srgbClr val="ff993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27000" y="6723000"/>
            <a:ext cx="69840" cy="68400"/>
          </a:xfrm>
          <a:prstGeom prst="rect">
            <a:avLst/>
          </a:prstGeom>
          <a:solidFill>
            <a:srgbClr val="ff993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96840" y="6723000"/>
            <a:ext cx="71640" cy="68400"/>
          </a:xfrm>
          <a:prstGeom prst="rect">
            <a:avLst/>
          </a:prstGeom>
          <a:solidFill>
            <a:srgbClr val="ff993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68480" y="6723000"/>
            <a:ext cx="71280" cy="68400"/>
          </a:xfrm>
          <a:prstGeom prst="rect">
            <a:avLst/>
          </a:prstGeom>
          <a:solidFill>
            <a:srgbClr val="ff993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39760" y="6723000"/>
            <a:ext cx="69840" cy="68400"/>
          </a:xfrm>
          <a:prstGeom prst="rect">
            <a:avLst/>
          </a:prstGeom>
          <a:solidFill>
            <a:srgbClr val="ff993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09600" y="6723000"/>
            <a:ext cx="74520" cy="68400"/>
          </a:xfrm>
          <a:prstGeom prst="rect">
            <a:avLst/>
          </a:prstGeom>
          <a:solidFill>
            <a:srgbClr val="ff993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1600200"/>
            <a:ext cx="8458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mplicaciones de  tener grandes capacidades de Anch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 banda y procesamien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Capacidades de 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Capacidades de Ancho de Ba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¿Conocen los usuarios potenciales de México estas capacidad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parte de participación en aplicaciones y avance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fraestructura de red,  ¿Existe una participación en innovación e I&amp;D en aspectos de INTERNET2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6720" y="6632640"/>
            <a:ext cx="38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7-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8440" y="6723000"/>
            <a:ext cx="71280" cy="68400"/>
          </a:xfrm>
          <a:prstGeom prst="rect">
            <a:avLst/>
          </a:prstGeom>
          <a:solidFill>
            <a:srgbClr val="b92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68440" y="6723000"/>
            <a:ext cx="71280" cy="684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9720" y="6723000"/>
            <a:ext cx="71640" cy="68400"/>
          </a:xfrm>
          <a:prstGeom prst="rect">
            <a:avLst/>
          </a:prstGeom>
          <a:solidFill>
            <a:srgbClr val="b92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9720" y="6723000"/>
            <a:ext cx="71640" cy="684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11360" y="6723000"/>
            <a:ext cx="69840" cy="68400"/>
          </a:xfrm>
          <a:prstGeom prst="rect">
            <a:avLst/>
          </a:prstGeom>
          <a:solidFill>
            <a:srgbClr val="d33801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81200" y="6723000"/>
            <a:ext cx="74520" cy="68400"/>
          </a:xfrm>
          <a:prstGeom prst="rect">
            <a:avLst/>
          </a:prstGeom>
          <a:solidFill>
            <a:srgbClr val="ff993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55720" y="6723000"/>
            <a:ext cx="71280" cy="68400"/>
          </a:xfrm>
          <a:prstGeom prst="rect">
            <a:avLst/>
          </a:prstGeom>
          <a:solidFill>
            <a:srgbClr val="ff993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27000" y="6723000"/>
            <a:ext cx="69840" cy="68400"/>
          </a:xfrm>
          <a:prstGeom prst="rect">
            <a:avLst/>
          </a:prstGeom>
          <a:solidFill>
            <a:srgbClr val="ff993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96840" y="6723000"/>
            <a:ext cx="71640" cy="68400"/>
          </a:xfrm>
          <a:prstGeom prst="rect">
            <a:avLst/>
          </a:prstGeom>
          <a:solidFill>
            <a:srgbClr val="ff993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68480" y="6723000"/>
            <a:ext cx="71280" cy="68400"/>
          </a:xfrm>
          <a:prstGeom prst="rect">
            <a:avLst/>
          </a:prstGeom>
          <a:solidFill>
            <a:srgbClr val="ff993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39760" y="6723000"/>
            <a:ext cx="69840" cy="68400"/>
          </a:xfrm>
          <a:prstGeom prst="rect">
            <a:avLst/>
          </a:prstGeom>
          <a:solidFill>
            <a:srgbClr val="ff993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09600" y="6723000"/>
            <a:ext cx="74520" cy="68400"/>
          </a:xfrm>
          <a:prstGeom prst="rect">
            <a:avLst/>
          </a:prstGeom>
          <a:solidFill>
            <a:srgbClr val="ff993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819520" y="228600"/>
            <a:ext cx="34225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3200400" y="2895480"/>
            <a:ext cx="3200400" cy="2667240"/>
            <a:chOff x="3200400" y="2895480"/>
            <a:chExt cx="3200400" cy="2667240"/>
          </a:xfrm>
        </p:grpSpPr>
        <p:sp>
          <p:nvSpPr>
            <p:cNvPr id="208" name=""/>
            <p:cNvSpPr/>
            <p:nvPr/>
          </p:nvSpPr>
          <p:spPr>
            <a:xfrm>
              <a:off x="3200400" y="2895480"/>
              <a:ext cx="1752840" cy="1676520"/>
            </a:xfrm>
            <a:prstGeom prst="ellipse">
              <a:avLst/>
            </a:prstGeom>
            <a:solidFill>
              <a:srgbClr val="006699">
                <a:alpha val="60000"/>
              </a:srgbClr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648320" y="2895480"/>
              <a:ext cx="1752480" cy="1676520"/>
            </a:xfrm>
            <a:prstGeom prst="ellipse">
              <a:avLst/>
            </a:prstGeom>
            <a:solidFill>
              <a:srgbClr val="006699">
                <a:alpha val="60000"/>
              </a:srgbClr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200400" y="3886200"/>
              <a:ext cx="1752840" cy="1676520"/>
            </a:xfrm>
            <a:prstGeom prst="ellipse">
              <a:avLst/>
            </a:prstGeom>
            <a:solidFill>
              <a:srgbClr val="006699">
                <a:alpha val="60000"/>
              </a:srgbClr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648320" y="3886200"/>
              <a:ext cx="1752480" cy="1676520"/>
            </a:xfrm>
            <a:prstGeom prst="ellipse">
              <a:avLst/>
            </a:prstGeom>
            <a:solidFill>
              <a:srgbClr val="006699">
                <a:alpha val="60000"/>
              </a:srgbClr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488760" y="3484440"/>
              <a:ext cx="12110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Optimización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Infraestructura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de Re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54840" y="3484440"/>
              <a:ext cx="82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Educa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239800" y="4780080"/>
              <a:ext cx="1015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Aplicacion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al Desarroll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sostenibl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29000" y="4648320"/>
              <a:ext cx="1219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I&amp;D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Aplicacion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Innova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3124080" y="2057400"/>
            <a:ext cx="317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</a:rPr>
              <a:t>Areas de Enfoque propuest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6720" y="6632640"/>
            <a:ext cx="38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8-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68440" y="6723000"/>
            <a:ext cx="71280" cy="68400"/>
          </a:xfrm>
          <a:prstGeom prst="rect">
            <a:avLst/>
          </a:prstGeom>
          <a:solidFill>
            <a:srgbClr val="b92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68440" y="6723000"/>
            <a:ext cx="71280" cy="684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9720" y="6723000"/>
            <a:ext cx="71640" cy="68400"/>
          </a:xfrm>
          <a:prstGeom prst="rect">
            <a:avLst/>
          </a:prstGeom>
          <a:solidFill>
            <a:srgbClr val="b92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9720" y="6723000"/>
            <a:ext cx="71640" cy="684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1360" y="6723000"/>
            <a:ext cx="69840" cy="68400"/>
          </a:xfrm>
          <a:prstGeom prst="rect">
            <a:avLst/>
          </a:prstGeom>
          <a:solidFill>
            <a:srgbClr val="d33801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1200" y="6723000"/>
            <a:ext cx="74520" cy="68400"/>
          </a:xfrm>
          <a:prstGeom prst="rect">
            <a:avLst/>
          </a:prstGeom>
          <a:solidFill>
            <a:srgbClr val="ff993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55720" y="6723000"/>
            <a:ext cx="71280" cy="68400"/>
          </a:xfrm>
          <a:prstGeom prst="rect">
            <a:avLst/>
          </a:prstGeom>
          <a:solidFill>
            <a:srgbClr val="ff993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27000" y="6723000"/>
            <a:ext cx="69840" cy="68400"/>
          </a:xfrm>
          <a:prstGeom prst="rect">
            <a:avLst/>
          </a:prstGeom>
          <a:solidFill>
            <a:srgbClr val="ff993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96840" y="6723000"/>
            <a:ext cx="71640" cy="68400"/>
          </a:xfrm>
          <a:prstGeom prst="rect">
            <a:avLst/>
          </a:prstGeom>
          <a:solidFill>
            <a:srgbClr val="ff993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68480" y="6723000"/>
            <a:ext cx="71280" cy="68400"/>
          </a:xfrm>
          <a:prstGeom prst="rect">
            <a:avLst/>
          </a:prstGeom>
          <a:solidFill>
            <a:srgbClr val="ff993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39760" y="6723000"/>
            <a:ext cx="69840" cy="68400"/>
          </a:xfrm>
          <a:prstGeom prst="rect">
            <a:avLst/>
          </a:prstGeom>
          <a:solidFill>
            <a:srgbClr val="ff993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09600" y="6723000"/>
            <a:ext cx="74520" cy="68400"/>
          </a:xfrm>
          <a:prstGeom prst="rect">
            <a:avLst/>
          </a:prstGeom>
          <a:solidFill>
            <a:srgbClr val="ff993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819520" y="228600"/>
            <a:ext cx="34225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-76320" y="2935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6261120" cy="6523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685800" y="1305360"/>
            <a:ext cx="8229600" cy="53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ROPUEST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ara desarrollar un plan innovador de formación de capital humano en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ecnología y aplicaciones de INTERNET2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se debe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iniciar desde el nivel Licenciatura. Es importante actualizar a los profesores de las carreras afines a las especialidades de INTERNET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Verdana"/>
              </a:rPr>
              <a:t>Adaptar Planes de estud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Verdana"/>
              </a:rPr>
              <a:t>Implementar un Programa de Actualización de Profesores utiliza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Verdana"/>
              </a:rPr>
              <a:t>la infraestructura de INTERNET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esarrollar estrategias que estimulen a mayor número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investigadores científicos y tecnólogos a utilizar la infraestruc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e INTERNET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</a:rPr>
              <a:t>ESTRATEGIA DE NEGO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</a:rPr>
              <a:t>PROPUESTA DE VA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720" y="6632640"/>
            <a:ext cx="38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9-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68440" y="6723000"/>
            <a:ext cx="71280" cy="68400"/>
          </a:xfrm>
          <a:prstGeom prst="rect">
            <a:avLst/>
          </a:prstGeom>
          <a:solidFill>
            <a:srgbClr val="b92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68440" y="6723000"/>
            <a:ext cx="71280" cy="684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9720" y="6723000"/>
            <a:ext cx="71640" cy="68400"/>
          </a:xfrm>
          <a:prstGeom prst="rect">
            <a:avLst/>
          </a:prstGeom>
          <a:solidFill>
            <a:srgbClr val="b92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39720" y="6723000"/>
            <a:ext cx="71640" cy="684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1360" y="6723000"/>
            <a:ext cx="69840" cy="68400"/>
          </a:xfrm>
          <a:prstGeom prst="rect">
            <a:avLst/>
          </a:prstGeom>
          <a:solidFill>
            <a:srgbClr val="d33801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81200" y="6723000"/>
            <a:ext cx="74520" cy="68400"/>
          </a:xfrm>
          <a:prstGeom prst="rect">
            <a:avLst/>
          </a:prstGeom>
          <a:solidFill>
            <a:srgbClr val="ff993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55720" y="6723000"/>
            <a:ext cx="71280" cy="68400"/>
          </a:xfrm>
          <a:prstGeom prst="rect">
            <a:avLst/>
          </a:prstGeom>
          <a:solidFill>
            <a:srgbClr val="ff993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27000" y="6723000"/>
            <a:ext cx="69840" cy="68400"/>
          </a:xfrm>
          <a:prstGeom prst="rect">
            <a:avLst/>
          </a:prstGeom>
          <a:solidFill>
            <a:srgbClr val="ff993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96840" y="6723000"/>
            <a:ext cx="71640" cy="68400"/>
          </a:xfrm>
          <a:prstGeom prst="rect">
            <a:avLst/>
          </a:prstGeom>
          <a:solidFill>
            <a:srgbClr val="ff993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068480" y="6723000"/>
            <a:ext cx="71280" cy="68400"/>
          </a:xfrm>
          <a:prstGeom prst="rect">
            <a:avLst/>
          </a:prstGeom>
          <a:solidFill>
            <a:srgbClr val="ff993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139760" y="6723000"/>
            <a:ext cx="69840" cy="68400"/>
          </a:xfrm>
          <a:prstGeom prst="rect">
            <a:avLst/>
          </a:prstGeom>
          <a:solidFill>
            <a:srgbClr val="ff993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09600" y="6723000"/>
            <a:ext cx="74520" cy="68400"/>
          </a:xfrm>
          <a:prstGeom prst="rect">
            <a:avLst/>
          </a:prstGeom>
          <a:solidFill>
            <a:srgbClr val="ff993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0T20:57:43Z</dcterms:created>
  <dc:creator>LNI. Octavio Velarde</dc:creator>
  <dc:description/>
  <dc:language>en-US</dc:language>
  <cp:lastModifiedBy>PC</cp:lastModifiedBy>
  <dcterms:modified xsi:type="dcterms:W3CDTF">2003-03-29T09:23:47Z</dcterms:modified>
  <cp:revision>243</cp:revision>
  <dc:subject/>
  <dc:title>Diapositiva 1</dc:title>
</cp:coreProperties>
</file>