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5.wmf" ContentType="image/x-wmf"/>
  <Override PartName="/ppt/media/image10.png" ContentType="image/png"/>
  <Override PartName="/ppt/media/image4.jpeg" ContentType="image/jpeg"/>
  <Override PartName="/ppt/media/image27.png" ContentType="image/png"/>
  <Override PartName="/ppt/media/image3.jpeg" ContentType="image/jpeg"/>
  <Override PartName="/ppt/media/image15.png" ContentType="image/png"/>
  <Override PartName="/ppt/media/image24.wmf" ContentType="image/x-wmf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8.png" ContentType="image/png"/>
  <Override PartName="/ppt/media/image26.png" ContentType="image/png"/>
  <Override PartName="/ppt/media/image17.jpeg" ContentType="image/jpeg"/>
  <Override PartName="/ppt/media/image14.png" ContentType="image/png"/>
  <Override PartName="/ppt/media/image25.wmf" ContentType="image/x-wmf"/>
  <Override PartName="/ppt/media/image2.jpeg" ContentType="image/jpe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9405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40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5097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261120" y="-360"/>
            <a:ext cx="6732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040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040" y="4419360"/>
            <a:ext cx="246204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13040"/>
            <a:ext cx="4651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6756480" y="9113040"/>
            <a:ext cx="1778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BB720-EC0A-436E-AD2B-256242D5AA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3527280" y="247824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925200" y="4421160"/>
            <a:ext cx="5094360" cy="4200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BA-DCOM - heterogeneous interoper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fication and adaptation of QoS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 for dynamic network and system custom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2541-2F36-463D-8A34-B2F80E0CD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C4A5-599E-4955-A605-669405123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5E9A-4E94-422E-87E1-6563FF34A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BB36-6B90-4B20-BCEA-82142258D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8F51-2740-457E-811B-A4DF1430E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0E74-A9D3-4D3C-B82C-29F8B3B08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D6B7-99D5-45B5-A509-0DBCC9C9D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C249-C65F-4793-81AE-CFA5D1105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524D-B534-41BD-9974-583A50957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B753-0083-45A4-BFCA-49626A9B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D856-670B-4B98-A2DC-CFA1BF8B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E90C-E1F5-4A26-BD86-BCE26AA7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333EB-1F71-4473-853D-D5BD569AA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bcn.fjmiro.es/home-html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45720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RO: Middleware Adaptativo para un Laboratorio de Robots Móviles en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03240" y="24130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UC-MEXUS-CONACY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UCI-ITAM-U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676520" y="4165200"/>
            <a:ext cx="64008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r. Alfredo Weitzenf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36760" y="5931000"/>
            <a:ext cx="52419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fredo@itam.m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://www.cannes.itam.m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7520" y="2311560"/>
            <a:ext cx="208296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0"/>
            <a:ext cx="44355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quisición de 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Barrera 20 cm después de colisi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952720" y="9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DetourFig8" descr=""/>
          <p:cNvPicPr/>
          <p:nvPr/>
        </p:nvPicPr>
        <p:blipFill>
          <a:blip r:embed="rId1"/>
          <a:stretch/>
        </p:blipFill>
        <p:spPr>
          <a:xfrm>
            <a:off x="4599000" y="185760"/>
            <a:ext cx="4183200" cy="6507000"/>
          </a:xfrm>
          <a:prstGeom prst="rect">
            <a:avLst/>
          </a:prstGeom>
          <a:ln w="0">
            <a:noFill/>
          </a:ln>
        </p:spPr>
      </p:pic>
      <p:grpSp>
        <p:nvGrpSpPr>
          <p:cNvPr id="291" name=""/>
          <p:cNvGrpSpPr/>
          <p:nvPr/>
        </p:nvGrpSpPr>
        <p:grpSpPr>
          <a:xfrm>
            <a:off x="743400" y="1130400"/>
            <a:ext cx="2685600" cy="5194080"/>
            <a:chOff x="743400" y="1130400"/>
            <a:chExt cx="2685600" cy="5194080"/>
          </a:xfrm>
        </p:grpSpPr>
        <p:sp>
          <p:nvSpPr>
            <p:cNvPr id="292" name=""/>
            <p:cNvSpPr/>
            <p:nvPr/>
          </p:nvSpPr>
          <p:spPr>
            <a:xfrm>
              <a:off x="743400" y="1219320"/>
              <a:ext cx="2042280" cy="49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Barrera (PreTectum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Presa (Tectum)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Integrador (MHM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Orientador (MHM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Tact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739880" y="2476440"/>
              <a:ext cx="163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778040" y="3860640"/>
              <a:ext cx="163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65440" y="5232240"/>
              <a:ext cx="163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790640" y="6324480"/>
              <a:ext cx="163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765440" y="1130400"/>
              <a:ext cx="163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0" y="0"/>
            <a:ext cx="46004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quisición de 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Barrera 20 cm después de aprendizaj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28960" y="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DetourFig10" descr=""/>
          <p:cNvPicPr/>
          <p:nvPr/>
        </p:nvPicPr>
        <p:blipFill>
          <a:blip r:embed="rId1"/>
          <a:stretch/>
        </p:blipFill>
        <p:spPr>
          <a:xfrm>
            <a:off x="4635360" y="235080"/>
            <a:ext cx="4132440" cy="6443640"/>
          </a:xfrm>
          <a:prstGeom prst="rect">
            <a:avLst/>
          </a:prstGeom>
          <a:ln w="0">
            <a:noFill/>
          </a:ln>
        </p:spPr>
      </p:pic>
      <p:grpSp>
        <p:nvGrpSpPr>
          <p:cNvPr id="301" name=""/>
          <p:cNvGrpSpPr/>
          <p:nvPr/>
        </p:nvGrpSpPr>
        <p:grpSpPr>
          <a:xfrm>
            <a:off x="743400" y="1130400"/>
            <a:ext cx="2685600" cy="5194080"/>
            <a:chOff x="743400" y="1130400"/>
            <a:chExt cx="2685600" cy="5194080"/>
          </a:xfrm>
        </p:grpSpPr>
        <p:sp>
          <p:nvSpPr>
            <p:cNvPr id="302" name=""/>
            <p:cNvSpPr/>
            <p:nvPr/>
          </p:nvSpPr>
          <p:spPr>
            <a:xfrm>
              <a:off x="743400" y="1219320"/>
              <a:ext cx="2042280" cy="49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Barrera (PreTectum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Presa (Tectum)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Integrador (MHM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Orientador (MHM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Tact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39880" y="2476440"/>
              <a:ext cx="163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78040" y="3860640"/>
              <a:ext cx="163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765440" y="5232240"/>
              <a:ext cx="163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790640" y="6324480"/>
              <a:ext cx="163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765440" y="1130400"/>
              <a:ext cx="163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2568600" y="174600"/>
            <a:ext cx="39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ados de la Simulació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1778040"/>
            <a:ext cx="2906640" cy="2994120"/>
          </a:xfrm>
          <a:prstGeom prst="rect">
            <a:avLst/>
          </a:prstGeom>
          <a:ln w="0">
            <a:noFill/>
          </a:ln>
        </p:spPr>
      </p:pic>
      <p:grpSp>
        <p:nvGrpSpPr>
          <p:cNvPr id="310" name=""/>
          <p:cNvGrpSpPr/>
          <p:nvPr/>
        </p:nvGrpSpPr>
        <p:grpSpPr>
          <a:xfrm>
            <a:off x="3052800" y="1798560"/>
            <a:ext cx="3038400" cy="2992680"/>
            <a:chOff x="3052800" y="1798560"/>
            <a:chExt cx="3038400" cy="2992680"/>
          </a:xfrm>
        </p:grpSpPr>
        <p:pic>
          <p:nvPicPr>
            <p:cNvPr id="311" name="" descr=""/>
            <p:cNvPicPr/>
            <p:nvPr/>
          </p:nvPicPr>
          <p:blipFill>
            <a:blip r:embed="rId2"/>
            <a:stretch/>
          </p:blipFill>
          <p:spPr>
            <a:xfrm>
              <a:off x="3052800" y="1798560"/>
              <a:ext cx="3038400" cy="299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3965400" y="40644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929040" y="36205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956400" y="3174480"/>
              <a:ext cx="202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879360" y="289476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159080" y="32954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100400" y="30816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132440" y="287136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541760" y="330948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343040" y="32544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238640" y="30452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383000" y="286560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617720" y="301212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1040" y="285732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721040" y="265896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508280" y="248652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124520" y="229032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6232680" y="1760400"/>
            <a:ext cx="2911320" cy="30196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556560" y="4925880"/>
            <a:ext cx="1821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rrera 10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668040" y="4951440"/>
            <a:ext cx="18219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rrera 20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te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rendiz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705000" y="4951440"/>
            <a:ext cx="18219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rrera 20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spué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rendiz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612800" y="5245200"/>
            <a:ext cx="1832040" cy="115092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520560" y="1917720"/>
            <a:ext cx="4062600" cy="27162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661400" y="165240"/>
            <a:ext cx="5173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bjetivos de la Robót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5572080" y="1536840"/>
          <a:ext cx="2590920" cy="23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72080" y="1536840"/>
                    <a:ext cx="2590920" cy="23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"/>
          <p:cNvSpPr/>
          <p:nvPr/>
        </p:nvSpPr>
        <p:spPr>
          <a:xfrm>
            <a:off x="950760" y="990720"/>
            <a:ext cx="7474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producir los resultados de las simulaciones en tiempo re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5"/>
          <a:stretch/>
        </p:blipFill>
        <p:spPr>
          <a:xfrm>
            <a:off x="5110200" y="4060800"/>
            <a:ext cx="340200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777240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lemática del Procesamiento en Tiempo Re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96880" y="1612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da módulo neuronal puede tomar minutos hasta horas de procesamient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Aft>
                <a:spcPts val="123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s modelos de comportamiento de animales, como la rana, se basan principalmente en la visión y requieren procesamiento de imágenes. Esto puede tomar aún más tiempo de procesa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Aft>
                <a:spcPts val="123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s robots autónomos móviles tienen restricciones de tiempo real y de capacidad de procesamiento. Cuanto más grande el robot mayor su cos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7340400" y="3441600"/>
            <a:ext cx="1567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Autonomous Robot 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480440" y="4540320"/>
            <a:ext cx="14094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396560" y="4591080"/>
            <a:ext cx="1556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Autonomous Robot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442800" y="1158480"/>
            <a:ext cx="492120" cy="5437080"/>
            <a:chOff x="442800" y="1158480"/>
            <a:chExt cx="492120" cy="5437080"/>
          </a:xfrm>
        </p:grpSpPr>
        <p:sp>
          <p:nvSpPr>
            <p:cNvPr id="345" name=""/>
            <p:cNvSpPr/>
            <p:nvPr/>
          </p:nvSpPr>
          <p:spPr>
            <a:xfrm rot="16200000">
              <a:off x="-2029320" y="3630960"/>
              <a:ext cx="5437080" cy="492120"/>
            </a:xfrm>
            <a:custGeom>
              <a:avLst/>
              <a:gdLst/>
              <a:ahLst/>
              <a:rect l="l" t="t" r="r" b="b"/>
              <a:pathLst>
                <a:path w="3939" h="414">
                  <a:moveTo>
                    <a:pt x="0" y="206"/>
                  </a:moveTo>
                  <a:lnTo>
                    <a:pt x="788" y="414"/>
                  </a:lnTo>
                  <a:lnTo>
                    <a:pt x="788" y="311"/>
                  </a:lnTo>
                  <a:lnTo>
                    <a:pt x="3151" y="311"/>
                  </a:lnTo>
                  <a:lnTo>
                    <a:pt x="3151" y="414"/>
                  </a:lnTo>
                  <a:lnTo>
                    <a:pt x="3939" y="206"/>
                  </a:lnTo>
                  <a:lnTo>
                    <a:pt x="3151" y="0"/>
                  </a:lnTo>
                  <a:lnTo>
                    <a:pt x="3151" y="103"/>
                  </a:lnTo>
                  <a:lnTo>
                    <a:pt x="788" y="103"/>
                  </a:lnTo>
                  <a:lnTo>
                    <a:pt x="788" y="0"/>
                  </a:lnTo>
                  <a:lnTo>
                    <a:pt x="0" y="206"/>
                  </a:lnTo>
                  <a:close/>
                </a:path>
              </a:pathLst>
            </a:custGeom>
            <a:solidFill>
              <a:srgbClr val="ff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rot="16200000">
              <a:off x="318240" y="3563280"/>
              <a:ext cx="785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ahoma"/>
                </a:rPr>
                <a:t>Internet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6394320" y="5816520"/>
            <a:ext cx="8398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220080" y="1814400"/>
            <a:ext cx="64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Tahoma"/>
              </a:rPr>
              <a:t>Wire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85480" y="3713040"/>
            <a:ext cx="485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ahoma"/>
              </a:rPr>
              <a:t>Inter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1903320" y="3411360"/>
            <a:ext cx="884160" cy="930240"/>
            <a:chOff x="1903320" y="3411360"/>
            <a:chExt cx="884160" cy="930240"/>
          </a:xfrm>
        </p:grpSpPr>
        <p:sp>
          <p:nvSpPr>
            <p:cNvPr id="351" name=""/>
            <p:cNvSpPr/>
            <p:nvPr/>
          </p:nvSpPr>
          <p:spPr>
            <a:xfrm>
              <a:off x="1903320" y="3411360"/>
              <a:ext cx="884160" cy="930240"/>
            </a:xfrm>
            <a:custGeom>
              <a:avLst/>
              <a:gdLst/>
              <a:ahLst/>
              <a:rect l="l" t="t" r="r" b="b"/>
              <a:pathLst>
                <a:path w="557" h="586">
                  <a:moveTo>
                    <a:pt x="279" y="0"/>
                  </a:moveTo>
                  <a:lnTo>
                    <a:pt x="223" y="1"/>
                  </a:lnTo>
                  <a:lnTo>
                    <a:pt x="196" y="3"/>
                  </a:lnTo>
                  <a:lnTo>
                    <a:pt x="170" y="6"/>
                  </a:lnTo>
                  <a:lnTo>
                    <a:pt x="146" y="9"/>
                  </a:lnTo>
                  <a:lnTo>
                    <a:pt x="123" y="12"/>
                  </a:lnTo>
                  <a:lnTo>
                    <a:pt x="102" y="17"/>
                  </a:lnTo>
                  <a:lnTo>
                    <a:pt x="82" y="21"/>
                  </a:lnTo>
                  <a:lnTo>
                    <a:pt x="64" y="27"/>
                  </a:lnTo>
                  <a:lnTo>
                    <a:pt x="48" y="33"/>
                  </a:lnTo>
                  <a:lnTo>
                    <a:pt x="34" y="38"/>
                  </a:lnTo>
                  <a:lnTo>
                    <a:pt x="23" y="45"/>
                  </a:lnTo>
                  <a:lnTo>
                    <a:pt x="13" y="52"/>
                  </a:lnTo>
                  <a:lnTo>
                    <a:pt x="6" y="58"/>
                  </a:lnTo>
                  <a:lnTo>
                    <a:pt x="2" y="65"/>
                  </a:lnTo>
                  <a:lnTo>
                    <a:pt x="0" y="73"/>
                  </a:lnTo>
                  <a:lnTo>
                    <a:pt x="0" y="513"/>
                  </a:lnTo>
                  <a:lnTo>
                    <a:pt x="2" y="521"/>
                  </a:lnTo>
                  <a:lnTo>
                    <a:pt x="6" y="528"/>
                  </a:lnTo>
                  <a:lnTo>
                    <a:pt x="13" y="535"/>
                  </a:lnTo>
                  <a:lnTo>
                    <a:pt x="23" y="541"/>
                  </a:lnTo>
                  <a:lnTo>
                    <a:pt x="34" y="548"/>
                  </a:lnTo>
                  <a:lnTo>
                    <a:pt x="48" y="554"/>
                  </a:lnTo>
                  <a:lnTo>
                    <a:pt x="64" y="559"/>
                  </a:lnTo>
                  <a:lnTo>
                    <a:pt x="82" y="565"/>
                  </a:lnTo>
                  <a:lnTo>
                    <a:pt x="102" y="569"/>
                  </a:lnTo>
                  <a:lnTo>
                    <a:pt x="123" y="574"/>
                  </a:lnTo>
                  <a:lnTo>
                    <a:pt x="146" y="577"/>
                  </a:lnTo>
                  <a:lnTo>
                    <a:pt x="170" y="581"/>
                  </a:lnTo>
                  <a:lnTo>
                    <a:pt x="196" y="583"/>
                  </a:lnTo>
                  <a:lnTo>
                    <a:pt x="223" y="585"/>
                  </a:lnTo>
                  <a:lnTo>
                    <a:pt x="279" y="586"/>
                  </a:lnTo>
                  <a:lnTo>
                    <a:pt x="335" y="585"/>
                  </a:lnTo>
                  <a:lnTo>
                    <a:pt x="362" y="583"/>
                  </a:lnTo>
                  <a:lnTo>
                    <a:pt x="388" y="581"/>
                  </a:lnTo>
                  <a:lnTo>
                    <a:pt x="411" y="577"/>
                  </a:lnTo>
                  <a:lnTo>
                    <a:pt x="435" y="574"/>
                  </a:lnTo>
                  <a:lnTo>
                    <a:pt x="456" y="569"/>
                  </a:lnTo>
                  <a:lnTo>
                    <a:pt x="475" y="565"/>
                  </a:lnTo>
                  <a:lnTo>
                    <a:pt x="493" y="559"/>
                  </a:lnTo>
                  <a:lnTo>
                    <a:pt x="510" y="554"/>
                  </a:lnTo>
                  <a:lnTo>
                    <a:pt x="524" y="548"/>
                  </a:lnTo>
                  <a:lnTo>
                    <a:pt x="536" y="541"/>
                  </a:lnTo>
                  <a:lnTo>
                    <a:pt x="545" y="535"/>
                  </a:lnTo>
                  <a:lnTo>
                    <a:pt x="552" y="528"/>
                  </a:lnTo>
                  <a:lnTo>
                    <a:pt x="556" y="521"/>
                  </a:lnTo>
                  <a:lnTo>
                    <a:pt x="557" y="513"/>
                  </a:lnTo>
                  <a:lnTo>
                    <a:pt x="557" y="73"/>
                  </a:lnTo>
                  <a:lnTo>
                    <a:pt x="556" y="65"/>
                  </a:lnTo>
                  <a:lnTo>
                    <a:pt x="552" y="58"/>
                  </a:lnTo>
                  <a:lnTo>
                    <a:pt x="545" y="52"/>
                  </a:lnTo>
                  <a:lnTo>
                    <a:pt x="536" y="45"/>
                  </a:lnTo>
                  <a:lnTo>
                    <a:pt x="524" y="38"/>
                  </a:lnTo>
                  <a:lnTo>
                    <a:pt x="510" y="33"/>
                  </a:lnTo>
                  <a:lnTo>
                    <a:pt x="493" y="27"/>
                  </a:lnTo>
                  <a:lnTo>
                    <a:pt x="475" y="21"/>
                  </a:lnTo>
                  <a:lnTo>
                    <a:pt x="456" y="17"/>
                  </a:lnTo>
                  <a:lnTo>
                    <a:pt x="435" y="12"/>
                  </a:lnTo>
                  <a:lnTo>
                    <a:pt x="411" y="9"/>
                  </a:lnTo>
                  <a:lnTo>
                    <a:pt x="388" y="6"/>
                  </a:lnTo>
                  <a:lnTo>
                    <a:pt x="362" y="3"/>
                  </a:lnTo>
                  <a:lnTo>
                    <a:pt x="335" y="1"/>
                  </a:lnTo>
                  <a:lnTo>
                    <a:pt x="279" y="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903320" y="3527280"/>
              <a:ext cx="884160" cy="115920"/>
            </a:xfrm>
            <a:custGeom>
              <a:avLst/>
              <a:gdLst/>
              <a:ahLst/>
              <a:rect l="l" t="t" r="r" b="b"/>
              <a:pathLst>
                <a:path w="557" h="73">
                  <a:moveTo>
                    <a:pt x="0" y="0"/>
                  </a:moveTo>
                  <a:lnTo>
                    <a:pt x="2" y="8"/>
                  </a:lnTo>
                  <a:lnTo>
                    <a:pt x="6" y="15"/>
                  </a:lnTo>
                  <a:lnTo>
                    <a:pt x="13" y="21"/>
                  </a:lnTo>
                  <a:lnTo>
                    <a:pt x="23" y="28"/>
                  </a:lnTo>
                  <a:lnTo>
                    <a:pt x="34" y="35"/>
                  </a:lnTo>
                  <a:lnTo>
                    <a:pt x="48" y="41"/>
                  </a:lnTo>
                  <a:lnTo>
                    <a:pt x="64" y="46"/>
                  </a:lnTo>
                  <a:lnTo>
                    <a:pt x="82" y="52"/>
                  </a:lnTo>
                  <a:lnTo>
                    <a:pt x="102" y="56"/>
                  </a:lnTo>
                  <a:lnTo>
                    <a:pt x="123" y="61"/>
                  </a:lnTo>
                  <a:lnTo>
                    <a:pt x="146" y="64"/>
                  </a:lnTo>
                  <a:lnTo>
                    <a:pt x="170" y="67"/>
                  </a:lnTo>
                  <a:lnTo>
                    <a:pt x="196" y="70"/>
                  </a:lnTo>
                  <a:lnTo>
                    <a:pt x="223" y="72"/>
                  </a:lnTo>
                  <a:lnTo>
                    <a:pt x="279" y="73"/>
                  </a:lnTo>
                  <a:lnTo>
                    <a:pt x="335" y="72"/>
                  </a:lnTo>
                  <a:lnTo>
                    <a:pt x="362" y="70"/>
                  </a:lnTo>
                  <a:lnTo>
                    <a:pt x="388" y="67"/>
                  </a:lnTo>
                  <a:lnTo>
                    <a:pt x="411" y="64"/>
                  </a:lnTo>
                  <a:lnTo>
                    <a:pt x="435" y="61"/>
                  </a:lnTo>
                  <a:lnTo>
                    <a:pt x="456" y="56"/>
                  </a:lnTo>
                  <a:lnTo>
                    <a:pt x="475" y="52"/>
                  </a:lnTo>
                  <a:lnTo>
                    <a:pt x="493" y="46"/>
                  </a:lnTo>
                  <a:lnTo>
                    <a:pt x="510" y="41"/>
                  </a:lnTo>
                  <a:lnTo>
                    <a:pt x="524" y="35"/>
                  </a:lnTo>
                  <a:lnTo>
                    <a:pt x="536" y="28"/>
                  </a:lnTo>
                  <a:lnTo>
                    <a:pt x="545" y="21"/>
                  </a:lnTo>
                  <a:lnTo>
                    <a:pt x="552" y="15"/>
                  </a:lnTo>
                  <a:lnTo>
                    <a:pt x="556" y="8"/>
                  </a:lnTo>
                  <a:lnTo>
                    <a:pt x="557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7340760" y="2070000"/>
            <a:ext cx="1536480" cy="132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378560" y="4826160"/>
            <a:ext cx="1536840" cy="1320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152960" y="2082960"/>
            <a:ext cx="1536480" cy="1320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48520" y="2540160"/>
            <a:ext cx="660240" cy="457200"/>
          </a:xfrm>
          <a:prstGeom prst="leftRightArrow">
            <a:avLst>
              <a:gd name="adj1" fmla="val 50000"/>
              <a:gd name="adj2" fmla="val 2874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197760" y="5207040"/>
            <a:ext cx="660240" cy="457200"/>
          </a:xfrm>
          <a:prstGeom prst="leftRightArrow">
            <a:avLst>
              <a:gd name="adj1" fmla="val 50000"/>
              <a:gd name="adj2" fmla="val 2874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rot="5400000">
            <a:off x="6564240" y="384768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rot="5400000">
            <a:off x="8024760" y="387324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152960" y="4800600"/>
            <a:ext cx="1536480" cy="132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rot="5400000">
            <a:off x="4760640" y="387324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291200" y="2224080"/>
            <a:ext cx="12916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Image/Neur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omputation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485960" y="3062160"/>
            <a:ext cx="910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Instanci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442400" y="5754600"/>
            <a:ext cx="943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Instancia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278600" y="4929120"/>
            <a:ext cx="12916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Image/Neur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omputation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781360" y="3924360"/>
            <a:ext cx="1371600" cy="1587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2781360" y="2641680"/>
            <a:ext cx="1396800" cy="1257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51040" y="3860640"/>
            <a:ext cx="1054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7370640" y="2203560"/>
            <a:ext cx="1471680" cy="110304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7408800" y="4921200"/>
            <a:ext cx="1471680" cy="110340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1875600" y="231840"/>
            <a:ext cx="5275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quitectura Robótica Distribu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72" name=""/>
          <p:cNvCxnSpPr>
            <a:stCxn id="373" idx="1"/>
            <a:endCxn id="374" idx="3"/>
          </p:cNvCxnSpPr>
          <p:nvPr/>
        </p:nvCxnSpPr>
        <p:spPr>
          <a:xfrm rot="5400000">
            <a:off x="901800" y="3575520"/>
            <a:ext cx="578520" cy="2520"/>
          </a:xfrm>
          <a:prstGeom prst="bentConnector3">
            <a:avLst>
              <a:gd name="adj1" fmla="val 50000"/>
            </a:avLst>
          </a:prstGeom>
          <a:ln w="190440">
            <a:solidFill>
              <a:srgbClr val="b2b2b2"/>
            </a:solidFill>
            <a:miter/>
          </a:ln>
        </p:spPr>
      </p:cxnSp>
      <p:cxnSp>
        <p:nvCxnSpPr>
          <p:cNvPr id="375" name=""/>
          <p:cNvCxnSpPr>
            <a:stCxn id="376" idx="0"/>
            <a:endCxn id="374" idx="2"/>
          </p:cNvCxnSpPr>
          <p:nvPr/>
        </p:nvCxnSpPr>
        <p:spPr>
          <a:xfrm flipV="1" rot="10800000">
            <a:off x="1491480" y="4138200"/>
            <a:ext cx="411840" cy="7200"/>
          </a:xfrm>
          <a:prstGeom prst="bentConnector3">
            <a:avLst>
              <a:gd name="adj1" fmla="val 49781"/>
            </a:avLst>
          </a:prstGeom>
          <a:ln w="190440">
            <a:solidFill>
              <a:srgbClr val="b2b2b2"/>
            </a:solidFill>
            <a:miter/>
          </a:ln>
        </p:spPr>
      </p:cxnSp>
      <p:cxnSp>
        <p:nvCxnSpPr>
          <p:cNvPr id="377" name=""/>
          <p:cNvCxnSpPr>
            <a:stCxn id="378" idx="0"/>
            <a:endCxn id="379" idx="2"/>
          </p:cNvCxnSpPr>
          <p:nvPr/>
        </p:nvCxnSpPr>
        <p:spPr>
          <a:xfrm flipV="1">
            <a:off x="6433920" y="4235040"/>
            <a:ext cx="1080" cy="546480"/>
          </a:xfrm>
          <a:prstGeom prst="bentConnector2">
            <a:avLst/>
          </a:prstGeom>
          <a:ln w="190440">
            <a:solidFill>
              <a:srgbClr val="b2b2b2"/>
            </a:solidFill>
            <a:miter/>
          </a:ln>
        </p:spPr>
      </p:cxnSp>
      <p:cxnSp>
        <p:nvCxnSpPr>
          <p:cNvPr id="380" name=""/>
          <p:cNvCxnSpPr>
            <a:stCxn id="381" idx="2"/>
            <a:endCxn id="379" idx="0"/>
          </p:cNvCxnSpPr>
          <p:nvPr/>
        </p:nvCxnSpPr>
        <p:spPr>
          <a:xfrm flipV="1" rot="10800000">
            <a:off x="6433560" y="2733480"/>
            <a:ext cx="1080" cy="349920"/>
          </a:xfrm>
          <a:prstGeom prst="bentConnector2">
            <a:avLst/>
          </a:prstGeom>
          <a:ln w="190440">
            <a:solidFill>
              <a:srgbClr val="b2b2b2"/>
            </a:solidFill>
            <a:miter/>
          </a:ln>
        </p:spPr>
      </p:cxnSp>
      <p:cxnSp>
        <p:nvCxnSpPr>
          <p:cNvPr id="382" name=""/>
          <p:cNvCxnSpPr>
            <a:stCxn id="383" idx="2"/>
            <a:endCxn id="379" idx="1"/>
          </p:cNvCxnSpPr>
          <p:nvPr/>
        </p:nvCxnSpPr>
        <p:spPr>
          <a:xfrm flipV="1">
            <a:off x="5729040" y="3658320"/>
            <a:ext cx="254520" cy="2520"/>
          </a:xfrm>
          <a:prstGeom prst="bentConnector3">
            <a:avLst>
              <a:gd name="adj1" fmla="val 50000"/>
            </a:avLst>
          </a:prstGeom>
          <a:ln w="190440">
            <a:solidFill>
              <a:srgbClr val="b2b2b2"/>
            </a:solidFill>
            <a:miter/>
          </a:ln>
        </p:spPr>
      </p:cxnSp>
      <p:cxnSp>
        <p:nvCxnSpPr>
          <p:cNvPr id="384" name=""/>
          <p:cNvCxnSpPr>
            <a:stCxn id="379" idx="3"/>
            <a:endCxn id="385" idx="1"/>
          </p:cNvCxnSpPr>
          <p:nvPr/>
        </p:nvCxnSpPr>
        <p:spPr>
          <a:xfrm>
            <a:off x="6885000" y="3658680"/>
            <a:ext cx="234000" cy="1080"/>
          </a:xfrm>
          <a:prstGeom prst="bentConnector2">
            <a:avLst/>
          </a:prstGeom>
          <a:ln w="190440">
            <a:solidFill>
              <a:srgbClr val="b2b2b2"/>
            </a:solidFill>
            <a:miter/>
          </a:ln>
        </p:spPr>
      </p:cxnSp>
      <p:sp>
        <p:nvSpPr>
          <p:cNvPr id="386" name=""/>
          <p:cNvSpPr/>
          <p:nvPr/>
        </p:nvSpPr>
        <p:spPr>
          <a:xfrm>
            <a:off x="4403880" y="2857680"/>
            <a:ext cx="3841560" cy="24858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554880" y="5630760"/>
            <a:ext cx="609480" cy="68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o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657760" y="5630760"/>
            <a:ext cx="609840" cy="68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o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129360" y="2048040"/>
            <a:ext cx="609480" cy="68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er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118640" y="1173240"/>
            <a:ext cx="68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ám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5412960" y="1258200"/>
            <a:ext cx="774360" cy="466200"/>
            <a:chOff x="5412960" y="1258200"/>
            <a:chExt cx="774360" cy="466200"/>
          </a:xfrm>
        </p:grpSpPr>
        <p:sp>
          <p:nvSpPr>
            <p:cNvPr id="391" name=""/>
            <p:cNvSpPr/>
            <p:nvPr/>
          </p:nvSpPr>
          <p:spPr>
            <a:xfrm rot="7505400">
              <a:off x="5613480" y="1182600"/>
              <a:ext cx="96120" cy="540360"/>
            </a:xfrm>
            <a:prstGeom prst="lightningBol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 flipV="1" rot="7505400">
              <a:off x="5890680" y="1258920"/>
              <a:ext cx="95760" cy="540720"/>
            </a:xfrm>
            <a:prstGeom prst="lightningBol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3796920" y="3286080"/>
            <a:ext cx="738000" cy="532440"/>
            <a:chOff x="3796920" y="3286080"/>
            <a:chExt cx="738000" cy="532440"/>
          </a:xfrm>
        </p:grpSpPr>
        <p:sp>
          <p:nvSpPr>
            <p:cNvPr id="394" name=""/>
            <p:cNvSpPr/>
            <p:nvPr/>
          </p:nvSpPr>
          <p:spPr>
            <a:xfrm rot="18661800">
              <a:off x="4251240" y="3334680"/>
              <a:ext cx="96120" cy="540000"/>
            </a:xfrm>
            <a:prstGeom prst="lightningBol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 flipV="1" rot="18661800">
              <a:off x="3983760" y="3228480"/>
              <a:ext cx="95760" cy="540360"/>
            </a:xfrm>
            <a:prstGeom prst="lightningBol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96" name=""/>
          <p:cNvCxnSpPr>
            <a:stCxn id="378" idx="2"/>
            <a:endCxn id="388" idx="0"/>
          </p:cNvCxnSpPr>
          <p:nvPr/>
        </p:nvCxnSpPr>
        <p:spPr>
          <a:xfrm rot="5400000">
            <a:off x="6001200" y="5198040"/>
            <a:ext cx="394200" cy="4723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7" name=""/>
          <p:cNvCxnSpPr>
            <a:stCxn id="378" idx="2"/>
            <a:endCxn id="387" idx="0"/>
          </p:cNvCxnSpPr>
          <p:nvPr/>
        </p:nvCxnSpPr>
        <p:spPr>
          <a:xfrm flipH="1" rot="16200000">
            <a:off x="6449040" y="5221080"/>
            <a:ext cx="394200" cy="425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79" name=""/>
          <p:cNvSpPr/>
          <p:nvPr/>
        </p:nvSpPr>
        <p:spPr>
          <a:xfrm>
            <a:off x="5983200" y="3083040"/>
            <a:ext cx="901800" cy="1152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OP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rot="16200000">
            <a:off x="4829040" y="3093480"/>
            <a:ext cx="671400" cy="1128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Transce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29400" y="4781520"/>
            <a:ext cx="1407960" cy="455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tapa de pote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210280" y="5611680"/>
            <a:ext cx="299880" cy="722520"/>
          </a:xfrm>
          <a:custGeom>
            <a:avLst/>
            <a:gdLst>
              <a:gd name="textAreaLeft" fmla="*/ 43920 w 299880"/>
              <a:gd name="textAreaRight" fmla="*/ 255960 w 299880"/>
              <a:gd name="textAreaTop" fmla="*/ 43920 h 722520"/>
              <a:gd name="textAreaBottom" fmla="*/ 678600 h 722520"/>
            </a:gdLst>
            <a:ahLst/>
            <a:rect l="textAreaLeft" t="textAreaTop" r="textAreaRight" b="textAreaBottom"/>
            <a:pathLst>
              <a:path w="21600" h="52006">
                <a:moveTo>
                  <a:pt x="10800" y="0"/>
                </a:moveTo>
                <a:arcTo wR="10800" hR="10800" stAng="16200000" swAng="-5400000"/>
                <a:lnTo>
                  <a:pt x="0" y="41206"/>
                </a:lnTo>
                <a:arcTo wR="10800" hR="10800" stAng="10800000" swAng="-5400000"/>
                <a:lnTo>
                  <a:pt x="10800" y="5200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323120" y="5611680"/>
            <a:ext cx="299880" cy="722520"/>
          </a:xfrm>
          <a:custGeom>
            <a:avLst/>
            <a:gdLst>
              <a:gd name="textAreaLeft" fmla="*/ 43920 w 299880"/>
              <a:gd name="textAreaRight" fmla="*/ 255960 w 299880"/>
              <a:gd name="textAreaTop" fmla="*/ 43920 h 722520"/>
              <a:gd name="textAreaBottom" fmla="*/ 678600 h 722520"/>
            </a:gdLst>
            <a:ahLst/>
            <a:rect l="textAreaLeft" t="textAreaTop" r="textAreaRight" b="textAreaBottom"/>
            <a:pathLst>
              <a:path w="21600" h="52006">
                <a:moveTo>
                  <a:pt x="10800" y="0"/>
                </a:moveTo>
                <a:arcTo wR="10800" hR="10800" stAng="16200000" swAng="-5400000"/>
                <a:lnTo>
                  <a:pt x="0" y="41206"/>
                </a:lnTo>
                <a:arcTo wR="10800" hR="10800" stAng="10800000" swAng="-5400000"/>
                <a:lnTo>
                  <a:pt x="10800" y="5200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8" idx="3"/>
            <a:endCxn id="388" idx="1"/>
          </p:cNvCxnSpPr>
          <p:nvPr/>
        </p:nvCxnSpPr>
        <p:spPr>
          <a:xfrm>
            <a:off x="5510160" y="5973480"/>
            <a:ext cx="1483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01" name=""/>
          <p:cNvCxnSpPr>
            <a:stCxn id="387" idx="3"/>
            <a:endCxn id="399" idx="1"/>
          </p:cNvCxnSpPr>
          <p:nvPr/>
        </p:nvCxnSpPr>
        <p:spPr>
          <a:xfrm>
            <a:off x="7164000" y="5973480"/>
            <a:ext cx="159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02" name=""/>
          <p:cNvCxnSpPr>
            <a:stCxn id="381" idx="0"/>
          </p:cNvCxnSpPr>
          <p:nvPr/>
        </p:nvCxnSpPr>
        <p:spPr>
          <a:xfrm flipV="1" rot="16200000">
            <a:off x="6339240" y="1953000"/>
            <a:ext cx="186480" cy="3960"/>
          </a:xfrm>
          <a:prstGeom prst="bentConnector3">
            <a:avLst>
              <a:gd name="adj1" fmla="val 4951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73" name=""/>
          <p:cNvSpPr/>
          <p:nvPr/>
        </p:nvSpPr>
        <p:spPr>
          <a:xfrm rot="16200000">
            <a:off x="838800" y="2331000"/>
            <a:ext cx="706680" cy="1206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rame Grab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118280" y="3343320"/>
            <a:ext cx="1408320" cy="6318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ens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contact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1873440" y="2576160"/>
            <a:ext cx="774360" cy="465480"/>
            <a:chOff x="1873440" y="2576160"/>
            <a:chExt cx="774360" cy="465480"/>
          </a:xfrm>
        </p:grpSpPr>
        <p:sp>
          <p:nvSpPr>
            <p:cNvPr id="404" name=""/>
            <p:cNvSpPr/>
            <p:nvPr/>
          </p:nvSpPr>
          <p:spPr>
            <a:xfrm flipH="1" rot="14094600">
              <a:off x="2350800" y="2500200"/>
              <a:ext cx="95760" cy="540000"/>
            </a:xfrm>
            <a:prstGeom prst="lightningBol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 rot="14094600">
              <a:off x="2074320" y="2576880"/>
              <a:ext cx="95760" cy="540360"/>
            </a:xfrm>
            <a:prstGeom prst="lightningBol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 rot="16200000">
            <a:off x="2131920" y="3571200"/>
            <a:ext cx="671400" cy="1128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Transce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3050280" y="3768480"/>
            <a:ext cx="774360" cy="465480"/>
            <a:chOff x="3050280" y="3768480"/>
            <a:chExt cx="774360" cy="465480"/>
          </a:xfrm>
        </p:grpSpPr>
        <p:sp>
          <p:nvSpPr>
            <p:cNvPr id="407" name=""/>
            <p:cNvSpPr/>
            <p:nvPr/>
          </p:nvSpPr>
          <p:spPr>
            <a:xfrm flipH="1" rot="14094600">
              <a:off x="3527640" y="3692520"/>
              <a:ext cx="95760" cy="540000"/>
            </a:xfrm>
            <a:prstGeom prst="lightningBol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 rot="14094600">
              <a:off x="3251160" y="3769200"/>
              <a:ext cx="95760" cy="540360"/>
            </a:xfrm>
            <a:prstGeom prst="lightningBol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 rot="16200000">
            <a:off x="911160" y="3844440"/>
            <a:ext cx="561960" cy="603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87200" y="2328840"/>
            <a:ext cx="3008520" cy="28195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6491160" y="1395360"/>
            <a:ext cx="734760" cy="638280"/>
            <a:chOff x="6491160" y="1395360"/>
            <a:chExt cx="734760" cy="638280"/>
          </a:xfrm>
        </p:grpSpPr>
        <p:sp>
          <p:nvSpPr>
            <p:cNvPr id="411" name=""/>
            <p:cNvSpPr/>
            <p:nvPr/>
          </p:nvSpPr>
          <p:spPr>
            <a:xfrm>
              <a:off x="6491160" y="1395360"/>
              <a:ext cx="679320" cy="582840"/>
            </a:xfrm>
            <a:prstGeom prst="roundRect">
              <a:avLst>
                <a:gd name="adj" fmla="val 2913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838560" y="1646280"/>
              <a:ext cx="387360" cy="38736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1875600" y="231840"/>
            <a:ext cx="52754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quitectura Robótica Distribu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ta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782640" y="3235320"/>
            <a:ext cx="4572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88120" y="3284640"/>
            <a:ext cx="236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100" spc="-1" strike="noStrike">
                <a:solidFill>
                  <a:srgbClr val="000000"/>
                </a:solidFill>
                <a:latin typeface="Tahoma"/>
              </a:rPr>
              <a:t>NS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95440" y="3129120"/>
            <a:ext cx="949320" cy="5461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069920" y="3673440"/>
            <a:ext cx="1800" cy="182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297160" y="3235320"/>
            <a:ext cx="4572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04080" y="3284640"/>
            <a:ext cx="236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100" spc="-1" strike="noStrike">
                <a:solidFill>
                  <a:srgbClr val="000000"/>
                </a:solidFill>
                <a:latin typeface="Tahoma"/>
              </a:rPr>
              <a:t>NS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108160" y="3129120"/>
            <a:ext cx="949320" cy="5461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583000" y="3673440"/>
            <a:ext cx="1440" cy="182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82640" y="5168880"/>
            <a:ext cx="4572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88120" y="5218200"/>
            <a:ext cx="236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100" spc="-1" strike="noStrike">
                <a:solidFill>
                  <a:srgbClr val="000000"/>
                </a:solidFill>
                <a:latin typeface="Tahoma"/>
              </a:rPr>
              <a:t>NS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95440" y="5062680"/>
            <a:ext cx="949320" cy="5428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1069920" y="4846680"/>
            <a:ext cx="1800" cy="216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297160" y="5168880"/>
            <a:ext cx="4572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404080" y="5218200"/>
            <a:ext cx="236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100" spc="-1" strike="noStrike">
                <a:solidFill>
                  <a:srgbClr val="000000"/>
                </a:solidFill>
                <a:latin typeface="Tahoma"/>
              </a:rPr>
              <a:t>NS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108160" y="5062680"/>
            <a:ext cx="949320" cy="5428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2583000" y="4846680"/>
            <a:ext cx="1440" cy="216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82640" y="3235320"/>
            <a:ext cx="4572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888120" y="3284640"/>
            <a:ext cx="236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100" spc="-1" strike="noStrike">
                <a:solidFill>
                  <a:srgbClr val="000000"/>
                </a:solidFill>
                <a:latin typeface="Tahoma"/>
              </a:rPr>
              <a:t>NS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95440" y="3129120"/>
            <a:ext cx="949320" cy="5461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069920" y="3673440"/>
            <a:ext cx="1800" cy="182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297160" y="3235320"/>
            <a:ext cx="4572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404080" y="3284640"/>
            <a:ext cx="236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100" spc="-1" strike="noStrike">
                <a:solidFill>
                  <a:srgbClr val="000000"/>
                </a:solidFill>
                <a:latin typeface="Tahoma"/>
              </a:rPr>
              <a:t>NS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108160" y="3129120"/>
            <a:ext cx="949320" cy="5461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583000" y="3673440"/>
            <a:ext cx="1440" cy="182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82640" y="5168880"/>
            <a:ext cx="4572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888120" y="5218200"/>
            <a:ext cx="236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100" spc="-1" strike="noStrike">
                <a:solidFill>
                  <a:srgbClr val="000000"/>
                </a:solidFill>
                <a:latin typeface="Tahoma"/>
              </a:rPr>
              <a:t>NS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95440" y="5062680"/>
            <a:ext cx="949320" cy="5428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1069920" y="4846680"/>
            <a:ext cx="1800" cy="216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297160" y="5168880"/>
            <a:ext cx="4572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404080" y="5218200"/>
            <a:ext cx="236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100" spc="-1" strike="noStrike">
                <a:solidFill>
                  <a:srgbClr val="000000"/>
                </a:solidFill>
                <a:latin typeface="Tahoma"/>
              </a:rPr>
              <a:t>NS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108160" y="5062680"/>
            <a:ext cx="949320" cy="5428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2583000" y="4846680"/>
            <a:ext cx="1440" cy="216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19040" y="2908440"/>
            <a:ext cx="2819520" cy="286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82480" y="3852720"/>
            <a:ext cx="949320" cy="2923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930960" y="3906720"/>
            <a:ext cx="217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100" spc="-1" strike="noStrike">
                <a:solidFill>
                  <a:srgbClr val="000000"/>
                </a:solidFill>
                <a:latin typeface="Tahoma"/>
              </a:rPr>
              <a:t>AS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093760" y="3865680"/>
            <a:ext cx="949320" cy="2919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42600" y="3919680"/>
            <a:ext cx="217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100" spc="-1" strike="noStrike">
                <a:solidFill>
                  <a:srgbClr val="000000"/>
                </a:solidFill>
                <a:latin typeface="Tahoma"/>
              </a:rPr>
              <a:t>AS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119320" y="4564080"/>
            <a:ext cx="949320" cy="2919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442600" y="4618080"/>
            <a:ext cx="217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100" spc="-1" strike="noStrike">
                <a:solidFill>
                  <a:srgbClr val="000000"/>
                </a:solidFill>
                <a:latin typeface="Tahoma"/>
              </a:rPr>
              <a:t>AS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82480" y="4576680"/>
            <a:ext cx="949320" cy="2923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930960" y="4630680"/>
            <a:ext cx="217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100" spc="-1" strike="noStrike">
                <a:solidFill>
                  <a:srgbClr val="000000"/>
                </a:solidFill>
                <a:latin typeface="Tahoma"/>
              </a:rPr>
              <a:t>AS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079640" y="414036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590920" y="415296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092240" y="4152960"/>
            <a:ext cx="1498680" cy="39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1092240" y="4165560"/>
            <a:ext cx="1498680" cy="39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536840" y="401328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562040" y="471168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054760" y="3402000"/>
            <a:ext cx="666720" cy="4953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166720" y="3435480"/>
            <a:ext cx="485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656160" y="3100320"/>
            <a:ext cx="1047600" cy="119232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949560" y="3336840"/>
            <a:ext cx="5036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Video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Imag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752640" y="3716280"/>
            <a:ext cx="814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143560" y="3854520"/>
            <a:ext cx="549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3250800" y="3695760"/>
            <a:ext cx="406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4686120" y="363204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79360" y="2730600"/>
            <a:ext cx="6210360" cy="3213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277040" y="3619440"/>
            <a:ext cx="1663920" cy="1486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378560" y="3808440"/>
            <a:ext cx="362160" cy="113040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007480" y="3808440"/>
            <a:ext cx="806400" cy="2919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917360" y="200160"/>
            <a:ext cx="545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quitectura Robótica Distribu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ta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441560" y="3314880"/>
            <a:ext cx="1441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Autonomous Robo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588360" y="2843280"/>
            <a:ext cx="64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Tahoma"/>
              </a:rPr>
              <a:t>Wire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553080" y="4140360"/>
            <a:ext cx="660600" cy="457200"/>
          </a:xfrm>
          <a:prstGeom prst="leftRightArrow">
            <a:avLst>
              <a:gd name="adj1" fmla="val 50000"/>
              <a:gd name="adj2" fmla="val 287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892520" y="2367000"/>
            <a:ext cx="333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ahoma"/>
              </a:rPr>
              <a:t>Image/Neural Computational Syste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054760" y="4316400"/>
            <a:ext cx="666720" cy="4953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166720" y="4349880"/>
            <a:ext cx="485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Tacti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3225960" y="461016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067360" y="5141880"/>
            <a:ext cx="628560" cy="4953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154120" y="5175360"/>
            <a:ext cx="485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Motor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3238560" y="54100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8142840" y="4273560"/>
            <a:ext cx="430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tacti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8007480" y="4227480"/>
            <a:ext cx="806400" cy="2919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143560" y="4667400"/>
            <a:ext cx="42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moto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8007480" y="4621320"/>
            <a:ext cx="806400" cy="2919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rot="16200000">
            <a:off x="5734800" y="4258800"/>
            <a:ext cx="875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transce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 rot="5400000">
            <a:off x="7119000" y="4272840"/>
            <a:ext cx="875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transce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969160" y="3857760"/>
            <a:ext cx="384120" cy="103032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5702400" y="4889520"/>
            <a:ext cx="469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5727240" y="4584600"/>
            <a:ext cx="241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 flipV="1">
            <a:off x="5727600" y="363168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H="1">
            <a:off x="7746480" y="3987720"/>
            <a:ext cx="266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7733880" y="4356000"/>
            <a:ext cx="266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7733880" y="4762440"/>
            <a:ext cx="2667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6802560" y="2749680"/>
            <a:ext cx="1795320" cy="217476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Simul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035680" y="2749680"/>
            <a:ext cx="1541160" cy="96048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035680" y="3957480"/>
            <a:ext cx="1541160" cy="96048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rocesa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e vid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49200" y="3321000"/>
            <a:ext cx="1265400" cy="96048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ob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366640" y="3387600"/>
            <a:ext cx="178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Instrucciones de naveg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280920" y="4562640"/>
            <a:ext cx="83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Matriz col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215400" y="2749680"/>
            <a:ext cx="100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Instruccio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de naveg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496200" y="4278240"/>
            <a:ext cx="473040" cy="284400"/>
          </a:xfrm>
          <a:prstGeom prst="rightArrow">
            <a:avLst>
              <a:gd name="adj1" fmla="val 50000"/>
              <a:gd name="adj2" fmla="val 41582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6407280" y="3087720"/>
            <a:ext cx="473040" cy="284040"/>
          </a:xfrm>
          <a:prstGeom prst="rightArrow">
            <a:avLst>
              <a:gd name="adj1" fmla="val 50000"/>
              <a:gd name="adj2" fmla="val 41635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923200" y="4070520"/>
            <a:ext cx="50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946760" y="2378160"/>
            <a:ext cx="3774960" cy="31129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rot="621000">
            <a:off x="1608120" y="4183200"/>
            <a:ext cx="3360600" cy="712800"/>
          </a:xfrm>
          <a:custGeom>
            <a:avLst/>
            <a:gdLst/>
            <a:ahLst/>
            <a:rect l="l" t="t" r="r" b="b"/>
            <a:pathLst>
              <a:path w="1354" h="449">
                <a:moveTo>
                  <a:pt x="0" y="164"/>
                </a:moveTo>
                <a:lnTo>
                  <a:pt x="936" y="187"/>
                </a:lnTo>
                <a:lnTo>
                  <a:pt x="936" y="449"/>
                </a:lnTo>
                <a:lnTo>
                  <a:pt x="1354" y="0"/>
                </a:lnTo>
                <a:lnTo>
                  <a:pt x="0" y="164"/>
                </a:lnTo>
                <a:close/>
              </a:path>
            </a:pathLst>
          </a:custGeom>
          <a:solidFill>
            <a:srgbClr val="99ccff"/>
          </a:solidFill>
          <a:ln w="3492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 flipV="1" rot="21551400">
            <a:off x="1619640" y="2749320"/>
            <a:ext cx="3360960" cy="712800"/>
          </a:xfrm>
          <a:custGeom>
            <a:avLst/>
            <a:gdLst/>
            <a:ahLst/>
            <a:rect l="l" t="t" r="r" b="b"/>
            <a:pathLst>
              <a:path w="1354" h="449">
                <a:moveTo>
                  <a:pt x="0" y="164"/>
                </a:moveTo>
                <a:lnTo>
                  <a:pt x="936" y="187"/>
                </a:lnTo>
                <a:lnTo>
                  <a:pt x="936" y="449"/>
                </a:lnTo>
                <a:lnTo>
                  <a:pt x="1354" y="0"/>
                </a:lnTo>
                <a:lnTo>
                  <a:pt x="0" y="164"/>
                </a:lnTo>
                <a:close/>
              </a:path>
            </a:pathLst>
          </a:custGeom>
          <a:solidFill>
            <a:srgbClr val="99ccff"/>
          </a:solidFill>
          <a:ln w="3492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875600" y="231840"/>
            <a:ext cx="52754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quitectura Robótica Distribu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un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3681360" y="960480"/>
            <a:ext cx="1698840" cy="619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ntrada de vid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681360" y="2008080"/>
            <a:ext cx="1698840" cy="619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rocesa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e vid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681360" y="3056040"/>
            <a:ext cx="1698840" cy="619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Toma de deci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681360" y="4103640"/>
            <a:ext cx="1698840" cy="619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mitir instruc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e naveg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681360" y="5151600"/>
            <a:ext cx="1698840" cy="618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jecut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ovimien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6" name=""/>
          <p:cNvCxnSpPr>
            <a:stCxn id="515" idx="2"/>
            <a:endCxn id="511" idx="0"/>
          </p:cNvCxnSpPr>
          <p:nvPr/>
        </p:nvCxnSpPr>
        <p:spPr>
          <a:xfrm flipH="1" flipV="1" rot="5400000">
            <a:off x="2125440" y="3363840"/>
            <a:ext cx="4810680" cy="2520"/>
          </a:xfrm>
          <a:prstGeom prst="bentConnector5">
            <a:avLst>
              <a:gd name="adj1" fmla="val -4752"/>
              <a:gd name="adj2" fmla="val 67900000"/>
              <a:gd name="adj3" fmla="val 104752"/>
            </a:avLst>
          </a:prstGeom>
          <a:ln w="0">
            <a:noFill/>
          </a:ln>
        </p:spPr>
      </p:cxnSp>
      <p:cxnSp>
        <p:nvCxnSpPr>
          <p:cNvPr id="517" name=""/>
          <p:cNvCxnSpPr>
            <a:stCxn id="511" idx="2"/>
            <a:endCxn id="512" idx="0"/>
          </p:cNvCxnSpPr>
          <p:nvPr/>
        </p:nvCxnSpPr>
        <p:spPr>
          <a:xfrm flipV="1" rot="10800000">
            <a:off x="4529880" y="1579320"/>
            <a:ext cx="1080" cy="429120"/>
          </a:xfrm>
          <a:prstGeom prst="bentConnector2">
            <a:avLst/>
          </a:prstGeom>
          <a:ln w="0">
            <a:noFill/>
          </a:ln>
        </p:spPr>
      </p:cxnSp>
      <p:cxnSp>
        <p:nvCxnSpPr>
          <p:cNvPr id="518" name=""/>
          <p:cNvCxnSpPr>
            <a:stCxn id="512" idx="2"/>
            <a:endCxn id="513" idx="0"/>
          </p:cNvCxnSpPr>
          <p:nvPr/>
        </p:nvCxnSpPr>
        <p:spPr>
          <a:xfrm>
            <a:off x="4530240" y="2626920"/>
            <a:ext cx="1080" cy="4294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519" name=""/>
          <p:cNvCxnSpPr>
            <a:stCxn id="513" idx="2"/>
            <a:endCxn id="514" idx="0"/>
          </p:cNvCxnSpPr>
          <p:nvPr/>
        </p:nvCxnSpPr>
        <p:spPr>
          <a:xfrm flipV="1" rot="10800000">
            <a:off x="4529880" y="3674880"/>
            <a:ext cx="1080" cy="429120"/>
          </a:xfrm>
          <a:prstGeom prst="bentConnector2">
            <a:avLst/>
          </a:prstGeom>
          <a:ln w="0">
            <a:noFill/>
          </a:ln>
        </p:spPr>
      </p:cxnSp>
      <p:cxnSp>
        <p:nvCxnSpPr>
          <p:cNvPr id="520" name=""/>
          <p:cNvCxnSpPr>
            <a:stCxn id="514" idx="2"/>
            <a:endCxn id="515" idx="0"/>
          </p:cNvCxnSpPr>
          <p:nvPr/>
        </p:nvCxnSpPr>
        <p:spPr>
          <a:xfrm flipV="1" rot="10800000">
            <a:off x="4529880" y="4722480"/>
            <a:ext cx="1080" cy="429480"/>
          </a:xfrm>
          <a:prstGeom prst="bentConnector2">
            <a:avLst/>
          </a:prstGeom>
          <a:ln w="0">
            <a:noFill/>
          </a:ln>
        </p:spPr>
      </p:cxnSp>
      <p:cxnSp>
        <p:nvCxnSpPr>
          <p:cNvPr id="521" name=""/>
          <p:cNvCxnSpPr>
            <a:stCxn id="515" idx="2"/>
            <a:endCxn id="511" idx="0"/>
          </p:cNvCxnSpPr>
          <p:nvPr/>
        </p:nvCxnSpPr>
        <p:spPr>
          <a:xfrm flipH="1" flipV="1" rot="5400000">
            <a:off x="2125440" y="3363840"/>
            <a:ext cx="4810680" cy="2520"/>
          </a:xfrm>
          <a:prstGeom prst="bentConnector5">
            <a:avLst>
              <a:gd name="adj1" fmla="val -4752"/>
              <a:gd name="adj2" fmla="val 67900000"/>
              <a:gd name="adj3" fmla="val 1047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2" name=""/>
          <p:cNvCxnSpPr>
            <a:stCxn id="511" idx="2"/>
            <a:endCxn id="512" idx="0"/>
          </p:cNvCxnSpPr>
          <p:nvPr/>
        </p:nvCxnSpPr>
        <p:spPr>
          <a:xfrm flipV="1" rot="10800000">
            <a:off x="4529880" y="1579320"/>
            <a:ext cx="1080" cy="429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3" name=""/>
          <p:cNvCxnSpPr>
            <a:stCxn id="512" idx="2"/>
            <a:endCxn id="513" idx="0"/>
          </p:cNvCxnSpPr>
          <p:nvPr/>
        </p:nvCxnSpPr>
        <p:spPr>
          <a:xfrm flipV="1" rot="10800000">
            <a:off x="4529880" y="2626920"/>
            <a:ext cx="1080" cy="429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4" name=""/>
          <p:cNvCxnSpPr>
            <a:stCxn id="513" idx="2"/>
            <a:endCxn id="514" idx="0"/>
          </p:cNvCxnSpPr>
          <p:nvPr/>
        </p:nvCxnSpPr>
        <p:spPr>
          <a:xfrm flipV="1" rot="10800000">
            <a:off x="4529880" y="3674880"/>
            <a:ext cx="1080" cy="429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"/>
          <p:cNvCxnSpPr>
            <a:stCxn id="514" idx="2"/>
            <a:endCxn id="515" idx="0"/>
          </p:cNvCxnSpPr>
          <p:nvPr/>
        </p:nvCxnSpPr>
        <p:spPr>
          <a:xfrm flipV="1" rot="10800000">
            <a:off x="4529880" y="4722480"/>
            <a:ext cx="1080" cy="429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1428840" y="79200"/>
            <a:ext cx="2006640" cy="164160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5721120" y="4140360"/>
            <a:ext cx="17103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Palatino Linotype"/>
              </a:rPr>
              <a:t>(</a:t>
            </a:r>
            <a:r>
              <a:rPr b="1" i="1" lang="es-ES" sz="2600" spc="-1" strike="noStrike">
                <a:solidFill>
                  <a:srgbClr val="000000"/>
                </a:solidFill>
                <a:latin typeface="Palatino Linotype"/>
              </a:rPr>
              <a:t>d </a:t>
            </a:r>
            <a:r>
              <a:rPr b="1" lang="es-ES" sz="2600" spc="-1" strike="noStrike">
                <a:solidFill>
                  <a:srgbClr val="000000"/>
                </a:solidFill>
                <a:latin typeface="Palatino Linotype"/>
              </a:rPr>
              <a:t>, </a:t>
            </a:r>
            <a:r>
              <a:rPr b="1" lang="es-ES" sz="2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s-ES" sz="2600" spc="-1" strike="noStrike" baseline="-25000">
                <a:solidFill>
                  <a:srgbClr val="000000"/>
                </a:solidFill>
                <a:latin typeface="Palatino Linotype"/>
              </a:rPr>
              <a:t>r </a:t>
            </a:r>
            <a:r>
              <a:rPr b="1" lang="es-ES" sz="2600" spc="-1" strike="noStrike">
                <a:solidFill>
                  <a:srgbClr val="000000"/>
                </a:solidFill>
                <a:latin typeface="Palatino Linotype"/>
              </a:rPr>
              <a:t>, </a:t>
            </a:r>
            <a:r>
              <a:rPr b="1" lang="es-ES" sz="2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s-ES" sz="2600" spc="-1" strike="noStrike" baseline="-25000">
                <a:solidFill>
                  <a:srgbClr val="000000"/>
                </a:solidFill>
                <a:latin typeface="Palatino Linotype"/>
              </a:rPr>
              <a:t>c</a:t>
            </a:r>
            <a:r>
              <a:rPr b="1" lang="es-ES" sz="2600" spc="-1" strike="noStrike">
                <a:solidFill>
                  <a:srgbClr val="000000"/>
                </a:solidFill>
                <a:latin typeface="Palatino Linotype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1395360" y="5008680"/>
            <a:ext cx="2040120" cy="152388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3"/>
          <a:stretch/>
        </p:blipFill>
        <p:spPr>
          <a:xfrm>
            <a:off x="426960" y="1820880"/>
            <a:ext cx="3008520" cy="3002040"/>
          </a:xfrm>
          <a:prstGeom prst="rect">
            <a:avLst/>
          </a:prstGeom>
          <a:ln w="0">
            <a:noFill/>
          </a:ln>
        </p:spPr>
      </p:pic>
      <p:cxnSp>
        <p:nvCxnSpPr>
          <p:cNvPr id="530" name=""/>
          <p:cNvCxnSpPr>
            <a:stCxn id="526" idx="3"/>
            <a:endCxn id="511" idx="1"/>
          </p:cNvCxnSpPr>
          <p:nvPr/>
        </p:nvCxnSpPr>
        <p:spPr>
          <a:xfrm>
            <a:off x="3435120" y="900000"/>
            <a:ext cx="246600" cy="370800"/>
          </a:xfrm>
          <a:prstGeom prst="straightConnector1">
            <a:avLst/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531" name=""/>
          <p:cNvCxnSpPr>
            <a:stCxn id="512" idx="3"/>
            <a:endCxn id="532" idx="1"/>
          </p:cNvCxnSpPr>
          <p:nvPr/>
        </p:nvCxnSpPr>
        <p:spPr>
          <a:xfrm>
            <a:off x="5380200" y="2317320"/>
            <a:ext cx="737280" cy="67320"/>
          </a:xfrm>
          <a:prstGeom prst="straightConnector1">
            <a:avLst/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533" name=""/>
          <p:cNvCxnSpPr>
            <a:stCxn id="529" idx="3"/>
            <a:endCxn id="513" idx="1"/>
          </p:cNvCxnSpPr>
          <p:nvPr/>
        </p:nvCxnSpPr>
        <p:spPr>
          <a:xfrm>
            <a:off x="3435120" y="3322440"/>
            <a:ext cx="246600" cy="43560"/>
          </a:xfrm>
          <a:prstGeom prst="straightConnector1">
            <a:avLst/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534" name=""/>
          <p:cNvCxnSpPr>
            <a:stCxn id="514" idx="3"/>
            <a:endCxn id="527" idx="1"/>
          </p:cNvCxnSpPr>
          <p:nvPr/>
        </p:nvCxnSpPr>
        <p:spPr>
          <a:xfrm flipV="1">
            <a:off x="5379840" y="4384080"/>
            <a:ext cx="408600" cy="29160"/>
          </a:xfrm>
          <a:prstGeom prst="straightConnector1">
            <a:avLst/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535" name=""/>
          <p:cNvCxnSpPr>
            <a:stCxn id="515" idx="1"/>
            <a:endCxn id="528" idx="3"/>
          </p:cNvCxnSpPr>
          <p:nvPr/>
        </p:nvCxnSpPr>
        <p:spPr>
          <a:xfrm flipH="1">
            <a:off x="3434760" y="5460840"/>
            <a:ext cx="246600" cy="310320"/>
          </a:xfrm>
          <a:prstGeom prst="straightConnector1">
            <a:avLst/>
          </a:prstGeom>
          <a:ln w="28440">
            <a:solidFill>
              <a:srgbClr val="3333cc"/>
            </a:solidFill>
            <a:miter/>
          </a:ln>
        </p:spPr>
      </p:cxnSp>
      <p:pic>
        <p:nvPicPr>
          <p:cNvPr id="536" name="" descr=""/>
          <p:cNvPicPr/>
          <p:nvPr/>
        </p:nvPicPr>
        <p:blipFill>
          <a:blip r:embed="rId4"/>
          <a:stretch/>
        </p:blipFill>
        <p:spPr>
          <a:xfrm>
            <a:off x="6116760" y="1638360"/>
            <a:ext cx="2238120" cy="149220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5823000" y="193680"/>
            <a:ext cx="3108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iclo Proces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5076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sarrollo de un laboratorio virtual en Internet2 para el control en tiempo real de robots autónomos móviles inspirados en la biolog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33680" y="19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miro" descr=""/>
          <p:cNvPicPr/>
          <p:nvPr/>
        </p:nvPicPr>
        <p:blipFill>
          <a:blip r:embed="rId1"/>
          <a:stretch/>
        </p:blipFill>
        <p:spPr>
          <a:xfrm>
            <a:off x="871560" y="1398600"/>
            <a:ext cx="726912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1104840" y="1190520"/>
            <a:ext cx="7099200" cy="532476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1875600" y="0"/>
            <a:ext cx="52754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quitectura Robótica Distribu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face 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1028880" y="1311120"/>
            <a:ext cx="7061040" cy="529596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/>
          <p:nvPr/>
        </p:nvSpPr>
        <p:spPr>
          <a:xfrm>
            <a:off x="1875600" y="0"/>
            <a:ext cx="52754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quitectura Robótica Distribu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face 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1875600" y="0"/>
            <a:ext cx="52754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quitectura Robótica Distribu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id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3" name=""/>
          <p:cNvGraphicFramePr/>
          <p:nvPr/>
        </p:nvGraphicFramePr>
        <p:xfrm>
          <a:off x="2679840" y="2309760"/>
          <a:ext cx="3514680" cy="274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79840" y="2309760"/>
                    <a:ext cx="3514680" cy="27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420480"/>
            <a:ext cx="7772400" cy="5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lemática de Comunic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movilidad del robot puede crear situaciones en donde no sea posible establecer transmisión de video en tiempo re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123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 debe distinguir y procesar diferente tipos de mensajes y protocolos de comunicación de acuerdo a si es video o dat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123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 debe definir parámetros de Calidad de Servicio (QoS) que puedan ser modificados dinámicamente en relación a aspectos de tiempo real, tecnología de comunicación, protocolos de comunicación, ancho de banda, autonomía del robot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2244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ddleware Distribui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mite la interconexión modular de software distribu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strae mecanismos de bajo nivel usados para implementar servicios de administración de recurs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o Orientado a Objetos Concurr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paración de preocupaciones y reuso de servi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os de Middleware Reutilizab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vee customización dinámica de redes y sistemas, invocación/revocación/instalación dinámica de servic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jecución concurrente de múltiples políticas de administración de recurs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7442280" y="3556080"/>
            <a:ext cx="673200" cy="1473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561800" y="3565440"/>
            <a:ext cx="387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A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597560" y="2882880"/>
            <a:ext cx="1663560" cy="2908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559160" y="200160"/>
            <a:ext cx="613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quitectura Distribuida Detall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ddleware Robótico Adaptivo (AR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250600" y="2955960"/>
            <a:ext cx="387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A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0" y="1093680"/>
            <a:ext cx="288288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03280" y="3235320"/>
            <a:ext cx="4572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08760" y="3284640"/>
            <a:ext cx="236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100" spc="-1" strike="noStrike">
                <a:solidFill>
                  <a:srgbClr val="000000"/>
                </a:solidFill>
                <a:latin typeface="Tahoma"/>
              </a:rPr>
              <a:t>NS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6080" y="3129120"/>
            <a:ext cx="949320" cy="5461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90560" y="3673440"/>
            <a:ext cx="1440" cy="182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017800" y="3235320"/>
            <a:ext cx="4572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124720" y="3284640"/>
            <a:ext cx="236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100" spc="-1" strike="noStrike">
                <a:solidFill>
                  <a:srgbClr val="000000"/>
                </a:solidFill>
                <a:latin typeface="Tahoma"/>
              </a:rPr>
              <a:t>NS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828800" y="3129120"/>
            <a:ext cx="949320" cy="5461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303640" y="3673440"/>
            <a:ext cx="1440" cy="182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03280" y="5168880"/>
            <a:ext cx="4572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08760" y="5218200"/>
            <a:ext cx="236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100" spc="-1" strike="noStrike">
                <a:solidFill>
                  <a:srgbClr val="000000"/>
                </a:solidFill>
                <a:latin typeface="Tahoma"/>
              </a:rPr>
              <a:t>NS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16080" y="5062680"/>
            <a:ext cx="949320" cy="5428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790560" y="4846680"/>
            <a:ext cx="1440" cy="216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017800" y="5168880"/>
            <a:ext cx="4572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124720" y="5218200"/>
            <a:ext cx="236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100" spc="-1" strike="noStrike">
                <a:solidFill>
                  <a:srgbClr val="000000"/>
                </a:solidFill>
                <a:latin typeface="Tahoma"/>
              </a:rPr>
              <a:t>NS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828800" y="5062680"/>
            <a:ext cx="949320" cy="5428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2303640" y="4846680"/>
            <a:ext cx="1440" cy="216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03280" y="3235320"/>
            <a:ext cx="4572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08760" y="3284640"/>
            <a:ext cx="236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100" spc="-1" strike="noStrike">
                <a:solidFill>
                  <a:srgbClr val="000000"/>
                </a:solidFill>
                <a:latin typeface="Tahoma"/>
              </a:rPr>
              <a:t>NS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16080" y="3129120"/>
            <a:ext cx="949320" cy="5461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90560" y="3673440"/>
            <a:ext cx="1440" cy="182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017800" y="3235320"/>
            <a:ext cx="4572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124720" y="3284640"/>
            <a:ext cx="236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100" spc="-1" strike="noStrike">
                <a:solidFill>
                  <a:srgbClr val="000000"/>
                </a:solidFill>
                <a:latin typeface="Tahoma"/>
              </a:rPr>
              <a:t>NS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828800" y="3129120"/>
            <a:ext cx="949320" cy="5461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303640" y="3673440"/>
            <a:ext cx="1440" cy="182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03280" y="5168880"/>
            <a:ext cx="4572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08760" y="5218200"/>
            <a:ext cx="236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100" spc="-1" strike="noStrike">
                <a:solidFill>
                  <a:srgbClr val="000000"/>
                </a:solidFill>
                <a:latin typeface="Tahoma"/>
              </a:rPr>
              <a:t>NS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16080" y="5062680"/>
            <a:ext cx="949320" cy="5428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790560" y="4846680"/>
            <a:ext cx="1440" cy="216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017800" y="5168880"/>
            <a:ext cx="4572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124720" y="5218200"/>
            <a:ext cx="236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100" spc="-1" strike="noStrike">
                <a:solidFill>
                  <a:srgbClr val="000000"/>
                </a:solidFill>
                <a:latin typeface="Tahoma"/>
              </a:rPr>
              <a:t>NS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828800" y="5062680"/>
            <a:ext cx="949320" cy="5428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2303640" y="4846680"/>
            <a:ext cx="1440" cy="216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39680" y="2908440"/>
            <a:ext cx="2819520" cy="286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03120" y="3852720"/>
            <a:ext cx="949320" cy="2923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51600" y="3906720"/>
            <a:ext cx="217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100" spc="-1" strike="noStrike">
                <a:solidFill>
                  <a:srgbClr val="000000"/>
                </a:solidFill>
                <a:latin typeface="Tahoma"/>
              </a:rPr>
              <a:t>AS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814400" y="3865680"/>
            <a:ext cx="949320" cy="2919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162880" y="3919680"/>
            <a:ext cx="217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100" spc="-1" strike="noStrike">
                <a:solidFill>
                  <a:srgbClr val="000000"/>
                </a:solidFill>
                <a:latin typeface="Tahoma"/>
              </a:rPr>
              <a:t>AS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839960" y="4564080"/>
            <a:ext cx="949320" cy="2919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162880" y="4618080"/>
            <a:ext cx="217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100" spc="-1" strike="noStrike">
                <a:solidFill>
                  <a:srgbClr val="000000"/>
                </a:solidFill>
                <a:latin typeface="Tahoma"/>
              </a:rPr>
              <a:t>AS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03120" y="4576680"/>
            <a:ext cx="949320" cy="2923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51600" y="4630680"/>
            <a:ext cx="217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100" spc="-1" strike="noStrike">
                <a:solidFill>
                  <a:srgbClr val="000000"/>
                </a:solidFill>
                <a:latin typeface="Tahoma"/>
              </a:rPr>
              <a:t>AS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800280" y="414036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311560" y="415296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812880" y="4152960"/>
            <a:ext cx="1498680" cy="39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812880" y="4165560"/>
            <a:ext cx="1498680" cy="39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257480" y="401328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282680" y="471168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775040" y="3402000"/>
            <a:ext cx="667080" cy="4953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887360" y="3435480"/>
            <a:ext cx="485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376440" y="3100320"/>
            <a:ext cx="1047960" cy="119232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670200" y="3336840"/>
            <a:ext cx="5036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Video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Imag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473640" y="3716280"/>
            <a:ext cx="796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8346960" y="3854520"/>
            <a:ext cx="549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971440" y="3695760"/>
            <a:ext cx="406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4406400" y="363204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0" y="2730600"/>
            <a:ext cx="6426360" cy="3213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340760" y="3441600"/>
            <a:ext cx="1803240" cy="172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581960" y="3808440"/>
            <a:ext cx="361800" cy="113040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8210520" y="3808440"/>
            <a:ext cx="806400" cy="2919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594200" y="3238560"/>
            <a:ext cx="1441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Autonomous Robo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588360" y="2843280"/>
            <a:ext cx="64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Tahoma"/>
              </a:rPr>
              <a:t>Wire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553080" y="4140360"/>
            <a:ext cx="660600" cy="457200"/>
          </a:xfrm>
          <a:prstGeom prst="leftRightArrow">
            <a:avLst>
              <a:gd name="adj1" fmla="val 50000"/>
              <a:gd name="adj2" fmla="val 287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894320" y="2367000"/>
            <a:ext cx="3085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ahoma"/>
              </a:rPr>
              <a:t>Distributed Computational Syste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775040" y="4316400"/>
            <a:ext cx="667080" cy="4953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887360" y="4349880"/>
            <a:ext cx="485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Tacti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2946240" y="461016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788000" y="5141880"/>
            <a:ext cx="628560" cy="4953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874760" y="5175360"/>
            <a:ext cx="485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Motor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H="1">
            <a:off x="2959200" y="54100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8345880" y="4273560"/>
            <a:ext cx="430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tacti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8210520" y="4227480"/>
            <a:ext cx="806400" cy="2919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8346600" y="4667400"/>
            <a:ext cx="42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moto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8210520" y="4621320"/>
            <a:ext cx="806400" cy="2919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rot="16200000">
            <a:off x="5455080" y="4258800"/>
            <a:ext cx="875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transce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H="1" rot="5400000">
            <a:off x="7322400" y="4272840"/>
            <a:ext cx="875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transce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689440" y="3857760"/>
            <a:ext cx="384480" cy="103032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5423040" y="4889520"/>
            <a:ext cx="469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5448240" y="4584600"/>
            <a:ext cx="241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H="1" flipV="1">
            <a:off x="5448240" y="363168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H="1">
            <a:off x="7949880" y="3987720"/>
            <a:ext cx="266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H="1">
            <a:off x="7937640" y="4356000"/>
            <a:ext cx="26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7937640" y="4762440"/>
            <a:ext cx="266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1520280" y="0"/>
            <a:ext cx="624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ddleware Adaptivo del Robot (AR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tall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10500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996920" y="826920"/>
            <a:ext cx="5497560" cy="60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/>
          <p:nvPr/>
        </p:nvSpPr>
        <p:spPr>
          <a:xfrm>
            <a:off x="3225960" y="13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602080" y="0"/>
            <a:ext cx="3466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sarrollo Actu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84120" y="787320"/>
            <a:ext cx="82486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arrollo de la arquitectura inicial MIRO con integración al sistema de simulación neuronal NSL en Internet mediante control inalámbrico del robot y la cáma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rimentación con tareas de robot individuales (adquisición de presa, evasión de depredador, desví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arrollo del prototipo de middleware inicial con capacidad de monitore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arrollo del sistema distribuido del simulador neuronal (NSL Java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arrollo del middleware con capacidad de adapt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ción de nuevos robots (OOPIC &amp; PC/104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sión a tareas de múltiples robo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>
            <a:off x="3163320" y="152280"/>
            <a:ext cx="274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clus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38040" y="1190520"/>
            <a:ext cx="82486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 laboratorios robóticos en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et2 permiten a los usuarios experimentar con recursos de hardware remotos y a menudo ca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arquitectura de robots distribuidas en Internet2 requieren manejo eficiente de la comunicación y procesamiento en el apoyo a tareas de monitoreo en tiempo re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dleware adaptivo es crucial en el logro de rendimiento en real time y la administración de la red y el robot bajo condiciones que varían (baterí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RO puede ser utilizado en aplicaciones robóticas “no-biológicas” aprovechando la red de Intern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1954080" y="5730840"/>
            <a:ext cx="52419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fredo@itam.m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://www.cannes.itam.m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6" name=""/>
          <p:cNvGraphicFramePr/>
          <p:nvPr/>
        </p:nvGraphicFramePr>
        <p:xfrm>
          <a:off x="3757680" y="5052960"/>
          <a:ext cx="1693800" cy="53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57680" y="5052960"/>
                    <a:ext cx="16938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8" name=""/>
          <p:cNvSpPr/>
          <p:nvPr/>
        </p:nvSpPr>
        <p:spPr>
          <a:xfrm>
            <a:off x="1981800" y="152280"/>
            <a:ext cx="5246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Proyecto MI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Laboratorio CAN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(Comportamiento Adaptivo Neurona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Neurociencias y Simulaciones</a:t>
            </a: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9" name="" descr=""/>
          <p:cNvPicPr/>
          <p:nvPr/>
        </p:nvPicPr>
        <p:blipFill>
          <a:blip r:embed="rId3"/>
          <a:stretch/>
        </p:blipFill>
        <p:spPr>
          <a:xfrm>
            <a:off x="2209680" y="1752480"/>
            <a:ext cx="471492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2031840" y="2109960"/>
            <a:ext cx="1839960" cy="495000"/>
            <a:chOff x="2031840" y="2109960"/>
            <a:chExt cx="1839960" cy="495000"/>
          </a:xfrm>
        </p:grpSpPr>
        <p:sp>
          <p:nvSpPr>
            <p:cNvPr id="57" name=""/>
            <p:cNvSpPr/>
            <p:nvPr/>
          </p:nvSpPr>
          <p:spPr>
            <a:xfrm>
              <a:off x="2031840" y="2109960"/>
              <a:ext cx="1839960" cy="495000"/>
            </a:xfrm>
            <a:custGeom>
              <a:avLst/>
              <a:gdLst/>
              <a:ahLst/>
              <a:rect l="l" t="t" r="r" b="b"/>
              <a:pathLst>
                <a:path w="1162" h="339">
                  <a:moveTo>
                    <a:pt x="12" y="303"/>
                  </a:moveTo>
                  <a:lnTo>
                    <a:pt x="0" y="290"/>
                  </a:lnTo>
                  <a:lnTo>
                    <a:pt x="24" y="254"/>
                  </a:lnTo>
                  <a:lnTo>
                    <a:pt x="49" y="242"/>
                  </a:lnTo>
                  <a:lnTo>
                    <a:pt x="85" y="218"/>
                  </a:lnTo>
                  <a:lnTo>
                    <a:pt x="85" y="194"/>
                  </a:lnTo>
                  <a:lnTo>
                    <a:pt x="121" y="194"/>
                  </a:lnTo>
                  <a:lnTo>
                    <a:pt x="133" y="181"/>
                  </a:lnTo>
                  <a:lnTo>
                    <a:pt x="170" y="157"/>
                  </a:lnTo>
                  <a:lnTo>
                    <a:pt x="194" y="145"/>
                  </a:lnTo>
                  <a:lnTo>
                    <a:pt x="206" y="145"/>
                  </a:lnTo>
                  <a:lnTo>
                    <a:pt x="242" y="133"/>
                  </a:lnTo>
                  <a:lnTo>
                    <a:pt x="278" y="109"/>
                  </a:lnTo>
                  <a:lnTo>
                    <a:pt x="303" y="97"/>
                  </a:lnTo>
                  <a:lnTo>
                    <a:pt x="363" y="85"/>
                  </a:lnTo>
                  <a:lnTo>
                    <a:pt x="412" y="72"/>
                  </a:lnTo>
                  <a:lnTo>
                    <a:pt x="436" y="60"/>
                  </a:lnTo>
                  <a:lnTo>
                    <a:pt x="484" y="48"/>
                  </a:lnTo>
                  <a:lnTo>
                    <a:pt x="533" y="48"/>
                  </a:lnTo>
                  <a:lnTo>
                    <a:pt x="569" y="48"/>
                  </a:lnTo>
                  <a:lnTo>
                    <a:pt x="605" y="48"/>
                  </a:lnTo>
                  <a:lnTo>
                    <a:pt x="654" y="48"/>
                  </a:lnTo>
                  <a:lnTo>
                    <a:pt x="690" y="48"/>
                  </a:lnTo>
                  <a:lnTo>
                    <a:pt x="726" y="48"/>
                  </a:lnTo>
                  <a:lnTo>
                    <a:pt x="762" y="48"/>
                  </a:lnTo>
                  <a:lnTo>
                    <a:pt x="799" y="48"/>
                  </a:lnTo>
                  <a:lnTo>
                    <a:pt x="835" y="48"/>
                  </a:lnTo>
                  <a:lnTo>
                    <a:pt x="883" y="72"/>
                  </a:lnTo>
                  <a:lnTo>
                    <a:pt x="896" y="85"/>
                  </a:lnTo>
                  <a:lnTo>
                    <a:pt x="932" y="97"/>
                  </a:lnTo>
                  <a:lnTo>
                    <a:pt x="956" y="109"/>
                  </a:lnTo>
                  <a:lnTo>
                    <a:pt x="968" y="109"/>
                  </a:lnTo>
                  <a:lnTo>
                    <a:pt x="1029" y="0"/>
                  </a:lnTo>
                  <a:lnTo>
                    <a:pt x="1041" y="24"/>
                  </a:lnTo>
                  <a:lnTo>
                    <a:pt x="1041" y="48"/>
                  </a:lnTo>
                  <a:lnTo>
                    <a:pt x="1041" y="72"/>
                  </a:lnTo>
                  <a:lnTo>
                    <a:pt x="1053" y="97"/>
                  </a:lnTo>
                  <a:lnTo>
                    <a:pt x="1053" y="109"/>
                  </a:lnTo>
                  <a:lnTo>
                    <a:pt x="1065" y="145"/>
                  </a:lnTo>
                  <a:lnTo>
                    <a:pt x="1077" y="145"/>
                  </a:lnTo>
                  <a:lnTo>
                    <a:pt x="1089" y="169"/>
                  </a:lnTo>
                  <a:lnTo>
                    <a:pt x="1101" y="194"/>
                  </a:lnTo>
                  <a:lnTo>
                    <a:pt x="1113" y="218"/>
                  </a:lnTo>
                  <a:lnTo>
                    <a:pt x="1150" y="254"/>
                  </a:lnTo>
                  <a:lnTo>
                    <a:pt x="1162" y="278"/>
                  </a:lnTo>
                  <a:lnTo>
                    <a:pt x="1138" y="266"/>
                  </a:lnTo>
                  <a:lnTo>
                    <a:pt x="1113" y="266"/>
                  </a:lnTo>
                  <a:lnTo>
                    <a:pt x="1077" y="266"/>
                  </a:lnTo>
                  <a:lnTo>
                    <a:pt x="1053" y="266"/>
                  </a:lnTo>
                  <a:lnTo>
                    <a:pt x="1029" y="278"/>
                  </a:lnTo>
                  <a:lnTo>
                    <a:pt x="1017" y="278"/>
                  </a:lnTo>
                  <a:lnTo>
                    <a:pt x="992" y="278"/>
                  </a:lnTo>
                  <a:lnTo>
                    <a:pt x="968" y="290"/>
                  </a:lnTo>
                  <a:lnTo>
                    <a:pt x="944" y="303"/>
                  </a:lnTo>
                  <a:lnTo>
                    <a:pt x="932" y="303"/>
                  </a:lnTo>
                  <a:lnTo>
                    <a:pt x="896" y="315"/>
                  </a:lnTo>
                  <a:lnTo>
                    <a:pt x="871" y="339"/>
                  </a:lnTo>
                  <a:lnTo>
                    <a:pt x="859" y="303"/>
                  </a:lnTo>
                  <a:lnTo>
                    <a:pt x="908" y="218"/>
                  </a:lnTo>
                  <a:lnTo>
                    <a:pt x="896" y="206"/>
                  </a:lnTo>
                  <a:lnTo>
                    <a:pt x="859" y="194"/>
                  </a:lnTo>
                  <a:lnTo>
                    <a:pt x="823" y="194"/>
                  </a:lnTo>
                  <a:lnTo>
                    <a:pt x="775" y="169"/>
                  </a:lnTo>
                  <a:lnTo>
                    <a:pt x="750" y="157"/>
                  </a:lnTo>
                  <a:lnTo>
                    <a:pt x="714" y="157"/>
                  </a:lnTo>
                  <a:lnTo>
                    <a:pt x="678" y="145"/>
                  </a:lnTo>
                  <a:lnTo>
                    <a:pt x="641" y="145"/>
                  </a:lnTo>
                  <a:lnTo>
                    <a:pt x="593" y="145"/>
                  </a:lnTo>
                  <a:lnTo>
                    <a:pt x="569" y="145"/>
                  </a:lnTo>
                  <a:lnTo>
                    <a:pt x="533" y="145"/>
                  </a:lnTo>
                  <a:lnTo>
                    <a:pt x="484" y="145"/>
                  </a:lnTo>
                  <a:lnTo>
                    <a:pt x="460" y="145"/>
                  </a:lnTo>
                  <a:lnTo>
                    <a:pt x="424" y="145"/>
                  </a:lnTo>
                  <a:lnTo>
                    <a:pt x="375" y="157"/>
                  </a:lnTo>
                  <a:lnTo>
                    <a:pt x="339" y="157"/>
                  </a:lnTo>
                  <a:lnTo>
                    <a:pt x="303" y="169"/>
                  </a:lnTo>
                  <a:lnTo>
                    <a:pt x="254" y="181"/>
                  </a:lnTo>
                  <a:lnTo>
                    <a:pt x="218" y="194"/>
                  </a:lnTo>
                  <a:lnTo>
                    <a:pt x="182" y="206"/>
                  </a:lnTo>
                  <a:lnTo>
                    <a:pt x="145" y="206"/>
                  </a:lnTo>
                  <a:lnTo>
                    <a:pt x="121" y="230"/>
                  </a:lnTo>
                  <a:lnTo>
                    <a:pt x="97" y="242"/>
                  </a:lnTo>
                  <a:lnTo>
                    <a:pt x="85" y="254"/>
                  </a:lnTo>
                  <a:lnTo>
                    <a:pt x="73" y="254"/>
                  </a:lnTo>
                  <a:lnTo>
                    <a:pt x="12" y="303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31840" y="2109960"/>
              <a:ext cx="1820880" cy="442080"/>
            </a:xfrm>
            <a:custGeom>
              <a:avLst/>
              <a:gdLst/>
              <a:ahLst/>
              <a:rect l="l" t="t" r="r" b="b"/>
              <a:pathLst>
                <a:path w="1150" h="303">
                  <a:moveTo>
                    <a:pt x="0" y="290"/>
                  </a:moveTo>
                  <a:lnTo>
                    <a:pt x="24" y="242"/>
                  </a:lnTo>
                  <a:lnTo>
                    <a:pt x="49" y="230"/>
                  </a:lnTo>
                  <a:lnTo>
                    <a:pt x="73" y="206"/>
                  </a:lnTo>
                  <a:lnTo>
                    <a:pt x="85" y="194"/>
                  </a:lnTo>
                  <a:lnTo>
                    <a:pt x="109" y="181"/>
                  </a:lnTo>
                  <a:lnTo>
                    <a:pt x="133" y="157"/>
                  </a:lnTo>
                  <a:lnTo>
                    <a:pt x="157" y="145"/>
                  </a:lnTo>
                  <a:lnTo>
                    <a:pt x="182" y="145"/>
                  </a:lnTo>
                  <a:lnTo>
                    <a:pt x="194" y="133"/>
                  </a:lnTo>
                  <a:lnTo>
                    <a:pt x="242" y="109"/>
                  </a:lnTo>
                  <a:lnTo>
                    <a:pt x="266" y="97"/>
                  </a:lnTo>
                  <a:lnTo>
                    <a:pt x="303" y="97"/>
                  </a:lnTo>
                  <a:lnTo>
                    <a:pt x="363" y="72"/>
                  </a:lnTo>
                  <a:lnTo>
                    <a:pt x="399" y="60"/>
                  </a:lnTo>
                  <a:lnTo>
                    <a:pt x="436" y="48"/>
                  </a:lnTo>
                  <a:lnTo>
                    <a:pt x="484" y="48"/>
                  </a:lnTo>
                  <a:lnTo>
                    <a:pt x="533" y="36"/>
                  </a:lnTo>
                  <a:lnTo>
                    <a:pt x="557" y="36"/>
                  </a:lnTo>
                  <a:lnTo>
                    <a:pt x="593" y="24"/>
                  </a:lnTo>
                  <a:lnTo>
                    <a:pt x="654" y="24"/>
                  </a:lnTo>
                  <a:lnTo>
                    <a:pt x="678" y="24"/>
                  </a:lnTo>
                  <a:lnTo>
                    <a:pt x="714" y="24"/>
                  </a:lnTo>
                  <a:lnTo>
                    <a:pt x="762" y="36"/>
                  </a:lnTo>
                  <a:lnTo>
                    <a:pt x="787" y="36"/>
                  </a:lnTo>
                  <a:lnTo>
                    <a:pt x="823" y="48"/>
                  </a:lnTo>
                  <a:lnTo>
                    <a:pt x="859" y="48"/>
                  </a:lnTo>
                  <a:lnTo>
                    <a:pt x="883" y="60"/>
                  </a:lnTo>
                  <a:lnTo>
                    <a:pt x="920" y="72"/>
                  </a:lnTo>
                  <a:lnTo>
                    <a:pt x="944" y="85"/>
                  </a:lnTo>
                  <a:lnTo>
                    <a:pt x="980" y="97"/>
                  </a:lnTo>
                  <a:lnTo>
                    <a:pt x="1029" y="0"/>
                  </a:lnTo>
                  <a:lnTo>
                    <a:pt x="1029" y="24"/>
                  </a:lnTo>
                  <a:lnTo>
                    <a:pt x="1029" y="48"/>
                  </a:lnTo>
                  <a:lnTo>
                    <a:pt x="1041" y="72"/>
                  </a:lnTo>
                  <a:lnTo>
                    <a:pt x="1053" y="97"/>
                  </a:lnTo>
                  <a:lnTo>
                    <a:pt x="1053" y="109"/>
                  </a:lnTo>
                  <a:lnTo>
                    <a:pt x="1053" y="133"/>
                  </a:lnTo>
                  <a:lnTo>
                    <a:pt x="1077" y="145"/>
                  </a:lnTo>
                  <a:lnTo>
                    <a:pt x="1089" y="169"/>
                  </a:lnTo>
                  <a:lnTo>
                    <a:pt x="1101" y="194"/>
                  </a:lnTo>
                  <a:lnTo>
                    <a:pt x="1113" y="206"/>
                  </a:lnTo>
                  <a:lnTo>
                    <a:pt x="1125" y="230"/>
                  </a:lnTo>
                  <a:lnTo>
                    <a:pt x="1150" y="242"/>
                  </a:lnTo>
                  <a:lnTo>
                    <a:pt x="1113" y="242"/>
                  </a:lnTo>
                  <a:lnTo>
                    <a:pt x="1089" y="242"/>
                  </a:lnTo>
                  <a:lnTo>
                    <a:pt x="1053" y="242"/>
                  </a:lnTo>
                  <a:lnTo>
                    <a:pt x="1041" y="242"/>
                  </a:lnTo>
                  <a:lnTo>
                    <a:pt x="1017" y="254"/>
                  </a:lnTo>
                  <a:lnTo>
                    <a:pt x="992" y="254"/>
                  </a:lnTo>
                  <a:lnTo>
                    <a:pt x="980" y="254"/>
                  </a:lnTo>
                  <a:lnTo>
                    <a:pt x="944" y="254"/>
                  </a:lnTo>
                  <a:lnTo>
                    <a:pt x="932" y="266"/>
                  </a:lnTo>
                  <a:lnTo>
                    <a:pt x="908" y="278"/>
                  </a:lnTo>
                  <a:lnTo>
                    <a:pt x="883" y="290"/>
                  </a:lnTo>
                  <a:lnTo>
                    <a:pt x="859" y="303"/>
                  </a:lnTo>
                  <a:lnTo>
                    <a:pt x="920" y="194"/>
                  </a:lnTo>
                  <a:lnTo>
                    <a:pt x="883" y="194"/>
                  </a:lnTo>
                  <a:lnTo>
                    <a:pt x="847" y="169"/>
                  </a:lnTo>
                  <a:lnTo>
                    <a:pt x="811" y="157"/>
                  </a:lnTo>
                  <a:lnTo>
                    <a:pt x="762" y="145"/>
                  </a:lnTo>
                  <a:lnTo>
                    <a:pt x="738" y="145"/>
                  </a:lnTo>
                  <a:lnTo>
                    <a:pt x="702" y="145"/>
                  </a:lnTo>
                  <a:lnTo>
                    <a:pt x="666" y="133"/>
                  </a:lnTo>
                  <a:lnTo>
                    <a:pt x="629" y="133"/>
                  </a:lnTo>
                  <a:lnTo>
                    <a:pt x="593" y="121"/>
                  </a:lnTo>
                  <a:lnTo>
                    <a:pt x="557" y="121"/>
                  </a:lnTo>
                  <a:lnTo>
                    <a:pt x="520" y="121"/>
                  </a:lnTo>
                  <a:lnTo>
                    <a:pt x="484" y="121"/>
                  </a:lnTo>
                  <a:lnTo>
                    <a:pt x="448" y="133"/>
                  </a:lnTo>
                  <a:lnTo>
                    <a:pt x="412" y="133"/>
                  </a:lnTo>
                  <a:lnTo>
                    <a:pt x="363" y="145"/>
                  </a:lnTo>
                  <a:lnTo>
                    <a:pt x="327" y="145"/>
                  </a:lnTo>
                  <a:lnTo>
                    <a:pt x="291" y="145"/>
                  </a:lnTo>
                  <a:lnTo>
                    <a:pt x="254" y="169"/>
                  </a:lnTo>
                  <a:lnTo>
                    <a:pt x="206" y="181"/>
                  </a:lnTo>
                  <a:lnTo>
                    <a:pt x="170" y="194"/>
                  </a:lnTo>
                  <a:lnTo>
                    <a:pt x="133" y="194"/>
                  </a:lnTo>
                  <a:lnTo>
                    <a:pt x="109" y="206"/>
                  </a:lnTo>
                  <a:lnTo>
                    <a:pt x="85" y="218"/>
                  </a:lnTo>
                  <a:lnTo>
                    <a:pt x="73" y="230"/>
                  </a:lnTo>
                  <a:lnTo>
                    <a:pt x="61" y="254"/>
                  </a:lnTo>
                  <a:lnTo>
                    <a:pt x="0" y="29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4867200" y="2109960"/>
            <a:ext cx="1839960" cy="495000"/>
            <a:chOff x="4867200" y="2109960"/>
            <a:chExt cx="1839960" cy="495000"/>
          </a:xfrm>
        </p:grpSpPr>
        <p:sp>
          <p:nvSpPr>
            <p:cNvPr id="60" name=""/>
            <p:cNvSpPr/>
            <p:nvPr/>
          </p:nvSpPr>
          <p:spPr>
            <a:xfrm>
              <a:off x="4867200" y="2109960"/>
              <a:ext cx="1839960" cy="495000"/>
            </a:xfrm>
            <a:custGeom>
              <a:avLst/>
              <a:gdLst/>
              <a:ahLst/>
              <a:rect l="l" t="t" r="r" b="b"/>
              <a:pathLst>
                <a:path w="1162" h="339">
                  <a:moveTo>
                    <a:pt x="0" y="303"/>
                  </a:moveTo>
                  <a:lnTo>
                    <a:pt x="0" y="278"/>
                  </a:lnTo>
                  <a:lnTo>
                    <a:pt x="24" y="254"/>
                  </a:lnTo>
                  <a:lnTo>
                    <a:pt x="48" y="230"/>
                  </a:lnTo>
                  <a:lnTo>
                    <a:pt x="73" y="206"/>
                  </a:lnTo>
                  <a:lnTo>
                    <a:pt x="85" y="206"/>
                  </a:lnTo>
                  <a:lnTo>
                    <a:pt x="109" y="181"/>
                  </a:lnTo>
                  <a:lnTo>
                    <a:pt x="133" y="169"/>
                  </a:lnTo>
                  <a:lnTo>
                    <a:pt x="157" y="157"/>
                  </a:lnTo>
                  <a:lnTo>
                    <a:pt x="182" y="145"/>
                  </a:lnTo>
                  <a:lnTo>
                    <a:pt x="206" y="133"/>
                  </a:lnTo>
                  <a:lnTo>
                    <a:pt x="242" y="121"/>
                  </a:lnTo>
                  <a:lnTo>
                    <a:pt x="266" y="109"/>
                  </a:lnTo>
                  <a:lnTo>
                    <a:pt x="303" y="97"/>
                  </a:lnTo>
                  <a:lnTo>
                    <a:pt x="363" y="85"/>
                  </a:lnTo>
                  <a:lnTo>
                    <a:pt x="399" y="60"/>
                  </a:lnTo>
                  <a:lnTo>
                    <a:pt x="436" y="60"/>
                  </a:lnTo>
                  <a:lnTo>
                    <a:pt x="484" y="48"/>
                  </a:lnTo>
                  <a:lnTo>
                    <a:pt x="532" y="48"/>
                  </a:lnTo>
                  <a:lnTo>
                    <a:pt x="569" y="48"/>
                  </a:lnTo>
                  <a:lnTo>
                    <a:pt x="605" y="36"/>
                  </a:lnTo>
                  <a:lnTo>
                    <a:pt x="653" y="36"/>
                  </a:lnTo>
                  <a:lnTo>
                    <a:pt x="690" y="36"/>
                  </a:lnTo>
                  <a:lnTo>
                    <a:pt x="714" y="36"/>
                  </a:lnTo>
                  <a:lnTo>
                    <a:pt x="762" y="48"/>
                  </a:lnTo>
                  <a:lnTo>
                    <a:pt x="787" y="48"/>
                  </a:lnTo>
                  <a:lnTo>
                    <a:pt x="823" y="48"/>
                  </a:lnTo>
                  <a:lnTo>
                    <a:pt x="871" y="60"/>
                  </a:lnTo>
                  <a:lnTo>
                    <a:pt x="895" y="72"/>
                  </a:lnTo>
                  <a:lnTo>
                    <a:pt x="932" y="97"/>
                  </a:lnTo>
                  <a:lnTo>
                    <a:pt x="944" y="97"/>
                  </a:lnTo>
                  <a:lnTo>
                    <a:pt x="956" y="109"/>
                  </a:lnTo>
                  <a:lnTo>
                    <a:pt x="1016" y="0"/>
                  </a:lnTo>
                  <a:lnTo>
                    <a:pt x="1029" y="24"/>
                  </a:lnTo>
                  <a:lnTo>
                    <a:pt x="1041" y="48"/>
                  </a:lnTo>
                  <a:lnTo>
                    <a:pt x="1041" y="60"/>
                  </a:lnTo>
                  <a:lnTo>
                    <a:pt x="1053" y="85"/>
                  </a:lnTo>
                  <a:lnTo>
                    <a:pt x="1053" y="109"/>
                  </a:lnTo>
                  <a:lnTo>
                    <a:pt x="1053" y="133"/>
                  </a:lnTo>
                  <a:lnTo>
                    <a:pt x="1065" y="145"/>
                  </a:lnTo>
                  <a:lnTo>
                    <a:pt x="1077" y="169"/>
                  </a:lnTo>
                  <a:lnTo>
                    <a:pt x="1101" y="194"/>
                  </a:lnTo>
                  <a:lnTo>
                    <a:pt x="1113" y="218"/>
                  </a:lnTo>
                  <a:lnTo>
                    <a:pt x="1138" y="242"/>
                  </a:lnTo>
                  <a:lnTo>
                    <a:pt x="1162" y="266"/>
                  </a:lnTo>
                  <a:lnTo>
                    <a:pt x="1125" y="266"/>
                  </a:lnTo>
                  <a:lnTo>
                    <a:pt x="1101" y="266"/>
                  </a:lnTo>
                  <a:lnTo>
                    <a:pt x="1065" y="266"/>
                  </a:lnTo>
                  <a:lnTo>
                    <a:pt x="1053" y="266"/>
                  </a:lnTo>
                  <a:lnTo>
                    <a:pt x="1029" y="266"/>
                  </a:lnTo>
                  <a:lnTo>
                    <a:pt x="1004" y="266"/>
                  </a:lnTo>
                  <a:lnTo>
                    <a:pt x="992" y="278"/>
                  </a:lnTo>
                  <a:lnTo>
                    <a:pt x="956" y="290"/>
                  </a:lnTo>
                  <a:lnTo>
                    <a:pt x="944" y="290"/>
                  </a:lnTo>
                  <a:lnTo>
                    <a:pt x="920" y="315"/>
                  </a:lnTo>
                  <a:lnTo>
                    <a:pt x="895" y="315"/>
                  </a:lnTo>
                  <a:lnTo>
                    <a:pt x="859" y="339"/>
                  </a:lnTo>
                  <a:lnTo>
                    <a:pt x="847" y="315"/>
                  </a:lnTo>
                  <a:lnTo>
                    <a:pt x="908" y="218"/>
                  </a:lnTo>
                  <a:lnTo>
                    <a:pt x="883" y="206"/>
                  </a:lnTo>
                  <a:lnTo>
                    <a:pt x="847" y="194"/>
                  </a:lnTo>
                  <a:lnTo>
                    <a:pt x="823" y="181"/>
                  </a:lnTo>
                  <a:lnTo>
                    <a:pt x="762" y="169"/>
                  </a:lnTo>
                  <a:lnTo>
                    <a:pt x="738" y="157"/>
                  </a:lnTo>
                  <a:lnTo>
                    <a:pt x="714" y="145"/>
                  </a:lnTo>
                  <a:lnTo>
                    <a:pt x="678" y="145"/>
                  </a:lnTo>
                  <a:lnTo>
                    <a:pt x="641" y="145"/>
                  </a:lnTo>
                  <a:lnTo>
                    <a:pt x="593" y="133"/>
                  </a:lnTo>
                  <a:lnTo>
                    <a:pt x="557" y="133"/>
                  </a:lnTo>
                  <a:lnTo>
                    <a:pt x="520" y="133"/>
                  </a:lnTo>
                  <a:lnTo>
                    <a:pt x="484" y="133"/>
                  </a:lnTo>
                  <a:lnTo>
                    <a:pt x="448" y="145"/>
                  </a:lnTo>
                  <a:lnTo>
                    <a:pt x="411" y="145"/>
                  </a:lnTo>
                  <a:lnTo>
                    <a:pt x="363" y="145"/>
                  </a:lnTo>
                  <a:lnTo>
                    <a:pt x="339" y="157"/>
                  </a:lnTo>
                  <a:lnTo>
                    <a:pt x="303" y="157"/>
                  </a:lnTo>
                  <a:lnTo>
                    <a:pt x="254" y="181"/>
                  </a:lnTo>
                  <a:lnTo>
                    <a:pt x="206" y="181"/>
                  </a:lnTo>
                  <a:lnTo>
                    <a:pt x="169" y="206"/>
                  </a:lnTo>
                  <a:lnTo>
                    <a:pt x="133" y="206"/>
                  </a:lnTo>
                  <a:lnTo>
                    <a:pt x="121" y="218"/>
                  </a:lnTo>
                  <a:lnTo>
                    <a:pt x="97" y="230"/>
                  </a:lnTo>
                  <a:lnTo>
                    <a:pt x="85" y="242"/>
                  </a:lnTo>
                  <a:lnTo>
                    <a:pt x="61" y="254"/>
                  </a:lnTo>
                  <a:lnTo>
                    <a:pt x="0" y="303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867200" y="2109960"/>
              <a:ext cx="1801800" cy="442080"/>
            </a:xfrm>
            <a:custGeom>
              <a:avLst/>
              <a:gdLst/>
              <a:ahLst/>
              <a:rect l="l" t="t" r="r" b="b"/>
              <a:pathLst>
                <a:path w="1138" h="303">
                  <a:moveTo>
                    <a:pt x="0" y="278"/>
                  </a:moveTo>
                  <a:lnTo>
                    <a:pt x="24" y="242"/>
                  </a:lnTo>
                  <a:lnTo>
                    <a:pt x="36" y="218"/>
                  </a:lnTo>
                  <a:lnTo>
                    <a:pt x="61" y="206"/>
                  </a:lnTo>
                  <a:lnTo>
                    <a:pt x="85" y="194"/>
                  </a:lnTo>
                  <a:lnTo>
                    <a:pt x="97" y="169"/>
                  </a:lnTo>
                  <a:lnTo>
                    <a:pt x="133" y="157"/>
                  </a:lnTo>
                  <a:lnTo>
                    <a:pt x="145" y="145"/>
                  </a:lnTo>
                  <a:lnTo>
                    <a:pt x="182" y="133"/>
                  </a:lnTo>
                  <a:lnTo>
                    <a:pt x="194" y="121"/>
                  </a:lnTo>
                  <a:lnTo>
                    <a:pt x="230" y="109"/>
                  </a:lnTo>
                  <a:lnTo>
                    <a:pt x="254" y="97"/>
                  </a:lnTo>
                  <a:lnTo>
                    <a:pt x="303" y="85"/>
                  </a:lnTo>
                  <a:lnTo>
                    <a:pt x="351" y="60"/>
                  </a:lnTo>
                  <a:lnTo>
                    <a:pt x="387" y="48"/>
                  </a:lnTo>
                  <a:lnTo>
                    <a:pt x="424" y="48"/>
                  </a:lnTo>
                  <a:lnTo>
                    <a:pt x="484" y="36"/>
                  </a:lnTo>
                  <a:lnTo>
                    <a:pt x="520" y="36"/>
                  </a:lnTo>
                  <a:lnTo>
                    <a:pt x="557" y="24"/>
                  </a:lnTo>
                  <a:lnTo>
                    <a:pt x="593" y="24"/>
                  </a:lnTo>
                  <a:lnTo>
                    <a:pt x="641" y="12"/>
                  </a:lnTo>
                  <a:lnTo>
                    <a:pt x="678" y="12"/>
                  </a:lnTo>
                  <a:lnTo>
                    <a:pt x="714" y="12"/>
                  </a:lnTo>
                  <a:lnTo>
                    <a:pt x="750" y="24"/>
                  </a:lnTo>
                  <a:lnTo>
                    <a:pt x="787" y="24"/>
                  </a:lnTo>
                  <a:lnTo>
                    <a:pt x="823" y="36"/>
                  </a:lnTo>
                  <a:lnTo>
                    <a:pt x="859" y="48"/>
                  </a:lnTo>
                  <a:lnTo>
                    <a:pt x="883" y="48"/>
                  </a:lnTo>
                  <a:lnTo>
                    <a:pt x="920" y="72"/>
                  </a:lnTo>
                  <a:lnTo>
                    <a:pt x="944" y="85"/>
                  </a:lnTo>
                  <a:lnTo>
                    <a:pt x="968" y="97"/>
                  </a:lnTo>
                  <a:lnTo>
                    <a:pt x="1016" y="0"/>
                  </a:lnTo>
                  <a:lnTo>
                    <a:pt x="1016" y="24"/>
                  </a:lnTo>
                  <a:lnTo>
                    <a:pt x="1029" y="48"/>
                  </a:lnTo>
                  <a:lnTo>
                    <a:pt x="1029" y="60"/>
                  </a:lnTo>
                  <a:lnTo>
                    <a:pt x="1041" y="85"/>
                  </a:lnTo>
                  <a:lnTo>
                    <a:pt x="1053" y="97"/>
                  </a:lnTo>
                  <a:lnTo>
                    <a:pt x="1053" y="121"/>
                  </a:lnTo>
                  <a:lnTo>
                    <a:pt x="1065" y="145"/>
                  </a:lnTo>
                  <a:lnTo>
                    <a:pt x="1077" y="157"/>
                  </a:lnTo>
                  <a:lnTo>
                    <a:pt x="1101" y="194"/>
                  </a:lnTo>
                  <a:lnTo>
                    <a:pt x="1113" y="206"/>
                  </a:lnTo>
                  <a:lnTo>
                    <a:pt x="1125" y="218"/>
                  </a:lnTo>
                  <a:lnTo>
                    <a:pt x="1138" y="242"/>
                  </a:lnTo>
                  <a:lnTo>
                    <a:pt x="1113" y="242"/>
                  </a:lnTo>
                  <a:lnTo>
                    <a:pt x="1089" y="230"/>
                  </a:lnTo>
                  <a:lnTo>
                    <a:pt x="1053" y="242"/>
                  </a:lnTo>
                  <a:lnTo>
                    <a:pt x="1029" y="242"/>
                  </a:lnTo>
                  <a:lnTo>
                    <a:pt x="1004" y="242"/>
                  </a:lnTo>
                  <a:lnTo>
                    <a:pt x="992" y="254"/>
                  </a:lnTo>
                  <a:lnTo>
                    <a:pt x="968" y="254"/>
                  </a:lnTo>
                  <a:lnTo>
                    <a:pt x="944" y="254"/>
                  </a:lnTo>
                  <a:lnTo>
                    <a:pt x="932" y="254"/>
                  </a:lnTo>
                  <a:lnTo>
                    <a:pt x="908" y="266"/>
                  </a:lnTo>
                  <a:lnTo>
                    <a:pt x="883" y="278"/>
                  </a:lnTo>
                  <a:lnTo>
                    <a:pt x="847" y="303"/>
                  </a:lnTo>
                  <a:lnTo>
                    <a:pt x="908" y="206"/>
                  </a:lnTo>
                  <a:lnTo>
                    <a:pt x="883" y="181"/>
                  </a:lnTo>
                  <a:lnTo>
                    <a:pt x="835" y="169"/>
                  </a:lnTo>
                  <a:lnTo>
                    <a:pt x="799" y="157"/>
                  </a:lnTo>
                  <a:lnTo>
                    <a:pt x="762" y="145"/>
                  </a:lnTo>
                  <a:lnTo>
                    <a:pt x="726" y="145"/>
                  </a:lnTo>
                  <a:lnTo>
                    <a:pt x="702" y="133"/>
                  </a:lnTo>
                  <a:lnTo>
                    <a:pt x="666" y="121"/>
                  </a:lnTo>
                  <a:lnTo>
                    <a:pt x="629" y="121"/>
                  </a:lnTo>
                  <a:lnTo>
                    <a:pt x="593" y="121"/>
                  </a:lnTo>
                  <a:lnTo>
                    <a:pt x="545" y="121"/>
                  </a:lnTo>
                  <a:lnTo>
                    <a:pt x="508" y="121"/>
                  </a:lnTo>
                  <a:lnTo>
                    <a:pt x="472" y="121"/>
                  </a:lnTo>
                  <a:lnTo>
                    <a:pt x="436" y="121"/>
                  </a:lnTo>
                  <a:lnTo>
                    <a:pt x="411" y="133"/>
                  </a:lnTo>
                  <a:lnTo>
                    <a:pt x="363" y="133"/>
                  </a:lnTo>
                  <a:lnTo>
                    <a:pt x="327" y="145"/>
                  </a:lnTo>
                  <a:lnTo>
                    <a:pt x="290" y="145"/>
                  </a:lnTo>
                  <a:lnTo>
                    <a:pt x="242" y="157"/>
                  </a:lnTo>
                  <a:lnTo>
                    <a:pt x="194" y="169"/>
                  </a:lnTo>
                  <a:lnTo>
                    <a:pt x="157" y="194"/>
                  </a:lnTo>
                  <a:lnTo>
                    <a:pt x="133" y="194"/>
                  </a:lnTo>
                  <a:lnTo>
                    <a:pt x="109" y="206"/>
                  </a:lnTo>
                  <a:lnTo>
                    <a:pt x="85" y="218"/>
                  </a:lnTo>
                  <a:lnTo>
                    <a:pt x="73" y="230"/>
                  </a:lnTo>
                  <a:lnTo>
                    <a:pt x="48" y="242"/>
                  </a:lnTo>
                  <a:lnTo>
                    <a:pt x="0" y="278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867200" y="3736800"/>
            <a:ext cx="1839960" cy="476280"/>
            <a:chOff x="4867200" y="3736800"/>
            <a:chExt cx="1839960" cy="476280"/>
          </a:xfrm>
        </p:grpSpPr>
        <p:sp>
          <p:nvSpPr>
            <p:cNvPr id="63" name=""/>
            <p:cNvSpPr/>
            <p:nvPr/>
          </p:nvSpPr>
          <p:spPr>
            <a:xfrm>
              <a:off x="4867200" y="3736800"/>
              <a:ext cx="1839960" cy="476280"/>
            </a:xfrm>
            <a:custGeom>
              <a:avLst/>
              <a:gdLst/>
              <a:ahLst/>
              <a:rect l="l" t="t" r="r" b="b"/>
              <a:pathLst>
                <a:path w="1162" h="327">
                  <a:moveTo>
                    <a:pt x="1150" y="24"/>
                  </a:moveTo>
                  <a:lnTo>
                    <a:pt x="1162" y="24"/>
                  </a:lnTo>
                  <a:lnTo>
                    <a:pt x="1125" y="72"/>
                  </a:lnTo>
                  <a:lnTo>
                    <a:pt x="1113" y="84"/>
                  </a:lnTo>
                  <a:lnTo>
                    <a:pt x="1089" y="97"/>
                  </a:lnTo>
                  <a:lnTo>
                    <a:pt x="1065" y="121"/>
                  </a:lnTo>
                  <a:lnTo>
                    <a:pt x="1053" y="133"/>
                  </a:lnTo>
                  <a:lnTo>
                    <a:pt x="1029" y="145"/>
                  </a:lnTo>
                  <a:lnTo>
                    <a:pt x="992" y="157"/>
                  </a:lnTo>
                  <a:lnTo>
                    <a:pt x="980" y="181"/>
                  </a:lnTo>
                  <a:lnTo>
                    <a:pt x="944" y="181"/>
                  </a:lnTo>
                  <a:lnTo>
                    <a:pt x="920" y="193"/>
                  </a:lnTo>
                  <a:lnTo>
                    <a:pt x="883" y="206"/>
                  </a:lnTo>
                  <a:lnTo>
                    <a:pt x="847" y="230"/>
                  </a:lnTo>
                  <a:lnTo>
                    <a:pt x="799" y="242"/>
                  </a:lnTo>
                  <a:lnTo>
                    <a:pt x="762" y="254"/>
                  </a:lnTo>
                  <a:lnTo>
                    <a:pt x="714" y="266"/>
                  </a:lnTo>
                  <a:lnTo>
                    <a:pt x="666" y="278"/>
                  </a:lnTo>
                  <a:lnTo>
                    <a:pt x="641" y="278"/>
                  </a:lnTo>
                  <a:lnTo>
                    <a:pt x="593" y="278"/>
                  </a:lnTo>
                  <a:lnTo>
                    <a:pt x="545" y="290"/>
                  </a:lnTo>
                  <a:lnTo>
                    <a:pt x="508" y="290"/>
                  </a:lnTo>
                  <a:lnTo>
                    <a:pt x="472" y="290"/>
                  </a:lnTo>
                  <a:lnTo>
                    <a:pt x="436" y="290"/>
                  </a:lnTo>
                  <a:lnTo>
                    <a:pt x="399" y="278"/>
                  </a:lnTo>
                  <a:lnTo>
                    <a:pt x="363" y="278"/>
                  </a:lnTo>
                  <a:lnTo>
                    <a:pt x="327" y="278"/>
                  </a:lnTo>
                  <a:lnTo>
                    <a:pt x="290" y="266"/>
                  </a:lnTo>
                  <a:lnTo>
                    <a:pt x="254" y="254"/>
                  </a:lnTo>
                  <a:lnTo>
                    <a:pt x="230" y="230"/>
                  </a:lnTo>
                  <a:lnTo>
                    <a:pt x="206" y="230"/>
                  </a:lnTo>
                  <a:lnTo>
                    <a:pt x="194" y="230"/>
                  </a:lnTo>
                  <a:lnTo>
                    <a:pt x="133" y="327"/>
                  </a:lnTo>
                  <a:lnTo>
                    <a:pt x="133" y="314"/>
                  </a:lnTo>
                  <a:lnTo>
                    <a:pt x="133" y="278"/>
                  </a:lnTo>
                  <a:lnTo>
                    <a:pt x="121" y="266"/>
                  </a:lnTo>
                  <a:lnTo>
                    <a:pt x="121" y="242"/>
                  </a:lnTo>
                  <a:lnTo>
                    <a:pt x="109" y="230"/>
                  </a:lnTo>
                  <a:lnTo>
                    <a:pt x="97" y="206"/>
                  </a:lnTo>
                  <a:lnTo>
                    <a:pt x="85" y="181"/>
                  </a:lnTo>
                  <a:lnTo>
                    <a:pt x="85" y="169"/>
                  </a:lnTo>
                  <a:lnTo>
                    <a:pt x="61" y="145"/>
                  </a:lnTo>
                  <a:lnTo>
                    <a:pt x="36" y="121"/>
                  </a:lnTo>
                  <a:lnTo>
                    <a:pt x="24" y="97"/>
                  </a:lnTo>
                  <a:lnTo>
                    <a:pt x="0" y="72"/>
                  </a:lnTo>
                  <a:lnTo>
                    <a:pt x="24" y="72"/>
                  </a:lnTo>
                  <a:lnTo>
                    <a:pt x="48" y="72"/>
                  </a:lnTo>
                  <a:lnTo>
                    <a:pt x="85" y="72"/>
                  </a:lnTo>
                  <a:lnTo>
                    <a:pt x="109" y="72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69" y="48"/>
                  </a:lnTo>
                  <a:lnTo>
                    <a:pt x="194" y="48"/>
                  </a:lnTo>
                  <a:lnTo>
                    <a:pt x="206" y="36"/>
                  </a:lnTo>
                  <a:lnTo>
                    <a:pt x="242" y="24"/>
                  </a:lnTo>
                  <a:lnTo>
                    <a:pt x="254" y="24"/>
                  </a:lnTo>
                  <a:lnTo>
                    <a:pt x="290" y="0"/>
                  </a:lnTo>
                  <a:lnTo>
                    <a:pt x="303" y="24"/>
                  </a:lnTo>
                  <a:lnTo>
                    <a:pt x="254" y="121"/>
                  </a:lnTo>
                  <a:lnTo>
                    <a:pt x="254" y="121"/>
                  </a:lnTo>
                  <a:lnTo>
                    <a:pt x="303" y="133"/>
                  </a:lnTo>
                  <a:lnTo>
                    <a:pt x="339" y="145"/>
                  </a:lnTo>
                  <a:lnTo>
                    <a:pt x="387" y="157"/>
                  </a:lnTo>
                  <a:lnTo>
                    <a:pt x="424" y="169"/>
                  </a:lnTo>
                  <a:lnTo>
                    <a:pt x="436" y="181"/>
                  </a:lnTo>
                  <a:lnTo>
                    <a:pt x="484" y="181"/>
                  </a:lnTo>
                  <a:lnTo>
                    <a:pt x="520" y="181"/>
                  </a:lnTo>
                  <a:lnTo>
                    <a:pt x="557" y="181"/>
                  </a:lnTo>
                  <a:lnTo>
                    <a:pt x="593" y="181"/>
                  </a:lnTo>
                  <a:lnTo>
                    <a:pt x="641" y="181"/>
                  </a:lnTo>
                  <a:lnTo>
                    <a:pt x="678" y="181"/>
                  </a:lnTo>
                  <a:lnTo>
                    <a:pt x="702" y="181"/>
                  </a:lnTo>
                  <a:lnTo>
                    <a:pt x="750" y="181"/>
                  </a:lnTo>
                  <a:lnTo>
                    <a:pt x="787" y="169"/>
                  </a:lnTo>
                  <a:lnTo>
                    <a:pt x="823" y="157"/>
                  </a:lnTo>
                  <a:lnTo>
                    <a:pt x="859" y="157"/>
                  </a:lnTo>
                  <a:lnTo>
                    <a:pt x="908" y="133"/>
                  </a:lnTo>
                  <a:lnTo>
                    <a:pt x="944" y="133"/>
                  </a:lnTo>
                  <a:lnTo>
                    <a:pt x="992" y="121"/>
                  </a:lnTo>
                  <a:lnTo>
                    <a:pt x="1016" y="109"/>
                  </a:lnTo>
                  <a:lnTo>
                    <a:pt x="1041" y="97"/>
                  </a:lnTo>
                  <a:lnTo>
                    <a:pt x="1053" y="84"/>
                  </a:lnTo>
                  <a:lnTo>
                    <a:pt x="1077" y="72"/>
                  </a:lnTo>
                  <a:lnTo>
                    <a:pt x="1101" y="60"/>
                  </a:lnTo>
                  <a:lnTo>
                    <a:pt x="1150" y="24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905000" y="3771720"/>
              <a:ext cx="1801800" cy="441000"/>
            </a:xfrm>
            <a:custGeom>
              <a:avLst/>
              <a:gdLst/>
              <a:ahLst/>
              <a:rect l="l" t="t" r="r" b="b"/>
              <a:pathLst>
                <a:path w="1138" h="303">
                  <a:moveTo>
                    <a:pt x="1138" y="0"/>
                  </a:moveTo>
                  <a:lnTo>
                    <a:pt x="1101" y="48"/>
                  </a:lnTo>
                  <a:lnTo>
                    <a:pt x="1089" y="73"/>
                  </a:lnTo>
                  <a:lnTo>
                    <a:pt x="1077" y="85"/>
                  </a:lnTo>
                  <a:lnTo>
                    <a:pt x="1053" y="109"/>
                  </a:lnTo>
                  <a:lnTo>
                    <a:pt x="1029" y="109"/>
                  </a:lnTo>
                  <a:lnTo>
                    <a:pt x="1005" y="133"/>
                  </a:lnTo>
                  <a:lnTo>
                    <a:pt x="980" y="145"/>
                  </a:lnTo>
                  <a:lnTo>
                    <a:pt x="956" y="157"/>
                  </a:lnTo>
                  <a:lnTo>
                    <a:pt x="932" y="169"/>
                  </a:lnTo>
                  <a:lnTo>
                    <a:pt x="908" y="182"/>
                  </a:lnTo>
                  <a:lnTo>
                    <a:pt x="871" y="206"/>
                  </a:lnTo>
                  <a:lnTo>
                    <a:pt x="835" y="206"/>
                  </a:lnTo>
                  <a:lnTo>
                    <a:pt x="787" y="230"/>
                  </a:lnTo>
                  <a:lnTo>
                    <a:pt x="738" y="242"/>
                  </a:lnTo>
                  <a:lnTo>
                    <a:pt x="702" y="254"/>
                  </a:lnTo>
                  <a:lnTo>
                    <a:pt x="654" y="254"/>
                  </a:lnTo>
                  <a:lnTo>
                    <a:pt x="617" y="266"/>
                  </a:lnTo>
                  <a:lnTo>
                    <a:pt x="569" y="266"/>
                  </a:lnTo>
                  <a:lnTo>
                    <a:pt x="533" y="278"/>
                  </a:lnTo>
                  <a:lnTo>
                    <a:pt x="496" y="278"/>
                  </a:lnTo>
                  <a:lnTo>
                    <a:pt x="460" y="290"/>
                  </a:lnTo>
                  <a:lnTo>
                    <a:pt x="424" y="290"/>
                  </a:lnTo>
                  <a:lnTo>
                    <a:pt x="387" y="278"/>
                  </a:lnTo>
                  <a:lnTo>
                    <a:pt x="351" y="278"/>
                  </a:lnTo>
                  <a:lnTo>
                    <a:pt x="315" y="266"/>
                  </a:lnTo>
                  <a:lnTo>
                    <a:pt x="279" y="254"/>
                  </a:lnTo>
                  <a:lnTo>
                    <a:pt x="242" y="254"/>
                  </a:lnTo>
                  <a:lnTo>
                    <a:pt x="218" y="242"/>
                  </a:lnTo>
                  <a:lnTo>
                    <a:pt x="194" y="230"/>
                  </a:lnTo>
                  <a:lnTo>
                    <a:pt x="170" y="206"/>
                  </a:lnTo>
                  <a:lnTo>
                    <a:pt x="109" y="303"/>
                  </a:lnTo>
                  <a:lnTo>
                    <a:pt x="109" y="290"/>
                  </a:lnTo>
                  <a:lnTo>
                    <a:pt x="109" y="266"/>
                  </a:lnTo>
                  <a:lnTo>
                    <a:pt x="109" y="254"/>
                  </a:lnTo>
                  <a:lnTo>
                    <a:pt x="97" y="218"/>
                  </a:lnTo>
                  <a:lnTo>
                    <a:pt x="85" y="206"/>
                  </a:lnTo>
                  <a:lnTo>
                    <a:pt x="73" y="182"/>
                  </a:lnTo>
                  <a:lnTo>
                    <a:pt x="61" y="157"/>
                  </a:lnTo>
                  <a:lnTo>
                    <a:pt x="61" y="157"/>
                  </a:lnTo>
                  <a:lnTo>
                    <a:pt x="37" y="121"/>
                  </a:lnTo>
                  <a:lnTo>
                    <a:pt x="12" y="109"/>
                  </a:lnTo>
                  <a:lnTo>
                    <a:pt x="0" y="97"/>
                  </a:lnTo>
                  <a:lnTo>
                    <a:pt x="0" y="73"/>
                  </a:lnTo>
                  <a:lnTo>
                    <a:pt x="12" y="73"/>
                  </a:lnTo>
                  <a:lnTo>
                    <a:pt x="49" y="73"/>
                  </a:lnTo>
                  <a:lnTo>
                    <a:pt x="73" y="73"/>
                  </a:lnTo>
                  <a:lnTo>
                    <a:pt x="109" y="73"/>
                  </a:lnTo>
                  <a:lnTo>
                    <a:pt x="121" y="60"/>
                  </a:lnTo>
                  <a:lnTo>
                    <a:pt x="133" y="60"/>
                  </a:lnTo>
                  <a:lnTo>
                    <a:pt x="170" y="48"/>
                  </a:lnTo>
                  <a:lnTo>
                    <a:pt x="182" y="48"/>
                  </a:lnTo>
                  <a:lnTo>
                    <a:pt x="206" y="48"/>
                  </a:lnTo>
                  <a:lnTo>
                    <a:pt x="230" y="36"/>
                  </a:lnTo>
                  <a:lnTo>
                    <a:pt x="254" y="24"/>
                  </a:lnTo>
                  <a:lnTo>
                    <a:pt x="279" y="0"/>
                  </a:lnTo>
                  <a:lnTo>
                    <a:pt x="218" y="109"/>
                  </a:lnTo>
                  <a:lnTo>
                    <a:pt x="254" y="121"/>
                  </a:lnTo>
                  <a:lnTo>
                    <a:pt x="291" y="145"/>
                  </a:lnTo>
                  <a:lnTo>
                    <a:pt x="339" y="157"/>
                  </a:lnTo>
                  <a:lnTo>
                    <a:pt x="375" y="157"/>
                  </a:lnTo>
                  <a:lnTo>
                    <a:pt x="400" y="157"/>
                  </a:lnTo>
                  <a:lnTo>
                    <a:pt x="436" y="169"/>
                  </a:lnTo>
                  <a:lnTo>
                    <a:pt x="460" y="169"/>
                  </a:lnTo>
                  <a:lnTo>
                    <a:pt x="508" y="182"/>
                  </a:lnTo>
                  <a:lnTo>
                    <a:pt x="545" y="182"/>
                  </a:lnTo>
                  <a:lnTo>
                    <a:pt x="581" y="182"/>
                  </a:lnTo>
                  <a:lnTo>
                    <a:pt x="629" y="182"/>
                  </a:lnTo>
                  <a:lnTo>
                    <a:pt x="666" y="182"/>
                  </a:lnTo>
                  <a:lnTo>
                    <a:pt x="690" y="169"/>
                  </a:lnTo>
                  <a:lnTo>
                    <a:pt x="726" y="169"/>
                  </a:lnTo>
                  <a:lnTo>
                    <a:pt x="763" y="157"/>
                  </a:lnTo>
                  <a:lnTo>
                    <a:pt x="799" y="157"/>
                  </a:lnTo>
                  <a:lnTo>
                    <a:pt x="847" y="145"/>
                  </a:lnTo>
                  <a:lnTo>
                    <a:pt x="884" y="133"/>
                  </a:lnTo>
                  <a:lnTo>
                    <a:pt x="932" y="121"/>
                  </a:lnTo>
                  <a:lnTo>
                    <a:pt x="968" y="109"/>
                  </a:lnTo>
                  <a:lnTo>
                    <a:pt x="992" y="109"/>
                  </a:lnTo>
                  <a:lnTo>
                    <a:pt x="1029" y="85"/>
                  </a:lnTo>
                  <a:lnTo>
                    <a:pt x="1041" y="73"/>
                  </a:lnTo>
                  <a:lnTo>
                    <a:pt x="1065" y="60"/>
                  </a:lnTo>
                  <a:lnTo>
                    <a:pt x="1089" y="48"/>
                  </a:lnTo>
                  <a:lnTo>
                    <a:pt x="1138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031840" y="3736800"/>
            <a:ext cx="1839960" cy="476280"/>
            <a:chOff x="2031840" y="3736800"/>
            <a:chExt cx="1839960" cy="476280"/>
          </a:xfrm>
        </p:grpSpPr>
        <p:sp>
          <p:nvSpPr>
            <p:cNvPr id="66" name=""/>
            <p:cNvSpPr/>
            <p:nvPr/>
          </p:nvSpPr>
          <p:spPr>
            <a:xfrm>
              <a:off x="2031840" y="3736800"/>
              <a:ext cx="1839960" cy="476280"/>
            </a:xfrm>
            <a:custGeom>
              <a:avLst/>
              <a:gdLst/>
              <a:ahLst/>
              <a:rect l="l" t="t" r="r" b="b"/>
              <a:pathLst>
                <a:path w="1162" h="327">
                  <a:moveTo>
                    <a:pt x="1162" y="24"/>
                  </a:moveTo>
                  <a:lnTo>
                    <a:pt x="1162" y="36"/>
                  </a:lnTo>
                  <a:lnTo>
                    <a:pt x="1125" y="72"/>
                  </a:lnTo>
                  <a:lnTo>
                    <a:pt x="1113" y="84"/>
                  </a:lnTo>
                  <a:lnTo>
                    <a:pt x="1089" y="109"/>
                  </a:lnTo>
                  <a:lnTo>
                    <a:pt x="1065" y="121"/>
                  </a:lnTo>
                  <a:lnTo>
                    <a:pt x="1053" y="133"/>
                  </a:lnTo>
                  <a:lnTo>
                    <a:pt x="1029" y="145"/>
                  </a:lnTo>
                  <a:lnTo>
                    <a:pt x="1004" y="169"/>
                  </a:lnTo>
                  <a:lnTo>
                    <a:pt x="980" y="169"/>
                  </a:lnTo>
                  <a:lnTo>
                    <a:pt x="956" y="181"/>
                  </a:lnTo>
                  <a:lnTo>
                    <a:pt x="920" y="206"/>
                  </a:lnTo>
                  <a:lnTo>
                    <a:pt x="883" y="218"/>
                  </a:lnTo>
                  <a:lnTo>
                    <a:pt x="859" y="230"/>
                  </a:lnTo>
                  <a:lnTo>
                    <a:pt x="811" y="242"/>
                  </a:lnTo>
                  <a:lnTo>
                    <a:pt x="762" y="254"/>
                  </a:lnTo>
                  <a:lnTo>
                    <a:pt x="726" y="266"/>
                  </a:lnTo>
                  <a:lnTo>
                    <a:pt x="678" y="278"/>
                  </a:lnTo>
                  <a:lnTo>
                    <a:pt x="641" y="278"/>
                  </a:lnTo>
                  <a:lnTo>
                    <a:pt x="593" y="290"/>
                  </a:lnTo>
                  <a:lnTo>
                    <a:pt x="557" y="290"/>
                  </a:lnTo>
                  <a:lnTo>
                    <a:pt x="520" y="290"/>
                  </a:lnTo>
                  <a:lnTo>
                    <a:pt x="484" y="290"/>
                  </a:lnTo>
                  <a:lnTo>
                    <a:pt x="436" y="290"/>
                  </a:lnTo>
                  <a:lnTo>
                    <a:pt x="412" y="290"/>
                  </a:lnTo>
                  <a:lnTo>
                    <a:pt x="363" y="290"/>
                  </a:lnTo>
                  <a:lnTo>
                    <a:pt x="327" y="278"/>
                  </a:lnTo>
                  <a:lnTo>
                    <a:pt x="291" y="278"/>
                  </a:lnTo>
                  <a:lnTo>
                    <a:pt x="266" y="254"/>
                  </a:lnTo>
                  <a:lnTo>
                    <a:pt x="230" y="242"/>
                  </a:lnTo>
                  <a:lnTo>
                    <a:pt x="206" y="230"/>
                  </a:lnTo>
                  <a:lnTo>
                    <a:pt x="194" y="230"/>
                  </a:lnTo>
                  <a:lnTo>
                    <a:pt x="133" y="327"/>
                  </a:lnTo>
                  <a:lnTo>
                    <a:pt x="133" y="314"/>
                  </a:lnTo>
                  <a:lnTo>
                    <a:pt x="133" y="290"/>
                  </a:lnTo>
                  <a:lnTo>
                    <a:pt x="133" y="278"/>
                  </a:lnTo>
                  <a:lnTo>
                    <a:pt x="121" y="254"/>
                  </a:lnTo>
                  <a:lnTo>
                    <a:pt x="109" y="230"/>
                  </a:lnTo>
                  <a:lnTo>
                    <a:pt x="97" y="206"/>
                  </a:lnTo>
                  <a:lnTo>
                    <a:pt x="85" y="181"/>
                  </a:lnTo>
                  <a:lnTo>
                    <a:pt x="85" y="169"/>
                  </a:lnTo>
                  <a:lnTo>
                    <a:pt x="73" y="145"/>
                  </a:lnTo>
                  <a:lnTo>
                    <a:pt x="49" y="121"/>
                  </a:lnTo>
                  <a:lnTo>
                    <a:pt x="24" y="97"/>
                  </a:lnTo>
                  <a:lnTo>
                    <a:pt x="0" y="72"/>
                  </a:lnTo>
                  <a:lnTo>
                    <a:pt x="24" y="72"/>
                  </a:lnTo>
                  <a:lnTo>
                    <a:pt x="61" y="72"/>
                  </a:lnTo>
                  <a:lnTo>
                    <a:pt x="85" y="72"/>
                  </a:lnTo>
                  <a:lnTo>
                    <a:pt x="109" y="72"/>
                  </a:lnTo>
                  <a:lnTo>
                    <a:pt x="133" y="72"/>
                  </a:lnTo>
                  <a:lnTo>
                    <a:pt x="145" y="72"/>
                  </a:lnTo>
                  <a:lnTo>
                    <a:pt x="170" y="60"/>
                  </a:lnTo>
                  <a:lnTo>
                    <a:pt x="194" y="48"/>
                  </a:lnTo>
                  <a:lnTo>
                    <a:pt x="206" y="36"/>
                  </a:lnTo>
                  <a:lnTo>
                    <a:pt x="242" y="24"/>
                  </a:lnTo>
                  <a:lnTo>
                    <a:pt x="254" y="24"/>
                  </a:lnTo>
                  <a:lnTo>
                    <a:pt x="291" y="0"/>
                  </a:lnTo>
                  <a:lnTo>
                    <a:pt x="315" y="24"/>
                  </a:lnTo>
                  <a:lnTo>
                    <a:pt x="254" y="121"/>
                  </a:lnTo>
                  <a:lnTo>
                    <a:pt x="266" y="121"/>
                  </a:lnTo>
                  <a:lnTo>
                    <a:pt x="315" y="145"/>
                  </a:lnTo>
                  <a:lnTo>
                    <a:pt x="351" y="157"/>
                  </a:lnTo>
                  <a:lnTo>
                    <a:pt x="387" y="169"/>
                  </a:lnTo>
                  <a:lnTo>
                    <a:pt x="424" y="169"/>
                  </a:lnTo>
                  <a:lnTo>
                    <a:pt x="448" y="169"/>
                  </a:lnTo>
                  <a:lnTo>
                    <a:pt x="484" y="181"/>
                  </a:lnTo>
                  <a:lnTo>
                    <a:pt x="520" y="181"/>
                  </a:lnTo>
                  <a:lnTo>
                    <a:pt x="569" y="193"/>
                  </a:lnTo>
                  <a:lnTo>
                    <a:pt x="593" y="193"/>
                  </a:lnTo>
                  <a:lnTo>
                    <a:pt x="641" y="193"/>
                  </a:lnTo>
                  <a:lnTo>
                    <a:pt x="678" y="193"/>
                  </a:lnTo>
                  <a:lnTo>
                    <a:pt x="714" y="181"/>
                  </a:lnTo>
                  <a:lnTo>
                    <a:pt x="750" y="181"/>
                  </a:lnTo>
                  <a:lnTo>
                    <a:pt x="787" y="169"/>
                  </a:lnTo>
                  <a:lnTo>
                    <a:pt x="823" y="169"/>
                  </a:lnTo>
                  <a:lnTo>
                    <a:pt x="871" y="157"/>
                  </a:lnTo>
                  <a:lnTo>
                    <a:pt x="908" y="145"/>
                  </a:lnTo>
                  <a:lnTo>
                    <a:pt x="944" y="133"/>
                  </a:lnTo>
                  <a:lnTo>
                    <a:pt x="992" y="121"/>
                  </a:lnTo>
                  <a:lnTo>
                    <a:pt x="1017" y="121"/>
                  </a:lnTo>
                  <a:lnTo>
                    <a:pt x="1053" y="97"/>
                  </a:lnTo>
                  <a:lnTo>
                    <a:pt x="1053" y="84"/>
                  </a:lnTo>
                  <a:lnTo>
                    <a:pt x="1077" y="72"/>
                  </a:lnTo>
                  <a:lnTo>
                    <a:pt x="1101" y="72"/>
                  </a:lnTo>
                  <a:lnTo>
                    <a:pt x="1162" y="24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069640" y="3771720"/>
              <a:ext cx="1801800" cy="441000"/>
            </a:xfrm>
            <a:custGeom>
              <a:avLst/>
              <a:gdLst/>
              <a:ahLst/>
              <a:rect l="l" t="t" r="r" b="b"/>
              <a:pathLst>
                <a:path w="1138" h="303">
                  <a:moveTo>
                    <a:pt x="1138" y="12"/>
                  </a:moveTo>
                  <a:lnTo>
                    <a:pt x="1101" y="48"/>
                  </a:lnTo>
                  <a:lnTo>
                    <a:pt x="1089" y="73"/>
                  </a:lnTo>
                  <a:lnTo>
                    <a:pt x="1077" y="97"/>
                  </a:lnTo>
                  <a:lnTo>
                    <a:pt x="1053" y="97"/>
                  </a:lnTo>
                  <a:lnTo>
                    <a:pt x="1029" y="121"/>
                  </a:lnTo>
                  <a:lnTo>
                    <a:pt x="1017" y="133"/>
                  </a:lnTo>
                  <a:lnTo>
                    <a:pt x="980" y="145"/>
                  </a:lnTo>
                  <a:lnTo>
                    <a:pt x="968" y="157"/>
                  </a:lnTo>
                  <a:lnTo>
                    <a:pt x="932" y="169"/>
                  </a:lnTo>
                  <a:lnTo>
                    <a:pt x="908" y="194"/>
                  </a:lnTo>
                  <a:lnTo>
                    <a:pt x="872" y="206"/>
                  </a:lnTo>
                  <a:lnTo>
                    <a:pt x="835" y="206"/>
                  </a:lnTo>
                  <a:lnTo>
                    <a:pt x="787" y="230"/>
                  </a:lnTo>
                  <a:lnTo>
                    <a:pt x="751" y="254"/>
                  </a:lnTo>
                  <a:lnTo>
                    <a:pt x="702" y="254"/>
                  </a:lnTo>
                  <a:lnTo>
                    <a:pt x="654" y="266"/>
                  </a:lnTo>
                  <a:lnTo>
                    <a:pt x="630" y="278"/>
                  </a:lnTo>
                  <a:lnTo>
                    <a:pt x="581" y="278"/>
                  </a:lnTo>
                  <a:lnTo>
                    <a:pt x="545" y="290"/>
                  </a:lnTo>
                  <a:lnTo>
                    <a:pt x="509" y="290"/>
                  </a:lnTo>
                  <a:lnTo>
                    <a:pt x="460" y="290"/>
                  </a:lnTo>
                  <a:lnTo>
                    <a:pt x="424" y="290"/>
                  </a:lnTo>
                  <a:lnTo>
                    <a:pt x="400" y="278"/>
                  </a:lnTo>
                  <a:lnTo>
                    <a:pt x="351" y="278"/>
                  </a:lnTo>
                  <a:lnTo>
                    <a:pt x="315" y="278"/>
                  </a:lnTo>
                  <a:lnTo>
                    <a:pt x="291" y="266"/>
                  </a:lnTo>
                  <a:lnTo>
                    <a:pt x="254" y="254"/>
                  </a:lnTo>
                  <a:lnTo>
                    <a:pt x="230" y="242"/>
                  </a:lnTo>
                  <a:lnTo>
                    <a:pt x="194" y="230"/>
                  </a:lnTo>
                  <a:lnTo>
                    <a:pt x="170" y="218"/>
                  </a:lnTo>
                  <a:lnTo>
                    <a:pt x="109" y="303"/>
                  </a:lnTo>
                  <a:lnTo>
                    <a:pt x="109" y="290"/>
                  </a:lnTo>
                  <a:lnTo>
                    <a:pt x="109" y="266"/>
                  </a:lnTo>
                  <a:lnTo>
                    <a:pt x="109" y="254"/>
                  </a:lnTo>
                  <a:lnTo>
                    <a:pt x="97" y="230"/>
                  </a:lnTo>
                  <a:lnTo>
                    <a:pt x="97" y="206"/>
                  </a:lnTo>
                  <a:lnTo>
                    <a:pt x="85" y="194"/>
                  </a:lnTo>
                  <a:lnTo>
                    <a:pt x="61" y="169"/>
                  </a:lnTo>
                  <a:lnTo>
                    <a:pt x="61" y="145"/>
                  </a:lnTo>
                  <a:lnTo>
                    <a:pt x="37" y="133"/>
                  </a:lnTo>
                  <a:lnTo>
                    <a:pt x="25" y="109"/>
                  </a:lnTo>
                  <a:lnTo>
                    <a:pt x="0" y="97"/>
                  </a:lnTo>
                  <a:lnTo>
                    <a:pt x="0" y="73"/>
                  </a:lnTo>
                  <a:lnTo>
                    <a:pt x="25" y="73"/>
                  </a:lnTo>
                  <a:lnTo>
                    <a:pt x="49" y="85"/>
                  </a:lnTo>
                  <a:lnTo>
                    <a:pt x="85" y="73"/>
                  </a:lnTo>
                  <a:lnTo>
                    <a:pt x="109" y="73"/>
                  </a:lnTo>
                  <a:lnTo>
                    <a:pt x="121" y="73"/>
                  </a:lnTo>
                  <a:lnTo>
                    <a:pt x="146" y="60"/>
                  </a:lnTo>
                  <a:lnTo>
                    <a:pt x="170" y="60"/>
                  </a:lnTo>
                  <a:lnTo>
                    <a:pt x="182" y="48"/>
                  </a:lnTo>
                  <a:lnTo>
                    <a:pt x="206" y="48"/>
                  </a:lnTo>
                  <a:lnTo>
                    <a:pt x="230" y="36"/>
                  </a:lnTo>
                  <a:lnTo>
                    <a:pt x="254" y="24"/>
                  </a:lnTo>
                  <a:lnTo>
                    <a:pt x="291" y="0"/>
                  </a:lnTo>
                  <a:lnTo>
                    <a:pt x="230" y="109"/>
                  </a:lnTo>
                  <a:lnTo>
                    <a:pt x="254" y="133"/>
                  </a:lnTo>
                  <a:lnTo>
                    <a:pt x="291" y="145"/>
                  </a:lnTo>
                  <a:lnTo>
                    <a:pt x="339" y="145"/>
                  </a:lnTo>
                  <a:lnTo>
                    <a:pt x="388" y="157"/>
                  </a:lnTo>
                  <a:lnTo>
                    <a:pt x="400" y="169"/>
                  </a:lnTo>
                  <a:lnTo>
                    <a:pt x="436" y="169"/>
                  </a:lnTo>
                  <a:lnTo>
                    <a:pt x="472" y="182"/>
                  </a:lnTo>
                  <a:lnTo>
                    <a:pt x="521" y="182"/>
                  </a:lnTo>
                  <a:lnTo>
                    <a:pt x="557" y="194"/>
                  </a:lnTo>
                  <a:lnTo>
                    <a:pt x="581" y="194"/>
                  </a:lnTo>
                  <a:lnTo>
                    <a:pt x="630" y="182"/>
                  </a:lnTo>
                  <a:lnTo>
                    <a:pt x="666" y="182"/>
                  </a:lnTo>
                  <a:lnTo>
                    <a:pt x="690" y="182"/>
                  </a:lnTo>
                  <a:lnTo>
                    <a:pt x="738" y="169"/>
                  </a:lnTo>
                  <a:lnTo>
                    <a:pt x="775" y="157"/>
                  </a:lnTo>
                  <a:lnTo>
                    <a:pt x="811" y="157"/>
                  </a:lnTo>
                  <a:lnTo>
                    <a:pt x="859" y="145"/>
                  </a:lnTo>
                  <a:lnTo>
                    <a:pt x="896" y="145"/>
                  </a:lnTo>
                  <a:lnTo>
                    <a:pt x="932" y="121"/>
                  </a:lnTo>
                  <a:lnTo>
                    <a:pt x="980" y="109"/>
                  </a:lnTo>
                  <a:lnTo>
                    <a:pt x="1005" y="97"/>
                  </a:lnTo>
                  <a:lnTo>
                    <a:pt x="1029" y="97"/>
                  </a:lnTo>
                  <a:lnTo>
                    <a:pt x="1041" y="85"/>
                  </a:lnTo>
                  <a:lnTo>
                    <a:pt x="1065" y="73"/>
                  </a:lnTo>
                  <a:lnTo>
                    <a:pt x="1089" y="48"/>
                  </a:lnTo>
                  <a:lnTo>
                    <a:pt x="1138" y="1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785880" y="3929040"/>
            <a:ext cx="2089080" cy="1501560"/>
            <a:chOff x="785880" y="3929040"/>
            <a:chExt cx="2089080" cy="1501560"/>
          </a:xfrm>
        </p:grpSpPr>
        <p:sp>
          <p:nvSpPr>
            <p:cNvPr id="69" name=""/>
            <p:cNvSpPr/>
            <p:nvPr/>
          </p:nvSpPr>
          <p:spPr>
            <a:xfrm>
              <a:off x="785880" y="3929040"/>
              <a:ext cx="2089080" cy="1484280"/>
            </a:xfrm>
            <a:custGeom>
              <a:avLst/>
              <a:gdLst/>
              <a:ahLst/>
              <a:rect l="l" t="t" r="r" b="b"/>
              <a:pathLst>
                <a:path w="1319" h="1017">
                  <a:moveTo>
                    <a:pt x="1319" y="969"/>
                  </a:moveTo>
                  <a:lnTo>
                    <a:pt x="1295" y="993"/>
                  </a:lnTo>
                  <a:lnTo>
                    <a:pt x="1234" y="1005"/>
                  </a:lnTo>
                  <a:lnTo>
                    <a:pt x="1198" y="1017"/>
                  </a:lnTo>
                  <a:lnTo>
                    <a:pt x="1162" y="1005"/>
                  </a:lnTo>
                  <a:lnTo>
                    <a:pt x="1126" y="1005"/>
                  </a:lnTo>
                  <a:lnTo>
                    <a:pt x="1089" y="1005"/>
                  </a:lnTo>
                  <a:lnTo>
                    <a:pt x="1053" y="993"/>
                  </a:lnTo>
                  <a:lnTo>
                    <a:pt x="1005" y="981"/>
                  </a:lnTo>
                  <a:lnTo>
                    <a:pt x="968" y="981"/>
                  </a:lnTo>
                  <a:lnTo>
                    <a:pt x="932" y="969"/>
                  </a:lnTo>
                  <a:lnTo>
                    <a:pt x="896" y="956"/>
                  </a:lnTo>
                  <a:lnTo>
                    <a:pt x="835" y="944"/>
                  </a:lnTo>
                  <a:lnTo>
                    <a:pt x="787" y="920"/>
                  </a:lnTo>
                  <a:lnTo>
                    <a:pt x="726" y="896"/>
                  </a:lnTo>
                  <a:lnTo>
                    <a:pt x="666" y="872"/>
                  </a:lnTo>
                  <a:lnTo>
                    <a:pt x="629" y="847"/>
                  </a:lnTo>
                  <a:lnTo>
                    <a:pt x="569" y="811"/>
                  </a:lnTo>
                  <a:lnTo>
                    <a:pt x="520" y="799"/>
                  </a:lnTo>
                  <a:lnTo>
                    <a:pt x="484" y="763"/>
                  </a:lnTo>
                  <a:lnTo>
                    <a:pt x="436" y="726"/>
                  </a:lnTo>
                  <a:lnTo>
                    <a:pt x="387" y="702"/>
                  </a:lnTo>
                  <a:lnTo>
                    <a:pt x="351" y="666"/>
                  </a:lnTo>
                  <a:lnTo>
                    <a:pt x="315" y="630"/>
                  </a:lnTo>
                  <a:lnTo>
                    <a:pt x="291" y="593"/>
                  </a:lnTo>
                  <a:lnTo>
                    <a:pt x="254" y="557"/>
                  </a:lnTo>
                  <a:lnTo>
                    <a:pt x="242" y="521"/>
                  </a:lnTo>
                  <a:lnTo>
                    <a:pt x="206" y="472"/>
                  </a:lnTo>
                  <a:lnTo>
                    <a:pt x="194" y="436"/>
                  </a:lnTo>
                  <a:lnTo>
                    <a:pt x="182" y="387"/>
                  </a:lnTo>
                  <a:lnTo>
                    <a:pt x="170" y="363"/>
                  </a:lnTo>
                  <a:lnTo>
                    <a:pt x="170" y="351"/>
                  </a:lnTo>
                  <a:lnTo>
                    <a:pt x="0" y="412"/>
                  </a:lnTo>
                  <a:lnTo>
                    <a:pt x="0" y="375"/>
                  </a:lnTo>
                  <a:lnTo>
                    <a:pt x="24" y="351"/>
                  </a:lnTo>
                  <a:lnTo>
                    <a:pt x="49" y="327"/>
                  </a:lnTo>
                  <a:lnTo>
                    <a:pt x="61" y="303"/>
                  </a:lnTo>
                  <a:lnTo>
                    <a:pt x="85" y="266"/>
                  </a:lnTo>
                  <a:lnTo>
                    <a:pt x="97" y="242"/>
                  </a:lnTo>
                  <a:lnTo>
                    <a:pt x="109" y="206"/>
                  </a:lnTo>
                  <a:lnTo>
                    <a:pt x="121" y="169"/>
                  </a:lnTo>
                  <a:lnTo>
                    <a:pt x="133" y="145"/>
                  </a:lnTo>
                  <a:lnTo>
                    <a:pt x="145" y="97"/>
                  </a:lnTo>
                  <a:lnTo>
                    <a:pt x="145" y="48"/>
                  </a:lnTo>
                  <a:lnTo>
                    <a:pt x="157" y="0"/>
                  </a:lnTo>
                  <a:lnTo>
                    <a:pt x="182" y="24"/>
                  </a:lnTo>
                  <a:lnTo>
                    <a:pt x="206" y="48"/>
                  </a:lnTo>
                  <a:lnTo>
                    <a:pt x="242" y="85"/>
                  </a:lnTo>
                  <a:lnTo>
                    <a:pt x="266" y="97"/>
                  </a:lnTo>
                  <a:lnTo>
                    <a:pt x="291" y="109"/>
                  </a:lnTo>
                  <a:lnTo>
                    <a:pt x="315" y="133"/>
                  </a:lnTo>
                  <a:lnTo>
                    <a:pt x="339" y="145"/>
                  </a:lnTo>
                  <a:lnTo>
                    <a:pt x="363" y="157"/>
                  </a:lnTo>
                  <a:lnTo>
                    <a:pt x="399" y="157"/>
                  </a:lnTo>
                  <a:lnTo>
                    <a:pt x="436" y="169"/>
                  </a:lnTo>
                  <a:lnTo>
                    <a:pt x="460" y="182"/>
                  </a:lnTo>
                  <a:lnTo>
                    <a:pt x="520" y="194"/>
                  </a:lnTo>
                  <a:lnTo>
                    <a:pt x="508" y="242"/>
                  </a:lnTo>
                  <a:lnTo>
                    <a:pt x="339" y="278"/>
                  </a:lnTo>
                  <a:lnTo>
                    <a:pt x="351" y="303"/>
                  </a:lnTo>
                  <a:lnTo>
                    <a:pt x="375" y="351"/>
                  </a:lnTo>
                  <a:lnTo>
                    <a:pt x="399" y="400"/>
                  </a:lnTo>
                  <a:lnTo>
                    <a:pt x="424" y="448"/>
                  </a:lnTo>
                  <a:lnTo>
                    <a:pt x="448" y="472"/>
                  </a:lnTo>
                  <a:lnTo>
                    <a:pt x="472" y="521"/>
                  </a:lnTo>
                  <a:lnTo>
                    <a:pt x="484" y="545"/>
                  </a:lnTo>
                  <a:lnTo>
                    <a:pt x="533" y="593"/>
                  </a:lnTo>
                  <a:lnTo>
                    <a:pt x="557" y="630"/>
                  </a:lnTo>
                  <a:lnTo>
                    <a:pt x="593" y="666"/>
                  </a:lnTo>
                  <a:lnTo>
                    <a:pt x="629" y="702"/>
                  </a:lnTo>
                  <a:lnTo>
                    <a:pt x="666" y="726"/>
                  </a:lnTo>
                  <a:lnTo>
                    <a:pt x="702" y="751"/>
                  </a:lnTo>
                  <a:lnTo>
                    <a:pt x="750" y="787"/>
                  </a:lnTo>
                  <a:lnTo>
                    <a:pt x="799" y="811"/>
                  </a:lnTo>
                  <a:lnTo>
                    <a:pt x="835" y="835"/>
                  </a:lnTo>
                  <a:lnTo>
                    <a:pt x="884" y="860"/>
                  </a:lnTo>
                  <a:lnTo>
                    <a:pt x="932" y="884"/>
                  </a:lnTo>
                  <a:lnTo>
                    <a:pt x="992" y="908"/>
                  </a:lnTo>
                  <a:lnTo>
                    <a:pt x="1053" y="932"/>
                  </a:lnTo>
                  <a:lnTo>
                    <a:pt x="1089" y="944"/>
                  </a:lnTo>
                  <a:lnTo>
                    <a:pt x="1126" y="956"/>
                  </a:lnTo>
                  <a:lnTo>
                    <a:pt x="1150" y="956"/>
                  </a:lnTo>
                  <a:lnTo>
                    <a:pt x="1186" y="969"/>
                  </a:lnTo>
                  <a:lnTo>
                    <a:pt x="1210" y="969"/>
                  </a:lnTo>
                  <a:lnTo>
                    <a:pt x="1319" y="969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85880" y="4017960"/>
              <a:ext cx="2070000" cy="1412640"/>
            </a:xfrm>
            <a:custGeom>
              <a:avLst/>
              <a:gdLst/>
              <a:ahLst/>
              <a:rect l="l" t="t" r="r" b="b"/>
              <a:pathLst>
                <a:path w="1307" h="968">
                  <a:moveTo>
                    <a:pt x="1307" y="944"/>
                  </a:moveTo>
                  <a:lnTo>
                    <a:pt x="1222" y="956"/>
                  </a:lnTo>
                  <a:lnTo>
                    <a:pt x="1186" y="956"/>
                  </a:lnTo>
                  <a:lnTo>
                    <a:pt x="1150" y="956"/>
                  </a:lnTo>
                  <a:lnTo>
                    <a:pt x="1126" y="968"/>
                  </a:lnTo>
                  <a:lnTo>
                    <a:pt x="1077" y="956"/>
                  </a:lnTo>
                  <a:lnTo>
                    <a:pt x="1041" y="956"/>
                  </a:lnTo>
                  <a:lnTo>
                    <a:pt x="992" y="944"/>
                  </a:lnTo>
                  <a:lnTo>
                    <a:pt x="956" y="932"/>
                  </a:lnTo>
                  <a:lnTo>
                    <a:pt x="932" y="932"/>
                  </a:lnTo>
                  <a:lnTo>
                    <a:pt x="884" y="920"/>
                  </a:lnTo>
                  <a:lnTo>
                    <a:pt x="835" y="908"/>
                  </a:lnTo>
                  <a:lnTo>
                    <a:pt x="787" y="883"/>
                  </a:lnTo>
                  <a:lnTo>
                    <a:pt x="726" y="859"/>
                  </a:lnTo>
                  <a:lnTo>
                    <a:pt x="666" y="835"/>
                  </a:lnTo>
                  <a:lnTo>
                    <a:pt x="617" y="811"/>
                  </a:lnTo>
                  <a:lnTo>
                    <a:pt x="557" y="786"/>
                  </a:lnTo>
                  <a:lnTo>
                    <a:pt x="520" y="750"/>
                  </a:lnTo>
                  <a:lnTo>
                    <a:pt x="472" y="726"/>
                  </a:lnTo>
                  <a:lnTo>
                    <a:pt x="424" y="702"/>
                  </a:lnTo>
                  <a:lnTo>
                    <a:pt x="387" y="653"/>
                  </a:lnTo>
                  <a:lnTo>
                    <a:pt x="339" y="629"/>
                  </a:lnTo>
                  <a:lnTo>
                    <a:pt x="315" y="593"/>
                  </a:lnTo>
                  <a:lnTo>
                    <a:pt x="278" y="556"/>
                  </a:lnTo>
                  <a:lnTo>
                    <a:pt x="254" y="520"/>
                  </a:lnTo>
                  <a:lnTo>
                    <a:pt x="218" y="484"/>
                  </a:lnTo>
                  <a:lnTo>
                    <a:pt x="206" y="435"/>
                  </a:lnTo>
                  <a:lnTo>
                    <a:pt x="182" y="399"/>
                  </a:lnTo>
                  <a:lnTo>
                    <a:pt x="170" y="375"/>
                  </a:lnTo>
                  <a:lnTo>
                    <a:pt x="157" y="339"/>
                  </a:lnTo>
                  <a:lnTo>
                    <a:pt x="145" y="290"/>
                  </a:lnTo>
                  <a:lnTo>
                    <a:pt x="0" y="351"/>
                  </a:lnTo>
                  <a:lnTo>
                    <a:pt x="24" y="326"/>
                  </a:lnTo>
                  <a:lnTo>
                    <a:pt x="36" y="302"/>
                  </a:lnTo>
                  <a:lnTo>
                    <a:pt x="49" y="266"/>
                  </a:lnTo>
                  <a:lnTo>
                    <a:pt x="73" y="242"/>
                  </a:lnTo>
                  <a:lnTo>
                    <a:pt x="85" y="217"/>
                  </a:lnTo>
                  <a:lnTo>
                    <a:pt x="97" y="193"/>
                  </a:lnTo>
                  <a:lnTo>
                    <a:pt x="109" y="157"/>
                  </a:lnTo>
                  <a:lnTo>
                    <a:pt x="121" y="121"/>
                  </a:lnTo>
                  <a:lnTo>
                    <a:pt x="121" y="84"/>
                  </a:lnTo>
                  <a:lnTo>
                    <a:pt x="133" y="60"/>
                  </a:lnTo>
                  <a:lnTo>
                    <a:pt x="145" y="24"/>
                  </a:lnTo>
                  <a:lnTo>
                    <a:pt x="145" y="0"/>
                  </a:lnTo>
                  <a:lnTo>
                    <a:pt x="170" y="12"/>
                  </a:lnTo>
                  <a:lnTo>
                    <a:pt x="194" y="36"/>
                  </a:lnTo>
                  <a:lnTo>
                    <a:pt x="218" y="72"/>
                  </a:lnTo>
                  <a:lnTo>
                    <a:pt x="254" y="84"/>
                  </a:lnTo>
                  <a:lnTo>
                    <a:pt x="266" y="96"/>
                  </a:lnTo>
                  <a:lnTo>
                    <a:pt x="291" y="108"/>
                  </a:lnTo>
                  <a:lnTo>
                    <a:pt x="315" y="133"/>
                  </a:lnTo>
                  <a:lnTo>
                    <a:pt x="351" y="145"/>
                  </a:lnTo>
                  <a:lnTo>
                    <a:pt x="375" y="145"/>
                  </a:lnTo>
                  <a:lnTo>
                    <a:pt x="412" y="157"/>
                  </a:lnTo>
                  <a:lnTo>
                    <a:pt x="448" y="157"/>
                  </a:lnTo>
                  <a:lnTo>
                    <a:pt x="496" y="181"/>
                  </a:lnTo>
                  <a:lnTo>
                    <a:pt x="315" y="230"/>
                  </a:lnTo>
                  <a:lnTo>
                    <a:pt x="339" y="278"/>
                  </a:lnTo>
                  <a:lnTo>
                    <a:pt x="363" y="326"/>
                  </a:lnTo>
                  <a:lnTo>
                    <a:pt x="387" y="375"/>
                  </a:lnTo>
                  <a:lnTo>
                    <a:pt x="412" y="423"/>
                  </a:lnTo>
                  <a:lnTo>
                    <a:pt x="436" y="460"/>
                  </a:lnTo>
                  <a:lnTo>
                    <a:pt x="448" y="484"/>
                  </a:lnTo>
                  <a:lnTo>
                    <a:pt x="484" y="532"/>
                  </a:lnTo>
                  <a:lnTo>
                    <a:pt x="508" y="569"/>
                  </a:lnTo>
                  <a:lnTo>
                    <a:pt x="545" y="593"/>
                  </a:lnTo>
                  <a:lnTo>
                    <a:pt x="581" y="629"/>
                  </a:lnTo>
                  <a:lnTo>
                    <a:pt x="617" y="665"/>
                  </a:lnTo>
                  <a:lnTo>
                    <a:pt x="654" y="690"/>
                  </a:lnTo>
                  <a:lnTo>
                    <a:pt x="690" y="726"/>
                  </a:lnTo>
                  <a:lnTo>
                    <a:pt x="738" y="750"/>
                  </a:lnTo>
                  <a:lnTo>
                    <a:pt x="775" y="774"/>
                  </a:lnTo>
                  <a:lnTo>
                    <a:pt x="823" y="799"/>
                  </a:lnTo>
                  <a:lnTo>
                    <a:pt x="871" y="823"/>
                  </a:lnTo>
                  <a:lnTo>
                    <a:pt x="932" y="859"/>
                  </a:lnTo>
                  <a:lnTo>
                    <a:pt x="980" y="883"/>
                  </a:lnTo>
                  <a:lnTo>
                    <a:pt x="1041" y="895"/>
                  </a:lnTo>
                  <a:lnTo>
                    <a:pt x="1065" y="908"/>
                  </a:lnTo>
                  <a:lnTo>
                    <a:pt x="1113" y="920"/>
                  </a:lnTo>
                  <a:lnTo>
                    <a:pt x="1150" y="932"/>
                  </a:lnTo>
                  <a:lnTo>
                    <a:pt x="1174" y="932"/>
                  </a:lnTo>
                  <a:lnTo>
                    <a:pt x="1210" y="932"/>
                  </a:lnTo>
                  <a:lnTo>
                    <a:pt x="1307" y="944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422280" y="2674800"/>
            <a:ext cx="2070000" cy="9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46360" y="2874960"/>
            <a:ext cx="1247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urocien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01720" y="3170160"/>
            <a:ext cx="1425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Experiment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246720" y="2674800"/>
            <a:ext cx="2070360" cy="9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97960" y="2981160"/>
            <a:ext cx="828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bó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335400" y="2674800"/>
            <a:ext cx="2068560" cy="9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61120" y="2860560"/>
            <a:ext cx="173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oría del Cereb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71080" y="3170160"/>
            <a:ext cx="10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Modela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97240" y="5432400"/>
            <a:ext cx="19540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44200" y="5486400"/>
            <a:ext cx="160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evas Hipóte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65120" y="5737320"/>
            <a:ext cx="2401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ocimiento Incompl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55880" y="1757520"/>
            <a:ext cx="18000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087640" y="1625760"/>
            <a:ext cx="1514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os, Hipóte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078520" y="1757520"/>
            <a:ext cx="153324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23280" y="1641600"/>
            <a:ext cx="1710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los Form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38600" y="4259160"/>
            <a:ext cx="1916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18840" y="4313160"/>
            <a:ext cx="1227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evas Id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83480" y="4541760"/>
            <a:ext cx="1355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Resultados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27240" y="4772160"/>
            <a:ext cx="166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erimentos c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791960" y="4984920"/>
            <a:ext cx="192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positivos Físic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87640" y="4300560"/>
            <a:ext cx="17841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83400" y="4478400"/>
            <a:ext cx="160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evas Hipóte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6033960" y="3944880"/>
            <a:ext cx="2089440" cy="1590480"/>
            <a:chOff x="6033960" y="3944880"/>
            <a:chExt cx="2089440" cy="1590480"/>
          </a:xfrm>
        </p:grpSpPr>
        <p:sp>
          <p:nvSpPr>
            <p:cNvPr id="94" name=""/>
            <p:cNvSpPr/>
            <p:nvPr/>
          </p:nvSpPr>
          <p:spPr>
            <a:xfrm>
              <a:off x="6033960" y="3944880"/>
              <a:ext cx="2089440" cy="1571760"/>
            </a:xfrm>
            <a:custGeom>
              <a:avLst/>
              <a:gdLst/>
              <a:ahLst/>
              <a:rect l="l" t="t" r="r" b="b"/>
              <a:pathLst>
                <a:path w="1319" h="1077">
                  <a:moveTo>
                    <a:pt x="0" y="1053"/>
                  </a:moveTo>
                  <a:lnTo>
                    <a:pt x="12" y="1077"/>
                  </a:lnTo>
                  <a:lnTo>
                    <a:pt x="73" y="1077"/>
                  </a:lnTo>
                  <a:lnTo>
                    <a:pt x="121" y="1077"/>
                  </a:lnTo>
                  <a:lnTo>
                    <a:pt x="158" y="1065"/>
                  </a:lnTo>
                  <a:lnTo>
                    <a:pt x="194" y="1065"/>
                  </a:lnTo>
                  <a:lnTo>
                    <a:pt x="230" y="1065"/>
                  </a:lnTo>
                  <a:lnTo>
                    <a:pt x="267" y="1053"/>
                  </a:lnTo>
                  <a:lnTo>
                    <a:pt x="315" y="1029"/>
                  </a:lnTo>
                  <a:lnTo>
                    <a:pt x="351" y="1017"/>
                  </a:lnTo>
                  <a:lnTo>
                    <a:pt x="388" y="1005"/>
                  </a:lnTo>
                  <a:lnTo>
                    <a:pt x="424" y="993"/>
                  </a:lnTo>
                  <a:lnTo>
                    <a:pt x="484" y="981"/>
                  </a:lnTo>
                  <a:lnTo>
                    <a:pt x="533" y="944"/>
                  </a:lnTo>
                  <a:lnTo>
                    <a:pt x="593" y="920"/>
                  </a:lnTo>
                  <a:lnTo>
                    <a:pt x="654" y="884"/>
                  </a:lnTo>
                  <a:lnTo>
                    <a:pt x="702" y="859"/>
                  </a:lnTo>
                  <a:lnTo>
                    <a:pt x="763" y="823"/>
                  </a:lnTo>
                  <a:lnTo>
                    <a:pt x="799" y="799"/>
                  </a:lnTo>
                  <a:lnTo>
                    <a:pt x="835" y="763"/>
                  </a:lnTo>
                  <a:lnTo>
                    <a:pt x="884" y="726"/>
                  </a:lnTo>
                  <a:lnTo>
                    <a:pt x="932" y="690"/>
                  </a:lnTo>
                  <a:lnTo>
                    <a:pt x="968" y="654"/>
                  </a:lnTo>
                  <a:lnTo>
                    <a:pt x="1005" y="617"/>
                  </a:lnTo>
                  <a:lnTo>
                    <a:pt x="1029" y="581"/>
                  </a:lnTo>
                  <a:lnTo>
                    <a:pt x="1053" y="533"/>
                  </a:lnTo>
                  <a:lnTo>
                    <a:pt x="1077" y="496"/>
                  </a:lnTo>
                  <a:lnTo>
                    <a:pt x="1102" y="448"/>
                  </a:lnTo>
                  <a:lnTo>
                    <a:pt x="1114" y="424"/>
                  </a:lnTo>
                  <a:lnTo>
                    <a:pt x="1126" y="375"/>
                  </a:lnTo>
                  <a:lnTo>
                    <a:pt x="1138" y="339"/>
                  </a:lnTo>
                  <a:lnTo>
                    <a:pt x="1138" y="327"/>
                  </a:lnTo>
                  <a:lnTo>
                    <a:pt x="1319" y="363"/>
                  </a:lnTo>
                  <a:lnTo>
                    <a:pt x="1307" y="339"/>
                  </a:lnTo>
                  <a:lnTo>
                    <a:pt x="1283" y="315"/>
                  </a:lnTo>
                  <a:lnTo>
                    <a:pt x="1259" y="303"/>
                  </a:lnTo>
                  <a:lnTo>
                    <a:pt x="1247" y="278"/>
                  </a:lnTo>
                  <a:lnTo>
                    <a:pt x="1223" y="242"/>
                  </a:lnTo>
                  <a:lnTo>
                    <a:pt x="1210" y="218"/>
                  </a:lnTo>
                  <a:lnTo>
                    <a:pt x="1198" y="194"/>
                  </a:lnTo>
                  <a:lnTo>
                    <a:pt x="1174" y="157"/>
                  </a:lnTo>
                  <a:lnTo>
                    <a:pt x="1162" y="133"/>
                  </a:lnTo>
                  <a:lnTo>
                    <a:pt x="1150" y="97"/>
                  </a:lnTo>
                  <a:lnTo>
                    <a:pt x="1138" y="48"/>
                  </a:lnTo>
                  <a:lnTo>
                    <a:pt x="1126" y="0"/>
                  </a:lnTo>
                  <a:lnTo>
                    <a:pt x="1102" y="36"/>
                  </a:lnTo>
                  <a:lnTo>
                    <a:pt x="1077" y="60"/>
                  </a:lnTo>
                  <a:lnTo>
                    <a:pt x="1053" y="85"/>
                  </a:lnTo>
                  <a:lnTo>
                    <a:pt x="1017" y="109"/>
                  </a:lnTo>
                  <a:lnTo>
                    <a:pt x="1005" y="121"/>
                  </a:lnTo>
                  <a:lnTo>
                    <a:pt x="981" y="145"/>
                  </a:lnTo>
                  <a:lnTo>
                    <a:pt x="956" y="157"/>
                  </a:lnTo>
                  <a:lnTo>
                    <a:pt x="920" y="169"/>
                  </a:lnTo>
                  <a:lnTo>
                    <a:pt x="896" y="181"/>
                  </a:lnTo>
                  <a:lnTo>
                    <a:pt x="860" y="194"/>
                  </a:lnTo>
                  <a:lnTo>
                    <a:pt x="823" y="218"/>
                  </a:lnTo>
                  <a:lnTo>
                    <a:pt x="775" y="230"/>
                  </a:lnTo>
                  <a:lnTo>
                    <a:pt x="787" y="266"/>
                  </a:lnTo>
                  <a:lnTo>
                    <a:pt x="956" y="290"/>
                  </a:lnTo>
                  <a:lnTo>
                    <a:pt x="944" y="315"/>
                  </a:lnTo>
                  <a:lnTo>
                    <a:pt x="932" y="363"/>
                  </a:lnTo>
                  <a:lnTo>
                    <a:pt x="908" y="399"/>
                  </a:lnTo>
                  <a:lnTo>
                    <a:pt x="884" y="460"/>
                  </a:lnTo>
                  <a:lnTo>
                    <a:pt x="860" y="484"/>
                  </a:lnTo>
                  <a:lnTo>
                    <a:pt x="847" y="520"/>
                  </a:lnTo>
                  <a:lnTo>
                    <a:pt x="823" y="557"/>
                  </a:lnTo>
                  <a:lnTo>
                    <a:pt x="787" y="605"/>
                  </a:lnTo>
                  <a:lnTo>
                    <a:pt x="763" y="642"/>
                  </a:lnTo>
                  <a:lnTo>
                    <a:pt x="726" y="690"/>
                  </a:lnTo>
                  <a:lnTo>
                    <a:pt x="690" y="714"/>
                  </a:lnTo>
                  <a:lnTo>
                    <a:pt x="654" y="751"/>
                  </a:lnTo>
                  <a:lnTo>
                    <a:pt x="618" y="775"/>
                  </a:lnTo>
                  <a:lnTo>
                    <a:pt x="569" y="811"/>
                  </a:lnTo>
                  <a:lnTo>
                    <a:pt x="521" y="847"/>
                  </a:lnTo>
                  <a:lnTo>
                    <a:pt x="484" y="872"/>
                  </a:lnTo>
                  <a:lnTo>
                    <a:pt x="436" y="908"/>
                  </a:lnTo>
                  <a:lnTo>
                    <a:pt x="388" y="932"/>
                  </a:lnTo>
                  <a:lnTo>
                    <a:pt x="327" y="956"/>
                  </a:lnTo>
                  <a:lnTo>
                    <a:pt x="267" y="993"/>
                  </a:lnTo>
                  <a:lnTo>
                    <a:pt x="230" y="1005"/>
                  </a:lnTo>
                  <a:lnTo>
                    <a:pt x="194" y="1029"/>
                  </a:lnTo>
                  <a:lnTo>
                    <a:pt x="158" y="1029"/>
                  </a:lnTo>
                  <a:lnTo>
                    <a:pt x="133" y="1041"/>
                  </a:lnTo>
                  <a:lnTo>
                    <a:pt x="97" y="1053"/>
                  </a:lnTo>
                  <a:lnTo>
                    <a:pt x="0" y="1053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033960" y="4032000"/>
              <a:ext cx="2089440" cy="1503360"/>
            </a:xfrm>
            <a:custGeom>
              <a:avLst/>
              <a:gdLst/>
              <a:ahLst/>
              <a:rect l="l" t="t" r="r" b="b"/>
              <a:pathLst>
                <a:path w="1319" h="1030">
                  <a:moveTo>
                    <a:pt x="0" y="1017"/>
                  </a:moveTo>
                  <a:lnTo>
                    <a:pt x="85" y="1030"/>
                  </a:lnTo>
                  <a:lnTo>
                    <a:pt x="121" y="1030"/>
                  </a:lnTo>
                  <a:lnTo>
                    <a:pt x="170" y="1030"/>
                  </a:lnTo>
                  <a:lnTo>
                    <a:pt x="194" y="1030"/>
                  </a:lnTo>
                  <a:lnTo>
                    <a:pt x="230" y="1005"/>
                  </a:lnTo>
                  <a:lnTo>
                    <a:pt x="279" y="1005"/>
                  </a:lnTo>
                  <a:lnTo>
                    <a:pt x="327" y="993"/>
                  </a:lnTo>
                  <a:lnTo>
                    <a:pt x="363" y="981"/>
                  </a:lnTo>
                  <a:lnTo>
                    <a:pt x="388" y="969"/>
                  </a:lnTo>
                  <a:lnTo>
                    <a:pt x="448" y="945"/>
                  </a:lnTo>
                  <a:lnTo>
                    <a:pt x="484" y="933"/>
                  </a:lnTo>
                  <a:lnTo>
                    <a:pt x="533" y="908"/>
                  </a:lnTo>
                  <a:lnTo>
                    <a:pt x="605" y="872"/>
                  </a:lnTo>
                  <a:lnTo>
                    <a:pt x="666" y="848"/>
                  </a:lnTo>
                  <a:lnTo>
                    <a:pt x="702" y="824"/>
                  </a:lnTo>
                  <a:lnTo>
                    <a:pt x="763" y="787"/>
                  </a:lnTo>
                  <a:lnTo>
                    <a:pt x="811" y="751"/>
                  </a:lnTo>
                  <a:lnTo>
                    <a:pt x="860" y="715"/>
                  </a:lnTo>
                  <a:lnTo>
                    <a:pt x="896" y="691"/>
                  </a:lnTo>
                  <a:lnTo>
                    <a:pt x="944" y="642"/>
                  </a:lnTo>
                  <a:lnTo>
                    <a:pt x="981" y="618"/>
                  </a:lnTo>
                  <a:lnTo>
                    <a:pt x="1005" y="582"/>
                  </a:lnTo>
                  <a:lnTo>
                    <a:pt x="1041" y="545"/>
                  </a:lnTo>
                  <a:lnTo>
                    <a:pt x="1065" y="509"/>
                  </a:lnTo>
                  <a:lnTo>
                    <a:pt x="1102" y="460"/>
                  </a:lnTo>
                  <a:lnTo>
                    <a:pt x="1114" y="424"/>
                  </a:lnTo>
                  <a:lnTo>
                    <a:pt x="1126" y="388"/>
                  </a:lnTo>
                  <a:lnTo>
                    <a:pt x="1138" y="352"/>
                  </a:lnTo>
                  <a:lnTo>
                    <a:pt x="1150" y="315"/>
                  </a:lnTo>
                  <a:lnTo>
                    <a:pt x="1162" y="279"/>
                  </a:lnTo>
                  <a:lnTo>
                    <a:pt x="1319" y="303"/>
                  </a:lnTo>
                  <a:lnTo>
                    <a:pt x="1295" y="291"/>
                  </a:lnTo>
                  <a:lnTo>
                    <a:pt x="1283" y="267"/>
                  </a:lnTo>
                  <a:lnTo>
                    <a:pt x="1259" y="243"/>
                  </a:lnTo>
                  <a:lnTo>
                    <a:pt x="1235" y="218"/>
                  </a:lnTo>
                  <a:lnTo>
                    <a:pt x="1223" y="194"/>
                  </a:lnTo>
                  <a:lnTo>
                    <a:pt x="1210" y="170"/>
                  </a:lnTo>
                  <a:lnTo>
                    <a:pt x="1198" y="146"/>
                  </a:lnTo>
                  <a:lnTo>
                    <a:pt x="1186" y="109"/>
                  </a:lnTo>
                  <a:lnTo>
                    <a:pt x="1174" y="73"/>
                  </a:lnTo>
                  <a:lnTo>
                    <a:pt x="1162" y="49"/>
                  </a:lnTo>
                  <a:lnTo>
                    <a:pt x="1150" y="25"/>
                  </a:lnTo>
                  <a:lnTo>
                    <a:pt x="1150" y="0"/>
                  </a:lnTo>
                  <a:lnTo>
                    <a:pt x="1126" y="13"/>
                  </a:lnTo>
                  <a:lnTo>
                    <a:pt x="1102" y="37"/>
                  </a:lnTo>
                  <a:lnTo>
                    <a:pt x="1065" y="73"/>
                  </a:lnTo>
                  <a:lnTo>
                    <a:pt x="1041" y="85"/>
                  </a:lnTo>
                  <a:lnTo>
                    <a:pt x="1017" y="109"/>
                  </a:lnTo>
                  <a:lnTo>
                    <a:pt x="1005" y="121"/>
                  </a:lnTo>
                  <a:lnTo>
                    <a:pt x="981" y="146"/>
                  </a:lnTo>
                  <a:lnTo>
                    <a:pt x="932" y="158"/>
                  </a:lnTo>
                  <a:lnTo>
                    <a:pt x="920" y="170"/>
                  </a:lnTo>
                  <a:lnTo>
                    <a:pt x="884" y="182"/>
                  </a:lnTo>
                  <a:lnTo>
                    <a:pt x="847" y="182"/>
                  </a:lnTo>
                  <a:lnTo>
                    <a:pt x="799" y="206"/>
                  </a:lnTo>
                  <a:lnTo>
                    <a:pt x="981" y="243"/>
                  </a:lnTo>
                  <a:lnTo>
                    <a:pt x="968" y="279"/>
                  </a:lnTo>
                  <a:lnTo>
                    <a:pt x="944" y="327"/>
                  </a:lnTo>
                  <a:lnTo>
                    <a:pt x="920" y="376"/>
                  </a:lnTo>
                  <a:lnTo>
                    <a:pt x="896" y="436"/>
                  </a:lnTo>
                  <a:lnTo>
                    <a:pt x="872" y="460"/>
                  </a:lnTo>
                  <a:lnTo>
                    <a:pt x="860" y="485"/>
                  </a:lnTo>
                  <a:lnTo>
                    <a:pt x="835" y="533"/>
                  </a:lnTo>
                  <a:lnTo>
                    <a:pt x="799" y="582"/>
                  </a:lnTo>
                  <a:lnTo>
                    <a:pt x="763" y="606"/>
                  </a:lnTo>
                  <a:lnTo>
                    <a:pt x="739" y="654"/>
                  </a:lnTo>
                  <a:lnTo>
                    <a:pt x="702" y="678"/>
                  </a:lnTo>
                  <a:lnTo>
                    <a:pt x="654" y="715"/>
                  </a:lnTo>
                  <a:lnTo>
                    <a:pt x="630" y="751"/>
                  </a:lnTo>
                  <a:lnTo>
                    <a:pt x="581" y="775"/>
                  </a:lnTo>
                  <a:lnTo>
                    <a:pt x="533" y="812"/>
                  </a:lnTo>
                  <a:lnTo>
                    <a:pt x="496" y="836"/>
                  </a:lnTo>
                  <a:lnTo>
                    <a:pt x="448" y="860"/>
                  </a:lnTo>
                  <a:lnTo>
                    <a:pt x="388" y="896"/>
                  </a:lnTo>
                  <a:lnTo>
                    <a:pt x="339" y="933"/>
                  </a:lnTo>
                  <a:lnTo>
                    <a:pt x="279" y="945"/>
                  </a:lnTo>
                  <a:lnTo>
                    <a:pt x="242" y="969"/>
                  </a:lnTo>
                  <a:lnTo>
                    <a:pt x="206" y="981"/>
                  </a:lnTo>
                  <a:lnTo>
                    <a:pt x="170" y="993"/>
                  </a:lnTo>
                  <a:lnTo>
                    <a:pt x="146" y="1005"/>
                  </a:lnTo>
                  <a:lnTo>
                    <a:pt x="109" y="1005"/>
                  </a:lnTo>
                  <a:lnTo>
                    <a:pt x="0" y="1017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2658960" y="1052640"/>
            <a:ext cx="390060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96120" y="457200"/>
            <a:ext cx="4661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iclo de Investig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397160" y="3759120"/>
            <a:ext cx="3321000" cy="2059200"/>
          </a:xfrm>
          <a:prstGeom prst="rect">
            <a:avLst/>
          </a:prstGeom>
          <a:ln w="0">
            <a:noFill/>
          </a:ln>
        </p:spPr>
      </p:pic>
      <p:grpSp>
        <p:nvGrpSpPr>
          <p:cNvPr id="99" name=""/>
          <p:cNvGrpSpPr/>
          <p:nvPr/>
        </p:nvGrpSpPr>
        <p:grpSpPr>
          <a:xfrm>
            <a:off x="419040" y="1320840"/>
            <a:ext cx="6858000" cy="2278080"/>
            <a:chOff x="419040" y="1320840"/>
            <a:chExt cx="6858000" cy="2278080"/>
          </a:xfrm>
        </p:grpSpPr>
        <p:grpSp>
          <p:nvGrpSpPr>
            <p:cNvPr id="100" name=""/>
            <p:cNvGrpSpPr/>
            <p:nvPr/>
          </p:nvGrpSpPr>
          <p:grpSpPr>
            <a:xfrm>
              <a:off x="5676840" y="1320840"/>
              <a:ext cx="1600200" cy="2262240"/>
              <a:chOff x="5676840" y="1320840"/>
              <a:chExt cx="1600200" cy="2262240"/>
            </a:xfrm>
          </p:grpSpPr>
          <p:sp>
            <p:nvSpPr>
              <p:cNvPr id="101" name=""/>
              <p:cNvSpPr/>
              <p:nvPr/>
            </p:nvSpPr>
            <p:spPr>
              <a:xfrm>
                <a:off x="5676840" y="1320840"/>
                <a:ext cx="1569960" cy="2262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019560" y="2149560"/>
                <a:ext cx="898560" cy="97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165720" y="1425600"/>
                <a:ext cx="600120" cy="51120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305400" y="1540080"/>
                <a:ext cx="33156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P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S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192720" y="2532240"/>
                <a:ext cx="599760" cy="54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ncontr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Lug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875200" y="2149560"/>
                <a:ext cx="1195200" cy="97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725800" y="3198960"/>
                <a:ext cx="155124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bjeto-sin-movimient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462720" y="1936800"/>
                <a:ext cx="0" cy="19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184800" y="14256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3009960" y="1701720"/>
              <a:ext cx="329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419040" y="1320840"/>
              <a:ext cx="4867200" cy="2278080"/>
              <a:chOff x="419040" y="1320840"/>
              <a:chExt cx="4867200" cy="2278080"/>
            </a:xfrm>
          </p:grpSpPr>
          <p:sp>
            <p:nvSpPr>
              <p:cNvPr id="112" name=""/>
              <p:cNvSpPr/>
              <p:nvPr/>
            </p:nvSpPr>
            <p:spPr>
              <a:xfrm>
                <a:off x="419040" y="1320840"/>
                <a:ext cx="4867200" cy="2278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63560" y="2128680"/>
                <a:ext cx="898560" cy="97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909720" y="2120760"/>
                <a:ext cx="600120" cy="51120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12760" y="2235240"/>
                <a:ext cx="20340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P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P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955800" y="2692440"/>
                <a:ext cx="48852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Apare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19200" y="2128680"/>
                <a:ext cx="1195200" cy="97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394000" y="2136600"/>
                <a:ext cx="898560" cy="97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540160" y="2128680"/>
                <a:ext cx="599760" cy="51120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681280" y="2243160"/>
                <a:ext cx="32976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P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Pres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508480" y="2700360"/>
                <a:ext cx="64224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Adq-Pres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49640" y="2136600"/>
                <a:ext cx="1195200" cy="97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024440" y="2144520"/>
                <a:ext cx="898560" cy="97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170240" y="2136600"/>
                <a:ext cx="600120" cy="51120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252320" y="2251080"/>
                <a:ext cx="44712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P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Depr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083840" y="2708280"/>
                <a:ext cx="75204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vit-Depr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879720" y="2144520"/>
                <a:ext cx="1195560" cy="97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170440" y="3195720"/>
                <a:ext cx="147276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bjeto-con-movimient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548080" y="1419120"/>
                <a:ext cx="599760" cy="51120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680200" y="1533600"/>
                <a:ext cx="34812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P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C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844720" y="1930320"/>
                <a:ext cx="0" cy="19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228680" y="1931760"/>
                <a:ext cx="3246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228680" y="1922400"/>
                <a:ext cx="0" cy="19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476600" y="1930320"/>
                <a:ext cx="0" cy="19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033560" y="19303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84600" y="19303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671920" y="1952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319040" y="2289240"/>
                <a:ext cx="1425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955960" y="2289240"/>
                <a:ext cx="1425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>
                <a:off x="3057120" y="2495520"/>
                <a:ext cx="119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1410840" y="2487600"/>
                <a:ext cx="119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35480" y="21128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697120" y="21067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4" name=""/>
          <p:cNvSpPr/>
          <p:nvPr/>
        </p:nvSpPr>
        <p:spPr>
          <a:xfrm>
            <a:off x="2714760" y="6004080"/>
            <a:ext cx="600120" cy="5112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69680" y="6324480"/>
            <a:ext cx="1547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quema Perceptual (P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86120" y="6311880"/>
            <a:ext cx="1370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quema Principal 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14280" y="5965920"/>
            <a:ext cx="638280" cy="557280"/>
            <a:chOff x="314280" y="5965920"/>
            <a:chExt cx="638280" cy="557280"/>
          </a:xfrm>
        </p:grpSpPr>
        <p:sp>
          <p:nvSpPr>
            <p:cNvPr id="148" name=""/>
            <p:cNvSpPr/>
            <p:nvPr/>
          </p:nvSpPr>
          <p:spPr>
            <a:xfrm>
              <a:off x="391320" y="5965920"/>
              <a:ext cx="479880" cy="55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4280" y="5965920"/>
              <a:ext cx="638280" cy="55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1492920" y="317520"/>
            <a:ext cx="6262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odelado (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Rana Computatrix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305320" y="4292640"/>
            <a:ext cx="309564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104840" y="0"/>
            <a:ext cx="66315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odelo Esquemático Neuro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975280" y="5289480"/>
            <a:ext cx="762120" cy="7621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16240" y="5167440"/>
            <a:ext cx="762120" cy="7617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51400" y="5518080"/>
            <a:ext cx="762120" cy="7621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13520" y="4603680"/>
            <a:ext cx="761760" cy="7621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56160" y="1679400"/>
            <a:ext cx="154080" cy="3042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757680" y="3720960"/>
            <a:ext cx="1042920" cy="189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891040" y="2806560"/>
            <a:ext cx="479520" cy="2575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29280" y="3720960"/>
            <a:ext cx="1135080" cy="1683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24320" y="2065320"/>
            <a:ext cx="206280" cy="3214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6516720" y="1770120"/>
            <a:ext cx="326880" cy="36417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030400" y="2112840"/>
            <a:ext cx="762120" cy="7621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725280" y="5883120"/>
            <a:ext cx="39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29960" y="2058840"/>
            <a:ext cx="65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4800" y="2782800"/>
            <a:ext cx="351000" cy="12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23000" y="4916520"/>
            <a:ext cx="662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1-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091760" y="5502240"/>
            <a:ext cx="39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20560" y="6021360"/>
            <a:ext cx="65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17920" y="4282920"/>
            <a:ext cx="730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ct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220640" y="6280200"/>
            <a:ext cx="9684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Tect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alam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376440" y="2959200"/>
            <a:ext cx="762120" cy="7617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98320" y="5183280"/>
            <a:ext cx="762120" cy="7617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635080" y="6127920"/>
            <a:ext cx="11635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eading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01960" y="5730840"/>
            <a:ext cx="647640" cy="317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3841920" y="5213160"/>
            <a:ext cx="1346040" cy="393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3887640" y="5000760"/>
            <a:ext cx="134640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54520" y="5594400"/>
            <a:ext cx="595080" cy="301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1031400" y="3218040"/>
            <a:ext cx="335160" cy="2065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55800" y="2440080"/>
            <a:ext cx="761760" cy="7617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38560" y="2044800"/>
            <a:ext cx="762120" cy="7617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22680" y="2530440"/>
            <a:ext cx="684000" cy="582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19440" y="2806560"/>
            <a:ext cx="395640" cy="2833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44600" y="3720960"/>
            <a:ext cx="11145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tic Ob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ogniz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97080" y="565200"/>
            <a:ext cx="1372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y Recogniz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137200" y="5746680"/>
            <a:ext cx="838080" cy="152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899320" y="4984920"/>
            <a:ext cx="144360" cy="41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212080" y="5899320"/>
            <a:ext cx="601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47840" y="4862520"/>
            <a:ext cx="56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5_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586480" y="2044800"/>
            <a:ext cx="761760" cy="7617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16200" y="3720960"/>
            <a:ext cx="11145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tic Ob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oid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24360" y="2959200"/>
            <a:ext cx="762120" cy="7617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16560" y="666720"/>
            <a:ext cx="1262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y Approa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437600" y="1601640"/>
            <a:ext cx="761760" cy="7621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235360" y="1639800"/>
            <a:ext cx="790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w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02360" y="2135160"/>
            <a:ext cx="762120" cy="7621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204040" y="2173320"/>
            <a:ext cx="642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r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485040" y="2754360"/>
            <a:ext cx="761760" cy="7621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093440" y="3448080"/>
            <a:ext cx="793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dest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43680" y="3416400"/>
            <a:ext cx="761760" cy="7617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726680" y="2760840"/>
            <a:ext cx="909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ckw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123400" y="1982880"/>
            <a:ext cx="7617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58280" y="2568600"/>
            <a:ext cx="7617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170840" y="3110040"/>
            <a:ext cx="7617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729480" y="3797280"/>
            <a:ext cx="7617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24360" y="2425680"/>
            <a:ext cx="762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062240" y="3294000"/>
            <a:ext cx="762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272280" y="2349360"/>
            <a:ext cx="723960" cy="82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280200" y="2357280"/>
            <a:ext cx="168120" cy="662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5510160" y="3072960"/>
            <a:ext cx="938160" cy="190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433840" y="3340080"/>
            <a:ext cx="6858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4160" y="3811680"/>
            <a:ext cx="68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act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1520" y="3370320"/>
            <a:ext cx="397080" cy="3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98600" y="3049560"/>
            <a:ext cx="761760" cy="7621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182600" y="3416400"/>
            <a:ext cx="36417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5433840" y="2502000"/>
            <a:ext cx="508320" cy="457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04640" y="4254480"/>
            <a:ext cx="86868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45440" y="685800"/>
            <a:ext cx="2814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ivel Comportamiento: Esquem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83240" y="6553080"/>
            <a:ext cx="2978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ivel Estructural: Redes Neuron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094200" y="1320840"/>
            <a:ext cx="761760" cy="7621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864160" y="757080"/>
            <a:ext cx="14364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ving Stimul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l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741840" y="1709640"/>
            <a:ext cx="395280" cy="722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736720" y="1781280"/>
            <a:ext cx="595440" cy="64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1276200" y="5381640"/>
            <a:ext cx="646200" cy="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1262160" y="5678640"/>
            <a:ext cx="645840" cy="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1255680" y="5823000"/>
            <a:ext cx="646200" cy="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57560" y="5084640"/>
            <a:ext cx="662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1-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342440" y="5389560"/>
            <a:ext cx="39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48560" y="5892840"/>
            <a:ext cx="39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78640" y="6087960"/>
            <a:ext cx="1099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xSel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183280" y="925560"/>
            <a:ext cx="761760" cy="7621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320360" y="1573200"/>
            <a:ext cx="10004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d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ogniz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8560" y="1023840"/>
            <a:ext cx="762120" cy="7621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491440" y="1757520"/>
            <a:ext cx="1283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dator Avo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869080" y="1306440"/>
            <a:ext cx="609480" cy="11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164360" y="1413000"/>
            <a:ext cx="388800" cy="268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7118280" y="1405080"/>
            <a:ext cx="38160" cy="77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765600" y="1305000"/>
            <a:ext cx="1407960" cy="395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924200" y="5191200"/>
            <a:ext cx="761760" cy="7617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1619280" y="2575080"/>
            <a:ext cx="449280" cy="185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2303280" y="2887560"/>
            <a:ext cx="53640" cy="24465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610000" y="5349960"/>
            <a:ext cx="645840" cy="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2595600" y="5646600"/>
            <a:ext cx="646200" cy="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2589120" y="5791320"/>
            <a:ext cx="646200" cy="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691000" y="5052960"/>
            <a:ext cx="662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1-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675880" y="5357880"/>
            <a:ext cx="39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682000" y="5861160"/>
            <a:ext cx="39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167200" y="174960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p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22400" y="6060960"/>
            <a:ext cx="686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ere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084320" y="216000"/>
            <a:ext cx="71071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jemplo Modelad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aptura de Presa con Obstácul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097280" y="5983200"/>
            <a:ext cx="23508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rrera 20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tes de Aprendiza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39080" y="5965920"/>
            <a:ext cx="26190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rrera 20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pués de Aprendiza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1201680" y="1778040"/>
          <a:ext cx="7040520" cy="409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1680" y="1778040"/>
                    <a:ext cx="7040520" cy="40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1101960" y="2212920"/>
            <a:ext cx="1521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rrera 10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687840" y="307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627360" y="234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3313080" y="1179360"/>
            <a:ext cx="4743360" cy="54626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3535200" y="22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524400" y="22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925360" y="142920"/>
            <a:ext cx="304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quisición de 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158760" y="990720"/>
            <a:ext cx="2685960" cy="5105160"/>
            <a:chOff x="158760" y="990720"/>
            <a:chExt cx="2685960" cy="5105160"/>
          </a:xfrm>
        </p:grpSpPr>
        <p:sp>
          <p:nvSpPr>
            <p:cNvPr id="263" name=""/>
            <p:cNvSpPr/>
            <p:nvPr/>
          </p:nvSpPr>
          <p:spPr>
            <a:xfrm>
              <a:off x="158760" y="990720"/>
              <a:ext cx="2443320" cy="49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Campos Visua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Depredator (PreTectum)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Presa (Tectum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Integrador (MHM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Orientador (MHM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55600" y="2247840"/>
              <a:ext cx="163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193760" y="3632040"/>
              <a:ext cx="163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181160" y="5003640"/>
              <a:ext cx="163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206360" y="6095880"/>
              <a:ext cx="163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3166920" y="12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DetourFig5" descr=""/>
          <p:cNvPicPr/>
          <p:nvPr/>
        </p:nvPicPr>
        <p:blipFill>
          <a:blip r:embed="rId1"/>
          <a:stretch/>
        </p:blipFill>
        <p:spPr>
          <a:xfrm>
            <a:off x="4513320" y="181080"/>
            <a:ext cx="4155840" cy="64674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531360" y="0"/>
            <a:ext cx="30441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quisición de 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Barrera 10 c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743400" y="1130400"/>
            <a:ext cx="2685600" cy="5194080"/>
            <a:chOff x="743400" y="1130400"/>
            <a:chExt cx="2685600" cy="5194080"/>
          </a:xfrm>
        </p:grpSpPr>
        <p:sp>
          <p:nvSpPr>
            <p:cNvPr id="272" name=""/>
            <p:cNvSpPr/>
            <p:nvPr/>
          </p:nvSpPr>
          <p:spPr>
            <a:xfrm>
              <a:off x="743400" y="1219320"/>
              <a:ext cx="2042280" cy="49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Barrera (PreTectum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Presa (Tectum)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Integrador (MHM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Orientador (MHM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Tact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739880" y="2476440"/>
              <a:ext cx="163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778040" y="3860640"/>
              <a:ext cx="163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765440" y="5232240"/>
              <a:ext cx="163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790640" y="6324480"/>
              <a:ext cx="163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765440" y="1130400"/>
              <a:ext cx="163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53360" y="0"/>
            <a:ext cx="37699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quisición de 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Barrera 20 cm antes de colisi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019320" y="100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DetourFig7" descr=""/>
          <p:cNvPicPr/>
          <p:nvPr/>
        </p:nvPicPr>
        <p:blipFill>
          <a:blip r:embed="rId1"/>
          <a:stretch/>
        </p:blipFill>
        <p:spPr>
          <a:xfrm>
            <a:off x="4183200" y="165240"/>
            <a:ext cx="4171680" cy="6514920"/>
          </a:xfrm>
          <a:prstGeom prst="rect">
            <a:avLst/>
          </a:prstGeom>
          <a:ln w="0">
            <a:noFill/>
          </a:ln>
        </p:spPr>
      </p:pic>
      <p:grpSp>
        <p:nvGrpSpPr>
          <p:cNvPr id="281" name=""/>
          <p:cNvGrpSpPr/>
          <p:nvPr/>
        </p:nvGrpSpPr>
        <p:grpSpPr>
          <a:xfrm>
            <a:off x="743400" y="1130400"/>
            <a:ext cx="2685600" cy="5194080"/>
            <a:chOff x="743400" y="1130400"/>
            <a:chExt cx="2685600" cy="5194080"/>
          </a:xfrm>
        </p:grpSpPr>
        <p:sp>
          <p:nvSpPr>
            <p:cNvPr id="282" name=""/>
            <p:cNvSpPr/>
            <p:nvPr/>
          </p:nvSpPr>
          <p:spPr>
            <a:xfrm>
              <a:off x="743400" y="1219320"/>
              <a:ext cx="2042280" cy="49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Barrera (PreTectum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Presa (Tectum)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Integrador (MHM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Orientador (MHM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Tact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739880" y="2476440"/>
              <a:ext cx="163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778040" y="3860640"/>
              <a:ext cx="163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765440" y="5232240"/>
              <a:ext cx="163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790640" y="6324480"/>
              <a:ext cx="163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765440" y="1130400"/>
              <a:ext cx="163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7T18:04:01Z</dcterms:created>
  <dc:creator>Alfredo Weitzenfeld</dc:creator>
  <dc:description/>
  <dc:language>en-US</dc:language>
  <cp:lastModifiedBy>cudi5</cp:lastModifiedBy>
  <cp:lastPrinted>1999-05-31T17:03:10Z</cp:lastPrinted>
  <dcterms:modified xsi:type="dcterms:W3CDTF">2003-04-03T23:41:32Z</dcterms:modified>
  <cp:revision>837</cp:revision>
  <dc:subject/>
  <dc:title>No Slide Title</dc:title>
</cp:coreProperties>
</file>