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7480" y="6275520"/>
            <a:ext cx="1123920" cy="37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85800" y="6172200"/>
            <a:ext cx="9907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352680" cy="167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8120"/>
            <a:ext cx="8763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 Unicode MS"/>
                <a:ea typeface="Arial"/>
              </a:rPr>
              <a:t>Mediciones activas de desempeño para evaluar calidad de servicio en redes I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"/>
              </a:rPr>
              <a:t>José A. Inc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valuación ENST-B - ITAM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47680" y="1314360"/>
            <a:ext cx="4125240" cy="3082320"/>
            <a:chOff x="247680" y="1314360"/>
            <a:chExt cx="4125240" cy="3082320"/>
          </a:xfrm>
        </p:grpSpPr>
        <p:sp>
          <p:nvSpPr>
            <p:cNvPr id="152" name=""/>
            <p:cNvSpPr/>
            <p:nvPr/>
          </p:nvSpPr>
          <p:spPr>
            <a:xfrm>
              <a:off x="1731960" y="409140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Muestra (10</a:t>
              </a:r>
              <a:r>
                <a:rPr b="0" lang="es-MX" sz="2000" spc="-1" strike="noStrike" baseline="30000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627840" y="2676960"/>
              <a:ext cx="20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Retardo (</a:t>
              </a:r>
              <a:r>
                <a:rPr b="0" lang="es-MX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s x 10</a:t>
              </a:r>
              <a:r>
                <a:rPr b="0" lang="es-MX" sz="2000" spc="-1" strike="noStrike" baseline="30000">
                  <a:solidFill>
                    <a:srgbClr val="3333cc"/>
                  </a:solidFill>
                  <a:latin typeface="Arial"/>
                </a:rPr>
                <a:t>5</a:t>
              </a: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11440" y="1314360"/>
              <a:ext cx="3561480" cy="2810880"/>
              <a:chOff x="811440" y="1314360"/>
              <a:chExt cx="3561480" cy="2810880"/>
            </a:xfrm>
          </p:grpSpPr>
          <p:sp>
            <p:nvSpPr>
              <p:cNvPr id="155" name=""/>
              <p:cNvSpPr/>
              <p:nvPr/>
            </p:nvSpPr>
            <p:spPr>
              <a:xfrm>
                <a:off x="1108080" y="1430280"/>
                <a:ext cx="3085920" cy="243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08080" y="1430280"/>
                <a:ext cx="3085920" cy="2431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08080" y="1430280"/>
                <a:ext cx="3085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08080" y="1430280"/>
                <a:ext cx="3085920" cy="2431440"/>
              </a:xfrm>
              <a:custGeom>
                <a:avLst/>
                <a:gdLst/>
                <a:ahLst/>
                <a:rect l="l" t="t" r="r" b="b"/>
                <a:pathLst>
                  <a:path w="433" h="341">
                    <a:moveTo>
                      <a:pt x="0" y="341"/>
                    </a:moveTo>
                    <a:lnTo>
                      <a:pt x="433" y="341"/>
                    </a:lnTo>
                    <a:lnTo>
                      <a:pt x="4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1108080" y="1430280"/>
                <a:ext cx="1080" cy="243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08080" y="3853080"/>
                <a:ext cx="3085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108080" y="1430280"/>
                <a:ext cx="1080" cy="243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108080" y="382500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08080" y="143028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81080" y="3881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728000" y="3825000"/>
                <a:ext cx="14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28000" y="1430280"/>
                <a:ext cx="14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88680" y="38815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341080" y="382500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41080" y="143028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8520" y="3881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961360" y="3825000"/>
                <a:ext cx="14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61360" y="1430280"/>
                <a:ext cx="14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58400" y="38815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574440" y="382500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74440" y="143028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21880" y="38815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194360" y="382500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94360" y="1430280"/>
                <a:ext cx="108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90320" y="38815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08080" y="38530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166280" y="38530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1440" y="3744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08080" y="355572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4166280" y="355572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72000" y="34398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08080" y="32554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166280" y="32554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11440" y="3132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08080" y="294984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4166280" y="294984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72000" y="28263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08080" y="264960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166280" y="264960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1440" y="25290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08080" y="234360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166280" y="234360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72000" y="22273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108080" y="203652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166280" y="2036520"/>
                <a:ext cx="28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11440" y="19159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08080" y="173736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166280" y="173736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72000" y="16200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08080" y="14302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166280" y="1430280"/>
                <a:ext cx="28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1440" y="1314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08080" y="1430280"/>
                <a:ext cx="3085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08080" y="1430280"/>
                <a:ext cx="3085920" cy="2431440"/>
              </a:xfrm>
              <a:custGeom>
                <a:avLst/>
                <a:gdLst/>
                <a:ahLst/>
                <a:rect l="l" t="t" r="r" b="b"/>
                <a:pathLst>
                  <a:path w="433" h="341">
                    <a:moveTo>
                      <a:pt x="0" y="341"/>
                    </a:moveTo>
                    <a:lnTo>
                      <a:pt x="433" y="341"/>
                    </a:lnTo>
                    <a:lnTo>
                      <a:pt x="4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1108080" y="1430280"/>
                <a:ext cx="1080" cy="243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08080" y="2421360"/>
                <a:ext cx="441720" cy="1068840"/>
              </a:xfrm>
              <a:custGeom>
                <a:avLst/>
                <a:gdLst/>
                <a:ahLst/>
                <a:rect l="l" t="t" r="r" b="b"/>
                <a:pathLst>
                  <a:path w="312" h="755">
                    <a:moveTo>
                      <a:pt x="0" y="745"/>
                    </a:moveTo>
                    <a:lnTo>
                      <a:pt x="0" y="750"/>
                    </a:lnTo>
                    <a:lnTo>
                      <a:pt x="0" y="745"/>
                    </a:lnTo>
                    <a:lnTo>
                      <a:pt x="0" y="750"/>
                    </a:lnTo>
                    <a:lnTo>
                      <a:pt x="0" y="740"/>
                    </a:lnTo>
                    <a:lnTo>
                      <a:pt x="0" y="745"/>
                    </a:lnTo>
                    <a:lnTo>
                      <a:pt x="0" y="740"/>
                    </a:lnTo>
                    <a:lnTo>
                      <a:pt x="0" y="745"/>
                    </a:lnTo>
                    <a:lnTo>
                      <a:pt x="5" y="750"/>
                    </a:lnTo>
                    <a:lnTo>
                      <a:pt x="5" y="745"/>
                    </a:lnTo>
                    <a:lnTo>
                      <a:pt x="5" y="725"/>
                    </a:lnTo>
                    <a:lnTo>
                      <a:pt x="5" y="710"/>
                    </a:lnTo>
                    <a:lnTo>
                      <a:pt x="5" y="584"/>
                    </a:lnTo>
                    <a:lnTo>
                      <a:pt x="5" y="650"/>
                    </a:lnTo>
                    <a:lnTo>
                      <a:pt x="5" y="539"/>
                    </a:lnTo>
                    <a:lnTo>
                      <a:pt x="5" y="740"/>
                    </a:lnTo>
                    <a:lnTo>
                      <a:pt x="5" y="715"/>
                    </a:lnTo>
                    <a:lnTo>
                      <a:pt x="5" y="589"/>
                    </a:lnTo>
                    <a:lnTo>
                      <a:pt x="5" y="710"/>
                    </a:lnTo>
                    <a:lnTo>
                      <a:pt x="5" y="745"/>
                    </a:lnTo>
                    <a:lnTo>
                      <a:pt x="5" y="700"/>
                    </a:lnTo>
                    <a:lnTo>
                      <a:pt x="5" y="690"/>
                    </a:lnTo>
                    <a:lnTo>
                      <a:pt x="5" y="720"/>
                    </a:lnTo>
                    <a:lnTo>
                      <a:pt x="5" y="433"/>
                    </a:lnTo>
                    <a:lnTo>
                      <a:pt x="5" y="494"/>
                    </a:lnTo>
                    <a:lnTo>
                      <a:pt x="5" y="620"/>
                    </a:lnTo>
                    <a:lnTo>
                      <a:pt x="5" y="650"/>
                    </a:lnTo>
                    <a:lnTo>
                      <a:pt x="5" y="599"/>
                    </a:lnTo>
                    <a:lnTo>
                      <a:pt x="5" y="458"/>
                    </a:lnTo>
                    <a:lnTo>
                      <a:pt x="5" y="589"/>
                    </a:lnTo>
                    <a:lnTo>
                      <a:pt x="5" y="630"/>
                    </a:lnTo>
                    <a:lnTo>
                      <a:pt x="5" y="559"/>
                    </a:lnTo>
                    <a:lnTo>
                      <a:pt x="5" y="725"/>
                    </a:lnTo>
                    <a:lnTo>
                      <a:pt x="5" y="599"/>
                    </a:lnTo>
                    <a:lnTo>
                      <a:pt x="5" y="745"/>
                    </a:lnTo>
                    <a:lnTo>
                      <a:pt x="5" y="650"/>
                    </a:lnTo>
                    <a:lnTo>
                      <a:pt x="5" y="645"/>
                    </a:lnTo>
                    <a:lnTo>
                      <a:pt x="5" y="524"/>
                    </a:lnTo>
                    <a:lnTo>
                      <a:pt x="5" y="635"/>
                    </a:lnTo>
                    <a:lnTo>
                      <a:pt x="5" y="745"/>
                    </a:lnTo>
                    <a:lnTo>
                      <a:pt x="5" y="695"/>
                    </a:lnTo>
                    <a:lnTo>
                      <a:pt x="5" y="715"/>
                    </a:lnTo>
                    <a:lnTo>
                      <a:pt x="5" y="745"/>
                    </a:lnTo>
                    <a:lnTo>
                      <a:pt x="5" y="740"/>
                    </a:lnTo>
                    <a:lnTo>
                      <a:pt x="10" y="745"/>
                    </a:lnTo>
                    <a:lnTo>
                      <a:pt x="10" y="740"/>
                    </a:lnTo>
                    <a:lnTo>
                      <a:pt x="10" y="745"/>
                    </a:lnTo>
                    <a:lnTo>
                      <a:pt x="10" y="604"/>
                    </a:lnTo>
                    <a:lnTo>
                      <a:pt x="10" y="257"/>
                    </a:lnTo>
                    <a:lnTo>
                      <a:pt x="10" y="297"/>
                    </a:lnTo>
                    <a:lnTo>
                      <a:pt x="10" y="232"/>
                    </a:lnTo>
                    <a:lnTo>
                      <a:pt x="10" y="594"/>
                    </a:lnTo>
                    <a:lnTo>
                      <a:pt x="10" y="625"/>
                    </a:lnTo>
                    <a:lnTo>
                      <a:pt x="10" y="640"/>
                    </a:lnTo>
                    <a:lnTo>
                      <a:pt x="10" y="635"/>
                    </a:lnTo>
                    <a:lnTo>
                      <a:pt x="10" y="609"/>
                    </a:lnTo>
                    <a:lnTo>
                      <a:pt x="10" y="665"/>
                    </a:lnTo>
                    <a:lnTo>
                      <a:pt x="10" y="604"/>
                    </a:lnTo>
                    <a:lnTo>
                      <a:pt x="10" y="745"/>
                    </a:lnTo>
                    <a:lnTo>
                      <a:pt x="10" y="614"/>
                    </a:lnTo>
                    <a:lnTo>
                      <a:pt x="10" y="473"/>
                    </a:lnTo>
                    <a:lnTo>
                      <a:pt x="10" y="650"/>
                    </a:lnTo>
                    <a:lnTo>
                      <a:pt x="10" y="614"/>
                    </a:lnTo>
                    <a:lnTo>
                      <a:pt x="10" y="745"/>
                    </a:lnTo>
                    <a:lnTo>
                      <a:pt x="10" y="584"/>
                    </a:lnTo>
                    <a:lnTo>
                      <a:pt x="10" y="645"/>
                    </a:lnTo>
                    <a:lnTo>
                      <a:pt x="10" y="695"/>
                    </a:lnTo>
                    <a:lnTo>
                      <a:pt x="10" y="544"/>
                    </a:lnTo>
                    <a:lnTo>
                      <a:pt x="10" y="635"/>
                    </a:lnTo>
                    <a:lnTo>
                      <a:pt x="10" y="625"/>
                    </a:lnTo>
                    <a:lnTo>
                      <a:pt x="10" y="745"/>
                    </a:lnTo>
                    <a:lnTo>
                      <a:pt x="10" y="620"/>
                    </a:lnTo>
                    <a:lnTo>
                      <a:pt x="10" y="584"/>
                    </a:lnTo>
                    <a:lnTo>
                      <a:pt x="10" y="625"/>
                    </a:lnTo>
                    <a:lnTo>
                      <a:pt x="10" y="710"/>
                    </a:lnTo>
                    <a:lnTo>
                      <a:pt x="10" y="745"/>
                    </a:lnTo>
                    <a:lnTo>
                      <a:pt x="10" y="549"/>
                    </a:lnTo>
                    <a:lnTo>
                      <a:pt x="10" y="745"/>
                    </a:lnTo>
                    <a:lnTo>
                      <a:pt x="10" y="609"/>
                    </a:lnTo>
                    <a:lnTo>
                      <a:pt x="10" y="745"/>
                    </a:lnTo>
                    <a:lnTo>
                      <a:pt x="10" y="574"/>
                    </a:lnTo>
                    <a:lnTo>
                      <a:pt x="10" y="630"/>
                    </a:lnTo>
                    <a:lnTo>
                      <a:pt x="15" y="574"/>
                    </a:lnTo>
                    <a:lnTo>
                      <a:pt x="15" y="745"/>
                    </a:lnTo>
                    <a:lnTo>
                      <a:pt x="15" y="695"/>
                    </a:lnTo>
                    <a:lnTo>
                      <a:pt x="15" y="715"/>
                    </a:lnTo>
                    <a:lnTo>
                      <a:pt x="15" y="745"/>
                    </a:lnTo>
                    <a:lnTo>
                      <a:pt x="15" y="720"/>
                    </a:lnTo>
                    <a:lnTo>
                      <a:pt x="15" y="745"/>
                    </a:lnTo>
                    <a:lnTo>
                      <a:pt x="15" y="705"/>
                    </a:lnTo>
                    <a:lnTo>
                      <a:pt x="15" y="720"/>
                    </a:lnTo>
                    <a:lnTo>
                      <a:pt x="15" y="715"/>
                    </a:lnTo>
                    <a:lnTo>
                      <a:pt x="15" y="745"/>
                    </a:lnTo>
                    <a:lnTo>
                      <a:pt x="15" y="740"/>
                    </a:lnTo>
                    <a:lnTo>
                      <a:pt x="15" y="745"/>
                    </a:lnTo>
                    <a:lnTo>
                      <a:pt x="15" y="740"/>
                    </a:lnTo>
                    <a:lnTo>
                      <a:pt x="15" y="745"/>
                    </a:lnTo>
                    <a:lnTo>
                      <a:pt x="15" y="750"/>
                    </a:lnTo>
                    <a:lnTo>
                      <a:pt x="20" y="745"/>
                    </a:lnTo>
                    <a:lnTo>
                      <a:pt x="20" y="740"/>
                    </a:lnTo>
                    <a:lnTo>
                      <a:pt x="20" y="745"/>
                    </a:lnTo>
                    <a:lnTo>
                      <a:pt x="20" y="740"/>
                    </a:lnTo>
                    <a:lnTo>
                      <a:pt x="20" y="745"/>
                    </a:lnTo>
                    <a:lnTo>
                      <a:pt x="20" y="740"/>
                    </a:lnTo>
                    <a:lnTo>
                      <a:pt x="20" y="745"/>
                    </a:lnTo>
                    <a:lnTo>
                      <a:pt x="20" y="740"/>
                    </a:lnTo>
                    <a:lnTo>
                      <a:pt x="20" y="75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25" y="740"/>
                    </a:lnTo>
                    <a:lnTo>
                      <a:pt x="25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0" y="745"/>
                    </a:lnTo>
                    <a:lnTo>
                      <a:pt x="30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3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55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35" y="745"/>
                    </a:lnTo>
                    <a:lnTo>
                      <a:pt x="35" y="740"/>
                    </a:lnTo>
                    <a:lnTo>
                      <a:pt x="40" y="745"/>
                    </a:lnTo>
                    <a:lnTo>
                      <a:pt x="40" y="740"/>
                    </a:lnTo>
                    <a:lnTo>
                      <a:pt x="40" y="745"/>
                    </a:lnTo>
                    <a:lnTo>
                      <a:pt x="40" y="740"/>
                    </a:lnTo>
                    <a:lnTo>
                      <a:pt x="40" y="745"/>
                    </a:lnTo>
                    <a:lnTo>
                      <a:pt x="40" y="740"/>
                    </a:lnTo>
                    <a:lnTo>
                      <a:pt x="40" y="745"/>
                    </a:lnTo>
                    <a:lnTo>
                      <a:pt x="40" y="740"/>
                    </a:lnTo>
                    <a:lnTo>
                      <a:pt x="40" y="745"/>
                    </a:lnTo>
                    <a:lnTo>
                      <a:pt x="40" y="735"/>
                    </a:lnTo>
                    <a:lnTo>
                      <a:pt x="40" y="745"/>
                    </a:lnTo>
                    <a:lnTo>
                      <a:pt x="40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35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45" y="745"/>
                    </a:lnTo>
                    <a:lnTo>
                      <a:pt x="45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35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0" y="745"/>
                    </a:lnTo>
                    <a:lnTo>
                      <a:pt x="50" y="740"/>
                    </a:lnTo>
                    <a:lnTo>
                      <a:pt x="55" y="745"/>
                    </a:lnTo>
                    <a:lnTo>
                      <a:pt x="55" y="740"/>
                    </a:lnTo>
                    <a:lnTo>
                      <a:pt x="55" y="745"/>
                    </a:lnTo>
                    <a:lnTo>
                      <a:pt x="55" y="730"/>
                    </a:lnTo>
                    <a:lnTo>
                      <a:pt x="55" y="745"/>
                    </a:lnTo>
                    <a:lnTo>
                      <a:pt x="55" y="740"/>
                    </a:lnTo>
                    <a:lnTo>
                      <a:pt x="55" y="745"/>
                    </a:lnTo>
                    <a:lnTo>
                      <a:pt x="55" y="720"/>
                    </a:lnTo>
                    <a:lnTo>
                      <a:pt x="55" y="745"/>
                    </a:lnTo>
                    <a:lnTo>
                      <a:pt x="55" y="725"/>
                    </a:lnTo>
                    <a:lnTo>
                      <a:pt x="55" y="730"/>
                    </a:lnTo>
                    <a:lnTo>
                      <a:pt x="55" y="740"/>
                    </a:lnTo>
                    <a:lnTo>
                      <a:pt x="55" y="750"/>
                    </a:lnTo>
                    <a:lnTo>
                      <a:pt x="55" y="745"/>
                    </a:lnTo>
                    <a:lnTo>
                      <a:pt x="55" y="715"/>
                    </a:lnTo>
                    <a:lnTo>
                      <a:pt x="55" y="745"/>
                    </a:lnTo>
                    <a:lnTo>
                      <a:pt x="55" y="730"/>
                    </a:lnTo>
                    <a:lnTo>
                      <a:pt x="55" y="720"/>
                    </a:lnTo>
                    <a:lnTo>
                      <a:pt x="55" y="745"/>
                    </a:lnTo>
                    <a:lnTo>
                      <a:pt x="55" y="735"/>
                    </a:lnTo>
                    <a:lnTo>
                      <a:pt x="55" y="740"/>
                    </a:lnTo>
                    <a:lnTo>
                      <a:pt x="55" y="720"/>
                    </a:lnTo>
                    <a:lnTo>
                      <a:pt x="55" y="745"/>
                    </a:lnTo>
                    <a:lnTo>
                      <a:pt x="55" y="730"/>
                    </a:lnTo>
                    <a:lnTo>
                      <a:pt x="55" y="725"/>
                    </a:lnTo>
                    <a:lnTo>
                      <a:pt x="55" y="745"/>
                    </a:lnTo>
                    <a:lnTo>
                      <a:pt x="55" y="740"/>
                    </a:lnTo>
                    <a:lnTo>
                      <a:pt x="55" y="720"/>
                    </a:lnTo>
                    <a:lnTo>
                      <a:pt x="55" y="730"/>
                    </a:lnTo>
                    <a:lnTo>
                      <a:pt x="55" y="695"/>
                    </a:lnTo>
                    <a:lnTo>
                      <a:pt x="55" y="740"/>
                    </a:lnTo>
                    <a:lnTo>
                      <a:pt x="55" y="720"/>
                    </a:lnTo>
                    <a:lnTo>
                      <a:pt x="55" y="745"/>
                    </a:lnTo>
                    <a:lnTo>
                      <a:pt x="55" y="740"/>
                    </a:lnTo>
                    <a:lnTo>
                      <a:pt x="55" y="745"/>
                    </a:lnTo>
                    <a:lnTo>
                      <a:pt x="55" y="740"/>
                    </a:lnTo>
                    <a:lnTo>
                      <a:pt x="55" y="735"/>
                    </a:lnTo>
                    <a:lnTo>
                      <a:pt x="55" y="745"/>
                    </a:lnTo>
                    <a:lnTo>
                      <a:pt x="55" y="735"/>
                    </a:lnTo>
                    <a:lnTo>
                      <a:pt x="55" y="745"/>
                    </a:lnTo>
                    <a:lnTo>
                      <a:pt x="55" y="720"/>
                    </a:lnTo>
                    <a:lnTo>
                      <a:pt x="60" y="715"/>
                    </a:lnTo>
                    <a:lnTo>
                      <a:pt x="60" y="745"/>
                    </a:lnTo>
                    <a:lnTo>
                      <a:pt x="60" y="725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25"/>
                    </a:lnTo>
                    <a:lnTo>
                      <a:pt x="60" y="745"/>
                    </a:lnTo>
                    <a:lnTo>
                      <a:pt x="60" y="715"/>
                    </a:lnTo>
                    <a:lnTo>
                      <a:pt x="60" y="735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30"/>
                    </a:lnTo>
                    <a:lnTo>
                      <a:pt x="60" y="745"/>
                    </a:lnTo>
                    <a:lnTo>
                      <a:pt x="60" y="725"/>
                    </a:lnTo>
                    <a:lnTo>
                      <a:pt x="60" y="720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30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25"/>
                    </a:lnTo>
                    <a:lnTo>
                      <a:pt x="60" y="745"/>
                    </a:lnTo>
                    <a:lnTo>
                      <a:pt x="60" y="735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40"/>
                    </a:lnTo>
                    <a:lnTo>
                      <a:pt x="60" y="745"/>
                    </a:lnTo>
                    <a:lnTo>
                      <a:pt x="60" y="720"/>
                    </a:lnTo>
                    <a:lnTo>
                      <a:pt x="60" y="745"/>
                    </a:lnTo>
                    <a:lnTo>
                      <a:pt x="65" y="740"/>
                    </a:lnTo>
                    <a:lnTo>
                      <a:pt x="65" y="745"/>
                    </a:lnTo>
                    <a:lnTo>
                      <a:pt x="65" y="740"/>
                    </a:lnTo>
                    <a:lnTo>
                      <a:pt x="65" y="745"/>
                    </a:lnTo>
                    <a:lnTo>
                      <a:pt x="65" y="735"/>
                    </a:lnTo>
                    <a:lnTo>
                      <a:pt x="65" y="730"/>
                    </a:lnTo>
                    <a:lnTo>
                      <a:pt x="65" y="740"/>
                    </a:lnTo>
                    <a:lnTo>
                      <a:pt x="65" y="745"/>
                    </a:lnTo>
                    <a:lnTo>
                      <a:pt x="65" y="740"/>
                    </a:lnTo>
                    <a:lnTo>
                      <a:pt x="65" y="730"/>
                    </a:lnTo>
                    <a:lnTo>
                      <a:pt x="65" y="745"/>
                    </a:lnTo>
                    <a:lnTo>
                      <a:pt x="65" y="730"/>
                    </a:lnTo>
                    <a:lnTo>
                      <a:pt x="65" y="725"/>
                    </a:lnTo>
                    <a:lnTo>
                      <a:pt x="65" y="745"/>
                    </a:lnTo>
                    <a:lnTo>
                      <a:pt x="65" y="715"/>
                    </a:lnTo>
                    <a:lnTo>
                      <a:pt x="65" y="745"/>
                    </a:lnTo>
                    <a:lnTo>
                      <a:pt x="65" y="740"/>
                    </a:lnTo>
                    <a:lnTo>
                      <a:pt x="65" y="745"/>
                    </a:lnTo>
                    <a:lnTo>
                      <a:pt x="65" y="750"/>
                    </a:lnTo>
                    <a:lnTo>
                      <a:pt x="65" y="730"/>
                    </a:lnTo>
                    <a:lnTo>
                      <a:pt x="65" y="745"/>
                    </a:lnTo>
                    <a:lnTo>
                      <a:pt x="65" y="740"/>
                    </a:lnTo>
                    <a:lnTo>
                      <a:pt x="65" y="745"/>
                    </a:lnTo>
                    <a:lnTo>
                      <a:pt x="65" y="725"/>
                    </a:lnTo>
                    <a:lnTo>
                      <a:pt x="65" y="730"/>
                    </a:lnTo>
                    <a:lnTo>
                      <a:pt x="65" y="745"/>
                    </a:lnTo>
                    <a:lnTo>
                      <a:pt x="65" y="750"/>
                    </a:lnTo>
                    <a:lnTo>
                      <a:pt x="65" y="745"/>
                    </a:lnTo>
                    <a:lnTo>
                      <a:pt x="65" y="725"/>
                    </a:lnTo>
                    <a:lnTo>
                      <a:pt x="65" y="720"/>
                    </a:lnTo>
                    <a:lnTo>
                      <a:pt x="65" y="745"/>
                    </a:lnTo>
                    <a:lnTo>
                      <a:pt x="70" y="745"/>
                    </a:lnTo>
                    <a:lnTo>
                      <a:pt x="70" y="725"/>
                    </a:lnTo>
                    <a:lnTo>
                      <a:pt x="70" y="740"/>
                    </a:lnTo>
                    <a:lnTo>
                      <a:pt x="70" y="735"/>
                    </a:lnTo>
                    <a:lnTo>
                      <a:pt x="70" y="745"/>
                    </a:lnTo>
                    <a:lnTo>
                      <a:pt x="70" y="730"/>
                    </a:lnTo>
                    <a:lnTo>
                      <a:pt x="70" y="740"/>
                    </a:lnTo>
                    <a:lnTo>
                      <a:pt x="70" y="745"/>
                    </a:lnTo>
                    <a:lnTo>
                      <a:pt x="70" y="735"/>
                    </a:lnTo>
                    <a:lnTo>
                      <a:pt x="70" y="745"/>
                    </a:lnTo>
                    <a:lnTo>
                      <a:pt x="70" y="710"/>
                    </a:lnTo>
                    <a:lnTo>
                      <a:pt x="70" y="740"/>
                    </a:lnTo>
                    <a:lnTo>
                      <a:pt x="70" y="745"/>
                    </a:lnTo>
                    <a:lnTo>
                      <a:pt x="70" y="720"/>
                    </a:lnTo>
                    <a:lnTo>
                      <a:pt x="70" y="735"/>
                    </a:lnTo>
                    <a:lnTo>
                      <a:pt x="70" y="750"/>
                    </a:lnTo>
                    <a:lnTo>
                      <a:pt x="70" y="720"/>
                    </a:lnTo>
                    <a:lnTo>
                      <a:pt x="70" y="745"/>
                    </a:lnTo>
                    <a:lnTo>
                      <a:pt x="70" y="735"/>
                    </a:lnTo>
                    <a:lnTo>
                      <a:pt x="70" y="745"/>
                    </a:lnTo>
                    <a:lnTo>
                      <a:pt x="70" y="730"/>
                    </a:lnTo>
                    <a:lnTo>
                      <a:pt x="70" y="745"/>
                    </a:lnTo>
                    <a:lnTo>
                      <a:pt x="70" y="740"/>
                    </a:lnTo>
                    <a:lnTo>
                      <a:pt x="70" y="745"/>
                    </a:lnTo>
                    <a:lnTo>
                      <a:pt x="70" y="715"/>
                    </a:lnTo>
                    <a:lnTo>
                      <a:pt x="70" y="750"/>
                    </a:lnTo>
                    <a:lnTo>
                      <a:pt x="70" y="745"/>
                    </a:lnTo>
                    <a:lnTo>
                      <a:pt x="70" y="740"/>
                    </a:lnTo>
                    <a:lnTo>
                      <a:pt x="70" y="745"/>
                    </a:lnTo>
                    <a:lnTo>
                      <a:pt x="70" y="735"/>
                    </a:lnTo>
                    <a:lnTo>
                      <a:pt x="70" y="745"/>
                    </a:lnTo>
                    <a:lnTo>
                      <a:pt x="70" y="730"/>
                    </a:lnTo>
                    <a:lnTo>
                      <a:pt x="70" y="740"/>
                    </a:lnTo>
                    <a:lnTo>
                      <a:pt x="70" y="745"/>
                    </a:lnTo>
                    <a:lnTo>
                      <a:pt x="70" y="720"/>
                    </a:lnTo>
                    <a:lnTo>
                      <a:pt x="70" y="740"/>
                    </a:lnTo>
                    <a:lnTo>
                      <a:pt x="70" y="735"/>
                    </a:lnTo>
                    <a:lnTo>
                      <a:pt x="70" y="710"/>
                    </a:lnTo>
                    <a:lnTo>
                      <a:pt x="70" y="745"/>
                    </a:lnTo>
                    <a:lnTo>
                      <a:pt x="75" y="745"/>
                    </a:lnTo>
                    <a:lnTo>
                      <a:pt x="75" y="730"/>
                    </a:lnTo>
                    <a:lnTo>
                      <a:pt x="75" y="745"/>
                    </a:lnTo>
                    <a:lnTo>
                      <a:pt x="75" y="715"/>
                    </a:lnTo>
                    <a:lnTo>
                      <a:pt x="75" y="745"/>
                    </a:lnTo>
                    <a:lnTo>
                      <a:pt x="75" y="730"/>
                    </a:lnTo>
                    <a:lnTo>
                      <a:pt x="75" y="735"/>
                    </a:lnTo>
                    <a:lnTo>
                      <a:pt x="75" y="745"/>
                    </a:lnTo>
                    <a:lnTo>
                      <a:pt x="75" y="725"/>
                    </a:lnTo>
                    <a:lnTo>
                      <a:pt x="75" y="740"/>
                    </a:lnTo>
                    <a:lnTo>
                      <a:pt x="75" y="745"/>
                    </a:lnTo>
                    <a:lnTo>
                      <a:pt x="75" y="720"/>
                    </a:lnTo>
                    <a:lnTo>
                      <a:pt x="75" y="745"/>
                    </a:lnTo>
                    <a:lnTo>
                      <a:pt x="75" y="730"/>
                    </a:lnTo>
                    <a:lnTo>
                      <a:pt x="75" y="745"/>
                    </a:lnTo>
                    <a:lnTo>
                      <a:pt x="75" y="740"/>
                    </a:lnTo>
                    <a:lnTo>
                      <a:pt x="75" y="720"/>
                    </a:lnTo>
                    <a:lnTo>
                      <a:pt x="75" y="745"/>
                    </a:lnTo>
                    <a:lnTo>
                      <a:pt x="75" y="740"/>
                    </a:lnTo>
                    <a:lnTo>
                      <a:pt x="75" y="735"/>
                    </a:lnTo>
                    <a:lnTo>
                      <a:pt x="75" y="745"/>
                    </a:lnTo>
                    <a:lnTo>
                      <a:pt x="75" y="735"/>
                    </a:lnTo>
                    <a:lnTo>
                      <a:pt x="75" y="740"/>
                    </a:lnTo>
                    <a:lnTo>
                      <a:pt x="75" y="745"/>
                    </a:lnTo>
                    <a:lnTo>
                      <a:pt x="75" y="735"/>
                    </a:lnTo>
                    <a:lnTo>
                      <a:pt x="75" y="745"/>
                    </a:lnTo>
                    <a:lnTo>
                      <a:pt x="75" y="740"/>
                    </a:lnTo>
                    <a:lnTo>
                      <a:pt x="75" y="745"/>
                    </a:lnTo>
                    <a:lnTo>
                      <a:pt x="75" y="735"/>
                    </a:lnTo>
                    <a:lnTo>
                      <a:pt x="75" y="730"/>
                    </a:lnTo>
                    <a:lnTo>
                      <a:pt x="75" y="745"/>
                    </a:lnTo>
                    <a:lnTo>
                      <a:pt x="75" y="740"/>
                    </a:lnTo>
                    <a:lnTo>
                      <a:pt x="75" y="715"/>
                    </a:lnTo>
                    <a:lnTo>
                      <a:pt x="75" y="745"/>
                    </a:lnTo>
                    <a:lnTo>
                      <a:pt x="80" y="745"/>
                    </a:lnTo>
                    <a:lnTo>
                      <a:pt x="80" y="66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35"/>
                    </a:lnTo>
                    <a:lnTo>
                      <a:pt x="80" y="73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3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0" y="735"/>
                    </a:lnTo>
                    <a:lnTo>
                      <a:pt x="80" y="740"/>
                    </a:lnTo>
                    <a:lnTo>
                      <a:pt x="80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35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40"/>
                    </a:lnTo>
                    <a:lnTo>
                      <a:pt x="85" y="745"/>
                    </a:lnTo>
                    <a:lnTo>
                      <a:pt x="85" y="735"/>
                    </a:lnTo>
                    <a:lnTo>
                      <a:pt x="85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0" y="745"/>
                    </a:lnTo>
                    <a:lnTo>
                      <a:pt x="90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95" y="745"/>
                    </a:lnTo>
                    <a:lnTo>
                      <a:pt x="95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35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0" y="745"/>
                    </a:lnTo>
                    <a:lnTo>
                      <a:pt x="100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05" y="740"/>
                    </a:lnTo>
                    <a:lnTo>
                      <a:pt x="105" y="745"/>
                    </a:lnTo>
                    <a:lnTo>
                      <a:pt x="110" y="740"/>
                    </a:lnTo>
                    <a:lnTo>
                      <a:pt x="110" y="745"/>
                    </a:lnTo>
                    <a:lnTo>
                      <a:pt x="110" y="740"/>
                    </a:lnTo>
                    <a:lnTo>
                      <a:pt x="110" y="745"/>
                    </a:lnTo>
                    <a:lnTo>
                      <a:pt x="110" y="735"/>
                    </a:lnTo>
                    <a:lnTo>
                      <a:pt x="110" y="745"/>
                    </a:lnTo>
                    <a:lnTo>
                      <a:pt x="110" y="740"/>
                    </a:lnTo>
                    <a:lnTo>
                      <a:pt x="110" y="745"/>
                    </a:lnTo>
                    <a:lnTo>
                      <a:pt x="110" y="740"/>
                    </a:lnTo>
                    <a:lnTo>
                      <a:pt x="110" y="745"/>
                    </a:lnTo>
                    <a:lnTo>
                      <a:pt x="110" y="740"/>
                    </a:lnTo>
                    <a:lnTo>
                      <a:pt x="110" y="735"/>
                    </a:lnTo>
                    <a:lnTo>
                      <a:pt x="110" y="740"/>
                    </a:lnTo>
                    <a:lnTo>
                      <a:pt x="110" y="735"/>
                    </a:lnTo>
                    <a:lnTo>
                      <a:pt x="110" y="740"/>
                    </a:lnTo>
                    <a:lnTo>
                      <a:pt x="110" y="73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35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3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15" y="745"/>
                    </a:lnTo>
                    <a:lnTo>
                      <a:pt x="115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3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0" y="745"/>
                    </a:lnTo>
                    <a:lnTo>
                      <a:pt x="120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2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26" y="740"/>
                    </a:lnTo>
                    <a:lnTo>
                      <a:pt x="126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35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1" y="745"/>
                    </a:lnTo>
                    <a:lnTo>
                      <a:pt x="131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36" y="745"/>
                    </a:lnTo>
                    <a:lnTo>
                      <a:pt x="136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1" y="745"/>
                    </a:lnTo>
                    <a:lnTo>
                      <a:pt x="141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3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46" y="745"/>
                    </a:lnTo>
                    <a:lnTo>
                      <a:pt x="146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3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1" y="740"/>
                    </a:lnTo>
                    <a:lnTo>
                      <a:pt x="151" y="745"/>
                    </a:lnTo>
                    <a:lnTo>
                      <a:pt x="156" y="740"/>
                    </a:lnTo>
                    <a:lnTo>
                      <a:pt x="156" y="745"/>
                    </a:lnTo>
                    <a:lnTo>
                      <a:pt x="156" y="740"/>
                    </a:lnTo>
                    <a:lnTo>
                      <a:pt x="156" y="745"/>
                    </a:lnTo>
                    <a:lnTo>
                      <a:pt x="156" y="740"/>
                    </a:lnTo>
                    <a:lnTo>
                      <a:pt x="156" y="745"/>
                    </a:lnTo>
                    <a:lnTo>
                      <a:pt x="156" y="740"/>
                    </a:lnTo>
                    <a:lnTo>
                      <a:pt x="156" y="745"/>
                    </a:lnTo>
                    <a:lnTo>
                      <a:pt x="156" y="740"/>
                    </a:lnTo>
                    <a:lnTo>
                      <a:pt x="156" y="745"/>
                    </a:lnTo>
                    <a:lnTo>
                      <a:pt x="156" y="735"/>
                    </a:lnTo>
                    <a:lnTo>
                      <a:pt x="156" y="745"/>
                    </a:lnTo>
                    <a:lnTo>
                      <a:pt x="161" y="740"/>
                    </a:lnTo>
                    <a:lnTo>
                      <a:pt x="161" y="745"/>
                    </a:lnTo>
                    <a:lnTo>
                      <a:pt x="161" y="740"/>
                    </a:lnTo>
                    <a:lnTo>
                      <a:pt x="161" y="745"/>
                    </a:lnTo>
                    <a:lnTo>
                      <a:pt x="161" y="740"/>
                    </a:lnTo>
                    <a:lnTo>
                      <a:pt x="161" y="745"/>
                    </a:lnTo>
                    <a:lnTo>
                      <a:pt x="161" y="740"/>
                    </a:lnTo>
                    <a:lnTo>
                      <a:pt x="161" y="745"/>
                    </a:lnTo>
                    <a:lnTo>
                      <a:pt x="161" y="740"/>
                    </a:lnTo>
                    <a:lnTo>
                      <a:pt x="161" y="745"/>
                    </a:lnTo>
                    <a:lnTo>
                      <a:pt x="161" y="740"/>
                    </a:lnTo>
                    <a:lnTo>
                      <a:pt x="166" y="745"/>
                    </a:lnTo>
                    <a:lnTo>
                      <a:pt x="166" y="740"/>
                    </a:lnTo>
                    <a:lnTo>
                      <a:pt x="166" y="745"/>
                    </a:lnTo>
                    <a:lnTo>
                      <a:pt x="166" y="740"/>
                    </a:lnTo>
                    <a:lnTo>
                      <a:pt x="166" y="745"/>
                    </a:lnTo>
                    <a:lnTo>
                      <a:pt x="166" y="740"/>
                    </a:lnTo>
                    <a:lnTo>
                      <a:pt x="166" y="745"/>
                    </a:lnTo>
                    <a:lnTo>
                      <a:pt x="166" y="740"/>
                    </a:lnTo>
                    <a:lnTo>
                      <a:pt x="166" y="745"/>
                    </a:lnTo>
                    <a:lnTo>
                      <a:pt x="166" y="740"/>
                    </a:lnTo>
                    <a:lnTo>
                      <a:pt x="166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1" y="745"/>
                    </a:lnTo>
                    <a:lnTo>
                      <a:pt x="171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35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76" y="745"/>
                    </a:lnTo>
                    <a:lnTo>
                      <a:pt x="176" y="740"/>
                    </a:lnTo>
                    <a:lnTo>
                      <a:pt x="181" y="745"/>
                    </a:lnTo>
                    <a:lnTo>
                      <a:pt x="181" y="740"/>
                    </a:lnTo>
                    <a:lnTo>
                      <a:pt x="181" y="745"/>
                    </a:lnTo>
                    <a:lnTo>
                      <a:pt x="181" y="740"/>
                    </a:lnTo>
                    <a:lnTo>
                      <a:pt x="181" y="745"/>
                    </a:lnTo>
                    <a:lnTo>
                      <a:pt x="181" y="740"/>
                    </a:lnTo>
                    <a:lnTo>
                      <a:pt x="181" y="745"/>
                    </a:lnTo>
                    <a:lnTo>
                      <a:pt x="181" y="740"/>
                    </a:lnTo>
                    <a:lnTo>
                      <a:pt x="181" y="745"/>
                    </a:lnTo>
                    <a:lnTo>
                      <a:pt x="181" y="740"/>
                    </a:lnTo>
                    <a:lnTo>
                      <a:pt x="186" y="745"/>
                    </a:lnTo>
                    <a:lnTo>
                      <a:pt x="186" y="740"/>
                    </a:lnTo>
                    <a:lnTo>
                      <a:pt x="186" y="745"/>
                    </a:lnTo>
                    <a:lnTo>
                      <a:pt x="186" y="740"/>
                    </a:lnTo>
                    <a:lnTo>
                      <a:pt x="186" y="745"/>
                    </a:lnTo>
                    <a:lnTo>
                      <a:pt x="186" y="740"/>
                    </a:lnTo>
                    <a:lnTo>
                      <a:pt x="186" y="745"/>
                    </a:lnTo>
                    <a:lnTo>
                      <a:pt x="186" y="740"/>
                    </a:lnTo>
                    <a:lnTo>
                      <a:pt x="186" y="745"/>
                    </a:lnTo>
                    <a:lnTo>
                      <a:pt x="186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1" y="745"/>
                    </a:lnTo>
                    <a:lnTo>
                      <a:pt x="191" y="740"/>
                    </a:lnTo>
                    <a:lnTo>
                      <a:pt x="196" y="745"/>
                    </a:lnTo>
                    <a:lnTo>
                      <a:pt x="196" y="740"/>
                    </a:lnTo>
                    <a:lnTo>
                      <a:pt x="196" y="745"/>
                    </a:lnTo>
                    <a:lnTo>
                      <a:pt x="196" y="740"/>
                    </a:lnTo>
                    <a:lnTo>
                      <a:pt x="196" y="745"/>
                    </a:lnTo>
                    <a:lnTo>
                      <a:pt x="196" y="740"/>
                    </a:lnTo>
                    <a:lnTo>
                      <a:pt x="196" y="745"/>
                    </a:lnTo>
                    <a:lnTo>
                      <a:pt x="196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1" y="745"/>
                    </a:lnTo>
                    <a:lnTo>
                      <a:pt x="201" y="740"/>
                    </a:lnTo>
                    <a:lnTo>
                      <a:pt x="206" y="745"/>
                    </a:lnTo>
                    <a:lnTo>
                      <a:pt x="206" y="740"/>
                    </a:lnTo>
                    <a:lnTo>
                      <a:pt x="206" y="745"/>
                    </a:lnTo>
                    <a:lnTo>
                      <a:pt x="206" y="740"/>
                    </a:lnTo>
                    <a:lnTo>
                      <a:pt x="206" y="745"/>
                    </a:lnTo>
                    <a:lnTo>
                      <a:pt x="206" y="735"/>
                    </a:lnTo>
                    <a:lnTo>
                      <a:pt x="206" y="740"/>
                    </a:lnTo>
                    <a:lnTo>
                      <a:pt x="206" y="745"/>
                    </a:lnTo>
                    <a:lnTo>
                      <a:pt x="206" y="740"/>
                    </a:lnTo>
                    <a:lnTo>
                      <a:pt x="206" y="745"/>
                    </a:lnTo>
                    <a:lnTo>
                      <a:pt x="206" y="740"/>
                    </a:lnTo>
                    <a:lnTo>
                      <a:pt x="211" y="745"/>
                    </a:lnTo>
                    <a:lnTo>
                      <a:pt x="211" y="740"/>
                    </a:lnTo>
                    <a:lnTo>
                      <a:pt x="211" y="745"/>
                    </a:lnTo>
                    <a:lnTo>
                      <a:pt x="211" y="750"/>
                    </a:lnTo>
                    <a:lnTo>
                      <a:pt x="211" y="740"/>
                    </a:lnTo>
                    <a:lnTo>
                      <a:pt x="211" y="745"/>
                    </a:lnTo>
                    <a:lnTo>
                      <a:pt x="211" y="750"/>
                    </a:lnTo>
                    <a:lnTo>
                      <a:pt x="211" y="745"/>
                    </a:lnTo>
                    <a:lnTo>
                      <a:pt x="211" y="750"/>
                    </a:lnTo>
                    <a:lnTo>
                      <a:pt x="211" y="745"/>
                    </a:lnTo>
                    <a:lnTo>
                      <a:pt x="216" y="750"/>
                    </a:lnTo>
                    <a:lnTo>
                      <a:pt x="216" y="740"/>
                    </a:lnTo>
                    <a:lnTo>
                      <a:pt x="216" y="745"/>
                    </a:lnTo>
                    <a:lnTo>
                      <a:pt x="216" y="750"/>
                    </a:lnTo>
                    <a:lnTo>
                      <a:pt x="216" y="745"/>
                    </a:lnTo>
                    <a:lnTo>
                      <a:pt x="216" y="740"/>
                    </a:lnTo>
                    <a:lnTo>
                      <a:pt x="216" y="745"/>
                    </a:lnTo>
                    <a:lnTo>
                      <a:pt x="216" y="750"/>
                    </a:lnTo>
                    <a:lnTo>
                      <a:pt x="216" y="745"/>
                    </a:lnTo>
                    <a:lnTo>
                      <a:pt x="216" y="750"/>
                    </a:lnTo>
                    <a:lnTo>
                      <a:pt x="216" y="745"/>
                    </a:lnTo>
                    <a:lnTo>
                      <a:pt x="216" y="750"/>
                    </a:lnTo>
                    <a:lnTo>
                      <a:pt x="216" y="745"/>
                    </a:lnTo>
                    <a:lnTo>
                      <a:pt x="216" y="740"/>
                    </a:lnTo>
                    <a:lnTo>
                      <a:pt x="221" y="745"/>
                    </a:lnTo>
                    <a:lnTo>
                      <a:pt x="221" y="740"/>
                    </a:lnTo>
                    <a:lnTo>
                      <a:pt x="221" y="745"/>
                    </a:lnTo>
                    <a:lnTo>
                      <a:pt x="221" y="740"/>
                    </a:lnTo>
                    <a:lnTo>
                      <a:pt x="221" y="745"/>
                    </a:lnTo>
                    <a:lnTo>
                      <a:pt x="221" y="750"/>
                    </a:lnTo>
                    <a:lnTo>
                      <a:pt x="221" y="745"/>
                    </a:lnTo>
                    <a:lnTo>
                      <a:pt x="221" y="75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26" y="75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26" y="745"/>
                    </a:lnTo>
                    <a:lnTo>
                      <a:pt x="226" y="740"/>
                    </a:lnTo>
                    <a:lnTo>
                      <a:pt x="231" y="745"/>
                    </a:lnTo>
                    <a:lnTo>
                      <a:pt x="231" y="740"/>
                    </a:lnTo>
                    <a:lnTo>
                      <a:pt x="231" y="745"/>
                    </a:lnTo>
                    <a:lnTo>
                      <a:pt x="231" y="735"/>
                    </a:lnTo>
                    <a:lnTo>
                      <a:pt x="231" y="745"/>
                    </a:lnTo>
                    <a:lnTo>
                      <a:pt x="231" y="740"/>
                    </a:lnTo>
                    <a:lnTo>
                      <a:pt x="231" y="745"/>
                    </a:lnTo>
                    <a:lnTo>
                      <a:pt x="231" y="740"/>
                    </a:lnTo>
                    <a:lnTo>
                      <a:pt x="231" y="745"/>
                    </a:lnTo>
                    <a:lnTo>
                      <a:pt x="231" y="740"/>
                    </a:lnTo>
                    <a:lnTo>
                      <a:pt x="236" y="745"/>
                    </a:lnTo>
                    <a:lnTo>
                      <a:pt x="236" y="740"/>
                    </a:lnTo>
                    <a:lnTo>
                      <a:pt x="236" y="745"/>
                    </a:lnTo>
                    <a:lnTo>
                      <a:pt x="236" y="740"/>
                    </a:lnTo>
                    <a:lnTo>
                      <a:pt x="241" y="745"/>
                    </a:lnTo>
                    <a:lnTo>
                      <a:pt x="241" y="740"/>
                    </a:lnTo>
                    <a:lnTo>
                      <a:pt x="241" y="745"/>
                    </a:lnTo>
                    <a:lnTo>
                      <a:pt x="241" y="740"/>
                    </a:lnTo>
                    <a:lnTo>
                      <a:pt x="241" y="745"/>
                    </a:lnTo>
                    <a:lnTo>
                      <a:pt x="241" y="740"/>
                    </a:lnTo>
                    <a:lnTo>
                      <a:pt x="241" y="745"/>
                    </a:lnTo>
                    <a:lnTo>
                      <a:pt x="241" y="740"/>
                    </a:lnTo>
                    <a:lnTo>
                      <a:pt x="246" y="745"/>
                    </a:lnTo>
                    <a:lnTo>
                      <a:pt x="246" y="740"/>
                    </a:lnTo>
                    <a:lnTo>
                      <a:pt x="251" y="745"/>
                    </a:lnTo>
                    <a:lnTo>
                      <a:pt x="251" y="740"/>
                    </a:lnTo>
                    <a:lnTo>
                      <a:pt x="251" y="745"/>
                    </a:lnTo>
                    <a:lnTo>
                      <a:pt x="251" y="740"/>
                    </a:lnTo>
                    <a:lnTo>
                      <a:pt x="251" y="745"/>
                    </a:lnTo>
                    <a:lnTo>
                      <a:pt x="251" y="0"/>
                    </a:lnTo>
                    <a:lnTo>
                      <a:pt x="251" y="745"/>
                    </a:lnTo>
                    <a:lnTo>
                      <a:pt x="251" y="740"/>
                    </a:lnTo>
                    <a:lnTo>
                      <a:pt x="256" y="745"/>
                    </a:lnTo>
                    <a:lnTo>
                      <a:pt x="256" y="740"/>
                    </a:lnTo>
                    <a:lnTo>
                      <a:pt x="256" y="745"/>
                    </a:lnTo>
                    <a:lnTo>
                      <a:pt x="256" y="740"/>
                    </a:lnTo>
                    <a:lnTo>
                      <a:pt x="256" y="745"/>
                    </a:lnTo>
                    <a:lnTo>
                      <a:pt x="256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1" y="740"/>
                    </a:lnTo>
                    <a:lnTo>
                      <a:pt x="261" y="745"/>
                    </a:lnTo>
                    <a:lnTo>
                      <a:pt x="267" y="740"/>
                    </a:lnTo>
                    <a:lnTo>
                      <a:pt x="267" y="745"/>
                    </a:lnTo>
                    <a:lnTo>
                      <a:pt x="267" y="740"/>
                    </a:lnTo>
                    <a:lnTo>
                      <a:pt x="267" y="745"/>
                    </a:lnTo>
                    <a:lnTo>
                      <a:pt x="267" y="740"/>
                    </a:lnTo>
                    <a:lnTo>
                      <a:pt x="267" y="745"/>
                    </a:lnTo>
                    <a:lnTo>
                      <a:pt x="267" y="740"/>
                    </a:lnTo>
                    <a:lnTo>
                      <a:pt x="272" y="745"/>
                    </a:lnTo>
                    <a:lnTo>
                      <a:pt x="272" y="750"/>
                    </a:lnTo>
                    <a:lnTo>
                      <a:pt x="272" y="745"/>
                    </a:lnTo>
                    <a:lnTo>
                      <a:pt x="272" y="750"/>
                    </a:lnTo>
                    <a:lnTo>
                      <a:pt x="272" y="745"/>
                    </a:lnTo>
                    <a:lnTo>
                      <a:pt x="272" y="750"/>
                    </a:lnTo>
                    <a:lnTo>
                      <a:pt x="272" y="745"/>
                    </a:lnTo>
                    <a:lnTo>
                      <a:pt x="272" y="750"/>
                    </a:lnTo>
                    <a:lnTo>
                      <a:pt x="272" y="745"/>
                    </a:lnTo>
                    <a:lnTo>
                      <a:pt x="272" y="750"/>
                    </a:lnTo>
                    <a:lnTo>
                      <a:pt x="277" y="745"/>
                    </a:lnTo>
                    <a:lnTo>
                      <a:pt x="277" y="750"/>
                    </a:lnTo>
                    <a:lnTo>
                      <a:pt x="277" y="745"/>
                    </a:lnTo>
                    <a:lnTo>
                      <a:pt x="277" y="750"/>
                    </a:lnTo>
                    <a:lnTo>
                      <a:pt x="277" y="745"/>
                    </a:lnTo>
                    <a:lnTo>
                      <a:pt x="277" y="750"/>
                    </a:lnTo>
                    <a:lnTo>
                      <a:pt x="277" y="745"/>
                    </a:lnTo>
                    <a:lnTo>
                      <a:pt x="277" y="750"/>
                    </a:lnTo>
                    <a:lnTo>
                      <a:pt x="277" y="745"/>
                    </a:lnTo>
                    <a:lnTo>
                      <a:pt x="277" y="750"/>
                    </a:lnTo>
                    <a:lnTo>
                      <a:pt x="282" y="745"/>
                    </a:lnTo>
                    <a:lnTo>
                      <a:pt x="282" y="74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2" y="745"/>
                    </a:lnTo>
                    <a:lnTo>
                      <a:pt x="282" y="74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2" y="745"/>
                    </a:lnTo>
                    <a:lnTo>
                      <a:pt x="282" y="750"/>
                    </a:lnTo>
                    <a:lnTo>
                      <a:pt x="287" y="745"/>
                    </a:lnTo>
                    <a:lnTo>
                      <a:pt x="287" y="750"/>
                    </a:lnTo>
                    <a:lnTo>
                      <a:pt x="287" y="745"/>
                    </a:lnTo>
                    <a:lnTo>
                      <a:pt x="287" y="740"/>
                    </a:lnTo>
                    <a:lnTo>
                      <a:pt x="287" y="745"/>
                    </a:lnTo>
                    <a:lnTo>
                      <a:pt x="287" y="750"/>
                    </a:lnTo>
                    <a:lnTo>
                      <a:pt x="292" y="745"/>
                    </a:lnTo>
                    <a:lnTo>
                      <a:pt x="292" y="740"/>
                    </a:lnTo>
                    <a:lnTo>
                      <a:pt x="292" y="745"/>
                    </a:lnTo>
                    <a:lnTo>
                      <a:pt x="292" y="740"/>
                    </a:lnTo>
                    <a:lnTo>
                      <a:pt x="292" y="745"/>
                    </a:lnTo>
                    <a:lnTo>
                      <a:pt x="292" y="740"/>
                    </a:lnTo>
                    <a:lnTo>
                      <a:pt x="297" y="745"/>
                    </a:lnTo>
                    <a:lnTo>
                      <a:pt x="297" y="740"/>
                    </a:lnTo>
                    <a:lnTo>
                      <a:pt x="297" y="745"/>
                    </a:lnTo>
                    <a:lnTo>
                      <a:pt x="297" y="740"/>
                    </a:lnTo>
                    <a:lnTo>
                      <a:pt x="297" y="745"/>
                    </a:lnTo>
                    <a:lnTo>
                      <a:pt x="297" y="740"/>
                    </a:lnTo>
                    <a:lnTo>
                      <a:pt x="297" y="745"/>
                    </a:lnTo>
                    <a:lnTo>
                      <a:pt x="297" y="740"/>
                    </a:lnTo>
                    <a:lnTo>
                      <a:pt x="302" y="745"/>
                    </a:lnTo>
                    <a:lnTo>
                      <a:pt x="307" y="750"/>
                    </a:lnTo>
                    <a:lnTo>
                      <a:pt x="312" y="745"/>
                    </a:lnTo>
                    <a:lnTo>
                      <a:pt x="312" y="740"/>
                    </a:lnTo>
                    <a:lnTo>
                      <a:pt x="312" y="74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49800" y="1665360"/>
                <a:ext cx="412920" cy="1940040"/>
              </a:xfrm>
              <a:custGeom>
                <a:avLst/>
                <a:gdLst/>
                <a:ahLst/>
                <a:rect l="l" t="t" r="r" b="b"/>
                <a:pathLst>
                  <a:path w="292" h="1370">
                    <a:moveTo>
                      <a:pt x="0" y="1279"/>
                    </a:moveTo>
                    <a:lnTo>
                      <a:pt x="0" y="1370"/>
                    </a:lnTo>
                    <a:lnTo>
                      <a:pt x="0" y="1289"/>
                    </a:lnTo>
                    <a:lnTo>
                      <a:pt x="0" y="1279"/>
                    </a:lnTo>
                    <a:lnTo>
                      <a:pt x="0" y="1284"/>
                    </a:lnTo>
                    <a:lnTo>
                      <a:pt x="0" y="1279"/>
                    </a:lnTo>
                    <a:lnTo>
                      <a:pt x="0" y="1274"/>
                    </a:lnTo>
                    <a:lnTo>
                      <a:pt x="0" y="1279"/>
                    </a:lnTo>
                    <a:lnTo>
                      <a:pt x="0" y="1274"/>
                    </a:lnTo>
                    <a:lnTo>
                      <a:pt x="0" y="1279"/>
                    </a:lnTo>
                    <a:lnTo>
                      <a:pt x="0" y="1284"/>
                    </a:lnTo>
                    <a:lnTo>
                      <a:pt x="5" y="1279"/>
                    </a:lnTo>
                    <a:lnTo>
                      <a:pt x="5" y="1274"/>
                    </a:lnTo>
                    <a:lnTo>
                      <a:pt x="5" y="1279"/>
                    </a:lnTo>
                    <a:lnTo>
                      <a:pt x="5" y="1274"/>
                    </a:lnTo>
                    <a:lnTo>
                      <a:pt x="10" y="1279"/>
                    </a:lnTo>
                    <a:lnTo>
                      <a:pt x="10" y="1274"/>
                    </a:lnTo>
                    <a:lnTo>
                      <a:pt x="10" y="1279"/>
                    </a:lnTo>
                    <a:lnTo>
                      <a:pt x="10" y="1274"/>
                    </a:lnTo>
                    <a:lnTo>
                      <a:pt x="15" y="1279"/>
                    </a:lnTo>
                    <a:lnTo>
                      <a:pt x="15" y="1274"/>
                    </a:lnTo>
                    <a:lnTo>
                      <a:pt x="20" y="1279"/>
                    </a:lnTo>
                    <a:lnTo>
                      <a:pt x="20" y="1274"/>
                    </a:lnTo>
                    <a:lnTo>
                      <a:pt x="20" y="1279"/>
                    </a:lnTo>
                    <a:lnTo>
                      <a:pt x="20" y="1274"/>
                    </a:lnTo>
                    <a:lnTo>
                      <a:pt x="25" y="1279"/>
                    </a:lnTo>
                    <a:lnTo>
                      <a:pt x="25" y="1274"/>
                    </a:lnTo>
                    <a:lnTo>
                      <a:pt x="25" y="1279"/>
                    </a:lnTo>
                    <a:lnTo>
                      <a:pt x="25" y="1274"/>
                    </a:lnTo>
                    <a:lnTo>
                      <a:pt x="25" y="1279"/>
                    </a:lnTo>
                    <a:lnTo>
                      <a:pt x="25" y="1274"/>
                    </a:lnTo>
                    <a:lnTo>
                      <a:pt x="30" y="1279"/>
                    </a:lnTo>
                    <a:lnTo>
                      <a:pt x="30" y="1274"/>
                    </a:lnTo>
                    <a:lnTo>
                      <a:pt x="30" y="1279"/>
                    </a:lnTo>
                    <a:lnTo>
                      <a:pt x="30" y="1274"/>
                    </a:lnTo>
                    <a:lnTo>
                      <a:pt x="35" y="1279"/>
                    </a:lnTo>
                    <a:lnTo>
                      <a:pt x="40" y="1274"/>
                    </a:lnTo>
                    <a:lnTo>
                      <a:pt x="40" y="1279"/>
                    </a:lnTo>
                    <a:lnTo>
                      <a:pt x="40" y="1274"/>
                    </a:lnTo>
                    <a:lnTo>
                      <a:pt x="40" y="1279"/>
                    </a:lnTo>
                    <a:lnTo>
                      <a:pt x="40" y="1274"/>
                    </a:lnTo>
                    <a:lnTo>
                      <a:pt x="40" y="1279"/>
                    </a:lnTo>
                    <a:lnTo>
                      <a:pt x="40" y="1274"/>
                    </a:lnTo>
                    <a:lnTo>
                      <a:pt x="45" y="1279"/>
                    </a:lnTo>
                    <a:lnTo>
                      <a:pt x="45" y="1274"/>
                    </a:lnTo>
                    <a:lnTo>
                      <a:pt x="50" y="1279"/>
                    </a:lnTo>
                    <a:lnTo>
                      <a:pt x="50" y="127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55" y="1279"/>
                    </a:lnTo>
                    <a:lnTo>
                      <a:pt x="55" y="127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55" y="1279"/>
                    </a:lnTo>
                    <a:lnTo>
                      <a:pt x="55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74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0" y="1279"/>
                    </a:lnTo>
                    <a:lnTo>
                      <a:pt x="60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65" y="1284"/>
                    </a:lnTo>
                    <a:lnTo>
                      <a:pt x="65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0" y="1279"/>
                    </a:lnTo>
                    <a:lnTo>
                      <a:pt x="70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7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75" y="1279"/>
                    </a:lnTo>
                    <a:lnTo>
                      <a:pt x="75" y="1284"/>
                    </a:lnTo>
                    <a:lnTo>
                      <a:pt x="80" y="1279"/>
                    </a:lnTo>
                    <a:lnTo>
                      <a:pt x="80" y="1284"/>
                    </a:lnTo>
                    <a:lnTo>
                      <a:pt x="80" y="1279"/>
                    </a:lnTo>
                    <a:lnTo>
                      <a:pt x="80" y="1284"/>
                    </a:lnTo>
                    <a:lnTo>
                      <a:pt x="80" y="1279"/>
                    </a:lnTo>
                    <a:lnTo>
                      <a:pt x="80" y="1284"/>
                    </a:lnTo>
                    <a:lnTo>
                      <a:pt x="80" y="1279"/>
                    </a:lnTo>
                    <a:lnTo>
                      <a:pt x="80" y="1274"/>
                    </a:lnTo>
                    <a:lnTo>
                      <a:pt x="80" y="1284"/>
                    </a:lnTo>
                    <a:lnTo>
                      <a:pt x="85" y="1279"/>
                    </a:lnTo>
                    <a:lnTo>
                      <a:pt x="85" y="1274"/>
                    </a:lnTo>
                    <a:lnTo>
                      <a:pt x="85" y="1279"/>
                    </a:lnTo>
                    <a:lnTo>
                      <a:pt x="85" y="1284"/>
                    </a:lnTo>
                    <a:lnTo>
                      <a:pt x="85" y="1279"/>
                    </a:lnTo>
                    <a:lnTo>
                      <a:pt x="85" y="1284"/>
                    </a:lnTo>
                    <a:lnTo>
                      <a:pt x="85" y="1274"/>
                    </a:lnTo>
                    <a:lnTo>
                      <a:pt x="85" y="1279"/>
                    </a:lnTo>
                    <a:lnTo>
                      <a:pt x="85" y="1284"/>
                    </a:lnTo>
                    <a:lnTo>
                      <a:pt x="85" y="1279"/>
                    </a:lnTo>
                    <a:lnTo>
                      <a:pt x="85" y="1284"/>
                    </a:lnTo>
                    <a:lnTo>
                      <a:pt x="90" y="1279"/>
                    </a:lnTo>
                    <a:lnTo>
                      <a:pt x="90" y="1274"/>
                    </a:lnTo>
                    <a:lnTo>
                      <a:pt x="90" y="1279"/>
                    </a:lnTo>
                    <a:lnTo>
                      <a:pt x="90" y="1284"/>
                    </a:lnTo>
                    <a:lnTo>
                      <a:pt x="90" y="1279"/>
                    </a:lnTo>
                    <a:lnTo>
                      <a:pt x="90" y="1284"/>
                    </a:lnTo>
                    <a:lnTo>
                      <a:pt x="90" y="1279"/>
                    </a:lnTo>
                    <a:lnTo>
                      <a:pt x="90" y="1284"/>
                    </a:lnTo>
                    <a:lnTo>
                      <a:pt x="90" y="1279"/>
                    </a:lnTo>
                    <a:lnTo>
                      <a:pt x="90" y="1284"/>
                    </a:lnTo>
                    <a:lnTo>
                      <a:pt x="90" y="1279"/>
                    </a:lnTo>
                    <a:lnTo>
                      <a:pt x="90" y="1284"/>
                    </a:lnTo>
                    <a:lnTo>
                      <a:pt x="96" y="1279"/>
                    </a:lnTo>
                    <a:lnTo>
                      <a:pt x="96" y="1284"/>
                    </a:lnTo>
                    <a:lnTo>
                      <a:pt x="96" y="1279"/>
                    </a:lnTo>
                    <a:lnTo>
                      <a:pt x="96" y="1284"/>
                    </a:lnTo>
                    <a:lnTo>
                      <a:pt x="96" y="1279"/>
                    </a:lnTo>
                    <a:lnTo>
                      <a:pt x="96" y="1284"/>
                    </a:lnTo>
                    <a:lnTo>
                      <a:pt x="96" y="1279"/>
                    </a:lnTo>
                    <a:lnTo>
                      <a:pt x="96" y="1284"/>
                    </a:lnTo>
                    <a:lnTo>
                      <a:pt x="96" y="1279"/>
                    </a:lnTo>
                    <a:lnTo>
                      <a:pt x="96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1" y="1274"/>
                    </a:lnTo>
                    <a:lnTo>
                      <a:pt x="101" y="1279"/>
                    </a:lnTo>
                    <a:lnTo>
                      <a:pt x="101" y="1284"/>
                    </a:lnTo>
                    <a:lnTo>
                      <a:pt x="106" y="1279"/>
                    </a:lnTo>
                    <a:lnTo>
                      <a:pt x="106" y="1274"/>
                    </a:lnTo>
                    <a:lnTo>
                      <a:pt x="106" y="1279"/>
                    </a:lnTo>
                    <a:lnTo>
                      <a:pt x="106" y="1284"/>
                    </a:lnTo>
                    <a:lnTo>
                      <a:pt x="106" y="1279"/>
                    </a:lnTo>
                    <a:lnTo>
                      <a:pt x="106" y="1284"/>
                    </a:lnTo>
                    <a:lnTo>
                      <a:pt x="111" y="1279"/>
                    </a:lnTo>
                    <a:lnTo>
                      <a:pt x="111" y="1284"/>
                    </a:lnTo>
                    <a:lnTo>
                      <a:pt x="111" y="1279"/>
                    </a:lnTo>
                    <a:lnTo>
                      <a:pt x="111" y="1284"/>
                    </a:lnTo>
                    <a:lnTo>
                      <a:pt x="111" y="1279"/>
                    </a:lnTo>
                    <a:lnTo>
                      <a:pt x="111" y="1284"/>
                    </a:lnTo>
                    <a:lnTo>
                      <a:pt x="111" y="1279"/>
                    </a:lnTo>
                    <a:lnTo>
                      <a:pt x="111" y="1284"/>
                    </a:lnTo>
                    <a:lnTo>
                      <a:pt x="111" y="1279"/>
                    </a:lnTo>
                    <a:lnTo>
                      <a:pt x="111" y="1274"/>
                    </a:lnTo>
                    <a:lnTo>
                      <a:pt x="116" y="1279"/>
                    </a:lnTo>
                    <a:lnTo>
                      <a:pt x="116" y="1274"/>
                    </a:lnTo>
                    <a:lnTo>
                      <a:pt x="116" y="1279"/>
                    </a:lnTo>
                    <a:lnTo>
                      <a:pt x="116" y="1284"/>
                    </a:lnTo>
                    <a:lnTo>
                      <a:pt x="116" y="1279"/>
                    </a:lnTo>
                    <a:lnTo>
                      <a:pt x="116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1" y="1284"/>
                    </a:lnTo>
                    <a:lnTo>
                      <a:pt x="121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26" y="1274"/>
                    </a:lnTo>
                    <a:lnTo>
                      <a:pt x="126" y="1284"/>
                    </a:lnTo>
                    <a:lnTo>
                      <a:pt x="126" y="1279"/>
                    </a:lnTo>
                    <a:lnTo>
                      <a:pt x="126" y="1284"/>
                    </a:lnTo>
                    <a:lnTo>
                      <a:pt x="131" y="1279"/>
                    </a:lnTo>
                    <a:lnTo>
                      <a:pt x="131" y="1284"/>
                    </a:lnTo>
                    <a:lnTo>
                      <a:pt x="131" y="1279"/>
                    </a:lnTo>
                    <a:lnTo>
                      <a:pt x="131" y="1284"/>
                    </a:lnTo>
                    <a:lnTo>
                      <a:pt x="131" y="1279"/>
                    </a:lnTo>
                    <a:lnTo>
                      <a:pt x="131" y="1284"/>
                    </a:lnTo>
                    <a:lnTo>
                      <a:pt x="131" y="1279"/>
                    </a:lnTo>
                    <a:lnTo>
                      <a:pt x="131" y="1284"/>
                    </a:lnTo>
                    <a:lnTo>
                      <a:pt x="131" y="1274"/>
                    </a:lnTo>
                    <a:lnTo>
                      <a:pt x="131" y="1279"/>
                    </a:lnTo>
                    <a:lnTo>
                      <a:pt x="131" y="1249"/>
                    </a:lnTo>
                    <a:lnTo>
                      <a:pt x="131" y="1279"/>
                    </a:lnTo>
                    <a:lnTo>
                      <a:pt x="131" y="1284"/>
                    </a:lnTo>
                    <a:lnTo>
                      <a:pt x="131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8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84"/>
                    </a:lnTo>
                    <a:lnTo>
                      <a:pt x="136" y="1274"/>
                    </a:lnTo>
                    <a:lnTo>
                      <a:pt x="136" y="128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8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36" y="1279"/>
                    </a:lnTo>
                    <a:lnTo>
                      <a:pt x="136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8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8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79"/>
                    </a:lnTo>
                    <a:lnTo>
                      <a:pt x="141" y="1274"/>
                    </a:lnTo>
                    <a:lnTo>
                      <a:pt x="141" y="1284"/>
                    </a:lnTo>
                    <a:lnTo>
                      <a:pt x="146" y="1279"/>
                    </a:lnTo>
                    <a:lnTo>
                      <a:pt x="146" y="1274"/>
                    </a:lnTo>
                    <a:lnTo>
                      <a:pt x="146" y="1279"/>
                    </a:lnTo>
                    <a:lnTo>
                      <a:pt x="146" y="1274"/>
                    </a:lnTo>
                    <a:lnTo>
                      <a:pt x="146" y="1279"/>
                    </a:lnTo>
                    <a:lnTo>
                      <a:pt x="146" y="1274"/>
                    </a:lnTo>
                    <a:lnTo>
                      <a:pt x="146" y="1279"/>
                    </a:lnTo>
                    <a:lnTo>
                      <a:pt x="146" y="1284"/>
                    </a:lnTo>
                    <a:lnTo>
                      <a:pt x="146" y="1279"/>
                    </a:lnTo>
                    <a:lnTo>
                      <a:pt x="146" y="1284"/>
                    </a:lnTo>
                    <a:lnTo>
                      <a:pt x="146" y="1279"/>
                    </a:lnTo>
                    <a:lnTo>
                      <a:pt x="146" y="1284"/>
                    </a:lnTo>
                    <a:lnTo>
                      <a:pt x="146" y="1279"/>
                    </a:lnTo>
                    <a:lnTo>
                      <a:pt x="146" y="1284"/>
                    </a:lnTo>
                    <a:lnTo>
                      <a:pt x="146" y="1279"/>
                    </a:lnTo>
                    <a:lnTo>
                      <a:pt x="146" y="1274"/>
                    </a:lnTo>
                    <a:lnTo>
                      <a:pt x="146" y="1279"/>
                    </a:lnTo>
                    <a:lnTo>
                      <a:pt x="146" y="128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84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1" y="1279"/>
                    </a:lnTo>
                    <a:lnTo>
                      <a:pt x="151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6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64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56" y="1279"/>
                    </a:lnTo>
                    <a:lnTo>
                      <a:pt x="156" y="1274"/>
                    </a:lnTo>
                    <a:lnTo>
                      <a:pt x="161" y="1279"/>
                    </a:lnTo>
                    <a:lnTo>
                      <a:pt x="161" y="127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7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7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4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74"/>
                    </a:lnTo>
                    <a:lnTo>
                      <a:pt x="161" y="1284"/>
                    </a:lnTo>
                    <a:lnTo>
                      <a:pt x="161" y="127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1" y="1279"/>
                    </a:lnTo>
                    <a:lnTo>
                      <a:pt x="161" y="128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74"/>
                    </a:lnTo>
                    <a:lnTo>
                      <a:pt x="166" y="1279"/>
                    </a:lnTo>
                    <a:lnTo>
                      <a:pt x="166" y="127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84"/>
                    </a:lnTo>
                    <a:lnTo>
                      <a:pt x="166" y="1279"/>
                    </a:lnTo>
                    <a:lnTo>
                      <a:pt x="166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74"/>
                    </a:lnTo>
                    <a:lnTo>
                      <a:pt x="171" y="1279"/>
                    </a:lnTo>
                    <a:lnTo>
                      <a:pt x="171" y="128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84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69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76" y="1274"/>
                    </a:lnTo>
                    <a:lnTo>
                      <a:pt x="176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1" y="1274"/>
                    </a:lnTo>
                    <a:lnTo>
                      <a:pt x="181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84"/>
                    </a:lnTo>
                    <a:lnTo>
                      <a:pt x="186" y="1279"/>
                    </a:lnTo>
                    <a:lnTo>
                      <a:pt x="186" y="126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6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86" y="1269"/>
                    </a:lnTo>
                    <a:lnTo>
                      <a:pt x="186" y="1279"/>
                    </a:lnTo>
                    <a:lnTo>
                      <a:pt x="186" y="1274"/>
                    </a:lnTo>
                    <a:lnTo>
                      <a:pt x="191" y="1184"/>
                    </a:lnTo>
                    <a:lnTo>
                      <a:pt x="191" y="1264"/>
                    </a:lnTo>
                    <a:lnTo>
                      <a:pt x="191" y="0"/>
                    </a:lnTo>
                    <a:lnTo>
                      <a:pt x="191" y="1279"/>
                    </a:lnTo>
                    <a:lnTo>
                      <a:pt x="191" y="1274"/>
                    </a:lnTo>
                    <a:lnTo>
                      <a:pt x="191" y="1279"/>
                    </a:lnTo>
                    <a:lnTo>
                      <a:pt x="191" y="1274"/>
                    </a:lnTo>
                    <a:lnTo>
                      <a:pt x="191" y="1279"/>
                    </a:lnTo>
                    <a:lnTo>
                      <a:pt x="191" y="127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1" y="1279"/>
                    </a:lnTo>
                    <a:lnTo>
                      <a:pt x="191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196" y="1279"/>
                    </a:lnTo>
                    <a:lnTo>
                      <a:pt x="196" y="128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74"/>
                    </a:lnTo>
                    <a:lnTo>
                      <a:pt x="201" y="1279"/>
                    </a:lnTo>
                    <a:lnTo>
                      <a:pt x="201" y="1274"/>
                    </a:lnTo>
                    <a:lnTo>
                      <a:pt x="201" y="1279"/>
                    </a:lnTo>
                    <a:lnTo>
                      <a:pt x="201" y="1274"/>
                    </a:lnTo>
                    <a:lnTo>
                      <a:pt x="201" y="1269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7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9"/>
                    </a:lnTo>
                    <a:lnTo>
                      <a:pt x="201" y="1274"/>
                    </a:lnTo>
                    <a:lnTo>
                      <a:pt x="201" y="1279"/>
                    </a:lnTo>
                    <a:lnTo>
                      <a:pt x="201" y="1284"/>
                    </a:lnTo>
                    <a:lnTo>
                      <a:pt x="201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84"/>
                    </a:lnTo>
                    <a:lnTo>
                      <a:pt x="206" y="1279"/>
                    </a:lnTo>
                    <a:lnTo>
                      <a:pt x="206" y="128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84"/>
                    </a:lnTo>
                    <a:lnTo>
                      <a:pt x="206" y="1274"/>
                    </a:lnTo>
                    <a:lnTo>
                      <a:pt x="206" y="128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54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184"/>
                    </a:lnTo>
                    <a:lnTo>
                      <a:pt x="206" y="1279"/>
                    </a:lnTo>
                    <a:lnTo>
                      <a:pt x="206" y="126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06" y="1279"/>
                    </a:lnTo>
                    <a:lnTo>
                      <a:pt x="206" y="127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1" y="1279"/>
                    </a:lnTo>
                    <a:lnTo>
                      <a:pt x="211" y="1274"/>
                    </a:lnTo>
                    <a:lnTo>
                      <a:pt x="211" y="1279"/>
                    </a:lnTo>
                    <a:lnTo>
                      <a:pt x="211" y="128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16" y="1279"/>
                    </a:lnTo>
                    <a:lnTo>
                      <a:pt x="216" y="1284"/>
                    </a:lnTo>
                    <a:lnTo>
                      <a:pt x="216" y="1279"/>
                    </a:lnTo>
                    <a:lnTo>
                      <a:pt x="216" y="128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16" y="1279"/>
                    </a:lnTo>
                    <a:lnTo>
                      <a:pt x="216" y="128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16" y="1284"/>
                    </a:lnTo>
                    <a:lnTo>
                      <a:pt x="216" y="1279"/>
                    </a:lnTo>
                    <a:lnTo>
                      <a:pt x="216" y="127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7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1" y="1279"/>
                    </a:lnTo>
                    <a:lnTo>
                      <a:pt x="221" y="1284"/>
                    </a:lnTo>
                    <a:lnTo>
                      <a:pt x="226" y="1279"/>
                    </a:lnTo>
                    <a:lnTo>
                      <a:pt x="226" y="1284"/>
                    </a:lnTo>
                    <a:lnTo>
                      <a:pt x="226" y="1279"/>
                    </a:lnTo>
                    <a:lnTo>
                      <a:pt x="226" y="1194"/>
                    </a:lnTo>
                    <a:lnTo>
                      <a:pt x="226" y="1279"/>
                    </a:lnTo>
                    <a:lnTo>
                      <a:pt x="226" y="1274"/>
                    </a:lnTo>
                    <a:lnTo>
                      <a:pt x="226" y="1279"/>
                    </a:lnTo>
                    <a:lnTo>
                      <a:pt x="226" y="1284"/>
                    </a:lnTo>
                    <a:lnTo>
                      <a:pt x="226" y="1279"/>
                    </a:lnTo>
                    <a:lnTo>
                      <a:pt x="226" y="1284"/>
                    </a:lnTo>
                    <a:lnTo>
                      <a:pt x="226" y="1259"/>
                    </a:lnTo>
                    <a:lnTo>
                      <a:pt x="226" y="1279"/>
                    </a:lnTo>
                    <a:lnTo>
                      <a:pt x="226" y="1274"/>
                    </a:lnTo>
                    <a:lnTo>
                      <a:pt x="226" y="1279"/>
                    </a:lnTo>
                    <a:lnTo>
                      <a:pt x="231" y="1184"/>
                    </a:lnTo>
                    <a:lnTo>
                      <a:pt x="231" y="1279"/>
                    </a:lnTo>
                    <a:lnTo>
                      <a:pt x="231" y="1214"/>
                    </a:lnTo>
                    <a:lnTo>
                      <a:pt x="231" y="1279"/>
                    </a:lnTo>
                    <a:lnTo>
                      <a:pt x="231" y="1214"/>
                    </a:lnTo>
                    <a:lnTo>
                      <a:pt x="231" y="1279"/>
                    </a:lnTo>
                    <a:lnTo>
                      <a:pt x="231" y="1249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1" y="1284"/>
                    </a:lnTo>
                    <a:lnTo>
                      <a:pt x="231" y="1279"/>
                    </a:lnTo>
                    <a:lnTo>
                      <a:pt x="231" y="393"/>
                    </a:lnTo>
                    <a:lnTo>
                      <a:pt x="231" y="1279"/>
                    </a:lnTo>
                    <a:lnTo>
                      <a:pt x="231" y="1239"/>
                    </a:lnTo>
                    <a:lnTo>
                      <a:pt x="231" y="1279"/>
                    </a:lnTo>
                    <a:lnTo>
                      <a:pt x="231" y="1254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1" y="1279"/>
                    </a:lnTo>
                    <a:lnTo>
                      <a:pt x="231" y="1284"/>
                    </a:lnTo>
                    <a:lnTo>
                      <a:pt x="231" y="1274"/>
                    </a:lnTo>
                    <a:lnTo>
                      <a:pt x="231" y="1279"/>
                    </a:lnTo>
                    <a:lnTo>
                      <a:pt x="231" y="1274"/>
                    </a:lnTo>
                    <a:lnTo>
                      <a:pt x="237" y="1279"/>
                    </a:lnTo>
                    <a:lnTo>
                      <a:pt x="237" y="1284"/>
                    </a:lnTo>
                    <a:lnTo>
                      <a:pt x="237" y="1279"/>
                    </a:lnTo>
                    <a:lnTo>
                      <a:pt x="237" y="1284"/>
                    </a:lnTo>
                    <a:lnTo>
                      <a:pt x="237" y="1279"/>
                    </a:lnTo>
                    <a:lnTo>
                      <a:pt x="237" y="1274"/>
                    </a:lnTo>
                    <a:lnTo>
                      <a:pt x="237" y="1279"/>
                    </a:lnTo>
                    <a:lnTo>
                      <a:pt x="237" y="1274"/>
                    </a:lnTo>
                    <a:lnTo>
                      <a:pt x="242" y="1279"/>
                    </a:lnTo>
                    <a:lnTo>
                      <a:pt x="242" y="1254"/>
                    </a:lnTo>
                    <a:lnTo>
                      <a:pt x="242" y="1279"/>
                    </a:lnTo>
                    <a:lnTo>
                      <a:pt x="242" y="1284"/>
                    </a:lnTo>
                    <a:lnTo>
                      <a:pt x="242" y="1279"/>
                    </a:lnTo>
                    <a:lnTo>
                      <a:pt x="242" y="1284"/>
                    </a:lnTo>
                    <a:lnTo>
                      <a:pt x="242" y="1279"/>
                    </a:lnTo>
                    <a:lnTo>
                      <a:pt x="242" y="1284"/>
                    </a:lnTo>
                    <a:lnTo>
                      <a:pt x="242" y="1279"/>
                    </a:lnTo>
                    <a:lnTo>
                      <a:pt x="242" y="1189"/>
                    </a:lnTo>
                    <a:lnTo>
                      <a:pt x="242" y="1279"/>
                    </a:lnTo>
                    <a:lnTo>
                      <a:pt x="242" y="1199"/>
                    </a:lnTo>
                    <a:lnTo>
                      <a:pt x="242" y="1279"/>
                    </a:lnTo>
                    <a:lnTo>
                      <a:pt x="242" y="1269"/>
                    </a:lnTo>
                    <a:lnTo>
                      <a:pt x="242" y="1274"/>
                    </a:lnTo>
                    <a:lnTo>
                      <a:pt x="242" y="1279"/>
                    </a:lnTo>
                    <a:lnTo>
                      <a:pt x="242" y="1274"/>
                    </a:lnTo>
                    <a:lnTo>
                      <a:pt x="242" y="1279"/>
                    </a:lnTo>
                    <a:lnTo>
                      <a:pt x="242" y="1274"/>
                    </a:lnTo>
                    <a:lnTo>
                      <a:pt x="247" y="1279"/>
                    </a:lnTo>
                    <a:lnTo>
                      <a:pt x="247" y="1269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79"/>
                    </a:lnTo>
                    <a:lnTo>
                      <a:pt x="247" y="128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5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47" y="1279"/>
                    </a:lnTo>
                    <a:lnTo>
                      <a:pt x="247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6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74"/>
                    </a:lnTo>
                    <a:lnTo>
                      <a:pt x="252" y="1269"/>
                    </a:lnTo>
                    <a:lnTo>
                      <a:pt x="252" y="1274"/>
                    </a:lnTo>
                    <a:lnTo>
                      <a:pt x="252" y="1279"/>
                    </a:lnTo>
                    <a:lnTo>
                      <a:pt x="252" y="1284"/>
                    </a:lnTo>
                    <a:lnTo>
                      <a:pt x="252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5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57" y="1279"/>
                    </a:lnTo>
                    <a:lnTo>
                      <a:pt x="257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8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2" y="1274"/>
                    </a:lnTo>
                    <a:lnTo>
                      <a:pt x="262" y="1284"/>
                    </a:lnTo>
                    <a:lnTo>
                      <a:pt x="262" y="1274"/>
                    </a:lnTo>
                    <a:lnTo>
                      <a:pt x="262" y="1279"/>
                    </a:lnTo>
                    <a:lnTo>
                      <a:pt x="267" y="1274"/>
                    </a:lnTo>
                    <a:lnTo>
                      <a:pt x="267" y="1269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6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8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67" y="1269"/>
                    </a:lnTo>
                    <a:lnTo>
                      <a:pt x="267" y="1279"/>
                    </a:lnTo>
                    <a:lnTo>
                      <a:pt x="267" y="1269"/>
                    </a:lnTo>
                    <a:lnTo>
                      <a:pt x="267" y="1279"/>
                    </a:lnTo>
                    <a:lnTo>
                      <a:pt x="267" y="1274"/>
                    </a:lnTo>
                    <a:lnTo>
                      <a:pt x="267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74"/>
                    </a:lnTo>
                    <a:lnTo>
                      <a:pt x="272" y="1279"/>
                    </a:lnTo>
                    <a:lnTo>
                      <a:pt x="272" y="128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84"/>
                    </a:lnTo>
                    <a:lnTo>
                      <a:pt x="277" y="1279"/>
                    </a:lnTo>
                    <a:lnTo>
                      <a:pt x="277" y="128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8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84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77" y="1279"/>
                    </a:lnTo>
                    <a:lnTo>
                      <a:pt x="277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79"/>
                    </a:lnTo>
                    <a:lnTo>
                      <a:pt x="282" y="1274"/>
                    </a:lnTo>
                    <a:lnTo>
                      <a:pt x="282" y="1269"/>
                    </a:lnTo>
                    <a:lnTo>
                      <a:pt x="282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6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6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87" y="1279"/>
                    </a:lnTo>
                    <a:lnTo>
                      <a:pt x="287" y="1274"/>
                    </a:lnTo>
                    <a:lnTo>
                      <a:pt x="292" y="1279"/>
                    </a:lnTo>
                    <a:lnTo>
                      <a:pt x="292" y="1274"/>
                    </a:lnTo>
                    <a:lnTo>
                      <a:pt x="292" y="1279"/>
                    </a:lnTo>
                    <a:lnTo>
                      <a:pt x="292" y="1274"/>
                    </a:lnTo>
                    <a:lnTo>
                      <a:pt x="292" y="127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63080" y="1850760"/>
                <a:ext cx="270360" cy="1632600"/>
              </a:xfrm>
              <a:custGeom>
                <a:avLst/>
                <a:gdLst/>
                <a:ahLst/>
                <a:rect l="l" t="t" r="r" b="b"/>
                <a:pathLst>
                  <a:path w="191" h="1153">
                    <a:moveTo>
                      <a:pt x="0" y="1148"/>
                    </a:move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3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38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0" y="1143"/>
                    </a:lnTo>
                    <a:lnTo>
                      <a:pt x="0" y="1148"/>
                    </a:lnTo>
                    <a:lnTo>
                      <a:pt x="5" y="1143"/>
                    </a:lnTo>
                    <a:lnTo>
                      <a:pt x="5" y="1103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5" y="1148"/>
                    </a:lnTo>
                    <a:lnTo>
                      <a:pt x="5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08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18"/>
                    </a:lnTo>
                    <a:lnTo>
                      <a:pt x="10" y="1108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0" y="1143"/>
                    </a:lnTo>
                    <a:lnTo>
                      <a:pt x="10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38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38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15" y="1143"/>
                    </a:lnTo>
                    <a:lnTo>
                      <a:pt x="15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38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0" y="1148"/>
                    </a:lnTo>
                    <a:lnTo>
                      <a:pt x="20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25" y="1148"/>
                    </a:lnTo>
                    <a:lnTo>
                      <a:pt x="25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3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0" y="1138"/>
                    </a:lnTo>
                    <a:lnTo>
                      <a:pt x="30" y="1143"/>
                    </a:lnTo>
                    <a:lnTo>
                      <a:pt x="30" y="1148"/>
                    </a:lnTo>
                    <a:lnTo>
                      <a:pt x="35" y="1143"/>
                    </a:lnTo>
                    <a:lnTo>
                      <a:pt x="35" y="113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35" y="1148"/>
                    </a:lnTo>
                    <a:lnTo>
                      <a:pt x="35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3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3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38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0" y="1148"/>
                    </a:lnTo>
                    <a:lnTo>
                      <a:pt x="40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3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3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38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43"/>
                    </a:lnTo>
                    <a:lnTo>
                      <a:pt x="45" y="1148"/>
                    </a:lnTo>
                    <a:lnTo>
                      <a:pt x="45" y="1138"/>
                    </a:lnTo>
                    <a:lnTo>
                      <a:pt x="45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3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38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43"/>
                    </a:lnTo>
                    <a:lnTo>
                      <a:pt x="50" y="1148"/>
                    </a:lnTo>
                    <a:lnTo>
                      <a:pt x="50" y="1138"/>
                    </a:lnTo>
                    <a:lnTo>
                      <a:pt x="50" y="1143"/>
                    </a:lnTo>
                    <a:lnTo>
                      <a:pt x="50" y="1138"/>
                    </a:lnTo>
                    <a:lnTo>
                      <a:pt x="50" y="1133"/>
                    </a:lnTo>
                    <a:lnTo>
                      <a:pt x="50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55" y="1148"/>
                    </a:lnTo>
                    <a:lnTo>
                      <a:pt x="55" y="1143"/>
                    </a:lnTo>
                    <a:lnTo>
                      <a:pt x="60" y="1148"/>
                    </a:lnTo>
                    <a:lnTo>
                      <a:pt x="60" y="1138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0" y="1148"/>
                    </a:lnTo>
                    <a:lnTo>
                      <a:pt x="60" y="1153"/>
                    </a:lnTo>
                    <a:lnTo>
                      <a:pt x="60" y="1148"/>
                    </a:lnTo>
                    <a:lnTo>
                      <a:pt x="60" y="1143"/>
                    </a:lnTo>
                    <a:lnTo>
                      <a:pt x="65" y="1148"/>
                    </a:lnTo>
                    <a:lnTo>
                      <a:pt x="65" y="1143"/>
                    </a:lnTo>
                    <a:lnTo>
                      <a:pt x="65" y="1148"/>
                    </a:lnTo>
                    <a:lnTo>
                      <a:pt x="65" y="1143"/>
                    </a:lnTo>
                    <a:lnTo>
                      <a:pt x="65" y="1148"/>
                    </a:lnTo>
                    <a:lnTo>
                      <a:pt x="65" y="1143"/>
                    </a:lnTo>
                    <a:lnTo>
                      <a:pt x="65" y="1148"/>
                    </a:lnTo>
                    <a:lnTo>
                      <a:pt x="65" y="1138"/>
                    </a:lnTo>
                    <a:lnTo>
                      <a:pt x="65" y="1148"/>
                    </a:lnTo>
                    <a:lnTo>
                      <a:pt x="65" y="1143"/>
                    </a:lnTo>
                    <a:lnTo>
                      <a:pt x="70" y="1148"/>
                    </a:lnTo>
                    <a:lnTo>
                      <a:pt x="70" y="1143"/>
                    </a:lnTo>
                    <a:lnTo>
                      <a:pt x="70" y="1148"/>
                    </a:lnTo>
                    <a:lnTo>
                      <a:pt x="70" y="1138"/>
                    </a:lnTo>
                    <a:lnTo>
                      <a:pt x="70" y="1148"/>
                    </a:lnTo>
                    <a:lnTo>
                      <a:pt x="70" y="1138"/>
                    </a:lnTo>
                    <a:lnTo>
                      <a:pt x="70" y="1148"/>
                    </a:lnTo>
                    <a:lnTo>
                      <a:pt x="70" y="1143"/>
                    </a:lnTo>
                    <a:lnTo>
                      <a:pt x="70" y="1148"/>
                    </a:lnTo>
                    <a:lnTo>
                      <a:pt x="70" y="1143"/>
                    </a:lnTo>
                    <a:lnTo>
                      <a:pt x="70" y="1148"/>
                    </a:lnTo>
                    <a:lnTo>
                      <a:pt x="70" y="1143"/>
                    </a:lnTo>
                    <a:lnTo>
                      <a:pt x="70" y="1148"/>
                    </a:lnTo>
                    <a:lnTo>
                      <a:pt x="70" y="1138"/>
                    </a:lnTo>
                    <a:lnTo>
                      <a:pt x="70" y="1148"/>
                    </a:lnTo>
                    <a:lnTo>
                      <a:pt x="75" y="1143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75" y="1138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75" y="1148"/>
                    </a:lnTo>
                    <a:lnTo>
                      <a:pt x="75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3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0" y="1148"/>
                    </a:lnTo>
                    <a:lnTo>
                      <a:pt x="80" y="856"/>
                    </a:lnTo>
                    <a:lnTo>
                      <a:pt x="80" y="650"/>
                    </a:lnTo>
                    <a:lnTo>
                      <a:pt x="80" y="569"/>
                    </a:lnTo>
                    <a:lnTo>
                      <a:pt x="80" y="30"/>
                    </a:lnTo>
                    <a:lnTo>
                      <a:pt x="80" y="307"/>
                    </a:lnTo>
                    <a:lnTo>
                      <a:pt x="80" y="0"/>
                    </a:lnTo>
                    <a:lnTo>
                      <a:pt x="80" y="504"/>
                    </a:lnTo>
                    <a:lnTo>
                      <a:pt x="80" y="272"/>
                    </a:lnTo>
                    <a:lnTo>
                      <a:pt x="80" y="141"/>
                    </a:lnTo>
                    <a:lnTo>
                      <a:pt x="80" y="635"/>
                    </a:lnTo>
                    <a:lnTo>
                      <a:pt x="80" y="66"/>
                    </a:lnTo>
                    <a:lnTo>
                      <a:pt x="80" y="554"/>
                    </a:lnTo>
                    <a:lnTo>
                      <a:pt x="80" y="1098"/>
                    </a:lnTo>
                    <a:lnTo>
                      <a:pt x="80" y="1148"/>
                    </a:lnTo>
                    <a:lnTo>
                      <a:pt x="80" y="1143"/>
                    </a:lnTo>
                    <a:lnTo>
                      <a:pt x="86" y="1078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18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18"/>
                    </a:lnTo>
                    <a:lnTo>
                      <a:pt x="86" y="1148"/>
                    </a:lnTo>
                    <a:lnTo>
                      <a:pt x="86" y="112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38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86" y="1143"/>
                    </a:lnTo>
                    <a:lnTo>
                      <a:pt x="86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38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38"/>
                    </a:lnTo>
                    <a:lnTo>
                      <a:pt x="91" y="1143"/>
                    </a:lnTo>
                    <a:lnTo>
                      <a:pt x="91" y="1148"/>
                    </a:lnTo>
                    <a:lnTo>
                      <a:pt x="91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38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3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23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96" y="1143"/>
                    </a:lnTo>
                    <a:lnTo>
                      <a:pt x="96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18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18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3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1" y="1148"/>
                    </a:lnTo>
                    <a:lnTo>
                      <a:pt x="101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13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098"/>
                    </a:lnTo>
                    <a:lnTo>
                      <a:pt x="106" y="1148"/>
                    </a:lnTo>
                    <a:lnTo>
                      <a:pt x="106" y="1128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143"/>
                    </a:lnTo>
                    <a:lnTo>
                      <a:pt x="106" y="1148"/>
                    </a:lnTo>
                    <a:lnTo>
                      <a:pt x="106" y="1083"/>
                    </a:lnTo>
                    <a:lnTo>
                      <a:pt x="106" y="1058"/>
                    </a:lnTo>
                    <a:lnTo>
                      <a:pt x="106" y="1148"/>
                    </a:lnTo>
                    <a:lnTo>
                      <a:pt x="106" y="1028"/>
                    </a:lnTo>
                    <a:lnTo>
                      <a:pt x="106" y="1148"/>
                    </a:lnTo>
                    <a:lnTo>
                      <a:pt x="111" y="1148"/>
                    </a:lnTo>
                    <a:lnTo>
                      <a:pt x="111" y="1068"/>
                    </a:lnTo>
                    <a:lnTo>
                      <a:pt x="111" y="1148"/>
                    </a:lnTo>
                    <a:lnTo>
                      <a:pt x="111" y="1093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48"/>
                    </a:lnTo>
                    <a:lnTo>
                      <a:pt x="111" y="1123"/>
                    </a:lnTo>
                    <a:lnTo>
                      <a:pt x="111" y="1148"/>
                    </a:lnTo>
                    <a:lnTo>
                      <a:pt x="111" y="1133"/>
                    </a:lnTo>
                    <a:lnTo>
                      <a:pt x="111" y="1012"/>
                    </a:lnTo>
                    <a:lnTo>
                      <a:pt x="111" y="1128"/>
                    </a:lnTo>
                    <a:lnTo>
                      <a:pt x="111" y="907"/>
                    </a:lnTo>
                    <a:lnTo>
                      <a:pt x="111" y="1138"/>
                    </a:lnTo>
                    <a:lnTo>
                      <a:pt x="111" y="1088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18"/>
                    </a:lnTo>
                    <a:lnTo>
                      <a:pt x="111" y="1143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33"/>
                    </a:lnTo>
                    <a:lnTo>
                      <a:pt x="111" y="1143"/>
                    </a:lnTo>
                    <a:lnTo>
                      <a:pt x="111" y="1118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48"/>
                    </a:lnTo>
                    <a:lnTo>
                      <a:pt x="111" y="1098"/>
                    </a:lnTo>
                    <a:lnTo>
                      <a:pt x="111" y="1133"/>
                    </a:lnTo>
                    <a:lnTo>
                      <a:pt x="111" y="1143"/>
                    </a:lnTo>
                    <a:lnTo>
                      <a:pt x="111" y="1138"/>
                    </a:lnTo>
                    <a:lnTo>
                      <a:pt x="111" y="1148"/>
                    </a:lnTo>
                    <a:lnTo>
                      <a:pt x="111" y="1143"/>
                    </a:lnTo>
                    <a:lnTo>
                      <a:pt x="111" y="1138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16" y="1148"/>
                    </a:lnTo>
                    <a:lnTo>
                      <a:pt x="116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38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18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1" y="1128"/>
                    </a:lnTo>
                    <a:lnTo>
                      <a:pt x="121" y="1148"/>
                    </a:lnTo>
                    <a:lnTo>
                      <a:pt x="121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3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3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26" y="1143"/>
                    </a:lnTo>
                    <a:lnTo>
                      <a:pt x="126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38"/>
                    </a:lnTo>
                    <a:lnTo>
                      <a:pt x="131" y="1143"/>
                    </a:lnTo>
                    <a:lnTo>
                      <a:pt x="131" y="1138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1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38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23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48"/>
                    </a:lnTo>
                    <a:lnTo>
                      <a:pt x="131" y="1143"/>
                    </a:lnTo>
                    <a:lnTo>
                      <a:pt x="131" y="1138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3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13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38"/>
                    </a:lnTo>
                    <a:lnTo>
                      <a:pt x="136" y="1148"/>
                    </a:lnTo>
                    <a:lnTo>
                      <a:pt x="136" y="1138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36" y="1148"/>
                    </a:lnTo>
                    <a:lnTo>
                      <a:pt x="136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3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38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1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138"/>
                    </a:lnTo>
                    <a:lnTo>
                      <a:pt x="141" y="1143"/>
                    </a:lnTo>
                    <a:lnTo>
                      <a:pt x="141" y="1148"/>
                    </a:lnTo>
                    <a:lnTo>
                      <a:pt x="141" y="1098"/>
                    </a:lnTo>
                    <a:lnTo>
                      <a:pt x="141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38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3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43"/>
                    </a:lnTo>
                    <a:lnTo>
                      <a:pt x="146" y="1148"/>
                    </a:lnTo>
                    <a:lnTo>
                      <a:pt x="146" y="113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13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23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28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38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08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1" y="1148"/>
                    </a:lnTo>
                    <a:lnTo>
                      <a:pt x="151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56" y="1138"/>
                    </a:lnTo>
                    <a:lnTo>
                      <a:pt x="156" y="1148"/>
                    </a:lnTo>
                    <a:lnTo>
                      <a:pt x="156" y="1143"/>
                    </a:lnTo>
                    <a:lnTo>
                      <a:pt x="161" y="1138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38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38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48"/>
                    </a:lnTo>
                    <a:lnTo>
                      <a:pt x="161" y="1143"/>
                    </a:lnTo>
                    <a:lnTo>
                      <a:pt x="161" y="1138"/>
                    </a:lnTo>
                    <a:lnTo>
                      <a:pt x="161" y="1143"/>
                    </a:lnTo>
                    <a:lnTo>
                      <a:pt x="166" y="1138"/>
                    </a:lnTo>
                    <a:lnTo>
                      <a:pt x="166" y="1143"/>
                    </a:lnTo>
                    <a:lnTo>
                      <a:pt x="166" y="1138"/>
                    </a:lnTo>
                    <a:lnTo>
                      <a:pt x="166" y="114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66" y="1138"/>
                    </a:lnTo>
                    <a:lnTo>
                      <a:pt x="166" y="1143"/>
                    </a:lnTo>
                    <a:lnTo>
                      <a:pt x="166" y="113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66" y="112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66" y="1143"/>
                    </a:lnTo>
                    <a:lnTo>
                      <a:pt x="166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3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1" y="1143"/>
                    </a:lnTo>
                    <a:lnTo>
                      <a:pt x="171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3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38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76" y="1138"/>
                    </a:lnTo>
                    <a:lnTo>
                      <a:pt x="176" y="1143"/>
                    </a:lnTo>
                    <a:lnTo>
                      <a:pt x="176" y="1148"/>
                    </a:lnTo>
                    <a:lnTo>
                      <a:pt x="176" y="1143"/>
                    </a:lnTo>
                    <a:lnTo>
                      <a:pt x="181" y="1138"/>
                    </a:lnTo>
                    <a:lnTo>
                      <a:pt x="181" y="1148"/>
                    </a:lnTo>
                    <a:lnTo>
                      <a:pt x="181" y="1138"/>
                    </a:lnTo>
                    <a:lnTo>
                      <a:pt x="181" y="1143"/>
                    </a:lnTo>
                    <a:lnTo>
                      <a:pt x="181" y="1148"/>
                    </a:lnTo>
                    <a:lnTo>
                      <a:pt x="181" y="1143"/>
                    </a:lnTo>
                    <a:lnTo>
                      <a:pt x="181" y="1138"/>
                    </a:lnTo>
                    <a:lnTo>
                      <a:pt x="181" y="1143"/>
                    </a:lnTo>
                    <a:lnTo>
                      <a:pt x="181" y="1138"/>
                    </a:lnTo>
                    <a:lnTo>
                      <a:pt x="181" y="1143"/>
                    </a:lnTo>
                    <a:lnTo>
                      <a:pt x="181" y="1138"/>
                    </a:lnTo>
                    <a:lnTo>
                      <a:pt x="181" y="1148"/>
                    </a:lnTo>
                    <a:lnTo>
                      <a:pt x="181" y="1143"/>
                    </a:lnTo>
                    <a:lnTo>
                      <a:pt x="181" y="1148"/>
                    </a:lnTo>
                    <a:lnTo>
                      <a:pt x="181" y="1143"/>
                    </a:lnTo>
                    <a:lnTo>
                      <a:pt x="181" y="1148"/>
                    </a:lnTo>
                    <a:lnTo>
                      <a:pt x="181" y="1143"/>
                    </a:lnTo>
                    <a:lnTo>
                      <a:pt x="181" y="1148"/>
                    </a:lnTo>
                    <a:lnTo>
                      <a:pt x="181" y="1138"/>
                    </a:lnTo>
                    <a:lnTo>
                      <a:pt x="181" y="1143"/>
                    </a:lnTo>
                    <a:lnTo>
                      <a:pt x="181" y="1148"/>
                    </a:lnTo>
                    <a:lnTo>
                      <a:pt x="181" y="1138"/>
                    </a:lnTo>
                    <a:lnTo>
                      <a:pt x="181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3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3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86" y="1143"/>
                    </a:lnTo>
                    <a:lnTo>
                      <a:pt x="186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  <a:lnTo>
                      <a:pt x="191" y="1148"/>
                    </a:lnTo>
                    <a:lnTo>
                      <a:pt x="191" y="114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3800" y="3405600"/>
                <a:ext cx="563400" cy="199440"/>
              </a:xfrm>
              <a:custGeom>
                <a:avLst/>
                <a:gdLst/>
                <a:ahLst/>
                <a:rect l="l" t="t" r="r" b="b"/>
                <a:pathLst>
                  <a:path w="398" h="141">
                    <a:moveTo>
                      <a:pt x="0" y="45"/>
                    </a:moveTo>
                    <a:lnTo>
                      <a:pt x="0" y="50"/>
                    </a:lnTo>
                    <a:lnTo>
                      <a:pt x="0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4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40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45"/>
                    </a:lnTo>
                    <a:lnTo>
                      <a:pt x="10" y="4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20" y="50"/>
                    </a:lnTo>
                    <a:lnTo>
                      <a:pt x="20" y="45"/>
                    </a:lnTo>
                    <a:lnTo>
                      <a:pt x="20" y="50"/>
                    </a:lnTo>
                    <a:lnTo>
                      <a:pt x="20" y="55"/>
                    </a:lnTo>
                    <a:lnTo>
                      <a:pt x="20" y="50"/>
                    </a:lnTo>
                    <a:lnTo>
                      <a:pt x="20" y="55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25" y="50"/>
                    </a:lnTo>
                    <a:lnTo>
                      <a:pt x="25" y="55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25" y="50"/>
                    </a:lnTo>
                    <a:lnTo>
                      <a:pt x="25" y="55"/>
                    </a:lnTo>
                    <a:lnTo>
                      <a:pt x="30" y="50"/>
                    </a:lnTo>
                    <a:lnTo>
                      <a:pt x="30" y="55"/>
                    </a:lnTo>
                    <a:lnTo>
                      <a:pt x="30" y="50"/>
                    </a:lnTo>
                    <a:lnTo>
                      <a:pt x="30" y="55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45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41" y="50"/>
                    </a:lnTo>
                    <a:lnTo>
                      <a:pt x="41" y="55"/>
                    </a:lnTo>
                    <a:lnTo>
                      <a:pt x="41" y="50"/>
                    </a:lnTo>
                    <a:lnTo>
                      <a:pt x="41" y="45"/>
                    </a:lnTo>
                    <a:lnTo>
                      <a:pt x="41" y="50"/>
                    </a:lnTo>
                    <a:lnTo>
                      <a:pt x="41" y="55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46" y="50"/>
                    </a:lnTo>
                    <a:lnTo>
                      <a:pt x="46" y="55"/>
                    </a:lnTo>
                    <a:lnTo>
                      <a:pt x="51" y="50"/>
                    </a:lnTo>
                    <a:lnTo>
                      <a:pt x="51" y="4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1" y="50"/>
                    </a:lnTo>
                    <a:lnTo>
                      <a:pt x="51" y="4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1" y="50"/>
                    </a:lnTo>
                    <a:lnTo>
                      <a:pt x="51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56" y="55"/>
                    </a:lnTo>
                    <a:lnTo>
                      <a:pt x="56" y="50"/>
                    </a:lnTo>
                    <a:lnTo>
                      <a:pt x="61" y="55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61" y="55"/>
                    </a:lnTo>
                    <a:lnTo>
                      <a:pt x="61" y="50"/>
                    </a:lnTo>
                    <a:lnTo>
                      <a:pt x="61" y="55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61" y="55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61" y="55"/>
                    </a:lnTo>
                    <a:lnTo>
                      <a:pt x="61" y="50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61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5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55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40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55"/>
                    </a:lnTo>
                    <a:lnTo>
                      <a:pt x="71" y="50"/>
                    </a:lnTo>
                    <a:lnTo>
                      <a:pt x="71" y="55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45"/>
                    </a:lnTo>
                    <a:lnTo>
                      <a:pt x="76" y="50"/>
                    </a:lnTo>
                    <a:lnTo>
                      <a:pt x="76" y="45"/>
                    </a:lnTo>
                    <a:lnTo>
                      <a:pt x="76" y="50"/>
                    </a:lnTo>
                    <a:lnTo>
                      <a:pt x="76" y="45"/>
                    </a:lnTo>
                    <a:lnTo>
                      <a:pt x="76" y="50"/>
                    </a:lnTo>
                    <a:lnTo>
                      <a:pt x="76" y="45"/>
                    </a:lnTo>
                    <a:lnTo>
                      <a:pt x="76" y="50"/>
                    </a:lnTo>
                    <a:lnTo>
                      <a:pt x="76" y="45"/>
                    </a:lnTo>
                    <a:lnTo>
                      <a:pt x="81" y="50"/>
                    </a:lnTo>
                    <a:lnTo>
                      <a:pt x="81" y="55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86" y="50"/>
                    </a:lnTo>
                    <a:lnTo>
                      <a:pt x="86" y="45"/>
                    </a:lnTo>
                    <a:lnTo>
                      <a:pt x="86" y="50"/>
                    </a:lnTo>
                    <a:lnTo>
                      <a:pt x="86" y="45"/>
                    </a:lnTo>
                    <a:lnTo>
                      <a:pt x="86" y="50"/>
                    </a:lnTo>
                    <a:lnTo>
                      <a:pt x="86" y="45"/>
                    </a:lnTo>
                    <a:lnTo>
                      <a:pt x="86" y="50"/>
                    </a:lnTo>
                    <a:lnTo>
                      <a:pt x="86" y="55"/>
                    </a:lnTo>
                    <a:lnTo>
                      <a:pt x="86" y="50"/>
                    </a:lnTo>
                    <a:lnTo>
                      <a:pt x="86" y="45"/>
                    </a:lnTo>
                    <a:lnTo>
                      <a:pt x="91" y="50"/>
                    </a:lnTo>
                    <a:lnTo>
                      <a:pt x="91" y="45"/>
                    </a:lnTo>
                    <a:lnTo>
                      <a:pt x="91" y="50"/>
                    </a:lnTo>
                    <a:lnTo>
                      <a:pt x="91" y="45"/>
                    </a:lnTo>
                    <a:lnTo>
                      <a:pt x="91" y="50"/>
                    </a:lnTo>
                    <a:lnTo>
                      <a:pt x="91" y="55"/>
                    </a:lnTo>
                    <a:lnTo>
                      <a:pt x="96" y="50"/>
                    </a:lnTo>
                    <a:lnTo>
                      <a:pt x="96" y="45"/>
                    </a:lnTo>
                    <a:lnTo>
                      <a:pt x="96" y="50"/>
                    </a:lnTo>
                    <a:lnTo>
                      <a:pt x="96" y="45"/>
                    </a:lnTo>
                    <a:lnTo>
                      <a:pt x="101" y="50"/>
                    </a:lnTo>
                    <a:lnTo>
                      <a:pt x="101" y="45"/>
                    </a:lnTo>
                    <a:lnTo>
                      <a:pt x="101" y="50"/>
                    </a:lnTo>
                    <a:lnTo>
                      <a:pt x="101" y="45"/>
                    </a:lnTo>
                    <a:lnTo>
                      <a:pt x="101" y="50"/>
                    </a:lnTo>
                    <a:lnTo>
                      <a:pt x="101" y="45"/>
                    </a:lnTo>
                    <a:lnTo>
                      <a:pt x="106" y="50"/>
                    </a:lnTo>
                    <a:lnTo>
                      <a:pt x="111" y="50"/>
                    </a:lnTo>
                    <a:lnTo>
                      <a:pt x="111" y="35"/>
                    </a:lnTo>
                    <a:lnTo>
                      <a:pt x="111" y="50"/>
                    </a:lnTo>
                    <a:lnTo>
                      <a:pt x="111" y="55"/>
                    </a:lnTo>
                    <a:lnTo>
                      <a:pt x="111" y="50"/>
                    </a:lnTo>
                    <a:lnTo>
                      <a:pt x="111" y="45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16" y="45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21" y="50"/>
                    </a:lnTo>
                    <a:lnTo>
                      <a:pt x="121" y="55"/>
                    </a:lnTo>
                    <a:lnTo>
                      <a:pt x="121" y="50"/>
                    </a:lnTo>
                    <a:lnTo>
                      <a:pt x="121" y="55"/>
                    </a:lnTo>
                    <a:lnTo>
                      <a:pt x="126" y="50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6" y="50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55"/>
                    </a:lnTo>
                    <a:lnTo>
                      <a:pt x="131" y="50"/>
                    </a:lnTo>
                    <a:lnTo>
                      <a:pt x="131" y="55"/>
                    </a:lnTo>
                    <a:lnTo>
                      <a:pt x="131" y="50"/>
                    </a:lnTo>
                    <a:lnTo>
                      <a:pt x="131" y="45"/>
                    </a:lnTo>
                    <a:lnTo>
                      <a:pt x="131" y="50"/>
                    </a:lnTo>
                    <a:lnTo>
                      <a:pt x="131" y="55"/>
                    </a:lnTo>
                    <a:lnTo>
                      <a:pt x="136" y="50"/>
                    </a:lnTo>
                    <a:lnTo>
                      <a:pt x="136" y="55"/>
                    </a:lnTo>
                    <a:lnTo>
                      <a:pt x="136" y="50"/>
                    </a:lnTo>
                    <a:lnTo>
                      <a:pt x="136" y="55"/>
                    </a:lnTo>
                    <a:lnTo>
                      <a:pt x="136" y="50"/>
                    </a:lnTo>
                    <a:lnTo>
                      <a:pt x="136" y="55"/>
                    </a:lnTo>
                    <a:lnTo>
                      <a:pt x="136" y="50"/>
                    </a:lnTo>
                    <a:lnTo>
                      <a:pt x="136" y="55"/>
                    </a:lnTo>
                    <a:lnTo>
                      <a:pt x="141" y="50"/>
                    </a:lnTo>
                    <a:lnTo>
                      <a:pt x="141" y="40"/>
                    </a:lnTo>
                    <a:lnTo>
                      <a:pt x="141" y="50"/>
                    </a:lnTo>
                    <a:lnTo>
                      <a:pt x="141" y="55"/>
                    </a:lnTo>
                    <a:lnTo>
                      <a:pt x="141" y="50"/>
                    </a:lnTo>
                    <a:lnTo>
                      <a:pt x="141" y="55"/>
                    </a:lnTo>
                    <a:lnTo>
                      <a:pt x="141" y="45"/>
                    </a:lnTo>
                    <a:lnTo>
                      <a:pt x="141" y="50"/>
                    </a:lnTo>
                    <a:lnTo>
                      <a:pt x="141" y="55"/>
                    </a:lnTo>
                    <a:lnTo>
                      <a:pt x="141" y="50"/>
                    </a:lnTo>
                    <a:lnTo>
                      <a:pt x="141" y="40"/>
                    </a:lnTo>
                    <a:lnTo>
                      <a:pt x="141" y="50"/>
                    </a:lnTo>
                    <a:lnTo>
                      <a:pt x="141" y="45"/>
                    </a:lnTo>
                    <a:lnTo>
                      <a:pt x="146" y="50"/>
                    </a:lnTo>
                    <a:lnTo>
                      <a:pt x="146" y="55"/>
                    </a:lnTo>
                    <a:lnTo>
                      <a:pt x="146" y="50"/>
                    </a:lnTo>
                    <a:lnTo>
                      <a:pt x="146" y="55"/>
                    </a:lnTo>
                    <a:lnTo>
                      <a:pt x="146" y="50"/>
                    </a:lnTo>
                    <a:lnTo>
                      <a:pt x="146" y="55"/>
                    </a:lnTo>
                    <a:lnTo>
                      <a:pt x="146" y="50"/>
                    </a:lnTo>
                    <a:lnTo>
                      <a:pt x="146" y="55"/>
                    </a:lnTo>
                    <a:lnTo>
                      <a:pt x="146" y="50"/>
                    </a:lnTo>
                    <a:lnTo>
                      <a:pt x="146" y="45"/>
                    </a:lnTo>
                    <a:lnTo>
                      <a:pt x="151" y="50"/>
                    </a:lnTo>
                    <a:lnTo>
                      <a:pt x="151" y="55"/>
                    </a:lnTo>
                    <a:lnTo>
                      <a:pt x="151" y="50"/>
                    </a:lnTo>
                    <a:lnTo>
                      <a:pt x="151" y="60"/>
                    </a:lnTo>
                    <a:lnTo>
                      <a:pt x="151" y="141"/>
                    </a:lnTo>
                    <a:lnTo>
                      <a:pt x="151" y="136"/>
                    </a:lnTo>
                    <a:lnTo>
                      <a:pt x="151" y="141"/>
                    </a:lnTo>
                    <a:lnTo>
                      <a:pt x="151" y="136"/>
                    </a:lnTo>
                    <a:lnTo>
                      <a:pt x="151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56" y="141"/>
                    </a:lnTo>
                    <a:lnTo>
                      <a:pt x="156" y="131"/>
                    </a:lnTo>
                    <a:lnTo>
                      <a:pt x="156" y="126"/>
                    </a:lnTo>
                    <a:lnTo>
                      <a:pt x="156" y="141"/>
                    </a:lnTo>
                    <a:lnTo>
                      <a:pt x="156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1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1" y="141"/>
                    </a:lnTo>
                    <a:lnTo>
                      <a:pt x="161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2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36"/>
                    </a:lnTo>
                    <a:lnTo>
                      <a:pt x="166" y="141"/>
                    </a:lnTo>
                    <a:lnTo>
                      <a:pt x="166" y="116"/>
                    </a:lnTo>
                    <a:lnTo>
                      <a:pt x="166" y="136"/>
                    </a:lnTo>
                    <a:lnTo>
                      <a:pt x="171" y="141"/>
                    </a:lnTo>
                    <a:lnTo>
                      <a:pt x="171" y="136"/>
                    </a:lnTo>
                    <a:lnTo>
                      <a:pt x="171" y="141"/>
                    </a:lnTo>
                    <a:lnTo>
                      <a:pt x="171" y="136"/>
                    </a:lnTo>
                    <a:lnTo>
                      <a:pt x="171" y="121"/>
                    </a:lnTo>
                    <a:lnTo>
                      <a:pt x="171" y="136"/>
                    </a:lnTo>
                    <a:lnTo>
                      <a:pt x="171" y="141"/>
                    </a:lnTo>
                    <a:lnTo>
                      <a:pt x="171" y="136"/>
                    </a:lnTo>
                    <a:lnTo>
                      <a:pt x="171" y="141"/>
                    </a:lnTo>
                    <a:lnTo>
                      <a:pt x="171" y="136"/>
                    </a:lnTo>
                    <a:lnTo>
                      <a:pt x="171" y="45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1" y="50"/>
                    </a:lnTo>
                    <a:lnTo>
                      <a:pt x="171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77" y="50"/>
                    </a:lnTo>
                    <a:lnTo>
                      <a:pt x="177" y="45"/>
                    </a:lnTo>
                    <a:lnTo>
                      <a:pt x="182" y="50"/>
                    </a:lnTo>
                    <a:lnTo>
                      <a:pt x="182" y="45"/>
                    </a:lnTo>
                    <a:lnTo>
                      <a:pt x="182" y="50"/>
                    </a:lnTo>
                    <a:lnTo>
                      <a:pt x="182" y="45"/>
                    </a:lnTo>
                    <a:lnTo>
                      <a:pt x="182" y="50"/>
                    </a:lnTo>
                    <a:lnTo>
                      <a:pt x="182" y="45"/>
                    </a:lnTo>
                    <a:lnTo>
                      <a:pt x="182" y="50"/>
                    </a:lnTo>
                    <a:lnTo>
                      <a:pt x="182" y="5"/>
                    </a:lnTo>
                    <a:lnTo>
                      <a:pt x="182" y="0"/>
                    </a:lnTo>
                    <a:lnTo>
                      <a:pt x="182" y="50"/>
                    </a:lnTo>
                    <a:lnTo>
                      <a:pt x="182" y="45"/>
                    </a:lnTo>
                    <a:lnTo>
                      <a:pt x="187" y="50"/>
                    </a:lnTo>
                    <a:lnTo>
                      <a:pt x="187" y="45"/>
                    </a:lnTo>
                    <a:lnTo>
                      <a:pt x="187" y="50"/>
                    </a:lnTo>
                    <a:lnTo>
                      <a:pt x="187" y="45"/>
                    </a:lnTo>
                    <a:lnTo>
                      <a:pt x="187" y="50"/>
                    </a:lnTo>
                    <a:lnTo>
                      <a:pt x="187" y="45"/>
                    </a:lnTo>
                    <a:lnTo>
                      <a:pt x="187" y="50"/>
                    </a:lnTo>
                    <a:lnTo>
                      <a:pt x="187" y="45"/>
                    </a:lnTo>
                    <a:lnTo>
                      <a:pt x="192" y="50"/>
                    </a:lnTo>
                    <a:lnTo>
                      <a:pt x="192" y="45"/>
                    </a:lnTo>
                    <a:lnTo>
                      <a:pt x="192" y="50"/>
                    </a:lnTo>
                    <a:lnTo>
                      <a:pt x="192" y="45"/>
                    </a:lnTo>
                    <a:lnTo>
                      <a:pt x="197" y="50"/>
                    </a:lnTo>
                    <a:lnTo>
                      <a:pt x="197" y="45"/>
                    </a:lnTo>
                    <a:lnTo>
                      <a:pt x="197" y="50"/>
                    </a:lnTo>
                    <a:lnTo>
                      <a:pt x="197" y="45"/>
                    </a:lnTo>
                    <a:lnTo>
                      <a:pt x="197" y="50"/>
                    </a:lnTo>
                    <a:lnTo>
                      <a:pt x="197" y="45"/>
                    </a:lnTo>
                    <a:lnTo>
                      <a:pt x="197" y="50"/>
                    </a:lnTo>
                    <a:lnTo>
                      <a:pt x="197" y="45"/>
                    </a:lnTo>
                    <a:lnTo>
                      <a:pt x="197" y="50"/>
                    </a:lnTo>
                    <a:lnTo>
                      <a:pt x="197" y="45"/>
                    </a:lnTo>
                    <a:lnTo>
                      <a:pt x="202" y="50"/>
                    </a:lnTo>
                    <a:lnTo>
                      <a:pt x="202" y="45"/>
                    </a:lnTo>
                    <a:lnTo>
                      <a:pt x="202" y="50"/>
                    </a:lnTo>
                    <a:lnTo>
                      <a:pt x="202" y="45"/>
                    </a:lnTo>
                    <a:lnTo>
                      <a:pt x="202" y="50"/>
                    </a:lnTo>
                    <a:lnTo>
                      <a:pt x="202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07" y="50"/>
                    </a:lnTo>
                    <a:lnTo>
                      <a:pt x="207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5"/>
                    </a:lnTo>
                    <a:lnTo>
                      <a:pt x="212" y="50"/>
                    </a:lnTo>
                    <a:lnTo>
                      <a:pt x="212" y="40"/>
                    </a:lnTo>
                    <a:lnTo>
                      <a:pt x="212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17" y="50"/>
                    </a:lnTo>
                    <a:lnTo>
                      <a:pt x="217" y="45"/>
                    </a:lnTo>
                    <a:lnTo>
                      <a:pt x="222" y="50"/>
                    </a:lnTo>
                    <a:lnTo>
                      <a:pt x="222" y="40"/>
                    </a:lnTo>
                    <a:lnTo>
                      <a:pt x="222" y="50"/>
                    </a:lnTo>
                    <a:lnTo>
                      <a:pt x="222" y="45"/>
                    </a:lnTo>
                    <a:lnTo>
                      <a:pt x="222" y="50"/>
                    </a:lnTo>
                    <a:lnTo>
                      <a:pt x="222" y="40"/>
                    </a:lnTo>
                    <a:lnTo>
                      <a:pt x="222" y="50"/>
                    </a:lnTo>
                    <a:lnTo>
                      <a:pt x="227" y="45"/>
                    </a:lnTo>
                    <a:lnTo>
                      <a:pt x="227" y="50"/>
                    </a:lnTo>
                    <a:lnTo>
                      <a:pt x="227" y="40"/>
                    </a:lnTo>
                    <a:lnTo>
                      <a:pt x="227" y="50"/>
                    </a:lnTo>
                    <a:lnTo>
                      <a:pt x="227" y="45"/>
                    </a:lnTo>
                    <a:lnTo>
                      <a:pt x="227" y="50"/>
                    </a:lnTo>
                    <a:lnTo>
                      <a:pt x="227" y="40"/>
                    </a:lnTo>
                    <a:lnTo>
                      <a:pt x="227" y="50"/>
                    </a:lnTo>
                    <a:lnTo>
                      <a:pt x="227" y="45"/>
                    </a:lnTo>
                    <a:lnTo>
                      <a:pt x="227" y="50"/>
                    </a:lnTo>
                    <a:lnTo>
                      <a:pt x="227" y="45"/>
                    </a:lnTo>
                    <a:lnTo>
                      <a:pt x="227" y="50"/>
                    </a:lnTo>
                    <a:lnTo>
                      <a:pt x="227" y="45"/>
                    </a:lnTo>
                    <a:lnTo>
                      <a:pt x="227" y="50"/>
                    </a:lnTo>
                    <a:lnTo>
                      <a:pt x="227" y="55"/>
                    </a:lnTo>
                    <a:lnTo>
                      <a:pt x="232" y="50"/>
                    </a:lnTo>
                    <a:lnTo>
                      <a:pt x="232" y="55"/>
                    </a:lnTo>
                    <a:lnTo>
                      <a:pt x="232" y="50"/>
                    </a:lnTo>
                    <a:lnTo>
                      <a:pt x="232" y="35"/>
                    </a:lnTo>
                    <a:lnTo>
                      <a:pt x="232" y="50"/>
                    </a:lnTo>
                    <a:lnTo>
                      <a:pt x="232" y="40"/>
                    </a:lnTo>
                    <a:lnTo>
                      <a:pt x="232" y="50"/>
                    </a:lnTo>
                    <a:lnTo>
                      <a:pt x="232" y="45"/>
                    </a:lnTo>
                    <a:lnTo>
                      <a:pt x="232" y="50"/>
                    </a:lnTo>
                    <a:lnTo>
                      <a:pt x="232" y="45"/>
                    </a:lnTo>
                    <a:lnTo>
                      <a:pt x="232" y="50"/>
                    </a:lnTo>
                    <a:lnTo>
                      <a:pt x="232" y="45"/>
                    </a:lnTo>
                    <a:lnTo>
                      <a:pt x="232" y="50"/>
                    </a:lnTo>
                    <a:lnTo>
                      <a:pt x="232" y="45"/>
                    </a:lnTo>
                    <a:lnTo>
                      <a:pt x="237" y="50"/>
                    </a:lnTo>
                    <a:lnTo>
                      <a:pt x="237" y="55"/>
                    </a:lnTo>
                    <a:lnTo>
                      <a:pt x="237" y="50"/>
                    </a:lnTo>
                    <a:lnTo>
                      <a:pt x="237" y="45"/>
                    </a:lnTo>
                    <a:lnTo>
                      <a:pt x="237" y="50"/>
                    </a:lnTo>
                    <a:lnTo>
                      <a:pt x="237" y="45"/>
                    </a:lnTo>
                    <a:lnTo>
                      <a:pt x="237" y="50"/>
                    </a:lnTo>
                    <a:lnTo>
                      <a:pt x="237" y="55"/>
                    </a:lnTo>
                    <a:lnTo>
                      <a:pt x="237" y="50"/>
                    </a:lnTo>
                    <a:lnTo>
                      <a:pt x="237" y="40"/>
                    </a:lnTo>
                    <a:lnTo>
                      <a:pt x="237" y="50"/>
                    </a:lnTo>
                    <a:lnTo>
                      <a:pt x="237" y="45"/>
                    </a:lnTo>
                    <a:lnTo>
                      <a:pt x="237" y="50"/>
                    </a:lnTo>
                    <a:lnTo>
                      <a:pt x="237" y="45"/>
                    </a:lnTo>
                    <a:lnTo>
                      <a:pt x="237" y="50"/>
                    </a:lnTo>
                    <a:lnTo>
                      <a:pt x="237" y="45"/>
                    </a:lnTo>
                    <a:lnTo>
                      <a:pt x="237" y="50"/>
                    </a:lnTo>
                    <a:lnTo>
                      <a:pt x="237" y="55"/>
                    </a:lnTo>
                    <a:lnTo>
                      <a:pt x="242" y="50"/>
                    </a:lnTo>
                    <a:lnTo>
                      <a:pt x="242" y="55"/>
                    </a:lnTo>
                    <a:lnTo>
                      <a:pt x="242" y="50"/>
                    </a:lnTo>
                    <a:lnTo>
                      <a:pt x="242" y="55"/>
                    </a:lnTo>
                    <a:lnTo>
                      <a:pt x="242" y="50"/>
                    </a:lnTo>
                    <a:lnTo>
                      <a:pt x="242" y="55"/>
                    </a:lnTo>
                    <a:lnTo>
                      <a:pt x="247" y="50"/>
                    </a:lnTo>
                    <a:lnTo>
                      <a:pt x="247" y="45"/>
                    </a:lnTo>
                    <a:lnTo>
                      <a:pt x="247" y="50"/>
                    </a:lnTo>
                    <a:lnTo>
                      <a:pt x="247" y="45"/>
                    </a:lnTo>
                    <a:lnTo>
                      <a:pt x="247" y="50"/>
                    </a:lnTo>
                    <a:lnTo>
                      <a:pt x="247" y="45"/>
                    </a:lnTo>
                    <a:lnTo>
                      <a:pt x="247" y="55"/>
                    </a:lnTo>
                    <a:lnTo>
                      <a:pt x="247" y="50"/>
                    </a:lnTo>
                    <a:lnTo>
                      <a:pt x="247" y="55"/>
                    </a:lnTo>
                    <a:lnTo>
                      <a:pt x="247" y="50"/>
                    </a:lnTo>
                    <a:lnTo>
                      <a:pt x="247" y="55"/>
                    </a:lnTo>
                    <a:lnTo>
                      <a:pt x="247" y="50"/>
                    </a:lnTo>
                    <a:lnTo>
                      <a:pt x="247" y="45"/>
                    </a:lnTo>
                    <a:lnTo>
                      <a:pt x="247" y="50"/>
                    </a:lnTo>
                    <a:lnTo>
                      <a:pt x="247" y="45"/>
                    </a:lnTo>
                    <a:lnTo>
                      <a:pt x="252" y="50"/>
                    </a:lnTo>
                    <a:lnTo>
                      <a:pt x="252" y="45"/>
                    </a:lnTo>
                    <a:lnTo>
                      <a:pt x="252" y="50"/>
                    </a:lnTo>
                    <a:lnTo>
                      <a:pt x="252" y="45"/>
                    </a:lnTo>
                    <a:lnTo>
                      <a:pt x="252" y="50"/>
                    </a:lnTo>
                    <a:lnTo>
                      <a:pt x="252" y="55"/>
                    </a:lnTo>
                    <a:lnTo>
                      <a:pt x="252" y="50"/>
                    </a:lnTo>
                    <a:lnTo>
                      <a:pt x="252" y="45"/>
                    </a:lnTo>
                    <a:lnTo>
                      <a:pt x="252" y="50"/>
                    </a:lnTo>
                    <a:lnTo>
                      <a:pt x="252" y="45"/>
                    </a:lnTo>
                    <a:lnTo>
                      <a:pt x="252" y="50"/>
                    </a:lnTo>
                    <a:lnTo>
                      <a:pt x="257" y="45"/>
                    </a:lnTo>
                    <a:lnTo>
                      <a:pt x="257" y="50"/>
                    </a:lnTo>
                    <a:lnTo>
                      <a:pt x="257" y="45"/>
                    </a:lnTo>
                    <a:lnTo>
                      <a:pt x="257" y="50"/>
                    </a:lnTo>
                    <a:lnTo>
                      <a:pt x="262" y="45"/>
                    </a:lnTo>
                    <a:lnTo>
                      <a:pt x="262" y="50"/>
                    </a:lnTo>
                    <a:lnTo>
                      <a:pt x="262" y="45"/>
                    </a:lnTo>
                    <a:lnTo>
                      <a:pt x="262" y="50"/>
                    </a:lnTo>
                    <a:lnTo>
                      <a:pt x="262" y="45"/>
                    </a:lnTo>
                    <a:lnTo>
                      <a:pt x="262" y="50"/>
                    </a:lnTo>
                    <a:lnTo>
                      <a:pt x="262" y="45"/>
                    </a:lnTo>
                    <a:lnTo>
                      <a:pt x="262" y="50"/>
                    </a:lnTo>
                    <a:lnTo>
                      <a:pt x="262" y="45"/>
                    </a:lnTo>
                    <a:lnTo>
                      <a:pt x="262" y="50"/>
                    </a:lnTo>
                    <a:lnTo>
                      <a:pt x="262" y="45"/>
                    </a:lnTo>
                    <a:lnTo>
                      <a:pt x="267" y="50"/>
                    </a:lnTo>
                    <a:lnTo>
                      <a:pt x="267" y="45"/>
                    </a:lnTo>
                    <a:lnTo>
                      <a:pt x="267" y="50"/>
                    </a:lnTo>
                    <a:lnTo>
                      <a:pt x="267" y="45"/>
                    </a:lnTo>
                    <a:lnTo>
                      <a:pt x="267" y="50"/>
                    </a:lnTo>
                    <a:lnTo>
                      <a:pt x="267" y="45"/>
                    </a:lnTo>
                    <a:lnTo>
                      <a:pt x="272" y="50"/>
                    </a:lnTo>
                    <a:lnTo>
                      <a:pt x="272" y="45"/>
                    </a:lnTo>
                    <a:lnTo>
                      <a:pt x="272" y="50"/>
                    </a:lnTo>
                    <a:lnTo>
                      <a:pt x="272" y="45"/>
                    </a:lnTo>
                    <a:lnTo>
                      <a:pt x="272" y="50"/>
                    </a:lnTo>
                    <a:lnTo>
                      <a:pt x="272" y="45"/>
                    </a:lnTo>
                    <a:lnTo>
                      <a:pt x="277" y="50"/>
                    </a:lnTo>
                    <a:lnTo>
                      <a:pt x="277" y="45"/>
                    </a:lnTo>
                    <a:lnTo>
                      <a:pt x="277" y="50"/>
                    </a:lnTo>
                    <a:lnTo>
                      <a:pt x="277" y="45"/>
                    </a:lnTo>
                    <a:lnTo>
                      <a:pt x="277" y="50"/>
                    </a:lnTo>
                    <a:lnTo>
                      <a:pt x="277" y="45"/>
                    </a:lnTo>
                    <a:lnTo>
                      <a:pt x="277" y="50"/>
                    </a:lnTo>
                    <a:lnTo>
                      <a:pt x="277" y="45"/>
                    </a:lnTo>
                    <a:lnTo>
                      <a:pt x="277" y="50"/>
                    </a:lnTo>
                    <a:lnTo>
                      <a:pt x="282" y="4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2" y="50"/>
                    </a:lnTo>
                    <a:lnTo>
                      <a:pt x="282" y="45"/>
                    </a:lnTo>
                    <a:lnTo>
                      <a:pt x="287" y="50"/>
                    </a:lnTo>
                    <a:lnTo>
                      <a:pt x="287" y="45"/>
                    </a:lnTo>
                    <a:lnTo>
                      <a:pt x="287" y="50"/>
                    </a:lnTo>
                    <a:lnTo>
                      <a:pt x="287" y="45"/>
                    </a:lnTo>
                    <a:lnTo>
                      <a:pt x="287" y="50"/>
                    </a:lnTo>
                    <a:lnTo>
                      <a:pt x="292" y="45"/>
                    </a:lnTo>
                    <a:lnTo>
                      <a:pt x="292" y="50"/>
                    </a:lnTo>
                    <a:lnTo>
                      <a:pt x="292" y="45"/>
                    </a:lnTo>
                    <a:lnTo>
                      <a:pt x="292" y="50"/>
                    </a:lnTo>
                    <a:lnTo>
                      <a:pt x="292" y="35"/>
                    </a:lnTo>
                    <a:lnTo>
                      <a:pt x="292" y="50"/>
                    </a:lnTo>
                    <a:lnTo>
                      <a:pt x="297" y="45"/>
                    </a:lnTo>
                    <a:lnTo>
                      <a:pt x="297" y="50"/>
                    </a:lnTo>
                    <a:lnTo>
                      <a:pt x="297" y="45"/>
                    </a:lnTo>
                    <a:lnTo>
                      <a:pt x="297" y="50"/>
                    </a:lnTo>
                    <a:lnTo>
                      <a:pt x="297" y="45"/>
                    </a:lnTo>
                    <a:lnTo>
                      <a:pt x="297" y="50"/>
                    </a:lnTo>
                    <a:lnTo>
                      <a:pt x="297" y="45"/>
                    </a:lnTo>
                    <a:lnTo>
                      <a:pt x="297" y="50"/>
                    </a:lnTo>
                    <a:lnTo>
                      <a:pt x="297" y="55"/>
                    </a:lnTo>
                    <a:lnTo>
                      <a:pt x="297" y="45"/>
                    </a:lnTo>
                    <a:lnTo>
                      <a:pt x="297" y="50"/>
                    </a:lnTo>
                    <a:lnTo>
                      <a:pt x="297" y="55"/>
                    </a:lnTo>
                    <a:lnTo>
                      <a:pt x="302" y="50"/>
                    </a:lnTo>
                    <a:lnTo>
                      <a:pt x="302" y="45"/>
                    </a:lnTo>
                    <a:lnTo>
                      <a:pt x="302" y="50"/>
                    </a:lnTo>
                    <a:lnTo>
                      <a:pt x="302" y="45"/>
                    </a:lnTo>
                    <a:lnTo>
                      <a:pt x="302" y="50"/>
                    </a:lnTo>
                    <a:lnTo>
                      <a:pt x="302" y="45"/>
                    </a:lnTo>
                    <a:lnTo>
                      <a:pt x="302" y="50"/>
                    </a:lnTo>
                    <a:lnTo>
                      <a:pt x="302" y="45"/>
                    </a:lnTo>
                    <a:lnTo>
                      <a:pt x="302" y="50"/>
                    </a:lnTo>
                    <a:lnTo>
                      <a:pt x="302" y="45"/>
                    </a:lnTo>
                    <a:lnTo>
                      <a:pt x="307" y="50"/>
                    </a:lnTo>
                    <a:lnTo>
                      <a:pt x="307" y="45"/>
                    </a:lnTo>
                    <a:lnTo>
                      <a:pt x="307" y="50"/>
                    </a:lnTo>
                    <a:lnTo>
                      <a:pt x="307" y="45"/>
                    </a:lnTo>
                    <a:lnTo>
                      <a:pt x="307" y="50"/>
                    </a:lnTo>
                    <a:lnTo>
                      <a:pt x="307" y="55"/>
                    </a:lnTo>
                    <a:lnTo>
                      <a:pt x="307" y="50"/>
                    </a:lnTo>
                    <a:lnTo>
                      <a:pt x="307" y="55"/>
                    </a:lnTo>
                    <a:lnTo>
                      <a:pt x="307" y="50"/>
                    </a:lnTo>
                    <a:lnTo>
                      <a:pt x="307" y="45"/>
                    </a:lnTo>
                    <a:lnTo>
                      <a:pt x="307" y="50"/>
                    </a:lnTo>
                    <a:lnTo>
                      <a:pt x="307" y="45"/>
                    </a:lnTo>
                    <a:lnTo>
                      <a:pt x="307" y="50"/>
                    </a:lnTo>
                    <a:lnTo>
                      <a:pt x="307" y="45"/>
                    </a:lnTo>
                    <a:lnTo>
                      <a:pt x="307" y="50"/>
                    </a:lnTo>
                    <a:lnTo>
                      <a:pt x="307" y="55"/>
                    </a:lnTo>
                    <a:lnTo>
                      <a:pt x="312" y="50"/>
                    </a:lnTo>
                    <a:lnTo>
                      <a:pt x="312" y="55"/>
                    </a:lnTo>
                    <a:lnTo>
                      <a:pt x="312" y="50"/>
                    </a:lnTo>
                    <a:lnTo>
                      <a:pt x="312" y="45"/>
                    </a:lnTo>
                    <a:lnTo>
                      <a:pt x="312" y="50"/>
                    </a:lnTo>
                    <a:lnTo>
                      <a:pt x="312" y="45"/>
                    </a:lnTo>
                    <a:lnTo>
                      <a:pt x="312" y="50"/>
                    </a:lnTo>
                    <a:lnTo>
                      <a:pt x="312" y="55"/>
                    </a:lnTo>
                    <a:lnTo>
                      <a:pt x="312" y="50"/>
                    </a:lnTo>
                    <a:lnTo>
                      <a:pt x="312" y="55"/>
                    </a:lnTo>
                    <a:lnTo>
                      <a:pt x="312" y="50"/>
                    </a:lnTo>
                    <a:lnTo>
                      <a:pt x="312" y="45"/>
                    </a:lnTo>
                    <a:lnTo>
                      <a:pt x="312" y="50"/>
                    </a:lnTo>
                    <a:lnTo>
                      <a:pt x="312" y="45"/>
                    </a:lnTo>
                    <a:lnTo>
                      <a:pt x="312" y="50"/>
                    </a:lnTo>
                    <a:lnTo>
                      <a:pt x="312" y="5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18" y="40"/>
                    </a:lnTo>
                    <a:lnTo>
                      <a:pt x="318" y="50"/>
                    </a:lnTo>
                    <a:lnTo>
                      <a:pt x="318" y="5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18" y="5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18" y="50"/>
                    </a:lnTo>
                    <a:lnTo>
                      <a:pt x="318" y="45"/>
                    </a:lnTo>
                    <a:lnTo>
                      <a:pt x="323" y="50"/>
                    </a:lnTo>
                    <a:lnTo>
                      <a:pt x="323" y="45"/>
                    </a:lnTo>
                    <a:lnTo>
                      <a:pt x="323" y="50"/>
                    </a:lnTo>
                    <a:lnTo>
                      <a:pt x="323" y="45"/>
                    </a:lnTo>
                    <a:lnTo>
                      <a:pt x="323" y="50"/>
                    </a:lnTo>
                    <a:lnTo>
                      <a:pt x="323" y="45"/>
                    </a:lnTo>
                    <a:lnTo>
                      <a:pt x="323" y="40"/>
                    </a:lnTo>
                    <a:lnTo>
                      <a:pt x="323" y="45"/>
                    </a:lnTo>
                    <a:lnTo>
                      <a:pt x="323" y="50"/>
                    </a:lnTo>
                    <a:lnTo>
                      <a:pt x="323" y="45"/>
                    </a:lnTo>
                    <a:lnTo>
                      <a:pt x="323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5"/>
                    </a:lnTo>
                    <a:lnTo>
                      <a:pt x="328" y="50"/>
                    </a:lnTo>
                    <a:lnTo>
                      <a:pt x="328" y="40"/>
                    </a:lnTo>
                    <a:lnTo>
                      <a:pt x="328" y="50"/>
                    </a:lnTo>
                    <a:lnTo>
                      <a:pt x="333" y="45"/>
                    </a:lnTo>
                    <a:lnTo>
                      <a:pt x="333" y="50"/>
                    </a:lnTo>
                    <a:lnTo>
                      <a:pt x="333" y="45"/>
                    </a:lnTo>
                    <a:lnTo>
                      <a:pt x="333" y="50"/>
                    </a:lnTo>
                    <a:lnTo>
                      <a:pt x="333" y="45"/>
                    </a:lnTo>
                    <a:lnTo>
                      <a:pt x="338" y="50"/>
                    </a:lnTo>
                    <a:lnTo>
                      <a:pt x="338" y="45"/>
                    </a:lnTo>
                    <a:lnTo>
                      <a:pt x="338" y="50"/>
                    </a:lnTo>
                    <a:lnTo>
                      <a:pt x="338" y="45"/>
                    </a:lnTo>
                    <a:lnTo>
                      <a:pt x="338" y="50"/>
                    </a:lnTo>
                    <a:lnTo>
                      <a:pt x="338" y="45"/>
                    </a:lnTo>
                    <a:lnTo>
                      <a:pt x="343" y="50"/>
                    </a:lnTo>
                    <a:lnTo>
                      <a:pt x="343" y="45"/>
                    </a:lnTo>
                    <a:lnTo>
                      <a:pt x="343" y="50"/>
                    </a:lnTo>
                    <a:lnTo>
                      <a:pt x="343" y="45"/>
                    </a:lnTo>
                    <a:lnTo>
                      <a:pt x="343" y="50"/>
                    </a:lnTo>
                    <a:lnTo>
                      <a:pt x="343" y="45"/>
                    </a:lnTo>
                    <a:lnTo>
                      <a:pt x="343" y="50"/>
                    </a:lnTo>
                    <a:lnTo>
                      <a:pt x="343" y="45"/>
                    </a:lnTo>
                    <a:lnTo>
                      <a:pt x="343" y="50"/>
                    </a:lnTo>
                    <a:lnTo>
                      <a:pt x="343" y="45"/>
                    </a:lnTo>
                    <a:lnTo>
                      <a:pt x="348" y="50"/>
                    </a:lnTo>
                    <a:lnTo>
                      <a:pt x="348" y="45"/>
                    </a:lnTo>
                    <a:lnTo>
                      <a:pt x="348" y="50"/>
                    </a:lnTo>
                    <a:lnTo>
                      <a:pt x="348" y="45"/>
                    </a:lnTo>
                    <a:lnTo>
                      <a:pt x="348" y="50"/>
                    </a:lnTo>
                    <a:lnTo>
                      <a:pt x="348" y="45"/>
                    </a:lnTo>
                    <a:lnTo>
                      <a:pt x="348" y="50"/>
                    </a:lnTo>
                    <a:lnTo>
                      <a:pt x="348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3" y="50"/>
                    </a:lnTo>
                    <a:lnTo>
                      <a:pt x="353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5"/>
                    </a:lnTo>
                    <a:lnTo>
                      <a:pt x="358" y="50"/>
                    </a:lnTo>
                    <a:lnTo>
                      <a:pt x="358" y="40"/>
                    </a:lnTo>
                    <a:lnTo>
                      <a:pt x="358" y="45"/>
                    </a:lnTo>
                    <a:lnTo>
                      <a:pt x="358" y="40"/>
                    </a:lnTo>
                    <a:lnTo>
                      <a:pt x="358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3" y="40"/>
                    </a:lnTo>
                    <a:lnTo>
                      <a:pt x="363" y="50"/>
                    </a:lnTo>
                    <a:lnTo>
                      <a:pt x="363" y="45"/>
                    </a:lnTo>
                    <a:lnTo>
                      <a:pt x="363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4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50"/>
                    </a:lnTo>
                    <a:lnTo>
                      <a:pt x="368" y="45"/>
                    </a:lnTo>
                    <a:lnTo>
                      <a:pt x="368" y="40"/>
                    </a:lnTo>
                    <a:lnTo>
                      <a:pt x="368" y="45"/>
                    </a:lnTo>
                    <a:lnTo>
                      <a:pt x="368" y="40"/>
                    </a:lnTo>
                    <a:lnTo>
                      <a:pt x="368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3" y="45"/>
                    </a:lnTo>
                    <a:lnTo>
                      <a:pt x="373" y="50"/>
                    </a:lnTo>
                    <a:lnTo>
                      <a:pt x="373" y="45"/>
                    </a:lnTo>
                    <a:lnTo>
                      <a:pt x="373" y="4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40"/>
                    </a:lnTo>
                    <a:lnTo>
                      <a:pt x="378" y="45"/>
                    </a:lnTo>
                    <a:lnTo>
                      <a:pt x="378" y="4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40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40"/>
                    </a:lnTo>
                    <a:lnTo>
                      <a:pt x="378" y="50"/>
                    </a:lnTo>
                    <a:lnTo>
                      <a:pt x="378" y="45"/>
                    </a:lnTo>
                    <a:lnTo>
                      <a:pt x="378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40"/>
                    </a:lnTo>
                    <a:lnTo>
                      <a:pt x="383" y="45"/>
                    </a:lnTo>
                    <a:lnTo>
                      <a:pt x="383" y="40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3" y="45"/>
                    </a:lnTo>
                    <a:lnTo>
                      <a:pt x="383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40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40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88" y="45"/>
                    </a:lnTo>
                    <a:lnTo>
                      <a:pt x="388" y="5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3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50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5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45"/>
                    </a:lnTo>
                    <a:lnTo>
                      <a:pt x="393" y="40"/>
                    </a:lnTo>
                    <a:lnTo>
                      <a:pt x="393" y="50"/>
                    </a:lnTo>
                    <a:lnTo>
                      <a:pt x="393" y="45"/>
                    </a:lnTo>
                    <a:lnTo>
                      <a:pt x="393" y="50"/>
                    </a:lnTo>
                    <a:lnTo>
                      <a:pt x="398" y="45"/>
                    </a:lnTo>
                    <a:lnTo>
                      <a:pt x="398" y="50"/>
                    </a:lnTo>
                    <a:lnTo>
                      <a:pt x="398" y="45"/>
                    </a:lnTo>
                    <a:lnTo>
                      <a:pt x="398" y="3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97200" y="2477880"/>
                <a:ext cx="234720" cy="1127160"/>
              </a:xfrm>
              <a:custGeom>
                <a:avLst/>
                <a:gdLst/>
                <a:ahLst/>
                <a:rect l="l" t="t" r="r" b="b"/>
                <a:pathLst>
                  <a:path w="166" h="796">
                    <a:moveTo>
                      <a:pt x="0" y="690"/>
                    </a:moveTo>
                    <a:lnTo>
                      <a:pt x="0" y="700"/>
                    </a:lnTo>
                    <a:lnTo>
                      <a:pt x="0" y="69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0"/>
                    </a:lnTo>
                    <a:lnTo>
                      <a:pt x="0" y="353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69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695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69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0" y="705"/>
                    </a:lnTo>
                    <a:lnTo>
                      <a:pt x="0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700"/>
                    </a:lnTo>
                    <a:lnTo>
                      <a:pt x="5" y="705"/>
                    </a:lnTo>
                    <a:lnTo>
                      <a:pt x="5" y="695"/>
                    </a:lnTo>
                    <a:lnTo>
                      <a:pt x="5" y="705"/>
                    </a:lnTo>
                    <a:lnTo>
                      <a:pt x="10" y="700"/>
                    </a:lnTo>
                    <a:lnTo>
                      <a:pt x="10" y="690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0" y="700"/>
                    </a:lnTo>
                    <a:lnTo>
                      <a:pt x="10" y="695"/>
                    </a:lnTo>
                    <a:lnTo>
                      <a:pt x="10" y="700"/>
                    </a:lnTo>
                    <a:lnTo>
                      <a:pt x="10" y="705"/>
                    </a:lnTo>
                    <a:lnTo>
                      <a:pt x="15" y="700"/>
                    </a:lnTo>
                    <a:lnTo>
                      <a:pt x="15" y="69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10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690"/>
                    </a:lnTo>
                    <a:lnTo>
                      <a:pt x="15" y="705"/>
                    </a:lnTo>
                    <a:lnTo>
                      <a:pt x="15" y="695"/>
                    </a:lnTo>
                    <a:lnTo>
                      <a:pt x="15" y="700"/>
                    </a:lnTo>
                    <a:lnTo>
                      <a:pt x="15" y="695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695"/>
                    </a:lnTo>
                    <a:lnTo>
                      <a:pt x="15" y="705"/>
                    </a:lnTo>
                    <a:lnTo>
                      <a:pt x="15" y="695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15" y="705"/>
                    </a:lnTo>
                    <a:lnTo>
                      <a:pt x="15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69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695"/>
                    </a:lnTo>
                    <a:lnTo>
                      <a:pt x="20" y="700"/>
                    </a:lnTo>
                    <a:lnTo>
                      <a:pt x="20" y="705"/>
                    </a:lnTo>
                    <a:lnTo>
                      <a:pt x="20" y="700"/>
                    </a:lnTo>
                    <a:lnTo>
                      <a:pt x="20" y="69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68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695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695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69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700"/>
                    </a:lnTo>
                    <a:lnTo>
                      <a:pt x="25" y="705"/>
                    </a:lnTo>
                    <a:lnTo>
                      <a:pt x="25" y="695"/>
                    </a:lnTo>
                    <a:lnTo>
                      <a:pt x="25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66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695"/>
                    </a:lnTo>
                    <a:lnTo>
                      <a:pt x="30" y="705"/>
                    </a:lnTo>
                    <a:lnTo>
                      <a:pt x="30" y="71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0" y="705"/>
                    </a:lnTo>
                    <a:lnTo>
                      <a:pt x="30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695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35" y="705"/>
                    </a:lnTo>
                    <a:lnTo>
                      <a:pt x="35" y="70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665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71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695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695"/>
                    </a:lnTo>
                    <a:lnTo>
                      <a:pt x="40" y="710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705"/>
                    </a:lnTo>
                    <a:lnTo>
                      <a:pt x="40" y="700"/>
                    </a:lnTo>
                    <a:lnTo>
                      <a:pt x="40" y="69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69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1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05"/>
                    </a:lnTo>
                    <a:lnTo>
                      <a:pt x="45" y="700"/>
                    </a:lnTo>
                    <a:lnTo>
                      <a:pt x="45" y="71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69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0" y="705"/>
                    </a:lnTo>
                    <a:lnTo>
                      <a:pt x="50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69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69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690"/>
                    </a:lnTo>
                    <a:lnTo>
                      <a:pt x="55" y="695"/>
                    </a:lnTo>
                    <a:lnTo>
                      <a:pt x="55" y="700"/>
                    </a:lnTo>
                    <a:lnTo>
                      <a:pt x="55" y="695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690"/>
                    </a:lnTo>
                    <a:lnTo>
                      <a:pt x="55" y="700"/>
                    </a:lnTo>
                    <a:lnTo>
                      <a:pt x="55" y="695"/>
                    </a:lnTo>
                    <a:lnTo>
                      <a:pt x="55" y="705"/>
                    </a:lnTo>
                    <a:lnTo>
                      <a:pt x="55" y="700"/>
                    </a:lnTo>
                    <a:lnTo>
                      <a:pt x="55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67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690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700"/>
                    </a:lnTo>
                    <a:lnTo>
                      <a:pt x="61" y="705"/>
                    </a:lnTo>
                    <a:lnTo>
                      <a:pt x="61" y="695"/>
                    </a:lnTo>
                    <a:lnTo>
                      <a:pt x="61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68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695"/>
                    </a:lnTo>
                    <a:lnTo>
                      <a:pt x="66" y="675"/>
                    </a:lnTo>
                    <a:lnTo>
                      <a:pt x="66" y="650"/>
                    </a:lnTo>
                    <a:lnTo>
                      <a:pt x="66" y="68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680"/>
                    </a:lnTo>
                    <a:lnTo>
                      <a:pt x="66" y="690"/>
                    </a:lnTo>
                    <a:lnTo>
                      <a:pt x="66" y="705"/>
                    </a:lnTo>
                    <a:lnTo>
                      <a:pt x="66" y="670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66" y="705"/>
                    </a:lnTo>
                    <a:lnTo>
                      <a:pt x="66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670"/>
                    </a:lnTo>
                    <a:lnTo>
                      <a:pt x="71" y="700"/>
                    </a:lnTo>
                    <a:lnTo>
                      <a:pt x="71" y="695"/>
                    </a:lnTo>
                    <a:lnTo>
                      <a:pt x="71" y="67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69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685"/>
                    </a:lnTo>
                    <a:lnTo>
                      <a:pt x="71" y="705"/>
                    </a:lnTo>
                    <a:lnTo>
                      <a:pt x="71" y="68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675"/>
                    </a:lnTo>
                    <a:lnTo>
                      <a:pt x="71" y="705"/>
                    </a:lnTo>
                    <a:lnTo>
                      <a:pt x="71" y="690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1" y="700"/>
                    </a:lnTo>
                    <a:lnTo>
                      <a:pt x="71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690"/>
                    </a:lnTo>
                    <a:lnTo>
                      <a:pt x="76" y="645"/>
                    </a:lnTo>
                    <a:lnTo>
                      <a:pt x="76" y="685"/>
                    </a:lnTo>
                    <a:lnTo>
                      <a:pt x="76" y="705"/>
                    </a:lnTo>
                    <a:lnTo>
                      <a:pt x="76" y="590"/>
                    </a:lnTo>
                    <a:lnTo>
                      <a:pt x="76" y="705"/>
                    </a:lnTo>
                    <a:lnTo>
                      <a:pt x="76" y="685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66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695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700"/>
                    </a:lnTo>
                    <a:lnTo>
                      <a:pt x="76" y="705"/>
                    </a:lnTo>
                    <a:lnTo>
                      <a:pt x="76" y="695"/>
                    </a:lnTo>
                    <a:lnTo>
                      <a:pt x="76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69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1" y="695"/>
                    </a:lnTo>
                    <a:lnTo>
                      <a:pt x="81" y="700"/>
                    </a:lnTo>
                    <a:lnTo>
                      <a:pt x="81" y="705"/>
                    </a:lnTo>
                    <a:lnTo>
                      <a:pt x="81" y="685"/>
                    </a:lnTo>
                    <a:lnTo>
                      <a:pt x="81" y="705"/>
                    </a:lnTo>
                    <a:lnTo>
                      <a:pt x="81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695"/>
                    </a:lnTo>
                    <a:lnTo>
                      <a:pt x="86" y="660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86" y="700"/>
                    </a:lnTo>
                    <a:lnTo>
                      <a:pt x="86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700"/>
                    </a:lnTo>
                    <a:lnTo>
                      <a:pt x="91" y="705"/>
                    </a:lnTo>
                    <a:lnTo>
                      <a:pt x="91" y="675"/>
                    </a:lnTo>
                    <a:lnTo>
                      <a:pt x="91" y="705"/>
                    </a:lnTo>
                    <a:lnTo>
                      <a:pt x="91" y="680"/>
                    </a:lnTo>
                    <a:lnTo>
                      <a:pt x="91" y="700"/>
                    </a:lnTo>
                    <a:lnTo>
                      <a:pt x="96" y="705"/>
                    </a:lnTo>
                    <a:lnTo>
                      <a:pt x="96" y="700"/>
                    </a:lnTo>
                    <a:lnTo>
                      <a:pt x="96" y="705"/>
                    </a:lnTo>
                    <a:lnTo>
                      <a:pt x="96" y="700"/>
                    </a:lnTo>
                    <a:lnTo>
                      <a:pt x="96" y="791"/>
                    </a:lnTo>
                    <a:lnTo>
                      <a:pt x="96" y="786"/>
                    </a:lnTo>
                    <a:lnTo>
                      <a:pt x="96" y="771"/>
                    </a:lnTo>
                    <a:lnTo>
                      <a:pt x="96" y="786"/>
                    </a:lnTo>
                    <a:lnTo>
                      <a:pt x="96" y="766"/>
                    </a:lnTo>
                    <a:lnTo>
                      <a:pt x="96" y="776"/>
                    </a:lnTo>
                    <a:lnTo>
                      <a:pt x="96" y="741"/>
                    </a:lnTo>
                    <a:lnTo>
                      <a:pt x="96" y="766"/>
                    </a:lnTo>
                    <a:lnTo>
                      <a:pt x="96" y="700"/>
                    </a:lnTo>
                    <a:lnTo>
                      <a:pt x="96" y="705"/>
                    </a:lnTo>
                    <a:lnTo>
                      <a:pt x="96" y="700"/>
                    </a:lnTo>
                    <a:lnTo>
                      <a:pt x="96" y="705"/>
                    </a:lnTo>
                    <a:lnTo>
                      <a:pt x="96" y="670"/>
                    </a:lnTo>
                    <a:lnTo>
                      <a:pt x="96" y="700"/>
                    </a:lnTo>
                    <a:lnTo>
                      <a:pt x="96" y="695"/>
                    </a:lnTo>
                    <a:lnTo>
                      <a:pt x="96" y="705"/>
                    </a:lnTo>
                    <a:lnTo>
                      <a:pt x="96" y="791"/>
                    </a:lnTo>
                    <a:lnTo>
                      <a:pt x="96" y="756"/>
                    </a:lnTo>
                    <a:lnTo>
                      <a:pt x="96" y="786"/>
                    </a:lnTo>
                    <a:lnTo>
                      <a:pt x="96" y="761"/>
                    </a:lnTo>
                    <a:lnTo>
                      <a:pt x="96" y="721"/>
                    </a:lnTo>
                    <a:lnTo>
                      <a:pt x="96" y="746"/>
                    </a:lnTo>
                    <a:lnTo>
                      <a:pt x="96" y="695"/>
                    </a:lnTo>
                    <a:lnTo>
                      <a:pt x="96" y="705"/>
                    </a:lnTo>
                    <a:lnTo>
                      <a:pt x="96" y="700"/>
                    </a:lnTo>
                    <a:lnTo>
                      <a:pt x="96" y="705"/>
                    </a:lnTo>
                    <a:lnTo>
                      <a:pt x="96" y="700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76"/>
                    </a:lnTo>
                    <a:lnTo>
                      <a:pt x="101" y="771"/>
                    </a:lnTo>
                    <a:lnTo>
                      <a:pt x="101" y="776"/>
                    </a:lnTo>
                    <a:lnTo>
                      <a:pt x="101" y="751"/>
                    </a:lnTo>
                    <a:lnTo>
                      <a:pt x="101" y="791"/>
                    </a:lnTo>
                    <a:lnTo>
                      <a:pt x="101" y="705"/>
                    </a:lnTo>
                    <a:lnTo>
                      <a:pt x="101" y="731"/>
                    </a:lnTo>
                    <a:lnTo>
                      <a:pt x="101" y="791"/>
                    </a:lnTo>
                    <a:lnTo>
                      <a:pt x="101" y="786"/>
                    </a:lnTo>
                    <a:lnTo>
                      <a:pt x="101" y="781"/>
                    </a:lnTo>
                    <a:lnTo>
                      <a:pt x="101" y="791"/>
                    </a:lnTo>
                    <a:lnTo>
                      <a:pt x="101" y="756"/>
                    </a:lnTo>
                    <a:lnTo>
                      <a:pt x="101" y="766"/>
                    </a:lnTo>
                    <a:lnTo>
                      <a:pt x="101" y="741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81"/>
                    </a:lnTo>
                    <a:lnTo>
                      <a:pt x="101" y="756"/>
                    </a:lnTo>
                    <a:lnTo>
                      <a:pt x="101" y="786"/>
                    </a:lnTo>
                    <a:lnTo>
                      <a:pt x="101" y="761"/>
                    </a:lnTo>
                    <a:lnTo>
                      <a:pt x="101" y="781"/>
                    </a:lnTo>
                    <a:lnTo>
                      <a:pt x="101" y="776"/>
                    </a:lnTo>
                    <a:lnTo>
                      <a:pt x="101" y="710"/>
                    </a:lnTo>
                    <a:lnTo>
                      <a:pt x="101" y="715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1" y="700"/>
                    </a:lnTo>
                    <a:lnTo>
                      <a:pt x="101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66"/>
                    </a:lnTo>
                    <a:lnTo>
                      <a:pt x="106" y="761"/>
                    </a:lnTo>
                    <a:lnTo>
                      <a:pt x="106" y="776"/>
                    </a:lnTo>
                    <a:lnTo>
                      <a:pt x="106" y="791"/>
                    </a:lnTo>
                    <a:lnTo>
                      <a:pt x="106" y="781"/>
                    </a:lnTo>
                    <a:lnTo>
                      <a:pt x="106" y="776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690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06" y="705"/>
                    </a:lnTo>
                    <a:lnTo>
                      <a:pt x="106" y="756"/>
                    </a:lnTo>
                    <a:lnTo>
                      <a:pt x="106" y="771"/>
                    </a:lnTo>
                    <a:lnTo>
                      <a:pt x="106" y="761"/>
                    </a:lnTo>
                    <a:lnTo>
                      <a:pt x="106" y="791"/>
                    </a:lnTo>
                    <a:lnTo>
                      <a:pt x="106" y="771"/>
                    </a:lnTo>
                    <a:lnTo>
                      <a:pt x="106" y="741"/>
                    </a:lnTo>
                    <a:lnTo>
                      <a:pt x="106" y="756"/>
                    </a:lnTo>
                    <a:lnTo>
                      <a:pt x="106" y="776"/>
                    </a:lnTo>
                    <a:lnTo>
                      <a:pt x="106" y="771"/>
                    </a:lnTo>
                    <a:lnTo>
                      <a:pt x="106" y="705"/>
                    </a:lnTo>
                    <a:lnTo>
                      <a:pt x="106" y="700"/>
                    </a:lnTo>
                    <a:lnTo>
                      <a:pt x="111" y="705"/>
                    </a:lnTo>
                    <a:lnTo>
                      <a:pt x="111" y="700"/>
                    </a:lnTo>
                    <a:lnTo>
                      <a:pt x="111" y="705"/>
                    </a:lnTo>
                    <a:lnTo>
                      <a:pt x="111" y="700"/>
                    </a:lnTo>
                    <a:lnTo>
                      <a:pt x="111" y="705"/>
                    </a:lnTo>
                    <a:lnTo>
                      <a:pt x="111" y="700"/>
                    </a:lnTo>
                    <a:lnTo>
                      <a:pt x="111" y="761"/>
                    </a:lnTo>
                    <a:lnTo>
                      <a:pt x="111" y="771"/>
                    </a:lnTo>
                    <a:lnTo>
                      <a:pt x="111" y="786"/>
                    </a:lnTo>
                    <a:lnTo>
                      <a:pt x="111" y="726"/>
                    </a:lnTo>
                    <a:lnTo>
                      <a:pt x="111" y="781"/>
                    </a:lnTo>
                    <a:lnTo>
                      <a:pt x="111" y="756"/>
                    </a:lnTo>
                    <a:lnTo>
                      <a:pt x="111" y="660"/>
                    </a:lnTo>
                    <a:lnTo>
                      <a:pt x="111" y="731"/>
                    </a:lnTo>
                    <a:lnTo>
                      <a:pt x="111" y="761"/>
                    </a:lnTo>
                    <a:lnTo>
                      <a:pt x="111" y="751"/>
                    </a:lnTo>
                    <a:lnTo>
                      <a:pt x="111" y="766"/>
                    </a:lnTo>
                    <a:lnTo>
                      <a:pt x="111" y="756"/>
                    </a:lnTo>
                    <a:lnTo>
                      <a:pt x="111" y="680"/>
                    </a:lnTo>
                    <a:lnTo>
                      <a:pt x="111" y="705"/>
                    </a:lnTo>
                    <a:lnTo>
                      <a:pt x="111" y="690"/>
                    </a:lnTo>
                    <a:lnTo>
                      <a:pt x="111" y="731"/>
                    </a:lnTo>
                    <a:lnTo>
                      <a:pt x="111" y="680"/>
                    </a:lnTo>
                    <a:lnTo>
                      <a:pt x="111" y="736"/>
                    </a:lnTo>
                    <a:lnTo>
                      <a:pt x="111" y="791"/>
                    </a:lnTo>
                    <a:lnTo>
                      <a:pt x="111" y="705"/>
                    </a:lnTo>
                    <a:lnTo>
                      <a:pt x="111" y="700"/>
                    </a:lnTo>
                    <a:lnTo>
                      <a:pt x="111" y="705"/>
                    </a:lnTo>
                    <a:lnTo>
                      <a:pt x="111" y="766"/>
                    </a:lnTo>
                    <a:lnTo>
                      <a:pt x="111" y="786"/>
                    </a:lnTo>
                    <a:lnTo>
                      <a:pt x="111" y="776"/>
                    </a:lnTo>
                    <a:lnTo>
                      <a:pt x="111" y="781"/>
                    </a:lnTo>
                    <a:lnTo>
                      <a:pt x="111" y="771"/>
                    </a:lnTo>
                    <a:lnTo>
                      <a:pt x="111" y="766"/>
                    </a:lnTo>
                    <a:lnTo>
                      <a:pt x="111" y="791"/>
                    </a:lnTo>
                    <a:lnTo>
                      <a:pt x="111" y="786"/>
                    </a:lnTo>
                    <a:lnTo>
                      <a:pt x="111" y="705"/>
                    </a:lnTo>
                    <a:lnTo>
                      <a:pt x="111" y="690"/>
                    </a:lnTo>
                    <a:lnTo>
                      <a:pt x="111" y="705"/>
                    </a:lnTo>
                    <a:lnTo>
                      <a:pt x="111" y="791"/>
                    </a:lnTo>
                    <a:lnTo>
                      <a:pt x="111" y="776"/>
                    </a:lnTo>
                    <a:lnTo>
                      <a:pt x="111" y="791"/>
                    </a:lnTo>
                    <a:lnTo>
                      <a:pt x="111" y="781"/>
                    </a:lnTo>
                    <a:lnTo>
                      <a:pt x="116" y="766"/>
                    </a:lnTo>
                    <a:lnTo>
                      <a:pt x="116" y="796"/>
                    </a:lnTo>
                    <a:lnTo>
                      <a:pt x="116" y="756"/>
                    </a:lnTo>
                    <a:lnTo>
                      <a:pt x="116" y="791"/>
                    </a:lnTo>
                    <a:lnTo>
                      <a:pt x="116" y="705"/>
                    </a:lnTo>
                    <a:lnTo>
                      <a:pt x="116" y="710"/>
                    </a:lnTo>
                    <a:lnTo>
                      <a:pt x="116" y="690"/>
                    </a:lnTo>
                    <a:lnTo>
                      <a:pt x="116" y="705"/>
                    </a:lnTo>
                    <a:lnTo>
                      <a:pt x="116" y="791"/>
                    </a:lnTo>
                    <a:lnTo>
                      <a:pt x="116" y="781"/>
                    </a:lnTo>
                    <a:lnTo>
                      <a:pt x="116" y="776"/>
                    </a:lnTo>
                    <a:lnTo>
                      <a:pt x="116" y="786"/>
                    </a:lnTo>
                    <a:lnTo>
                      <a:pt x="116" y="781"/>
                    </a:lnTo>
                    <a:lnTo>
                      <a:pt x="116" y="791"/>
                    </a:lnTo>
                    <a:lnTo>
                      <a:pt x="116" y="776"/>
                    </a:lnTo>
                    <a:lnTo>
                      <a:pt x="116" y="791"/>
                    </a:lnTo>
                    <a:lnTo>
                      <a:pt x="116" y="705"/>
                    </a:lnTo>
                    <a:lnTo>
                      <a:pt x="116" y="700"/>
                    </a:lnTo>
                    <a:lnTo>
                      <a:pt x="116" y="705"/>
                    </a:lnTo>
                    <a:lnTo>
                      <a:pt x="116" y="675"/>
                    </a:lnTo>
                    <a:lnTo>
                      <a:pt x="116" y="700"/>
                    </a:lnTo>
                    <a:lnTo>
                      <a:pt x="116" y="705"/>
                    </a:lnTo>
                    <a:lnTo>
                      <a:pt x="116" y="665"/>
                    </a:lnTo>
                    <a:lnTo>
                      <a:pt x="116" y="746"/>
                    </a:lnTo>
                    <a:lnTo>
                      <a:pt x="116" y="665"/>
                    </a:lnTo>
                    <a:lnTo>
                      <a:pt x="116" y="776"/>
                    </a:lnTo>
                    <a:lnTo>
                      <a:pt x="116" y="781"/>
                    </a:lnTo>
                    <a:lnTo>
                      <a:pt x="116" y="705"/>
                    </a:lnTo>
                    <a:lnTo>
                      <a:pt x="116" y="700"/>
                    </a:lnTo>
                    <a:lnTo>
                      <a:pt x="116" y="695"/>
                    </a:lnTo>
                    <a:lnTo>
                      <a:pt x="116" y="705"/>
                    </a:lnTo>
                    <a:lnTo>
                      <a:pt x="116" y="700"/>
                    </a:lnTo>
                    <a:lnTo>
                      <a:pt x="121" y="705"/>
                    </a:lnTo>
                    <a:lnTo>
                      <a:pt x="121" y="700"/>
                    </a:lnTo>
                    <a:lnTo>
                      <a:pt x="121" y="705"/>
                    </a:lnTo>
                    <a:lnTo>
                      <a:pt x="121" y="766"/>
                    </a:lnTo>
                    <a:lnTo>
                      <a:pt x="121" y="726"/>
                    </a:lnTo>
                    <a:lnTo>
                      <a:pt x="121" y="746"/>
                    </a:lnTo>
                    <a:lnTo>
                      <a:pt x="121" y="766"/>
                    </a:lnTo>
                    <a:lnTo>
                      <a:pt x="121" y="756"/>
                    </a:lnTo>
                    <a:lnTo>
                      <a:pt x="121" y="781"/>
                    </a:lnTo>
                    <a:lnTo>
                      <a:pt x="121" y="776"/>
                    </a:lnTo>
                    <a:lnTo>
                      <a:pt x="121" y="786"/>
                    </a:lnTo>
                    <a:lnTo>
                      <a:pt x="121" y="781"/>
                    </a:lnTo>
                    <a:lnTo>
                      <a:pt x="121" y="746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45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50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60"/>
                    </a:lnTo>
                    <a:lnTo>
                      <a:pt x="121" y="655"/>
                    </a:lnTo>
                    <a:lnTo>
                      <a:pt x="121" y="635"/>
                    </a:lnTo>
                    <a:lnTo>
                      <a:pt x="121" y="690"/>
                    </a:lnTo>
                    <a:lnTo>
                      <a:pt x="121" y="761"/>
                    </a:lnTo>
                    <a:lnTo>
                      <a:pt x="121" y="766"/>
                    </a:lnTo>
                    <a:lnTo>
                      <a:pt x="121" y="731"/>
                    </a:lnTo>
                    <a:lnTo>
                      <a:pt x="126" y="761"/>
                    </a:lnTo>
                    <a:lnTo>
                      <a:pt x="126" y="781"/>
                    </a:lnTo>
                    <a:lnTo>
                      <a:pt x="126" y="776"/>
                    </a:lnTo>
                    <a:lnTo>
                      <a:pt x="126" y="650"/>
                    </a:lnTo>
                    <a:lnTo>
                      <a:pt x="126" y="630"/>
                    </a:lnTo>
                    <a:lnTo>
                      <a:pt x="126" y="655"/>
                    </a:lnTo>
                    <a:lnTo>
                      <a:pt x="126" y="700"/>
                    </a:lnTo>
                    <a:lnTo>
                      <a:pt x="126" y="690"/>
                    </a:lnTo>
                    <a:lnTo>
                      <a:pt x="126" y="705"/>
                    </a:lnTo>
                    <a:lnTo>
                      <a:pt x="126" y="700"/>
                    </a:lnTo>
                    <a:lnTo>
                      <a:pt x="126" y="705"/>
                    </a:lnTo>
                    <a:lnTo>
                      <a:pt x="126" y="690"/>
                    </a:lnTo>
                    <a:lnTo>
                      <a:pt x="126" y="705"/>
                    </a:lnTo>
                    <a:lnTo>
                      <a:pt x="126" y="655"/>
                    </a:lnTo>
                    <a:lnTo>
                      <a:pt x="126" y="650"/>
                    </a:lnTo>
                    <a:lnTo>
                      <a:pt x="126" y="655"/>
                    </a:lnTo>
                    <a:lnTo>
                      <a:pt x="126" y="660"/>
                    </a:lnTo>
                    <a:lnTo>
                      <a:pt x="126" y="705"/>
                    </a:lnTo>
                    <a:lnTo>
                      <a:pt x="126" y="675"/>
                    </a:lnTo>
                    <a:lnTo>
                      <a:pt x="126" y="786"/>
                    </a:lnTo>
                    <a:lnTo>
                      <a:pt x="126" y="781"/>
                    </a:lnTo>
                    <a:lnTo>
                      <a:pt x="126" y="771"/>
                    </a:lnTo>
                    <a:lnTo>
                      <a:pt x="126" y="650"/>
                    </a:lnTo>
                    <a:lnTo>
                      <a:pt x="126" y="645"/>
                    </a:lnTo>
                    <a:lnTo>
                      <a:pt x="126" y="655"/>
                    </a:lnTo>
                    <a:lnTo>
                      <a:pt x="126" y="660"/>
                    </a:lnTo>
                    <a:lnTo>
                      <a:pt x="126" y="655"/>
                    </a:lnTo>
                    <a:lnTo>
                      <a:pt x="126" y="640"/>
                    </a:lnTo>
                    <a:lnTo>
                      <a:pt x="126" y="655"/>
                    </a:lnTo>
                    <a:lnTo>
                      <a:pt x="126" y="650"/>
                    </a:lnTo>
                    <a:lnTo>
                      <a:pt x="126" y="655"/>
                    </a:lnTo>
                    <a:lnTo>
                      <a:pt x="126" y="595"/>
                    </a:lnTo>
                    <a:lnTo>
                      <a:pt x="126" y="655"/>
                    </a:lnTo>
                    <a:lnTo>
                      <a:pt x="131" y="655"/>
                    </a:lnTo>
                    <a:lnTo>
                      <a:pt x="131" y="781"/>
                    </a:lnTo>
                    <a:lnTo>
                      <a:pt x="131" y="741"/>
                    </a:lnTo>
                    <a:lnTo>
                      <a:pt x="131" y="776"/>
                    </a:lnTo>
                    <a:lnTo>
                      <a:pt x="131" y="756"/>
                    </a:lnTo>
                    <a:lnTo>
                      <a:pt x="131" y="786"/>
                    </a:lnTo>
                    <a:lnTo>
                      <a:pt x="131" y="781"/>
                    </a:lnTo>
                    <a:lnTo>
                      <a:pt x="131" y="700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660"/>
                    </a:lnTo>
                    <a:lnTo>
                      <a:pt x="131" y="655"/>
                    </a:lnTo>
                    <a:lnTo>
                      <a:pt x="131" y="62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700"/>
                    </a:lnTo>
                    <a:lnTo>
                      <a:pt x="131" y="751"/>
                    </a:lnTo>
                    <a:lnTo>
                      <a:pt x="131" y="766"/>
                    </a:lnTo>
                    <a:lnTo>
                      <a:pt x="131" y="715"/>
                    </a:lnTo>
                    <a:lnTo>
                      <a:pt x="131" y="710"/>
                    </a:lnTo>
                    <a:lnTo>
                      <a:pt x="131" y="771"/>
                    </a:lnTo>
                    <a:lnTo>
                      <a:pt x="131" y="736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610"/>
                    </a:lnTo>
                    <a:lnTo>
                      <a:pt x="131" y="660"/>
                    </a:lnTo>
                    <a:lnTo>
                      <a:pt x="131" y="645"/>
                    </a:lnTo>
                    <a:lnTo>
                      <a:pt x="131" y="625"/>
                    </a:lnTo>
                    <a:lnTo>
                      <a:pt x="131" y="650"/>
                    </a:lnTo>
                    <a:lnTo>
                      <a:pt x="131" y="655"/>
                    </a:lnTo>
                    <a:lnTo>
                      <a:pt x="131" y="524"/>
                    </a:lnTo>
                    <a:lnTo>
                      <a:pt x="131" y="655"/>
                    </a:lnTo>
                    <a:lnTo>
                      <a:pt x="131" y="660"/>
                    </a:lnTo>
                    <a:lnTo>
                      <a:pt x="131" y="791"/>
                    </a:lnTo>
                    <a:lnTo>
                      <a:pt x="131" y="721"/>
                    </a:lnTo>
                    <a:lnTo>
                      <a:pt x="131" y="771"/>
                    </a:lnTo>
                    <a:lnTo>
                      <a:pt x="136" y="771"/>
                    </a:lnTo>
                    <a:lnTo>
                      <a:pt x="136" y="786"/>
                    </a:lnTo>
                    <a:lnTo>
                      <a:pt x="136" y="781"/>
                    </a:lnTo>
                    <a:lnTo>
                      <a:pt x="136" y="766"/>
                    </a:lnTo>
                    <a:lnTo>
                      <a:pt x="136" y="655"/>
                    </a:lnTo>
                    <a:lnTo>
                      <a:pt x="136" y="650"/>
                    </a:lnTo>
                    <a:lnTo>
                      <a:pt x="136" y="655"/>
                    </a:lnTo>
                    <a:lnTo>
                      <a:pt x="136" y="660"/>
                    </a:lnTo>
                    <a:lnTo>
                      <a:pt x="136" y="650"/>
                    </a:lnTo>
                    <a:lnTo>
                      <a:pt x="136" y="655"/>
                    </a:lnTo>
                    <a:lnTo>
                      <a:pt x="136" y="660"/>
                    </a:lnTo>
                    <a:lnTo>
                      <a:pt x="136" y="705"/>
                    </a:lnTo>
                    <a:lnTo>
                      <a:pt x="136" y="700"/>
                    </a:lnTo>
                    <a:lnTo>
                      <a:pt x="136" y="690"/>
                    </a:lnTo>
                    <a:lnTo>
                      <a:pt x="136" y="700"/>
                    </a:lnTo>
                    <a:lnTo>
                      <a:pt x="136" y="680"/>
                    </a:lnTo>
                    <a:lnTo>
                      <a:pt x="136" y="700"/>
                    </a:lnTo>
                    <a:lnTo>
                      <a:pt x="136" y="705"/>
                    </a:lnTo>
                    <a:lnTo>
                      <a:pt x="136" y="700"/>
                    </a:lnTo>
                    <a:lnTo>
                      <a:pt x="136" y="705"/>
                    </a:lnTo>
                    <a:lnTo>
                      <a:pt x="136" y="700"/>
                    </a:lnTo>
                    <a:lnTo>
                      <a:pt x="136" y="705"/>
                    </a:lnTo>
                    <a:lnTo>
                      <a:pt x="136" y="700"/>
                    </a:lnTo>
                    <a:lnTo>
                      <a:pt x="136" y="695"/>
                    </a:lnTo>
                    <a:lnTo>
                      <a:pt x="136" y="705"/>
                    </a:lnTo>
                    <a:lnTo>
                      <a:pt x="136" y="700"/>
                    </a:lnTo>
                    <a:lnTo>
                      <a:pt x="136" y="650"/>
                    </a:lnTo>
                    <a:lnTo>
                      <a:pt x="136" y="640"/>
                    </a:lnTo>
                    <a:lnTo>
                      <a:pt x="136" y="655"/>
                    </a:lnTo>
                    <a:lnTo>
                      <a:pt x="136" y="650"/>
                    </a:lnTo>
                    <a:lnTo>
                      <a:pt x="141" y="655"/>
                    </a:lnTo>
                    <a:lnTo>
                      <a:pt x="141" y="660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1" y="650"/>
                    </a:lnTo>
                    <a:lnTo>
                      <a:pt x="141" y="640"/>
                    </a:lnTo>
                    <a:lnTo>
                      <a:pt x="141" y="655"/>
                    </a:lnTo>
                    <a:lnTo>
                      <a:pt x="141" y="660"/>
                    </a:lnTo>
                    <a:lnTo>
                      <a:pt x="141" y="655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1" y="660"/>
                    </a:lnTo>
                    <a:lnTo>
                      <a:pt x="141" y="655"/>
                    </a:lnTo>
                    <a:lnTo>
                      <a:pt x="141" y="660"/>
                    </a:lnTo>
                    <a:lnTo>
                      <a:pt x="141" y="650"/>
                    </a:lnTo>
                    <a:lnTo>
                      <a:pt x="141" y="655"/>
                    </a:lnTo>
                    <a:lnTo>
                      <a:pt x="146" y="705"/>
                    </a:lnTo>
                    <a:lnTo>
                      <a:pt x="146" y="700"/>
                    </a:lnTo>
                    <a:lnTo>
                      <a:pt x="146" y="705"/>
                    </a:lnTo>
                    <a:lnTo>
                      <a:pt x="146" y="700"/>
                    </a:lnTo>
                    <a:lnTo>
                      <a:pt x="146" y="705"/>
                    </a:lnTo>
                    <a:lnTo>
                      <a:pt x="146" y="700"/>
                    </a:lnTo>
                    <a:lnTo>
                      <a:pt x="146" y="655"/>
                    </a:lnTo>
                    <a:lnTo>
                      <a:pt x="146" y="660"/>
                    </a:lnTo>
                    <a:lnTo>
                      <a:pt x="146" y="655"/>
                    </a:lnTo>
                    <a:lnTo>
                      <a:pt x="146" y="660"/>
                    </a:lnTo>
                    <a:lnTo>
                      <a:pt x="146" y="655"/>
                    </a:lnTo>
                    <a:lnTo>
                      <a:pt x="146" y="660"/>
                    </a:lnTo>
                    <a:lnTo>
                      <a:pt x="146" y="655"/>
                    </a:lnTo>
                    <a:lnTo>
                      <a:pt x="146" y="650"/>
                    </a:lnTo>
                    <a:lnTo>
                      <a:pt x="146" y="655"/>
                    </a:lnTo>
                    <a:lnTo>
                      <a:pt x="146" y="660"/>
                    </a:lnTo>
                    <a:lnTo>
                      <a:pt x="146" y="655"/>
                    </a:lnTo>
                    <a:lnTo>
                      <a:pt x="146" y="650"/>
                    </a:lnTo>
                    <a:lnTo>
                      <a:pt x="146" y="655"/>
                    </a:lnTo>
                    <a:lnTo>
                      <a:pt x="146" y="650"/>
                    </a:lnTo>
                    <a:lnTo>
                      <a:pt x="151" y="655"/>
                    </a:lnTo>
                    <a:lnTo>
                      <a:pt x="151" y="585"/>
                    </a:lnTo>
                    <a:lnTo>
                      <a:pt x="151" y="655"/>
                    </a:lnTo>
                    <a:lnTo>
                      <a:pt x="151" y="650"/>
                    </a:lnTo>
                    <a:lnTo>
                      <a:pt x="151" y="655"/>
                    </a:lnTo>
                    <a:lnTo>
                      <a:pt x="151" y="660"/>
                    </a:lnTo>
                    <a:lnTo>
                      <a:pt x="151" y="655"/>
                    </a:lnTo>
                    <a:lnTo>
                      <a:pt x="151" y="650"/>
                    </a:lnTo>
                    <a:lnTo>
                      <a:pt x="151" y="655"/>
                    </a:lnTo>
                    <a:lnTo>
                      <a:pt x="151" y="650"/>
                    </a:lnTo>
                    <a:lnTo>
                      <a:pt x="151" y="655"/>
                    </a:lnTo>
                    <a:lnTo>
                      <a:pt x="151" y="650"/>
                    </a:lnTo>
                    <a:lnTo>
                      <a:pt x="151" y="655"/>
                    </a:lnTo>
                    <a:lnTo>
                      <a:pt x="151" y="660"/>
                    </a:lnTo>
                    <a:lnTo>
                      <a:pt x="151" y="655"/>
                    </a:lnTo>
                    <a:lnTo>
                      <a:pt x="151" y="635"/>
                    </a:lnTo>
                    <a:lnTo>
                      <a:pt x="151" y="660"/>
                    </a:lnTo>
                    <a:lnTo>
                      <a:pt x="151" y="655"/>
                    </a:lnTo>
                    <a:lnTo>
                      <a:pt x="151" y="559"/>
                    </a:lnTo>
                    <a:lnTo>
                      <a:pt x="151" y="655"/>
                    </a:lnTo>
                    <a:lnTo>
                      <a:pt x="156" y="650"/>
                    </a:lnTo>
                    <a:lnTo>
                      <a:pt x="156" y="655"/>
                    </a:lnTo>
                    <a:lnTo>
                      <a:pt x="156" y="625"/>
                    </a:lnTo>
                    <a:lnTo>
                      <a:pt x="156" y="655"/>
                    </a:lnTo>
                    <a:lnTo>
                      <a:pt x="156" y="640"/>
                    </a:lnTo>
                    <a:lnTo>
                      <a:pt x="156" y="655"/>
                    </a:lnTo>
                    <a:lnTo>
                      <a:pt x="156" y="660"/>
                    </a:lnTo>
                    <a:lnTo>
                      <a:pt x="156" y="655"/>
                    </a:lnTo>
                    <a:lnTo>
                      <a:pt x="156" y="650"/>
                    </a:lnTo>
                    <a:lnTo>
                      <a:pt x="156" y="655"/>
                    </a:lnTo>
                    <a:lnTo>
                      <a:pt x="156" y="625"/>
                    </a:lnTo>
                    <a:lnTo>
                      <a:pt x="156" y="660"/>
                    </a:lnTo>
                    <a:lnTo>
                      <a:pt x="156" y="650"/>
                    </a:lnTo>
                    <a:lnTo>
                      <a:pt x="156" y="655"/>
                    </a:lnTo>
                    <a:lnTo>
                      <a:pt x="156" y="635"/>
                    </a:lnTo>
                    <a:lnTo>
                      <a:pt x="156" y="655"/>
                    </a:lnTo>
                    <a:lnTo>
                      <a:pt x="156" y="615"/>
                    </a:lnTo>
                    <a:lnTo>
                      <a:pt x="156" y="640"/>
                    </a:lnTo>
                    <a:lnTo>
                      <a:pt x="156" y="655"/>
                    </a:lnTo>
                    <a:lnTo>
                      <a:pt x="156" y="635"/>
                    </a:lnTo>
                    <a:lnTo>
                      <a:pt x="156" y="680"/>
                    </a:lnTo>
                    <a:lnTo>
                      <a:pt x="156" y="700"/>
                    </a:lnTo>
                    <a:lnTo>
                      <a:pt x="156" y="705"/>
                    </a:lnTo>
                    <a:lnTo>
                      <a:pt x="156" y="700"/>
                    </a:lnTo>
                    <a:lnTo>
                      <a:pt x="156" y="705"/>
                    </a:lnTo>
                    <a:lnTo>
                      <a:pt x="156" y="700"/>
                    </a:lnTo>
                    <a:lnTo>
                      <a:pt x="156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685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69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1" y="700"/>
                    </a:lnTo>
                    <a:lnTo>
                      <a:pt x="161" y="705"/>
                    </a:lnTo>
                    <a:lnTo>
                      <a:pt x="166" y="700"/>
                    </a:lnTo>
                    <a:lnTo>
                      <a:pt x="166" y="69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685"/>
                    </a:lnTo>
                    <a:lnTo>
                      <a:pt x="166" y="700"/>
                    </a:lnTo>
                    <a:lnTo>
                      <a:pt x="166" y="68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  <a:lnTo>
                      <a:pt x="166" y="705"/>
                    </a:lnTo>
                    <a:lnTo>
                      <a:pt x="166" y="70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32280" y="2728800"/>
                <a:ext cx="426960" cy="876600"/>
              </a:xfrm>
              <a:custGeom>
                <a:avLst/>
                <a:gdLst/>
                <a:ahLst/>
                <a:rect l="l" t="t" r="r" b="b"/>
                <a:pathLst>
                  <a:path w="302" h="619">
                    <a:moveTo>
                      <a:pt x="0" y="523"/>
                    </a:moveTo>
                    <a:lnTo>
                      <a:pt x="0" y="518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3"/>
                    </a:lnTo>
                    <a:lnTo>
                      <a:pt x="0" y="518"/>
                    </a:lnTo>
                    <a:lnTo>
                      <a:pt x="0" y="523"/>
                    </a:lnTo>
                    <a:lnTo>
                      <a:pt x="0" y="518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18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478"/>
                    </a:lnTo>
                    <a:lnTo>
                      <a:pt x="5" y="523"/>
                    </a:lnTo>
                    <a:lnTo>
                      <a:pt x="5" y="518"/>
                    </a:lnTo>
                    <a:lnTo>
                      <a:pt x="5" y="513"/>
                    </a:lnTo>
                    <a:lnTo>
                      <a:pt x="5" y="523"/>
                    </a:lnTo>
                    <a:lnTo>
                      <a:pt x="5" y="518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0"/>
                    </a:lnTo>
                    <a:lnTo>
                      <a:pt x="5" y="523"/>
                    </a:lnTo>
                    <a:lnTo>
                      <a:pt x="5" y="498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23"/>
                    </a:lnTo>
                    <a:lnTo>
                      <a:pt x="5" y="528"/>
                    </a:lnTo>
                    <a:lnTo>
                      <a:pt x="5" y="518"/>
                    </a:lnTo>
                    <a:lnTo>
                      <a:pt x="5" y="523"/>
                    </a:lnTo>
                    <a:lnTo>
                      <a:pt x="5" y="518"/>
                    </a:lnTo>
                    <a:lnTo>
                      <a:pt x="5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1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18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18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0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18"/>
                    </a:lnTo>
                    <a:lnTo>
                      <a:pt x="10" y="528"/>
                    </a:lnTo>
                    <a:lnTo>
                      <a:pt x="10" y="523"/>
                    </a:lnTo>
                    <a:lnTo>
                      <a:pt x="10" y="518"/>
                    </a:lnTo>
                    <a:lnTo>
                      <a:pt x="10" y="523"/>
                    </a:lnTo>
                    <a:lnTo>
                      <a:pt x="10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18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1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15" y="528"/>
                    </a:lnTo>
                    <a:lnTo>
                      <a:pt x="15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48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322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0" y="528"/>
                    </a:lnTo>
                    <a:lnTo>
                      <a:pt x="20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488"/>
                    </a:lnTo>
                    <a:lnTo>
                      <a:pt x="25" y="528"/>
                    </a:lnTo>
                    <a:lnTo>
                      <a:pt x="25" y="508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08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25" y="528"/>
                    </a:lnTo>
                    <a:lnTo>
                      <a:pt x="25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18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18"/>
                    </a:lnTo>
                    <a:lnTo>
                      <a:pt x="30" y="528"/>
                    </a:lnTo>
                    <a:lnTo>
                      <a:pt x="30" y="51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498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0" y="528"/>
                    </a:lnTo>
                    <a:lnTo>
                      <a:pt x="30" y="523"/>
                    </a:lnTo>
                    <a:lnTo>
                      <a:pt x="36" y="528"/>
                    </a:lnTo>
                    <a:lnTo>
                      <a:pt x="36" y="518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423"/>
                    </a:lnTo>
                    <a:lnTo>
                      <a:pt x="36" y="523"/>
                    </a:lnTo>
                    <a:lnTo>
                      <a:pt x="36" y="408"/>
                    </a:lnTo>
                    <a:lnTo>
                      <a:pt x="36" y="523"/>
                    </a:lnTo>
                    <a:lnTo>
                      <a:pt x="36" y="151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18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1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23"/>
                    </a:lnTo>
                    <a:lnTo>
                      <a:pt x="36" y="528"/>
                    </a:lnTo>
                    <a:lnTo>
                      <a:pt x="36" y="518"/>
                    </a:lnTo>
                    <a:lnTo>
                      <a:pt x="36" y="528"/>
                    </a:lnTo>
                    <a:lnTo>
                      <a:pt x="41" y="513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1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0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1" y="528"/>
                    </a:lnTo>
                    <a:lnTo>
                      <a:pt x="41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18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46" y="528"/>
                    </a:lnTo>
                    <a:lnTo>
                      <a:pt x="46" y="523"/>
                    </a:lnTo>
                    <a:lnTo>
                      <a:pt x="51" y="528"/>
                    </a:lnTo>
                    <a:lnTo>
                      <a:pt x="51" y="508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1" y="523"/>
                    </a:lnTo>
                    <a:lnTo>
                      <a:pt x="51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56" y="528"/>
                    </a:lnTo>
                    <a:lnTo>
                      <a:pt x="56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1" y="528"/>
                    </a:lnTo>
                    <a:lnTo>
                      <a:pt x="61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66" y="528"/>
                    </a:lnTo>
                    <a:lnTo>
                      <a:pt x="66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1" y="528"/>
                    </a:lnTo>
                    <a:lnTo>
                      <a:pt x="71" y="523"/>
                    </a:lnTo>
                    <a:lnTo>
                      <a:pt x="76" y="528"/>
                    </a:lnTo>
                    <a:lnTo>
                      <a:pt x="76" y="523"/>
                    </a:lnTo>
                    <a:lnTo>
                      <a:pt x="76" y="528"/>
                    </a:lnTo>
                    <a:lnTo>
                      <a:pt x="76" y="523"/>
                    </a:lnTo>
                    <a:lnTo>
                      <a:pt x="76" y="518"/>
                    </a:lnTo>
                    <a:lnTo>
                      <a:pt x="76" y="528"/>
                    </a:lnTo>
                    <a:lnTo>
                      <a:pt x="76" y="523"/>
                    </a:lnTo>
                    <a:lnTo>
                      <a:pt x="76" y="528"/>
                    </a:lnTo>
                    <a:lnTo>
                      <a:pt x="76" y="523"/>
                    </a:lnTo>
                    <a:lnTo>
                      <a:pt x="81" y="528"/>
                    </a:lnTo>
                    <a:lnTo>
                      <a:pt x="81" y="523"/>
                    </a:lnTo>
                    <a:lnTo>
                      <a:pt x="81" y="528"/>
                    </a:lnTo>
                    <a:lnTo>
                      <a:pt x="81" y="523"/>
                    </a:lnTo>
                    <a:lnTo>
                      <a:pt x="81" y="528"/>
                    </a:lnTo>
                    <a:lnTo>
                      <a:pt x="81" y="523"/>
                    </a:lnTo>
                    <a:lnTo>
                      <a:pt x="81" y="528"/>
                    </a:lnTo>
                    <a:lnTo>
                      <a:pt x="81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86" y="528"/>
                    </a:lnTo>
                    <a:lnTo>
                      <a:pt x="86" y="523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1" y="518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1" y="528"/>
                    </a:lnTo>
                    <a:lnTo>
                      <a:pt x="91" y="523"/>
                    </a:lnTo>
                    <a:lnTo>
                      <a:pt x="96" y="528"/>
                    </a:lnTo>
                    <a:lnTo>
                      <a:pt x="96" y="51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96" y="528"/>
                    </a:lnTo>
                    <a:lnTo>
                      <a:pt x="96" y="523"/>
                    </a:lnTo>
                    <a:lnTo>
                      <a:pt x="101" y="518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1" y="528"/>
                    </a:lnTo>
                    <a:lnTo>
                      <a:pt x="101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06" y="523"/>
                    </a:lnTo>
                    <a:lnTo>
                      <a:pt x="106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1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1" y="528"/>
                    </a:lnTo>
                    <a:lnTo>
                      <a:pt x="111" y="523"/>
                    </a:lnTo>
                    <a:lnTo>
                      <a:pt x="116" y="528"/>
                    </a:lnTo>
                    <a:lnTo>
                      <a:pt x="116" y="523"/>
                    </a:lnTo>
                    <a:lnTo>
                      <a:pt x="116" y="528"/>
                    </a:lnTo>
                    <a:lnTo>
                      <a:pt x="116" y="523"/>
                    </a:lnTo>
                    <a:lnTo>
                      <a:pt x="116" y="528"/>
                    </a:lnTo>
                    <a:lnTo>
                      <a:pt x="116" y="533"/>
                    </a:lnTo>
                    <a:lnTo>
                      <a:pt x="116" y="523"/>
                    </a:lnTo>
                    <a:lnTo>
                      <a:pt x="116" y="528"/>
                    </a:lnTo>
                    <a:lnTo>
                      <a:pt x="121" y="523"/>
                    </a:lnTo>
                    <a:lnTo>
                      <a:pt x="121" y="528"/>
                    </a:lnTo>
                    <a:lnTo>
                      <a:pt x="121" y="523"/>
                    </a:lnTo>
                    <a:lnTo>
                      <a:pt x="121" y="528"/>
                    </a:lnTo>
                    <a:lnTo>
                      <a:pt x="121" y="523"/>
                    </a:lnTo>
                    <a:lnTo>
                      <a:pt x="121" y="528"/>
                    </a:lnTo>
                    <a:lnTo>
                      <a:pt x="121" y="518"/>
                    </a:lnTo>
                    <a:lnTo>
                      <a:pt x="121" y="528"/>
                    </a:lnTo>
                    <a:lnTo>
                      <a:pt x="121" y="533"/>
                    </a:lnTo>
                    <a:lnTo>
                      <a:pt x="121" y="528"/>
                    </a:lnTo>
                    <a:lnTo>
                      <a:pt x="121" y="523"/>
                    </a:lnTo>
                    <a:lnTo>
                      <a:pt x="121" y="528"/>
                    </a:lnTo>
                    <a:lnTo>
                      <a:pt x="121" y="533"/>
                    </a:lnTo>
                    <a:lnTo>
                      <a:pt x="126" y="528"/>
                    </a:lnTo>
                    <a:lnTo>
                      <a:pt x="126" y="51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3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26" y="518"/>
                    </a:lnTo>
                    <a:lnTo>
                      <a:pt x="126" y="523"/>
                    </a:lnTo>
                    <a:lnTo>
                      <a:pt x="126" y="528"/>
                    </a:lnTo>
                    <a:lnTo>
                      <a:pt x="126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1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18"/>
                    </a:lnTo>
                    <a:lnTo>
                      <a:pt x="131" y="528"/>
                    </a:lnTo>
                    <a:lnTo>
                      <a:pt x="131" y="518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1" y="528"/>
                    </a:lnTo>
                    <a:lnTo>
                      <a:pt x="131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36" y="528"/>
                    </a:lnTo>
                    <a:lnTo>
                      <a:pt x="136" y="523"/>
                    </a:lnTo>
                    <a:lnTo>
                      <a:pt x="141" y="528"/>
                    </a:lnTo>
                    <a:lnTo>
                      <a:pt x="141" y="523"/>
                    </a:lnTo>
                    <a:lnTo>
                      <a:pt x="141" y="528"/>
                    </a:lnTo>
                    <a:lnTo>
                      <a:pt x="141" y="523"/>
                    </a:lnTo>
                    <a:lnTo>
                      <a:pt x="141" y="528"/>
                    </a:lnTo>
                    <a:lnTo>
                      <a:pt x="141" y="523"/>
                    </a:lnTo>
                    <a:lnTo>
                      <a:pt x="141" y="528"/>
                    </a:lnTo>
                    <a:lnTo>
                      <a:pt x="141" y="523"/>
                    </a:lnTo>
                    <a:lnTo>
                      <a:pt x="146" y="528"/>
                    </a:lnTo>
                    <a:lnTo>
                      <a:pt x="146" y="523"/>
                    </a:lnTo>
                    <a:lnTo>
                      <a:pt x="146" y="528"/>
                    </a:lnTo>
                    <a:lnTo>
                      <a:pt x="146" y="523"/>
                    </a:lnTo>
                    <a:lnTo>
                      <a:pt x="146" y="528"/>
                    </a:lnTo>
                    <a:lnTo>
                      <a:pt x="146" y="533"/>
                    </a:lnTo>
                    <a:lnTo>
                      <a:pt x="146" y="528"/>
                    </a:lnTo>
                    <a:lnTo>
                      <a:pt x="146" y="523"/>
                    </a:lnTo>
                    <a:lnTo>
                      <a:pt x="146" y="528"/>
                    </a:lnTo>
                    <a:lnTo>
                      <a:pt x="146" y="533"/>
                    </a:lnTo>
                    <a:lnTo>
                      <a:pt x="146" y="523"/>
                    </a:lnTo>
                    <a:lnTo>
                      <a:pt x="146" y="478"/>
                    </a:lnTo>
                    <a:lnTo>
                      <a:pt x="146" y="528"/>
                    </a:lnTo>
                    <a:lnTo>
                      <a:pt x="151" y="523"/>
                    </a:lnTo>
                    <a:lnTo>
                      <a:pt x="151" y="528"/>
                    </a:lnTo>
                    <a:lnTo>
                      <a:pt x="151" y="523"/>
                    </a:lnTo>
                    <a:lnTo>
                      <a:pt x="151" y="528"/>
                    </a:lnTo>
                    <a:lnTo>
                      <a:pt x="151" y="533"/>
                    </a:lnTo>
                    <a:lnTo>
                      <a:pt x="151" y="528"/>
                    </a:lnTo>
                    <a:lnTo>
                      <a:pt x="151" y="523"/>
                    </a:lnTo>
                    <a:lnTo>
                      <a:pt x="151" y="533"/>
                    </a:lnTo>
                    <a:lnTo>
                      <a:pt x="151" y="528"/>
                    </a:lnTo>
                    <a:lnTo>
                      <a:pt x="151" y="523"/>
                    </a:lnTo>
                    <a:lnTo>
                      <a:pt x="151" y="528"/>
                    </a:lnTo>
                    <a:lnTo>
                      <a:pt x="151" y="523"/>
                    </a:lnTo>
                    <a:lnTo>
                      <a:pt x="151" y="528"/>
                    </a:lnTo>
                    <a:lnTo>
                      <a:pt x="151" y="523"/>
                    </a:lnTo>
                    <a:lnTo>
                      <a:pt x="151" y="528"/>
                    </a:lnTo>
                    <a:lnTo>
                      <a:pt x="151" y="533"/>
                    </a:lnTo>
                    <a:lnTo>
                      <a:pt x="156" y="528"/>
                    </a:lnTo>
                    <a:lnTo>
                      <a:pt x="156" y="523"/>
                    </a:lnTo>
                    <a:lnTo>
                      <a:pt x="156" y="528"/>
                    </a:lnTo>
                    <a:lnTo>
                      <a:pt x="156" y="523"/>
                    </a:lnTo>
                    <a:lnTo>
                      <a:pt x="156" y="528"/>
                    </a:lnTo>
                    <a:lnTo>
                      <a:pt x="156" y="518"/>
                    </a:lnTo>
                    <a:lnTo>
                      <a:pt x="156" y="528"/>
                    </a:lnTo>
                    <a:lnTo>
                      <a:pt x="156" y="523"/>
                    </a:lnTo>
                    <a:lnTo>
                      <a:pt x="156" y="528"/>
                    </a:lnTo>
                    <a:lnTo>
                      <a:pt x="156" y="533"/>
                    </a:lnTo>
                    <a:lnTo>
                      <a:pt x="156" y="528"/>
                    </a:lnTo>
                    <a:lnTo>
                      <a:pt x="156" y="523"/>
                    </a:lnTo>
                    <a:lnTo>
                      <a:pt x="156" y="528"/>
                    </a:lnTo>
                    <a:lnTo>
                      <a:pt x="156" y="523"/>
                    </a:lnTo>
                    <a:lnTo>
                      <a:pt x="156" y="528"/>
                    </a:lnTo>
                    <a:lnTo>
                      <a:pt x="156" y="533"/>
                    </a:lnTo>
                    <a:lnTo>
                      <a:pt x="161" y="528"/>
                    </a:lnTo>
                    <a:lnTo>
                      <a:pt x="161" y="523"/>
                    </a:lnTo>
                    <a:lnTo>
                      <a:pt x="161" y="528"/>
                    </a:lnTo>
                    <a:lnTo>
                      <a:pt x="161" y="533"/>
                    </a:lnTo>
                    <a:lnTo>
                      <a:pt x="161" y="528"/>
                    </a:lnTo>
                    <a:lnTo>
                      <a:pt x="161" y="523"/>
                    </a:lnTo>
                    <a:lnTo>
                      <a:pt x="161" y="528"/>
                    </a:lnTo>
                    <a:lnTo>
                      <a:pt x="161" y="533"/>
                    </a:lnTo>
                    <a:lnTo>
                      <a:pt x="161" y="528"/>
                    </a:lnTo>
                    <a:lnTo>
                      <a:pt x="161" y="523"/>
                    </a:lnTo>
                    <a:lnTo>
                      <a:pt x="161" y="528"/>
                    </a:lnTo>
                    <a:lnTo>
                      <a:pt x="161" y="523"/>
                    </a:lnTo>
                    <a:lnTo>
                      <a:pt x="161" y="528"/>
                    </a:lnTo>
                    <a:lnTo>
                      <a:pt x="161" y="523"/>
                    </a:lnTo>
                    <a:lnTo>
                      <a:pt x="166" y="528"/>
                    </a:lnTo>
                    <a:lnTo>
                      <a:pt x="166" y="533"/>
                    </a:lnTo>
                    <a:lnTo>
                      <a:pt x="166" y="528"/>
                    </a:lnTo>
                    <a:lnTo>
                      <a:pt x="166" y="533"/>
                    </a:lnTo>
                    <a:lnTo>
                      <a:pt x="166" y="528"/>
                    </a:lnTo>
                    <a:lnTo>
                      <a:pt x="166" y="523"/>
                    </a:lnTo>
                    <a:lnTo>
                      <a:pt x="166" y="528"/>
                    </a:lnTo>
                    <a:lnTo>
                      <a:pt x="166" y="533"/>
                    </a:lnTo>
                    <a:lnTo>
                      <a:pt x="166" y="528"/>
                    </a:lnTo>
                    <a:lnTo>
                      <a:pt x="166" y="523"/>
                    </a:lnTo>
                    <a:lnTo>
                      <a:pt x="166" y="528"/>
                    </a:lnTo>
                    <a:lnTo>
                      <a:pt x="166" y="533"/>
                    </a:lnTo>
                    <a:lnTo>
                      <a:pt x="166" y="528"/>
                    </a:lnTo>
                    <a:lnTo>
                      <a:pt x="166" y="533"/>
                    </a:lnTo>
                    <a:lnTo>
                      <a:pt x="166" y="528"/>
                    </a:lnTo>
                    <a:lnTo>
                      <a:pt x="166" y="523"/>
                    </a:lnTo>
                    <a:lnTo>
                      <a:pt x="166" y="528"/>
                    </a:lnTo>
                    <a:lnTo>
                      <a:pt x="171" y="523"/>
                    </a:lnTo>
                    <a:lnTo>
                      <a:pt x="171" y="528"/>
                    </a:lnTo>
                    <a:lnTo>
                      <a:pt x="171" y="523"/>
                    </a:lnTo>
                    <a:lnTo>
                      <a:pt x="171" y="528"/>
                    </a:lnTo>
                    <a:lnTo>
                      <a:pt x="171" y="533"/>
                    </a:lnTo>
                    <a:lnTo>
                      <a:pt x="171" y="528"/>
                    </a:lnTo>
                    <a:lnTo>
                      <a:pt x="171" y="523"/>
                    </a:lnTo>
                    <a:lnTo>
                      <a:pt x="171" y="528"/>
                    </a:lnTo>
                    <a:lnTo>
                      <a:pt x="171" y="523"/>
                    </a:lnTo>
                    <a:lnTo>
                      <a:pt x="171" y="528"/>
                    </a:lnTo>
                    <a:lnTo>
                      <a:pt x="171" y="533"/>
                    </a:lnTo>
                    <a:lnTo>
                      <a:pt x="177" y="528"/>
                    </a:lnTo>
                    <a:lnTo>
                      <a:pt x="177" y="533"/>
                    </a:lnTo>
                    <a:lnTo>
                      <a:pt x="177" y="528"/>
                    </a:lnTo>
                    <a:lnTo>
                      <a:pt x="177" y="523"/>
                    </a:lnTo>
                    <a:lnTo>
                      <a:pt x="177" y="528"/>
                    </a:lnTo>
                    <a:lnTo>
                      <a:pt x="177" y="523"/>
                    </a:lnTo>
                    <a:lnTo>
                      <a:pt x="177" y="528"/>
                    </a:lnTo>
                    <a:lnTo>
                      <a:pt x="177" y="533"/>
                    </a:lnTo>
                    <a:lnTo>
                      <a:pt x="177" y="528"/>
                    </a:lnTo>
                    <a:lnTo>
                      <a:pt x="177" y="523"/>
                    </a:lnTo>
                    <a:lnTo>
                      <a:pt x="177" y="528"/>
                    </a:lnTo>
                    <a:lnTo>
                      <a:pt x="177" y="518"/>
                    </a:lnTo>
                    <a:lnTo>
                      <a:pt x="177" y="528"/>
                    </a:lnTo>
                    <a:lnTo>
                      <a:pt x="177" y="523"/>
                    </a:lnTo>
                    <a:lnTo>
                      <a:pt x="177" y="528"/>
                    </a:lnTo>
                    <a:lnTo>
                      <a:pt x="177" y="523"/>
                    </a:lnTo>
                    <a:lnTo>
                      <a:pt x="182" y="528"/>
                    </a:lnTo>
                    <a:lnTo>
                      <a:pt x="182" y="533"/>
                    </a:lnTo>
                    <a:lnTo>
                      <a:pt x="182" y="528"/>
                    </a:lnTo>
                    <a:lnTo>
                      <a:pt x="182" y="518"/>
                    </a:lnTo>
                    <a:lnTo>
                      <a:pt x="182" y="528"/>
                    </a:lnTo>
                    <a:lnTo>
                      <a:pt x="182" y="523"/>
                    </a:lnTo>
                    <a:lnTo>
                      <a:pt x="182" y="493"/>
                    </a:lnTo>
                    <a:lnTo>
                      <a:pt x="182" y="528"/>
                    </a:lnTo>
                    <a:lnTo>
                      <a:pt x="182" y="523"/>
                    </a:lnTo>
                    <a:lnTo>
                      <a:pt x="182" y="528"/>
                    </a:lnTo>
                    <a:lnTo>
                      <a:pt x="182" y="523"/>
                    </a:lnTo>
                    <a:lnTo>
                      <a:pt x="187" y="528"/>
                    </a:lnTo>
                    <a:lnTo>
                      <a:pt x="187" y="518"/>
                    </a:lnTo>
                    <a:lnTo>
                      <a:pt x="187" y="528"/>
                    </a:lnTo>
                    <a:lnTo>
                      <a:pt x="187" y="533"/>
                    </a:lnTo>
                    <a:lnTo>
                      <a:pt x="187" y="528"/>
                    </a:lnTo>
                    <a:lnTo>
                      <a:pt x="187" y="533"/>
                    </a:lnTo>
                    <a:lnTo>
                      <a:pt x="187" y="528"/>
                    </a:lnTo>
                    <a:lnTo>
                      <a:pt x="187" y="518"/>
                    </a:lnTo>
                    <a:lnTo>
                      <a:pt x="187" y="528"/>
                    </a:lnTo>
                    <a:lnTo>
                      <a:pt x="187" y="523"/>
                    </a:lnTo>
                    <a:lnTo>
                      <a:pt x="187" y="533"/>
                    </a:lnTo>
                    <a:lnTo>
                      <a:pt x="187" y="528"/>
                    </a:lnTo>
                    <a:lnTo>
                      <a:pt x="187" y="518"/>
                    </a:lnTo>
                    <a:lnTo>
                      <a:pt x="187" y="528"/>
                    </a:lnTo>
                    <a:lnTo>
                      <a:pt x="192" y="528"/>
                    </a:lnTo>
                    <a:lnTo>
                      <a:pt x="192" y="518"/>
                    </a:lnTo>
                    <a:lnTo>
                      <a:pt x="192" y="523"/>
                    </a:lnTo>
                    <a:lnTo>
                      <a:pt x="192" y="528"/>
                    </a:lnTo>
                    <a:lnTo>
                      <a:pt x="192" y="523"/>
                    </a:lnTo>
                    <a:lnTo>
                      <a:pt x="192" y="528"/>
                    </a:lnTo>
                    <a:lnTo>
                      <a:pt x="192" y="523"/>
                    </a:lnTo>
                    <a:lnTo>
                      <a:pt x="192" y="528"/>
                    </a:lnTo>
                    <a:lnTo>
                      <a:pt x="192" y="523"/>
                    </a:lnTo>
                    <a:lnTo>
                      <a:pt x="192" y="533"/>
                    </a:lnTo>
                    <a:lnTo>
                      <a:pt x="192" y="528"/>
                    </a:lnTo>
                    <a:lnTo>
                      <a:pt x="192" y="533"/>
                    </a:lnTo>
                    <a:lnTo>
                      <a:pt x="192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1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18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1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197" y="523"/>
                    </a:lnTo>
                    <a:lnTo>
                      <a:pt x="197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18"/>
                    </a:lnTo>
                    <a:lnTo>
                      <a:pt x="202" y="528"/>
                    </a:lnTo>
                    <a:lnTo>
                      <a:pt x="202" y="53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2" y="528"/>
                    </a:lnTo>
                    <a:lnTo>
                      <a:pt x="202" y="523"/>
                    </a:lnTo>
                    <a:lnTo>
                      <a:pt x="207" y="528"/>
                    </a:lnTo>
                    <a:lnTo>
                      <a:pt x="207" y="533"/>
                    </a:lnTo>
                    <a:lnTo>
                      <a:pt x="207" y="528"/>
                    </a:lnTo>
                    <a:lnTo>
                      <a:pt x="207" y="533"/>
                    </a:lnTo>
                    <a:lnTo>
                      <a:pt x="207" y="528"/>
                    </a:lnTo>
                    <a:lnTo>
                      <a:pt x="207" y="448"/>
                    </a:lnTo>
                    <a:lnTo>
                      <a:pt x="207" y="528"/>
                    </a:lnTo>
                    <a:lnTo>
                      <a:pt x="207" y="533"/>
                    </a:lnTo>
                    <a:lnTo>
                      <a:pt x="207" y="528"/>
                    </a:lnTo>
                    <a:lnTo>
                      <a:pt x="207" y="523"/>
                    </a:lnTo>
                    <a:lnTo>
                      <a:pt x="207" y="528"/>
                    </a:lnTo>
                    <a:lnTo>
                      <a:pt x="207" y="523"/>
                    </a:lnTo>
                    <a:lnTo>
                      <a:pt x="207" y="528"/>
                    </a:lnTo>
                    <a:lnTo>
                      <a:pt x="207" y="523"/>
                    </a:lnTo>
                    <a:lnTo>
                      <a:pt x="207" y="528"/>
                    </a:lnTo>
                    <a:lnTo>
                      <a:pt x="207" y="523"/>
                    </a:lnTo>
                    <a:lnTo>
                      <a:pt x="212" y="528"/>
                    </a:lnTo>
                    <a:lnTo>
                      <a:pt x="212" y="533"/>
                    </a:lnTo>
                    <a:lnTo>
                      <a:pt x="212" y="528"/>
                    </a:lnTo>
                    <a:lnTo>
                      <a:pt x="212" y="523"/>
                    </a:lnTo>
                    <a:lnTo>
                      <a:pt x="212" y="528"/>
                    </a:lnTo>
                    <a:lnTo>
                      <a:pt x="212" y="523"/>
                    </a:lnTo>
                    <a:lnTo>
                      <a:pt x="212" y="528"/>
                    </a:lnTo>
                    <a:lnTo>
                      <a:pt x="212" y="523"/>
                    </a:lnTo>
                    <a:lnTo>
                      <a:pt x="212" y="528"/>
                    </a:lnTo>
                    <a:lnTo>
                      <a:pt x="212" y="523"/>
                    </a:lnTo>
                    <a:lnTo>
                      <a:pt x="217" y="533"/>
                    </a:lnTo>
                    <a:lnTo>
                      <a:pt x="217" y="528"/>
                    </a:lnTo>
                    <a:lnTo>
                      <a:pt x="217" y="523"/>
                    </a:lnTo>
                    <a:lnTo>
                      <a:pt x="217" y="528"/>
                    </a:lnTo>
                    <a:lnTo>
                      <a:pt x="217" y="533"/>
                    </a:lnTo>
                    <a:lnTo>
                      <a:pt x="217" y="528"/>
                    </a:lnTo>
                    <a:lnTo>
                      <a:pt x="217" y="523"/>
                    </a:lnTo>
                    <a:lnTo>
                      <a:pt x="217" y="528"/>
                    </a:lnTo>
                    <a:lnTo>
                      <a:pt x="217" y="52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2" y="528"/>
                    </a:lnTo>
                    <a:lnTo>
                      <a:pt x="222" y="53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2" y="528"/>
                    </a:lnTo>
                    <a:lnTo>
                      <a:pt x="222" y="523"/>
                    </a:lnTo>
                    <a:lnTo>
                      <a:pt x="227" y="528"/>
                    </a:lnTo>
                    <a:lnTo>
                      <a:pt x="227" y="513"/>
                    </a:lnTo>
                    <a:lnTo>
                      <a:pt x="227" y="523"/>
                    </a:lnTo>
                    <a:lnTo>
                      <a:pt x="227" y="528"/>
                    </a:lnTo>
                    <a:lnTo>
                      <a:pt x="227" y="523"/>
                    </a:lnTo>
                    <a:lnTo>
                      <a:pt x="232" y="528"/>
                    </a:lnTo>
                    <a:lnTo>
                      <a:pt x="232" y="53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2" y="528"/>
                    </a:lnTo>
                    <a:lnTo>
                      <a:pt x="232" y="523"/>
                    </a:lnTo>
                    <a:lnTo>
                      <a:pt x="237" y="528"/>
                    </a:lnTo>
                    <a:lnTo>
                      <a:pt x="237" y="533"/>
                    </a:lnTo>
                    <a:lnTo>
                      <a:pt x="237" y="528"/>
                    </a:lnTo>
                    <a:lnTo>
                      <a:pt x="237" y="523"/>
                    </a:lnTo>
                    <a:lnTo>
                      <a:pt x="237" y="528"/>
                    </a:lnTo>
                    <a:lnTo>
                      <a:pt x="237" y="523"/>
                    </a:lnTo>
                    <a:lnTo>
                      <a:pt x="237" y="528"/>
                    </a:lnTo>
                    <a:lnTo>
                      <a:pt x="237" y="523"/>
                    </a:lnTo>
                    <a:lnTo>
                      <a:pt x="237" y="528"/>
                    </a:lnTo>
                    <a:lnTo>
                      <a:pt x="237" y="523"/>
                    </a:lnTo>
                    <a:lnTo>
                      <a:pt x="237" y="528"/>
                    </a:lnTo>
                    <a:lnTo>
                      <a:pt x="237" y="523"/>
                    </a:lnTo>
                    <a:lnTo>
                      <a:pt x="237" y="528"/>
                    </a:lnTo>
                    <a:lnTo>
                      <a:pt x="237" y="513"/>
                    </a:lnTo>
                    <a:lnTo>
                      <a:pt x="237" y="523"/>
                    </a:lnTo>
                    <a:lnTo>
                      <a:pt x="242" y="528"/>
                    </a:lnTo>
                    <a:lnTo>
                      <a:pt x="242" y="533"/>
                    </a:lnTo>
                    <a:lnTo>
                      <a:pt x="242" y="528"/>
                    </a:lnTo>
                    <a:lnTo>
                      <a:pt x="242" y="523"/>
                    </a:lnTo>
                    <a:lnTo>
                      <a:pt x="242" y="528"/>
                    </a:lnTo>
                    <a:lnTo>
                      <a:pt x="242" y="518"/>
                    </a:lnTo>
                    <a:lnTo>
                      <a:pt x="242" y="528"/>
                    </a:lnTo>
                    <a:lnTo>
                      <a:pt x="242" y="523"/>
                    </a:lnTo>
                    <a:lnTo>
                      <a:pt x="242" y="528"/>
                    </a:lnTo>
                    <a:lnTo>
                      <a:pt x="242" y="513"/>
                    </a:lnTo>
                    <a:lnTo>
                      <a:pt x="242" y="528"/>
                    </a:lnTo>
                    <a:lnTo>
                      <a:pt x="242" y="523"/>
                    </a:lnTo>
                    <a:lnTo>
                      <a:pt x="242" y="528"/>
                    </a:lnTo>
                    <a:lnTo>
                      <a:pt x="242" y="523"/>
                    </a:lnTo>
                    <a:lnTo>
                      <a:pt x="242" y="528"/>
                    </a:lnTo>
                    <a:lnTo>
                      <a:pt x="242" y="523"/>
                    </a:lnTo>
                    <a:lnTo>
                      <a:pt x="247" y="528"/>
                    </a:lnTo>
                    <a:lnTo>
                      <a:pt x="247" y="533"/>
                    </a:lnTo>
                    <a:lnTo>
                      <a:pt x="247" y="528"/>
                    </a:lnTo>
                    <a:lnTo>
                      <a:pt x="247" y="518"/>
                    </a:lnTo>
                    <a:lnTo>
                      <a:pt x="247" y="528"/>
                    </a:lnTo>
                    <a:lnTo>
                      <a:pt x="252" y="523"/>
                    </a:lnTo>
                    <a:lnTo>
                      <a:pt x="252" y="528"/>
                    </a:lnTo>
                    <a:lnTo>
                      <a:pt x="252" y="523"/>
                    </a:lnTo>
                    <a:lnTo>
                      <a:pt x="252" y="528"/>
                    </a:lnTo>
                    <a:lnTo>
                      <a:pt x="252" y="533"/>
                    </a:lnTo>
                    <a:lnTo>
                      <a:pt x="252" y="523"/>
                    </a:lnTo>
                    <a:lnTo>
                      <a:pt x="252" y="528"/>
                    </a:lnTo>
                    <a:lnTo>
                      <a:pt x="252" y="523"/>
                    </a:lnTo>
                    <a:lnTo>
                      <a:pt x="252" y="528"/>
                    </a:lnTo>
                    <a:lnTo>
                      <a:pt x="252" y="523"/>
                    </a:lnTo>
                    <a:lnTo>
                      <a:pt x="252" y="528"/>
                    </a:lnTo>
                    <a:lnTo>
                      <a:pt x="252" y="523"/>
                    </a:lnTo>
                    <a:lnTo>
                      <a:pt x="257" y="528"/>
                    </a:lnTo>
                    <a:lnTo>
                      <a:pt x="257" y="518"/>
                    </a:lnTo>
                    <a:lnTo>
                      <a:pt x="257" y="528"/>
                    </a:lnTo>
                    <a:lnTo>
                      <a:pt x="257" y="533"/>
                    </a:lnTo>
                    <a:lnTo>
                      <a:pt x="257" y="528"/>
                    </a:lnTo>
                    <a:lnTo>
                      <a:pt x="257" y="523"/>
                    </a:lnTo>
                    <a:lnTo>
                      <a:pt x="257" y="528"/>
                    </a:lnTo>
                    <a:lnTo>
                      <a:pt x="257" y="523"/>
                    </a:lnTo>
                    <a:lnTo>
                      <a:pt x="257" y="528"/>
                    </a:lnTo>
                    <a:lnTo>
                      <a:pt x="257" y="53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23"/>
                    </a:lnTo>
                    <a:lnTo>
                      <a:pt x="262" y="528"/>
                    </a:lnTo>
                    <a:lnTo>
                      <a:pt x="262" y="518"/>
                    </a:lnTo>
                    <a:lnTo>
                      <a:pt x="262" y="523"/>
                    </a:lnTo>
                    <a:lnTo>
                      <a:pt x="262" y="533"/>
                    </a:lnTo>
                    <a:lnTo>
                      <a:pt x="267" y="528"/>
                    </a:lnTo>
                    <a:lnTo>
                      <a:pt x="267" y="523"/>
                    </a:lnTo>
                    <a:lnTo>
                      <a:pt x="267" y="528"/>
                    </a:lnTo>
                    <a:lnTo>
                      <a:pt x="267" y="533"/>
                    </a:lnTo>
                    <a:lnTo>
                      <a:pt x="267" y="528"/>
                    </a:lnTo>
                    <a:lnTo>
                      <a:pt x="267" y="523"/>
                    </a:lnTo>
                    <a:lnTo>
                      <a:pt x="267" y="528"/>
                    </a:lnTo>
                    <a:lnTo>
                      <a:pt x="267" y="523"/>
                    </a:lnTo>
                    <a:lnTo>
                      <a:pt x="267" y="528"/>
                    </a:lnTo>
                    <a:lnTo>
                      <a:pt x="267" y="523"/>
                    </a:lnTo>
                    <a:lnTo>
                      <a:pt x="272" y="528"/>
                    </a:lnTo>
                    <a:lnTo>
                      <a:pt x="272" y="533"/>
                    </a:lnTo>
                    <a:lnTo>
                      <a:pt x="272" y="528"/>
                    </a:lnTo>
                    <a:lnTo>
                      <a:pt x="272" y="523"/>
                    </a:lnTo>
                    <a:lnTo>
                      <a:pt x="277" y="528"/>
                    </a:lnTo>
                    <a:lnTo>
                      <a:pt x="277" y="523"/>
                    </a:lnTo>
                    <a:lnTo>
                      <a:pt x="277" y="528"/>
                    </a:lnTo>
                    <a:lnTo>
                      <a:pt x="277" y="533"/>
                    </a:lnTo>
                    <a:lnTo>
                      <a:pt x="277" y="528"/>
                    </a:lnTo>
                    <a:lnTo>
                      <a:pt x="277" y="523"/>
                    </a:lnTo>
                    <a:lnTo>
                      <a:pt x="277" y="528"/>
                    </a:lnTo>
                    <a:lnTo>
                      <a:pt x="277" y="614"/>
                    </a:lnTo>
                    <a:lnTo>
                      <a:pt x="277" y="619"/>
                    </a:lnTo>
                    <a:lnTo>
                      <a:pt x="277" y="528"/>
                    </a:lnTo>
                    <a:lnTo>
                      <a:pt x="277" y="533"/>
                    </a:lnTo>
                    <a:lnTo>
                      <a:pt x="277" y="528"/>
                    </a:lnTo>
                    <a:lnTo>
                      <a:pt x="277" y="533"/>
                    </a:lnTo>
                    <a:lnTo>
                      <a:pt x="277" y="528"/>
                    </a:lnTo>
                    <a:lnTo>
                      <a:pt x="277" y="523"/>
                    </a:lnTo>
                    <a:lnTo>
                      <a:pt x="277" y="528"/>
                    </a:lnTo>
                    <a:lnTo>
                      <a:pt x="277" y="619"/>
                    </a:lnTo>
                    <a:lnTo>
                      <a:pt x="277" y="614"/>
                    </a:lnTo>
                    <a:lnTo>
                      <a:pt x="277" y="533"/>
                    </a:lnTo>
                    <a:lnTo>
                      <a:pt x="282" y="528"/>
                    </a:lnTo>
                    <a:lnTo>
                      <a:pt x="282" y="533"/>
                    </a:lnTo>
                    <a:lnTo>
                      <a:pt x="282" y="528"/>
                    </a:lnTo>
                    <a:lnTo>
                      <a:pt x="282" y="523"/>
                    </a:lnTo>
                    <a:lnTo>
                      <a:pt x="282" y="528"/>
                    </a:lnTo>
                    <a:lnTo>
                      <a:pt x="282" y="327"/>
                    </a:lnTo>
                    <a:lnTo>
                      <a:pt x="282" y="614"/>
                    </a:lnTo>
                    <a:lnTo>
                      <a:pt x="282" y="619"/>
                    </a:lnTo>
                    <a:lnTo>
                      <a:pt x="282" y="614"/>
                    </a:lnTo>
                    <a:lnTo>
                      <a:pt x="282" y="619"/>
                    </a:lnTo>
                    <a:lnTo>
                      <a:pt x="282" y="528"/>
                    </a:lnTo>
                    <a:lnTo>
                      <a:pt x="282" y="533"/>
                    </a:lnTo>
                    <a:lnTo>
                      <a:pt x="282" y="528"/>
                    </a:lnTo>
                    <a:lnTo>
                      <a:pt x="282" y="523"/>
                    </a:lnTo>
                    <a:lnTo>
                      <a:pt x="287" y="528"/>
                    </a:lnTo>
                    <a:lnTo>
                      <a:pt x="287" y="523"/>
                    </a:lnTo>
                    <a:lnTo>
                      <a:pt x="287" y="528"/>
                    </a:lnTo>
                    <a:lnTo>
                      <a:pt x="287" y="533"/>
                    </a:lnTo>
                    <a:lnTo>
                      <a:pt x="287" y="528"/>
                    </a:lnTo>
                    <a:lnTo>
                      <a:pt x="287" y="523"/>
                    </a:lnTo>
                    <a:lnTo>
                      <a:pt x="287" y="528"/>
                    </a:lnTo>
                    <a:lnTo>
                      <a:pt x="287" y="53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23"/>
                    </a:lnTo>
                    <a:lnTo>
                      <a:pt x="292" y="528"/>
                    </a:lnTo>
                    <a:lnTo>
                      <a:pt x="292" y="533"/>
                    </a:lnTo>
                    <a:lnTo>
                      <a:pt x="297" y="528"/>
                    </a:lnTo>
                    <a:lnTo>
                      <a:pt x="297" y="523"/>
                    </a:lnTo>
                    <a:lnTo>
                      <a:pt x="297" y="528"/>
                    </a:lnTo>
                    <a:lnTo>
                      <a:pt x="297" y="523"/>
                    </a:lnTo>
                    <a:lnTo>
                      <a:pt x="297" y="528"/>
                    </a:lnTo>
                    <a:lnTo>
                      <a:pt x="297" y="533"/>
                    </a:lnTo>
                    <a:lnTo>
                      <a:pt x="302" y="528"/>
                    </a:lnTo>
                    <a:lnTo>
                      <a:pt x="302" y="523"/>
                    </a:lnTo>
                    <a:lnTo>
                      <a:pt x="302" y="528"/>
                    </a:lnTo>
                    <a:lnTo>
                      <a:pt x="302" y="523"/>
                    </a:lnTo>
                    <a:lnTo>
                      <a:pt x="302" y="528"/>
                    </a:lnTo>
                    <a:lnTo>
                      <a:pt x="302" y="533"/>
                    </a:lnTo>
                    <a:lnTo>
                      <a:pt x="302" y="528"/>
                    </a:lnTo>
                    <a:lnTo>
                      <a:pt x="302" y="533"/>
                    </a:lnTo>
                    <a:lnTo>
                      <a:pt x="302" y="52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59600" y="2928600"/>
                <a:ext cx="435960" cy="554760"/>
              </a:xfrm>
              <a:custGeom>
                <a:avLst/>
                <a:gdLst/>
                <a:ahLst/>
                <a:rect l="l" t="t" r="r" b="b"/>
                <a:pathLst>
                  <a:path w="308" h="392">
                    <a:moveTo>
                      <a:pt x="0" y="387"/>
                    </a:moveTo>
                    <a:lnTo>
                      <a:pt x="0" y="392"/>
                    </a:lnTo>
                    <a:lnTo>
                      <a:pt x="5" y="387"/>
                    </a:lnTo>
                    <a:lnTo>
                      <a:pt x="5" y="392"/>
                    </a:lnTo>
                    <a:lnTo>
                      <a:pt x="5" y="387"/>
                    </a:lnTo>
                    <a:lnTo>
                      <a:pt x="5" y="392"/>
                    </a:lnTo>
                    <a:lnTo>
                      <a:pt x="5" y="387"/>
                    </a:lnTo>
                    <a:lnTo>
                      <a:pt x="5" y="382"/>
                    </a:lnTo>
                    <a:lnTo>
                      <a:pt x="5" y="387"/>
                    </a:lnTo>
                    <a:lnTo>
                      <a:pt x="5" y="377"/>
                    </a:lnTo>
                    <a:lnTo>
                      <a:pt x="5" y="387"/>
                    </a:lnTo>
                    <a:lnTo>
                      <a:pt x="10" y="392"/>
                    </a:lnTo>
                    <a:lnTo>
                      <a:pt x="10" y="387"/>
                    </a:lnTo>
                    <a:lnTo>
                      <a:pt x="10" y="392"/>
                    </a:lnTo>
                    <a:lnTo>
                      <a:pt x="10" y="387"/>
                    </a:lnTo>
                    <a:lnTo>
                      <a:pt x="10" y="392"/>
                    </a:lnTo>
                    <a:lnTo>
                      <a:pt x="10" y="387"/>
                    </a:lnTo>
                    <a:lnTo>
                      <a:pt x="10" y="392"/>
                    </a:lnTo>
                    <a:lnTo>
                      <a:pt x="10" y="387"/>
                    </a:lnTo>
                    <a:lnTo>
                      <a:pt x="10" y="382"/>
                    </a:lnTo>
                    <a:lnTo>
                      <a:pt x="16" y="387"/>
                    </a:lnTo>
                    <a:lnTo>
                      <a:pt x="16" y="382"/>
                    </a:lnTo>
                    <a:lnTo>
                      <a:pt x="16" y="387"/>
                    </a:lnTo>
                    <a:lnTo>
                      <a:pt x="16" y="382"/>
                    </a:lnTo>
                    <a:lnTo>
                      <a:pt x="16" y="387"/>
                    </a:lnTo>
                    <a:lnTo>
                      <a:pt x="16" y="382"/>
                    </a:lnTo>
                    <a:lnTo>
                      <a:pt x="16" y="387"/>
                    </a:lnTo>
                    <a:lnTo>
                      <a:pt x="16" y="392"/>
                    </a:lnTo>
                    <a:lnTo>
                      <a:pt x="16" y="387"/>
                    </a:lnTo>
                    <a:lnTo>
                      <a:pt x="16" y="382"/>
                    </a:lnTo>
                    <a:lnTo>
                      <a:pt x="16" y="387"/>
                    </a:lnTo>
                    <a:lnTo>
                      <a:pt x="16" y="382"/>
                    </a:lnTo>
                    <a:lnTo>
                      <a:pt x="16" y="387"/>
                    </a:lnTo>
                    <a:lnTo>
                      <a:pt x="16" y="392"/>
                    </a:lnTo>
                    <a:lnTo>
                      <a:pt x="16" y="387"/>
                    </a:lnTo>
                    <a:lnTo>
                      <a:pt x="16" y="392"/>
                    </a:lnTo>
                    <a:lnTo>
                      <a:pt x="21" y="387"/>
                    </a:lnTo>
                    <a:lnTo>
                      <a:pt x="21" y="392"/>
                    </a:lnTo>
                    <a:lnTo>
                      <a:pt x="21" y="382"/>
                    </a:lnTo>
                    <a:lnTo>
                      <a:pt x="21" y="387"/>
                    </a:lnTo>
                    <a:lnTo>
                      <a:pt x="21" y="382"/>
                    </a:lnTo>
                    <a:lnTo>
                      <a:pt x="21" y="387"/>
                    </a:lnTo>
                    <a:lnTo>
                      <a:pt x="21" y="392"/>
                    </a:lnTo>
                    <a:lnTo>
                      <a:pt x="21" y="387"/>
                    </a:lnTo>
                    <a:lnTo>
                      <a:pt x="21" y="392"/>
                    </a:lnTo>
                    <a:lnTo>
                      <a:pt x="21" y="387"/>
                    </a:lnTo>
                    <a:lnTo>
                      <a:pt x="21" y="362"/>
                    </a:lnTo>
                    <a:lnTo>
                      <a:pt x="21" y="387"/>
                    </a:lnTo>
                    <a:lnTo>
                      <a:pt x="26" y="392"/>
                    </a:lnTo>
                    <a:lnTo>
                      <a:pt x="26" y="387"/>
                    </a:lnTo>
                    <a:lnTo>
                      <a:pt x="26" y="372"/>
                    </a:lnTo>
                    <a:lnTo>
                      <a:pt x="26" y="387"/>
                    </a:lnTo>
                    <a:lnTo>
                      <a:pt x="26" y="357"/>
                    </a:lnTo>
                    <a:lnTo>
                      <a:pt x="26" y="387"/>
                    </a:lnTo>
                    <a:lnTo>
                      <a:pt x="26" y="392"/>
                    </a:lnTo>
                    <a:lnTo>
                      <a:pt x="26" y="387"/>
                    </a:lnTo>
                    <a:lnTo>
                      <a:pt x="26" y="377"/>
                    </a:lnTo>
                    <a:lnTo>
                      <a:pt x="26" y="387"/>
                    </a:lnTo>
                    <a:lnTo>
                      <a:pt x="26" y="372"/>
                    </a:lnTo>
                    <a:lnTo>
                      <a:pt x="26" y="387"/>
                    </a:lnTo>
                    <a:lnTo>
                      <a:pt x="31" y="387"/>
                    </a:lnTo>
                    <a:lnTo>
                      <a:pt x="31" y="241"/>
                    </a:lnTo>
                    <a:lnTo>
                      <a:pt x="31" y="387"/>
                    </a:lnTo>
                    <a:lnTo>
                      <a:pt x="31" y="382"/>
                    </a:lnTo>
                    <a:lnTo>
                      <a:pt x="31" y="387"/>
                    </a:lnTo>
                    <a:lnTo>
                      <a:pt x="31" y="392"/>
                    </a:lnTo>
                    <a:lnTo>
                      <a:pt x="31" y="387"/>
                    </a:lnTo>
                    <a:lnTo>
                      <a:pt x="31" y="392"/>
                    </a:lnTo>
                    <a:lnTo>
                      <a:pt x="31" y="387"/>
                    </a:lnTo>
                    <a:lnTo>
                      <a:pt x="31" y="382"/>
                    </a:lnTo>
                    <a:lnTo>
                      <a:pt x="31" y="387"/>
                    </a:lnTo>
                    <a:lnTo>
                      <a:pt x="31" y="392"/>
                    </a:lnTo>
                    <a:lnTo>
                      <a:pt x="31" y="387"/>
                    </a:lnTo>
                    <a:lnTo>
                      <a:pt x="31" y="382"/>
                    </a:lnTo>
                    <a:lnTo>
                      <a:pt x="31" y="387"/>
                    </a:lnTo>
                    <a:lnTo>
                      <a:pt x="31" y="382"/>
                    </a:lnTo>
                    <a:lnTo>
                      <a:pt x="31" y="387"/>
                    </a:lnTo>
                    <a:lnTo>
                      <a:pt x="31" y="382"/>
                    </a:lnTo>
                    <a:lnTo>
                      <a:pt x="36" y="387"/>
                    </a:lnTo>
                    <a:lnTo>
                      <a:pt x="36" y="372"/>
                    </a:lnTo>
                    <a:lnTo>
                      <a:pt x="36" y="387"/>
                    </a:lnTo>
                    <a:lnTo>
                      <a:pt x="36" y="367"/>
                    </a:lnTo>
                    <a:lnTo>
                      <a:pt x="36" y="382"/>
                    </a:lnTo>
                    <a:lnTo>
                      <a:pt x="36" y="387"/>
                    </a:lnTo>
                    <a:lnTo>
                      <a:pt x="36" y="392"/>
                    </a:lnTo>
                    <a:lnTo>
                      <a:pt x="36" y="387"/>
                    </a:lnTo>
                    <a:lnTo>
                      <a:pt x="36" y="382"/>
                    </a:lnTo>
                    <a:lnTo>
                      <a:pt x="36" y="387"/>
                    </a:lnTo>
                    <a:lnTo>
                      <a:pt x="36" y="382"/>
                    </a:lnTo>
                    <a:lnTo>
                      <a:pt x="41" y="387"/>
                    </a:lnTo>
                    <a:lnTo>
                      <a:pt x="41" y="392"/>
                    </a:lnTo>
                    <a:lnTo>
                      <a:pt x="41" y="387"/>
                    </a:lnTo>
                    <a:lnTo>
                      <a:pt x="41" y="392"/>
                    </a:lnTo>
                    <a:lnTo>
                      <a:pt x="41" y="387"/>
                    </a:lnTo>
                    <a:lnTo>
                      <a:pt x="41" y="392"/>
                    </a:lnTo>
                    <a:lnTo>
                      <a:pt x="41" y="387"/>
                    </a:lnTo>
                    <a:lnTo>
                      <a:pt x="41" y="392"/>
                    </a:lnTo>
                    <a:lnTo>
                      <a:pt x="41" y="387"/>
                    </a:lnTo>
                    <a:lnTo>
                      <a:pt x="41" y="362"/>
                    </a:lnTo>
                    <a:lnTo>
                      <a:pt x="41" y="387"/>
                    </a:lnTo>
                    <a:lnTo>
                      <a:pt x="41" y="392"/>
                    </a:lnTo>
                    <a:lnTo>
                      <a:pt x="41" y="387"/>
                    </a:lnTo>
                    <a:lnTo>
                      <a:pt x="41" y="382"/>
                    </a:lnTo>
                    <a:lnTo>
                      <a:pt x="41" y="387"/>
                    </a:lnTo>
                    <a:lnTo>
                      <a:pt x="41" y="382"/>
                    </a:lnTo>
                    <a:lnTo>
                      <a:pt x="46" y="387"/>
                    </a:lnTo>
                    <a:lnTo>
                      <a:pt x="46" y="382"/>
                    </a:lnTo>
                    <a:lnTo>
                      <a:pt x="46" y="387"/>
                    </a:lnTo>
                    <a:lnTo>
                      <a:pt x="46" y="377"/>
                    </a:lnTo>
                    <a:lnTo>
                      <a:pt x="46" y="387"/>
                    </a:lnTo>
                    <a:lnTo>
                      <a:pt x="46" y="392"/>
                    </a:lnTo>
                    <a:lnTo>
                      <a:pt x="46" y="387"/>
                    </a:lnTo>
                    <a:lnTo>
                      <a:pt x="46" y="392"/>
                    </a:lnTo>
                    <a:lnTo>
                      <a:pt x="46" y="387"/>
                    </a:lnTo>
                    <a:lnTo>
                      <a:pt x="46" y="382"/>
                    </a:lnTo>
                    <a:lnTo>
                      <a:pt x="51" y="387"/>
                    </a:lnTo>
                    <a:lnTo>
                      <a:pt x="51" y="392"/>
                    </a:lnTo>
                    <a:lnTo>
                      <a:pt x="51" y="387"/>
                    </a:lnTo>
                    <a:lnTo>
                      <a:pt x="51" y="392"/>
                    </a:lnTo>
                    <a:lnTo>
                      <a:pt x="51" y="387"/>
                    </a:lnTo>
                    <a:lnTo>
                      <a:pt x="51" y="372"/>
                    </a:lnTo>
                    <a:lnTo>
                      <a:pt x="51" y="387"/>
                    </a:lnTo>
                    <a:lnTo>
                      <a:pt x="51" y="382"/>
                    </a:lnTo>
                    <a:lnTo>
                      <a:pt x="51" y="387"/>
                    </a:lnTo>
                    <a:lnTo>
                      <a:pt x="51" y="392"/>
                    </a:lnTo>
                    <a:lnTo>
                      <a:pt x="51" y="387"/>
                    </a:lnTo>
                    <a:lnTo>
                      <a:pt x="51" y="382"/>
                    </a:lnTo>
                    <a:lnTo>
                      <a:pt x="51" y="387"/>
                    </a:lnTo>
                    <a:lnTo>
                      <a:pt x="51" y="382"/>
                    </a:lnTo>
                    <a:lnTo>
                      <a:pt x="51" y="387"/>
                    </a:lnTo>
                    <a:lnTo>
                      <a:pt x="51" y="382"/>
                    </a:lnTo>
                    <a:lnTo>
                      <a:pt x="51" y="387"/>
                    </a:lnTo>
                    <a:lnTo>
                      <a:pt x="51" y="392"/>
                    </a:lnTo>
                    <a:lnTo>
                      <a:pt x="51" y="387"/>
                    </a:lnTo>
                    <a:lnTo>
                      <a:pt x="51" y="377"/>
                    </a:lnTo>
                    <a:lnTo>
                      <a:pt x="51" y="387"/>
                    </a:lnTo>
                    <a:lnTo>
                      <a:pt x="51" y="382"/>
                    </a:lnTo>
                    <a:lnTo>
                      <a:pt x="56" y="387"/>
                    </a:lnTo>
                    <a:lnTo>
                      <a:pt x="56" y="392"/>
                    </a:lnTo>
                    <a:lnTo>
                      <a:pt x="56" y="387"/>
                    </a:lnTo>
                    <a:lnTo>
                      <a:pt x="56" y="392"/>
                    </a:lnTo>
                    <a:lnTo>
                      <a:pt x="56" y="387"/>
                    </a:lnTo>
                    <a:lnTo>
                      <a:pt x="56" y="382"/>
                    </a:lnTo>
                    <a:lnTo>
                      <a:pt x="56" y="387"/>
                    </a:lnTo>
                    <a:lnTo>
                      <a:pt x="56" y="377"/>
                    </a:lnTo>
                    <a:lnTo>
                      <a:pt x="56" y="387"/>
                    </a:lnTo>
                    <a:lnTo>
                      <a:pt x="56" y="392"/>
                    </a:lnTo>
                    <a:lnTo>
                      <a:pt x="56" y="387"/>
                    </a:lnTo>
                    <a:lnTo>
                      <a:pt x="56" y="367"/>
                    </a:lnTo>
                    <a:lnTo>
                      <a:pt x="56" y="392"/>
                    </a:lnTo>
                    <a:lnTo>
                      <a:pt x="56" y="387"/>
                    </a:lnTo>
                    <a:lnTo>
                      <a:pt x="56" y="382"/>
                    </a:lnTo>
                    <a:lnTo>
                      <a:pt x="56" y="387"/>
                    </a:lnTo>
                    <a:lnTo>
                      <a:pt x="56" y="337"/>
                    </a:lnTo>
                    <a:lnTo>
                      <a:pt x="56" y="387"/>
                    </a:lnTo>
                    <a:lnTo>
                      <a:pt x="56" y="392"/>
                    </a:lnTo>
                    <a:lnTo>
                      <a:pt x="56" y="387"/>
                    </a:lnTo>
                    <a:lnTo>
                      <a:pt x="56" y="377"/>
                    </a:lnTo>
                    <a:lnTo>
                      <a:pt x="56" y="387"/>
                    </a:lnTo>
                    <a:lnTo>
                      <a:pt x="56" y="392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61" y="387"/>
                    </a:lnTo>
                    <a:lnTo>
                      <a:pt x="61" y="367"/>
                    </a:lnTo>
                    <a:lnTo>
                      <a:pt x="61" y="387"/>
                    </a:lnTo>
                    <a:lnTo>
                      <a:pt x="61" y="352"/>
                    </a:lnTo>
                    <a:lnTo>
                      <a:pt x="61" y="387"/>
                    </a:lnTo>
                    <a:lnTo>
                      <a:pt x="61" y="362"/>
                    </a:lnTo>
                    <a:lnTo>
                      <a:pt x="61" y="387"/>
                    </a:lnTo>
                    <a:lnTo>
                      <a:pt x="61" y="362"/>
                    </a:lnTo>
                    <a:lnTo>
                      <a:pt x="61" y="387"/>
                    </a:lnTo>
                    <a:lnTo>
                      <a:pt x="61" y="377"/>
                    </a:lnTo>
                    <a:lnTo>
                      <a:pt x="61" y="387"/>
                    </a:lnTo>
                    <a:lnTo>
                      <a:pt x="61" y="382"/>
                    </a:lnTo>
                    <a:lnTo>
                      <a:pt x="66" y="387"/>
                    </a:lnTo>
                    <a:lnTo>
                      <a:pt x="66" y="382"/>
                    </a:lnTo>
                    <a:lnTo>
                      <a:pt x="66" y="387"/>
                    </a:lnTo>
                    <a:lnTo>
                      <a:pt x="66" y="392"/>
                    </a:lnTo>
                    <a:lnTo>
                      <a:pt x="66" y="387"/>
                    </a:lnTo>
                    <a:lnTo>
                      <a:pt x="66" y="392"/>
                    </a:lnTo>
                    <a:lnTo>
                      <a:pt x="66" y="387"/>
                    </a:lnTo>
                    <a:lnTo>
                      <a:pt x="66" y="342"/>
                    </a:lnTo>
                    <a:lnTo>
                      <a:pt x="66" y="387"/>
                    </a:lnTo>
                    <a:lnTo>
                      <a:pt x="66" y="372"/>
                    </a:lnTo>
                    <a:lnTo>
                      <a:pt x="66" y="387"/>
                    </a:lnTo>
                    <a:lnTo>
                      <a:pt x="71" y="387"/>
                    </a:lnTo>
                    <a:lnTo>
                      <a:pt x="71" y="377"/>
                    </a:lnTo>
                    <a:lnTo>
                      <a:pt x="71" y="387"/>
                    </a:lnTo>
                    <a:lnTo>
                      <a:pt x="71" y="382"/>
                    </a:lnTo>
                    <a:lnTo>
                      <a:pt x="71" y="387"/>
                    </a:lnTo>
                    <a:lnTo>
                      <a:pt x="71" y="392"/>
                    </a:lnTo>
                    <a:lnTo>
                      <a:pt x="71" y="387"/>
                    </a:lnTo>
                    <a:lnTo>
                      <a:pt x="71" y="382"/>
                    </a:lnTo>
                    <a:lnTo>
                      <a:pt x="71" y="387"/>
                    </a:lnTo>
                    <a:lnTo>
                      <a:pt x="71" y="382"/>
                    </a:lnTo>
                    <a:lnTo>
                      <a:pt x="71" y="387"/>
                    </a:lnTo>
                    <a:lnTo>
                      <a:pt x="71" y="357"/>
                    </a:lnTo>
                    <a:lnTo>
                      <a:pt x="71" y="387"/>
                    </a:lnTo>
                    <a:lnTo>
                      <a:pt x="71" y="392"/>
                    </a:lnTo>
                    <a:lnTo>
                      <a:pt x="76" y="387"/>
                    </a:lnTo>
                    <a:lnTo>
                      <a:pt x="76" y="382"/>
                    </a:lnTo>
                    <a:lnTo>
                      <a:pt x="76" y="387"/>
                    </a:lnTo>
                    <a:lnTo>
                      <a:pt x="76" y="382"/>
                    </a:lnTo>
                    <a:lnTo>
                      <a:pt x="76" y="387"/>
                    </a:lnTo>
                    <a:lnTo>
                      <a:pt x="76" y="382"/>
                    </a:lnTo>
                    <a:lnTo>
                      <a:pt x="76" y="387"/>
                    </a:lnTo>
                    <a:lnTo>
                      <a:pt x="76" y="377"/>
                    </a:lnTo>
                    <a:lnTo>
                      <a:pt x="76" y="392"/>
                    </a:lnTo>
                    <a:lnTo>
                      <a:pt x="76" y="382"/>
                    </a:lnTo>
                    <a:lnTo>
                      <a:pt x="76" y="387"/>
                    </a:lnTo>
                    <a:lnTo>
                      <a:pt x="76" y="377"/>
                    </a:lnTo>
                    <a:lnTo>
                      <a:pt x="76" y="387"/>
                    </a:lnTo>
                    <a:lnTo>
                      <a:pt x="76" y="392"/>
                    </a:lnTo>
                    <a:lnTo>
                      <a:pt x="76" y="387"/>
                    </a:lnTo>
                    <a:lnTo>
                      <a:pt x="76" y="382"/>
                    </a:lnTo>
                    <a:lnTo>
                      <a:pt x="76" y="387"/>
                    </a:lnTo>
                    <a:lnTo>
                      <a:pt x="76" y="392"/>
                    </a:lnTo>
                    <a:lnTo>
                      <a:pt x="81" y="387"/>
                    </a:lnTo>
                    <a:lnTo>
                      <a:pt x="81" y="211"/>
                    </a:lnTo>
                    <a:lnTo>
                      <a:pt x="81" y="387"/>
                    </a:lnTo>
                    <a:lnTo>
                      <a:pt x="81" y="392"/>
                    </a:lnTo>
                    <a:lnTo>
                      <a:pt x="81" y="387"/>
                    </a:lnTo>
                    <a:lnTo>
                      <a:pt x="81" y="342"/>
                    </a:lnTo>
                    <a:lnTo>
                      <a:pt x="81" y="392"/>
                    </a:lnTo>
                    <a:lnTo>
                      <a:pt x="81" y="387"/>
                    </a:lnTo>
                    <a:lnTo>
                      <a:pt x="81" y="392"/>
                    </a:lnTo>
                    <a:lnTo>
                      <a:pt x="81" y="377"/>
                    </a:lnTo>
                    <a:lnTo>
                      <a:pt x="81" y="387"/>
                    </a:lnTo>
                    <a:lnTo>
                      <a:pt x="81" y="382"/>
                    </a:lnTo>
                    <a:lnTo>
                      <a:pt x="81" y="387"/>
                    </a:lnTo>
                    <a:lnTo>
                      <a:pt x="81" y="362"/>
                    </a:lnTo>
                    <a:lnTo>
                      <a:pt x="81" y="387"/>
                    </a:lnTo>
                    <a:lnTo>
                      <a:pt x="86" y="382"/>
                    </a:lnTo>
                    <a:lnTo>
                      <a:pt x="86" y="377"/>
                    </a:lnTo>
                    <a:lnTo>
                      <a:pt x="86" y="387"/>
                    </a:lnTo>
                    <a:lnTo>
                      <a:pt x="86" y="382"/>
                    </a:lnTo>
                    <a:lnTo>
                      <a:pt x="86" y="387"/>
                    </a:lnTo>
                    <a:lnTo>
                      <a:pt x="86" y="382"/>
                    </a:lnTo>
                    <a:lnTo>
                      <a:pt x="86" y="387"/>
                    </a:lnTo>
                    <a:lnTo>
                      <a:pt x="86" y="392"/>
                    </a:lnTo>
                    <a:lnTo>
                      <a:pt x="86" y="387"/>
                    </a:lnTo>
                    <a:lnTo>
                      <a:pt x="86" y="382"/>
                    </a:lnTo>
                    <a:lnTo>
                      <a:pt x="86" y="387"/>
                    </a:lnTo>
                    <a:lnTo>
                      <a:pt x="86" y="367"/>
                    </a:lnTo>
                    <a:lnTo>
                      <a:pt x="86" y="387"/>
                    </a:lnTo>
                    <a:lnTo>
                      <a:pt x="91" y="387"/>
                    </a:lnTo>
                    <a:lnTo>
                      <a:pt x="91" y="352"/>
                    </a:lnTo>
                    <a:lnTo>
                      <a:pt x="91" y="387"/>
                    </a:lnTo>
                    <a:lnTo>
                      <a:pt x="91" y="231"/>
                    </a:lnTo>
                    <a:lnTo>
                      <a:pt x="91" y="387"/>
                    </a:lnTo>
                    <a:lnTo>
                      <a:pt x="91" y="377"/>
                    </a:lnTo>
                    <a:lnTo>
                      <a:pt x="91" y="387"/>
                    </a:lnTo>
                    <a:lnTo>
                      <a:pt x="91" y="357"/>
                    </a:lnTo>
                    <a:lnTo>
                      <a:pt x="91" y="387"/>
                    </a:lnTo>
                    <a:lnTo>
                      <a:pt x="91" y="392"/>
                    </a:lnTo>
                    <a:lnTo>
                      <a:pt x="96" y="387"/>
                    </a:lnTo>
                    <a:lnTo>
                      <a:pt x="96" y="362"/>
                    </a:lnTo>
                    <a:lnTo>
                      <a:pt x="96" y="387"/>
                    </a:lnTo>
                    <a:lnTo>
                      <a:pt x="96" y="382"/>
                    </a:lnTo>
                    <a:lnTo>
                      <a:pt x="96" y="387"/>
                    </a:lnTo>
                    <a:lnTo>
                      <a:pt x="96" y="382"/>
                    </a:lnTo>
                    <a:lnTo>
                      <a:pt x="96" y="387"/>
                    </a:lnTo>
                    <a:lnTo>
                      <a:pt x="96" y="392"/>
                    </a:lnTo>
                    <a:lnTo>
                      <a:pt x="96" y="387"/>
                    </a:lnTo>
                    <a:lnTo>
                      <a:pt x="96" y="392"/>
                    </a:lnTo>
                    <a:lnTo>
                      <a:pt x="101" y="387"/>
                    </a:lnTo>
                    <a:lnTo>
                      <a:pt x="101" y="392"/>
                    </a:lnTo>
                    <a:lnTo>
                      <a:pt x="101" y="387"/>
                    </a:lnTo>
                    <a:lnTo>
                      <a:pt x="101" y="382"/>
                    </a:lnTo>
                    <a:lnTo>
                      <a:pt x="101" y="387"/>
                    </a:lnTo>
                    <a:lnTo>
                      <a:pt x="101" y="392"/>
                    </a:lnTo>
                    <a:lnTo>
                      <a:pt x="101" y="387"/>
                    </a:lnTo>
                    <a:lnTo>
                      <a:pt x="101" y="392"/>
                    </a:lnTo>
                    <a:lnTo>
                      <a:pt x="101" y="387"/>
                    </a:lnTo>
                    <a:lnTo>
                      <a:pt x="101" y="392"/>
                    </a:lnTo>
                    <a:lnTo>
                      <a:pt x="101" y="387"/>
                    </a:lnTo>
                    <a:lnTo>
                      <a:pt x="101" y="382"/>
                    </a:lnTo>
                    <a:lnTo>
                      <a:pt x="106" y="387"/>
                    </a:lnTo>
                    <a:lnTo>
                      <a:pt x="106" y="382"/>
                    </a:lnTo>
                    <a:lnTo>
                      <a:pt x="106" y="392"/>
                    </a:lnTo>
                    <a:lnTo>
                      <a:pt x="106" y="387"/>
                    </a:lnTo>
                    <a:lnTo>
                      <a:pt x="106" y="392"/>
                    </a:lnTo>
                    <a:lnTo>
                      <a:pt x="106" y="387"/>
                    </a:lnTo>
                    <a:lnTo>
                      <a:pt x="106" y="382"/>
                    </a:lnTo>
                    <a:lnTo>
                      <a:pt x="106" y="387"/>
                    </a:lnTo>
                    <a:lnTo>
                      <a:pt x="106" y="377"/>
                    </a:lnTo>
                    <a:lnTo>
                      <a:pt x="106" y="382"/>
                    </a:lnTo>
                    <a:lnTo>
                      <a:pt x="106" y="387"/>
                    </a:lnTo>
                    <a:lnTo>
                      <a:pt x="106" y="392"/>
                    </a:lnTo>
                    <a:lnTo>
                      <a:pt x="106" y="387"/>
                    </a:lnTo>
                    <a:lnTo>
                      <a:pt x="106" y="382"/>
                    </a:lnTo>
                    <a:lnTo>
                      <a:pt x="106" y="387"/>
                    </a:lnTo>
                    <a:lnTo>
                      <a:pt x="106" y="382"/>
                    </a:lnTo>
                    <a:lnTo>
                      <a:pt x="106" y="387"/>
                    </a:lnTo>
                    <a:lnTo>
                      <a:pt x="106" y="372"/>
                    </a:lnTo>
                    <a:lnTo>
                      <a:pt x="111" y="387"/>
                    </a:lnTo>
                    <a:lnTo>
                      <a:pt x="111" y="392"/>
                    </a:lnTo>
                    <a:lnTo>
                      <a:pt x="111" y="387"/>
                    </a:lnTo>
                    <a:lnTo>
                      <a:pt x="111" y="392"/>
                    </a:lnTo>
                    <a:lnTo>
                      <a:pt x="111" y="382"/>
                    </a:lnTo>
                    <a:lnTo>
                      <a:pt x="116" y="387"/>
                    </a:lnTo>
                    <a:lnTo>
                      <a:pt x="116" y="382"/>
                    </a:lnTo>
                    <a:lnTo>
                      <a:pt x="116" y="387"/>
                    </a:lnTo>
                    <a:lnTo>
                      <a:pt x="116" y="382"/>
                    </a:lnTo>
                    <a:lnTo>
                      <a:pt x="116" y="387"/>
                    </a:lnTo>
                    <a:lnTo>
                      <a:pt x="116" y="392"/>
                    </a:lnTo>
                    <a:lnTo>
                      <a:pt x="121" y="387"/>
                    </a:lnTo>
                    <a:lnTo>
                      <a:pt x="121" y="382"/>
                    </a:lnTo>
                    <a:lnTo>
                      <a:pt x="121" y="387"/>
                    </a:lnTo>
                    <a:lnTo>
                      <a:pt x="121" y="382"/>
                    </a:lnTo>
                    <a:lnTo>
                      <a:pt x="126" y="387"/>
                    </a:lnTo>
                    <a:lnTo>
                      <a:pt x="126" y="382"/>
                    </a:lnTo>
                    <a:lnTo>
                      <a:pt x="126" y="387"/>
                    </a:lnTo>
                    <a:lnTo>
                      <a:pt x="126" y="382"/>
                    </a:lnTo>
                    <a:lnTo>
                      <a:pt x="126" y="387"/>
                    </a:lnTo>
                    <a:lnTo>
                      <a:pt x="126" y="377"/>
                    </a:lnTo>
                    <a:lnTo>
                      <a:pt x="126" y="387"/>
                    </a:lnTo>
                    <a:lnTo>
                      <a:pt x="126" y="377"/>
                    </a:lnTo>
                    <a:lnTo>
                      <a:pt x="126" y="387"/>
                    </a:lnTo>
                    <a:lnTo>
                      <a:pt x="131" y="382"/>
                    </a:lnTo>
                    <a:lnTo>
                      <a:pt x="131" y="387"/>
                    </a:lnTo>
                    <a:lnTo>
                      <a:pt x="131" y="382"/>
                    </a:lnTo>
                    <a:lnTo>
                      <a:pt x="136" y="387"/>
                    </a:lnTo>
                    <a:lnTo>
                      <a:pt x="136" y="392"/>
                    </a:lnTo>
                    <a:lnTo>
                      <a:pt x="136" y="387"/>
                    </a:lnTo>
                    <a:lnTo>
                      <a:pt x="136" y="382"/>
                    </a:lnTo>
                    <a:lnTo>
                      <a:pt x="136" y="387"/>
                    </a:lnTo>
                    <a:lnTo>
                      <a:pt x="136" y="392"/>
                    </a:lnTo>
                    <a:lnTo>
                      <a:pt x="136" y="387"/>
                    </a:lnTo>
                    <a:lnTo>
                      <a:pt x="136" y="382"/>
                    </a:lnTo>
                    <a:lnTo>
                      <a:pt x="136" y="387"/>
                    </a:lnTo>
                    <a:lnTo>
                      <a:pt x="136" y="382"/>
                    </a:lnTo>
                    <a:lnTo>
                      <a:pt x="136" y="377"/>
                    </a:lnTo>
                    <a:lnTo>
                      <a:pt x="136" y="382"/>
                    </a:lnTo>
                    <a:lnTo>
                      <a:pt x="136" y="387"/>
                    </a:lnTo>
                    <a:lnTo>
                      <a:pt x="136" y="382"/>
                    </a:lnTo>
                    <a:lnTo>
                      <a:pt x="136" y="387"/>
                    </a:lnTo>
                    <a:lnTo>
                      <a:pt x="136" y="382"/>
                    </a:lnTo>
                    <a:lnTo>
                      <a:pt x="141" y="387"/>
                    </a:lnTo>
                    <a:lnTo>
                      <a:pt x="141" y="382"/>
                    </a:lnTo>
                    <a:lnTo>
                      <a:pt x="141" y="387"/>
                    </a:lnTo>
                    <a:lnTo>
                      <a:pt x="141" y="382"/>
                    </a:lnTo>
                    <a:lnTo>
                      <a:pt x="141" y="387"/>
                    </a:lnTo>
                    <a:lnTo>
                      <a:pt x="141" y="392"/>
                    </a:lnTo>
                    <a:lnTo>
                      <a:pt x="141" y="387"/>
                    </a:lnTo>
                    <a:lnTo>
                      <a:pt x="141" y="392"/>
                    </a:lnTo>
                    <a:lnTo>
                      <a:pt x="141" y="387"/>
                    </a:lnTo>
                    <a:lnTo>
                      <a:pt x="141" y="392"/>
                    </a:lnTo>
                    <a:lnTo>
                      <a:pt x="141" y="387"/>
                    </a:lnTo>
                    <a:lnTo>
                      <a:pt x="141" y="392"/>
                    </a:lnTo>
                    <a:lnTo>
                      <a:pt x="141" y="387"/>
                    </a:lnTo>
                    <a:lnTo>
                      <a:pt x="141" y="392"/>
                    </a:lnTo>
                    <a:lnTo>
                      <a:pt x="146" y="387"/>
                    </a:lnTo>
                    <a:lnTo>
                      <a:pt x="146" y="392"/>
                    </a:lnTo>
                    <a:lnTo>
                      <a:pt x="146" y="387"/>
                    </a:lnTo>
                    <a:lnTo>
                      <a:pt x="146" y="392"/>
                    </a:lnTo>
                    <a:lnTo>
                      <a:pt x="146" y="387"/>
                    </a:lnTo>
                    <a:lnTo>
                      <a:pt x="146" y="382"/>
                    </a:lnTo>
                    <a:lnTo>
                      <a:pt x="146" y="387"/>
                    </a:lnTo>
                    <a:lnTo>
                      <a:pt x="146" y="392"/>
                    </a:lnTo>
                    <a:lnTo>
                      <a:pt x="146" y="387"/>
                    </a:lnTo>
                    <a:lnTo>
                      <a:pt x="146" y="382"/>
                    </a:lnTo>
                    <a:lnTo>
                      <a:pt x="146" y="392"/>
                    </a:lnTo>
                    <a:lnTo>
                      <a:pt x="146" y="387"/>
                    </a:lnTo>
                    <a:lnTo>
                      <a:pt x="146" y="382"/>
                    </a:lnTo>
                    <a:lnTo>
                      <a:pt x="146" y="387"/>
                    </a:lnTo>
                    <a:lnTo>
                      <a:pt x="146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7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82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8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1" y="387"/>
                    </a:lnTo>
                    <a:lnTo>
                      <a:pt x="151" y="39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57" y="382"/>
                    </a:lnTo>
                    <a:lnTo>
                      <a:pt x="157" y="392"/>
                    </a:lnTo>
                    <a:lnTo>
                      <a:pt x="157" y="387"/>
                    </a:lnTo>
                    <a:lnTo>
                      <a:pt x="157" y="38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57" y="387"/>
                    </a:lnTo>
                    <a:lnTo>
                      <a:pt x="157" y="38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57" y="387"/>
                    </a:lnTo>
                    <a:lnTo>
                      <a:pt x="157" y="392"/>
                    </a:lnTo>
                    <a:lnTo>
                      <a:pt x="162" y="387"/>
                    </a:lnTo>
                    <a:lnTo>
                      <a:pt x="162" y="392"/>
                    </a:lnTo>
                    <a:lnTo>
                      <a:pt x="162" y="387"/>
                    </a:lnTo>
                    <a:lnTo>
                      <a:pt x="162" y="382"/>
                    </a:lnTo>
                    <a:lnTo>
                      <a:pt x="162" y="387"/>
                    </a:lnTo>
                    <a:lnTo>
                      <a:pt x="162" y="392"/>
                    </a:lnTo>
                    <a:lnTo>
                      <a:pt x="167" y="387"/>
                    </a:lnTo>
                    <a:lnTo>
                      <a:pt x="167" y="392"/>
                    </a:lnTo>
                    <a:lnTo>
                      <a:pt x="167" y="387"/>
                    </a:lnTo>
                    <a:lnTo>
                      <a:pt x="167" y="392"/>
                    </a:lnTo>
                    <a:lnTo>
                      <a:pt x="167" y="387"/>
                    </a:lnTo>
                    <a:lnTo>
                      <a:pt x="167" y="392"/>
                    </a:lnTo>
                    <a:lnTo>
                      <a:pt x="167" y="387"/>
                    </a:lnTo>
                    <a:lnTo>
                      <a:pt x="167" y="392"/>
                    </a:lnTo>
                    <a:lnTo>
                      <a:pt x="172" y="387"/>
                    </a:lnTo>
                    <a:lnTo>
                      <a:pt x="172" y="382"/>
                    </a:lnTo>
                    <a:lnTo>
                      <a:pt x="172" y="387"/>
                    </a:lnTo>
                    <a:lnTo>
                      <a:pt x="172" y="382"/>
                    </a:lnTo>
                    <a:lnTo>
                      <a:pt x="172" y="387"/>
                    </a:lnTo>
                    <a:lnTo>
                      <a:pt x="172" y="382"/>
                    </a:lnTo>
                    <a:lnTo>
                      <a:pt x="172" y="387"/>
                    </a:lnTo>
                    <a:lnTo>
                      <a:pt x="172" y="382"/>
                    </a:lnTo>
                    <a:lnTo>
                      <a:pt x="172" y="387"/>
                    </a:lnTo>
                    <a:lnTo>
                      <a:pt x="172" y="392"/>
                    </a:lnTo>
                    <a:lnTo>
                      <a:pt x="172" y="387"/>
                    </a:lnTo>
                    <a:lnTo>
                      <a:pt x="172" y="392"/>
                    </a:lnTo>
                    <a:lnTo>
                      <a:pt x="172" y="382"/>
                    </a:lnTo>
                    <a:lnTo>
                      <a:pt x="172" y="387"/>
                    </a:lnTo>
                    <a:lnTo>
                      <a:pt x="172" y="392"/>
                    </a:lnTo>
                    <a:lnTo>
                      <a:pt x="177" y="387"/>
                    </a:lnTo>
                    <a:lnTo>
                      <a:pt x="177" y="392"/>
                    </a:lnTo>
                    <a:lnTo>
                      <a:pt x="177" y="387"/>
                    </a:lnTo>
                    <a:lnTo>
                      <a:pt x="177" y="377"/>
                    </a:lnTo>
                    <a:lnTo>
                      <a:pt x="177" y="387"/>
                    </a:lnTo>
                    <a:lnTo>
                      <a:pt x="177" y="382"/>
                    </a:lnTo>
                    <a:lnTo>
                      <a:pt x="182" y="387"/>
                    </a:lnTo>
                    <a:lnTo>
                      <a:pt x="182" y="382"/>
                    </a:lnTo>
                    <a:lnTo>
                      <a:pt x="182" y="387"/>
                    </a:lnTo>
                    <a:lnTo>
                      <a:pt x="182" y="382"/>
                    </a:lnTo>
                    <a:lnTo>
                      <a:pt x="187" y="387"/>
                    </a:lnTo>
                    <a:lnTo>
                      <a:pt x="187" y="382"/>
                    </a:lnTo>
                    <a:lnTo>
                      <a:pt x="187" y="387"/>
                    </a:lnTo>
                    <a:lnTo>
                      <a:pt x="187" y="392"/>
                    </a:lnTo>
                    <a:lnTo>
                      <a:pt x="187" y="387"/>
                    </a:lnTo>
                    <a:lnTo>
                      <a:pt x="187" y="382"/>
                    </a:lnTo>
                    <a:lnTo>
                      <a:pt x="192" y="387"/>
                    </a:lnTo>
                    <a:lnTo>
                      <a:pt x="192" y="377"/>
                    </a:lnTo>
                    <a:lnTo>
                      <a:pt x="192" y="387"/>
                    </a:lnTo>
                    <a:lnTo>
                      <a:pt x="192" y="392"/>
                    </a:lnTo>
                    <a:lnTo>
                      <a:pt x="197" y="387"/>
                    </a:lnTo>
                    <a:lnTo>
                      <a:pt x="197" y="382"/>
                    </a:lnTo>
                    <a:lnTo>
                      <a:pt x="197" y="387"/>
                    </a:lnTo>
                    <a:lnTo>
                      <a:pt x="197" y="382"/>
                    </a:lnTo>
                    <a:lnTo>
                      <a:pt x="197" y="387"/>
                    </a:lnTo>
                    <a:lnTo>
                      <a:pt x="197" y="382"/>
                    </a:lnTo>
                    <a:lnTo>
                      <a:pt x="197" y="387"/>
                    </a:lnTo>
                    <a:lnTo>
                      <a:pt x="197" y="377"/>
                    </a:lnTo>
                    <a:lnTo>
                      <a:pt x="197" y="387"/>
                    </a:lnTo>
                    <a:lnTo>
                      <a:pt x="197" y="392"/>
                    </a:lnTo>
                    <a:lnTo>
                      <a:pt x="202" y="387"/>
                    </a:lnTo>
                    <a:lnTo>
                      <a:pt x="202" y="392"/>
                    </a:lnTo>
                    <a:lnTo>
                      <a:pt x="202" y="387"/>
                    </a:lnTo>
                    <a:lnTo>
                      <a:pt x="202" y="382"/>
                    </a:lnTo>
                    <a:lnTo>
                      <a:pt x="202" y="387"/>
                    </a:lnTo>
                    <a:lnTo>
                      <a:pt x="202" y="382"/>
                    </a:lnTo>
                    <a:lnTo>
                      <a:pt x="202" y="387"/>
                    </a:lnTo>
                    <a:lnTo>
                      <a:pt x="202" y="39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87"/>
                    </a:lnTo>
                    <a:lnTo>
                      <a:pt x="207" y="377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07" y="392"/>
                    </a:lnTo>
                    <a:lnTo>
                      <a:pt x="207" y="387"/>
                    </a:lnTo>
                    <a:lnTo>
                      <a:pt x="207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7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7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9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9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2" y="392"/>
                    </a:lnTo>
                    <a:lnTo>
                      <a:pt x="212" y="387"/>
                    </a:lnTo>
                    <a:lnTo>
                      <a:pt x="212" y="382"/>
                    </a:lnTo>
                    <a:lnTo>
                      <a:pt x="212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9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17" y="382"/>
                    </a:lnTo>
                    <a:lnTo>
                      <a:pt x="217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77"/>
                    </a:lnTo>
                    <a:lnTo>
                      <a:pt x="222" y="382"/>
                    </a:lnTo>
                    <a:lnTo>
                      <a:pt x="222" y="377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2" y="387"/>
                    </a:lnTo>
                    <a:lnTo>
                      <a:pt x="222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7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82"/>
                    </a:lnTo>
                    <a:lnTo>
                      <a:pt x="227" y="387"/>
                    </a:lnTo>
                    <a:lnTo>
                      <a:pt x="227" y="392"/>
                    </a:lnTo>
                    <a:lnTo>
                      <a:pt x="227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7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2" y="382"/>
                    </a:lnTo>
                    <a:lnTo>
                      <a:pt x="232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7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77"/>
                    </a:lnTo>
                    <a:lnTo>
                      <a:pt x="237" y="387"/>
                    </a:lnTo>
                    <a:lnTo>
                      <a:pt x="237" y="382"/>
                    </a:lnTo>
                    <a:lnTo>
                      <a:pt x="237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87"/>
                    </a:lnTo>
                    <a:lnTo>
                      <a:pt x="242" y="382"/>
                    </a:lnTo>
                    <a:lnTo>
                      <a:pt x="242" y="37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77"/>
                    </a:lnTo>
                    <a:lnTo>
                      <a:pt x="247" y="0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47" y="382"/>
                    </a:lnTo>
                    <a:lnTo>
                      <a:pt x="247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7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7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7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2" y="372"/>
                    </a:lnTo>
                    <a:lnTo>
                      <a:pt x="252" y="387"/>
                    </a:lnTo>
                    <a:lnTo>
                      <a:pt x="252" y="382"/>
                    </a:lnTo>
                    <a:lnTo>
                      <a:pt x="252" y="387"/>
                    </a:lnTo>
                    <a:lnTo>
                      <a:pt x="257" y="382"/>
                    </a:lnTo>
                    <a:lnTo>
                      <a:pt x="257" y="377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7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77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57" y="387"/>
                    </a:lnTo>
                    <a:lnTo>
                      <a:pt x="257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2" y="382"/>
                    </a:lnTo>
                    <a:lnTo>
                      <a:pt x="262" y="377"/>
                    </a:lnTo>
                    <a:lnTo>
                      <a:pt x="262" y="382"/>
                    </a:lnTo>
                    <a:lnTo>
                      <a:pt x="262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7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77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77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87"/>
                    </a:lnTo>
                    <a:lnTo>
                      <a:pt x="267" y="382"/>
                    </a:lnTo>
                    <a:lnTo>
                      <a:pt x="267" y="377"/>
                    </a:lnTo>
                    <a:lnTo>
                      <a:pt x="267" y="382"/>
                    </a:lnTo>
                    <a:lnTo>
                      <a:pt x="267" y="372"/>
                    </a:lnTo>
                    <a:lnTo>
                      <a:pt x="267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7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2" y="382"/>
                    </a:lnTo>
                    <a:lnTo>
                      <a:pt x="272" y="38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82"/>
                    </a:lnTo>
                    <a:lnTo>
                      <a:pt x="277" y="377"/>
                    </a:lnTo>
                    <a:lnTo>
                      <a:pt x="277" y="382"/>
                    </a:lnTo>
                    <a:lnTo>
                      <a:pt x="277" y="37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72"/>
                    </a:lnTo>
                    <a:lnTo>
                      <a:pt x="277" y="377"/>
                    </a:lnTo>
                    <a:lnTo>
                      <a:pt x="277" y="382"/>
                    </a:lnTo>
                    <a:lnTo>
                      <a:pt x="277" y="387"/>
                    </a:lnTo>
                    <a:lnTo>
                      <a:pt x="277" y="382"/>
                    </a:lnTo>
                    <a:lnTo>
                      <a:pt x="277" y="377"/>
                    </a:lnTo>
                    <a:lnTo>
                      <a:pt x="277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2" y="387"/>
                    </a:lnTo>
                    <a:lnTo>
                      <a:pt x="282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87" y="387"/>
                    </a:lnTo>
                    <a:lnTo>
                      <a:pt x="287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7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7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87"/>
                    </a:lnTo>
                    <a:lnTo>
                      <a:pt x="292" y="382"/>
                    </a:lnTo>
                    <a:lnTo>
                      <a:pt x="292" y="377"/>
                    </a:lnTo>
                    <a:lnTo>
                      <a:pt x="292" y="382"/>
                    </a:lnTo>
                    <a:lnTo>
                      <a:pt x="292" y="37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7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77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77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72"/>
                    </a:lnTo>
                    <a:lnTo>
                      <a:pt x="298" y="382"/>
                    </a:lnTo>
                    <a:lnTo>
                      <a:pt x="298" y="387"/>
                    </a:lnTo>
                    <a:lnTo>
                      <a:pt x="298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92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72"/>
                    </a:lnTo>
                    <a:lnTo>
                      <a:pt x="303" y="387"/>
                    </a:lnTo>
                    <a:lnTo>
                      <a:pt x="303" y="377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3" y="382"/>
                    </a:lnTo>
                    <a:lnTo>
                      <a:pt x="303" y="387"/>
                    </a:lnTo>
                    <a:lnTo>
                      <a:pt x="308" y="382"/>
                    </a:lnTo>
                    <a:lnTo>
                      <a:pt x="308" y="387"/>
                    </a:lnTo>
                    <a:lnTo>
                      <a:pt x="308" y="382"/>
                    </a:lnTo>
                    <a:lnTo>
                      <a:pt x="308" y="377"/>
                    </a:lnTo>
                    <a:lnTo>
                      <a:pt x="308" y="382"/>
                    </a:lnTo>
                    <a:lnTo>
                      <a:pt x="308" y="38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95920" y="3391560"/>
                <a:ext cx="42120" cy="91800"/>
              </a:xfrm>
              <a:custGeom>
                <a:avLst/>
                <a:gdLst/>
                <a:ahLst/>
                <a:rect l="l" t="t" r="r" b="b"/>
                <a:pathLst>
                  <a:path w="30" h="65">
                    <a:moveTo>
                      <a:pt x="0" y="60"/>
                    </a:move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5" y="6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50"/>
                    </a:lnTo>
                    <a:lnTo>
                      <a:pt x="5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45"/>
                    </a:lnTo>
                    <a:lnTo>
                      <a:pt x="10" y="5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0" y="55"/>
                    </a:lnTo>
                    <a:lnTo>
                      <a:pt x="10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55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20" y="45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5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0" y="60"/>
                    </a:lnTo>
                    <a:lnTo>
                      <a:pt x="20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50"/>
                    </a:lnTo>
                    <a:lnTo>
                      <a:pt x="25" y="55"/>
                    </a:lnTo>
                    <a:lnTo>
                      <a:pt x="25" y="5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0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25" y="55"/>
                    </a:lnTo>
                    <a:lnTo>
                      <a:pt x="25" y="60"/>
                    </a:lnTo>
                    <a:lnTo>
                      <a:pt x="30" y="55"/>
                    </a:lnTo>
                    <a:lnTo>
                      <a:pt x="30" y="60"/>
                    </a:lnTo>
                    <a:lnTo>
                      <a:pt x="30" y="55"/>
                    </a:lnTo>
                    <a:lnTo>
                      <a:pt x="30" y="50"/>
                    </a:lnTo>
                    <a:lnTo>
                      <a:pt x="30" y="55"/>
                    </a:lnTo>
                    <a:lnTo>
                      <a:pt x="30" y="6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18" name=""/>
          <p:cNvGraphicFramePr/>
          <p:nvPr/>
        </p:nvGraphicFramePr>
        <p:xfrm>
          <a:off x="171360" y="4952880"/>
          <a:ext cx="4262400" cy="776520"/>
        </p:xfrm>
        <a:graphic>
          <a:graphicData uri="http://schemas.openxmlformats.org/drawingml/2006/table">
            <a:tbl>
              <a:tblPr/>
              <a:tblGrid>
                <a:gridCol w="984240"/>
                <a:gridCol w="1054080"/>
                <a:gridCol w="1076400"/>
                <a:gridCol w="1147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ax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ín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ed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37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11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19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3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4781520" y="1276200"/>
            <a:ext cx="4114800" cy="3315240"/>
            <a:chOff x="4781520" y="1276200"/>
            <a:chExt cx="4114800" cy="3315240"/>
          </a:xfrm>
        </p:grpSpPr>
        <p:sp>
          <p:nvSpPr>
            <p:cNvPr id="220" name=""/>
            <p:cNvSpPr/>
            <p:nvPr/>
          </p:nvSpPr>
          <p:spPr>
            <a:xfrm>
              <a:off x="6325200" y="428616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Muestra (10</a:t>
              </a:r>
              <a:r>
                <a:rPr b="0" lang="es-MX" sz="2000" spc="-1" strike="noStrike" baseline="30000">
                  <a:solidFill>
                    <a:srgbClr val="3333cc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266800" y="1276200"/>
              <a:ext cx="3629520" cy="3026880"/>
              <a:chOff x="5266800" y="1276200"/>
              <a:chExt cx="3629520" cy="302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5715000" y="1276200"/>
                <a:ext cx="3181320" cy="250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46520" y="1511280"/>
                <a:ext cx="3181680" cy="25052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95920" y="1511280"/>
                <a:ext cx="3029040" cy="2505240"/>
              </a:xfrm>
              <a:custGeom>
                <a:avLst/>
                <a:gdLst/>
                <a:ahLst/>
                <a:rect l="l" t="t" r="r" b="b"/>
                <a:pathLst>
                  <a:path w="433" h="341">
                    <a:moveTo>
                      <a:pt x="0" y="341"/>
                    </a:moveTo>
                    <a:lnTo>
                      <a:pt x="433" y="341"/>
                    </a:lnTo>
                    <a:lnTo>
                      <a:pt x="4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5705280" y="1510920"/>
                <a:ext cx="1800" cy="250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5920" y="4016520"/>
                <a:ext cx="3032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705280" y="1510920"/>
                <a:ext cx="1800" cy="250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705280" y="398772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05280" y="15112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69640" y="40593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86600" y="398772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86600" y="1511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42240" y="4059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818400" y="398772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18400" y="1511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71240" y="40593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456320" y="398772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456320" y="15112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313760" y="4059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8088120" y="398772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88120" y="15112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41320" y="40593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8728200" y="398772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28200" y="1511280"/>
                <a:ext cx="14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583840" y="40593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699400" y="40165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266800" y="390060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-2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78280" y="365760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8699400" y="365760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66800" y="354168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-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78280" y="33037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8699400" y="33037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49040" y="31939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78280" y="294480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8699400" y="294480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34480" y="282888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78280" y="2584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8699400" y="2584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34480" y="246852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78280" y="222408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8699400" y="222408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34480" y="211464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78280" y="18716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8699400" y="18716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34480" y="176220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78280" y="151128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8699400" y="151128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4480" y="1401840"/>
                <a:ext cx="339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006600"/>
                    </a:solidFill>
                    <a:latin typeface="Arial"/>
                  </a:rPr>
                  <a:t>5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705280" y="1510920"/>
                <a:ext cx="1800" cy="2505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5715000" y="1635120"/>
                <a:ext cx="2916360" cy="2308320"/>
                <a:chOff x="5715000" y="1635120"/>
                <a:chExt cx="2916360" cy="2308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715000" y="1635120"/>
                  <a:ext cx="939600" cy="2182680"/>
                </a:xfrm>
                <a:custGeom>
                  <a:avLst/>
                  <a:gdLst/>
                  <a:ahLst/>
                  <a:rect l="l" t="t" r="r" b="b"/>
                  <a:pathLst>
                    <a:path w="592" h="1375">
                      <a:moveTo>
                        <a:pt x="0" y="968"/>
                      </a:moveTo>
                      <a:lnTo>
                        <a:pt x="0" y="972"/>
                      </a:lnTo>
                      <a:lnTo>
                        <a:pt x="0" y="968"/>
                      </a:lnTo>
                      <a:lnTo>
                        <a:pt x="5" y="972"/>
                      </a:lnTo>
                      <a:lnTo>
                        <a:pt x="5" y="977"/>
                      </a:lnTo>
                      <a:lnTo>
                        <a:pt x="5" y="986"/>
                      </a:lnTo>
                      <a:lnTo>
                        <a:pt x="5" y="991"/>
                      </a:lnTo>
                      <a:lnTo>
                        <a:pt x="5" y="995"/>
                      </a:lnTo>
                      <a:lnTo>
                        <a:pt x="5" y="1005"/>
                      </a:lnTo>
                      <a:lnTo>
                        <a:pt x="5" y="1009"/>
                      </a:lnTo>
                      <a:lnTo>
                        <a:pt x="5" y="1018"/>
                      </a:lnTo>
                      <a:lnTo>
                        <a:pt x="5" y="1028"/>
                      </a:lnTo>
                      <a:lnTo>
                        <a:pt x="5" y="1037"/>
                      </a:lnTo>
                      <a:lnTo>
                        <a:pt x="5" y="1042"/>
                      </a:lnTo>
                      <a:lnTo>
                        <a:pt x="5" y="1051"/>
                      </a:lnTo>
                      <a:lnTo>
                        <a:pt x="5" y="1055"/>
                      </a:lnTo>
                      <a:lnTo>
                        <a:pt x="5" y="1065"/>
                      </a:lnTo>
                      <a:lnTo>
                        <a:pt x="9" y="1065"/>
                      </a:lnTo>
                      <a:lnTo>
                        <a:pt x="9" y="1074"/>
                      </a:lnTo>
                      <a:lnTo>
                        <a:pt x="9" y="1079"/>
                      </a:lnTo>
                      <a:lnTo>
                        <a:pt x="9" y="1088"/>
                      </a:lnTo>
                      <a:lnTo>
                        <a:pt x="9" y="1097"/>
                      </a:lnTo>
                      <a:lnTo>
                        <a:pt x="9" y="1102"/>
                      </a:lnTo>
                      <a:lnTo>
                        <a:pt x="9" y="1106"/>
                      </a:lnTo>
                      <a:lnTo>
                        <a:pt x="9" y="1116"/>
                      </a:lnTo>
                      <a:lnTo>
                        <a:pt x="9" y="1125"/>
                      </a:lnTo>
                      <a:lnTo>
                        <a:pt x="9" y="1139"/>
                      </a:lnTo>
                      <a:lnTo>
                        <a:pt x="9" y="1148"/>
                      </a:lnTo>
                      <a:lnTo>
                        <a:pt x="9" y="1157"/>
                      </a:lnTo>
                      <a:lnTo>
                        <a:pt x="9" y="1167"/>
                      </a:lnTo>
                      <a:lnTo>
                        <a:pt x="9" y="1176"/>
                      </a:lnTo>
                      <a:lnTo>
                        <a:pt x="9" y="1185"/>
                      </a:lnTo>
                      <a:lnTo>
                        <a:pt x="9" y="1194"/>
                      </a:lnTo>
                      <a:lnTo>
                        <a:pt x="9" y="1208"/>
                      </a:lnTo>
                      <a:lnTo>
                        <a:pt x="9" y="1217"/>
                      </a:lnTo>
                      <a:lnTo>
                        <a:pt x="14" y="1217"/>
                      </a:lnTo>
                      <a:lnTo>
                        <a:pt x="14" y="1227"/>
                      </a:lnTo>
                      <a:lnTo>
                        <a:pt x="14" y="1236"/>
                      </a:lnTo>
                      <a:lnTo>
                        <a:pt x="14" y="1245"/>
                      </a:lnTo>
                      <a:lnTo>
                        <a:pt x="14" y="1250"/>
                      </a:lnTo>
                      <a:lnTo>
                        <a:pt x="14" y="1259"/>
                      </a:lnTo>
                      <a:lnTo>
                        <a:pt x="14" y="1273"/>
                      </a:lnTo>
                      <a:lnTo>
                        <a:pt x="14" y="1282"/>
                      </a:lnTo>
                      <a:lnTo>
                        <a:pt x="14" y="1287"/>
                      </a:lnTo>
                      <a:lnTo>
                        <a:pt x="14" y="1296"/>
                      </a:lnTo>
                      <a:lnTo>
                        <a:pt x="14" y="1287"/>
                      </a:lnTo>
                      <a:lnTo>
                        <a:pt x="14" y="1278"/>
                      </a:lnTo>
                      <a:lnTo>
                        <a:pt x="14" y="1273"/>
                      </a:lnTo>
                      <a:lnTo>
                        <a:pt x="14" y="1268"/>
                      </a:lnTo>
                      <a:lnTo>
                        <a:pt x="14" y="1259"/>
                      </a:lnTo>
                      <a:lnTo>
                        <a:pt x="14" y="1250"/>
                      </a:lnTo>
                      <a:lnTo>
                        <a:pt x="14" y="1241"/>
                      </a:lnTo>
                      <a:lnTo>
                        <a:pt x="18" y="1231"/>
                      </a:lnTo>
                      <a:lnTo>
                        <a:pt x="18" y="1222"/>
                      </a:lnTo>
                      <a:lnTo>
                        <a:pt x="18" y="1213"/>
                      </a:lnTo>
                      <a:lnTo>
                        <a:pt x="18" y="1204"/>
                      </a:lnTo>
                      <a:lnTo>
                        <a:pt x="18" y="1194"/>
                      </a:lnTo>
                      <a:lnTo>
                        <a:pt x="18" y="1185"/>
                      </a:lnTo>
                      <a:lnTo>
                        <a:pt x="18" y="1180"/>
                      </a:lnTo>
                      <a:lnTo>
                        <a:pt x="18" y="1171"/>
                      </a:lnTo>
                      <a:lnTo>
                        <a:pt x="18" y="1162"/>
                      </a:lnTo>
                      <a:lnTo>
                        <a:pt x="18" y="1153"/>
                      </a:lnTo>
                      <a:lnTo>
                        <a:pt x="18" y="1143"/>
                      </a:lnTo>
                      <a:lnTo>
                        <a:pt x="18" y="1134"/>
                      </a:lnTo>
                      <a:lnTo>
                        <a:pt x="18" y="1130"/>
                      </a:lnTo>
                      <a:lnTo>
                        <a:pt x="18" y="1125"/>
                      </a:lnTo>
                      <a:lnTo>
                        <a:pt x="18" y="1111"/>
                      </a:lnTo>
                      <a:lnTo>
                        <a:pt x="18" y="1102"/>
                      </a:lnTo>
                      <a:lnTo>
                        <a:pt x="18" y="1093"/>
                      </a:lnTo>
                      <a:lnTo>
                        <a:pt x="23" y="1088"/>
                      </a:lnTo>
                      <a:lnTo>
                        <a:pt x="23" y="1083"/>
                      </a:lnTo>
                      <a:lnTo>
                        <a:pt x="23" y="1074"/>
                      </a:lnTo>
                      <a:lnTo>
                        <a:pt x="23" y="1069"/>
                      </a:lnTo>
                      <a:lnTo>
                        <a:pt x="23" y="1065"/>
                      </a:lnTo>
                      <a:lnTo>
                        <a:pt x="23" y="1060"/>
                      </a:lnTo>
                      <a:lnTo>
                        <a:pt x="23" y="1055"/>
                      </a:lnTo>
                      <a:lnTo>
                        <a:pt x="23" y="1051"/>
                      </a:lnTo>
                      <a:lnTo>
                        <a:pt x="23" y="1046"/>
                      </a:lnTo>
                      <a:lnTo>
                        <a:pt x="23" y="1042"/>
                      </a:lnTo>
                      <a:lnTo>
                        <a:pt x="23" y="1037"/>
                      </a:lnTo>
                      <a:lnTo>
                        <a:pt x="23" y="1032"/>
                      </a:lnTo>
                      <a:lnTo>
                        <a:pt x="23" y="1023"/>
                      </a:lnTo>
                      <a:lnTo>
                        <a:pt x="23" y="1018"/>
                      </a:lnTo>
                      <a:lnTo>
                        <a:pt x="28" y="1014"/>
                      </a:lnTo>
                      <a:lnTo>
                        <a:pt x="28" y="1009"/>
                      </a:lnTo>
                      <a:lnTo>
                        <a:pt x="28" y="1005"/>
                      </a:lnTo>
                      <a:lnTo>
                        <a:pt x="28" y="1000"/>
                      </a:lnTo>
                      <a:lnTo>
                        <a:pt x="28" y="995"/>
                      </a:lnTo>
                      <a:lnTo>
                        <a:pt x="28" y="991"/>
                      </a:lnTo>
                      <a:lnTo>
                        <a:pt x="28" y="986"/>
                      </a:lnTo>
                      <a:lnTo>
                        <a:pt x="28" y="981"/>
                      </a:lnTo>
                      <a:lnTo>
                        <a:pt x="28" y="977"/>
                      </a:lnTo>
                      <a:lnTo>
                        <a:pt x="28" y="972"/>
                      </a:lnTo>
                      <a:lnTo>
                        <a:pt x="28" y="968"/>
                      </a:lnTo>
                      <a:lnTo>
                        <a:pt x="28" y="972"/>
                      </a:lnTo>
                      <a:lnTo>
                        <a:pt x="32" y="977"/>
                      </a:lnTo>
                      <a:lnTo>
                        <a:pt x="32" y="972"/>
                      </a:lnTo>
                      <a:lnTo>
                        <a:pt x="32" y="977"/>
                      </a:lnTo>
                      <a:lnTo>
                        <a:pt x="32" y="981"/>
                      </a:lnTo>
                      <a:lnTo>
                        <a:pt x="32" y="986"/>
                      </a:lnTo>
                      <a:lnTo>
                        <a:pt x="32" y="981"/>
                      </a:lnTo>
                      <a:lnTo>
                        <a:pt x="37" y="986"/>
                      </a:lnTo>
                      <a:lnTo>
                        <a:pt x="37" y="991"/>
                      </a:lnTo>
                      <a:lnTo>
                        <a:pt x="37" y="986"/>
                      </a:lnTo>
                      <a:lnTo>
                        <a:pt x="42" y="981"/>
                      </a:lnTo>
                      <a:lnTo>
                        <a:pt x="42" y="986"/>
                      </a:lnTo>
                      <a:lnTo>
                        <a:pt x="42" y="981"/>
                      </a:lnTo>
                      <a:lnTo>
                        <a:pt x="42" y="986"/>
                      </a:lnTo>
                      <a:lnTo>
                        <a:pt x="46" y="981"/>
                      </a:lnTo>
                      <a:lnTo>
                        <a:pt x="46" y="986"/>
                      </a:lnTo>
                      <a:lnTo>
                        <a:pt x="46" y="981"/>
                      </a:lnTo>
                      <a:lnTo>
                        <a:pt x="46" y="986"/>
                      </a:lnTo>
                      <a:lnTo>
                        <a:pt x="51" y="991"/>
                      </a:lnTo>
                      <a:lnTo>
                        <a:pt x="51" y="986"/>
                      </a:lnTo>
                      <a:lnTo>
                        <a:pt x="51" y="991"/>
                      </a:lnTo>
                      <a:lnTo>
                        <a:pt x="51" y="995"/>
                      </a:lnTo>
                      <a:lnTo>
                        <a:pt x="51" y="1000"/>
                      </a:lnTo>
                      <a:lnTo>
                        <a:pt x="51" y="995"/>
                      </a:lnTo>
                      <a:lnTo>
                        <a:pt x="55" y="1000"/>
                      </a:lnTo>
                      <a:lnTo>
                        <a:pt x="55" y="1005"/>
                      </a:lnTo>
                      <a:lnTo>
                        <a:pt x="55" y="1000"/>
                      </a:lnTo>
                      <a:lnTo>
                        <a:pt x="55" y="1005"/>
                      </a:lnTo>
                      <a:lnTo>
                        <a:pt x="55" y="1009"/>
                      </a:lnTo>
                      <a:lnTo>
                        <a:pt x="55" y="1005"/>
                      </a:lnTo>
                      <a:lnTo>
                        <a:pt x="60" y="1009"/>
                      </a:lnTo>
                      <a:lnTo>
                        <a:pt x="60" y="1014"/>
                      </a:lnTo>
                      <a:lnTo>
                        <a:pt x="60" y="1018"/>
                      </a:lnTo>
                      <a:lnTo>
                        <a:pt x="65" y="1014"/>
                      </a:lnTo>
                      <a:lnTo>
                        <a:pt x="65" y="1018"/>
                      </a:lnTo>
                      <a:lnTo>
                        <a:pt x="65" y="1014"/>
                      </a:lnTo>
                      <a:lnTo>
                        <a:pt x="65" y="1018"/>
                      </a:lnTo>
                      <a:lnTo>
                        <a:pt x="65" y="1023"/>
                      </a:lnTo>
                      <a:lnTo>
                        <a:pt x="65" y="1018"/>
                      </a:lnTo>
                      <a:lnTo>
                        <a:pt x="69" y="1023"/>
                      </a:lnTo>
                      <a:lnTo>
                        <a:pt x="69" y="1018"/>
                      </a:lnTo>
                      <a:lnTo>
                        <a:pt x="74" y="1023"/>
                      </a:lnTo>
                      <a:lnTo>
                        <a:pt x="74" y="1018"/>
                      </a:lnTo>
                      <a:lnTo>
                        <a:pt x="74" y="1023"/>
                      </a:lnTo>
                      <a:lnTo>
                        <a:pt x="74" y="1018"/>
                      </a:lnTo>
                      <a:lnTo>
                        <a:pt x="74" y="1023"/>
                      </a:lnTo>
                      <a:lnTo>
                        <a:pt x="74" y="1018"/>
                      </a:lnTo>
                      <a:lnTo>
                        <a:pt x="74" y="1023"/>
                      </a:lnTo>
                      <a:lnTo>
                        <a:pt x="74" y="1018"/>
                      </a:lnTo>
                      <a:lnTo>
                        <a:pt x="74" y="1023"/>
                      </a:lnTo>
                      <a:lnTo>
                        <a:pt x="79" y="1018"/>
                      </a:lnTo>
                      <a:lnTo>
                        <a:pt x="79" y="1023"/>
                      </a:lnTo>
                      <a:lnTo>
                        <a:pt x="79" y="1018"/>
                      </a:lnTo>
                      <a:lnTo>
                        <a:pt x="83" y="1023"/>
                      </a:lnTo>
                      <a:lnTo>
                        <a:pt x="83" y="1018"/>
                      </a:lnTo>
                      <a:lnTo>
                        <a:pt x="88" y="1023"/>
                      </a:lnTo>
                      <a:lnTo>
                        <a:pt x="88" y="1028"/>
                      </a:lnTo>
                      <a:lnTo>
                        <a:pt x="88" y="1023"/>
                      </a:lnTo>
                      <a:lnTo>
                        <a:pt x="92" y="1028"/>
                      </a:lnTo>
                      <a:lnTo>
                        <a:pt x="92" y="1032"/>
                      </a:lnTo>
                      <a:lnTo>
                        <a:pt x="92" y="1028"/>
                      </a:lnTo>
                      <a:lnTo>
                        <a:pt x="92" y="1032"/>
                      </a:lnTo>
                      <a:lnTo>
                        <a:pt x="92" y="1028"/>
                      </a:lnTo>
                      <a:lnTo>
                        <a:pt x="97" y="1032"/>
                      </a:lnTo>
                      <a:lnTo>
                        <a:pt x="97" y="1037"/>
                      </a:lnTo>
                      <a:lnTo>
                        <a:pt x="97" y="1032"/>
                      </a:lnTo>
                      <a:lnTo>
                        <a:pt x="97" y="1037"/>
                      </a:lnTo>
                      <a:lnTo>
                        <a:pt x="97" y="1032"/>
                      </a:lnTo>
                      <a:lnTo>
                        <a:pt x="102" y="1037"/>
                      </a:lnTo>
                      <a:lnTo>
                        <a:pt x="102" y="1042"/>
                      </a:lnTo>
                      <a:lnTo>
                        <a:pt x="102" y="1037"/>
                      </a:lnTo>
                      <a:lnTo>
                        <a:pt x="102" y="1042"/>
                      </a:lnTo>
                      <a:lnTo>
                        <a:pt x="106" y="1037"/>
                      </a:lnTo>
                      <a:lnTo>
                        <a:pt x="106" y="1042"/>
                      </a:lnTo>
                      <a:lnTo>
                        <a:pt x="106" y="1037"/>
                      </a:lnTo>
                      <a:lnTo>
                        <a:pt x="106" y="1042"/>
                      </a:lnTo>
                      <a:lnTo>
                        <a:pt x="106" y="1037"/>
                      </a:lnTo>
                      <a:lnTo>
                        <a:pt x="106" y="1042"/>
                      </a:lnTo>
                      <a:lnTo>
                        <a:pt x="106" y="1037"/>
                      </a:lnTo>
                      <a:lnTo>
                        <a:pt x="106" y="1042"/>
                      </a:lnTo>
                      <a:lnTo>
                        <a:pt x="106" y="1037"/>
                      </a:lnTo>
                      <a:lnTo>
                        <a:pt x="106" y="1042"/>
                      </a:lnTo>
                      <a:lnTo>
                        <a:pt x="106" y="1037"/>
                      </a:lnTo>
                      <a:lnTo>
                        <a:pt x="111" y="1042"/>
                      </a:lnTo>
                      <a:lnTo>
                        <a:pt x="111" y="1046"/>
                      </a:lnTo>
                      <a:lnTo>
                        <a:pt x="116" y="1042"/>
                      </a:lnTo>
                      <a:lnTo>
                        <a:pt x="120" y="1037"/>
                      </a:lnTo>
                      <a:lnTo>
                        <a:pt x="120" y="1042"/>
                      </a:lnTo>
                      <a:lnTo>
                        <a:pt x="120" y="1037"/>
                      </a:lnTo>
                      <a:lnTo>
                        <a:pt x="120" y="1042"/>
                      </a:lnTo>
                      <a:lnTo>
                        <a:pt x="120" y="1037"/>
                      </a:lnTo>
                      <a:lnTo>
                        <a:pt x="120" y="1042"/>
                      </a:lnTo>
                      <a:lnTo>
                        <a:pt x="120" y="1037"/>
                      </a:lnTo>
                      <a:lnTo>
                        <a:pt x="120" y="1042"/>
                      </a:lnTo>
                      <a:lnTo>
                        <a:pt x="120" y="1037"/>
                      </a:lnTo>
                      <a:lnTo>
                        <a:pt x="125" y="1042"/>
                      </a:lnTo>
                      <a:lnTo>
                        <a:pt x="125" y="1037"/>
                      </a:lnTo>
                      <a:lnTo>
                        <a:pt x="125" y="1042"/>
                      </a:lnTo>
                      <a:lnTo>
                        <a:pt x="125" y="1037"/>
                      </a:lnTo>
                      <a:lnTo>
                        <a:pt x="125" y="1042"/>
                      </a:lnTo>
                      <a:lnTo>
                        <a:pt x="125" y="1037"/>
                      </a:lnTo>
                      <a:lnTo>
                        <a:pt x="125" y="1042"/>
                      </a:lnTo>
                      <a:lnTo>
                        <a:pt x="125" y="1046"/>
                      </a:lnTo>
                      <a:lnTo>
                        <a:pt x="129" y="1042"/>
                      </a:lnTo>
                      <a:lnTo>
                        <a:pt x="129" y="1046"/>
                      </a:lnTo>
                      <a:lnTo>
                        <a:pt x="129" y="1042"/>
                      </a:lnTo>
                      <a:lnTo>
                        <a:pt x="129" y="1046"/>
                      </a:lnTo>
                      <a:lnTo>
                        <a:pt x="129" y="1042"/>
                      </a:lnTo>
                      <a:lnTo>
                        <a:pt x="129" y="1046"/>
                      </a:lnTo>
                      <a:lnTo>
                        <a:pt x="129" y="1042"/>
                      </a:lnTo>
                      <a:lnTo>
                        <a:pt x="129" y="1046"/>
                      </a:lnTo>
                      <a:lnTo>
                        <a:pt x="129" y="1042"/>
                      </a:lnTo>
                      <a:lnTo>
                        <a:pt x="134" y="1046"/>
                      </a:lnTo>
                      <a:lnTo>
                        <a:pt x="134" y="1042"/>
                      </a:lnTo>
                      <a:lnTo>
                        <a:pt x="134" y="1037"/>
                      </a:lnTo>
                      <a:lnTo>
                        <a:pt x="134" y="1042"/>
                      </a:lnTo>
                      <a:lnTo>
                        <a:pt x="134" y="1037"/>
                      </a:lnTo>
                      <a:lnTo>
                        <a:pt x="134" y="1042"/>
                      </a:lnTo>
                      <a:lnTo>
                        <a:pt x="139" y="1037"/>
                      </a:lnTo>
                      <a:lnTo>
                        <a:pt x="139" y="1032"/>
                      </a:lnTo>
                      <a:lnTo>
                        <a:pt x="139" y="1037"/>
                      </a:lnTo>
                      <a:lnTo>
                        <a:pt x="143" y="1032"/>
                      </a:lnTo>
                      <a:lnTo>
                        <a:pt x="143" y="1028"/>
                      </a:lnTo>
                      <a:lnTo>
                        <a:pt x="143" y="1032"/>
                      </a:lnTo>
                      <a:lnTo>
                        <a:pt x="148" y="1028"/>
                      </a:lnTo>
                      <a:lnTo>
                        <a:pt x="148" y="1032"/>
                      </a:lnTo>
                      <a:lnTo>
                        <a:pt x="148" y="1037"/>
                      </a:lnTo>
                      <a:lnTo>
                        <a:pt x="148" y="1032"/>
                      </a:lnTo>
                      <a:lnTo>
                        <a:pt x="148" y="1037"/>
                      </a:lnTo>
                      <a:lnTo>
                        <a:pt x="148" y="1042"/>
                      </a:lnTo>
                      <a:lnTo>
                        <a:pt x="148" y="1037"/>
                      </a:lnTo>
                      <a:lnTo>
                        <a:pt x="148" y="1042"/>
                      </a:lnTo>
                      <a:lnTo>
                        <a:pt x="153" y="1046"/>
                      </a:lnTo>
                      <a:lnTo>
                        <a:pt x="153" y="1051"/>
                      </a:lnTo>
                      <a:lnTo>
                        <a:pt x="153" y="1046"/>
                      </a:lnTo>
                      <a:lnTo>
                        <a:pt x="157" y="1051"/>
                      </a:lnTo>
                      <a:lnTo>
                        <a:pt x="157" y="1055"/>
                      </a:lnTo>
                      <a:lnTo>
                        <a:pt x="157" y="1051"/>
                      </a:lnTo>
                      <a:lnTo>
                        <a:pt x="157" y="1055"/>
                      </a:lnTo>
                      <a:lnTo>
                        <a:pt x="157" y="1060"/>
                      </a:lnTo>
                      <a:lnTo>
                        <a:pt x="157" y="1055"/>
                      </a:lnTo>
                      <a:lnTo>
                        <a:pt x="162" y="1060"/>
                      </a:lnTo>
                      <a:lnTo>
                        <a:pt x="162" y="1055"/>
                      </a:lnTo>
                      <a:lnTo>
                        <a:pt x="162" y="1060"/>
                      </a:lnTo>
                      <a:lnTo>
                        <a:pt x="162" y="1055"/>
                      </a:lnTo>
                      <a:lnTo>
                        <a:pt x="162" y="1060"/>
                      </a:lnTo>
                      <a:lnTo>
                        <a:pt x="162" y="1065"/>
                      </a:lnTo>
                      <a:lnTo>
                        <a:pt x="162" y="1060"/>
                      </a:lnTo>
                      <a:lnTo>
                        <a:pt x="167" y="1065"/>
                      </a:lnTo>
                      <a:lnTo>
                        <a:pt x="167" y="1060"/>
                      </a:lnTo>
                      <a:lnTo>
                        <a:pt x="171" y="1065"/>
                      </a:lnTo>
                      <a:lnTo>
                        <a:pt x="171" y="1069"/>
                      </a:lnTo>
                      <a:lnTo>
                        <a:pt x="171" y="1065"/>
                      </a:lnTo>
                      <a:lnTo>
                        <a:pt x="171" y="1069"/>
                      </a:lnTo>
                      <a:lnTo>
                        <a:pt x="176" y="1065"/>
                      </a:lnTo>
                      <a:lnTo>
                        <a:pt x="176" y="1069"/>
                      </a:lnTo>
                      <a:lnTo>
                        <a:pt x="176" y="1065"/>
                      </a:lnTo>
                      <a:lnTo>
                        <a:pt x="176" y="1069"/>
                      </a:lnTo>
                      <a:lnTo>
                        <a:pt x="180" y="1065"/>
                      </a:lnTo>
                      <a:lnTo>
                        <a:pt x="185" y="1069"/>
                      </a:lnTo>
                      <a:lnTo>
                        <a:pt x="190" y="1065"/>
                      </a:lnTo>
                      <a:lnTo>
                        <a:pt x="190" y="1069"/>
                      </a:lnTo>
                      <a:lnTo>
                        <a:pt x="190" y="1065"/>
                      </a:lnTo>
                      <a:lnTo>
                        <a:pt x="190" y="1069"/>
                      </a:lnTo>
                      <a:lnTo>
                        <a:pt x="194" y="1065"/>
                      </a:lnTo>
                      <a:lnTo>
                        <a:pt x="194" y="1069"/>
                      </a:lnTo>
                      <a:lnTo>
                        <a:pt x="194" y="1065"/>
                      </a:lnTo>
                      <a:lnTo>
                        <a:pt x="194" y="1069"/>
                      </a:lnTo>
                      <a:lnTo>
                        <a:pt x="194" y="1065"/>
                      </a:lnTo>
                      <a:lnTo>
                        <a:pt x="194" y="1069"/>
                      </a:lnTo>
                      <a:lnTo>
                        <a:pt x="199" y="1065"/>
                      </a:lnTo>
                      <a:lnTo>
                        <a:pt x="199" y="1069"/>
                      </a:lnTo>
                      <a:lnTo>
                        <a:pt x="199" y="1065"/>
                      </a:lnTo>
                      <a:lnTo>
                        <a:pt x="199" y="1069"/>
                      </a:lnTo>
                      <a:lnTo>
                        <a:pt x="204" y="1065"/>
                      </a:lnTo>
                      <a:lnTo>
                        <a:pt x="204" y="1060"/>
                      </a:lnTo>
                      <a:lnTo>
                        <a:pt x="204" y="1065"/>
                      </a:lnTo>
                      <a:lnTo>
                        <a:pt x="204" y="1060"/>
                      </a:lnTo>
                      <a:lnTo>
                        <a:pt x="204" y="1065"/>
                      </a:lnTo>
                      <a:lnTo>
                        <a:pt x="208" y="1060"/>
                      </a:lnTo>
                      <a:lnTo>
                        <a:pt x="208" y="1065"/>
                      </a:lnTo>
                      <a:lnTo>
                        <a:pt x="208" y="1060"/>
                      </a:lnTo>
                      <a:lnTo>
                        <a:pt x="213" y="1065"/>
                      </a:lnTo>
                      <a:lnTo>
                        <a:pt x="213" y="1060"/>
                      </a:lnTo>
                      <a:lnTo>
                        <a:pt x="213" y="1065"/>
                      </a:lnTo>
                      <a:lnTo>
                        <a:pt x="213" y="1060"/>
                      </a:lnTo>
                      <a:lnTo>
                        <a:pt x="213" y="1065"/>
                      </a:lnTo>
                      <a:lnTo>
                        <a:pt x="213" y="1060"/>
                      </a:lnTo>
                      <a:lnTo>
                        <a:pt x="213" y="1065"/>
                      </a:lnTo>
                      <a:lnTo>
                        <a:pt x="213" y="1060"/>
                      </a:lnTo>
                      <a:lnTo>
                        <a:pt x="213" y="1065"/>
                      </a:lnTo>
                      <a:lnTo>
                        <a:pt x="213" y="1060"/>
                      </a:lnTo>
                      <a:lnTo>
                        <a:pt x="217" y="1065"/>
                      </a:lnTo>
                      <a:lnTo>
                        <a:pt x="217" y="1060"/>
                      </a:lnTo>
                      <a:lnTo>
                        <a:pt x="217" y="1065"/>
                      </a:lnTo>
                      <a:lnTo>
                        <a:pt x="217" y="1060"/>
                      </a:lnTo>
                      <a:lnTo>
                        <a:pt x="217" y="1055"/>
                      </a:lnTo>
                      <a:lnTo>
                        <a:pt x="217" y="1060"/>
                      </a:lnTo>
                      <a:lnTo>
                        <a:pt x="217" y="1055"/>
                      </a:lnTo>
                      <a:lnTo>
                        <a:pt x="222" y="1060"/>
                      </a:lnTo>
                      <a:lnTo>
                        <a:pt x="222" y="1055"/>
                      </a:lnTo>
                      <a:lnTo>
                        <a:pt x="222" y="1060"/>
                      </a:lnTo>
                      <a:lnTo>
                        <a:pt x="222" y="1065"/>
                      </a:lnTo>
                      <a:lnTo>
                        <a:pt x="222" y="1060"/>
                      </a:lnTo>
                      <a:lnTo>
                        <a:pt x="222" y="1065"/>
                      </a:lnTo>
                      <a:lnTo>
                        <a:pt x="222" y="1060"/>
                      </a:lnTo>
                      <a:lnTo>
                        <a:pt x="222" y="1065"/>
                      </a:lnTo>
                      <a:lnTo>
                        <a:pt x="222" y="1060"/>
                      </a:lnTo>
                      <a:lnTo>
                        <a:pt x="227" y="1065"/>
                      </a:lnTo>
                      <a:lnTo>
                        <a:pt x="231" y="1069"/>
                      </a:lnTo>
                      <a:lnTo>
                        <a:pt x="231" y="1065"/>
                      </a:lnTo>
                      <a:lnTo>
                        <a:pt x="236" y="1069"/>
                      </a:lnTo>
                      <a:lnTo>
                        <a:pt x="236" y="1065"/>
                      </a:lnTo>
                      <a:lnTo>
                        <a:pt x="236" y="1069"/>
                      </a:lnTo>
                      <a:lnTo>
                        <a:pt x="236" y="1074"/>
                      </a:lnTo>
                      <a:lnTo>
                        <a:pt x="236" y="1069"/>
                      </a:lnTo>
                      <a:lnTo>
                        <a:pt x="236" y="1074"/>
                      </a:lnTo>
                      <a:lnTo>
                        <a:pt x="241" y="1069"/>
                      </a:lnTo>
                      <a:lnTo>
                        <a:pt x="241" y="1074"/>
                      </a:lnTo>
                      <a:lnTo>
                        <a:pt x="241" y="1069"/>
                      </a:lnTo>
                      <a:lnTo>
                        <a:pt x="241" y="1074"/>
                      </a:lnTo>
                      <a:lnTo>
                        <a:pt x="241" y="1069"/>
                      </a:lnTo>
                      <a:lnTo>
                        <a:pt x="241" y="1074"/>
                      </a:lnTo>
                      <a:lnTo>
                        <a:pt x="245" y="1069"/>
                      </a:lnTo>
                      <a:lnTo>
                        <a:pt x="245" y="1074"/>
                      </a:lnTo>
                      <a:lnTo>
                        <a:pt x="245" y="1069"/>
                      </a:lnTo>
                      <a:lnTo>
                        <a:pt x="245" y="1074"/>
                      </a:lnTo>
                      <a:lnTo>
                        <a:pt x="245" y="1069"/>
                      </a:lnTo>
                      <a:lnTo>
                        <a:pt x="245" y="1074"/>
                      </a:lnTo>
                      <a:lnTo>
                        <a:pt x="245" y="1069"/>
                      </a:lnTo>
                      <a:lnTo>
                        <a:pt x="245" y="1074"/>
                      </a:lnTo>
                      <a:lnTo>
                        <a:pt x="250" y="1069"/>
                      </a:lnTo>
                      <a:lnTo>
                        <a:pt x="250" y="1074"/>
                      </a:lnTo>
                      <a:lnTo>
                        <a:pt x="250" y="1069"/>
                      </a:lnTo>
                      <a:lnTo>
                        <a:pt x="250" y="1065"/>
                      </a:lnTo>
                      <a:lnTo>
                        <a:pt x="250" y="1069"/>
                      </a:lnTo>
                      <a:lnTo>
                        <a:pt x="254" y="1065"/>
                      </a:lnTo>
                      <a:lnTo>
                        <a:pt x="254" y="1060"/>
                      </a:lnTo>
                      <a:lnTo>
                        <a:pt x="254" y="1065"/>
                      </a:lnTo>
                      <a:lnTo>
                        <a:pt x="254" y="1060"/>
                      </a:lnTo>
                      <a:lnTo>
                        <a:pt x="254" y="1055"/>
                      </a:lnTo>
                      <a:lnTo>
                        <a:pt x="254" y="1060"/>
                      </a:lnTo>
                      <a:lnTo>
                        <a:pt x="254" y="1055"/>
                      </a:lnTo>
                      <a:lnTo>
                        <a:pt x="254" y="1060"/>
                      </a:lnTo>
                      <a:lnTo>
                        <a:pt x="259" y="1055"/>
                      </a:lnTo>
                      <a:lnTo>
                        <a:pt x="259" y="1060"/>
                      </a:lnTo>
                      <a:lnTo>
                        <a:pt x="259" y="1055"/>
                      </a:lnTo>
                      <a:lnTo>
                        <a:pt x="259" y="1060"/>
                      </a:lnTo>
                      <a:lnTo>
                        <a:pt x="259" y="1055"/>
                      </a:lnTo>
                      <a:lnTo>
                        <a:pt x="259" y="1051"/>
                      </a:lnTo>
                      <a:lnTo>
                        <a:pt x="259" y="1055"/>
                      </a:lnTo>
                      <a:lnTo>
                        <a:pt x="259" y="1051"/>
                      </a:lnTo>
                      <a:lnTo>
                        <a:pt x="259" y="1055"/>
                      </a:lnTo>
                      <a:lnTo>
                        <a:pt x="264" y="1051"/>
                      </a:lnTo>
                      <a:lnTo>
                        <a:pt x="264" y="1055"/>
                      </a:lnTo>
                      <a:lnTo>
                        <a:pt x="264" y="1051"/>
                      </a:lnTo>
                      <a:lnTo>
                        <a:pt x="264" y="1055"/>
                      </a:lnTo>
                      <a:lnTo>
                        <a:pt x="268" y="1051"/>
                      </a:lnTo>
                      <a:lnTo>
                        <a:pt x="268" y="1046"/>
                      </a:lnTo>
                      <a:lnTo>
                        <a:pt x="268" y="1051"/>
                      </a:lnTo>
                      <a:lnTo>
                        <a:pt x="268" y="1046"/>
                      </a:lnTo>
                      <a:lnTo>
                        <a:pt x="268" y="1042"/>
                      </a:lnTo>
                      <a:lnTo>
                        <a:pt x="273" y="1046"/>
                      </a:lnTo>
                      <a:lnTo>
                        <a:pt x="273" y="1042"/>
                      </a:lnTo>
                      <a:lnTo>
                        <a:pt x="278" y="1046"/>
                      </a:lnTo>
                      <a:lnTo>
                        <a:pt x="278" y="1042"/>
                      </a:lnTo>
                      <a:lnTo>
                        <a:pt x="278" y="1037"/>
                      </a:lnTo>
                      <a:lnTo>
                        <a:pt x="278" y="1032"/>
                      </a:lnTo>
                      <a:lnTo>
                        <a:pt x="278" y="1028"/>
                      </a:lnTo>
                      <a:lnTo>
                        <a:pt x="278" y="1023"/>
                      </a:lnTo>
                      <a:lnTo>
                        <a:pt x="282" y="1018"/>
                      </a:lnTo>
                      <a:lnTo>
                        <a:pt x="282" y="1023"/>
                      </a:lnTo>
                      <a:lnTo>
                        <a:pt x="282" y="1028"/>
                      </a:lnTo>
                      <a:lnTo>
                        <a:pt x="282" y="1032"/>
                      </a:lnTo>
                      <a:lnTo>
                        <a:pt x="282" y="1037"/>
                      </a:lnTo>
                      <a:lnTo>
                        <a:pt x="282" y="1042"/>
                      </a:lnTo>
                      <a:lnTo>
                        <a:pt x="282" y="1046"/>
                      </a:lnTo>
                      <a:lnTo>
                        <a:pt x="282" y="1042"/>
                      </a:lnTo>
                      <a:lnTo>
                        <a:pt x="287" y="1046"/>
                      </a:lnTo>
                      <a:lnTo>
                        <a:pt x="287" y="1042"/>
                      </a:lnTo>
                      <a:lnTo>
                        <a:pt x="287" y="1046"/>
                      </a:lnTo>
                      <a:lnTo>
                        <a:pt x="287" y="1051"/>
                      </a:lnTo>
                      <a:lnTo>
                        <a:pt x="287" y="1046"/>
                      </a:lnTo>
                      <a:lnTo>
                        <a:pt x="287" y="1051"/>
                      </a:lnTo>
                      <a:lnTo>
                        <a:pt x="291" y="1046"/>
                      </a:lnTo>
                      <a:lnTo>
                        <a:pt x="291" y="1051"/>
                      </a:lnTo>
                      <a:lnTo>
                        <a:pt x="291" y="1046"/>
                      </a:lnTo>
                      <a:lnTo>
                        <a:pt x="291" y="1051"/>
                      </a:lnTo>
                      <a:lnTo>
                        <a:pt x="291" y="1046"/>
                      </a:lnTo>
                      <a:lnTo>
                        <a:pt x="296" y="1051"/>
                      </a:lnTo>
                      <a:lnTo>
                        <a:pt x="296" y="1046"/>
                      </a:lnTo>
                      <a:lnTo>
                        <a:pt x="296" y="1051"/>
                      </a:lnTo>
                      <a:lnTo>
                        <a:pt x="301" y="1046"/>
                      </a:lnTo>
                      <a:lnTo>
                        <a:pt x="301" y="1051"/>
                      </a:lnTo>
                      <a:lnTo>
                        <a:pt x="301" y="1046"/>
                      </a:lnTo>
                      <a:lnTo>
                        <a:pt x="301" y="1051"/>
                      </a:lnTo>
                      <a:lnTo>
                        <a:pt x="301" y="1046"/>
                      </a:lnTo>
                      <a:lnTo>
                        <a:pt x="301" y="1051"/>
                      </a:lnTo>
                      <a:lnTo>
                        <a:pt x="301" y="1046"/>
                      </a:lnTo>
                      <a:lnTo>
                        <a:pt x="301" y="1051"/>
                      </a:lnTo>
                      <a:lnTo>
                        <a:pt x="301" y="1046"/>
                      </a:lnTo>
                      <a:lnTo>
                        <a:pt x="305" y="1051"/>
                      </a:lnTo>
                      <a:lnTo>
                        <a:pt x="305" y="1046"/>
                      </a:lnTo>
                      <a:lnTo>
                        <a:pt x="305" y="1051"/>
                      </a:lnTo>
                      <a:lnTo>
                        <a:pt x="305" y="1055"/>
                      </a:lnTo>
                      <a:lnTo>
                        <a:pt x="310" y="1051"/>
                      </a:lnTo>
                      <a:lnTo>
                        <a:pt x="315" y="1055"/>
                      </a:lnTo>
                      <a:lnTo>
                        <a:pt x="315" y="1060"/>
                      </a:lnTo>
                      <a:lnTo>
                        <a:pt x="315" y="1055"/>
                      </a:lnTo>
                      <a:lnTo>
                        <a:pt x="319" y="1060"/>
                      </a:lnTo>
                      <a:lnTo>
                        <a:pt x="319" y="1055"/>
                      </a:lnTo>
                      <a:lnTo>
                        <a:pt x="319" y="1060"/>
                      </a:lnTo>
                      <a:lnTo>
                        <a:pt x="319" y="1055"/>
                      </a:lnTo>
                      <a:lnTo>
                        <a:pt x="319" y="1060"/>
                      </a:lnTo>
                      <a:lnTo>
                        <a:pt x="319" y="1055"/>
                      </a:lnTo>
                      <a:lnTo>
                        <a:pt x="319" y="1060"/>
                      </a:lnTo>
                      <a:lnTo>
                        <a:pt x="324" y="1055"/>
                      </a:lnTo>
                      <a:lnTo>
                        <a:pt x="324" y="1051"/>
                      </a:lnTo>
                      <a:lnTo>
                        <a:pt x="324" y="1055"/>
                      </a:lnTo>
                      <a:lnTo>
                        <a:pt x="324" y="1060"/>
                      </a:lnTo>
                      <a:lnTo>
                        <a:pt x="324" y="1055"/>
                      </a:lnTo>
                      <a:lnTo>
                        <a:pt x="329" y="1060"/>
                      </a:lnTo>
                      <a:lnTo>
                        <a:pt x="333" y="1065"/>
                      </a:lnTo>
                      <a:lnTo>
                        <a:pt x="333" y="1069"/>
                      </a:lnTo>
                      <a:lnTo>
                        <a:pt x="333" y="1065"/>
                      </a:lnTo>
                      <a:lnTo>
                        <a:pt x="333" y="1069"/>
                      </a:lnTo>
                      <a:lnTo>
                        <a:pt x="338" y="1065"/>
                      </a:lnTo>
                      <a:lnTo>
                        <a:pt x="338" y="1060"/>
                      </a:lnTo>
                      <a:lnTo>
                        <a:pt x="338" y="1055"/>
                      </a:lnTo>
                      <a:lnTo>
                        <a:pt x="338" y="1060"/>
                      </a:lnTo>
                      <a:lnTo>
                        <a:pt x="338" y="1055"/>
                      </a:lnTo>
                      <a:lnTo>
                        <a:pt x="342" y="1060"/>
                      </a:lnTo>
                      <a:lnTo>
                        <a:pt x="342" y="1046"/>
                      </a:lnTo>
                      <a:lnTo>
                        <a:pt x="342" y="1023"/>
                      </a:lnTo>
                      <a:lnTo>
                        <a:pt x="342" y="1005"/>
                      </a:lnTo>
                      <a:lnTo>
                        <a:pt x="342" y="986"/>
                      </a:lnTo>
                      <a:lnTo>
                        <a:pt x="342" y="972"/>
                      </a:lnTo>
                      <a:lnTo>
                        <a:pt x="342" y="963"/>
                      </a:lnTo>
                      <a:lnTo>
                        <a:pt x="342" y="954"/>
                      </a:lnTo>
                      <a:lnTo>
                        <a:pt x="342" y="949"/>
                      </a:lnTo>
                      <a:lnTo>
                        <a:pt x="342" y="954"/>
                      </a:lnTo>
                      <a:lnTo>
                        <a:pt x="342" y="958"/>
                      </a:lnTo>
                      <a:lnTo>
                        <a:pt x="342" y="963"/>
                      </a:lnTo>
                      <a:lnTo>
                        <a:pt x="342" y="968"/>
                      </a:lnTo>
                      <a:lnTo>
                        <a:pt x="347" y="972"/>
                      </a:lnTo>
                      <a:lnTo>
                        <a:pt x="347" y="977"/>
                      </a:lnTo>
                      <a:lnTo>
                        <a:pt x="347" y="981"/>
                      </a:lnTo>
                      <a:lnTo>
                        <a:pt x="347" y="958"/>
                      </a:lnTo>
                      <a:lnTo>
                        <a:pt x="347" y="907"/>
                      </a:lnTo>
                      <a:lnTo>
                        <a:pt x="347" y="833"/>
                      </a:lnTo>
                      <a:lnTo>
                        <a:pt x="347" y="745"/>
                      </a:lnTo>
                      <a:lnTo>
                        <a:pt x="347" y="653"/>
                      </a:lnTo>
                      <a:lnTo>
                        <a:pt x="347" y="556"/>
                      </a:lnTo>
                      <a:lnTo>
                        <a:pt x="347" y="472"/>
                      </a:lnTo>
                      <a:lnTo>
                        <a:pt x="347" y="380"/>
                      </a:lnTo>
                      <a:lnTo>
                        <a:pt x="347" y="301"/>
                      </a:lnTo>
                      <a:lnTo>
                        <a:pt x="347" y="227"/>
                      </a:lnTo>
                      <a:lnTo>
                        <a:pt x="347" y="153"/>
                      </a:lnTo>
                      <a:lnTo>
                        <a:pt x="347" y="88"/>
                      </a:lnTo>
                      <a:lnTo>
                        <a:pt x="347" y="42"/>
                      </a:lnTo>
                      <a:lnTo>
                        <a:pt x="347" y="14"/>
                      </a:lnTo>
                      <a:lnTo>
                        <a:pt x="352" y="0"/>
                      </a:lnTo>
                      <a:lnTo>
                        <a:pt x="352" y="5"/>
                      </a:lnTo>
                      <a:lnTo>
                        <a:pt x="352" y="9"/>
                      </a:lnTo>
                      <a:lnTo>
                        <a:pt x="352" y="23"/>
                      </a:lnTo>
                      <a:lnTo>
                        <a:pt x="352" y="51"/>
                      </a:lnTo>
                      <a:lnTo>
                        <a:pt x="352" y="74"/>
                      </a:lnTo>
                      <a:lnTo>
                        <a:pt x="352" y="102"/>
                      </a:lnTo>
                      <a:lnTo>
                        <a:pt x="352" y="134"/>
                      </a:lnTo>
                      <a:lnTo>
                        <a:pt x="352" y="171"/>
                      </a:lnTo>
                      <a:lnTo>
                        <a:pt x="352" y="199"/>
                      </a:lnTo>
                      <a:lnTo>
                        <a:pt x="352" y="287"/>
                      </a:lnTo>
                      <a:lnTo>
                        <a:pt x="352" y="366"/>
                      </a:lnTo>
                      <a:lnTo>
                        <a:pt x="352" y="435"/>
                      </a:lnTo>
                      <a:lnTo>
                        <a:pt x="352" y="505"/>
                      </a:lnTo>
                      <a:lnTo>
                        <a:pt x="352" y="565"/>
                      </a:lnTo>
                      <a:lnTo>
                        <a:pt x="352" y="620"/>
                      </a:lnTo>
                      <a:lnTo>
                        <a:pt x="352" y="671"/>
                      </a:lnTo>
                      <a:lnTo>
                        <a:pt x="352" y="718"/>
                      </a:lnTo>
                      <a:lnTo>
                        <a:pt x="356" y="759"/>
                      </a:lnTo>
                      <a:lnTo>
                        <a:pt x="356" y="801"/>
                      </a:lnTo>
                      <a:lnTo>
                        <a:pt x="356" y="833"/>
                      </a:lnTo>
                      <a:lnTo>
                        <a:pt x="356" y="866"/>
                      </a:lnTo>
                      <a:lnTo>
                        <a:pt x="356" y="893"/>
                      </a:lnTo>
                      <a:lnTo>
                        <a:pt x="356" y="917"/>
                      </a:lnTo>
                      <a:lnTo>
                        <a:pt x="356" y="931"/>
                      </a:lnTo>
                      <a:lnTo>
                        <a:pt x="356" y="949"/>
                      </a:lnTo>
                      <a:lnTo>
                        <a:pt x="356" y="963"/>
                      </a:lnTo>
                      <a:lnTo>
                        <a:pt x="356" y="977"/>
                      </a:lnTo>
                      <a:lnTo>
                        <a:pt x="356" y="991"/>
                      </a:lnTo>
                      <a:lnTo>
                        <a:pt x="356" y="1005"/>
                      </a:lnTo>
                      <a:lnTo>
                        <a:pt x="356" y="1018"/>
                      </a:lnTo>
                      <a:lnTo>
                        <a:pt x="356" y="1032"/>
                      </a:lnTo>
                      <a:lnTo>
                        <a:pt x="356" y="1046"/>
                      </a:lnTo>
                      <a:lnTo>
                        <a:pt x="356" y="1055"/>
                      </a:lnTo>
                      <a:lnTo>
                        <a:pt x="356" y="1065"/>
                      </a:lnTo>
                      <a:lnTo>
                        <a:pt x="356" y="1074"/>
                      </a:lnTo>
                      <a:lnTo>
                        <a:pt x="361" y="1074"/>
                      </a:lnTo>
                      <a:lnTo>
                        <a:pt x="361" y="1088"/>
                      </a:lnTo>
                      <a:lnTo>
                        <a:pt x="361" y="1093"/>
                      </a:lnTo>
                      <a:lnTo>
                        <a:pt x="361" y="1106"/>
                      </a:lnTo>
                      <a:lnTo>
                        <a:pt x="361" y="1111"/>
                      </a:lnTo>
                      <a:lnTo>
                        <a:pt x="361" y="1125"/>
                      </a:lnTo>
                      <a:lnTo>
                        <a:pt x="361" y="1130"/>
                      </a:lnTo>
                      <a:lnTo>
                        <a:pt x="361" y="1139"/>
                      </a:lnTo>
                      <a:lnTo>
                        <a:pt x="361" y="1148"/>
                      </a:lnTo>
                      <a:lnTo>
                        <a:pt x="361" y="1157"/>
                      </a:lnTo>
                      <a:lnTo>
                        <a:pt x="361" y="1162"/>
                      </a:lnTo>
                      <a:lnTo>
                        <a:pt x="361" y="1171"/>
                      </a:lnTo>
                      <a:lnTo>
                        <a:pt x="361" y="1176"/>
                      </a:lnTo>
                      <a:lnTo>
                        <a:pt x="361" y="1180"/>
                      </a:lnTo>
                      <a:lnTo>
                        <a:pt x="361" y="1185"/>
                      </a:lnTo>
                      <a:lnTo>
                        <a:pt x="361" y="1194"/>
                      </a:lnTo>
                      <a:lnTo>
                        <a:pt x="366" y="1199"/>
                      </a:lnTo>
                      <a:lnTo>
                        <a:pt x="366" y="1204"/>
                      </a:lnTo>
                      <a:lnTo>
                        <a:pt x="366" y="1208"/>
                      </a:lnTo>
                      <a:lnTo>
                        <a:pt x="366" y="1213"/>
                      </a:lnTo>
                      <a:lnTo>
                        <a:pt x="366" y="1204"/>
                      </a:lnTo>
                      <a:lnTo>
                        <a:pt x="366" y="1199"/>
                      </a:lnTo>
                      <a:lnTo>
                        <a:pt x="366" y="1194"/>
                      </a:lnTo>
                      <a:lnTo>
                        <a:pt x="366" y="1190"/>
                      </a:lnTo>
                      <a:lnTo>
                        <a:pt x="366" y="1185"/>
                      </a:lnTo>
                      <a:lnTo>
                        <a:pt x="366" y="1180"/>
                      </a:lnTo>
                      <a:lnTo>
                        <a:pt x="366" y="1176"/>
                      </a:lnTo>
                      <a:lnTo>
                        <a:pt x="366" y="1171"/>
                      </a:lnTo>
                      <a:lnTo>
                        <a:pt x="366" y="1167"/>
                      </a:lnTo>
                      <a:lnTo>
                        <a:pt x="370" y="1162"/>
                      </a:lnTo>
                      <a:lnTo>
                        <a:pt x="370" y="1157"/>
                      </a:lnTo>
                      <a:lnTo>
                        <a:pt x="370" y="1153"/>
                      </a:lnTo>
                      <a:lnTo>
                        <a:pt x="370" y="1148"/>
                      </a:lnTo>
                      <a:lnTo>
                        <a:pt x="370" y="1153"/>
                      </a:lnTo>
                      <a:lnTo>
                        <a:pt x="375" y="1148"/>
                      </a:lnTo>
                      <a:lnTo>
                        <a:pt x="375" y="1143"/>
                      </a:lnTo>
                      <a:lnTo>
                        <a:pt x="375" y="1148"/>
                      </a:lnTo>
                      <a:lnTo>
                        <a:pt x="375" y="1143"/>
                      </a:lnTo>
                      <a:lnTo>
                        <a:pt x="375" y="1148"/>
                      </a:lnTo>
                      <a:lnTo>
                        <a:pt x="375" y="1143"/>
                      </a:lnTo>
                      <a:lnTo>
                        <a:pt x="375" y="1139"/>
                      </a:lnTo>
                      <a:lnTo>
                        <a:pt x="375" y="1143"/>
                      </a:lnTo>
                      <a:lnTo>
                        <a:pt x="375" y="1139"/>
                      </a:lnTo>
                      <a:lnTo>
                        <a:pt x="375" y="1143"/>
                      </a:lnTo>
                      <a:lnTo>
                        <a:pt x="379" y="1139"/>
                      </a:lnTo>
                      <a:lnTo>
                        <a:pt x="379" y="1143"/>
                      </a:lnTo>
                      <a:lnTo>
                        <a:pt x="379" y="1139"/>
                      </a:lnTo>
                      <a:lnTo>
                        <a:pt x="379" y="1134"/>
                      </a:lnTo>
                      <a:lnTo>
                        <a:pt x="379" y="1139"/>
                      </a:lnTo>
                      <a:lnTo>
                        <a:pt x="379" y="1134"/>
                      </a:lnTo>
                      <a:lnTo>
                        <a:pt x="379" y="1139"/>
                      </a:lnTo>
                      <a:lnTo>
                        <a:pt x="384" y="1134"/>
                      </a:lnTo>
                      <a:lnTo>
                        <a:pt x="384" y="1130"/>
                      </a:lnTo>
                      <a:lnTo>
                        <a:pt x="384" y="1125"/>
                      </a:lnTo>
                      <a:lnTo>
                        <a:pt x="389" y="1120"/>
                      </a:lnTo>
                      <a:lnTo>
                        <a:pt x="389" y="1116"/>
                      </a:lnTo>
                      <a:lnTo>
                        <a:pt x="389" y="1111"/>
                      </a:lnTo>
                      <a:lnTo>
                        <a:pt x="389" y="1116"/>
                      </a:lnTo>
                      <a:lnTo>
                        <a:pt x="389" y="1111"/>
                      </a:lnTo>
                      <a:lnTo>
                        <a:pt x="389" y="1116"/>
                      </a:lnTo>
                      <a:lnTo>
                        <a:pt x="389" y="1111"/>
                      </a:lnTo>
                      <a:lnTo>
                        <a:pt x="393" y="1106"/>
                      </a:lnTo>
                      <a:lnTo>
                        <a:pt x="393" y="1111"/>
                      </a:lnTo>
                      <a:lnTo>
                        <a:pt x="393" y="1106"/>
                      </a:lnTo>
                      <a:lnTo>
                        <a:pt x="393" y="1111"/>
                      </a:lnTo>
                      <a:lnTo>
                        <a:pt x="398" y="1106"/>
                      </a:lnTo>
                      <a:lnTo>
                        <a:pt x="398" y="1102"/>
                      </a:lnTo>
                      <a:lnTo>
                        <a:pt x="398" y="1106"/>
                      </a:lnTo>
                      <a:lnTo>
                        <a:pt x="403" y="1102"/>
                      </a:lnTo>
                      <a:lnTo>
                        <a:pt x="403" y="1097"/>
                      </a:lnTo>
                      <a:lnTo>
                        <a:pt x="403" y="1102"/>
                      </a:lnTo>
                      <a:lnTo>
                        <a:pt x="403" y="1097"/>
                      </a:lnTo>
                      <a:lnTo>
                        <a:pt x="403" y="1093"/>
                      </a:lnTo>
                      <a:lnTo>
                        <a:pt x="403" y="1097"/>
                      </a:lnTo>
                      <a:lnTo>
                        <a:pt x="403" y="1093"/>
                      </a:lnTo>
                      <a:lnTo>
                        <a:pt x="403" y="1079"/>
                      </a:lnTo>
                      <a:lnTo>
                        <a:pt x="407" y="1083"/>
                      </a:lnTo>
                      <a:lnTo>
                        <a:pt x="407" y="1088"/>
                      </a:lnTo>
                      <a:lnTo>
                        <a:pt x="407" y="1093"/>
                      </a:lnTo>
                      <a:lnTo>
                        <a:pt x="407" y="1097"/>
                      </a:lnTo>
                      <a:lnTo>
                        <a:pt x="407" y="1106"/>
                      </a:lnTo>
                      <a:lnTo>
                        <a:pt x="407" y="1111"/>
                      </a:lnTo>
                      <a:lnTo>
                        <a:pt x="407" y="1116"/>
                      </a:lnTo>
                      <a:lnTo>
                        <a:pt x="407" y="1125"/>
                      </a:lnTo>
                      <a:lnTo>
                        <a:pt x="407" y="1130"/>
                      </a:lnTo>
                      <a:lnTo>
                        <a:pt x="407" y="1134"/>
                      </a:lnTo>
                      <a:lnTo>
                        <a:pt x="407" y="1139"/>
                      </a:lnTo>
                      <a:lnTo>
                        <a:pt x="407" y="1143"/>
                      </a:lnTo>
                      <a:lnTo>
                        <a:pt x="407" y="1148"/>
                      </a:lnTo>
                      <a:lnTo>
                        <a:pt x="407" y="1153"/>
                      </a:lnTo>
                      <a:lnTo>
                        <a:pt x="412" y="1157"/>
                      </a:lnTo>
                      <a:lnTo>
                        <a:pt x="412" y="1162"/>
                      </a:lnTo>
                      <a:lnTo>
                        <a:pt x="412" y="1153"/>
                      </a:lnTo>
                      <a:lnTo>
                        <a:pt x="412" y="1148"/>
                      </a:lnTo>
                      <a:lnTo>
                        <a:pt x="412" y="1143"/>
                      </a:lnTo>
                      <a:lnTo>
                        <a:pt x="412" y="1139"/>
                      </a:lnTo>
                      <a:lnTo>
                        <a:pt x="412" y="1134"/>
                      </a:lnTo>
                      <a:lnTo>
                        <a:pt x="412" y="1130"/>
                      </a:lnTo>
                      <a:lnTo>
                        <a:pt x="416" y="1125"/>
                      </a:lnTo>
                      <a:lnTo>
                        <a:pt x="416" y="1120"/>
                      </a:lnTo>
                      <a:lnTo>
                        <a:pt x="416" y="1116"/>
                      </a:lnTo>
                      <a:lnTo>
                        <a:pt x="416" y="1111"/>
                      </a:lnTo>
                      <a:lnTo>
                        <a:pt x="416" y="1116"/>
                      </a:lnTo>
                      <a:lnTo>
                        <a:pt x="416" y="1111"/>
                      </a:lnTo>
                      <a:lnTo>
                        <a:pt x="421" y="1116"/>
                      </a:lnTo>
                      <a:lnTo>
                        <a:pt x="421" y="1111"/>
                      </a:lnTo>
                      <a:lnTo>
                        <a:pt x="421" y="1106"/>
                      </a:lnTo>
                      <a:lnTo>
                        <a:pt x="421" y="1111"/>
                      </a:lnTo>
                      <a:lnTo>
                        <a:pt x="421" y="1106"/>
                      </a:lnTo>
                      <a:lnTo>
                        <a:pt x="421" y="1102"/>
                      </a:lnTo>
                      <a:lnTo>
                        <a:pt x="421" y="1106"/>
                      </a:lnTo>
                      <a:lnTo>
                        <a:pt x="426" y="1102"/>
                      </a:lnTo>
                      <a:lnTo>
                        <a:pt x="426" y="1097"/>
                      </a:lnTo>
                      <a:lnTo>
                        <a:pt x="426" y="1093"/>
                      </a:lnTo>
                      <a:lnTo>
                        <a:pt x="426" y="1097"/>
                      </a:lnTo>
                      <a:lnTo>
                        <a:pt x="430" y="1093"/>
                      </a:lnTo>
                      <a:lnTo>
                        <a:pt x="430" y="1088"/>
                      </a:lnTo>
                      <a:lnTo>
                        <a:pt x="430" y="1093"/>
                      </a:lnTo>
                      <a:lnTo>
                        <a:pt x="430" y="1088"/>
                      </a:lnTo>
                      <a:lnTo>
                        <a:pt x="430" y="1083"/>
                      </a:lnTo>
                      <a:lnTo>
                        <a:pt x="430" y="1088"/>
                      </a:lnTo>
                      <a:lnTo>
                        <a:pt x="430" y="1083"/>
                      </a:lnTo>
                      <a:lnTo>
                        <a:pt x="430" y="1079"/>
                      </a:lnTo>
                      <a:lnTo>
                        <a:pt x="430" y="1065"/>
                      </a:lnTo>
                      <a:lnTo>
                        <a:pt x="435" y="1065"/>
                      </a:lnTo>
                      <a:lnTo>
                        <a:pt x="435" y="1046"/>
                      </a:lnTo>
                      <a:lnTo>
                        <a:pt x="435" y="1023"/>
                      </a:lnTo>
                      <a:lnTo>
                        <a:pt x="435" y="991"/>
                      </a:lnTo>
                      <a:lnTo>
                        <a:pt x="435" y="944"/>
                      </a:lnTo>
                      <a:lnTo>
                        <a:pt x="435" y="884"/>
                      </a:lnTo>
                      <a:lnTo>
                        <a:pt x="435" y="801"/>
                      </a:lnTo>
                      <a:lnTo>
                        <a:pt x="435" y="704"/>
                      </a:lnTo>
                      <a:lnTo>
                        <a:pt x="435" y="630"/>
                      </a:lnTo>
                      <a:lnTo>
                        <a:pt x="435" y="546"/>
                      </a:lnTo>
                      <a:lnTo>
                        <a:pt x="435" y="468"/>
                      </a:lnTo>
                      <a:lnTo>
                        <a:pt x="435" y="407"/>
                      </a:lnTo>
                      <a:lnTo>
                        <a:pt x="435" y="343"/>
                      </a:lnTo>
                      <a:lnTo>
                        <a:pt x="435" y="292"/>
                      </a:lnTo>
                      <a:lnTo>
                        <a:pt x="435" y="264"/>
                      </a:lnTo>
                      <a:lnTo>
                        <a:pt x="435" y="255"/>
                      </a:lnTo>
                      <a:lnTo>
                        <a:pt x="435" y="264"/>
                      </a:lnTo>
                      <a:lnTo>
                        <a:pt x="435" y="245"/>
                      </a:lnTo>
                      <a:lnTo>
                        <a:pt x="435" y="232"/>
                      </a:lnTo>
                      <a:lnTo>
                        <a:pt x="440" y="227"/>
                      </a:lnTo>
                      <a:lnTo>
                        <a:pt x="440" y="236"/>
                      </a:lnTo>
                      <a:lnTo>
                        <a:pt x="440" y="250"/>
                      </a:lnTo>
                      <a:lnTo>
                        <a:pt x="440" y="264"/>
                      </a:lnTo>
                      <a:lnTo>
                        <a:pt x="440" y="283"/>
                      </a:lnTo>
                      <a:lnTo>
                        <a:pt x="440" y="357"/>
                      </a:lnTo>
                      <a:lnTo>
                        <a:pt x="440" y="412"/>
                      </a:lnTo>
                      <a:lnTo>
                        <a:pt x="440" y="472"/>
                      </a:lnTo>
                      <a:lnTo>
                        <a:pt x="440" y="537"/>
                      </a:lnTo>
                      <a:lnTo>
                        <a:pt x="440" y="593"/>
                      </a:lnTo>
                      <a:lnTo>
                        <a:pt x="440" y="639"/>
                      </a:lnTo>
                      <a:lnTo>
                        <a:pt x="440" y="690"/>
                      </a:lnTo>
                      <a:lnTo>
                        <a:pt x="440" y="731"/>
                      </a:lnTo>
                      <a:lnTo>
                        <a:pt x="440" y="773"/>
                      </a:lnTo>
                      <a:lnTo>
                        <a:pt x="440" y="806"/>
                      </a:lnTo>
                      <a:lnTo>
                        <a:pt x="440" y="843"/>
                      </a:lnTo>
                      <a:lnTo>
                        <a:pt x="440" y="875"/>
                      </a:lnTo>
                      <a:lnTo>
                        <a:pt x="444" y="903"/>
                      </a:lnTo>
                      <a:lnTo>
                        <a:pt x="444" y="931"/>
                      </a:lnTo>
                      <a:lnTo>
                        <a:pt x="444" y="954"/>
                      </a:lnTo>
                      <a:lnTo>
                        <a:pt x="444" y="977"/>
                      </a:lnTo>
                      <a:lnTo>
                        <a:pt x="444" y="995"/>
                      </a:lnTo>
                      <a:lnTo>
                        <a:pt x="444" y="1014"/>
                      </a:lnTo>
                      <a:lnTo>
                        <a:pt x="444" y="1032"/>
                      </a:lnTo>
                      <a:lnTo>
                        <a:pt x="444" y="1046"/>
                      </a:lnTo>
                      <a:lnTo>
                        <a:pt x="444" y="1060"/>
                      </a:lnTo>
                      <a:lnTo>
                        <a:pt x="444" y="1074"/>
                      </a:lnTo>
                      <a:lnTo>
                        <a:pt x="444" y="1083"/>
                      </a:lnTo>
                      <a:lnTo>
                        <a:pt x="444" y="1097"/>
                      </a:lnTo>
                      <a:lnTo>
                        <a:pt x="444" y="1111"/>
                      </a:lnTo>
                      <a:lnTo>
                        <a:pt x="444" y="1125"/>
                      </a:lnTo>
                      <a:lnTo>
                        <a:pt x="444" y="1134"/>
                      </a:lnTo>
                      <a:lnTo>
                        <a:pt x="444" y="1148"/>
                      </a:lnTo>
                      <a:lnTo>
                        <a:pt x="444" y="1153"/>
                      </a:lnTo>
                      <a:lnTo>
                        <a:pt x="444" y="1162"/>
                      </a:lnTo>
                      <a:lnTo>
                        <a:pt x="449" y="1162"/>
                      </a:lnTo>
                      <a:lnTo>
                        <a:pt x="449" y="1171"/>
                      </a:lnTo>
                      <a:lnTo>
                        <a:pt x="449" y="1180"/>
                      </a:lnTo>
                      <a:lnTo>
                        <a:pt x="449" y="1190"/>
                      </a:lnTo>
                      <a:lnTo>
                        <a:pt x="449" y="1194"/>
                      </a:lnTo>
                      <a:lnTo>
                        <a:pt x="449" y="1204"/>
                      </a:lnTo>
                      <a:lnTo>
                        <a:pt x="449" y="1208"/>
                      </a:lnTo>
                      <a:lnTo>
                        <a:pt x="449" y="1217"/>
                      </a:lnTo>
                      <a:lnTo>
                        <a:pt x="449" y="1222"/>
                      </a:lnTo>
                      <a:lnTo>
                        <a:pt x="449" y="1227"/>
                      </a:lnTo>
                      <a:lnTo>
                        <a:pt x="449" y="1231"/>
                      </a:lnTo>
                      <a:lnTo>
                        <a:pt x="449" y="1241"/>
                      </a:lnTo>
                      <a:lnTo>
                        <a:pt x="449" y="1245"/>
                      </a:lnTo>
                      <a:lnTo>
                        <a:pt x="449" y="1250"/>
                      </a:lnTo>
                      <a:lnTo>
                        <a:pt x="449" y="1241"/>
                      </a:lnTo>
                      <a:lnTo>
                        <a:pt x="449" y="1227"/>
                      </a:lnTo>
                      <a:lnTo>
                        <a:pt x="449" y="1222"/>
                      </a:lnTo>
                      <a:lnTo>
                        <a:pt x="449" y="1217"/>
                      </a:lnTo>
                      <a:lnTo>
                        <a:pt x="449" y="1208"/>
                      </a:lnTo>
                      <a:lnTo>
                        <a:pt x="449" y="1199"/>
                      </a:lnTo>
                      <a:lnTo>
                        <a:pt x="449" y="1194"/>
                      </a:lnTo>
                      <a:lnTo>
                        <a:pt x="449" y="1190"/>
                      </a:lnTo>
                      <a:lnTo>
                        <a:pt x="449" y="1185"/>
                      </a:lnTo>
                      <a:lnTo>
                        <a:pt x="449" y="1180"/>
                      </a:lnTo>
                      <a:lnTo>
                        <a:pt x="449" y="1185"/>
                      </a:lnTo>
                      <a:lnTo>
                        <a:pt x="449" y="1180"/>
                      </a:lnTo>
                      <a:lnTo>
                        <a:pt x="453" y="1176"/>
                      </a:lnTo>
                      <a:lnTo>
                        <a:pt x="453" y="1171"/>
                      </a:lnTo>
                      <a:lnTo>
                        <a:pt x="453" y="1167"/>
                      </a:lnTo>
                      <a:lnTo>
                        <a:pt x="453" y="1162"/>
                      </a:lnTo>
                      <a:lnTo>
                        <a:pt x="453" y="1157"/>
                      </a:lnTo>
                      <a:lnTo>
                        <a:pt x="453" y="1153"/>
                      </a:lnTo>
                      <a:lnTo>
                        <a:pt x="453" y="1157"/>
                      </a:lnTo>
                      <a:lnTo>
                        <a:pt x="453" y="1153"/>
                      </a:lnTo>
                      <a:lnTo>
                        <a:pt x="453" y="1148"/>
                      </a:lnTo>
                      <a:lnTo>
                        <a:pt x="453" y="1143"/>
                      </a:lnTo>
                      <a:lnTo>
                        <a:pt x="453" y="1139"/>
                      </a:lnTo>
                      <a:lnTo>
                        <a:pt x="453" y="1134"/>
                      </a:lnTo>
                      <a:lnTo>
                        <a:pt x="453" y="1130"/>
                      </a:lnTo>
                      <a:lnTo>
                        <a:pt x="453" y="1125"/>
                      </a:lnTo>
                      <a:lnTo>
                        <a:pt x="453" y="1120"/>
                      </a:lnTo>
                      <a:lnTo>
                        <a:pt x="453" y="1116"/>
                      </a:lnTo>
                      <a:lnTo>
                        <a:pt x="453" y="1111"/>
                      </a:lnTo>
                      <a:lnTo>
                        <a:pt x="453" y="1116"/>
                      </a:lnTo>
                      <a:lnTo>
                        <a:pt x="453" y="1111"/>
                      </a:lnTo>
                      <a:lnTo>
                        <a:pt x="453" y="1116"/>
                      </a:lnTo>
                      <a:lnTo>
                        <a:pt x="458" y="1120"/>
                      </a:lnTo>
                      <a:lnTo>
                        <a:pt x="458" y="1125"/>
                      </a:lnTo>
                      <a:lnTo>
                        <a:pt x="458" y="1130"/>
                      </a:lnTo>
                      <a:lnTo>
                        <a:pt x="458" y="1139"/>
                      </a:lnTo>
                      <a:lnTo>
                        <a:pt x="458" y="1148"/>
                      </a:lnTo>
                      <a:lnTo>
                        <a:pt x="458" y="1157"/>
                      </a:lnTo>
                      <a:lnTo>
                        <a:pt x="458" y="1167"/>
                      </a:lnTo>
                      <a:lnTo>
                        <a:pt x="458" y="1176"/>
                      </a:lnTo>
                      <a:lnTo>
                        <a:pt x="458" y="1180"/>
                      </a:lnTo>
                      <a:lnTo>
                        <a:pt x="458" y="1204"/>
                      </a:lnTo>
                      <a:lnTo>
                        <a:pt x="458" y="1213"/>
                      </a:lnTo>
                      <a:lnTo>
                        <a:pt x="458" y="1222"/>
                      </a:lnTo>
                      <a:lnTo>
                        <a:pt x="458" y="1227"/>
                      </a:lnTo>
                      <a:lnTo>
                        <a:pt x="458" y="1245"/>
                      </a:lnTo>
                      <a:lnTo>
                        <a:pt x="458" y="1250"/>
                      </a:lnTo>
                      <a:lnTo>
                        <a:pt x="458" y="1259"/>
                      </a:lnTo>
                      <a:lnTo>
                        <a:pt x="458" y="1268"/>
                      </a:lnTo>
                      <a:lnTo>
                        <a:pt x="458" y="1278"/>
                      </a:lnTo>
                      <a:lnTo>
                        <a:pt x="458" y="1287"/>
                      </a:lnTo>
                      <a:lnTo>
                        <a:pt x="458" y="1292"/>
                      </a:lnTo>
                      <a:lnTo>
                        <a:pt x="458" y="1296"/>
                      </a:lnTo>
                      <a:lnTo>
                        <a:pt x="458" y="1310"/>
                      </a:lnTo>
                      <a:lnTo>
                        <a:pt x="458" y="1319"/>
                      </a:lnTo>
                      <a:lnTo>
                        <a:pt x="458" y="1324"/>
                      </a:lnTo>
                      <a:lnTo>
                        <a:pt x="458" y="1329"/>
                      </a:lnTo>
                      <a:lnTo>
                        <a:pt x="458" y="1338"/>
                      </a:lnTo>
                      <a:lnTo>
                        <a:pt x="458" y="1347"/>
                      </a:lnTo>
                      <a:lnTo>
                        <a:pt x="458" y="1342"/>
                      </a:lnTo>
                      <a:lnTo>
                        <a:pt x="458" y="1352"/>
                      </a:lnTo>
                      <a:lnTo>
                        <a:pt x="458" y="1356"/>
                      </a:lnTo>
                      <a:lnTo>
                        <a:pt x="458" y="1361"/>
                      </a:lnTo>
                      <a:lnTo>
                        <a:pt x="458" y="1370"/>
                      </a:lnTo>
                      <a:lnTo>
                        <a:pt x="458" y="1366"/>
                      </a:lnTo>
                      <a:lnTo>
                        <a:pt x="458" y="1370"/>
                      </a:lnTo>
                      <a:lnTo>
                        <a:pt x="458" y="1375"/>
                      </a:lnTo>
                      <a:lnTo>
                        <a:pt x="458" y="1370"/>
                      </a:lnTo>
                      <a:lnTo>
                        <a:pt x="458" y="1366"/>
                      </a:lnTo>
                      <a:lnTo>
                        <a:pt x="458" y="1361"/>
                      </a:lnTo>
                      <a:lnTo>
                        <a:pt x="458" y="1356"/>
                      </a:lnTo>
                      <a:lnTo>
                        <a:pt x="458" y="1352"/>
                      </a:lnTo>
                      <a:lnTo>
                        <a:pt x="458" y="1342"/>
                      </a:lnTo>
                      <a:lnTo>
                        <a:pt x="458" y="1338"/>
                      </a:lnTo>
                      <a:lnTo>
                        <a:pt x="458" y="1329"/>
                      </a:lnTo>
                      <a:lnTo>
                        <a:pt x="463" y="1310"/>
                      </a:lnTo>
                      <a:lnTo>
                        <a:pt x="463" y="1301"/>
                      </a:lnTo>
                      <a:lnTo>
                        <a:pt x="463" y="1055"/>
                      </a:lnTo>
                      <a:lnTo>
                        <a:pt x="463" y="866"/>
                      </a:lnTo>
                      <a:lnTo>
                        <a:pt x="463" y="861"/>
                      </a:lnTo>
                      <a:lnTo>
                        <a:pt x="463" y="856"/>
                      </a:lnTo>
                      <a:lnTo>
                        <a:pt x="463" y="852"/>
                      </a:lnTo>
                      <a:lnTo>
                        <a:pt x="463" y="847"/>
                      </a:lnTo>
                      <a:lnTo>
                        <a:pt x="463" y="843"/>
                      </a:lnTo>
                      <a:lnTo>
                        <a:pt x="463" y="838"/>
                      </a:lnTo>
                      <a:lnTo>
                        <a:pt x="463" y="843"/>
                      </a:lnTo>
                      <a:lnTo>
                        <a:pt x="463" y="847"/>
                      </a:lnTo>
                      <a:lnTo>
                        <a:pt x="463" y="856"/>
                      </a:lnTo>
                      <a:lnTo>
                        <a:pt x="463" y="861"/>
                      </a:lnTo>
                      <a:lnTo>
                        <a:pt x="467" y="866"/>
                      </a:lnTo>
                      <a:lnTo>
                        <a:pt x="467" y="875"/>
                      </a:lnTo>
                      <a:lnTo>
                        <a:pt x="467" y="880"/>
                      </a:lnTo>
                      <a:lnTo>
                        <a:pt x="467" y="889"/>
                      </a:lnTo>
                      <a:lnTo>
                        <a:pt x="467" y="893"/>
                      </a:lnTo>
                      <a:lnTo>
                        <a:pt x="467" y="903"/>
                      </a:lnTo>
                      <a:lnTo>
                        <a:pt x="467" y="907"/>
                      </a:lnTo>
                      <a:lnTo>
                        <a:pt x="467" y="917"/>
                      </a:lnTo>
                      <a:lnTo>
                        <a:pt x="467" y="921"/>
                      </a:lnTo>
                      <a:lnTo>
                        <a:pt x="467" y="931"/>
                      </a:lnTo>
                      <a:lnTo>
                        <a:pt x="467" y="940"/>
                      </a:lnTo>
                      <a:lnTo>
                        <a:pt x="467" y="944"/>
                      </a:lnTo>
                      <a:lnTo>
                        <a:pt x="467" y="954"/>
                      </a:lnTo>
                      <a:lnTo>
                        <a:pt x="467" y="963"/>
                      </a:lnTo>
                      <a:lnTo>
                        <a:pt x="467" y="968"/>
                      </a:lnTo>
                      <a:lnTo>
                        <a:pt x="467" y="977"/>
                      </a:lnTo>
                      <a:lnTo>
                        <a:pt x="467" y="981"/>
                      </a:lnTo>
                      <a:lnTo>
                        <a:pt x="467" y="991"/>
                      </a:lnTo>
                      <a:lnTo>
                        <a:pt x="472" y="995"/>
                      </a:lnTo>
                      <a:lnTo>
                        <a:pt x="472" y="1005"/>
                      </a:lnTo>
                      <a:lnTo>
                        <a:pt x="472" y="1014"/>
                      </a:lnTo>
                      <a:lnTo>
                        <a:pt x="472" y="1023"/>
                      </a:lnTo>
                      <a:lnTo>
                        <a:pt x="472" y="1028"/>
                      </a:lnTo>
                      <a:lnTo>
                        <a:pt x="472" y="1037"/>
                      </a:lnTo>
                      <a:lnTo>
                        <a:pt x="472" y="1046"/>
                      </a:lnTo>
                      <a:lnTo>
                        <a:pt x="472" y="1055"/>
                      </a:lnTo>
                      <a:lnTo>
                        <a:pt x="472" y="1060"/>
                      </a:lnTo>
                      <a:lnTo>
                        <a:pt x="472" y="1065"/>
                      </a:lnTo>
                      <a:lnTo>
                        <a:pt x="472" y="1074"/>
                      </a:lnTo>
                      <a:lnTo>
                        <a:pt x="472" y="1079"/>
                      </a:lnTo>
                      <a:lnTo>
                        <a:pt x="472" y="1083"/>
                      </a:lnTo>
                      <a:lnTo>
                        <a:pt x="472" y="1093"/>
                      </a:lnTo>
                      <a:lnTo>
                        <a:pt x="472" y="1097"/>
                      </a:lnTo>
                      <a:lnTo>
                        <a:pt x="472" y="1106"/>
                      </a:lnTo>
                      <a:lnTo>
                        <a:pt x="472" y="1111"/>
                      </a:lnTo>
                      <a:lnTo>
                        <a:pt x="472" y="1120"/>
                      </a:lnTo>
                      <a:lnTo>
                        <a:pt x="477" y="1125"/>
                      </a:lnTo>
                      <a:lnTo>
                        <a:pt x="477" y="1130"/>
                      </a:lnTo>
                      <a:lnTo>
                        <a:pt x="477" y="1134"/>
                      </a:lnTo>
                      <a:lnTo>
                        <a:pt x="477" y="1139"/>
                      </a:lnTo>
                      <a:lnTo>
                        <a:pt x="477" y="1143"/>
                      </a:lnTo>
                      <a:lnTo>
                        <a:pt x="477" y="1148"/>
                      </a:lnTo>
                      <a:lnTo>
                        <a:pt x="477" y="1153"/>
                      </a:lnTo>
                      <a:lnTo>
                        <a:pt x="477" y="1157"/>
                      </a:lnTo>
                      <a:lnTo>
                        <a:pt x="477" y="1162"/>
                      </a:lnTo>
                      <a:lnTo>
                        <a:pt x="477" y="1167"/>
                      </a:lnTo>
                      <a:lnTo>
                        <a:pt x="477" y="1171"/>
                      </a:lnTo>
                      <a:lnTo>
                        <a:pt x="477" y="1180"/>
                      </a:lnTo>
                      <a:lnTo>
                        <a:pt x="481" y="1176"/>
                      </a:lnTo>
                      <a:lnTo>
                        <a:pt x="481" y="1180"/>
                      </a:lnTo>
                      <a:lnTo>
                        <a:pt x="481" y="1176"/>
                      </a:lnTo>
                      <a:lnTo>
                        <a:pt x="481" y="1180"/>
                      </a:lnTo>
                      <a:lnTo>
                        <a:pt x="481" y="1185"/>
                      </a:lnTo>
                      <a:lnTo>
                        <a:pt x="481" y="1180"/>
                      </a:lnTo>
                      <a:lnTo>
                        <a:pt x="481" y="1185"/>
                      </a:lnTo>
                      <a:lnTo>
                        <a:pt x="481" y="1190"/>
                      </a:lnTo>
                      <a:lnTo>
                        <a:pt x="481" y="1185"/>
                      </a:lnTo>
                      <a:lnTo>
                        <a:pt x="486" y="1190"/>
                      </a:lnTo>
                      <a:lnTo>
                        <a:pt x="486" y="1185"/>
                      </a:lnTo>
                      <a:lnTo>
                        <a:pt x="486" y="1190"/>
                      </a:lnTo>
                      <a:lnTo>
                        <a:pt x="486" y="1185"/>
                      </a:lnTo>
                      <a:lnTo>
                        <a:pt x="486" y="1190"/>
                      </a:lnTo>
                      <a:lnTo>
                        <a:pt x="486" y="1185"/>
                      </a:lnTo>
                      <a:lnTo>
                        <a:pt x="486" y="1190"/>
                      </a:lnTo>
                      <a:lnTo>
                        <a:pt x="491" y="1185"/>
                      </a:lnTo>
                      <a:lnTo>
                        <a:pt x="491" y="1180"/>
                      </a:lnTo>
                      <a:lnTo>
                        <a:pt x="491" y="1176"/>
                      </a:lnTo>
                      <a:lnTo>
                        <a:pt x="491" y="1171"/>
                      </a:lnTo>
                      <a:lnTo>
                        <a:pt x="491" y="1167"/>
                      </a:lnTo>
                      <a:lnTo>
                        <a:pt x="491" y="1162"/>
                      </a:lnTo>
                      <a:lnTo>
                        <a:pt x="491" y="1153"/>
                      </a:lnTo>
                      <a:lnTo>
                        <a:pt x="491" y="1148"/>
                      </a:lnTo>
                      <a:lnTo>
                        <a:pt x="491" y="1139"/>
                      </a:lnTo>
                      <a:lnTo>
                        <a:pt x="491" y="1134"/>
                      </a:lnTo>
                      <a:lnTo>
                        <a:pt x="491" y="1130"/>
                      </a:lnTo>
                      <a:lnTo>
                        <a:pt x="491" y="1125"/>
                      </a:lnTo>
                      <a:lnTo>
                        <a:pt x="491" y="1120"/>
                      </a:lnTo>
                      <a:lnTo>
                        <a:pt x="491" y="1116"/>
                      </a:lnTo>
                      <a:lnTo>
                        <a:pt x="491" y="1111"/>
                      </a:lnTo>
                      <a:lnTo>
                        <a:pt x="495" y="1106"/>
                      </a:lnTo>
                      <a:lnTo>
                        <a:pt x="495" y="1102"/>
                      </a:lnTo>
                      <a:lnTo>
                        <a:pt x="495" y="1097"/>
                      </a:lnTo>
                      <a:lnTo>
                        <a:pt x="495" y="1093"/>
                      </a:lnTo>
                      <a:lnTo>
                        <a:pt x="495" y="1097"/>
                      </a:lnTo>
                      <a:lnTo>
                        <a:pt x="500" y="1093"/>
                      </a:lnTo>
                      <a:lnTo>
                        <a:pt x="500" y="1088"/>
                      </a:lnTo>
                      <a:lnTo>
                        <a:pt x="500" y="1083"/>
                      </a:lnTo>
                      <a:lnTo>
                        <a:pt x="500" y="1079"/>
                      </a:lnTo>
                      <a:lnTo>
                        <a:pt x="500" y="1083"/>
                      </a:lnTo>
                      <a:lnTo>
                        <a:pt x="500" y="1079"/>
                      </a:lnTo>
                      <a:lnTo>
                        <a:pt x="500" y="1074"/>
                      </a:lnTo>
                      <a:lnTo>
                        <a:pt x="500" y="1079"/>
                      </a:lnTo>
                      <a:lnTo>
                        <a:pt x="500" y="1069"/>
                      </a:lnTo>
                      <a:lnTo>
                        <a:pt x="504" y="1065"/>
                      </a:lnTo>
                      <a:lnTo>
                        <a:pt x="504" y="1055"/>
                      </a:lnTo>
                      <a:lnTo>
                        <a:pt x="504" y="1051"/>
                      </a:lnTo>
                      <a:lnTo>
                        <a:pt x="504" y="1046"/>
                      </a:lnTo>
                      <a:lnTo>
                        <a:pt x="504" y="1042"/>
                      </a:lnTo>
                      <a:lnTo>
                        <a:pt x="504" y="1037"/>
                      </a:lnTo>
                      <a:lnTo>
                        <a:pt x="504" y="1032"/>
                      </a:lnTo>
                      <a:lnTo>
                        <a:pt x="504" y="1028"/>
                      </a:lnTo>
                      <a:lnTo>
                        <a:pt x="504" y="1023"/>
                      </a:lnTo>
                      <a:lnTo>
                        <a:pt x="504" y="1018"/>
                      </a:lnTo>
                      <a:lnTo>
                        <a:pt x="509" y="1014"/>
                      </a:lnTo>
                      <a:lnTo>
                        <a:pt x="509" y="1009"/>
                      </a:lnTo>
                      <a:lnTo>
                        <a:pt x="509" y="1005"/>
                      </a:lnTo>
                      <a:lnTo>
                        <a:pt x="509" y="1000"/>
                      </a:lnTo>
                      <a:lnTo>
                        <a:pt x="509" y="1005"/>
                      </a:lnTo>
                      <a:lnTo>
                        <a:pt x="509" y="1009"/>
                      </a:lnTo>
                      <a:lnTo>
                        <a:pt x="509" y="1014"/>
                      </a:lnTo>
                      <a:lnTo>
                        <a:pt x="514" y="1018"/>
                      </a:lnTo>
                      <a:lnTo>
                        <a:pt x="514" y="1023"/>
                      </a:lnTo>
                      <a:lnTo>
                        <a:pt x="514" y="1028"/>
                      </a:lnTo>
                      <a:lnTo>
                        <a:pt x="514" y="1023"/>
                      </a:lnTo>
                      <a:lnTo>
                        <a:pt x="514" y="1014"/>
                      </a:lnTo>
                      <a:lnTo>
                        <a:pt x="514" y="1018"/>
                      </a:lnTo>
                      <a:lnTo>
                        <a:pt x="514" y="1014"/>
                      </a:lnTo>
                      <a:lnTo>
                        <a:pt x="518" y="1009"/>
                      </a:lnTo>
                      <a:lnTo>
                        <a:pt x="518" y="1005"/>
                      </a:lnTo>
                      <a:lnTo>
                        <a:pt x="518" y="1000"/>
                      </a:lnTo>
                      <a:lnTo>
                        <a:pt x="518" y="995"/>
                      </a:lnTo>
                      <a:lnTo>
                        <a:pt x="518" y="991"/>
                      </a:lnTo>
                      <a:lnTo>
                        <a:pt x="518" y="986"/>
                      </a:lnTo>
                      <a:lnTo>
                        <a:pt x="518" y="981"/>
                      </a:lnTo>
                      <a:lnTo>
                        <a:pt x="518" y="977"/>
                      </a:lnTo>
                      <a:lnTo>
                        <a:pt x="523" y="972"/>
                      </a:lnTo>
                      <a:lnTo>
                        <a:pt x="523" y="968"/>
                      </a:lnTo>
                      <a:lnTo>
                        <a:pt x="523" y="963"/>
                      </a:lnTo>
                      <a:lnTo>
                        <a:pt x="523" y="958"/>
                      </a:lnTo>
                      <a:lnTo>
                        <a:pt x="523" y="968"/>
                      </a:lnTo>
                      <a:lnTo>
                        <a:pt x="523" y="963"/>
                      </a:lnTo>
                      <a:lnTo>
                        <a:pt x="523" y="958"/>
                      </a:lnTo>
                      <a:lnTo>
                        <a:pt x="528" y="963"/>
                      </a:lnTo>
                      <a:lnTo>
                        <a:pt x="528" y="958"/>
                      </a:lnTo>
                      <a:lnTo>
                        <a:pt x="528" y="954"/>
                      </a:lnTo>
                      <a:lnTo>
                        <a:pt x="528" y="949"/>
                      </a:lnTo>
                      <a:lnTo>
                        <a:pt x="528" y="944"/>
                      </a:lnTo>
                      <a:lnTo>
                        <a:pt x="528" y="949"/>
                      </a:lnTo>
                      <a:lnTo>
                        <a:pt x="528" y="954"/>
                      </a:lnTo>
                      <a:lnTo>
                        <a:pt x="528" y="958"/>
                      </a:lnTo>
                      <a:lnTo>
                        <a:pt x="528" y="963"/>
                      </a:lnTo>
                      <a:lnTo>
                        <a:pt x="528" y="968"/>
                      </a:lnTo>
                      <a:lnTo>
                        <a:pt x="532" y="972"/>
                      </a:lnTo>
                      <a:lnTo>
                        <a:pt x="532" y="977"/>
                      </a:lnTo>
                      <a:lnTo>
                        <a:pt x="532" y="981"/>
                      </a:lnTo>
                      <a:lnTo>
                        <a:pt x="532" y="977"/>
                      </a:lnTo>
                      <a:lnTo>
                        <a:pt x="537" y="981"/>
                      </a:lnTo>
                      <a:lnTo>
                        <a:pt x="537" y="986"/>
                      </a:lnTo>
                      <a:lnTo>
                        <a:pt x="537" y="991"/>
                      </a:lnTo>
                      <a:lnTo>
                        <a:pt x="537" y="995"/>
                      </a:lnTo>
                      <a:lnTo>
                        <a:pt x="537" y="1000"/>
                      </a:lnTo>
                      <a:lnTo>
                        <a:pt x="541" y="1005"/>
                      </a:lnTo>
                      <a:lnTo>
                        <a:pt x="541" y="1009"/>
                      </a:lnTo>
                      <a:lnTo>
                        <a:pt x="541" y="1014"/>
                      </a:lnTo>
                      <a:lnTo>
                        <a:pt x="541" y="1018"/>
                      </a:lnTo>
                      <a:lnTo>
                        <a:pt x="541" y="1023"/>
                      </a:lnTo>
                      <a:lnTo>
                        <a:pt x="541" y="1018"/>
                      </a:lnTo>
                      <a:lnTo>
                        <a:pt x="541" y="1014"/>
                      </a:lnTo>
                      <a:lnTo>
                        <a:pt x="541" y="1009"/>
                      </a:lnTo>
                      <a:lnTo>
                        <a:pt x="546" y="1005"/>
                      </a:lnTo>
                      <a:lnTo>
                        <a:pt x="546" y="1000"/>
                      </a:lnTo>
                      <a:lnTo>
                        <a:pt x="546" y="1005"/>
                      </a:lnTo>
                      <a:lnTo>
                        <a:pt x="546" y="1000"/>
                      </a:lnTo>
                      <a:lnTo>
                        <a:pt x="546" y="1005"/>
                      </a:lnTo>
                      <a:lnTo>
                        <a:pt x="546" y="1009"/>
                      </a:lnTo>
                      <a:lnTo>
                        <a:pt x="546" y="1014"/>
                      </a:lnTo>
                      <a:lnTo>
                        <a:pt x="546" y="1018"/>
                      </a:lnTo>
                      <a:lnTo>
                        <a:pt x="546" y="1028"/>
                      </a:lnTo>
                      <a:lnTo>
                        <a:pt x="551" y="1032"/>
                      </a:lnTo>
                      <a:lnTo>
                        <a:pt x="551" y="1037"/>
                      </a:lnTo>
                      <a:lnTo>
                        <a:pt x="551" y="1042"/>
                      </a:lnTo>
                      <a:lnTo>
                        <a:pt x="551" y="1046"/>
                      </a:lnTo>
                      <a:lnTo>
                        <a:pt x="551" y="1051"/>
                      </a:lnTo>
                      <a:lnTo>
                        <a:pt x="551" y="1046"/>
                      </a:lnTo>
                      <a:lnTo>
                        <a:pt x="551" y="1051"/>
                      </a:lnTo>
                      <a:lnTo>
                        <a:pt x="551" y="1055"/>
                      </a:lnTo>
                      <a:lnTo>
                        <a:pt x="551" y="1060"/>
                      </a:lnTo>
                      <a:lnTo>
                        <a:pt x="551" y="1065"/>
                      </a:lnTo>
                      <a:lnTo>
                        <a:pt x="551" y="1069"/>
                      </a:lnTo>
                      <a:lnTo>
                        <a:pt x="551" y="1074"/>
                      </a:lnTo>
                      <a:lnTo>
                        <a:pt x="555" y="1079"/>
                      </a:lnTo>
                      <a:lnTo>
                        <a:pt x="555" y="1083"/>
                      </a:lnTo>
                      <a:lnTo>
                        <a:pt x="555" y="1093"/>
                      </a:lnTo>
                      <a:lnTo>
                        <a:pt x="555" y="1097"/>
                      </a:lnTo>
                      <a:lnTo>
                        <a:pt x="555" y="1106"/>
                      </a:lnTo>
                      <a:lnTo>
                        <a:pt x="555" y="1111"/>
                      </a:lnTo>
                      <a:lnTo>
                        <a:pt x="555" y="1120"/>
                      </a:lnTo>
                      <a:lnTo>
                        <a:pt x="555" y="1130"/>
                      </a:lnTo>
                      <a:lnTo>
                        <a:pt x="555" y="1134"/>
                      </a:lnTo>
                      <a:lnTo>
                        <a:pt x="555" y="1139"/>
                      </a:lnTo>
                      <a:lnTo>
                        <a:pt x="555" y="1148"/>
                      </a:lnTo>
                      <a:lnTo>
                        <a:pt x="555" y="1153"/>
                      </a:lnTo>
                      <a:lnTo>
                        <a:pt x="555" y="1157"/>
                      </a:lnTo>
                      <a:lnTo>
                        <a:pt x="555" y="1153"/>
                      </a:lnTo>
                      <a:lnTo>
                        <a:pt x="555" y="1148"/>
                      </a:lnTo>
                      <a:lnTo>
                        <a:pt x="560" y="1143"/>
                      </a:lnTo>
                      <a:lnTo>
                        <a:pt x="560" y="1139"/>
                      </a:lnTo>
                      <a:lnTo>
                        <a:pt x="560" y="1134"/>
                      </a:lnTo>
                      <a:lnTo>
                        <a:pt x="560" y="1120"/>
                      </a:lnTo>
                      <a:lnTo>
                        <a:pt x="560" y="1111"/>
                      </a:lnTo>
                      <a:lnTo>
                        <a:pt x="560" y="1097"/>
                      </a:lnTo>
                      <a:lnTo>
                        <a:pt x="560" y="1093"/>
                      </a:lnTo>
                      <a:lnTo>
                        <a:pt x="560" y="1083"/>
                      </a:lnTo>
                      <a:lnTo>
                        <a:pt x="560" y="1079"/>
                      </a:lnTo>
                      <a:lnTo>
                        <a:pt x="560" y="1074"/>
                      </a:lnTo>
                      <a:lnTo>
                        <a:pt x="560" y="1069"/>
                      </a:lnTo>
                      <a:lnTo>
                        <a:pt x="560" y="1065"/>
                      </a:lnTo>
                      <a:lnTo>
                        <a:pt x="560" y="1069"/>
                      </a:lnTo>
                      <a:lnTo>
                        <a:pt x="565" y="1074"/>
                      </a:lnTo>
                      <a:lnTo>
                        <a:pt x="565" y="1079"/>
                      </a:lnTo>
                      <a:lnTo>
                        <a:pt x="565" y="1088"/>
                      </a:lnTo>
                      <a:lnTo>
                        <a:pt x="565" y="1093"/>
                      </a:lnTo>
                      <a:lnTo>
                        <a:pt x="565" y="1097"/>
                      </a:lnTo>
                      <a:lnTo>
                        <a:pt x="565" y="1102"/>
                      </a:lnTo>
                      <a:lnTo>
                        <a:pt x="565" y="1106"/>
                      </a:lnTo>
                      <a:lnTo>
                        <a:pt x="565" y="1111"/>
                      </a:lnTo>
                      <a:lnTo>
                        <a:pt x="565" y="1116"/>
                      </a:lnTo>
                      <a:lnTo>
                        <a:pt x="565" y="1125"/>
                      </a:lnTo>
                      <a:lnTo>
                        <a:pt x="565" y="1120"/>
                      </a:lnTo>
                      <a:lnTo>
                        <a:pt x="565" y="1130"/>
                      </a:lnTo>
                      <a:lnTo>
                        <a:pt x="565" y="1134"/>
                      </a:lnTo>
                      <a:lnTo>
                        <a:pt x="569" y="1130"/>
                      </a:lnTo>
                      <a:lnTo>
                        <a:pt x="569" y="1125"/>
                      </a:lnTo>
                      <a:lnTo>
                        <a:pt x="569" y="1120"/>
                      </a:lnTo>
                      <a:lnTo>
                        <a:pt x="569" y="1116"/>
                      </a:lnTo>
                      <a:lnTo>
                        <a:pt x="569" y="1111"/>
                      </a:lnTo>
                      <a:lnTo>
                        <a:pt x="569" y="1116"/>
                      </a:lnTo>
                      <a:lnTo>
                        <a:pt x="569" y="1111"/>
                      </a:lnTo>
                      <a:lnTo>
                        <a:pt x="574" y="1116"/>
                      </a:lnTo>
                      <a:lnTo>
                        <a:pt x="574" y="1111"/>
                      </a:lnTo>
                      <a:lnTo>
                        <a:pt x="574" y="1116"/>
                      </a:lnTo>
                      <a:lnTo>
                        <a:pt x="574" y="1111"/>
                      </a:lnTo>
                      <a:lnTo>
                        <a:pt x="574" y="1116"/>
                      </a:lnTo>
                      <a:lnTo>
                        <a:pt x="574" y="1111"/>
                      </a:lnTo>
                      <a:lnTo>
                        <a:pt x="578" y="1116"/>
                      </a:lnTo>
                      <a:lnTo>
                        <a:pt x="578" y="1120"/>
                      </a:lnTo>
                      <a:lnTo>
                        <a:pt x="578" y="1125"/>
                      </a:lnTo>
                      <a:lnTo>
                        <a:pt x="578" y="1130"/>
                      </a:lnTo>
                      <a:lnTo>
                        <a:pt x="578" y="1134"/>
                      </a:lnTo>
                      <a:lnTo>
                        <a:pt x="583" y="1139"/>
                      </a:lnTo>
                      <a:lnTo>
                        <a:pt x="583" y="1143"/>
                      </a:lnTo>
                      <a:lnTo>
                        <a:pt x="583" y="1139"/>
                      </a:lnTo>
                      <a:lnTo>
                        <a:pt x="583" y="1143"/>
                      </a:lnTo>
                      <a:lnTo>
                        <a:pt x="583" y="1139"/>
                      </a:lnTo>
                      <a:lnTo>
                        <a:pt x="588" y="1143"/>
                      </a:lnTo>
                      <a:lnTo>
                        <a:pt x="588" y="1148"/>
                      </a:lnTo>
                      <a:lnTo>
                        <a:pt x="588" y="1143"/>
                      </a:lnTo>
                      <a:lnTo>
                        <a:pt x="592" y="1139"/>
                      </a:lnTo>
                      <a:lnTo>
                        <a:pt x="592" y="1134"/>
                      </a:lnTo>
                      <a:lnTo>
                        <a:pt x="592" y="1130"/>
                      </a:lnTo>
                      <a:lnTo>
                        <a:pt x="592" y="1125"/>
                      </a:lnTo>
                      <a:lnTo>
                        <a:pt x="592" y="112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54600" y="2825640"/>
                  <a:ext cx="1140120" cy="1117800"/>
                </a:xfrm>
                <a:custGeom>
                  <a:avLst/>
                  <a:gdLst/>
                  <a:ahLst/>
                  <a:rect l="l" t="t" r="r" b="b"/>
                  <a:pathLst>
                    <a:path w="718" h="704">
                      <a:moveTo>
                        <a:pt x="0" y="370"/>
                      </a:moveTo>
                      <a:lnTo>
                        <a:pt x="0" y="366"/>
                      </a:lnTo>
                      <a:lnTo>
                        <a:pt x="0" y="361"/>
                      </a:lnTo>
                      <a:lnTo>
                        <a:pt x="0" y="356"/>
                      </a:lnTo>
                      <a:lnTo>
                        <a:pt x="5" y="352"/>
                      </a:lnTo>
                      <a:lnTo>
                        <a:pt x="5" y="347"/>
                      </a:lnTo>
                      <a:lnTo>
                        <a:pt x="5" y="343"/>
                      </a:lnTo>
                      <a:lnTo>
                        <a:pt x="5" y="338"/>
                      </a:lnTo>
                      <a:lnTo>
                        <a:pt x="5" y="329"/>
                      </a:lnTo>
                      <a:lnTo>
                        <a:pt x="5" y="319"/>
                      </a:lnTo>
                      <a:lnTo>
                        <a:pt x="10" y="315"/>
                      </a:lnTo>
                      <a:lnTo>
                        <a:pt x="10" y="310"/>
                      </a:lnTo>
                      <a:lnTo>
                        <a:pt x="10" y="305"/>
                      </a:lnTo>
                      <a:lnTo>
                        <a:pt x="10" y="310"/>
                      </a:lnTo>
                      <a:lnTo>
                        <a:pt x="10" y="305"/>
                      </a:lnTo>
                      <a:lnTo>
                        <a:pt x="10" y="310"/>
                      </a:lnTo>
                      <a:lnTo>
                        <a:pt x="10" y="305"/>
                      </a:lnTo>
                      <a:lnTo>
                        <a:pt x="10" y="301"/>
                      </a:lnTo>
                      <a:lnTo>
                        <a:pt x="10" y="296"/>
                      </a:lnTo>
                      <a:lnTo>
                        <a:pt x="14" y="292"/>
                      </a:lnTo>
                      <a:lnTo>
                        <a:pt x="14" y="282"/>
                      </a:lnTo>
                      <a:lnTo>
                        <a:pt x="14" y="278"/>
                      </a:lnTo>
                      <a:lnTo>
                        <a:pt x="14" y="268"/>
                      </a:lnTo>
                      <a:lnTo>
                        <a:pt x="14" y="264"/>
                      </a:lnTo>
                      <a:lnTo>
                        <a:pt x="14" y="250"/>
                      </a:lnTo>
                      <a:lnTo>
                        <a:pt x="14" y="245"/>
                      </a:lnTo>
                      <a:lnTo>
                        <a:pt x="14" y="231"/>
                      </a:lnTo>
                      <a:lnTo>
                        <a:pt x="14" y="227"/>
                      </a:lnTo>
                      <a:lnTo>
                        <a:pt x="14" y="218"/>
                      </a:lnTo>
                      <a:lnTo>
                        <a:pt x="14" y="208"/>
                      </a:lnTo>
                      <a:lnTo>
                        <a:pt x="14" y="194"/>
                      </a:lnTo>
                      <a:lnTo>
                        <a:pt x="14" y="185"/>
                      </a:lnTo>
                      <a:lnTo>
                        <a:pt x="14" y="176"/>
                      </a:lnTo>
                      <a:lnTo>
                        <a:pt x="14" y="162"/>
                      </a:lnTo>
                      <a:lnTo>
                        <a:pt x="14" y="153"/>
                      </a:lnTo>
                      <a:lnTo>
                        <a:pt x="14" y="143"/>
                      </a:lnTo>
                      <a:lnTo>
                        <a:pt x="14" y="134"/>
                      </a:lnTo>
                      <a:lnTo>
                        <a:pt x="19" y="125"/>
                      </a:lnTo>
                      <a:lnTo>
                        <a:pt x="19" y="116"/>
                      </a:lnTo>
                      <a:lnTo>
                        <a:pt x="19" y="106"/>
                      </a:lnTo>
                      <a:lnTo>
                        <a:pt x="19" y="97"/>
                      </a:lnTo>
                      <a:lnTo>
                        <a:pt x="19" y="88"/>
                      </a:lnTo>
                      <a:lnTo>
                        <a:pt x="19" y="79"/>
                      </a:lnTo>
                      <a:lnTo>
                        <a:pt x="19" y="69"/>
                      </a:lnTo>
                      <a:lnTo>
                        <a:pt x="19" y="60"/>
                      </a:lnTo>
                      <a:lnTo>
                        <a:pt x="19" y="51"/>
                      </a:lnTo>
                      <a:lnTo>
                        <a:pt x="19" y="56"/>
                      </a:lnTo>
                      <a:lnTo>
                        <a:pt x="19" y="60"/>
                      </a:lnTo>
                      <a:lnTo>
                        <a:pt x="19" y="65"/>
                      </a:lnTo>
                      <a:lnTo>
                        <a:pt x="19" y="74"/>
                      </a:lnTo>
                      <a:lnTo>
                        <a:pt x="19" y="79"/>
                      </a:lnTo>
                      <a:lnTo>
                        <a:pt x="23" y="83"/>
                      </a:lnTo>
                      <a:lnTo>
                        <a:pt x="23" y="88"/>
                      </a:lnTo>
                      <a:lnTo>
                        <a:pt x="23" y="83"/>
                      </a:lnTo>
                      <a:lnTo>
                        <a:pt x="23" y="88"/>
                      </a:lnTo>
                      <a:lnTo>
                        <a:pt x="23" y="93"/>
                      </a:lnTo>
                      <a:lnTo>
                        <a:pt x="23" y="97"/>
                      </a:lnTo>
                      <a:lnTo>
                        <a:pt x="23" y="102"/>
                      </a:lnTo>
                      <a:lnTo>
                        <a:pt x="23" y="106"/>
                      </a:lnTo>
                      <a:lnTo>
                        <a:pt x="23" y="116"/>
                      </a:lnTo>
                      <a:lnTo>
                        <a:pt x="23" y="125"/>
                      </a:lnTo>
                      <a:lnTo>
                        <a:pt x="23" y="134"/>
                      </a:lnTo>
                      <a:lnTo>
                        <a:pt x="28" y="139"/>
                      </a:lnTo>
                      <a:lnTo>
                        <a:pt x="28" y="143"/>
                      </a:lnTo>
                      <a:lnTo>
                        <a:pt x="28" y="148"/>
                      </a:lnTo>
                      <a:lnTo>
                        <a:pt x="28" y="153"/>
                      </a:lnTo>
                      <a:lnTo>
                        <a:pt x="28" y="148"/>
                      </a:lnTo>
                      <a:lnTo>
                        <a:pt x="28" y="153"/>
                      </a:lnTo>
                      <a:lnTo>
                        <a:pt x="28" y="148"/>
                      </a:lnTo>
                      <a:lnTo>
                        <a:pt x="28" y="143"/>
                      </a:lnTo>
                      <a:lnTo>
                        <a:pt x="33" y="139"/>
                      </a:lnTo>
                      <a:lnTo>
                        <a:pt x="33" y="134"/>
                      </a:lnTo>
                      <a:lnTo>
                        <a:pt x="33" y="130"/>
                      </a:lnTo>
                      <a:lnTo>
                        <a:pt x="33" y="125"/>
                      </a:lnTo>
                      <a:lnTo>
                        <a:pt x="33" y="120"/>
                      </a:lnTo>
                      <a:lnTo>
                        <a:pt x="33" y="116"/>
                      </a:lnTo>
                      <a:lnTo>
                        <a:pt x="37" y="111"/>
                      </a:lnTo>
                      <a:lnTo>
                        <a:pt x="37" y="106"/>
                      </a:lnTo>
                      <a:lnTo>
                        <a:pt x="37" y="102"/>
                      </a:lnTo>
                      <a:lnTo>
                        <a:pt x="37" y="97"/>
                      </a:lnTo>
                      <a:lnTo>
                        <a:pt x="37" y="102"/>
                      </a:lnTo>
                      <a:lnTo>
                        <a:pt x="37" y="97"/>
                      </a:lnTo>
                      <a:lnTo>
                        <a:pt x="42" y="93"/>
                      </a:lnTo>
                      <a:lnTo>
                        <a:pt x="42" y="88"/>
                      </a:lnTo>
                      <a:lnTo>
                        <a:pt x="47" y="93"/>
                      </a:lnTo>
                      <a:lnTo>
                        <a:pt x="47" y="97"/>
                      </a:lnTo>
                      <a:lnTo>
                        <a:pt x="47" y="102"/>
                      </a:lnTo>
                      <a:lnTo>
                        <a:pt x="47" y="97"/>
                      </a:lnTo>
                      <a:lnTo>
                        <a:pt x="47" y="102"/>
                      </a:lnTo>
                      <a:lnTo>
                        <a:pt x="47" y="106"/>
                      </a:lnTo>
                      <a:lnTo>
                        <a:pt x="47" y="102"/>
                      </a:lnTo>
                      <a:lnTo>
                        <a:pt x="51" y="106"/>
                      </a:lnTo>
                      <a:lnTo>
                        <a:pt x="51" y="111"/>
                      </a:lnTo>
                      <a:lnTo>
                        <a:pt x="51" y="106"/>
                      </a:lnTo>
                      <a:lnTo>
                        <a:pt x="51" y="111"/>
                      </a:lnTo>
                      <a:lnTo>
                        <a:pt x="51" y="106"/>
                      </a:lnTo>
                      <a:lnTo>
                        <a:pt x="56" y="111"/>
                      </a:lnTo>
                      <a:lnTo>
                        <a:pt x="56" y="116"/>
                      </a:lnTo>
                      <a:lnTo>
                        <a:pt x="56" y="111"/>
                      </a:lnTo>
                      <a:lnTo>
                        <a:pt x="56" y="116"/>
                      </a:lnTo>
                      <a:lnTo>
                        <a:pt x="56" y="111"/>
                      </a:lnTo>
                      <a:lnTo>
                        <a:pt x="56" y="116"/>
                      </a:lnTo>
                      <a:lnTo>
                        <a:pt x="56" y="111"/>
                      </a:lnTo>
                      <a:lnTo>
                        <a:pt x="56" y="116"/>
                      </a:lnTo>
                      <a:lnTo>
                        <a:pt x="61" y="120"/>
                      </a:lnTo>
                      <a:lnTo>
                        <a:pt x="61" y="125"/>
                      </a:lnTo>
                      <a:lnTo>
                        <a:pt x="61" y="130"/>
                      </a:lnTo>
                      <a:lnTo>
                        <a:pt x="65" y="134"/>
                      </a:lnTo>
                      <a:lnTo>
                        <a:pt x="65" y="139"/>
                      </a:lnTo>
                      <a:lnTo>
                        <a:pt x="65" y="148"/>
                      </a:lnTo>
                      <a:lnTo>
                        <a:pt x="65" y="153"/>
                      </a:lnTo>
                      <a:lnTo>
                        <a:pt x="70" y="148"/>
                      </a:lnTo>
                      <a:lnTo>
                        <a:pt x="70" y="143"/>
                      </a:lnTo>
                      <a:lnTo>
                        <a:pt x="74" y="148"/>
                      </a:lnTo>
                      <a:lnTo>
                        <a:pt x="74" y="153"/>
                      </a:lnTo>
                      <a:lnTo>
                        <a:pt x="74" y="148"/>
                      </a:lnTo>
                      <a:lnTo>
                        <a:pt x="74" y="153"/>
                      </a:lnTo>
                      <a:lnTo>
                        <a:pt x="74" y="157"/>
                      </a:lnTo>
                      <a:lnTo>
                        <a:pt x="74" y="162"/>
                      </a:lnTo>
                      <a:lnTo>
                        <a:pt x="79" y="167"/>
                      </a:lnTo>
                      <a:lnTo>
                        <a:pt x="79" y="171"/>
                      </a:lnTo>
                      <a:lnTo>
                        <a:pt x="79" y="176"/>
                      </a:lnTo>
                      <a:lnTo>
                        <a:pt x="79" y="181"/>
                      </a:lnTo>
                      <a:lnTo>
                        <a:pt x="79" y="185"/>
                      </a:lnTo>
                      <a:lnTo>
                        <a:pt x="79" y="190"/>
                      </a:lnTo>
                      <a:lnTo>
                        <a:pt x="79" y="194"/>
                      </a:lnTo>
                      <a:lnTo>
                        <a:pt x="79" y="199"/>
                      </a:lnTo>
                      <a:lnTo>
                        <a:pt x="84" y="204"/>
                      </a:lnTo>
                      <a:lnTo>
                        <a:pt x="84" y="208"/>
                      </a:lnTo>
                      <a:lnTo>
                        <a:pt x="84" y="213"/>
                      </a:lnTo>
                      <a:lnTo>
                        <a:pt x="84" y="218"/>
                      </a:lnTo>
                      <a:lnTo>
                        <a:pt x="84" y="222"/>
                      </a:lnTo>
                      <a:lnTo>
                        <a:pt x="84" y="227"/>
                      </a:lnTo>
                      <a:lnTo>
                        <a:pt x="88" y="231"/>
                      </a:lnTo>
                      <a:lnTo>
                        <a:pt x="88" y="236"/>
                      </a:lnTo>
                      <a:lnTo>
                        <a:pt x="88" y="241"/>
                      </a:lnTo>
                      <a:lnTo>
                        <a:pt x="88" y="245"/>
                      </a:lnTo>
                      <a:lnTo>
                        <a:pt x="88" y="250"/>
                      </a:lnTo>
                      <a:lnTo>
                        <a:pt x="88" y="255"/>
                      </a:lnTo>
                      <a:lnTo>
                        <a:pt x="93" y="259"/>
                      </a:lnTo>
                      <a:lnTo>
                        <a:pt x="93" y="264"/>
                      </a:lnTo>
                      <a:lnTo>
                        <a:pt x="93" y="268"/>
                      </a:lnTo>
                      <a:lnTo>
                        <a:pt x="93" y="273"/>
                      </a:lnTo>
                      <a:lnTo>
                        <a:pt x="93" y="278"/>
                      </a:lnTo>
                      <a:lnTo>
                        <a:pt x="93" y="273"/>
                      </a:lnTo>
                      <a:lnTo>
                        <a:pt x="93" y="278"/>
                      </a:lnTo>
                      <a:lnTo>
                        <a:pt x="98" y="282"/>
                      </a:lnTo>
                      <a:lnTo>
                        <a:pt x="98" y="287"/>
                      </a:lnTo>
                      <a:lnTo>
                        <a:pt x="98" y="292"/>
                      </a:lnTo>
                      <a:lnTo>
                        <a:pt x="98" y="296"/>
                      </a:lnTo>
                      <a:lnTo>
                        <a:pt x="98" y="301"/>
                      </a:lnTo>
                      <a:lnTo>
                        <a:pt x="102" y="296"/>
                      </a:lnTo>
                      <a:lnTo>
                        <a:pt x="102" y="301"/>
                      </a:lnTo>
                      <a:lnTo>
                        <a:pt x="102" y="305"/>
                      </a:lnTo>
                      <a:lnTo>
                        <a:pt x="102" y="310"/>
                      </a:lnTo>
                      <a:lnTo>
                        <a:pt x="102" y="315"/>
                      </a:lnTo>
                      <a:lnTo>
                        <a:pt x="102" y="310"/>
                      </a:lnTo>
                      <a:lnTo>
                        <a:pt x="102" y="315"/>
                      </a:lnTo>
                      <a:lnTo>
                        <a:pt x="102" y="310"/>
                      </a:lnTo>
                      <a:lnTo>
                        <a:pt x="107" y="315"/>
                      </a:lnTo>
                      <a:lnTo>
                        <a:pt x="111" y="319"/>
                      </a:lnTo>
                      <a:lnTo>
                        <a:pt x="111" y="324"/>
                      </a:lnTo>
                      <a:lnTo>
                        <a:pt x="111" y="319"/>
                      </a:lnTo>
                      <a:lnTo>
                        <a:pt x="111" y="324"/>
                      </a:lnTo>
                      <a:lnTo>
                        <a:pt x="116" y="319"/>
                      </a:lnTo>
                      <a:lnTo>
                        <a:pt x="116" y="324"/>
                      </a:lnTo>
                      <a:lnTo>
                        <a:pt x="121" y="329"/>
                      </a:lnTo>
                      <a:lnTo>
                        <a:pt x="121" y="333"/>
                      </a:lnTo>
                      <a:lnTo>
                        <a:pt x="121" y="329"/>
                      </a:lnTo>
                      <a:lnTo>
                        <a:pt x="125" y="333"/>
                      </a:lnTo>
                      <a:lnTo>
                        <a:pt x="125" y="329"/>
                      </a:lnTo>
                      <a:lnTo>
                        <a:pt x="125" y="333"/>
                      </a:lnTo>
                      <a:lnTo>
                        <a:pt x="125" y="329"/>
                      </a:lnTo>
                      <a:lnTo>
                        <a:pt x="125" y="333"/>
                      </a:lnTo>
                      <a:lnTo>
                        <a:pt x="125" y="329"/>
                      </a:lnTo>
                      <a:lnTo>
                        <a:pt x="130" y="333"/>
                      </a:lnTo>
                      <a:lnTo>
                        <a:pt x="130" y="338"/>
                      </a:lnTo>
                      <a:lnTo>
                        <a:pt x="130" y="333"/>
                      </a:lnTo>
                      <a:lnTo>
                        <a:pt x="130" y="338"/>
                      </a:lnTo>
                      <a:lnTo>
                        <a:pt x="130" y="333"/>
                      </a:lnTo>
                      <a:lnTo>
                        <a:pt x="135" y="338"/>
                      </a:lnTo>
                      <a:lnTo>
                        <a:pt x="135" y="343"/>
                      </a:lnTo>
                      <a:lnTo>
                        <a:pt x="135" y="338"/>
                      </a:lnTo>
                      <a:lnTo>
                        <a:pt x="135" y="333"/>
                      </a:lnTo>
                      <a:lnTo>
                        <a:pt x="135" y="338"/>
                      </a:lnTo>
                      <a:lnTo>
                        <a:pt x="139" y="333"/>
                      </a:lnTo>
                      <a:lnTo>
                        <a:pt x="139" y="329"/>
                      </a:lnTo>
                      <a:lnTo>
                        <a:pt x="139" y="333"/>
                      </a:lnTo>
                      <a:lnTo>
                        <a:pt x="139" y="329"/>
                      </a:lnTo>
                      <a:lnTo>
                        <a:pt x="139" y="333"/>
                      </a:lnTo>
                      <a:lnTo>
                        <a:pt x="144" y="329"/>
                      </a:lnTo>
                      <a:lnTo>
                        <a:pt x="144" y="333"/>
                      </a:lnTo>
                      <a:lnTo>
                        <a:pt x="144" y="329"/>
                      </a:lnTo>
                      <a:lnTo>
                        <a:pt x="144" y="333"/>
                      </a:lnTo>
                      <a:lnTo>
                        <a:pt x="144" y="329"/>
                      </a:lnTo>
                      <a:lnTo>
                        <a:pt x="144" y="333"/>
                      </a:lnTo>
                      <a:lnTo>
                        <a:pt x="144" y="329"/>
                      </a:lnTo>
                      <a:lnTo>
                        <a:pt x="148" y="333"/>
                      </a:lnTo>
                      <a:lnTo>
                        <a:pt x="148" y="338"/>
                      </a:lnTo>
                      <a:lnTo>
                        <a:pt x="148" y="333"/>
                      </a:lnTo>
                      <a:lnTo>
                        <a:pt x="153" y="338"/>
                      </a:lnTo>
                      <a:lnTo>
                        <a:pt x="153" y="333"/>
                      </a:lnTo>
                      <a:lnTo>
                        <a:pt x="153" y="338"/>
                      </a:lnTo>
                      <a:lnTo>
                        <a:pt x="153" y="333"/>
                      </a:lnTo>
                      <a:lnTo>
                        <a:pt x="158" y="329"/>
                      </a:lnTo>
                      <a:lnTo>
                        <a:pt x="158" y="333"/>
                      </a:lnTo>
                      <a:lnTo>
                        <a:pt x="158" y="329"/>
                      </a:lnTo>
                      <a:lnTo>
                        <a:pt x="158" y="333"/>
                      </a:lnTo>
                      <a:lnTo>
                        <a:pt x="162" y="338"/>
                      </a:lnTo>
                      <a:lnTo>
                        <a:pt x="162" y="343"/>
                      </a:lnTo>
                      <a:lnTo>
                        <a:pt x="162" y="338"/>
                      </a:lnTo>
                      <a:lnTo>
                        <a:pt x="162" y="343"/>
                      </a:lnTo>
                      <a:lnTo>
                        <a:pt x="167" y="347"/>
                      </a:lnTo>
                      <a:lnTo>
                        <a:pt x="167" y="343"/>
                      </a:lnTo>
                      <a:lnTo>
                        <a:pt x="167" y="347"/>
                      </a:lnTo>
                      <a:lnTo>
                        <a:pt x="167" y="343"/>
                      </a:lnTo>
                      <a:lnTo>
                        <a:pt x="167" y="347"/>
                      </a:lnTo>
                      <a:lnTo>
                        <a:pt x="167" y="352"/>
                      </a:lnTo>
                      <a:lnTo>
                        <a:pt x="172" y="347"/>
                      </a:lnTo>
                      <a:lnTo>
                        <a:pt x="172" y="352"/>
                      </a:lnTo>
                      <a:lnTo>
                        <a:pt x="172" y="347"/>
                      </a:lnTo>
                      <a:lnTo>
                        <a:pt x="172" y="343"/>
                      </a:lnTo>
                      <a:lnTo>
                        <a:pt x="172" y="347"/>
                      </a:lnTo>
                      <a:lnTo>
                        <a:pt x="172" y="343"/>
                      </a:lnTo>
                      <a:lnTo>
                        <a:pt x="172" y="347"/>
                      </a:lnTo>
                      <a:lnTo>
                        <a:pt x="176" y="343"/>
                      </a:lnTo>
                      <a:lnTo>
                        <a:pt x="181" y="338"/>
                      </a:lnTo>
                      <a:lnTo>
                        <a:pt x="181" y="343"/>
                      </a:lnTo>
                      <a:lnTo>
                        <a:pt x="181" y="338"/>
                      </a:lnTo>
                      <a:lnTo>
                        <a:pt x="181" y="343"/>
                      </a:lnTo>
                      <a:lnTo>
                        <a:pt x="185" y="338"/>
                      </a:lnTo>
                      <a:lnTo>
                        <a:pt x="190" y="338"/>
                      </a:lnTo>
                      <a:lnTo>
                        <a:pt x="195" y="333"/>
                      </a:lnTo>
                      <a:lnTo>
                        <a:pt x="195" y="338"/>
                      </a:lnTo>
                      <a:lnTo>
                        <a:pt x="195" y="333"/>
                      </a:lnTo>
                      <a:lnTo>
                        <a:pt x="195" y="338"/>
                      </a:lnTo>
                      <a:lnTo>
                        <a:pt x="195" y="333"/>
                      </a:lnTo>
                      <a:lnTo>
                        <a:pt x="195" y="338"/>
                      </a:lnTo>
                      <a:lnTo>
                        <a:pt x="195" y="333"/>
                      </a:lnTo>
                      <a:lnTo>
                        <a:pt x="195" y="338"/>
                      </a:lnTo>
                      <a:lnTo>
                        <a:pt x="195" y="333"/>
                      </a:lnTo>
                      <a:lnTo>
                        <a:pt x="199" y="338"/>
                      </a:lnTo>
                      <a:lnTo>
                        <a:pt x="199" y="333"/>
                      </a:lnTo>
                      <a:lnTo>
                        <a:pt x="199" y="338"/>
                      </a:lnTo>
                      <a:lnTo>
                        <a:pt x="204" y="333"/>
                      </a:lnTo>
                      <a:lnTo>
                        <a:pt x="209" y="329"/>
                      </a:lnTo>
                      <a:lnTo>
                        <a:pt x="209" y="333"/>
                      </a:lnTo>
                      <a:lnTo>
                        <a:pt x="209" y="329"/>
                      </a:lnTo>
                      <a:lnTo>
                        <a:pt x="213" y="333"/>
                      </a:lnTo>
                      <a:lnTo>
                        <a:pt x="213" y="329"/>
                      </a:lnTo>
                      <a:lnTo>
                        <a:pt x="213" y="333"/>
                      </a:lnTo>
                      <a:lnTo>
                        <a:pt x="213" y="329"/>
                      </a:lnTo>
                      <a:lnTo>
                        <a:pt x="218" y="333"/>
                      </a:lnTo>
                      <a:lnTo>
                        <a:pt x="218" y="329"/>
                      </a:lnTo>
                      <a:lnTo>
                        <a:pt x="218" y="333"/>
                      </a:lnTo>
                      <a:lnTo>
                        <a:pt x="218" y="329"/>
                      </a:lnTo>
                      <a:lnTo>
                        <a:pt x="218" y="333"/>
                      </a:lnTo>
                      <a:lnTo>
                        <a:pt x="218" y="329"/>
                      </a:lnTo>
                      <a:lnTo>
                        <a:pt x="223" y="333"/>
                      </a:lnTo>
                      <a:lnTo>
                        <a:pt x="223" y="338"/>
                      </a:lnTo>
                      <a:lnTo>
                        <a:pt x="223" y="333"/>
                      </a:lnTo>
                      <a:lnTo>
                        <a:pt x="227" y="338"/>
                      </a:lnTo>
                      <a:lnTo>
                        <a:pt x="227" y="333"/>
                      </a:lnTo>
                      <a:lnTo>
                        <a:pt x="227" y="338"/>
                      </a:lnTo>
                      <a:lnTo>
                        <a:pt x="227" y="333"/>
                      </a:lnTo>
                      <a:lnTo>
                        <a:pt x="227" y="338"/>
                      </a:lnTo>
                      <a:lnTo>
                        <a:pt x="232" y="333"/>
                      </a:lnTo>
                      <a:lnTo>
                        <a:pt x="232" y="338"/>
                      </a:lnTo>
                      <a:lnTo>
                        <a:pt x="232" y="333"/>
                      </a:lnTo>
                      <a:lnTo>
                        <a:pt x="232" y="329"/>
                      </a:lnTo>
                      <a:lnTo>
                        <a:pt x="232" y="333"/>
                      </a:lnTo>
                      <a:lnTo>
                        <a:pt x="232" y="329"/>
                      </a:lnTo>
                      <a:lnTo>
                        <a:pt x="236" y="333"/>
                      </a:lnTo>
                      <a:lnTo>
                        <a:pt x="236" y="329"/>
                      </a:lnTo>
                      <a:lnTo>
                        <a:pt x="236" y="333"/>
                      </a:lnTo>
                      <a:lnTo>
                        <a:pt x="236" y="329"/>
                      </a:lnTo>
                      <a:lnTo>
                        <a:pt x="236" y="333"/>
                      </a:lnTo>
                      <a:lnTo>
                        <a:pt x="241" y="329"/>
                      </a:lnTo>
                      <a:lnTo>
                        <a:pt x="241" y="333"/>
                      </a:lnTo>
                      <a:lnTo>
                        <a:pt x="241" y="329"/>
                      </a:lnTo>
                      <a:lnTo>
                        <a:pt x="241" y="333"/>
                      </a:lnTo>
                      <a:lnTo>
                        <a:pt x="241" y="329"/>
                      </a:lnTo>
                      <a:lnTo>
                        <a:pt x="241" y="333"/>
                      </a:lnTo>
                      <a:lnTo>
                        <a:pt x="246" y="329"/>
                      </a:lnTo>
                      <a:lnTo>
                        <a:pt x="246" y="333"/>
                      </a:lnTo>
                      <a:lnTo>
                        <a:pt x="246" y="338"/>
                      </a:lnTo>
                      <a:lnTo>
                        <a:pt x="250" y="333"/>
                      </a:lnTo>
                      <a:lnTo>
                        <a:pt x="250" y="338"/>
                      </a:lnTo>
                      <a:lnTo>
                        <a:pt x="250" y="333"/>
                      </a:lnTo>
                      <a:lnTo>
                        <a:pt x="250" y="338"/>
                      </a:lnTo>
                      <a:lnTo>
                        <a:pt x="250" y="333"/>
                      </a:lnTo>
                      <a:lnTo>
                        <a:pt x="250" y="338"/>
                      </a:lnTo>
                      <a:lnTo>
                        <a:pt x="250" y="333"/>
                      </a:lnTo>
                      <a:lnTo>
                        <a:pt x="250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55" y="333"/>
                      </a:lnTo>
                      <a:lnTo>
                        <a:pt x="255" y="338"/>
                      </a:lnTo>
                      <a:lnTo>
                        <a:pt x="260" y="333"/>
                      </a:lnTo>
                      <a:lnTo>
                        <a:pt x="260" y="338"/>
                      </a:lnTo>
                      <a:lnTo>
                        <a:pt x="260" y="333"/>
                      </a:lnTo>
                      <a:lnTo>
                        <a:pt x="260" y="338"/>
                      </a:lnTo>
                      <a:lnTo>
                        <a:pt x="264" y="333"/>
                      </a:lnTo>
                      <a:lnTo>
                        <a:pt x="264" y="329"/>
                      </a:lnTo>
                      <a:lnTo>
                        <a:pt x="264" y="333"/>
                      </a:lnTo>
                      <a:lnTo>
                        <a:pt x="269" y="329"/>
                      </a:lnTo>
                      <a:lnTo>
                        <a:pt x="269" y="333"/>
                      </a:lnTo>
                      <a:lnTo>
                        <a:pt x="269" y="329"/>
                      </a:lnTo>
                      <a:lnTo>
                        <a:pt x="269" y="333"/>
                      </a:lnTo>
                      <a:lnTo>
                        <a:pt x="269" y="329"/>
                      </a:lnTo>
                      <a:lnTo>
                        <a:pt x="269" y="333"/>
                      </a:lnTo>
                      <a:lnTo>
                        <a:pt x="269" y="329"/>
                      </a:lnTo>
                      <a:lnTo>
                        <a:pt x="269" y="333"/>
                      </a:lnTo>
                      <a:lnTo>
                        <a:pt x="273" y="329"/>
                      </a:lnTo>
                      <a:lnTo>
                        <a:pt x="273" y="333"/>
                      </a:lnTo>
                      <a:lnTo>
                        <a:pt x="273" y="329"/>
                      </a:lnTo>
                      <a:lnTo>
                        <a:pt x="273" y="333"/>
                      </a:lnTo>
                      <a:lnTo>
                        <a:pt x="273" y="329"/>
                      </a:lnTo>
                      <a:lnTo>
                        <a:pt x="278" y="333"/>
                      </a:lnTo>
                      <a:lnTo>
                        <a:pt x="278" y="329"/>
                      </a:lnTo>
                      <a:lnTo>
                        <a:pt x="283" y="333"/>
                      </a:lnTo>
                      <a:lnTo>
                        <a:pt x="283" y="329"/>
                      </a:lnTo>
                      <a:lnTo>
                        <a:pt x="287" y="333"/>
                      </a:lnTo>
                      <a:lnTo>
                        <a:pt x="287" y="329"/>
                      </a:lnTo>
                      <a:lnTo>
                        <a:pt x="287" y="333"/>
                      </a:lnTo>
                      <a:lnTo>
                        <a:pt x="287" y="329"/>
                      </a:lnTo>
                      <a:lnTo>
                        <a:pt x="287" y="324"/>
                      </a:lnTo>
                      <a:lnTo>
                        <a:pt x="292" y="319"/>
                      </a:lnTo>
                      <a:lnTo>
                        <a:pt x="292" y="315"/>
                      </a:lnTo>
                      <a:lnTo>
                        <a:pt x="292" y="319"/>
                      </a:lnTo>
                      <a:lnTo>
                        <a:pt x="292" y="315"/>
                      </a:lnTo>
                      <a:lnTo>
                        <a:pt x="292" y="319"/>
                      </a:lnTo>
                      <a:lnTo>
                        <a:pt x="297" y="324"/>
                      </a:lnTo>
                      <a:lnTo>
                        <a:pt x="297" y="329"/>
                      </a:lnTo>
                      <a:lnTo>
                        <a:pt x="297" y="324"/>
                      </a:lnTo>
                      <a:lnTo>
                        <a:pt x="297" y="329"/>
                      </a:lnTo>
                      <a:lnTo>
                        <a:pt x="297" y="333"/>
                      </a:lnTo>
                      <a:lnTo>
                        <a:pt x="297" y="329"/>
                      </a:lnTo>
                      <a:lnTo>
                        <a:pt x="297" y="333"/>
                      </a:lnTo>
                      <a:lnTo>
                        <a:pt x="297" y="329"/>
                      </a:lnTo>
                      <a:lnTo>
                        <a:pt x="301" y="333"/>
                      </a:lnTo>
                      <a:lnTo>
                        <a:pt x="301" y="338"/>
                      </a:lnTo>
                      <a:lnTo>
                        <a:pt x="301" y="333"/>
                      </a:lnTo>
                      <a:lnTo>
                        <a:pt x="301" y="338"/>
                      </a:lnTo>
                      <a:lnTo>
                        <a:pt x="301" y="333"/>
                      </a:lnTo>
                      <a:lnTo>
                        <a:pt x="301" y="338"/>
                      </a:lnTo>
                      <a:lnTo>
                        <a:pt x="301" y="333"/>
                      </a:lnTo>
                      <a:lnTo>
                        <a:pt x="306" y="338"/>
                      </a:lnTo>
                      <a:lnTo>
                        <a:pt x="306" y="333"/>
                      </a:lnTo>
                      <a:lnTo>
                        <a:pt x="306" y="338"/>
                      </a:lnTo>
                      <a:lnTo>
                        <a:pt x="306" y="333"/>
                      </a:lnTo>
                      <a:lnTo>
                        <a:pt x="306" y="338"/>
                      </a:lnTo>
                      <a:lnTo>
                        <a:pt x="306" y="333"/>
                      </a:lnTo>
                      <a:lnTo>
                        <a:pt x="306" y="338"/>
                      </a:lnTo>
                      <a:lnTo>
                        <a:pt x="306" y="333"/>
                      </a:lnTo>
                      <a:lnTo>
                        <a:pt x="310" y="338"/>
                      </a:lnTo>
                      <a:lnTo>
                        <a:pt x="310" y="333"/>
                      </a:lnTo>
                      <a:lnTo>
                        <a:pt x="310" y="338"/>
                      </a:lnTo>
                      <a:lnTo>
                        <a:pt x="310" y="333"/>
                      </a:lnTo>
                      <a:lnTo>
                        <a:pt x="310" y="338"/>
                      </a:lnTo>
                      <a:lnTo>
                        <a:pt x="315" y="333"/>
                      </a:lnTo>
                      <a:lnTo>
                        <a:pt x="315" y="338"/>
                      </a:lnTo>
                      <a:lnTo>
                        <a:pt x="315" y="333"/>
                      </a:lnTo>
                      <a:lnTo>
                        <a:pt x="315" y="338"/>
                      </a:lnTo>
                      <a:lnTo>
                        <a:pt x="315" y="333"/>
                      </a:lnTo>
                      <a:lnTo>
                        <a:pt x="315" y="338"/>
                      </a:lnTo>
                      <a:lnTo>
                        <a:pt x="320" y="333"/>
                      </a:lnTo>
                      <a:lnTo>
                        <a:pt x="320" y="338"/>
                      </a:lnTo>
                      <a:lnTo>
                        <a:pt x="320" y="333"/>
                      </a:lnTo>
                      <a:lnTo>
                        <a:pt x="320" y="338"/>
                      </a:lnTo>
                      <a:lnTo>
                        <a:pt x="320" y="333"/>
                      </a:lnTo>
                      <a:lnTo>
                        <a:pt x="320" y="338"/>
                      </a:lnTo>
                      <a:lnTo>
                        <a:pt x="324" y="333"/>
                      </a:lnTo>
                      <a:lnTo>
                        <a:pt x="324" y="329"/>
                      </a:lnTo>
                      <a:lnTo>
                        <a:pt x="324" y="333"/>
                      </a:lnTo>
                      <a:lnTo>
                        <a:pt x="324" y="329"/>
                      </a:lnTo>
                      <a:lnTo>
                        <a:pt x="324" y="333"/>
                      </a:lnTo>
                      <a:lnTo>
                        <a:pt x="324" y="329"/>
                      </a:lnTo>
                      <a:lnTo>
                        <a:pt x="324" y="333"/>
                      </a:lnTo>
                      <a:lnTo>
                        <a:pt x="324" y="329"/>
                      </a:lnTo>
                      <a:lnTo>
                        <a:pt x="329" y="333"/>
                      </a:lnTo>
                      <a:lnTo>
                        <a:pt x="329" y="338"/>
                      </a:lnTo>
                      <a:lnTo>
                        <a:pt x="329" y="333"/>
                      </a:lnTo>
                      <a:lnTo>
                        <a:pt x="329" y="338"/>
                      </a:lnTo>
                      <a:lnTo>
                        <a:pt x="329" y="333"/>
                      </a:lnTo>
                      <a:lnTo>
                        <a:pt x="329" y="338"/>
                      </a:lnTo>
                      <a:lnTo>
                        <a:pt x="334" y="333"/>
                      </a:lnTo>
                      <a:lnTo>
                        <a:pt x="334" y="329"/>
                      </a:lnTo>
                      <a:lnTo>
                        <a:pt x="334" y="333"/>
                      </a:lnTo>
                      <a:lnTo>
                        <a:pt x="338" y="329"/>
                      </a:lnTo>
                      <a:lnTo>
                        <a:pt x="338" y="333"/>
                      </a:lnTo>
                      <a:lnTo>
                        <a:pt x="338" y="329"/>
                      </a:lnTo>
                      <a:lnTo>
                        <a:pt x="338" y="333"/>
                      </a:lnTo>
                      <a:lnTo>
                        <a:pt x="343" y="329"/>
                      </a:lnTo>
                      <a:lnTo>
                        <a:pt x="343" y="324"/>
                      </a:lnTo>
                      <a:lnTo>
                        <a:pt x="343" y="329"/>
                      </a:lnTo>
                      <a:lnTo>
                        <a:pt x="347" y="324"/>
                      </a:lnTo>
                      <a:lnTo>
                        <a:pt x="347" y="329"/>
                      </a:lnTo>
                      <a:lnTo>
                        <a:pt x="347" y="324"/>
                      </a:lnTo>
                      <a:lnTo>
                        <a:pt x="347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2" y="324"/>
                      </a:lnTo>
                      <a:lnTo>
                        <a:pt x="352" y="329"/>
                      </a:lnTo>
                      <a:lnTo>
                        <a:pt x="357" y="324"/>
                      </a:lnTo>
                      <a:lnTo>
                        <a:pt x="357" y="329"/>
                      </a:lnTo>
                      <a:lnTo>
                        <a:pt x="357" y="333"/>
                      </a:lnTo>
                      <a:lnTo>
                        <a:pt x="357" y="329"/>
                      </a:lnTo>
                      <a:lnTo>
                        <a:pt x="357" y="333"/>
                      </a:lnTo>
                      <a:lnTo>
                        <a:pt x="357" y="329"/>
                      </a:lnTo>
                      <a:lnTo>
                        <a:pt x="357" y="333"/>
                      </a:lnTo>
                      <a:lnTo>
                        <a:pt x="357" y="329"/>
                      </a:lnTo>
                      <a:lnTo>
                        <a:pt x="361" y="333"/>
                      </a:lnTo>
                      <a:lnTo>
                        <a:pt x="361" y="338"/>
                      </a:lnTo>
                      <a:lnTo>
                        <a:pt x="361" y="333"/>
                      </a:lnTo>
                      <a:lnTo>
                        <a:pt x="361" y="338"/>
                      </a:lnTo>
                      <a:lnTo>
                        <a:pt x="361" y="343"/>
                      </a:lnTo>
                      <a:lnTo>
                        <a:pt x="366" y="347"/>
                      </a:lnTo>
                      <a:lnTo>
                        <a:pt x="366" y="352"/>
                      </a:lnTo>
                      <a:lnTo>
                        <a:pt x="366" y="347"/>
                      </a:lnTo>
                      <a:lnTo>
                        <a:pt x="371" y="352"/>
                      </a:lnTo>
                      <a:lnTo>
                        <a:pt x="371" y="356"/>
                      </a:lnTo>
                      <a:lnTo>
                        <a:pt x="375" y="352"/>
                      </a:lnTo>
                      <a:lnTo>
                        <a:pt x="375" y="356"/>
                      </a:lnTo>
                      <a:lnTo>
                        <a:pt x="375" y="352"/>
                      </a:lnTo>
                      <a:lnTo>
                        <a:pt x="375" y="356"/>
                      </a:lnTo>
                      <a:lnTo>
                        <a:pt x="375" y="352"/>
                      </a:lnTo>
                      <a:lnTo>
                        <a:pt x="375" y="356"/>
                      </a:lnTo>
                      <a:lnTo>
                        <a:pt x="375" y="361"/>
                      </a:lnTo>
                      <a:lnTo>
                        <a:pt x="375" y="356"/>
                      </a:lnTo>
                      <a:lnTo>
                        <a:pt x="380" y="361"/>
                      </a:lnTo>
                      <a:lnTo>
                        <a:pt x="380" y="356"/>
                      </a:lnTo>
                      <a:lnTo>
                        <a:pt x="380" y="361"/>
                      </a:lnTo>
                      <a:lnTo>
                        <a:pt x="380" y="356"/>
                      </a:lnTo>
                      <a:lnTo>
                        <a:pt x="380" y="361"/>
                      </a:lnTo>
                      <a:lnTo>
                        <a:pt x="380" y="356"/>
                      </a:lnTo>
                      <a:lnTo>
                        <a:pt x="380" y="361"/>
                      </a:lnTo>
                      <a:lnTo>
                        <a:pt x="380" y="356"/>
                      </a:lnTo>
                      <a:lnTo>
                        <a:pt x="380" y="329"/>
                      </a:lnTo>
                      <a:lnTo>
                        <a:pt x="380" y="366"/>
                      </a:lnTo>
                      <a:lnTo>
                        <a:pt x="385" y="361"/>
                      </a:lnTo>
                      <a:lnTo>
                        <a:pt x="385" y="356"/>
                      </a:lnTo>
                      <a:lnTo>
                        <a:pt x="385" y="361"/>
                      </a:lnTo>
                      <a:lnTo>
                        <a:pt x="385" y="356"/>
                      </a:lnTo>
                      <a:lnTo>
                        <a:pt x="385" y="361"/>
                      </a:lnTo>
                      <a:lnTo>
                        <a:pt x="385" y="356"/>
                      </a:lnTo>
                      <a:lnTo>
                        <a:pt x="385" y="361"/>
                      </a:lnTo>
                      <a:lnTo>
                        <a:pt x="389" y="366"/>
                      </a:lnTo>
                      <a:lnTo>
                        <a:pt x="389" y="370"/>
                      </a:lnTo>
                      <a:lnTo>
                        <a:pt x="389" y="375"/>
                      </a:lnTo>
                      <a:lnTo>
                        <a:pt x="389" y="370"/>
                      </a:lnTo>
                      <a:lnTo>
                        <a:pt x="389" y="375"/>
                      </a:lnTo>
                      <a:lnTo>
                        <a:pt x="394" y="380"/>
                      </a:lnTo>
                      <a:lnTo>
                        <a:pt x="394" y="375"/>
                      </a:lnTo>
                      <a:lnTo>
                        <a:pt x="398" y="370"/>
                      </a:lnTo>
                      <a:lnTo>
                        <a:pt x="398" y="366"/>
                      </a:lnTo>
                      <a:lnTo>
                        <a:pt x="398" y="361"/>
                      </a:lnTo>
                      <a:lnTo>
                        <a:pt x="398" y="366"/>
                      </a:lnTo>
                      <a:lnTo>
                        <a:pt x="398" y="361"/>
                      </a:lnTo>
                      <a:lnTo>
                        <a:pt x="403" y="356"/>
                      </a:lnTo>
                      <a:lnTo>
                        <a:pt x="403" y="361"/>
                      </a:lnTo>
                      <a:lnTo>
                        <a:pt x="403" y="356"/>
                      </a:lnTo>
                      <a:lnTo>
                        <a:pt x="403" y="361"/>
                      </a:lnTo>
                      <a:lnTo>
                        <a:pt x="403" y="356"/>
                      </a:lnTo>
                      <a:lnTo>
                        <a:pt x="403" y="352"/>
                      </a:lnTo>
                      <a:lnTo>
                        <a:pt x="408" y="347"/>
                      </a:lnTo>
                      <a:lnTo>
                        <a:pt x="408" y="343"/>
                      </a:lnTo>
                      <a:lnTo>
                        <a:pt x="408" y="347"/>
                      </a:lnTo>
                      <a:lnTo>
                        <a:pt x="408" y="343"/>
                      </a:lnTo>
                      <a:lnTo>
                        <a:pt x="408" y="338"/>
                      </a:lnTo>
                      <a:lnTo>
                        <a:pt x="408" y="333"/>
                      </a:lnTo>
                      <a:lnTo>
                        <a:pt x="408" y="338"/>
                      </a:lnTo>
                      <a:lnTo>
                        <a:pt x="412" y="333"/>
                      </a:lnTo>
                      <a:lnTo>
                        <a:pt x="412" y="329"/>
                      </a:lnTo>
                      <a:lnTo>
                        <a:pt x="412" y="333"/>
                      </a:lnTo>
                      <a:lnTo>
                        <a:pt x="412" y="329"/>
                      </a:lnTo>
                      <a:lnTo>
                        <a:pt x="412" y="333"/>
                      </a:lnTo>
                      <a:lnTo>
                        <a:pt x="412" y="329"/>
                      </a:lnTo>
                      <a:lnTo>
                        <a:pt x="412" y="324"/>
                      </a:lnTo>
                      <a:lnTo>
                        <a:pt x="412" y="319"/>
                      </a:lnTo>
                      <a:lnTo>
                        <a:pt x="412" y="324"/>
                      </a:lnTo>
                      <a:lnTo>
                        <a:pt x="417" y="319"/>
                      </a:lnTo>
                      <a:lnTo>
                        <a:pt x="417" y="324"/>
                      </a:lnTo>
                      <a:lnTo>
                        <a:pt x="417" y="319"/>
                      </a:lnTo>
                      <a:lnTo>
                        <a:pt x="417" y="315"/>
                      </a:lnTo>
                      <a:lnTo>
                        <a:pt x="417" y="319"/>
                      </a:lnTo>
                      <a:lnTo>
                        <a:pt x="417" y="315"/>
                      </a:lnTo>
                      <a:lnTo>
                        <a:pt x="417" y="319"/>
                      </a:lnTo>
                      <a:lnTo>
                        <a:pt x="422" y="315"/>
                      </a:lnTo>
                      <a:lnTo>
                        <a:pt x="422" y="310"/>
                      </a:lnTo>
                      <a:lnTo>
                        <a:pt x="422" y="315"/>
                      </a:lnTo>
                      <a:lnTo>
                        <a:pt x="426" y="310"/>
                      </a:lnTo>
                      <a:lnTo>
                        <a:pt x="426" y="315"/>
                      </a:lnTo>
                      <a:lnTo>
                        <a:pt x="426" y="310"/>
                      </a:lnTo>
                      <a:lnTo>
                        <a:pt x="431" y="315"/>
                      </a:lnTo>
                      <a:lnTo>
                        <a:pt x="431" y="310"/>
                      </a:lnTo>
                      <a:lnTo>
                        <a:pt x="431" y="315"/>
                      </a:lnTo>
                      <a:lnTo>
                        <a:pt x="435" y="319"/>
                      </a:lnTo>
                      <a:lnTo>
                        <a:pt x="435" y="324"/>
                      </a:lnTo>
                      <a:lnTo>
                        <a:pt x="435" y="319"/>
                      </a:lnTo>
                      <a:lnTo>
                        <a:pt x="435" y="315"/>
                      </a:lnTo>
                      <a:lnTo>
                        <a:pt x="435" y="310"/>
                      </a:lnTo>
                      <a:lnTo>
                        <a:pt x="440" y="315"/>
                      </a:lnTo>
                      <a:lnTo>
                        <a:pt x="440" y="310"/>
                      </a:lnTo>
                      <a:lnTo>
                        <a:pt x="440" y="315"/>
                      </a:lnTo>
                      <a:lnTo>
                        <a:pt x="440" y="310"/>
                      </a:lnTo>
                      <a:lnTo>
                        <a:pt x="440" y="315"/>
                      </a:lnTo>
                      <a:lnTo>
                        <a:pt x="440" y="310"/>
                      </a:lnTo>
                      <a:lnTo>
                        <a:pt x="445" y="315"/>
                      </a:lnTo>
                      <a:lnTo>
                        <a:pt x="445" y="319"/>
                      </a:lnTo>
                      <a:lnTo>
                        <a:pt x="449" y="324"/>
                      </a:lnTo>
                      <a:lnTo>
                        <a:pt x="449" y="319"/>
                      </a:lnTo>
                      <a:lnTo>
                        <a:pt x="449" y="324"/>
                      </a:lnTo>
                      <a:lnTo>
                        <a:pt x="449" y="319"/>
                      </a:lnTo>
                      <a:lnTo>
                        <a:pt x="449" y="315"/>
                      </a:lnTo>
                      <a:lnTo>
                        <a:pt x="449" y="319"/>
                      </a:lnTo>
                      <a:lnTo>
                        <a:pt x="449" y="315"/>
                      </a:lnTo>
                      <a:lnTo>
                        <a:pt x="449" y="310"/>
                      </a:lnTo>
                      <a:lnTo>
                        <a:pt x="454" y="315"/>
                      </a:lnTo>
                      <a:lnTo>
                        <a:pt x="454" y="310"/>
                      </a:lnTo>
                      <a:lnTo>
                        <a:pt x="454" y="315"/>
                      </a:lnTo>
                      <a:lnTo>
                        <a:pt x="454" y="310"/>
                      </a:lnTo>
                      <a:lnTo>
                        <a:pt x="454" y="315"/>
                      </a:lnTo>
                      <a:lnTo>
                        <a:pt x="454" y="310"/>
                      </a:lnTo>
                      <a:lnTo>
                        <a:pt x="454" y="315"/>
                      </a:lnTo>
                      <a:lnTo>
                        <a:pt x="454" y="310"/>
                      </a:lnTo>
                      <a:lnTo>
                        <a:pt x="454" y="315"/>
                      </a:lnTo>
                      <a:lnTo>
                        <a:pt x="454" y="310"/>
                      </a:lnTo>
                      <a:lnTo>
                        <a:pt x="459" y="315"/>
                      </a:lnTo>
                      <a:lnTo>
                        <a:pt x="459" y="310"/>
                      </a:lnTo>
                      <a:lnTo>
                        <a:pt x="459" y="315"/>
                      </a:lnTo>
                      <a:lnTo>
                        <a:pt x="459" y="310"/>
                      </a:lnTo>
                      <a:lnTo>
                        <a:pt x="459" y="315"/>
                      </a:lnTo>
                      <a:lnTo>
                        <a:pt x="459" y="310"/>
                      </a:lnTo>
                      <a:lnTo>
                        <a:pt x="459" y="315"/>
                      </a:lnTo>
                      <a:lnTo>
                        <a:pt x="459" y="310"/>
                      </a:lnTo>
                      <a:lnTo>
                        <a:pt x="459" y="315"/>
                      </a:lnTo>
                      <a:lnTo>
                        <a:pt x="459" y="310"/>
                      </a:lnTo>
                      <a:lnTo>
                        <a:pt x="463" y="315"/>
                      </a:lnTo>
                      <a:lnTo>
                        <a:pt x="463" y="310"/>
                      </a:lnTo>
                      <a:lnTo>
                        <a:pt x="463" y="315"/>
                      </a:lnTo>
                      <a:lnTo>
                        <a:pt x="463" y="310"/>
                      </a:lnTo>
                      <a:lnTo>
                        <a:pt x="463" y="315"/>
                      </a:lnTo>
                      <a:lnTo>
                        <a:pt x="463" y="310"/>
                      </a:lnTo>
                      <a:lnTo>
                        <a:pt x="463" y="315"/>
                      </a:lnTo>
                      <a:lnTo>
                        <a:pt x="468" y="310"/>
                      </a:lnTo>
                      <a:lnTo>
                        <a:pt x="468" y="315"/>
                      </a:lnTo>
                      <a:lnTo>
                        <a:pt x="472" y="310"/>
                      </a:lnTo>
                      <a:lnTo>
                        <a:pt x="472" y="305"/>
                      </a:lnTo>
                      <a:lnTo>
                        <a:pt x="472" y="310"/>
                      </a:lnTo>
                      <a:lnTo>
                        <a:pt x="472" y="305"/>
                      </a:lnTo>
                      <a:lnTo>
                        <a:pt x="472" y="310"/>
                      </a:lnTo>
                      <a:lnTo>
                        <a:pt x="477" y="305"/>
                      </a:lnTo>
                      <a:lnTo>
                        <a:pt x="477" y="301"/>
                      </a:lnTo>
                      <a:lnTo>
                        <a:pt x="482" y="296"/>
                      </a:lnTo>
                      <a:lnTo>
                        <a:pt x="482" y="292"/>
                      </a:lnTo>
                      <a:lnTo>
                        <a:pt x="482" y="287"/>
                      </a:lnTo>
                      <a:lnTo>
                        <a:pt x="482" y="292"/>
                      </a:lnTo>
                      <a:lnTo>
                        <a:pt x="482" y="287"/>
                      </a:lnTo>
                      <a:lnTo>
                        <a:pt x="486" y="292"/>
                      </a:lnTo>
                      <a:lnTo>
                        <a:pt x="486" y="287"/>
                      </a:lnTo>
                      <a:lnTo>
                        <a:pt x="486" y="282"/>
                      </a:lnTo>
                      <a:lnTo>
                        <a:pt x="486" y="287"/>
                      </a:lnTo>
                      <a:lnTo>
                        <a:pt x="486" y="282"/>
                      </a:lnTo>
                      <a:lnTo>
                        <a:pt x="486" y="287"/>
                      </a:lnTo>
                      <a:lnTo>
                        <a:pt x="486" y="292"/>
                      </a:lnTo>
                      <a:lnTo>
                        <a:pt x="486" y="287"/>
                      </a:lnTo>
                      <a:lnTo>
                        <a:pt x="486" y="292"/>
                      </a:lnTo>
                      <a:lnTo>
                        <a:pt x="491" y="287"/>
                      </a:lnTo>
                      <a:lnTo>
                        <a:pt x="491" y="292"/>
                      </a:lnTo>
                      <a:lnTo>
                        <a:pt x="491" y="287"/>
                      </a:lnTo>
                      <a:lnTo>
                        <a:pt x="491" y="292"/>
                      </a:lnTo>
                      <a:lnTo>
                        <a:pt x="491" y="296"/>
                      </a:lnTo>
                      <a:lnTo>
                        <a:pt x="491" y="301"/>
                      </a:lnTo>
                      <a:lnTo>
                        <a:pt x="491" y="310"/>
                      </a:lnTo>
                      <a:lnTo>
                        <a:pt x="491" y="315"/>
                      </a:lnTo>
                      <a:lnTo>
                        <a:pt x="491" y="319"/>
                      </a:lnTo>
                      <a:lnTo>
                        <a:pt x="491" y="333"/>
                      </a:lnTo>
                      <a:lnTo>
                        <a:pt x="496" y="338"/>
                      </a:lnTo>
                      <a:lnTo>
                        <a:pt x="496" y="347"/>
                      </a:lnTo>
                      <a:lnTo>
                        <a:pt x="496" y="356"/>
                      </a:lnTo>
                      <a:lnTo>
                        <a:pt x="496" y="370"/>
                      </a:lnTo>
                      <a:lnTo>
                        <a:pt x="496" y="380"/>
                      </a:lnTo>
                      <a:lnTo>
                        <a:pt x="496" y="389"/>
                      </a:lnTo>
                      <a:lnTo>
                        <a:pt x="496" y="398"/>
                      </a:lnTo>
                      <a:lnTo>
                        <a:pt x="496" y="407"/>
                      </a:lnTo>
                      <a:lnTo>
                        <a:pt x="496" y="417"/>
                      </a:lnTo>
                      <a:lnTo>
                        <a:pt x="496" y="430"/>
                      </a:lnTo>
                      <a:lnTo>
                        <a:pt x="496" y="444"/>
                      </a:lnTo>
                      <a:lnTo>
                        <a:pt x="496" y="463"/>
                      </a:lnTo>
                      <a:lnTo>
                        <a:pt x="496" y="481"/>
                      </a:lnTo>
                      <a:lnTo>
                        <a:pt x="496" y="495"/>
                      </a:lnTo>
                      <a:lnTo>
                        <a:pt x="496" y="514"/>
                      </a:lnTo>
                      <a:lnTo>
                        <a:pt x="496" y="532"/>
                      </a:lnTo>
                      <a:lnTo>
                        <a:pt x="496" y="551"/>
                      </a:lnTo>
                      <a:lnTo>
                        <a:pt x="496" y="565"/>
                      </a:lnTo>
                      <a:lnTo>
                        <a:pt x="500" y="565"/>
                      </a:lnTo>
                      <a:lnTo>
                        <a:pt x="500" y="579"/>
                      </a:lnTo>
                      <a:lnTo>
                        <a:pt x="500" y="597"/>
                      </a:lnTo>
                      <a:lnTo>
                        <a:pt x="500" y="611"/>
                      </a:lnTo>
                      <a:lnTo>
                        <a:pt x="500" y="629"/>
                      </a:lnTo>
                      <a:lnTo>
                        <a:pt x="500" y="643"/>
                      </a:lnTo>
                      <a:lnTo>
                        <a:pt x="500" y="662"/>
                      </a:lnTo>
                      <a:lnTo>
                        <a:pt x="500" y="671"/>
                      </a:lnTo>
                      <a:lnTo>
                        <a:pt x="500" y="685"/>
                      </a:lnTo>
                      <a:lnTo>
                        <a:pt x="500" y="704"/>
                      </a:lnTo>
                      <a:lnTo>
                        <a:pt x="500" y="690"/>
                      </a:lnTo>
                      <a:lnTo>
                        <a:pt x="500" y="676"/>
                      </a:lnTo>
                      <a:lnTo>
                        <a:pt x="500" y="667"/>
                      </a:lnTo>
                      <a:lnTo>
                        <a:pt x="500" y="662"/>
                      </a:lnTo>
                      <a:lnTo>
                        <a:pt x="500" y="657"/>
                      </a:lnTo>
                      <a:lnTo>
                        <a:pt x="500" y="653"/>
                      </a:lnTo>
                      <a:lnTo>
                        <a:pt x="500" y="648"/>
                      </a:lnTo>
                      <a:lnTo>
                        <a:pt x="500" y="643"/>
                      </a:lnTo>
                      <a:lnTo>
                        <a:pt x="505" y="639"/>
                      </a:lnTo>
                      <a:lnTo>
                        <a:pt x="505" y="629"/>
                      </a:lnTo>
                      <a:lnTo>
                        <a:pt x="505" y="625"/>
                      </a:lnTo>
                      <a:lnTo>
                        <a:pt x="505" y="616"/>
                      </a:lnTo>
                      <a:lnTo>
                        <a:pt x="505" y="611"/>
                      </a:lnTo>
                      <a:lnTo>
                        <a:pt x="505" y="606"/>
                      </a:lnTo>
                      <a:lnTo>
                        <a:pt x="505" y="602"/>
                      </a:lnTo>
                      <a:lnTo>
                        <a:pt x="505" y="597"/>
                      </a:lnTo>
                      <a:lnTo>
                        <a:pt x="505" y="592"/>
                      </a:lnTo>
                      <a:lnTo>
                        <a:pt x="505" y="375"/>
                      </a:lnTo>
                      <a:lnTo>
                        <a:pt x="505" y="370"/>
                      </a:lnTo>
                      <a:lnTo>
                        <a:pt x="505" y="366"/>
                      </a:lnTo>
                      <a:lnTo>
                        <a:pt x="505" y="361"/>
                      </a:lnTo>
                      <a:lnTo>
                        <a:pt x="505" y="356"/>
                      </a:lnTo>
                      <a:lnTo>
                        <a:pt x="509" y="352"/>
                      </a:lnTo>
                      <a:lnTo>
                        <a:pt x="509" y="347"/>
                      </a:lnTo>
                      <a:lnTo>
                        <a:pt x="509" y="338"/>
                      </a:lnTo>
                      <a:lnTo>
                        <a:pt x="509" y="333"/>
                      </a:lnTo>
                      <a:lnTo>
                        <a:pt x="509" y="329"/>
                      </a:lnTo>
                      <a:lnTo>
                        <a:pt x="509" y="324"/>
                      </a:lnTo>
                      <a:lnTo>
                        <a:pt x="509" y="319"/>
                      </a:lnTo>
                      <a:lnTo>
                        <a:pt x="509" y="315"/>
                      </a:lnTo>
                      <a:lnTo>
                        <a:pt x="509" y="310"/>
                      </a:lnTo>
                      <a:lnTo>
                        <a:pt x="514" y="305"/>
                      </a:lnTo>
                      <a:lnTo>
                        <a:pt x="514" y="301"/>
                      </a:lnTo>
                      <a:lnTo>
                        <a:pt x="514" y="296"/>
                      </a:lnTo>
                      <a:lnTo>
                        <a:pt x="514" y="292"/>
                      </a:lnTo>
                      <a:lnTo>
                        <a:pt x="514" y="282"/>
                      </a:lnTo>
                      <a:lnTo>
                        <a:pt x="514" y="273"/>
                      </a:lnTo>
                      <a:lnTo>
                        <a:pt x="514" y="264"/>
                      </a:lnTo>
                      <a:lnTo>
                        <a:pt x="514" y="255"/>
                      </a:lnTo>
                      <a:lnTo>
                        <a:pt x="514" y="245"/>
                      </a:lnTo>
                      <a:lnTo>
                        <a:pt x="514" y="231"/>
                      </a:lnTo>
                      <a:lnTo>
                        <a:pt x="514" y="222"/>
                      </a:lnTo>
                      <a:lnTo>
                        <a:pt x="514" y="213"/>
                      </a:lnTo>
                      <a:lnTo>
                        <a:pt x="514" y="204"/>
                      </a:lnTo>
                      <a:lnTo>
                        <a:pt x="514" y="194"/>
                      </a:lnTo>
                      <a:lnTo>
                        <a:pt x="514" y="181"/>
                      </a:lnTo>
                      <a:lnTo>
                        <a:pt x="514" y="167"/>
                      </a:lnTo>
                      <a:lnTo>
                        <a:pt x="514" y="157"/>
                      </a:lnTo>
                      <a:lnTo>
                        <a:pt x="519" y="157"/>
                      </a:lnTo>
                      <a:lnTo>
                        <a:pt x="519" y="139"/>
                      </a:lnTo>
                      <a:lnTo>
                        <a:pt x="519" y="134"/>
                      </a:lnTo>
                      <a:lnTo>
                        <a:pt x="519" y="120"/>
                      </a:lnTo>
                      <a:lnTo>
                        <a:pt x="519" y="106"/>
                      </a:lnTo>
                      <a:lnTo>
                        <a:pt x="519" y="97"/>
                      </a:lnTo>
                      <a:lnTo>
                        <a:pt x="519" y="83"/>
                      </a:lnTo>
                      <a:lnTo>
                        <a:pt x="519" y="69"/>
                      </a:lnTo>
                      <a:lnTo>
                        <a:pt x="519" y="60"/>
                      </a:lnTo>
                      <a:lnTo>
                        <a:pt x="519" y="51"/>
                      </a:lnTo>
                      <a:lnTo>
                        <a:pt x="519" y="37"/>
                      </a:lnTo>
                      <a:lnTo>
                        <a:pt x="519" y="23"/>
                      </a:lnTo>
                      <a:lnTo>
                        <a:pt x="519" y="14"/>
                      </a:lnTo>
                      <a:lnTo>
                        <a:pt x="519" y="23"/>
                      </a:lnTo>
                      <a:lnTo>
                        <a:pt x="519" y="28"/>
                      </a:lnTo>
                      <a:lnTo>
                        <a:pt x="523" y="32"/>
                      </a:lnTo>
                      <a:lnTo>
                        <a:pt x="523" y="37"/>
                      </a:lnTo>
                      <a:lnTo>
                        <a:pt x="523" y="42"/>
                      </a:lnTo>
                      <a:lnTo>
                        <a:pt x="523" y="37"/>
                      </a:lnTo>
                      <a:lnTo>
                        <a:pt x="523" y="42"/>
                      </a:lnTo>
                      <a:lnTo>
                        <a:pt x="523" y="37"/>
                      </a:lnTo>
                      <a:lnTo>
                        <a:pt x="523" y="42"/>
                      </a:lnTo>
                      <a:lnTo>
                        <a:pt x="523" y="32"/>
                      </a:lnTo>
                      <a:lnTo>
                        <a:pt x="523" y="37"/>
                      </a:lnTo>
                      <a:lnTo>
                        <a:pt x="528" y="32"/>
                      </a:lnTo>
                      <a:lnTo>
                        <a:pt x="528" y="28"/>
                      </a:lnTo>
                      <a:lnTo>
                        <a:pt x="528" y="23"/>
                      </a:lnTo>
                      <a:lnTo>
                        <a:pt x="528" y="19"/>
                      </a:lnTo>
                      <a:lnTo>
                        <a:pt x="528" y="23"/>
                      </a:lnTo>
                      <a:lnTo>
                        <a:pt x="533" y="19"/>
                      </a:lnTo>
                      <a:lnTo>
                        <a:pt x="533" y="23"/>
                      </a:lnTo>
                      <a:lnTo>
                        <a:pt x="533" y="19"/>
                      </a:lnTo>
                      <a:lnTo>
                        <a:pt x="533" y="23"/>
                      </a:lnTo>
                      <a:lnTo>
                        <a:pt x="537" y="19"/>
                      </a:lnTo>
                      <a:lnTo>
                        <a:pt x="537" y="14"/>
                      </a:lnTo>
                      <a:lnTo>
                        <a:pt x="537" y="19"/>
                      </a:lnTo>
                      <a:lnTo>
                        <a:pt x="537" y="14"/>
                      </a:lnTo>
                      <a:lnTo>
                        <a:pt x="542" y="9"/>
                      </a:lnTo>
                      <a:lnTo>
                        <a:pt x="542" y="5"/>
                      </a:lnTo>
                      <a:lnTo>
                        <a:pt x="542" y="9"/>
                      </a:lnTo>
                      <a:lnTo>
                        <a:pt x="542" y="5"/>
                      </a:lnTo>
                      <a:lnTo>
                        <a:pt x="542" y="9"/>
                      </a:lnTo>
                      <a:lnTo>
                        <a:pt x="542" y="5"/>
                      </a:lnTo>
                      <a:lnTo>
                        <a:pt x="542" y="0"/>
                      </a:lnTo>
                      <a:lnTo>
                        <a:pt x="547" y="5"/>
                      </a:lnTo>
                      <a:lnTo>
                        <a:pt x="547" y="0"/>
                      </a:lnTo>
                      <a:lnTo>
                        <a:pt x="547" y="5"/>
                      </a:lnTo>
                      <a:lnTo>
                        <a:pt x="547" y="0"/>
                      </a:lnTo>
                      <a:lnTo>
                        <a:pt x="547" y="5"/>
                      </a:lnTo>
                      <a:lnTo>
                        <a:pt x="551" y="9"/>
                      </a:lnTo>
                      <a:lnTo>
                        <a:pt x="551" y="5"/>
                      </a:lnTo>
                      <a:lnTo>
                        <a:pt x="551" y="9"/>
                      </a:lnTo>
                      <a:lnTo>
                        <a:pt x="551" y="5"/>
                      </a:lnTo>
                      <a:lnTo>
                        <a:pt x="551" y="9"/>
                      </a:lnTo>
                      <a:lnTo>
                        <a:pt x="551" y="5"/>
                      </a:lnTo>
                      <a:lnTo>
                        <a:pt x="556" y="9"/>
                      </a:lnTo>
                      <a:lnTo>
                        <a:pt x="556" y="14"/>
                      </a:lnTo>
                      <a:lnTo>
                        <a:pt x="556" y="9"/>
                      </a:lnTo>
                      <a:lnTo>
                        <a:pt x="556" y="14"/>
                      </a:lnTo>
                      <a:lnTo>
                        <a:pt x="556" y="9"/>
                      </a:lnTo>
                      <a:lnTo>
                        <a:pt x="560" y="14"/>
                      </a:lnTo>
                      <a:lnTo>
                        <a:pt x="560" y="19"/>
                      </a:lnTo>
                      <a:lnTo>
                        <a:pt x="560" y="14"/>
                      </a:lnTo>
                      <a:lnTo>
                        <a:pt x="560" y="19"/>
                      </a:lnTo>
                      <a:lnTo>
                        <a:pt x="560" y="14"/>
                      </a:lnTo>
                      <a:lnTo>
                        <a:pt x="560" y="19"/>
                      </a:lnTo>
                      <a:lnTo>
                        <a:pt x="560" y="23"/>
                      </a:lnTo>
                      <a:lnTo>
                        <a:pt x="560" y="19"/>
                      </a:lnTo>
                      <a:lnTo>
                        <a:pt x="565" y="23"/>
                      </a:lnTo>
                      <a:lnTo>
                        <a:pt x="565" y="28"/>
                      </a:lnTo>
                      <a:lnTo>
                        <a:pt x="565" y="32"/>
                      </a:lnTo>
                      <a:lnTo>
                        <a:pt x="565" y="37"/>
                      </a:lnTo>
                      <a:lnTo>
                        <a:pt x="570" y="42"/>
                      </a:lnTo>
                      <a:lnTo>
                        <a:pt x="570" y="46"/>
                      </a:lnTo>
                      <a:lnTo>
                        <a:pt x="570" y="51"/>
                      </a:lnTo>
                      <a:lnTo>
                        <a:pt x="570" y="46"/>
                      </a:lnTo>
                      <a:lnTo>
                        <a:pt x="574" y="51"/>
                      </a:lnTo>
                      <a:lnTo>
                        <a:pt x="574" y="56"/>
                      </a:lnTo>
                      <a:lnTo>
                        <a:pt x="574" y="60"/>
                      </a:lnTo>
                      <a:lnTo>
                        <a:pt x="574" y="56"/>
                      </a:lnTo>
                      <a:lnTo>
                        <a:pt x="574" y="60"/>
                      </a:lnTo>
                      <a:lnTo>
                        <a:pt x="574" y="65"/>
                      </a:lnTo>
                      <a:lnTo>
                        <a:pt x="574" y="69"/>
                      </a:lnTo>
                      <a:lnTo>
                        <a:pt x="574" y="65"/>
                      </a:lnTo>
                      <a:lnTo>
                        <a:pt x="574" y="69"/>
                      </a:lnTo>
                      <a:lnTo>
                        <a:pt x="579" y="74"/>
                      </a:lnTo>
                      <a:lnTo>
                        <a:pt x="579" y="79"/>
                      </a:lnTo>
                      <a:lnTo>
                        <a:pt x="579" y="83"/>
                      </a:lnTo>
                      <a:lnTo>
                        <a:pt x="579" y="79"/>
                      </a:lnTo>
                      <a:lnTo>
                        <a:pt x="579" y="83"/>
                      </a:lnTo>
                      <a:lnTo>
                        <a:pt x="579" y="88"/>
                      </a:lnTo>
                      <a:lnTo>
                        <a:pt x="579" y="83"/>
                      </a:lnTo>
                      <a:lnTo>
                        <a:pt x="579" y="88"/>
                      </a:lnTo>
                      <a:lnTo>
                        <a:pt x="579" y="93"/>
                      </a:lnTo>
                      <a:lnTo>
                        <a:pt x="584" y="97"/>
                      </a:lnTo>
                      <a:lnTo>
                        <a:pt x="584" y="102"/>
                      </a:lnTo>
                      <a:lnTo>
                        <a:pt x="584" y="106"/>
                      </a:lnTo>
                      <a:lnTo>
                        <a:pt x="584" y="111"/>
                      </a:lnTo>
                      <a:lnTo>
                        <a:pt x="584" y="116"/>
                      </a:lnTo>
                      <a:lnTo>
                        <a:pt x="584" y="120"/>
                      </a:lnTo>
                      <a:lnTo>
                        <a:pt x="584" y="125"/>
                      </a:lnTo>
                      <a:lnTo>
                        <a:pt x="584" y="130"/>
                      </a:lnTo>
                      <a:lnTo>
                        <a:pt x="584" y="134"/>
                      </a:lnTo>
                      <a:lnTo>
                        <a:pt x="588" y="130"/>
                      </a:lnTo>
                      <a:lnTo>
                        <a:pt x="588" y="134"/>
                      </a:lnTo>
                      <a:lnTo>
                        <a:pt x="588" y="130"/>
                      </a:lnTo>
                      <a:lnTo>
                        <a:pt x="593" y="134"/>
                      </a:lnTo>
                      <a:lnTo>
                        <a:pt x="593" y="139"/>
                      </a:lnTo>
                      <a:lnTo>
                        <a:pt x="593" y="134"/>
                      </a:lnTo>
                      <a:lnTo>
                        <a:pt x="593" y="139"/>
                      </a:lnTo>
                      <a:lnTo>
                        <a:pt x="593" y="143"/>
                      </a:lnTo>
                      <a:lnTo>
                        <a:pt x="593" y="148"/>
                      </a:lnTo>
                      <a:lnTo>
                        <a:pt x="593" y="143"/>
                      </a:lnTo>
                      <a:lnTo>
                        <a:pt x="597" y="148"/>
                      </a:lnTo>
                      <a:lnTo>
                        <a:pt x="597" y="153"/>
                      </a:lnTo>
                      <a:lnTo>
                        <a:pt x="597" y="157"/>
                      </a:lnTo>
                      <a:lnTo>
                        <a:pt x="597" y="162"/>
                      </a:lnTo>
                      <a:lnTo>
                        <a:pt x="597" y="167"/>
                      </a:lnTo>
                      <a:lnTo>
                        <a:pt x="597" y="162"/>
                      </a:lnTo>
                      <a:lnTo>
                        <a:pt x="597" y="171"/>
                      </a:lnTo>
                      <a:lnTo>
                        <a:pt x="597" y="176"/>
                      </a:lnTo>
                      <a:lnTo>
                        <a:pt x="597" y="181"/>
                      </a:lnTo>
                      <a:lnTo>
                        <a:pt x="597" y="185"/>
                      </a:lnTo>
                      <a:lnTo>
                        <a:pt x="602" y="190"/>
                      </a:lnTo>
                      <a:lnTo>
                        <a:pt x="602" y="199"/>
                      </a:lnTo>
                      <a:lnTo>
                        <a:pt x="602" y="204"/>
                      </a:lnTo>
                      <a:lnTo>
                        <a:pt x="602" y="208"/>
                      </a:lnTo>
                      <a:lnTo>
                        <a:pt x="602" y="213"/>
                      </a:lnTo>
                      <a:lnTo>
                        <a:pt x="602" y="218"/>
                      </a:lnTo>
                      <a:lnTo>
                        <a:pt x="602" y="222"/>
                      </a:lnTo>
                      <a:lnTo>
                        <a:pt x="602" y="227"/>
                      </a:lnTo>
                      <a:lnTo>
                        <a:pt x="602" y="231"/>
                      </a:lnTo>
                      <a:lnTo>
                        <a:pt x="607" y="236"/>
                      </a:lnTo>
                      <a:lnTo>
                        <a:pt x="607" y="241"/>
                      </a:lnTo>
                      <a:lnTo>
                        <a:pt x="607" y="245"/>
                      </a:lnTo>
                      <a:lnTo>
                        <a:pt x="607" y="250"/>
                      </a:lnTo>
                      <a:lnTo>
                        <a:pt x="607" y="255"/>
                      </a:lnTo>
                      <a:lnTo>
                        <a:pt x="607" y="259"/>
                      </a:lnTo>
                      <a:lnTo>
                        <a:pt x="607" y="264"/>
                      </a:lnTo>
                      <a:lnTo>
                        <a:pt x="611" y="268"/>
                      </a:lnTo>
                      <a:lnTo>
                        <a:pt x="611" y="273"/>
                      </a:lnTo>
                      <a:lnTo>
                        <a:pt x="611" y="278"/>
                      </a:lnTo>
                      <a:lnTo>
                        <a:pt x="611" y="273"/>
                      </a:lnTo>
                      <a:lnTo>
                        <a:pt x="611" y="278"/>
                      </a:lnTo>
                      <a:lnTo>
                        <a:pt x="611" y="282"/>
                      </a:lnTo>
                      <a:lnTo>
                        <a:pt x="611" y="278"/>
                      </a:lnTo>
                      <a:lnTo>
                        <a:pt x="611" y="282"/>
                      </a:lnTo>
                      <a:lnTo>
                        <a:pt x="611" y="287"/>
                      </a:lnTo>
                      <a:lnTo>
                        <a:pt x="616" y="292"/>
                      </a:lnTo>
                      <a:lnTo>
                        <a:pt x="616" y="287"/>
                      </a:lnTo>
                      <a:lnTo>
                        <a:pt x="616" y="292"/>
                      </a:lnTo>
                      <a:lnTo>
                        <a:pt x="616" y="296"/>
                      </a:lnTo>
                      <a:lnTo>
                        <a:pt x="616" y="301"/>
                      </a:lnTo>
                      <a:lnTo>
                        <a:pt x="616" y="305"/>
                      </a:lnTo>
                      <a:lnTo>
                        <a:pt x="616" y="310"/>
                      </a:lnTo>
                      <a:lnTo>
                        <a:pt x="616" y="278"/>
                      </a:lnTo>
                      <a:lnTo>
                        <a:pt x="616" y="315"/>
                      </a:lnTo>
                      <a:lnTo>
                        <a:pt x="621" y="310"/>
                      </a:lnTo>
                      <a:lnTo>
                        <a:pt x="621" y="315"/>
                      </a:lnTo>
                      <a:lnTo>
                        <a:pt x="621" y="319"/>
                      </a:lnTo>
                      <a:lnTo>
                        <a:pt x="621" y="315"/>
                      </a:lnTo>
                      <a:lnTo>
                        <a:pt x="621" y="319"/>
                      </a:lnTo>
                      <a:lnTo>
                        <a:pt x="621" y="315"/>
                      </a:lnTo>
                      <a:lnTo>
                        <a:pt x="621" y="319"/>
                      </a:lnTo>
                      <a:lnTo>
                        <a:pt x="621" y="324"/>
                      </a:lnTo>
                      <a:lnTo>
                        <a:pt x="621" y="319"/>
                      </a:lnTo>
                      <a:lnTo>
                        <a:pt x="621" y="324"/>
                      </a:lnTo>
                      <a:lnTo>
                        <a:pt x="625" y="329"/>
                      </a:lnTo>
                      <a:lnTo>
                        <a:pt x="625" y="333"/>
                      </a:lnTo>
                      <a:lnTo>
                        <a:pt x="625" y="338"/>
                      </a:lnTo>
                      <a:lnTo>
                        <a:pt x="625" y="343"/>
                      </a:lnTo>
                      <a:lnTo>
                        <a:pt x="625" y="347"/>
                      </a:lnTo>
                      <a:lnTo>
                        <a:pt x="625" y="352"/>
                      </a:lnTo>
                      <a:lnTo>
                        <a:pt x="630" y="356"/>
                      </a:lnTo>
                      <a:lnTo>
                        <a:pt x="630" y="352"/>
                      </a:lnTo>
                      <a:lnTo>
                        <a:pt x="630" y="356"/>
                      </a:lnTo>
                      <a:lnTo>
                        <a:pt x="630" y="352"/>
                      </a:lnTo>
                      <a:lnTo>
                        <a:pt x="630" y="356"/>
                      </a:lnTo>
                      <a:lnTo>
                        <a:pt x="630" y="352"/>
                      </a:lnTo>
                      <a:lnTo>
                        <a:pt x="630" y="356"/>
                      </a:lnTo>
                      <a:lnTo>
                        <a:pt x="630" y="361"/>
                      </a:lnTo>
                      <a:lnTo>
                        <a:pt x="630" y="366"/>
                      </a:lnTo>
                      <a:lnTo>
                        <a:pt x="634" y="375"/>
                      </a:lnTo>
                      <a:lnTo>
                        <a:pt x="634" y="384"/>
                      </a:lnTo>
                      <a:lnTo>
                        <a:pt x="634" y="389"/>
                      </a:lnTo>
                      <a:lnTo>
                        <a:pt x="634" y="398"/>
                      </a:lnTo>
                      <a:lnTo>
                        <a:pt x="634" y="403"/>
                      </a:lnTo>
                      <a:lnTo>
                        <a:pt x="634" y="407"/>
                      </a:lnTo>
                      <a:lnTo>
                        <a:pt x="634" y="412"/>
                      </a:lnTo>
                      <a:lnTo>
                        <a:pt x="634" y="417"/>
                      </a:lnTo>
                      <a:lnTo>
                        <a:pt x="634" y="421"/>
                      </a:lnTo>
                      <a:lnTo>
                        <a:pt x="634" y="426"/>
                      </a:lnTo>
                      <a:lnTo>
                        <a:pt x="634" y="430"/>
                      </a:lnTo>
                      <a:lnTo>
                        <a:pt x="634" y="435"/>
                      </a:lnTo>
                      <a:lnTo>
                        <a:pt x="634" y="440"/>
                      </a:lnTo>
                      <a:lnTo>
                        <a:pt x="634" y="444"/>
                      </a:lnTo>
                      <a:lnTo>
                        <a:pt x="634" y="449"/>
                      </a:lnTo>
                      <a:lnTo>
                        <a:pt x="639" y="454"/>
                      </a:lnTo>
                      <a:lnTo>
                        <a:pt x="639" y="458"/>
                      </a:lnTo>
                      <a:lnTo>
                        <a:pt x="639" y="463"/>
                      </a:lnTo>
                      <a:lnTo>
                        <a:pt x="639" y="467"/>
                      </a:lnTo>
                      <a:lnTo>
                        <a:pt x="639" y="463"/>
                      </a:lnTo>
                      <a:lnTo>
                        <a:pt x="639" y="467"/>
                      </a:lnTo>
                      <a:lnTo>
                        <a:pt x="639" y="472"/>
                      </a:lnTo>
                      <a:lnTo>
                        <a:pt x="639" y="467"/>
                      </a:lnTo>
                      <a:lnTo>
                        <a:pt x="639" y="472"/>
                      </a:lnTo>
                      <a:lnTo>
                        <a:pt x="639" y="467"/>
                      </a:lnTo>
                      <a:lnTo>
                        <a:pt x="644" y="472"/>
                      </a:lnTo>
                      <a:lnTo>
                        <a:pt x="644" y="467"/>
                      </a:lnTo>
                      <a:lnTo>
                        <a:pt x="644" y="463"/>
                      </a:lnTo>
                      <a:lnTo>
                        <a:pt x="644" y="458"/>
                      </a:lnTo>
                      <a:lnTo>
                        <a:pt x="644" y="454"/>
                      </a:lnTo>
                      <a:lnTo>
                        <a:pt x="644" y="449"/>
                      </a:lnTo>
                      <a:lnTo>
                        <a:pt x="644" y="444"/>
                      </a:lnTo>
                      <a:lnTo>
                        <a:pt x="644" y="440"/>
                      </a:lnTo>
                      <a:lnTo>
                        <a:pt x="644" y="430"/>
                      </a:lnTo>
                      <a:lnTo>
                        <a:pt x="648" y="426"/>
                      </a:lnTo>
                      <a:lnTo>
                        <a:pt x="648" y="421"/>
                      </a:lnTo>
                      <a:lnTo>
                        <a:pt x="648" y="417"/>
                      </a:lnTo>
                      <a:lnTo>
                        <a:pt x="648" y="407"/>
                      </a:lnTo>
                      <a:lnTo>
                        <a:pt x="648" y="403"/>
                      </a:lnTo>
                      <a:lnTo>
                        <a:pt x="648" y="398"/>
                      </a:lnTo>
                      <a:lnTo>
                        <a:pt x="648" y="393"/>
                      </a:lnTo>
                      <a:lnTo>
                        <a:pt x="653" y="389"/>
                      </a:lnTo>
                      <a:lnTo>
                        <a:pt x="653" y="384"/>
                      </a:lnTo>
                      <a:lnTo>
                        <a:pt x="653" y="380"/>
                      </a:lnTo>
                      <a:lnTo>
                        <a:pt x="653" y="375"/>
                      </a:lnTo>
                      <a:lnTo>
                        <a:pt x="653" y="370"/>
                      </a:lnTo>
                      <a:lnTo>
                        <a:pt x="653" y="366"/>
                      </a:lnTo>
                      <a:lnTo>
                        <a:pt x="653" y="356"/>
                      </a:lnTo>
                      <a:lnTo>
                        <a:pt x="653" y="347"/>
                      </a:lnTo>
                      <a:lnTo>
                        <a:pt x="653" y="343"/>
                      </a:lnTo>
                      <a:lnTo>
                        <a:pt x="653" y="333"/>
                      </a:lnTo>
                      <a:lnTo>
                        <a:pt x="653" y="329"/>
                      </a:lnTo>
                      <a:lnTo>
                        <a:pt x="658" y="324"/>
                      </a:lnTo>
                      <a:lnTo>
                        <a:pt x="658" y="319"/>
                      </a:lnTo>
                      <a:lnTo>
                        <a:pt x="658" y="324"/>
                      </a:lnTo>
                      <a:lnTo>
                        <a:pt x="658" y="319"/>
                      </a:lnTo>
                      <a:lnTo>
                        <a:pt x="658" y="324"/>
                      </a:lnTo>
                      <a:lnTo>
                        <a:pt x="658" y="329"/>
                      </a:lnTo>
                      <a:lnTo>
                        <a:pt x="658" y="333"/>
                      </a:lnTo>
                      <a:lnTo>
                        <a:pt x="658" y="338"/>
                      </a:lnTo>
                      <a:lnTo>
                        <a:pt x="658" y="343"/>
                      </a:lnTo>
                      <a:lnTo>
                        <a:pt x="662" y="347"/>
                      </a:lnTo>
                      <a:lnTo>
                        <a:pt x="662" y="352"/>
                      </a:lnTo>
                      <a:lnTo>
                        <a:pt x="662" y="347"/>
                      </a:lnTo>
                      <a:lnTo>
                        <a:pt x="662" y="343"/>
                      </a:lnTo>
                      <a:lnTo>
                        <a:pt x="662" y="338"/>
                      </a:lnTo>
                      <a:lnTo>
                        <a:pt x="662" y="333"/>
                      </a:lnTo>
                      <a:lnTo>
                        <a:pt x="667" y="329"/>
                      </a:lnTo>
                      <a:lnTo>
                        <a:pt x="667" y="324"/>
                      </a:lnTo>
                      <a:lnTo>
                        <a:pt x="667" y="319"/>
                      </a:lnTo>
                      <a:lnTo>
                        <a:pt x="667" y="315"/>
                      </a:lnTo>
                      <a:lnTo>
                        <a:pt x="667" y="310"/>
                      </a:lnTo>
                      <a:lnTo>
                        <a:pt x="667" y="305"/>
                      </a:lnTo>
                      <a:lnTo>
                        <a:pt x="667" y="301"/>
                      </a:lnTo>
                      <a:lnTo>
                        <a:pt x="667" y="296"/>
                      </a:lnTo>
                      <a:lnTo>
                        <a:pt x="667" y="287"/>
                      </a:lnTo>
                      <a:lnTo>
                        <a:pt x="667" y="282"/>
                      </a:lnTo>
                      <a:lnTo>
                        <a:pt x="667" y="278"/>
                      </a:lnTo>
                      <a:lnTo>
                        <a:pt x="667" y="273"/>
                      </a:lnTo>
                      <a:lnTo>
                        <a:pt x="667" y="268"/>
                      </a:lnTo>
                      <a:lnTo>
                        <a:pt x="667" y="264"/>
                      </a:lnTo>
                      <a:lnTo>
                        <a:pt x="667" y="259"/>
                      </a:lnTo>
                      <a:lnTo>
                        <a:pt x="667" y="250"/>
                      </a:lnTo>
                      <a:lnTo>
                        <a:pt x="671" y="245"/>
                      </a:lnTo>
                      <a:lnTo>
                        <a:pt x="671" y="241"/>
                      </a:lnTo>
                      <a:lnTo>
                        <a:pt x="671" y="236"/>
                      </a:lnTo>
                      <a:lnTo>
                        <a:pt x="671" y="227"/>
                      </a:lnTo>
                      <a:lnTo>
                        <a:pt x="671" y="222"/>
                      </a:lnTo>
                      <a:lnTo>
                        <a:pt x="671" y="213"/>
                      </a:lnTo>
                      <a:lnTo>
                        <a:pt x="671" y="208"/>
                      </a:lnTo>
                      <a:lnTo>
                        <a:pt x="671" y="204"/>
                      </a:lnTo>
                      <a:lnTo>
                        <a:pt x="676" y="208"/>
                      </a:lnTo>
                      <a:lnTo>
                        <a:pt x="676" y="213"/>
                      </a:lnTo>
                      <a:lnTo>
                        <a:pt x="676" y="218"/>
                      </a:lnTo>
                      <a:lnTo>
                        <a:pt x="676" y="222"/>
                      </a:lnTo>
                      <a:lnTo>
                        <a:pt x="676" y="227"/>
                      </a:lnTo>
                      <a:lnTo>
                        <a:pt x="676" y="231"/>
                      </a:lnTo>
                      <a:lnTo>
                        <a:pt x="676" y="236"/>
                      </a:lnTo>
                      <a:lnTo>
                        <a:pt x="681" y="241"/>
                      </a:lnTo>
                      <a:lnTo>
                        <a:pt x="681" y="245"/>
                      </a:lnTo>
                      <a:lnTo>
                        <a:pt x="681" y="250"/>
                      </a:lnTo>
                      <a:lnTo>
                        <a:pt x="681" y="255"/>
                      </a:lnTo>
                      <a:lnTo>
                        <a:pt x="681" y="259"/>
                      </a:lnTo>
                      <a:lnTo>
                        <a:pt x="681" y="264"/>
                      </a:lnTo>
                      <a:lnTo>
                        <a:pt x="681" y="268"/>
                      </a:lnTo>
                      <a:lnTo>
                        <a:pt x="681" y="273"/>
                      </a:lnTo>
                      <a:lnTo>
                        <a:pt x="681" y="278"/>
                      </a:lnTo>
                      <a:lnTo>
                        <a:pt x="681" y="282"/>
                      </a:lnTo>
                      <a:lnTo>
                        <a:pt x="681" y="287"/>
                      </a:lnTo>
                      <a:lnTo>
                        <a:pt x="681" y="292"/>
                      </a:lnTo>
                      <a:lnTo>
                        <a:pt x="681" y="301"/>
                      </a:lnTo>
                      <a:lnTo>
                        <a:pt x="685" y="305"/>
                      </a:lnTo>
                      <a:lnTo>
                        <a:pt x="685" y="310"/>
                      </a:lnTo>
                      <a:lnTo>
                        <a:pt x="685" y="315"/>
                      </a:lnTo>
                      <a:lnTo>
                        <a:pt x="685" y="319"/>
                      </a:lnTo>
                      <a:lnTo>
                        <a:pt x="685" y="324"/>
                      </a:lnTo>
                      <a:lnTo>
                        <a:pt x="685" y="333"/>
                      </a:lnTo>
                      <a:lnTo>
                        <a:pt x="685" y="338"/>
                      </a:lnTo>
                      <a:lnTo>
                        <a:pt x="685" y="343"/>
                      </a:lnTo>
                      <a:lnTo>
                        <a:pt x="685" y="347"/>
                      </a:lnTo>
                      <a:lnTo>
                        <a:pt x="685" y="352"/>
                      </a:lnTo>
                      <a:lnTo>
                        <a:pt x="685" y="356"/>
                      </a:lnTo>
                      <a:lnTo>
                        <a:pt x="685" y="361"/>
                      </a:lnTo>
                      <a:lnTo>
                        <a:pt x="685" y="366"/>
                      </a:lnTo>
                      <a:lnTo>
                        <a:pt x="690" y="370"/>
                      </a:lnTo>
                      <a:lnTo>
                        <a:pt x="690" y="375"/>
                      </a:lnTo>
                      <a:lnTo>
                        <a:pt x="690" y="380"/>
                      </a:lnTo>
                      <a:lnTo>
                        <a:pt x="690" y="384"/>
                      </a:lnTo>
                      <a:lnTo>
                        <a:pt x="690" y="389"/>
                      </a:lnTo>
                      <a:lnTo>
                        <a:pt x="690" y="393"/>
                      </a:lnTo>
                      <a:lnTo>
                        <a:pt x="690" y="398"/>
                      </a:lnTo>
                      <a:lnTo>
                        <a:pt x="690" y="403"/>
                      </a:lnTo>
                      <a:lnTo>
                        <a:pt x="690" y="407"/>
                      </a:lnTo>
                      <a:lnTo>
                        <a:pt x="695" y="40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5" y="398"/>
                      </a:lnTo>
                      <a:lnTo>
                        <a:pt x="695" y="393"/>
                      </a:lnTo>
                      <a:lnTo>
                        <a:pt x="699" y="398"/>
                      </a:lnTo>
                      <a:lnTo>
                        <a:pt x="699" y="403"/>
                      </a:lnTo>
                      <a:lnTo>
                        <a:pt x="699" y="407"/>
                      </a:lnTo>
                      <a:lnTo>
                        <a:pt x="699" y="412"/>
                      </a:lnTo>
                      <a:lnTo>
                        <a:pt x="699" y="407"/>
                      </a:lnTo>
                      <a:lnTo>
                        <a:pt x="699" y="412"/>
                      </a:lnTo>
                      <a:lnTo>
                        <a:pt x="704" y="407"/>
                      </a:lnTo>
                      <a:lnTo>
                        <a:pt x="704" y="412"/>
                      </a:lnTo>
                      <a:lnTo>
                        <a:pt x="704" y="417"/>
                      </a:lnTo>
                      <a:lnTo>
                        <a:pt x="704" y="421"/>
                      </a:lnTo>
                      <a:lnTo>
                        <a:pt x="704" y="426"/>
                      </a:lnTo>
                      <a:lnTo>
                        <a:pt x="709" y="430"/>
                      </a:lnTo>
                      <a:lnTo>
                        <a:pt x="709" y="435"/>
                      </a:lnTo>
                      <a:lnTo>
                        <a:pt x="709" y="440"/>
                      </a:lnTo>
                      <a:lnTo>
                        <a:pt x="709" y="444"/>
                      </a:lnTo>
                      <a:lnTo>
                        <a:pt x="709" y="449"/>
                      </a:lnTo>
                      <a:lnTo>
                        <a:pt x="709" y="454"/>
                      </a:lnTo>
                      <a:lnTo>
                        <a:pt x="713" y="458"/>
                      </a:lnTo>
                      <a:lnTo>
                        <a:pt x="713" y="454"/>
                      </a:lnTo>
                      <a:lnTo>
                        <a:pt x="713" y="458"/>
                      </a:lnTo>
                      <a:lnTo>
                        <a:pt x="713" y="449"/>
                      </a:lnTo>
                      <a:lnTo>
                        <a:pt x="713" y="444"/>
                      </a:lnTo>
                      <a:lnTo>
                        <a:pt x="713" y="435"/>
                      </a:lnTo>
                      <a:lnTo>
                        <a:pt x="713" y="430"/>
                      </a:lnTo>
                      <a:lnTo>
                        <a:pt x="713" y="421"/>
                      </a:lnTo>
                      <a:lnTo>
                        <a:pt x="713" y="417"/>
                      </a:lnTo>
                      <a:lnTo>
                        <a:pt x="713" y="412"/>
                      </a:lnTo>
                      <a:lnTo>
                        <a:pt x="713" y="403"/>
                      </a:lnTo>
                      <a:lnTo>
                        <a:pt x="713" y="398"/>
                      </a:lnTo>
                      <a:lnTo>
                        <a:pt x="713" y="389"/>
                      </a:lnTo>
                      <a:lnTo>
                        <a:pt x="713" y="380"/>
                      </a:lnTo>
                      <a:lnTo>
                        <a:pt x="718" y="370"/>
                      </a:lnTo>
                      <a:lnTo>
                        <a:pt x="718" y="366"/>
                      </a:lnTo>
                      <a:lnTo>
                        <a:pt x="718" y="356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794720" y="3002040"/>
                  <a:ext cx="836640" cy="388800"/>
                </a:xfrm>
                <a:custGeom>
                  <a:avLst/>
                  <a:gdLst/>
                  <a:ahLst/>
                  <a:rect l="l" t="t" r="r" b="b"/>
                  <a:pathLst>
                    <a:path w="527" h="245">
                      <a:moveTo>
                        <a:pt x="0" y="245"/>
                      </a:moveTo>
                      <a:lnTo>
                        <a:pt x="0" y="236"/>
                      </a:lnTo>
                      <a:lnTo>
                        <a:pt x="0" y="227"/>
                      </a:lnTo>
                      <a:lnTo>
                        <a:pt x="0" y="218"/>
                      </a:lnTo>
                      <a:lnTo>
                        <a:pt x="0" y="208"/>
                      </a:lnTo>
                      <a:lnTo>
                        <a:pt x="0" y="204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1"/>
                      </a:lnTo>
                      <a:lnTo>
                        <a:pt x="0" y="171"/>
                      </a:lnTo>
                      <a:lnTo>
                        <a:pt x="0" y="167"/>
                      </a:lnTo>
                      <a:lnTo>
                        <a:pt x="0" y="157"/>
                      </a:lnTo>
                      <a:lnTo>
                        <a:pt x="0" y="153"/>
                      </a:lnTo>
                      <a:lnTo>
                        <a:pt x="0" y="144"/>
                      </a:lnTo>
                      <a:lnTo>
                        <a:pt x="0" y="134"/>
                      </a:lnTo>
                      <a:lnTo>
                        <a:pt x="4" y="130"/>
                      </a:lnTo>
                      <a:lnTo>
                        <a:pt x="4" y="116"/>
                      </a:lnTo>
                      <a:lnTo>
                        <a:pt x="4" y="111"/>
                      </a:lnTo>
                      <a:lnTo>
                        <a:pt x="4" y="102"/>
                      </a:lnTo>
                      <a:lnTo>
                        <a:pt x="4" y="93"/>
                      </a:lnTo>
                      <a:lnTo>
                        <a:pt x="4" y="88"/>
                      </a:lnTo>
                      <a:lnTo>
                        <a:pt x="4" y="79"/>
                      </a:lnTo>
                      <a:lnTo>
                        <a:pt x="4" y="70"/>
                      </a:lnTo>
                      <a:lnTo>
                        <a:pt x="4" y="60"/>
                      </a:lnTo>
                      <a:lnTo>
                        <a:pt x="4" y="51"/>
                      </a:lnTo>
                      <a:lnTo>
                        <a:pt x="4" y="46"/>
                      </a:lnTo>
                      <a:lnTo>
                        <a:pt x="4" y="42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4" y="23"/>
                      </a:lnTo>
                      <a:lnTo>
                        <a:pt x="4" y="1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9" y="14"/>
                      </a:lnTo>
                      <a:lnTo>
                        <a:pt x="9" y="19"/>
                      </a:lnTo>
                      <a:lnTo>
                        <a:pt x="9" y="23"/>
                      </a:lnTo>
                      <a:lnTo>
                        <a:pt x="9" y="28"/>
                      </a:lnTo>
                      <a:lnTo>
                        <a:pt x="9" y="32"/>
                      </a:lnTo>
                      <a:lnTo>
                        <a:pt x="9" y="37"/>
                      </a:lnTo>
                      <a:lnTo>
                        <a:pt x="9" y="42"/>
                      </a:lnTo>
                      <a:lnTo>
                        <a:pt x="9" y="51"/>
                      </a:lnTo>
                      <a:lnTo>
                        <a:pt x="14" y="56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4" y="60"/>
                      </a:lnTo>
                      <a:lnTo>
                        <a:pt x="14" y="65"/>
                      </a:lnTo>
                      <a:lnTo>
                        <a:pt x="14" y="70"/>
                      </a:lnTo>
                      <a:lnTo>
                        <a:pt x="14" y="74"/>
                      </a:lnTo>
                      <a:lnTo>
                        <a:pt x="18" y="70"/>
                      </a:lnTo>
                      <a:lnTo>
                        <a:pt x="18" y="74"/>
                      </a:lnTo>
                      <a:lnTo>
                        <a:pt x="18" y="79"/>
                      </a:lnTo>
                      <a:lnTo>
                        <a:pt x="18" y="83"/>
                      </a:lnTo>
                      <a:lnTo>
                        <a:pt x="18" y="88"/>
                      </a:lnTo>
                      <a:lnTo>
                        <a:pt x="18" y="93"/>
                      </a:lnTo>
                      <a:lnTo>
                        <a:pt x="18" y="97"/>
                      </a:lnTo>
                      <a:lnTo>
                        <a:pt x="18" y="102"/>
                      </a:lnTo>
                      <a:lnTo>
                        <a:pt x="18" y="111"/>
                      </a:lnTo>
                      <a:lnTo>
                        <a:pt x="18" y="116"/>
                      </a:lnTo>
                      <a:lnTo>
                        <a:pt x="18" y="125"/>
                      </a:lnTo>
                      <a:lnTo>
                        <a:pt x="23" y="130"/>
                      </a:lnTo>
                      <a:lnTo>
                        <a:pt x="23" y="134"/>
                      </a:lnTo>
                      <a:lnTo>
                        <a:pt x="23" y="139"/>
                      </a:lnTo>
                      <a:lnTo>
                        <a:pt x="23" y="144"/>
                      </a:lnTo>
                      <a:lnTo>
                        <a:pt x="23" y="139"/>
                      </a:lnTo>
                      <a:lnTo>
                        <a:pt x="28" y="134"/>
                      </a:lnTo>
                      <a:lnTo>
                        <a:pt x="28" y="130"/>
                      </a:lnTo>
                      <a:lnTo>
                        <a:pt x="28" y="125"/>
                      </a:lnTo>
                      <a:lnTo>
                        <a:pt x="28" y="120"/>
                      </a:lnTo>
                      <a:lnTo>
                        <a:pt x="28" y="116"/>
                      </a:lnTo>
                      <a:lnTo>
                        <a:pt x="32" y="120"/>
                      </a:lnTo>
                      <a:lnTo>
                        <a:pt x="32" y="116"/>
                      </a:lnTo>
                      <a:lnTo>
                        <a:pt x="32" y="120"/>
                      </a:lnTo>
                      <a:lnTo>
                        <a:pt x="32" y="125"/>
                      </a:lnTo>
                      <a:lnTo>
                        <a:pt x="37" y="120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lnTo>
                        <a:pt x="37" y="134"/>
                      </a:lnTo>
                      <a:lnTo>
                        <a:pt x="37" y="130"/>
                      </a:lnTo>
                      <a:lnTo>
                        <a:pt x="37" y="134"/>
                      </a:lnTo>
                      <a:lnTo>
                        <a:pt x="41" y="139"/>
                      </a:lnTo>
                      <a:lnTo>
                        <a:pt x="41" y="144"/>
                      </a:lnTo>
                      <a:lnTo>
                        <a:pt x="41" y="148"/>
                      </a:lnTo>
                      <a:lnTo>
                        <a:pt x="41" y="153"/>
                      </a:lnTo>
                      <a:lnTo>
                        <a:pt x="41" y="148"/>
                      </a:lnTo>
                      <a:lnTo>
                        <a:pt x="46" y="153"/>
                      </a:lnTo>
                      <a:lnTo>
                        <a:pt x="46" y="157"/>
                      </a:lnTo>
                      <a:lnTo>
                        <a:pt x="46" y="153"/>
                      </a:lnTo>
                      <a:lnTo>
                        <a:pt x="46" y="157"/>
                      </a:lnTo>
                      <a:lnTo>
                        <a:pt x="46" y="153"/>
                      </a:lnTo>
                      <a:lnTo>
                        <a:pt x="46" y="157"/>
                      </a:lnTo>
                      <a:lnTo>
                        <a:pt x="46" y="162"/>
                      </a:lnTo>
                      <a:lnTo>
                        <a:pt x="46" y="157"/>
                      </a:lnTo>
                      <a:lnTo>
                        <a:pt x="46" y="162"/>
                      </a:lnTo>
                      <a:lnTo>
                        <a:pt x="51" y="157"/>
                      </a:lnTo>
                      <a:lnTo>
                        <a:pt x="51" y="162"/>
                      </a:lnTo>
                      <a:lnTo>
                        <a:pt x="51" y="157"/>
                      </a:lnTo>
                      <a:lnTo>
                        <a:pt x="51" y="162"/>
                      </a:lnTo>
                      <a:lnTo>
                        <a:pt x="51" y="157"/>
                      </a:lnTo>
                      <a:lnTo>
                        <a:pt x="51" y="162"/>
                      </a:lnTo>
                      <a:lnTo>
                        <a:pt x="51" y="157"/>
                      </a:lnTo>
                      <a:lnTo>
                        <a:pt x="55" y="162"/>
                      </a:lnTo>
                      <a:lnTo>
                        <a:pt x="55" y="157"/>
                      </a:lnTo>
                      <a:lnTo>
                        <a:pt x="55" y="162"/>
                      </a:lnTo>
                      <a:lnTo>
                        <a:pt x="55" y="157"/>
                      </a:lnTo>
                      <a:lnTo>
                        <a:pt x="55" y="162"/>
                      </a:lnTo>
                      <a:lnTo>
                        <a:pt x="55" y="157"/>
                      </a:lnTo>
                      <a:lnTo>
                        <a:pt x="60" y="162"/>
                      </a:lnTo>
                      <a:lnTo>
                        <a:pt x="65" y="167"/>
                      </a:lnTo>
                      <a:lnTo>
                        <a:pt x="65" y="162"/>
                      </a:lnTo>
                      <a:lnTo>
                        <a:pt x="65" y="167"/>
                      </a:lnTo>
                      <a:lnTo>
                        <a:pt x="65" y="171"/>
                      </a:lnTo>
                      <a:lnTo>
                        <a:pt x="65" y="167"/>
                      </a:lnTo>
                      <a:lnTo>
                        <a:pt x="65" y="171"/>
                      </a:lnTo>
                      <a:lnTo>
                        <a:pt x="65" y="167"/>
                      </a:lnTo>
                      <a:lnTo>
                        <a:pt x="69" y="171"/>
                      </a:lnTo>
                      <a:lnTo>
                        <a:pt x="69" y="176"/>
                      </a:lnTo>
                      <a:lnTo>
                        <a:pt x="69" y="171"/>
                      </a:lnTo>
                      <a:lnTo>
                        <a:pt x="69" y="176"/>
                      </a:lnTo>
                      <a:lnTo>
                        <a:pt x="69" y="181"/>
                      </a:lnTo>
                      <a:lnTo>
                        <a:pt x="69" y="176"/>
                      </a:lnTo>
                      <a:lnTo>
                        <a:pt x="74" y="181"/>
                      </a:lnTo>
                      <a:lnTo>
                        <a:pt x="74" y="185"/>
                      </a:lnTo>
                      <a:lnTo>
                        <a:pt x="74" y="181"/>
                      </a:lnTo>
                      <a:lnTo>
                        <a:pt x="74" y="185"/>
                      </a:lnTo>
                      <a:lnTo>
                        <a:pt x="74" y="190"/>
                      </a:lnTo>
                      <a:lnTo>
                        <a:pt x="78" y="185"/>
                      </a:lnTo>
                      <a:lnTo>
                        <a:pt x="78" y="190"/>
                      </a:lnTo>
                      <a:lnTo>
                        <a:pt x="78" y="185"/>
                      </a:lnTo>
                      <a:lnTo>
                        <a:pt x="78" y="190"/>
                      </a:lnTo>
                      <a:lnTo>
                        <a:pt x="78" y="194"/>
                      </a:lnTo>
                      <a:lnTo>
                        <a:pt x="83" y="199"/>
                      </a:lnTo>
                      <a:lnTo>
                        <a:pt x="83" y="194"/>
                      </a:lnTo>
                      <a:lnTo>
                        <a:pt x="83" y="199"/>
                      </a:lnTo>
                      <a:lnTo>
                        <a:pt x="83" y="204"/>
                      </a:lnTo>
                      <a:lnTo>
                        <a:pt x="83" y="208"/>
                      </a:lnTo>
                      <a:lnTo>
                        <a:pt x="88" y="213"/>
                      </a:lnTo>
                      <a:lnTo>
                        <a:pt x="88" y="218"/>
                      </a:lnTo>
                      <a:lnTo>
                        <a:pt x="88" y="222"/>
                      </a:lnTo>
                      <a:lnTo>
                        <a:pt x="88" y="218"/>
                      </a:lnTo>
                      <a:lnTo>
                        <a:pt x="88" y="222"/>
                      </a:lnTo>
                      <a:lnTo>
                        <a:pt x="88" y="218"/>
                      </a:lnTo>
                      <a:lnTo>
                        <a:pt x="88" y="213"/>
                      </a:lnTo>
                      <a:lnTo>
                        <a:pt x="92" y="218"/>
                      </a:lnTo>
                      <a:lnTo>
                        <a:pt x="92" y="213"/>
                      </a:lnTo>
                      <a:lnTo>
                        <a:pt x="92" y="218"/>
                      </a:lnTo>
                      <a:lnTo>
                        <a:pt x="92" y="213"/>
                      </a:lnTo>
                      <a:lnTo>
                        <a:pt x="92" y="218"/>
                      </a:lnTo>
                      <a:lnTo>
                        <a:pt x="92" y="213"/>
                      </a:lnTo>
                      <a:lnTo>
                        <a:pt x="92" y="218"/>
                      </a:lnTo>
                      <a:lnTo>
                        <a:pt x="92" y="213"/>
                      </a:lnTo>
                      <a:lnTo>
                        <a:pt x="92" y="218"/>
                      </a:lnTo>
                      <a:lnTo>
                        <a:pt x="97" y="213"/>
                      </a:lnTo>
                      <a:lnTo>
                        <a:pt x="97" y="218"/>
                      </a:lnTo>
                      <a:lnTo>
                        <a:pt x="97" y="222"/>
                      </a:lnTo>
                      <a:lnTo>
                        <a:pt x="97" y="218"/>
                      </a:lnTo>
                      <a:lnTo>
                        <a:pt x="102" y="222"/>
                      </a:lnTo>
                      <a:lnTo>
                        <a:pt x="102" y="218"/>
                      </a:lnTo>
                      <a:lnTo>
                        <a:pt x="102" y="222"/>
                      </a:lnTo>
                      <a:lnTo>
                        <a:pt x="102" y="227"/>
                      </a:lnTo>
                      <a:lnTo>
                        <a:pt x="102" y="222"/>
                      </a:lnTo>
                      <a:lnTo>
                        <a:pt x="106" y="227"/>
                      </a:lnTo>
                      <a:lnTo>
                        <a:pt x="106" y="232"/>
                      </a:lnTo>
                      <a:lnTo>
                        <a:pt x="106" y="227"/>
                      </a:lnTo>
                      <a:lnTo>
                        <a:pt x="111" y="232"/>
                      </a:lnTo>
                      <a:lnTo>
                        <a:pt x="111" y="236"/>
                      </a:lnTo>
                      <a:lnTo>
                        <a:pt x="111" y="232"/>
                      </a:lnTo>
                      <a:lnTo>
                        <a:pt x="111" y="236"/>
                      </a:lnTo>
                      <a:lnTo>
                        <a:pt x="111" y="232"/>
                      </a:lnTo>
                      <a:lnTo>
                        <a:pt x="111" y="236"/>
                      </a:lnTo>
                      <a:lnTo>
                        <a:pt x="111" y="232"/>
                      </a:lnTo>
                      <a:lnTo>
                        <a:pt x="115" y="236"/>
                      </a:lnTo>
                      <a:lnTo>
                        <a:pt x="115" y="232"/>
                      </a:lnTo>
                      <a:lnTo>
                        <a:pt x="115" y="236"/>
                      </a:lnTo>
                      <a:lnTo>
                        <a:pt x="115" y="241"/>
                      </a:lnTo>
                      <a:lnTo>
                        <a:pt x="115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0" y="236"/>
                      </a:lnTo>
                      <a:lnTo>
                        <a:pt x="120" y="241"/>
                      </a:lnTo>
                      <a:lnTo>
                        <a:pt x="125" y="236"/>
                      </a:lnTo>
                      <a:lnTo>
                        <a:pt x="129" y="241"/>
                      </a:lnTo>
                      <a:lnTo>
                        <a:pt x="129" y="236"/>
                      </a:lnTo>
                      <a:lnTo>
                        <a:pt x="129" y="241"/>
                      </a:lnTo>
                      <a:lnTo>
                        <a:pt x="134" y="236"/>
                      </a:lnTo>
                      <a:lnTo>
                        <a:pt x="134" y="241"/>
                      </a:lnTo>
                      <a:lnTo>
                        <a:pt x="134" y="236"/>
                      </a:lnTo>
                      <a:lnTo>
                        <a:pt x="134" y="241"/>
                      </a:lnTo>
                      <a:lnTo>
                        <a:pt x="139" y="236"/>
                      </a:lnTo>
                      <a:lnTo>
                        <a:pt x="139" y="232"/>
                      </a:lnTo>
                      <a:lnTo>
                        <a:pt x="139" y="236"/>
                      </a:lnTo>
                      <a:lnTo>
                        <a:pt x="139" y="232"/>
                      </a:lnTo>
                      <a:lnTo>
                        <a:pt x="143" y="236"/>
                      </a:lnTo>
                      <a:lnTo>
                        <a:pt x="143" y="232"/>
                      </a:lnTo>
                      <a:lnTo>
                        <a:pt x="143" y="236"/>
                      </a:lnTo>
                      <a:lnTo>
                        <a:pt x="148" y="232"/>
                      </a:lnTo>
                      <a:lnTo>
                        <a:pt x="148" y="227"/>
                      </a:lnTo>
                      <a:lnTo>
                        <a:pt x="148" y="232"/>
                      </a:lnTo>
                      <a:lnTo>
                        <a:pt x="153" y="236"/>
                      </a:lnTo>
                      <a:lnTo>
                        <a:pt x="153" y="232"/>
                      </a:lnTo>
                      <a:lnTo>
                        <a:pt x="153" y="236"/>
                      </a:lnTo>
                      <a:lnTo>
                        <a:pt x="153" y="232"/>
                      </a:lnTo>
                      <a:lnTo>
                        <a:pt x="153" y="227"/>
                      </a:lnTo>
                      <a:lnTo>
                        <a:pt x="157" y="232"/>
                      </a:lnTo>
                      <a:lnTo>
                        <a:pt x="157" y="227"/>
                      </a:lnTo>
                      <a:lnTo>
                        <a:pt x="162" y="232"/>
                      </a:lnTo>
                      <a:lnTo>
                        <a:pt x="162" y="227"/>
                      </a:lnTo>
                      <a:lnTo>
                        <a:pt x="162" y="232"/>
                      </a:lnTo>
                      <a:lnTo>
                        <a:pt x="162" y="227"/>
                      </a:lnTo>
                      <a:lnTo>
                        <a:pt x="162" y="232"/>
                      </a:lnTo>
                      <a:lnTo>
                        <a:pt x="162" y="227"/>
                      </a:lnTo>
                      <a:lnTo>
                        <a:pt x="166" y="232"/>
                      </a:lnTo>
                      <a:lnTo>
                        <a:pt x="166" y="227"/>
                      </a:lnTo>
                      <a:lnTo>
                        <a:pt x="166" y="232"/>
                      </a:lnTo>
                      <a:lnTo>
                        <a:pt x="166" y="227"/>
                      </a:lnTo>
                      <a:lnTo>
                        <a:pt x="166" y="232"/>
                      </a:lnTo>
                      <a:lnTo>
                        <a:pt x="166" y="227"/>
                      </a:lnTo>
                      <a:lnTo>
                        <a:pt x="166" y="232"/>
                      </a:lnTo>
                      <a:lnTo>
                        <a:pt x="166" y="227"/>
                      </a:lnTo>
                      <a:lnTo>
                        <a:pt x="171" y="232"/>
                      </a:lnTo>
                      <a:lnTo>
                        <a:pt x="171" y="227"/>
                      </a:lnTo>
                      <a:lnTo>
                        <a:pt x="171" y="232"/>
                      </a:lnTo>
                      <a:lnTo>
                        <a:pt x="171" y="227"/>
                      </a:lnTo>
                      <a:lnTo>
                        <a:pt x="171" y="232"/>
                      </a:lnTo>
                      <a:lnTo>
                        <a:pt x="171" y="227"/>
                      </a:lnTo>
                      <a:lnTo>
                        <a:pt x="171" y="232"/>
                      </a:lnTo>
                      <a:lnTo>
                        <a:pt x="171" y="227"/>
                      </a:lnTo>
                      <a:lnTo>
                        <a:pt x="171" y="232"/>
                      </a:lnTo>
                      <a:lnTo>
                        <a:pt x="171" y="227"/>
                      </a:lnTo>
                      <a:lnTo>
                        <a:pt x="171" y="232"/>
                      </a:lnTo>
                      <a:lnTo>
                        <a:pt x="176" y="227"/>
                      </a:lnTo>
                      <a:lnTo>
                        <a:pt x="176" y="232"/>
                      </a:lnTo>
                      <a:lnTo>
                        <a:pt x="180" y="227"/>
                      </a:lnTo>
                      <a:lnTo>
                        <a:pt x="180" y="232"/>
                      </a:lnTo>
                      <a:lnTo>
                        <a:pt x="180" y="227"/>
                      </a:lnTo>
                      <a:lnTo>
                        <a:pt x="180" y="232"/>
                      </a:lnTo>
                      <a:lnTo>
                        <a:pt x="180" y="227"/>
                      </a:lnTo>
                      <a:lnTo>
                        <a:pt x="180" y="232"/>
                      </a:lnTo>
                      <a:lnTo>
                        <a:pt x="180" y="227"/>
                      </a:lnTo>
                      <a:lnTo>
                        <a:pt x="185" y="232"/>
                      </a:lnTo>
                      <a:lnTo>
                        <a:pt x="185" y="227"/>
                      </a:lnTo>
                      <a:lnTo>
                        <a:pt x="185" y="232"/>
                      </a:lnTo>
                      <a:lnTo>
                        <a:pt x="185" y="227"/>
                      </a:lnTo>
                      <a:lnTo>
                        <a:pt x="185" y="232"/>
                      </a:lnTo>
                      <a:lnTo>
                        <a:pt x="185" y="227"/>
                      </a:lnTo>
                      <a:lnTo>
                        <a:pt x="190" y="232"/>
                      </a:lnTo>
                      <a:lnTo>
                        <a:pt x="190" y="236"/>
                      </a:lnTo>
                      <a:lnTo>
                        <a:pt x="190" y="232"/>
                      </a:lnTo>
                      <a:lnTo>
                        <a:pt x="190" y="236"/>
                      </a:lnTo>
                      <a:lnTo>
                        <a:pt x="190" y="232"/>
                      </a:lnTo>
                      <a:lnTo>
                        <a:pt x="190" y="236"/>
                      </a:lnTo>
                      <a:lnTo>
                        <a:pt x="190" y="232"/>
                      </a:lnTo>
                      <a:lnTo>
                        <a:pt x="190" y="236"/>
                      </a:lnTo>
                      <a:lnTo>
                        <a:pt x="190" y="232"/>
                      </a:lnTo>
                      <a:lnTo>
                        <a:pt x="194" y="236"/>
                      </a:lnTo>
                      <a:lnTo>
                        <a:pt x="194" y="232"/>
                      </a:lnTo>
                      <a:lnTo>
                        <a:pt x="194" y="236"/>
                      </a:lnTo>
                      <a:lnTo>
                        <a:pt x="194" y="232"/>
                      </a:lnTo>
                      <a:lnTo>
                        <a:pt x="194" y="236"/>
                      </a:lnTo>
                      <a:lnTo>
                        <a:pt x="194" y="232"/>
                      </a:lnTo>
                      <a:lnTo>
                        <a:pt x="194" y="236"/>
                      </a:lnTo>
                      <a:lnTo>
                        <a:pt x="194" y="232"/>
                      </a:lnTo>
                      <a:lnTo>
                        <a:pt x="194" y="236"/>
                      </a:lnTo>
                      <a:lnTo>
                        <a:pt x="194" y="232"/>
                      </a:lnTo>
                      <a:lnTo>
                        <a:pt x="199" y="236"/>
                      </a:lnTo>
                      <a:lnTo>
                        <a:pt x="203" y="232"/>
                      </a:lnTo>
                      <a:lnTo>
                        <a:pt x="203" y="227"/>
                      </a:lnTo>
                      <a:lnTo>
                        <a:pt x="203" y="232"/>
                      </a:lnTo>
                      <a:lnTo>
                        <a:pt x="203" y="227"/>
                      </a:lnTo>
                      <a:lnTo>
                        <a:pt x="208" y="232"/>
                      </a:lnTo>
                      <a:lnTo>
                        <a:pt x="208" y="236"/>
                      </a:lnTo>
                      <a:lnTo>
                        <a:pt x="208" y="232"/>
                      </a:lnTo>
                      <a:lnTo>
                        <a:pt x="208" y="236"/>
                      </a:lnTo>
                      <a:lnTo>
                        <a:pt x="208" y="232"/>
                      </a:lnTo>
                      <a:lnTo>
                        <a:pt x="208" y="236"/>
                      </a:lnTo>
                      <a:lnTo>
                        <a:pt x="208" y="232"/>
                      </a:lnTo>
                      <a:lnTo>
                        <a:pt x="208" y="236"/>
                      </a:lnTo>
                      <a:lnTo>
                        <a:pt x="208" y="232"/>
                      </a:lnTo>
                      <a:lnTo>
                        <a:pt x="208" y="236"/>
                      </a:lnTo>
                      <a:lnTo>
                        <a:pt x="213" y="232"/>
                      </a:lnTo>
                      <a:lnTo>
                        <a:pt x="213" y="227"/>
                      </a:lnTo>
                      <a:lnTo>
                        <a:pt x="213" y="232"/>
                      </a:lnTo>
                      <a:lnTo>
                        <a:pt x="217" y="227"/>
                      </a:lnTo>
                      <a:lnTo>
                        <a:pt x="217" y="232"/>
                      </a:lnTo>
                      <a:lnTo>
                        <a:pt x="217" y="227"/>
                      </a:lnTo>
                      <a:lnTo>
                        <a:pt x="217" y="232"/>
                      </a:lnTo>
                      <a:lnTo>
                        <a:pt x="217" y="227"/>
                      </a:lnTo>
                      <a:lnTo>
                        <a:pt x="217" y="232"/>
                      </a:lnTo>
                      <a:lnTo>
                        <a:pt x="217" y="227"/>
                      </a:lnTo>
                      <a:lnTo>
                        <a:pt x="222" y="232"/>
                      </a:lnTo>
                      <a:lnTo>
                        <a:pt x="222" y="227"/>
                      </a:lnTo>
                      <a:lnTo>
                        <a:pt x="222" y="232"/>
                      </a:lnTo>
                      <a:lnTo>
                        <a:pt x="222" y="227"/>
                      </a:lnTo>
                      <a:lnTo>
                        <a:pt x="222" y="232"/>
                      </a:lnTo>
                      <a:lnTo>
                        <a:pt x="222" y="227"/>
                      </a:lnTo>
                      <a:lnTo>
                        <a:pt x="222" y="232"/>
                      </a:lnTo>
                      <a:lnTo>
                        <a:pt x="222" y="227"/>
                      </a:lnTo>
                      <a:lnTo>
                        <a:pt x="222" y="232"/>
                      </a:lnTo>
                      <a:lnTo>
                        <a:pt x="227" y="227"/>
                      </a:lnTo>
                      <a:lnTo>
                        <a:pt x="227" y="232"/>
                      </a:lnTo>
                      <a:lnTo>
                        <a:pt x="227" y="227"/>
                      </a:lnTo>
                      <a:lnTo>
                        <a:pt x="227" y="232"/>
                      </a:lnTo>
                      <a:lnTo>
                        <a:pt x="227" y="227"/>
                      </a:lnTo>
                      <a:lnTo>
                        <a:pt x="227" y="232"/>
                      </a:lnTo>
                      <a:lnTo>
                        <a:pt x="227" y="227"/>
                      </a:lnTo>
                      <a:lnTo>
                        <a:pt x="227" y="232"/>
                      </a:lnTo>
                      <a:lnTo>
                        <a:pt x="227" y="227"/>
                      </a:lnTo>
                      <a:lnTo>
                        <a:pt x="227" y="232"/>
                      </a:lnTo>
                      <a:lnTo>
                        <a:pt x="231" y="227"/>
                      </a:lnTo>
                      <a:lnTo>
                        <a:pt x="231" y="222"/>
                      </a:lnTo>
                      <a:lnTo>
                        <a:pt x="231" y="218"/>
                      </a:lnTo>
                      <a:lnTo>
                        <a:pt x="231" y="213"/>
                      </a:lnTo>
                      <a:lnTo>
                        <a:pt x="231" y="218"/>
                      </a:lnTo>
                      <a:lnTo>
                        <a:pt x="231" y="213"/>
                      </a:lnTo>
                      <a:lnTo>
                        <a:pt x="231" y="218"/>
                      </a:lnTo>
                      <a:lnTo>
                        <a:pt x="231" y="213"/>
                      </a:lnTo>
                      <a:lnTo>
                        <a:pt x="236" y="218"/>
                      </a:lnTo>
                      <a:lnTo>
                        <a:pt x="236" y="222"/>
                      </a:lnTo>
                      <a:lnTo>
                        <a:pt x="236" y="227"/>
                      </a:lnTo>
                      <a:lnTo>
                        <a:pt x="236" y="222"/>
                      </a:lnTo>
                      <a:lnTo>
                        <a:pt x="236" y="227"/>
                      </a:lnTo>
                      <a:lnTo>
                        <a:pt x="240" y="232"/>
                      </a:lnTo>
                      <a:lnTo>
                        <a:pt x="240" y="227"/>
                      </a:lnTo>
                      <a:lnTo>
                        <a:pt x="240" y="232"/>
                      </a:lnTo>
                      <a:lnTo>
                        <a:pt x="240" y="227"/>
                      </a:lnTo>
                      <a:lnTo>
                        <a:pt x="240" y="232"/>
                      </a:lnTo>
                      <a:lnTo>
                        <a:pt x="240" y="227"/>
                      </a:lnTo>
                      <a:lnTo>
                        <a:pt x="240" y="232"/>
                      </a:lnTo>
                      <a:lnTo>
                        <a:pt x="240" y="227"/>
                      </a:lnTo>
                      <a:lnTo>
                        <a:pt x="240" y="232"/>
                      </a:lnTo>
                      <a:lnTo>
                        <a:pt x="245" y="236"/>
                      </a:lnTo>
                      <a:lnTo>
                        <a:pt x="245" y="232"/>
                      </a:lnTo>
                      <a:lnTo>
                        <a:pt x="245" y="236"/>
                      </a:lnTo>
                      <a:lnTo>
                        <a:pt x="245" y="232"/>
                      </a:lnTo>
                      <a:lnTo>
                        <a:pt x="245" y="236"/>
                      </a:lnTo>
                      <a:lnTo>
                        <a:pt x="245" y="232"/>
                      </a:lnTo>
                      <a:lnTo>
                        <a:pt x="245" y="236"/>
                      </a:lnTo>
                      <a:lnTo>
                        <a:pt x="245" y="232"/>
                      </a:lnTo>
                      <a:lnTo>
                        <a:pt x="245" y="236"/>
                      </a:lnTo>
                      <a:lnTo>
                        <a:pt x="245" y="232"/>
                      </a:lnTo>
                      <a:lnTo>
                        <a:pt x="245" y="236"/>
                      </a:lnTo>
                      <a:lnTo>
                        <a:pt x="250" y="232"/>
                      </a:lnTo>
                      <a:lnTo>
                        <a:pt x="250" y="236"/>
                      </a:lnTo>
                      <a:lnTo>
                        <a:pt x="250" y="232"/>
                      </a:lnTo>
                      <a:lnTo>
                        <a:pt x="250" y="236"/>
                      </a:lnTo>
                      <a:lnTo>
                        <a:pt x="250" y="232"/>
                      </a:lnTo>
                      <a:lnTo>
                        <a:pt x="250" y="236"/>
                      </a:lnTo>
                      <a:lnTo>
                        <a:pt x="250" y="232"/>
                      </a:lnTo>
                      <a:lnTo>
                        <a:pt x="250" y="236"/>
                      </a:lnTo>
                      <a:lnTo>
                        <a:pt x="250" y="232"/>
                      </a:lnTo>
                      <a:lnTo>
                        <a:pt x="250" y="236"/>
                      </a:lnTo>
                      <a:lnTo>
                        <a:pt x="254" y="232"/>
                      </a:lnTo>
                      <a:lnTo>
                        <a:pt x="254" y="236"/>
                      </a:lnTo>
                      <a:lnTo>
                        <a:pt x="254" y="232"/>
                      </a:lnTo>
                      <a:lnTo>
                        <a:pt x="254" y="236"/>
                      </a:lnTo>
                      <a:lnTo>
                        <a:pt x="254" y="232"/>
                      </a:lnTo>
                      <a:lnTo>
                        <a:pt x="254" y="236"/>
                      </a:lnTo>
                      <a:lnTo>
                        <a:pt x="254" y="232"/>
                      </a:lnTo>
                      <a:lnTo>
                        <a:pt x="254" y="236"/>
                      </a:lnTo>
                      <a:lnTo>
                        <a:pt x="254" y="232"/>
                      </a:lnTo>
                      <a:lnTo>
                        <a:pt x="259" y="236"/>
                      </a:lnTo>
                      <a:lnTo>
                        <a:pt x="259" y="232"/>
                      </a:lnTo>
                      <a:lnTo>
                        <a:pt x="259" y="236"/>
                      </a:lnTo>
                      <a:lnTo>
                        <a:pt x="259" y="232"/>
                      </a:lnTo>
                      <a:lnTo>
                        <a:pt x="259" y="236"/>
                      </a:lnTo>
                      <a:lnTo>
                        <a:pt x="259" y="232"/>
                      </a:lnTo>
                      <a:lnTo>
                        <a:pt x="259" y="236"/>
                      </a:lnTo>
                      <a:lnTo>
                        <a:pt x="264" y="232"/>
                      </a:lnTo>
                      <a:lnTo>
                        <a:pt x="264" y="236"/>
                      </a:lnTo>
                      <a:lnTo>
                        <a:pt x="264" y="232"/>
                      </a:lnTo>
                      <a:lnTo>
                        <a:pt x="264" y="236"/>
                      </a:lnTo>
                      <a:lnTo>
                        <a:pt x="264" y="232"/>
                      </a:lnTo>
                      <a:lnTo>
                        <a:pt x="264" y="236"/>
                      </a:lnTo>
                      <a:lnTo>
                        <a:pt x="264" y="232"/>
                      </a:lnTo>
                      <a:lnTo>
                        <a:pt x="264" y="236"/>
                      </a:lnTo>
                      <a:lnTo>
                        <a:pt x="264" y="232"/>
                      </a:lnTo>
                      <a:lnTo>
                        <a:pt x="268" y="236"/>
                      </a:lnTo>
                      <a:lnTo>
                        <a:pt x="268" y="232"/>
                      </a:lnTo>
                      <a:lnTo>
                        <a:pt x="268" y="236"/>
                      </a:lnTo>
                      <a:lnTo>
                        <a:pt x="268" y="232"/>
                      </a:lnTo>
                      <a:lnTo>
                        <a:pt x="268" y="236"/>
                      </a:lnTo>
                      <a:lnTo>
                        <a:pt x="268" y="232"/>
                      </a:lnTo>
                      <a:lnTo>
                        <a:pt x="268" y="236"/>
                      </a:lnTo>
                      <a:lnTo>
                        <a:pt x="273" y="232"/>
                      </a:lnTo>
                      <a:lnTo>
                        <a:pt x="273" y="236"/>
                      </a:lnTo>
                      <a:lnTo>
                        <a:pt x="277" y="232"/>
                      </a:lnTo>
                      <a:lnTo>
                        <a:pt x="277" y="236"/>
                      </a:lnTo>
                      <a:lnTo>
                        <a:pt x="277" y="232"/>
                      </a:lnTo>
                      <a:lnTo>
                        <a:pt x="277" y="227"/>
                      </a:lnTo>
                      <a:lnTo>
                        <a:pt x="277" y="232"/>
                      </a:lnTo>
                      <a:lnTo>
                        <a:pt x="282" y="227"/>
                      </a:lnTo>
                      <a:lnTo>
                        <a:pt x="282" y="232"/>
                      </a:lnTo>
                      <a:lnTo>
                        <a:pt x="282" y="227"/>
                      </a:lnTo>
                      <a:lnTo>
                        <a:pt x="282" y="222"/>
                      </a:lnTo>
                      <a:lnTo>
                        <a:pt x="287" y="227"/>
                      </a:lnTo>
                      <a:lnTo>
                        <a:pt x="287" y="222"/>
                      </a:lnTo>
                      <a:lnTo>
                        <a:pt x="287" y="227"/>
                      </a:lnTo>
                      <a:lnTo>
                        <a:pt x="287" y="222"/>
                      </a:lnTo>
                      <a:lnTo>
                        <a:pt x="287" y="227"/>
                      </a:lnTo>
                      <a:lnTo>
                        <a:pt x="287" y="222"/>
                      </a:lnTo>
                      <a:lnTo>
                        <a:pt x="287" y="227"/>
                      </a:lnTo>
                      <a:lnTo>
                        <a:pt x="287" y="222"/>
                      </a:lnTo>
                      <a:lnTo>
                        <a:pt x="287" y="227"/>
                      </a:lnTo>
                      <a:lnTo>
                        <a:pt x="291" y="222"/>
                      </a:lnTo>
                      <a:lnTo>
                        <a:pt x="291" y="227"/>
                      </a:lnTo>
                      <a:lnTo>
                        <a:pt x="291" y="222"/>
                      </a:lnTo>
                      <a:lnTo>
                        <a:pt x="291" y="227"/>
                      </a:lnTo>
                      <a:lnTo>
                        <a:pt x="291" y="222"/>
                      </a:lnTo>
                      <a:lnTo>
                        <a:pt x="291" y="199"/>
                      </a:lnTo>
                      <a:lnTo>
                        <a:pt x="291" y="227"/>
                      </a:lnTo>
                      <a:lnTo>
                        <a:pt x="291" y="222"/>
                      </a:lnTo>
                      <a:lnTo>
                        <a:pt x="296" y="227"/>
                      </a:lnTo>
                      <a:lnTo>
                        <a:pt x="296" y="222"/>
                      </a:lnTo>
                      <a:lnTo>
                        <a:pt x="296" y="227"/>
                      </a:lnTo>
                      <a:lnTo>
                        <a:pt x="296" y="232"/>
                      </a:lnTo>
                      <a:lnTo>
                        <a:pt x="296" y="227"/>
                      </a:lnTo>
                      <a:lnTo>
                        <a:pt x="296" y="232"/>
                      </a:lnTo>
                      <a:lnTo>
                        <a:pt x="301" y="227"/>
                      </a:lnTo>
                      <a:lnTo>
                        <a:pt x="301" y="232"/>
                      </a:lnTo>
                      <a:lnTo>
                        <a:pt x="301" y="227"/>
                      </a:lnTo>
                      <a:lnTo>
                        <a:pt x="301" y="232"/>
                      </a:lnTo>
                      <a:lnTo>
                        <a:pt x="301" y="227"/>
                      </a:lnTo>
                      <a:lnTo>
                        <a:pt x="301" y="232"/>
                      </a:lnTo>
                      <a:lnTo>
                        <a:pt x="301" y="227"/>
                      </a:lnTo>
                      <a:lnTo>
                        <a:pt x="301" y="232"/>
                      </a:lnTo>
                      <a:lnTo>
                        <a:pt x="301" y="227"/>
                      </a:lnTo>
                      <a:lnTo>
                        <a:pt x="305" y="232"/>
                      </a:lnTo>
                      <a:lnTo>
                        <a:pt x="305" y="227"/>
                      </a:lnTo>
                      <a:lnTo>
                        <a:pt x="305" y="232"/>
                      </a:lnTo>
                      <a:lnTo>
                        <a:pt x="305" y="227"/>
                      </a:lnTo>
                      <a:lnTo>
                        <a:pt x="305" y="222"/>
                      </a:lnTo>
                      <a:lnTo>
                        <a:pt x="310" y="227"/>
                      </a:lnTo>
                      <a:lnTo>
                        <a:pt x="310" y="222"/>
                      </a:lnTo>
                      <a:lnTo>
                        <a:pt x="310" y="227"/>
                      </a:lnTo>
                      <a:lnTo>
                        <a:pt x="315" y="222"/>
                      </a:lnTo>
                      <a:lnTo>
                        <a:pt x="315" y="227"/>
                      </a:lnTo>
                      <a:lnTo>
                        <a:pt x="315" y="222"/>
                      </a:lnTo>
                      <a:lnTo>
                        <a:pt x="315" y="227"/>
                      </a:lnTo>
                      <a:lnTo>
                        <a:pt x="315" y="222"/>
                      </a:lnTo>
                      <a:lnTo>
                        <a:pt x="315" y="227"/>
                      </a:lnTo>
                      <a:lnTo>
                        <a:pt x="315" y="222"/>
                      </a:lnTo>
                      <a:lnTo>
                        <a:pt x="319" y="227"/>
                      </a:lnTo>
                      <a:lnTo>
                        <a:pt x="319" y="222"/>
                      </a:lnTo>
                      <a:lnTo>
                        <a:pt x="319" y="227"/>
                      </a:lnTo>
                      <a:lnTo>
                        <a:pt x="319" y="222"/>
                      </a:lnTo>
                      <a:lnTo>
                        <a:pt x="319" y="227"/>
                      </a:lnTo>
                      <a:lnTo>
                        <a:pt x="319" y="222"/>
                      </a:lnTo>
                      <a:lnTo>
                        <a:pt x="319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4" y="227"/>
                      </a:lnTo>
                      <a:lnTo>
                        <a:pt x="324" y="222"/>
                      </a:lnTo>
                      <a:lnTo>
                        <a:pt x="328" y="227"/>
                      </a:lnTo>
                      <a:lnTo>
                        <a:pt x="328" y="222"/>
                      </a:lnTo>
                      <a:lnTo>
                        <a:pt x="328" y="227"/>
                      </a:lnTo>
                      <a:lnTo>
                        <a:pt x="328" y="222"/>
                      </a:lnTo>
                      <a:lnTo>
                        <a:pt x="333" y="227"/>
                      </a:lnTo>
                      <a:lnTo>
                        <a:pt x="333" y="222"/>
                      </a:lnTo>
                      <a:lnTo>
                        <a:pt x="333" y="227"/>
                      </a:lnTo>
                      <a:lnTo>
                        <a:pt x="338" y="222"/>
                      </a:lnTo>
                      <a:lnTo>
                        <a:pt x="338" y="227"/>
                      </a:lnTo>
                      <a:lnTo>
                        <a:pt x="338" y="222"/>
                      </a:lnTo>
                      <a:lnTo>
                        <a:pt x="338" y="218"/>
                      </a:lnTo>
                      <a:lnTo>
                        <a:pt x="342" y="222"/>
                      </a:lnTo>
                      <a:lnTo>
                        <a:pt x="342" y="218"/>
                      </a:lnTo>
                      <a:lnTo>
                        <a:pt x="342" y="222"/>
                      </a:lnTo>
                      <a:lnTo>
                        <a:pt x="342" y="218"/>
                      </a:lnTo>
                      <a:lnTo>
                        <a:pt x="342" y="222"/>
                      </a:lnTo>
                      <a:lnTo>
                        <a:pt x="342" y="218"/>
                      </a:lnTo>
                      <a:lnTo>
                        <a:pt x="342" y="222"/>
                      </a:lnTo>
                      <a:lnTo>
                        <a:pt x="342" y="218"/>
                      </a:lnTo>
                      <a:lnTo>
                        <a:pt x="347" y="222"/>
                      </a:lnTo>
                      <a:lnTo>
                        <a:pt x="352" y="218"/>
                      </a:lnTo>
                      <a:lnTo>
                        <a:pt x="352" y="222"/>
                      </a:lnTo>
                      <a:lnTo>
                        <a:pt x="352" y="218"/>
                      </a:lnTo>
                      <a:lnTo>
                        <a:pt x="352" y="222"/>
                      </a:lnTo>
                      <a:lnTo>
                        <a:pt x="352" y="218"/>
                      </a:lnTo>
                      <a:lnTo>
                        <a:pt x="352" y="213"/>
                      </a:lnTo>
                      <a:lnTo>
                        <a:pt x="356" y="218"/>
                      </a:lnTo>
                      <a:lnTo>
                        <a:pt x="356" y="213"/>
                      </a:lnTo>
                      <a:lnTo>
                        <a:pt x="356" y="218"/>
                      </a:lnTo>
                      <a:lnTo>
                        <a:pt x="356" y="213"/>
                      </a:lnTo>
                      <a:lnTo>
                        <a:pt x="356" y="218"/>
                      </a:lnTo>
                      <a:lnTo>
                        <a:pt x="361" y="213"/>
                      </a:lnTo>
                      <a:lnTo>
                        <a:pt x="361" y="208"/>
                      </a:lnTo>
                      <a:lnTo>
                        <a:pt x="361" y="213"/>
                      </a:lnTo>
                      <a:lnTo>
                        <a:pt x="361" y="208"/>
                      </a:lnTo>
                      <a:lnTo>
                        <a:pt x="365" y="213"/>
                      </a:lnTo>
                      <a:lnTo>
                        <a:pt x="365" y="208"/>
                      </a:lnTo>
                      <a:lnTo>
                        <a:pt x="365" y="213"/>
                      </a:lnTo>
                      <a:lnTo>
                        <a:pt x="365" y="208"/>
                      </a:lnTo>
                      <a:lnTo>
                        <a:pt x="365" y="213"/>
                      </a:lnTo>
                      <a:lnTo>
                        <a:pt x="370" y="208"/>
                      </a:lnTo>
                      <a:lnTo>
                        <a:pt x="370" y="213"/>
                      </a:lnTo>
                      <a:lnTo>
                        <a:pt x="370" y="208"/>
                      </a:lnTo>
                      <a:lnTo>
                        <a:pt x="370" y="213"/>
                      </a:lnTo>
                      <a:lnTo>
                        <a:pt x="370" y="208"/>
                      </a:lnTo>
                      <a:lnTo>
                        <a:pt x="370" y="213"/>
                      </a:lnTo>
                      <a:lnTo>
                        <a:pt x="370" y="208"/>
                      </a:lnTo>
                      <a:lnTo>
                        <a:pt x="370" y="213"/>
                      </a:lnTo>
                      <a:lnTo>
                        <a:pt x="370" y="208"/>
                      </a:lnTo>
                      <a:lnTo>
                        <a:pt x="370" y="213"/>
                      </a:lnTo>
                      <a:lnTo>
                        <a:pt x="375" y="208"/>
                      </a:lnTo>
                      <a:lnTo>
                        <a:pt x="375" y="213"/>
                      </a:lnTo>
                      <a:lnTo>
                        <a:pt x="375" y="208"/>
                      </a:lnTo>
                      <a:lnTo>
                        <a:pt x="375" y="213"/>
                      </a:lnTo>
                      <a:lnTo>
                        <a:pt x="375" y="208"/>
                      </a:lnTo>
                      <a:lnTo>
                        <a:pt x="375" y="213"/>
                      </a:lnTo>
                      <a:lnTo>
                        <a:pt x="375" y="208"/>
                      </a:lnTo>
                      <a:lnTo>
                        <a:pt x="375" y="213"/>
                      </a:lnTo>
                      <a:lnTo>
                        <a:pt x="375" y="208"/>
                      </a:lnTo>
                      <a:lnTo>
                        <a:pt x="379" y="213"/>
                      </a:lnTo>
                      <a:lnTo>
                        <a:pt x="379" y="208"/>
                      </a:lnTo>
                      <a:lnTo>
                        <a:pt x="379" y="204"/>
                      </a:lnTo>
                      <a:lnTo>
                        <a:pt x="379" y="208"/>
                      </a:lnTo>
                      <a:lnTo>
                        <a:pt x="384" y="204"/>
                      </a:lnTo>
                      <a:lnTo>
                        <a:pt x="389" y="199"/>
                      </a:lnTo>
                      <a:lnTo>
                        <a:pt x="393" y="204"/>
                      </a:lnTo>
                      <a:lnTo>
                        <a:pt x="393" y="199"/>
                      </a:lnTo>
                      <a:lnTo>
                        <a:pt x="393" y="204"/>
                      </a:lnTo>
                      <a:lnTo>
                        <a:pt x="393" y="199"/>
                      </a:lnTo>
                      <a:lnTo>
                        <a:pt x="398" y="204"/>
                      </a:lnTo>
                      <a:lnTo>
                        <a:pt x="398" y="199"/>
                      </a:lnTo>
                      <a:lnTo>
                        <a:pt x="398" y="204"/>
                      </a:lnTo>
                      <a:lnTo>
                        <a:pt x="398" y="199"/>
                      </a:lnTo>
                      <a:lnTo>
                        <a:pt x="398" y="194"/>
                      </a:lnTo>
                      <a:lnTo>
                        <a:pt x="398" y="199"/>
                      </a:lnTo>
                      <a:lnTo>
                        <a:pt x="402" y="194"/>
                      </a:lnTo>
                      <a:lnTo>
                        <a:pt x="402" y="199"/>
                      </a:lnTo>
                      <a:lnTo>
                        <a:pt x="402" y="194"/>
                      </a:lnTo>
                      <a:lnTo>
                        <a:pt x="402" y="199"/>
                      </a:lnTo>
                      <a:lnTo>
                        <a:pt x="402" y="194"/>
                      </a:lnTo>
                      <a:lnTo>
                        <a:pt x="402" y="199"/>
                      </a:lnTo>
                      <a:lnTo>
                        <a:pt x="407" y="194"/>
                      </a:lnTo>
                      <a:lnTo>
                        <a:pt x="407" y="190"/>
                      </a:lnTo>
                      <a:lnTo>
                        <a:pt x="407" y="194"/>
                      </a:lnTo>
                      <a:lnTo>
                        <a:pt x="407" y="190"/>
                      </a:lnTo>
                      <a:lnTo>
                        <a:pt x="407" y="185"/>
                      </a:lnTo>
                      <a:lnTo>
                        <a:pt x="407" y="190"/>
                      </a:lnTo>
                      <a:lnTo>
                        <a:pt x="412" y="185"/>
                      </a:lnTo>
                      <a:lnTo>
                        <a:pt x="412" y="181"/>
                      </a:lnTo>
                      <a:lnTo>
                        <a:pt x="412" y="176"/>
                      </a:lnTo>
                      <a:lnTo>
                        <a:pt x="412" y="181"/>
                      </a:lnTo>
                      <a:lnTo>
                        <a:pt x="412" y="176"/>
                      </a:lnTo>
                      <a:lnTo>
                        <a:pt x="416" y="181"/>
                      </a:lnTo>
                      <a:lnTo>
                        <a:pt x="416" y="176"/>
                      </a:lnTo>
                      <a:lnTo>
                        <a:pt x="416" y="171"/>
                      </a:lnTo>
                      <a:lnTo>
                        <a:pt x="416" y="176"/>
                      </a:lnTo>
                      <a:lnTo>
                        <a:pt x="416" y="171"/>
                      </a:lnTo>
                      <a:lnTo>
                        <a:pt x="416" y="176"/>
                      </a:lnTo>
                      <a:lnTo>
                        <a:pt x="416" y="171"/>
                      </a:lnTo>
                      <a:lnTo>
                        <a:pt x="421" y="176"/>
                      </a:lnTo>
                      <a:lnTo>
                        <a:pt x="421" y="181"/>
                      </a:lnTo>
                      <a:lnTo>
                        <a:pt x="421" y="176"/>
                      </a:lnTo>
                      <a:lnTo>
                        <a:pt x="426" y="171"/>
                      </a:lnTo>
                      <a:lnTo>
                        <a:pt x="430" y="167"/>
                      </a:lnTo>
                      <a:lnTo>
                        <a:pt x="430" y="162"/>
                      </a:lnTo>
                      <a:lnTo>
                        <a:pt x="430" y="167"/>
                      </a:lnTo>
                      <a:lnTo>
                        <a:pt x="430" y="162"/>
                      </a:lnTo>
                      <a:lnTo>
                        <a:pt x="435" y="157"/>
                      </a:lnTo>
                      <a:lnTo>
                        <a:pt x="435" y="162"/>
                      </a:lnTo>
                      <a:lnTo>
                        <a:pt x="435" y="157"/>
                      </a:lnTo>
                      <a:lnTo>
                        <a:pt x="435" y="153"/>
                      </a:lnTo>
                      <a:lnTo>
                        <a:pt x="435" y="157"/>
                      </a:lnTo>
                      <a:lnTo>
                        <a:pt x="435" y="153"/>
                      </a:lnTo>
                      <a:lnTo>
                        <a:pt x="435" y="157"/>
                      </a:lnTo>
                      <a:lnTo>
                        <a:pt x="439" y="162"/>
                      </a:lnTo>
                      <a:lnTo>
                        <a:pt x="439" y="157"/>
                      </a:lnTo>
                      <a:lnTo>
                        <a:pt x="439" y="162"/>
                      </a:lnTo>
                      <a:lnTo>
                        <a:pt x="444" y="167"/>
                      </a:lnTo>
                      <a:lnTo>
                        <a:pt x="444" y="162"/>
                      </a:lnTo>
                      <a:lnTo>
                        <a:pt x="444" y="167"/>
                      </a:lnTo>
                      <a:lnTo>
                        <a:pt x="444" y="162"/>
                      </a:lnTo>
                      <a:lnTo>
                        <a:pt x="444" y="167"/>
                      </a:lnTo>
                      <a:lnTo>
                        <a:pt x="444" y="162"/>
                      </a:lnTo>
                      <a:lnTo>
                        <a:pt x="444" y="157"/>
                      </a:lnTo>
                      <a:lnTo>
                        <a:pt x="444" y="162"/>
                      </a:lnTo>
                      <a:lnTo>
                        <a:pt x="449" y="157"/>
                      </a:lnTo>
                      <a:lnTo>
                        <a:pt x="449" y="153"/>
                      </a:lnTo>
                      <a:lnTo>
                        <a:pt x="449" y="157"/>
                      </a:lnTo>
                      <a:lnTo>
                        <a:pt x="449" y="153"/>
                      </a:lnTo>
                      <a:lnTo>
                        <a:pt x="449" y="157"/>
                      </a:lnTo>
                      <a:lnTo>
                        <a:pt x="449" y="153"/>
                      </a:lnTo>
                      <a:lnTo>
                        <a:pt x="453" y="157"/>
                      </a:lnTo>
                      <a:lnTo>
                        <a:pt x="453" y="153"/>
                      </a:lnTo>
                      <a:lnTo>
                        <a:pt x="453" y="148"/>
                      </a:lnTo>
                      <a:lnTo>
                        <a:pt x="458" y="144"/>
                      </a:lnTo>
                      <a:lnTo>
                        <a:pt x="458" y="139"/>
                      </a:lnTo>
                      <a:lnTo>
                        <a:pt x="458" y="144"/>
                      </a:lnTo>
                      <a:lnTo>
                        <a:pt x="463" y="139"/>
                      </a:lnTo>
                      <a:lnTo>
                        <a:pt x="467" y="144"/>
                      </a:lnTo>
                      <a:lnTo>
                        <a:pt x="472" y="148"/>
                      </a:lnTo>
                      <a:lnTo>
                        <a:pt x="472" y="144"/>
                      </a:lnTo>
                      <a:lnTo>
                        <a:pt x="477" y="148"/>
                      </a:lnTo>
                      <a:lnTo>
                        <a:pt x="477" y="144"/>
                      </a:lnTo>
                      <a:lnTo>
                        <a:pt x="477" y="148"/>
                      </a:lnTo>
                      <a:lnTo>
                        <a:pt x="477" y="144"/>
                      </a:lnTo>
                      <a:lnTo>
                        <a:pt x="477" y="148"/>
                      </a:lnTo>
                      <a:lnTo>
                        <a:pt x="477" y="144"/>
                      </a:lnTo>
                      <a:lnTo>
                        <a:pt x="477" y="148"/>
                      </a:lnTo>
                      <a:lnTo>
                        <a:pt x="477" y="144"/>
                      </a:lnTo>
                      <a:lnTo>
                        <a:pt x="481" y="148"/>
                      </a:lnTo>
                      <a:lnTo>
                        <a:pt x="481" y="153"/>
                      </a:lnTo>
                      <a:lnTo>
                        <a:pt x="486" y="148"/>
                      </a:lnTo>
                      <a:lnTo>
                        <a:pt x="486" y="144"/>
                      </a:lnTo>
                      <a:lnTo>
                        <a:pt x="486" y="148"/>
                      </a:lnTo>
                      <a:lnTo>
                        <a:pt x="486" y="144"/>
                      </a:lnTo>
                      <a:lnTo>
                        <a:pt x="486" y="148"/>
                      </a:lnTo>
                      <a:lnTo>
                        <a:pt x="486" y="144"/>
                      </a:lnTo>
                      <a:lnTo>
                        <a:pt x="490" y="139"/>
                      </a:lnTo>
                      <a:lnTo>
                        <a:pt x="490" y="134"/>
                      </a:lnTo>
                      <a:lnTo>
                        <a:pt x="495" y="130"/>
                      </a:lnTo>
                      <a:lnTo>
                        <a:pt x="495" y="125"/>
                      </a:lnTo>
                      <a:lnTo>
                        <a:pt x="495" y="130"/>
                      </a:lnTo>
                      <a:lnTo>
                        <a:pt x="495" y="125"/>
                      </a:lnTo>
                      <a:lnTo>
                        <a:pt x="495" y="130"/>
                      </a:lnTo>
                      <a:lnTo>
                        <a:pt x="495" y="125"/>
                      </a:lnTo>
                      <a:lnTo>
                        <a:pt x="495" y="130"/>
                      </a:lnTo>
                      <a:lnTo>
                        <a:pt x="500" y="125"/>
                      </a:lnTo>
                      <a:lnTo>
                        <a:pt x="500" y="120"/>
                      </a:lnTo>
                      <a:lnTo>
                        <a:pt x="504" y="116"/>
                      </a:lnTo>
                      <a:lnTo>
                        <a:pt x="504" y="111"/>
                      </a:lnTo>
                      <a:lnTo>
                        <a:pt x="504" y="116"/>
                      </a:lnTo>
                      <a:lnTo>
                        <a:pt x="504" y="111"/>
                      </a:lnTo>
                      <a:lnTo>
                        <a:pt x="504" y="107"/>
                      </a:lnTo>
                      <a:lnTo>
                        <a:pt x="509" y="102"/>
                      </a:lnTo>
                      <a:lnTo>
                        <a:pt x="509" y="107"/>
                      </a:lnTo>
                      <a:lnTo>
                        <a:pt x="509" y="102"/>
                      </a:lnTo>
                      <a:lnTo>
                        <a:pt x="509" y="97"/>
                      </a:lnTo>
                      <a:lnTo>
                        <a:pt x="514" y="93"/>
                      </a:lnTo>
                      <a:lnTo>
                        <a:pt x="514" y="88"/>
                      </a:lnTo>
                      <a:lnTo>
                        <a:pt x="514" y="83"/>
                      </a:lnTo>
                      <a:lnTo>
                        <a:pt x="514" y="79"/>
                      </a:lnTo>
                      <a:lnTo>
                        <a:pt x="514" y="83"/>
                      </a:lnTo>
                      <a:lnTo>
                        <a:pt x="518" y="79"/>
                      </a:lnTo>
                      <a:lnTo>
                        <a:pt x="518" y="74"/>
                      </a:lnTo>
                      <a:lnTo>
                        <a:pt x="518" y="70"/>
                      </a:lnTo>
                      <a:lnTo>
                        <a:pt x="523" y="74"/>
                      </a:lnTo>
                      <a:lnTo>
                        <a:pt x="523" y="70"/>
                      </a:lnTo>
                      <a:lnTo>
                        <a:pt x="523" y="74"/>
                      </a:lnTo>
                      <a:lnTo>
                        <a:pt x="523" y="70"/>
                      </a:lnTo>
                      <a:lnTo>
                        <a:pt x="523" y="74"/>
                      </a:lnTo>
                      <a:lnTo>
                        <a:pt x="523" y="70"/>
                      </a:lnTo>
                      <a:lnTo>
                        <a:pt x="523" y="74"/>
                      </a:lnTo>
                      <a:lnTo>
                        <a:pt x="527" y="70"/>
                      </a:lnTo>
                      <a:lnTo>
                        <a:pt x="527" y="74"/>
                      </a:lnTo>
                      <a:lnTo>
                        <a:pt x="527" y="70"/>
                      </a:lnTo>
                    </a:path>
                  </a:pathLst>
                </a:custGeom>
                <a:noFill/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5746680" y="3303720"/>
                <a:ext cx="29163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76840" y="151128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rot="16200000">
              <a:off x="4293720" y="2590200"/>
              <a:ext cx="137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Offset (</a:t>
              </a:r>
              <a:r>
                <a:rPr b="0" lang="es-MX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0" lang="es-MX" sz="2000" spc="-1" strike="noStrike">
                  <a:solidFill>
                    <a:srgbClr val="3333cc"/>
                  </a:solidFill>
                  <a:latin typeface="Arial"/>
                </a:rPr>
                <a:t>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7" name=""/>
          <p:cNvGraphicFramePr/>
          <p:nvPr/>
        </p:nvGraphicFramePr>
        <p:xfrm>
          <a:off x="4705200" y="4938840"/>
          <a:ext cx="4262400" cy="776160"/>
        </p:xfrm>
        <a:graphic>
          <a:graphicData uri="http://schemas.openxmlformats.org/drawingml/2006/table">
            <a:tbl>
              <a:tblPr/>
              <a:tblGrid>
                <a:gridCol w="984240"/>
                <a:gridCol w="1065240"/>
                <a:gridCol w="1065240"/>
                <a:gridCol w="1147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ax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ín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Med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-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jemplo: Evaluación Red VTHD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279" name="deploiement" descr=""/>
          <p:cNvPicPr/>
          <p:nvPr/>
        </p:nvPicPr>
        <p:blipFill>
          <a:blip r:embed="rId1"/>
          <a:stretch/>
        </p:blipFill>
        <p:spPr>
          <a:xfrm>
            <a:off x="195120" y="1670040"/>
            <a:ext cx="3962520" cy="3565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419720" y="2286000"/>
            <a:ext cx="4343400" cy="265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IP/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nlaces</a:t>
            </a: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: Núcleo = 2.5 Gbit/s 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Acceso =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1 </a:t>
            </a: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Gbit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Arquitectura DiffSer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Puntos de evaluación: </a:t>
            </a:r>
            <a:br>
              <a:rPr sz="2400"/>
            </a:br>
            <a:r>
              <a:rPr b="1" lang="fr-FR" sz="2400" spc="-1" strike="noStrike">
                <a:solidFill>
                  <a:srgbClr val="006600"/>
                </a:solidFill>
                <a:latin typeface="Times New Roman"/>
              </a:rPr>
              <a:t>Rennes - N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valuación Red VTHD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19320" y="2209680"/>
          <a:ext cx="6629400" cy="3260520"/>
        </p:xfrm>
        <a:graphic>
          <a:graphicData uri="http://schemas.openxmlformats.org/drawingml/2006/table">
            <a:tbl>
              <a:tblPr/>
              <a:tblGrid>
                <a:gridCol w="1325520"/>
                <a:gridCol w="1326960"/>
                <a:gridCol w="1324080"/>
                <a:gridCol w="1327320"/>
                <a:gridCol w="1325520"/>
              </a:tblGrid>
              <a:tr h="43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Best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AF T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ráfico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perturb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(Gbp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hrough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(Mbp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Pér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hrough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(Mbp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Pér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3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8x10</a:t>
                      </a:r>
                      <a:r>
                        <a:rPr b="0" lang="es-MX" sz="2000" spc="-1" strike="noStrike" baseline="30000">
                          <a:solidFill>
                            <a:srgbClr val="006600"/>
                          </a:solidFill>
                          <a:latin typeface="Arial Narrow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3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.1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.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valuación Red VTHD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2289600" y="1616040"/>
            <a:ext cx="40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Arial"/>
              </a:rPr>
              <a:t>Retardo en una sol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00200" y="5226120"/>
            <a:ext cx="5409720" cy="656280"/>
            <a:chOff x="1600200" y="5226120"/>
            <a:chExt cx="5409720" cy="656280"/>
          </a:xfrm>
        </p:grpSpPr>
        <p:sp>
          <p:nvSpPr>
            <p:cNvPr id="286" name=""/>
            <p:cNvSpPr/>
            <p:nvPr/>
          </p:nvSpPr>
          <p:spPr>
            <a:xfrm>
              <a:off x="1600200" y="5489640"/>
              <a:ext cx="290520" cy="8712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72440" y="5410080"/>
              <a:ext cx="139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6600"/>
                  </a:solidFill>
                  <a:latin typeface="Arial"/>
                </a:rPr>
                <a:t>Perturbador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83080" y="5346720"/>
              <a:ext cx="3031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76560" y="52261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OW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51400" y="5735520"/>
              <a:ext cx="301320" cy="324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7200" y="5622840"/>
              <a:ext cx="123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6600"/>
                  </a:solidFill>
                  <a:latin typeface="Arial"/>
                </a:rPr>
                <a:t>OWD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AFU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5560" y="5348160"/>
              <a:ext cx="304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93120" y="5226120"/>
              <a:ext cx="121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OWD AF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98920" y="5751360"/>
              <a:ext cx="303480" cy="324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18680" y="563868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OWD 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14240" y="2333520"/>
            <a:ext cx="7559640" cy="2715120"/>
            <a:chOff x="714240" y="2333520"/>
            <a:chExt cx="7559640" cy="2715120"/>
          </a:xfrm>
        </p:grpSpPr>
        <p:sp>
          <p:nvSpPr>
            <p:cNvPr id="297" name=""/>
            <p:cNvSpPr/>
            <p:nvPr/>
          </p:nvSpPr>
          <p:spPr>
            <a:xfrm>
              <a:off x="1720800" y="2433600"/>
              <a:ext cx="5456160" cy="19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20800" y="2708280"/>
              <a:ext cx="4819680" cy="1641600"/>
            </a:xfrm>
            <a:custGeom>
              <a:avLst/>
              <a:gdLst/>
              <a:ahLst/>
              <a:rect l="l" t="t" r="r" b="b"/>
              <a:pathLst>
                <a:path w="2357" h="696">
                  <a:moveTo>
                    <a:pt x="0" y="696"/>
                  </a:moveTo>
                  <a:lnTo>
                    <a:pt x="0" y="696"/>
                  </a:lnTo>
                  <a:lnTo>
                    <a:pt x="6" y="696"/>
                  </a:lnTo>
                  <a:lnTo>
                    <a:pt x="11" y="696"/>
                  </a:lnTo>
                  <a:lnTo>
                    <a:pt x="16" y="696"/>
                  </a:lnTo>
                  <a:lnTo>
                    <a:pt x="22" y="696"/>
                  </a:lnTo>
                  <a:lnTo>
                    <a:pt x="27" y="696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8" y="696"/>
                  </a:lnTo>
                  <a:lnTo>
                    <a:pt x="44" y="696"/>
                  </a:lnTo>
                  <a:lnTo>
                    <a:pt x="49" y="696"/>
                  </a:lnTo>
                  <a:lnTo>
                    <a:pt x="55" y="696"/>
                  </a:lnTo>
                  <a:lnTo>
                    <a:pt x="60" y="696"/>
                  </a:lnTo>
                  <a:lnTo>
                    <a:pt x="66" y="696"/>
                  </a:lnTo>
                  <a:lnTo>
                    <a:pt x="71" y="696"/>
                  </a:lnTo>
                  <a:lnTo>
                    <a:pt x="71" y="696"/>
                  </a:lnTo>
                  <a:lnTo>
                    <a:pt x="77" y="696"/>
                  </a:lnTo>
                  <a:lnTo>
                    <a:pt x="82" y="696"/>
                  </a:lnTo>
                  <a:lnTo>
                    <a:pt x="88" y="696"/>
                  </a:lnTo>
                  <a:lnTo>
                    <a:pt x="93" y="696"/>
                  </a:lnTo>
                  <a:lnTo>
                    <a:pt x="99" y="696"/>
                  </a:lnTo>
                  <a:lnTo>
                    <a:pt x="104" y="696"/>
                  </a:lnTo>
                  <a:lnTo>
                    <a:pt x="104" y="696"/>
                  </a:lnTo>
                  <a:lnTo>
                    <a:pt x="109" y="696"/>
                  </a:lnTo>
                  <a:lnTo>
                    <a:pt x="115" y="696"/>
                  </a:lnTo>
                  <a:lnTo>
                    <a:pt x="120" y="696"/>
                  </a:lnTo>
                  <a:lnTo>
                    <a:pt x="126" y="696"/>
                  </a:lnTo>
                  <a:lnTo>
                    <a:pt x="131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42" y="696"/>
                  </a:lnTo>
                  <a:lnTo>
                    <a:pt x="148" y="696"/>
                  </a:lnTo>
                  <a:lnTo>
                    <a:pt x="153" y="696"/>
                  </a:lnTo>
                  <a:lnTo>
                    <a:pt x="159" y="696"/>
                  </a:lnTo>
                  <a:lnTo>
                    <a:pt x="164" y="696"/>
                  </a:lnTo>
                  <a:lnTo>
                    <a:pt x="170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81" y="696"/>
                  </a:lnTo>
                  <a:lnTo>
                    <a:pt x="186" y="696"/>
                  </a:lnTo>
                  <a:lnTo>
                    <a:pt x="191" y="696"/>
                  </a:lnTo>
                  <a:lnTo>
                    <a:pt x="197" y="696"/>
                  </a:lnTo>
                  <a:lnTo>
                    <a:pt x="202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13" y="696"/>
                  </a:lnTo>
                  <a:lnTo>
                    <a:pt x="219" y="696"/>
                  </a:lnTo>
                  <a:lnTo>
                    <a:pt x="224" y="696"/>
                  </a:lnTo>
                  <a:lnTo>
                    <a:pt x="230" y="696"/>
                  </a:lnTo>
                  <a:lnTo>
                    <a:pt x="235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46" y="696"/>
                  </a:lnTo>
                  <a:lnTo>
                    <a:pt x="252" y="696"/>
                  </a:lnTo>
                  <a:lnTo>
                    <a:pt x="257" y="696"/>
                  </a:lnTo>
                  <a:lnTo>
                    <a:pt x="263" y="696"/>
                  </a:lnTo>
                  <a:lnTo>
                    <a:pt x="268" y="696"/>
                  </a:lnTo>
                  <a:lnTo>
                    <a:pt x="274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84" y="696"/>
                  </a:lnTo>
                  <a:lnTo>
                    <a:pt x="290" y="696"/>
                  </a:lnTo>
                  <a:lnTo>
                    <a:pt x="295" y="696"/>
                  </a:lnTo>
                  <a:lnTo>
                    <a:pt x="301" y="696"/>
                  </a:lnTo>
                  <a:lnTo>
                    <a:pt x="306" y="696"/>
                  </a:lnTo>
                  <a:lnTo>
                    <a:pt x="312" y="696"/>
                  </a:lnTo>
                  <a:lnTo>
                    <a:pt x="312" y="696"/>
                  </a:lnTo>
                  <a:lnTo>
                    <a:pt x="317" y="696"/>
                  </a:lnTo>
                  <a:lnTo>
                    <a:pt x="323" y="696"/>
                  </a:lnTo>
                  <a:lnTo>
                    <a:pt x="328" y="696"/>
                  </a:lnTo>
                  <a:lnTo>
                    <a:pt x="334" y="696"/>
                  </a:lnTo>
                  <a:lnTo>
                    <a:pt x="339" y="696"/>
                  </a:lnTo>
                  <a:lnTo>
                    <a:pt x="345" y="696"/>
                  </a:lnTo>
                  <a:lnTo>
                    <a:pt x="345" y="696"/>
                  </a:lnTo>
                  <a:lnTo>
                    <a:pt x="350" y="696"/>
                  </a:lnTo>
                  <a:lnTo>
                    <a:pt x="356" y="696"/>
                  </a:lnTo>
                  <a:lnTo>
                    <a:pt x="361" y="696"/>
                  </a:lnTo>
                  <a:lnTo>
                    <a:pt x="366" y="696"/>
                  </a:lnTo>
                  <a:lnTo>
                    <a:pt x="372" y="696"/>
                  </a:lnTo>
                  <a:lnTo>
                    <a:pt x="377" y="696"/>
                  </a:lnTo>
                  <a:lnTo>
                    <a:pt x="383" y="696"/>
                  </a:lnTo>
                  <a:lnTo>
                    <a:pt x="383" y="696"/>
                  </a:lnTo>
                  <a:lnTo>
                    <a:pt x="388" y="696"/>
                  </a:lnTo>
                  <a:lnTo>
                    <a:pt x="394" y="696"/>
                  </a:lnTo>
                  <a:lnTo>
                    <a:pt x="399" y="696"/>
                  </a:lnTo>
                  <a:lnTo>
                    <a:pt x="405" y="696"/>
                  </a:lnTo>
                  <a:lnTo>
                    <a:pt x="410" y="696"/>
                  </a:lnTo>
                  <a:lnTo>
                    <a:pt x="416" y="696"/>
                  </a:lnTo>
                  <a:lnTo>
                    <a:pt x="416" y="696"/>
                  </a:lnTo>
                  <a:lnTo>
                    <a:pt x="421" y="696"/>
                  </a:lnTo>
                  <a:lnTo>
                    <a:pt x="427" y="696"/>
                  </a:lnTo>
                  <a:lnTo>
                    <a:pt x="432" y="696"/>
                  </a:lnTo>
                  <a:lnTo>
                    <a:pt x="438" y="696"/>
                  </a:lnTo>
                  <a:lnTo>
                    <a:pt x="443" y="696"/>
                  </a:lnTo>
                  <a:lnTo>
                    <a:pt x="448" y="696"/>
                  </a:lnTo>
                  <a:lnTo>
                    <a:pt x="448" y="696"/>
                  </a:lnTo>
                  <a:lnTo>
                    <a:pt x="454" y="696"/>
                  </a:lnTo>
                  <a:lnTo>
                    <a:pt x="459" y="696"/>
                  </a:lnTo>
                  <a:lnTo>
                    <a:pt x="465" y="696"/>
                  </a:lnTo>
                  <a:lnTo>
                    <a:pt x="470" y="696"/>
                  </a:lnTo>
                  <a:lnTo>
                    <a:pt x="476" y="696"/>
                  </a:lnTo>
                  <a:lnTo>
                    <a:pt x="481" y="696"/>
                  </a:lnTo>
                  <a:lnTo>
                    <a:pt x="487" y="696"/>
                  </a:lnTo>
                  <a:lnTo>
                    <a:pt x="487" y="696"/>
                  </a:lnTo>
                  <a:lnTo>
                    <a:pt x="492" y="696"/>
                  </a:lnTo>
                  <a:lnTo>
                    <a:pt x="498" y="696"/>
                  </a:lnTo>
                  <a:lnTo>
                    <a:pt x="503" y="696"/>
                  </a:lnTo>
                  <a:lnTo>
                    <a:pt x="509" y="696"/>
                  </a:lnTo>
                  <a:lnTo>
                    <a:pt x="514" y="696"/>
                  </a:lnTo>
                  <a:lnTo>
                    <a:pt x="520" y="696"/>
                  </a:lnTo>
                  <a:lnTo>
                    <a:pt x="520" y="696"/>
                  </a:lnTo>
                  <a:lnTo>
                    <a:pt x="525" y="696"/>
                  </a:lnTo>
                  <a:lnTo>
                    <a:pt x="531" y="696"/>
                  </a:lnTo>
                  <a:lnTo>
                    <a:pt x="536" y="696"/>
                  </a:lnTo>
                  <a:lnTo>
                    <a:pt x="541" y="696"/>
                  </a:lnTo>
                  <a:lnTo>
                    <a:pt x="547" y="696"/>
                  </a:lnTo>
                  <a:lnTo>
                    <a:pt x="552" y="696"/>
                  </a:lnTo>
                  <a:lnTo>
                    <a:pt x="552" y="696"/>
                  </a:lnTo>
                  <a:lnTo>
                    <a:pt x="558" y="696"/>
                  </a:lnTo>
                  <a:lnTo>
                    <a:pt x="563" y="696"/>
                  </a:lnTo>
                  <a:lnTo>
                    <a:pt x="569" y="414"/>
                  </a:lnTo>
                  <a:lnTo>
                    <a:pt x="574" y="414"/>
                  </a:lnTo>
                  <a:lnTo>
                    <a:pt x="580" y="414"/>
                  </a:lnTo>
                  <a:lnTo>
                    <a:pt x="585" y="414"/>
                  </a:lnTo>
                  <a:lnTo>
                    <a:pt x="591" y="414"/>
                  </a:lnTo>
                  <a:lnTo>
                    <a:pt x="591" y="414"/>
                  </a:lnTo>
                  <a:lnTo>
                    <a:pt x="596" y="414"/>
                  </a:lnTo>
                  <a:lnTo>
                    <a:pt x="602" y="414"/>
                  </a:lnTo>
                  <a:lnTo>
                    <a:pt x="607" y="414"/>
                  </a:lnTo>
                  <a:lnTo>
                    <a:pt x="613" y="414"/>
                  </a:lnTo>
                  <a:lnTo>
                    <a:pt x="618" y="414"/>
                  </a:lnTo>
                  <a:lnTo>
                    <a:pt x="623" y="414"/>
                  </a:lnTo>
                  <a:lnTo>
                    <a:pt x="623" y="414"/>
                  </a:lnTo>
                  <a:lnTo>
                    <a:pt x="629" y="414"/>
                  </a:lnTo>
                  <a:lnTo>
                    <a:pt x="634" y="414"/>
                  </a:lnTo>
                  <a:lnTo>
                    <a:pt x="640" y="414"/>
                  </a:lnTo>
                  <a:lnTo>
                    <a:pt x="645" y="414"/>
                  </a:lnTo>
                  <a:lnTo>
                    <a:pt x="651" y="414"/>
                  </a:lnTo>
                  <a:lnTo>
                    <a:pt x="656" y="414"/>
                  </a:lnTo>
                  <a:lnTo>
                    <a:pt x="656" y="414"/>
                  </a:lnTo>
                  <a:lnTo>
                    <a:pt x="662" y="414"/>
                  </a:lnTo>
                  <a:lnTo>
                    <a:pt x="667" y="414"/>
                  </a:lnTo>
                  <a:lnTo>
                    <a:pt x="673" y="414"/>
                  </a:lnTo>
                  <a:lnTo>
                    <a:pt x="678" y="414"/>
                  </a:lnTo>
                  <a:lnTo>
                    <a:pt x="684" y="414"/>
                  </a:lnTo>
                  <a:lnTo>
                    <a:pt x="689" y="414"/>
                  </a:lnTo>
                  <a:lnTo>
                    <a:pt x="695" y="414"/>
                  </a:lnTo>
                  <a:lnTo>
                    <a:pt x="695" y="414"/>
                  </a:lnTo>
                  <a:lnTo>
                    <a:pt x="700" y="414"/>
                  </a:lnTo>
                  <a:lnTo>
                    <a:pt x="706" y="414"/>
                  </a:lnTo>
                  <a:lnTo>
                    <a:pt x="711" y="414"/>
                  </a:lnTo>
                  <a:lnTo>
                    <a:pt x="716" y="414"/>
                  </a:lnTo>
                  <a:lnTo>
                    <a:pt x="722" y="414"/>
                  </a:lnTo>
                  <a:lnTo>
                    <a:pt x="727" y="414"/>
                  </a:lnTo>
                  <a:lnTo>
                    <a:pt x="727" y="414"/>
                  </a:lnTo>
                  <a:lnTo>
                    <a:pt x="733" y="414"/>
                  </a:lnTo>
                  <a:lnTo>
                    <a:pt x="738" y="414"/>
                  </a:lnTo>
                  <a:lnTo>
                    <a:pt x="744" y="414"/>
                  </a:lnTo>
                  <a:lnTo>
                    <a:pt x="749" y="414"/>
                  </a:lnTo>
                  <a:lnTo>
                    <a:pt x="755" y="414"/>
                  </a:lnTo>
                  <a:lnTo>
                    <a:pt x="760" y="414"/>
                  </a:lnTo>
                  <a:lnTo>
                    <a:pt x="760" y="414"/>
                  </a:lnTo>
                  <a:lnTo>
                    <a:pt x="766" y="414"/>
                  </a:lnTo>
                  <a:lnTo>
                    <a:pt x="771" y="414"/>
                  </a:lnTo>
                  <a:lnTo>
                    <a:pt x="777" y="414"/>
                  </a:lnTo>
                  <a:lnTo>
                    <a:pt x="782" y="414"/>
                  </a:lnTo>
                  <a:lnTo>
                    <a:pt x="788" y="414"/>
                  </a:lnTo>
                  <a:lnTo>
                    <a:pt x="793" y="414"/>
                  </a:lnTo>
                  <a:lnTo>
                    <a:pt x="798" y="414"/>
                  </a:lnTo>
                  <a:lnTo>
                    <a:pt x="798" y="414"/>
                  </a:lnTo>
                  <a:lnTo>
                    <a:pt x="804" y="414"/>
                  </a:lnTo>
                  <a:lnTo>
                    <a:pt x="809" y="414"/>
                  </a:lnTo>
                  <a:lnTo>
                    <a:pt x="815" y="414"/>
                  </a:lnTo>
                  <a:lnTo>
                    <a:pt x="820" y="414"/>
                  </a:lnTo>
                  <a:lnTo>
                    <a:pt x="826" y="414"/>
                  </a:lnTo>
                  <a:lnTo>
                    <a:pt x="831" y="414"/>
                  </a:lnTo>
                  <a:lnTo>
                    <a:pt x="831" y="414"/>
                  </a:lnTo>
                  <a:lnTo>
                    <a:pt x="837" y="414"/>
                  </a:lnTo>
                  <a:lnTo>
                    <a:pt x="842" y="414"/>
                  </a:lnTo>
                  <a:lnTo>
                    <a:pt x="848" y="414"/>
                  </a:lnTo>
                  <a:lnTo>
                    <a:pt x="853" y="414"/>
                  </a:lnTo>
                  <a:lnTo>
                    <a:pt x="859" y="414"/>
                  </a:lnTo>
                  <a:lnTo>
                    <a:pt x="864" y="414"/>
                  </a:lnTo>
                  <a:lnTo>
                    <a:pt x="864" y="414"/>
                  </a:lnTo>
                  <a:lnTo>
                    <a:pt x="870" y="414"/>
                  </a:lnTo>
                  <a:lnTo>
                    <a:pt x="875" y="414"/>
                  </a:lnTo>
                  <a:lnTo>
                    <a:pt x="880" y="414"/>
                  </a:lnTo>
                  <a:lnTo>
                    <a:pt x="886" y="414"/>
                  </a:lnTo>
                  <a:lnTo>
                    <a:pt x="891" y="414"/>
                  </a:lnTo>
                  <a:lnTo>
                    <a:pt x="897" y="414"/>
                  </a:lnTo>
                  <a:lnTo>
                    <a:pt x="902" y="414"/>
                  </a:lnTo>
                  <a:lnTo>
                    <a:pt x="902" y="414"/>
                  </a:lnTo>
                  <a:lnTo>
                    <a:pt x="908" y="414"/>
                  </a:lnTo>
                  <a:lnTo>
                    <a:pt x="913" y="414"/>
                  </a:lnTo>
                  <a:lnTo>
                    <a:pt x="919" y="414"/>
                  </a:lnTo>
                  <a:lnTo>
                    <a:pt x="924" y="414"/>
                  </a:lnTo>
                  <a:lnTo>
                    <a:pt x="930" y="414"/>
                  </a:lnTo>
                  <a:lnTo>
                    <a:pt x="935" y="414"/>
                  </a:lnTo>
                  <a:lnTo>
                    <a:pt x="935" y="414"/>
                  </a:lnTo>
                  <a:lnTo>
                    <a:pt x="941" y="414"/>
                  </a:lnTo>
                  <a:lnTo>
                    <a:pt x="946" y="414"/>
                  </a:lnTo>
                  <a:lnTo>
                    <a:pt x="952" y="414"/>
                  </a:lnTo>
                  <a:lnTo>
                    <a:pt x="957" y="414"/>
                  </a:lnTo>
                  <a:lnTo>
                    <a:pt x="963" y="414"/>
                  </a:lnTo>
                  <a:lnTo>
                    <a:pt x="968" y="414"/>
                  </a:lnTo>
                  <a:lnTo>
                    <a:pt x="968" y="414"/>
                  </a:lnTo>
                  <a:lnTo>
                    <a:pt x="973" y="414"/>
                  </a:lnTo>
                  <a:lnTo>
                    <a:pt x="979" y="414"/>
                  </a:lnTo>
                  <a:lnTo>
                    <a:pt x="984" y="414"/>
                  </a:lnTo>
                  <a:lnTo>
                    <a:pt x="990" y="414"/>
                  </a:lnTo>
                  <a:lnTo>
                    <a:pt x="995" y="414"/>
                  </a:lnTo>
                  <a:lnTo>
                    <a:pt x="1001" y="414"/>
                  </a:lnTo>
                  <a:lnTo>
                    <a:pt x="1006" y="414"/>
                  </a:lnTo>
                  <a:lnTo>
                    <a:pt x="1006" y="414"/>
                  </a:lnTo>
                  <a:lnTo>
                    <a:pt x="1012" y="414"/>
                  </a:lnTo>
                  <a:lnTo>
                    <a:pt x="1017" y="414"/>
                  </a:lnTo>
                  <a:lnTo>
                    <a:pt x="1023" y="414"/>
                  </a:lnTo>
                  <a:lnTo>
                    <a:pt x="1028" y="414"/>
                  </a:lnTo>
                  <a:lnTo>
                    <a:pt x="1034" y="414"/>
                  </a:lnTo>
                  <a:lnTo>
                    <a:pt x="1039" y="414"/>
                  </a:lnTo>
                  <a:lnTo>
                    <a:pt x="1039" y="414"/>
                  </a:lnTo>
                  <a:lnTo>
                    <a:pt x="1045" y="414"/>
                  </a:lnTo>
                  <a:lnTo>
                    <a:pt x="1050" y="414"/>
                  </a:lnTo>
                  <a:lnTo>
                    <a:pt x="1055" y="414"/>
                  </a:lnTo>
                  <a:lnTo>
                    <a:pt x="1061" y="414"/>
                  </a:lnTo>
                  <a:lnTo>
                    <a:pt x="1066" y="414"/>
                  </a:lnTo>
                  <a:lnTo>
                    <a:pt x="1072" y="414"/>
                  </a:lnTo>
                  <a:lnTo>
                    <a:pt x="1072" y="414"/>
                  </a:lnTo>
                  <a:lnTo>
                    <a:pt x="1077" y="414"/>
                  </a:lnTo>
                  <a:lnTo>
                    <a:pt x="1083" y="414"/>
                  </a:lnTo>
                  <a:lnTo>
                    <a:pt x="1088" y="414"/>
                  </a:lnTo>
                  <a:lnTo>
                    <a:pt x="1094" y="414"/>
                  </a:lnTo>
                  <a:lnTo>
                    <a:pt x="1099" y="414"/>
                  </a:lnTo>
                  <a:lnTo>
                    <a:pt x="1105" y="414"/>
                  </a:lnTo>
                  <a:lnTo>
                    <a:pt x="1110" y="414"/>
                  </a:lnTo>
                  <a:lnTo>
                    <a:pt x="1110" y="414"/>
                  </a:lnTo>
                  <a:lnTo>
                    <a:pt x="1116" y="414"/>
                  </a:lnTo>
                  <a:lnTo>
                    <a:pt x="1121" y="414"/>
                  </a:lnTo>
                  <a:lnTo>
                    <a:pt x="1127" y="414"/>
                  </a:lnTo>
                  <a:lnTo>
                    <a:pt x="1132" y="414"/>
                  </a:lnTo>
                  <a:lnTo>
                    <a:pt x="1138" y="324"/>
                  </a:lnTo>
                  <a:lnTo>
                    <a:pt x="1143" y="324"/>
                  </a:lnTo>
                  <a:lnTo>
                    <a:pt x="1143" y="324"/>
                  </a:lnTo>
                  <a:lnTo>
                    <a:pt x="1148" y="324"/>
                  </a:lnTo>
                  <a:lnTo>
                    <a:pt x="1154" y="324"/>
                  </a:lnTo>
                  <a:lnTo>
                    <a:pt x="1159" y="324"/>
                  </a:lnTo>
                  <a:lnTo>
                    <a:pt x="1165" y="324"/>
                  </a:lnTo>
                  <a:lnTo>
                    <a:pt x="1170" y="324"/>
                  </a:lnTo>
                  <a:lnTo>
                    <a:pt x="1176" y="324"/>
                  </a:lnTo>
                  <a:lnTo>
                    <a:pt x="1176" y="324"/>
                  </a:lnTo>
                  <a:lnTo>
                    <a:pt x="1181" y="324"/>
                  </a:lnTo>
                  <a:lnTo>
                    <a:pt x="1187" y="324"/>
                  </a:lnTo>
                  <a:lnTo>
                    <a:pt x="1192" y="324"/>
                  </a:lnTo>
                  <a:lnTo>
                    <a:pt x="1198" y="324"/>
                  </a:lnTo>
                  <a:lnTo>
                    <a:pt x="1203" y="324"/>
                  </a:lnTo>
                  <a:lnTo>
                    <a:pt x="1209" y="324"/>
                  </a:lnTo>
                  <a:lnTo>
                    <a:pt x="1214" y="324"/>
                  </a:lnTo>
                  <a:lnTo>
                    <a:pt x="1214" y="324"/>
                  </a:lnTo>
                  <a:lnTo>
                    <a:pt x="1220" y="324"/>
                  </a:lnTo>
                  <a:lnTo>
                    <a:pt x="1225" y="324"/>
                  </a:lnTo>
                  <a:lnTo>
                    <a:pt x="1230" y="324"/>
                  </a:lnTo>
                  <a:lnTo>
                    <a:pt x="1236" y="324"/>
                  </a:lnTo>
                  <a:lnTo>
                    <a:pt x="1241" y="324"/>
                  </a:lnTo>
                  <a:lnTo>
                    <a:pt x="1247" y="324"/>
                  </a:lnTo>
                  <a:lnTo>
                    <a:pt x="1247" y="324"/>
                  </a:lnTo>
                  <a:lnTo>
                    <a:pt x="1252" y="324"/>
                  </a:lnTo>
                  <a:lnTo>
                    <a:pt x="1258" y="324"/>
                  </a:lnTo>
                  <a:lnTo>
                    <a:pt x="1263" y="324"/>
                  </a:lnTo>
                  <a:lnTo>
                    <a:pt x="1269" y="324"/>
                  </a:lnTo>
                  <a:lnTo>
                    <a:pt x="1274" y="324"/>
                  </a:lnTo>
                  <a:lnTo>
                    <a:pt x="1280" y="324"/>
                  </a:lnTo>
                  <a:lnTo>
                    <a:pt x="1280" y="324"/>
                  </a:lnTo>
                  <a:lnTo>
                    <a:pt x="1285" y="324"/>
                  </a:lnTo>
                  <a:lnTo>
                    <a:pt x="1291" y="324"/>
                  </a:lnTo>
                  <a:lnTo>
                    <a:pt x="1296" y="324"/>
                  </a:lnTo>
                  <a:lnTo>
                    <a:pt x="1302" y="324"/>
                  </a:lnTo>
                  <a:lnTo>
                    <a:pt x="1307" y="324"/>
                  </a:lnTo>
                  <a:lnTo>
                    <a:pt x="1312" y="324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3" y="324"/>
                  </a:lnTo>
                  <a:lnTo>
                    <a:pt x="1329" y="324"/>
                  </a:lnTo>
                  <a:lnTo>
                    <a:pt x="1334" y="324"/>
                  </a:lnTo>
                  <a:lnTo>
                    <a:pt x="1340" y="324"/>
                  </a:lnTo>
                  <a:lnTo>
                    <a:pt x="1345" y="324"/>
                  </a:lnTo>
                  <a:lnTo>
                    <a:pt x="1351" y="324"/>
                  </a:lnTo>
                  <a:lnTo>
                    <a:pt x="1351" y="324"/>
                  </a:lnTo>
                  <a:lnTo>
                    <a:pt x="1356" y="324"/>
                  </a:lnTo>
                  <a:lnTo>
                    <a:pt x="1362" y="324"/>
                  </a:lnTo>
                  <a:lnTo>
                    <a:pt x="1367" y="324"/>
                  </a:lnTo>
                  <a:lnTo>
                    <a:pt x="1373" y="324"/>
                  </a:lnTo>
                  <a:lnTo>
                    <a:pt x="1378" y="324"/>
                  </a:lnTo>
                  <a:lnTo>
                    <a:pt x="1384" y="324"/>
                  </a:lnTo>
                  <a:lnTo>
                    <a:pt x="1389" y="324"/>
                  </a:lnTo>
                  <a:lnTo>
                    <a:pt x="1389" y="324"/>
                  </a:lnTo>
                  <a:lnTo>
                    <a:pt x="1395" y="324"/>
                  </a:lnTo>
                  <a:lnTo>
                    <a:pt x="1400" y="324"/>
                  </a:lnTo>
                  <a:lnTo>
                    <a:pt x="1405" y="324"/>
                  </a:lnTo>
                  <a:lnTo>
                    <a:pt x="1411" y="324"/>
                  </a:lnTo>
                  <a:lnTo>
                    <a:pt x="1416" y="324"/>
                  </a:lnTo>
                  <a:lnTo>
                    <a:pt x="1422" y="324"/>
                  </a:lnTo>
                  <a:lnTo>
                    <a:pt x="1422" y="324"/>
                  </a:lnTo>
                  <a:lnTo>
                    <a:pt x="1427" y="324"/>
                  </a:lnTo>
                  <a:lnTo>
                    <a:pt x="1433" y="324"/>
                  </a:lnTo>
                  <a:lnTo>
                    <a:pt x="1438" y="324"/>
                  </a:lnTo>
                  <a:lnTo>
                    <a:pt x="1444" y="324"/>
                  </a:lnTo>
                  <a:lnTo>
                    <a:pt x="1449" y="324"/>
                  </a:lnTo>
                  <a:lnTo>
                    <a:pt x="1455" y="324"/>
                  </a:lnTo>
                  <a:lnTo>
                    <a:pt x="1455" y="324"/>
                  </a:lnTo>
                  <a:lnTo>
                    <a:pt x="1460" y="324"/>
                  </a:lnTo>
                  <a:lnTo>
                    <a:pt x="1466" y="324"/>
                  </a:lnTo>
                  <a:lnTo>
                    <a:pt x="1471" y="324"/>
                  </a:lnTo>
                  <a:lnTo>
                    <a:pt x="1477" y="324"/>
                  </a:lnTo>
                  <a:lnTo>
                    <a:pt x="1482" y="324"/>
                  </a:lnTo>
                  <a:lnTo>
                    <a:pt x="1487" y="324"/>
                  </a:lnTo>
                  <a:lnTo>
                    <a:pt x="1493" y="324"/>
                  </a:lnTo>
                  <a:lnTo>
                    <a:pt x="1493" y="324"/>
                  </a:lnTo>
                  <a:lnTo>
                    <a:pt x="1498" y="324"/>
                  </a:lnTo>
                  <a:lnTo>
                    <a:pt x="1504" y="324"/>
                  </a:lnTo>
                  <a:lnTo>
                    <a:pt x="1509" y="324"/>
                  </a:lnTo>
                  <a:lnTo>
                    <a:pt x="1515" y="324"/>
                  </a:lnTo>
                  <a:lnTo>
                    <a:pt x="1520" y="324"/>
                  </a:lnTo>
                  <a:lnTo>
                    <a:pt x="1526" y="324"/>
                  </a:lnTo>
                  <a:lnTo>
                    <a:pt x="1526" y="324"/>
                  </a:lnTo>
                  <a:lnTo>
                    <a:pt x="1531" y="324"/>
                  </a:lnTo>
                  <a:lnTo>
                    <a:pt x="1537" y="324"/>
                  </a:lnTo>
                  <a:lnTo>
                    <a:pt x="1542" y="324"/>
                  </a:lnTo>
                  <a:lnTo>
                    <a:pt x="1548" y="324"/>
                  </a:lnTo>
                  <a:lnTo>
                    <a:pt x="1553" y="324"/>
                  </a:lnTo>
                  <a:lnTo>
                    <a:pt x="1559" y="324"/>
                  </a:lnTo>
                  <a:lnTo>
                    <a:pt x="1559" y="324"/>
                  </a:lnTo>
                  <a:lnTo>
                    <a:pt x="1564" y="324"/>
                  </a:lnTo>
                  <a:lnTo>
                    <a:pt x="1570" y="324"/>
                  </a:lnTo>
                  <a:lnTo>
                    <a:pt x="1575" y="324"/>
                  </a:lnTo>
                  <a:lnTo>
                    <a:pt x="1580" y="324"/>
                  </a:lnTo>
                  <a:lnTo>
                    <a:pt x="1586" y="324"/>
                  </a:lnTo>
                  <a:lnTo>
                    <a:pt x="1591" y="324"/>
                  </a:lnTo>
                  <a:lnTo>
                    <a:pt x="1597" y="324"/>
                  </a:lnTo>
                  <a:lnTo>
                    <a:pt x="1597" y="324"/>
                  </a:lnTo>
                  <a:lnTo>
                    <a:pt x="1602" y="324"/>
                  </a:lnTo>
                  <a:lnTo>
                    <a:pt x="1608" y="324"/>
                  </a:lnTo>
                  <a:lnTo>
                    <a:pt x="1613" y="324"/>
                  </a:lnTo>
                  <a:lnTo>
                    <a:pt x="1619" y="324"/>
                  </a:lnTo>
                  <a:lnTo>
                    <a:pt x="1624" y="324"/>
                  </a:lnTo>
                  <a:lnTo>
                    <a:pt x="1630" y="324"/>
                  </a:lnTo>
                  <a:lnTo>
                    <a:pt x="1630" y="324"/>
                  </a:lnTo>
                  <a:lnTo>
                    <a:pt x="1635" y="324"/>
                  </a:lnTo>
                  <a:lnTo>
                    <a:pt x="1641" y="324"/>
                  </a:lnTo>
                  <a:lnTo>
                    <a:pt x="1646" y="324"/>
                  </a:lnTo>
                  <a:lnTo>
                    <a:pt x="1652" y="324"/>
                  </a:lnTo>
                  <a:lnTo>
                    <a:pt x="1657" y="324"/>
                  </a:lnTo>
                  <a:lnTo>
                    <a:pt x="1662" y="324"/>
                  </a:lnTo>
                  <a:lnTo>
                    <a:pt x="1662" y="234"/>
                  </a:lnTo>
                  <a:lnTo>
                    <a:pt x="1668" y="234"/>
                  </a:lnTo>
                  <a:lnTo>
                    <a:pt x="1673" y="234"/>
                  </a:lnTo>
                  <a:lnTo>
                    <a:pt x="1679" y="234"/>
                  </a:lnTo>
                  <a:lnTo>
                    <a:pt x="1684" y="234"/>
                  </a:lnTo>
                  <a:lnTo>
                    <a:pt x="1690" y="234"/>
                  </a:lnTo>
                  <a:lnTo>
                    <a:pt x="1695" y="234"/>
                  </a:lnTo>
                  <a:lnTo>
                    <a:pt x="1701" y="234"/>
                  </a:lnTo>
                  <a:lnTo>
                    <a:pt x="1701" y="234"/>
                  </a:lnTo>
                  <a:lnTo>
                    <a:pt x="1706" y="234"/>
                  </a:lnTo>
                  <a:lnTo>
                    <a:pt x="1712" y="234"/>
                  </a:lnTo>
                  <a:lnTo>
                    <a:pt x="1717" y="234"/>
                  </a:lnTo>
                  <a:lnTo>
                    <a:pt x="1723" y="234"/>
                  </a:lnTo>
                  <a:lnTo>
                    <a:pt x="1728" y="234"/>
                  </a:lnTo>
                  <a:lnTo>
                    <a:pt x="1734" y="234"/>
                  </a:lnTo>
                  <a:lnTo>
                    <a:pt x="1734" y="234"/>
                  </a:lnTo>
                  <a:lnTo>
                    <a:pt x="1739" y="234"/>
                  </a:lnTo>
                  <a:lnTo>
                    <a:pt x="1744" y="234"/>
                  </a:lnTo>
                  <a:lnTo>
                    <a:pt x="1750" y="234"/>
                  </a:lnTo>
                  <a:lnTo>
                    <a:pt x="1755" y="234"/>
                  </a:lnTo>
                  <a:lnTo>
                    <a:pt x="1761" y="234"/>
                  </a:lnTo>
                  <a:lnTo>
                    <a:pt x="1766" y="234"/>
                  </a:lnTo>
                  <a:lnTo>
                    <a:pt x="1766" y="234"/>
                  </a:lnTo>
                  <a:lnTo>
                    <a:pt x="1772" y="234"/>
                  </a:lnTo>
                  <a:lnTo>
                    <a:pt x="1777" y="234"/>
                  </a:lnTo>
                  <a:lnTo>
                    <a:pt x="1783" y="234"/>
                  </a:lnTo>
                  <a:lnTo>
                    <a:pt x="1788" y="234"/>
                  </a:lnTo>
                  <a:lnTo>
                    <a:pt x="1794" y="234"/>
                  </a:lnTo>
                  <a:lnTo>
                    <a:pt x="1799" y="234"/>
                  </a:lnTo>
                  <a:lnTo>
                    <a:pt x="1805" y="234"/>
                  </a:lnTo>
                  <a:lnTo>
                    <a:pt x="1805" y="234"/>
                  </a:lnTo>
                  <a:lnTo>
                    <a:pt x="1810" y="234"/>
                  </a:lnTo>
                  <a:lnTo>
                    <a:pt x="1816" y="234"/>
                  </a:lnTo>
                  <a:lnTo>
                    <a:pt x="1821" y="234"/>
                  </a:lnTo>
                  <a:lnTo>
                    <a:pt x="1827" y="234"/>
                  </a:lnTo>
                  <a:lnTo>
                    <a:pt x="1832" y="234"/>
                  </a:lnTo>
                  <a:lnTo>
                    <a:pt x="1837" y="234"/>
                  </a:lnTo>
                  <a:lnTo>
                    <a:pt x="1837" y="234"/>
                  </a:lnTo>
                  <a:lnTo>
                    <a:pt x="1843" y="234"/>
                  </a:lnTo>
                  <a:lnTo>
                    <a:pt x="1848" y="234"/>
                  </a:lnTo>
                  <a:lnTo>
                    <a:pt x="1854" y="234"/>
                  </a:lnTo>
                  <a:lnTo>
                    <a:pt x="1859" y="234"/>
                  </a:lnTo>
                  <a:lnTo>
                    <a:pt x="1865" y="234"/>
                  </a:lnTo>
                  <a:lnTo>
                    <a:pt x="1870" y="234"/>
                  </a:lnTo>
                  <a:lnTo>
                    <a:pt x="1870" y="234"/>
                  </a:lnTo>
                  <a:lnTo>
                    <a:pt x="1876" y="234"/>
                  </a:lnTo>
                  <a:lnTo>
                    <a:pt x="1881" y="234"/>
                  </a:lnTo>
                  <a:lnTo>
                    <a:pt x="1887" y="234"/>
                  </a:lnTo>
                  <a:lnTo>
                    <a:pt x="1892" y="234"/>
                  </a:lnTo>
                  <a:lnTo>
                    <a:pt x="1898" y="234"/>
                  </a:lnTo>
                  <a:lnTo>
                    <a:pt x="1903" y="234"/>
                  </a:lnTo>
                  <a:lnTo>
                    <a:pt x="1909" y="234"/>
                  </a:lnTo>
                  <a:lnTo>
                    <a:pt x="1909" y="234"/>
                  </a:lnTo>
                  <a:lnTo>
                    <a:pt x="1914" y="234"/>
                  </a:lnTo>
                  <a:lnTo>
                    <a:pt x="1919" y="234"/>
                  </a:lnTo>
                  <a:lnTo>
                    <a:pt x="1925" y="234"/>
                  </a:lnTo>
                  <a:lnTo>
                    <a:pt x="1930" y="234"/>
                  </a:lnTo>
                  <a:lnTo>
                    <a:pt x="1936" y="234"/>
                  </a:lnTo>
                  <a:lnTo>
                    <a:pt x="1941" y="234"/>
                  </a:lnTo>
                  <a:lnTo>
                    <a:pt x="1941" y="234"/>
                  </a:lnTo>
                  <a:lnTo>
                    <a:pt x="1947" y="234"/>
                  </a:lnTo>
                  <a:lnTo>
                    <a:pt x="1952" y="234"/>
                  </a:lnTo>
                  <a:lnTo>
                    <a:pt x="1958" y="234"/>
                  </a:lnTo>
                  <a:lnTo>
                    <a:pt x="1963" y="234"/>
                  </a:lnTo>
                  <a:lnTo>
                    <a:pt x="1969" y="234"/>
                  </a:lnTo>
                  <a:lnTo>
                    <a:pt x="1974" y="234"/>
                  </a:lnTo>
                  <a:lnTo>
                    <a:pt x="1974" y="234"/>
                  </a:lnTo>
                  <a:lnTo>
                    <a:pt x="1980" y="234"/>
                  </a:lnTo>
                  <a:lnTo>
                    <a:pt x="1985" y="234"/>
                  </a:lnTo>
                  <a:lnTo>
                    <a:pt x="1991" y="234"/>
                  </a:lnTo>
                  <a:lnTo>
                    <a:pt x="1996" y="234"/>
                  </a:lnTo>
                  <a:lnTo>
                    <a:pt x="2002" y="234"/>
                  </a:lnTo>
                  <a:lnTo>
                    <a:pt x="2007" y="234"/>
                  </a:lnTo>
                  <a:lnTo>
                    <a:pt x="2012" y="234"/>
                  </a:lnTo>
                  <a:lnTo>
                    <a:pt x="2012" y="234"/>
                  </a:lnTo>
                  <a:lnTo>
                    <a:pt x="2018" y="234"/>
                  </a:lnTo>
                  <a:lnTo>
                    <a:pt x="2023" y="234"/>
                  </a:lnTo>
                  <a:lnTo>
                    <a:pt x="2029" y="234"/>
                  </a:lnTo>
                  <a:lnTo>
                    <a:pt x="2034" y="234"/>
                  </a:lnTo>
                  <a:lnTo>
                    <a:pt x="2040" y="234"/>
                  </a:lnTo>
                  <a:lnTo>
                    <a:pt x="2045" y="234"/>
                  </a:lnTo>
                  <a:lnTo>
                    <a:pt x="2045" y="234"/>
                  </a:lnTo>
                  <a:lnTo>
                    <a:pt x="2051" y="234"/>
                  </a:lnTo>
                  <a:lnTo>
                    <a:pt x="2056" y="234"/>
                  </a:lnTo>
                  <a:lnTo>
                    <a:pt x="2062" y="234"/>
                  </a:lnTo>
                  <a:lnTo>
                    <a:pt x="2067" y="234"/>
                  </a:lnTo>
                  <a:lnTo>
                    <a:pt x="2073" y="234"/>
                  </a:lnTo>
                  <a:lnTo>
                    <a:pt x="2078" y="234"/>
                  </a:lnTo>
                  <a:lnTo>
                    <a:pt x="2078" y="234"/>
                  </a:lnTo>
                  <a:lnTo>
                    <a:pt x="2084" y="234"/>
                  </a:lnTo>
                  <a:lnTo>
                    <a:pt x="2089" y="234"/>
                  </a:lnTo>
                  <a:lnTo>
                    <a:pt x="2094" y="234"/>
                  </a:lnTo>
                  <a:lnTo>
                    <a:pt x="2100" y="234"/>
                  </a:lnTo>
                  <a:lnTo>
                    <a:pt x="2105" y="234"/>
                  </a:lnTo>
                  <a:lnTo>
                    <a:pt x="2111" y="234"/>
                  </a:lnTo>
                  <a:lnTo>
                    <a:pt x="2116" y="234"/>
                  </a:lnTo>
                  <a:lnTo>
                    <a:pt x="2116" y="0"/>
                  </a:lnTo>
                  <a:lnTo>
                    <a:pt x="2122" y="0"/>
                  </a:lnTo>
                  <a:lnTo>
                    <a:pt x="2127" y="0"/>
                  </a:lnTo>
                  <a:lnTo>
                    <a:pt x="2133" y="0"/>
                  </a:lnTo>
                  <a:lnTo>
                    <a:pt x="2138" y="0"/>
                  </a:lnTo>
                  <a:lnTo>
                    <a:pt x="2144" y="0"/>
                  </a:lnTo>
                  <a:lnTo>
                    <a:pt x="2149" y="0"/>
                  </a:lnTo>
                  <a:lnTo>
                    <a:pt x="2149" y="0"/>
                  </a:lnTo>
                  <a:lnTo>
                    <a:pt x="2155" y="0"/>
                  </a:lnTo>
                  <a:lnTo>
                    <a:pt x="2160" y="0"/>
                  </a:lnTo>
                  <a:lnTo>
                    <a:pt x="2166" y="0"/>
                  </a:lnTo>
                  <a:lnTo>
                    <a:pt x="2171" y="0"/>
                  </a:lnTo>
                  <a:lnTo>
                    <a:pt x="2176" y="0"/>
                  </a:lnTo>
                  <a:lnTo>
                    <a:pt x="2182" y="0"/>
                  </a:lnTo>
                  <a:lnTo>
                    <a:pt x="2182" y="0"/>
                  </a:lnTo>
                  <a:lnTo>
                    <a:pt x="2187" y="0"/>
                  </a:lnTo>
                  <a:lnTo>
                    <a:pt x="2193" y="0"/>
                  </a:lnTo>
                  <a:lnTo>
                    <a:pt x="2198" y="0"/>
                  </a:lnTo>
                  <a:lnTo>
                    <a:pt x="2204" y="0"/>
                  </a:lnTo>
                  <a:lnTo>
                    <a:pt x="2209" y="0"/>
                  </a:lnTo>
                  <a:lnTo>
                    <a:pt x="2215" y="0"/>
                  </a:lnTo>
                  <a:lnTo>
                    <a:pt x="2220" y="0"/>
                  </a:lnTo>
                  <a:lnTo>
                    <a:pt x="2220" y="0"/>
                  </a:lnTo>
                  <a:lnTo>
                    <a:pt x="2226" y="0"/>
                  </a:lnTo>
                  <a:lnTo>
                    <a:pt x="2231" y="0"/>
                  </a:lnTo>
                  <a:lnTo>
                    <a:pt x="2237" y="0"/>
                  </a:lnTo>
                  <a:lnTo>
                    <a:pt x="2242" y="0"/>
                  </a:lnTo>
                  <a:lnTo>
                    <a:pt x="2248" y="0"/>
                  </a:lnTo>
                  <a:lnTo>
                    <a:pt x="2253" y="0"/>
                  </a:lnTo>
                  <a:lnTo>
                    <a:pt x="2253" y="0"/>
                  </a:lnTo>
                  <a:lnTo>
                    <a:pt x="2259" y="0"/>
                  </a:lnTo>
                  <a:lnTo>
                    <a:pt x="2264" y="0"/>
                  </a:lnTo>
                  <a:lnTo>
                    <a:pt x="2269" y="0"/>
                  </a:lnTo>
                  <a:lnTo>
                    <a:pt x="2275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86" y="0"/>
                  </a:lnTo>
                  <a:lnTo>
                    <a:pt x="2291" y="0"/>
                  </a:lnTo>
                  <a:lnTo>
                    <a:pt x="2297" y="0"/>
                  </a:lnTo>
                  <a:lnTo>
                    <a:pt x="2302" y="0"/>
                  </a:lnTo>
                  <a:lnTo>
                    <a:pt x="2308" y="0"/>
                  </a:lnTo>
                  <a:lnTo>
                    <a:pt x="2313" y="0"/>
                  </a:lnTo>
                  <a:lnTo>
                    <a:pt x="2319" y="0"/>
                  </a:lnTo>
                  <a:lnTo>
                    <a:pt x="2324" y="0"/>
                  </a:lnTo>
                  <a:lnTo>
                    <a:pt x="2324" y="0"/>
                  </a:lnTo>
                  <a:lnTo>
                    <a:pt x="2330" y="0"/>
                  </a:lnTo>
                  <a:lnTo>
                    <a:pt x="2335" y="0"/>
                  </a:lnTo>
                  <a:lnTo>
                    <a:pt x="2341" y="0"/>
                  </a:lnTo>
                  <a:lnTo>
                    <a:pt x="2346" y="0"/>
                  </a:lnTo>
                  <a:lnTo>
                    <a:pt x="2351" y="0"/>
                  </a:lnTo>
                  <a:lnTo>
                    <a:pt x="2357" y="0"/>
                  </a:lnTo>
                  <a:lnTo>
                    <a:pt x="2357" y="0"/>
                  </a:lnTo>
                  <a:lnTo>
                    <a:pt x="2357" y="696"/>
                  </a:lnTo>
                  <a:lnTo>
                    <a:pt x="2357" y="696"/>
                  </a:lnTo>
                  <a:lnTo>
                    <a:pt x="2351" y="696"/>
                  </a:lnTo>
                  <a:lnTo>
                    <a:pt x="2346" y="696"/>
                  </a:lnTo>
                  <a:lnTo>
                    <a:pt x="2341" y="696"/>
                  </a:lnTo>
                  <a:lnTo>
                    <a:pt x="2335" y="696"/>
                  </a:lnTo>
                  <a:lnTo>
                    <a:pt x="2330" y="696"/>
                  </a:lnTo>
                  <a:lnTo>
                    <a:pt x="2324" y="696"/>
                  </a:lnTo>
                  <a:lnTo>
                    <a:pt x="2324" y="696"/>
                  </a:lnTo>
                  <a:lnTo>
                    <a:pt x="2319" y="696"/>
                  </a:lnTo>
                  <a:lnTo>
                    <a:pt x="2313" y="696"/>
                  </a:lnTo>
                  <a:lnTo>
                    <a:pt x="2308" y="696"/>
                  </a:lnTo>
                  <a:lnTo>
                    <a:pt x="2302" y="696"/>
                  </a:lnTo>
                  <a:lnTo>
                    <a:pt x="2297" y="696"/>
                  </a:lnTo>
                  <a:lnTo>
                    <a:pt x="2291" y="696"/>
                  </a:lnTo>
                  <a:lnTo>
                    <a:pt x="2286" y="696"/>
                  </a:lnTo>
                  <a:lnTo>
                    <a:pt x="2286" y="696"/>
                  </a:lnTo>
                  <a:lnTo>
                    <a:pt x="2280" y="696"/>
                  </a:lnTo>
                  <a:lnTo>
                    <a:pt x="2275" y="696"/>
                  </a:lnTo>
                  <a:lnTo>
                    <a:pt x="2269" y="696"/>
                  </a:lnTo>
                  <a:lnTo>
                    <a:pt x="2264" y="696"/>
                  </a:lnTo>
                  <a:lnTo>
                    <a:pt x="2259" y="696"/>
                  </a:lnTo>
                  <a:lnTo>
                    <a:pt x="2253" y="696"/>
                  </a:lnTo>
                  <a:lnTo>
                    <a:pt x="2253" y="696"/>
                  </a:lnTo>
                  <a:lnTo>
                    <a:pt x="2248" y="696"/>
                  </a:lnTo>
                  <a:lnTo>
                    <a:pt x="2242" y="696"/>
                  </a:lnTo>
                  <a:lnTo>
                    <a:pt x="2237" y="696"/>
                  </a:lnTo>
                  <a:lnTo>
                    <a:pt x="2231" y="696"/>
                  </a:lnTo>
                  <a:lnTo>
                    <a:pt x="2226" y="696"/>
                  </a:lnTo>
                  <a:lnTo>
                    <a:pt x="2220" y="696"/>
                  </a:lnTo>
                  <a:lnTo>
                    <a:pt x="2220" y="696"/>
                  </a:lnTo>
                  <a:lnTo>
                    <a:pt x="2215" y="696"/>
                  </a:lnTo>
                  <a:lnTo>
                    <a:pt x="2209" y="696"/>
                  </a:lnTo>
                  <a:lnTo>
                    <a:pt x="2204" y="696"/>
                  </a:lnTo>
                  <a:lnTo>
                    <a:pt x="2198" y="696"/>
                  </a:lnTo>
                  <a:lnTo>
                    <a:pt x="2193" y="696"/>
                  </a:lnTo>
                  <a:lnTo>
                    <a:pt x="2187" y="696"/>
                  </a:lnTo>
                  <a:lnTo>
                    <a:pt x="2182" y="696"/>
                  </a:lnTo>
                  <a:lnTo>
                    <a:pt x="2182" y="696"/>
                  </a:lnTo>
                  <a:lnTo>
                    <a:pt x="2176" y="696"/>
                  </a:lnTo>
                  <a:lnTo>
                    <a:pt x="2171" y="696"/>
                  </a:lnTo>
                  <a:lnTo>
                    <a:pt x="2166" y="696"/>
                  </a:lnTo>
                  <a:lnTo>
                    <a:pt x="2160" y="696"/>
                  </a:lnTo>
                  <a:lnTo>
                    <a:pt x="2155" y="696"/>
                  </a:lnTo>
                  <a:lnTo>
                    <a:pt x="2149" y="696"/>
                  </a:lnTo>
                  <a:lnTo>
                    <a:pt x="2149" y="696"/>
                  </a:lnTo>
                  <a:lnTo>
                    <a:pt x="2144" y="696"/>
                  </a:lnTo>
                  <a:lnTo>
                    <a:pt x="2138" y="696"/>
                  </a:lnTo>
                  <a:lnTo>
                    <a:pt x="2133" y="696"/>
                  </a:lnTo>
                  <a:lnTo>
                    <a:pt x="2127" y="696"/>
                  </a:lnTo>
                  <a:lnTo>
                    <a:pt x="2122" y="696"/>
                  </a:lnTo>
                  <a:lnTo>
                    <a:pt x="2116" y="696"/>
                  </a:lnTo>
                  <a:lnTo>
                    <a:pt x="2116" y="696"/>
                  </a:lnTo>
                  <a:lnTo>
                    <a:pt x="2111" y="696"/>
                  </a:lnTo>
                  <a:lnTo>
                    <a:pt x="2105" y="696"/>
                  </a:lnTo>
                  <a:lnTo>
                    <a:pt x="2100" y="696"/>
                  </a:lnTo>
                  <a:lnTo>
                    <a:pt x="2094" y="696"/>
                  </a:lnTo>
                  <a:lnTo>
                    <a:pt x="2089" y="696"/>
                  </a:lnTo>
                  <a:lnTo>
                    <a:pt x="2084" y="696"/>
                  </a:lnTo>
                  <a:lnTo>
                    <a:pt x="2078" y="696"/>
                  </a:lnTo>
                  <a:lnTo>
                    <a:pt x="2078" y="696"/>
                  </a:lnTo>
                  <a:lnTo>
                    <a:pt x="2073" y="696"/>
                  </a:lnTo>
                  <a:lnTo>
                    <a:pt x="2067" y="696"/>
                  </a:lnTo>
                  <a:lnTo>
                    <a:pt x="2062" y="696"/>
                  </a:lnTo>
                  <a:lnTo>
                    <a:pt x="2056" y="696"/>
                  </a:lnTo>
                  <a:lnTo>
                    <a:pt x="2051" y="696"/>
                  </a:lnTo>
                  <a:lnTo>
                    <a:pt x="2045" y="696"/>
                  </a:lnTo>
                  <a:lnTo>
                    <a:pt x="2045" y="696"/>
                  </a:lnTo>
                  <a:lnTo>
                    <a:pt x="2040" y="696"/>
                  </a:lnTo>
                  <a:lnTo>
                    <a:pt x="2034" y="696"/>
                  </a:lnTo>
                  <a:lnTo>
                    <a:pt x="2029" y="696"/>
                  </a:lnTo>
                  <a:lnTo>
                    <a:pt x="2023" y="696"/>
                  </a:lnTo>
                  <a:lnTo>
                    <a:pt x="2018" y="696"/>
                  </a:lnTo>
                  <a:lnTo>
                    <a:pt x="2012" y="696"/>
                  </a:lnTo>
                  <a:lnTo>
                    <a:pt x="2012" y="696"/>
                  </a:lnTo>
                  <a:lnTo>
                    <a:pt x="2007" y="696"/>
                  </a:lnTo>
                  <a:lnTo>
                    <a:pt x="2002" y="696"/>
                  </a:lnTo>
                  <a:lnTo>
                    <a:pt x="1996" y="696"/>
                  </a:lnTo>
                  <a:lnTo>
                    <a:pt x="1991" y="696"/>
                  </a:lnTo>
                  <a:lnTo>
                    <a:pt x="1985" y="696"/>
                  </a:lnTo>
                  <a:lnTo>
                    <a:pt x="1980" y="696"/>
                  </a:lnTo>
                  <a:lnTo>
                    <a:pt x="1974" y="696"/>
                  </a:lnTo>
                  <a:lnTo>
                    <a:pt x="1974" y="696"/>
                  </a:lnTo>
                  <a:lnTo>
                    <a:pt x="1969" y="696"/>
                  </a:lnTo>
                  <a:lnTo>
                    <a:pt x="1963" y="696"/>
                  </a:lnTo>
                  <a:lnTo>
                    <a:pt x="1958" y="696"/>
                  </a:lnTo>
                  <a:lnTo>
                    <a:pt x="1952" y="696"/>
                  </a:lnTo>
                  <a:lnTo>
                    <a:pt x="1947" y="696"/>
                  </a:lnTo>
                  <a:lnTo>
                    <a:pt x="1941" y="696"/>
                  </a:lnTo>
                  <a:lnTo>
                    <a:pt x="1941" y="696"/>
                  </a:lnTo>
                  <a:lnTo>
                    <a:pt x="1936" y="696"/>
                  </a:lnTo>
                  <a:lnTo>
                    <a:pt x="1930" y="696"/>
                  </a:lnTo>
                  <a:lnTo>
                    <a:pt x="1925" y="696"/>
                  </a:lnTo>
                  <a:lnTo>
                    <a:pt x="1919" y="696"/>
                  </a:lnTo>
                  <a:lnTo>
                    <a:pt x="1914" y="696"/>
                  </a:lnTo>
                  <a:lnTo>
                    <a:pt x="1909" y="696"/>
                  </a:lnTo>
                  <a:lnTo>
                    <a:pt x="1909" y="696"/>
                  </a:lnTo>
                  <a:lnTo>
                    <a:pt x="1903" y="696"/>
                  </a:lnTo>
                  <a:lnTo>
                    <a:pt x="1898" y="696"/>
                  </a:lnTo>
                  <a:lnTo>
                    <a:pt x="1892" y="696"/>
                  </a:lnTo>
                  <a:lnTo>
                    <a:pt x="1887" y="696"/>
                  </a:lnTo>
                  <a:lnTo>
                    <a:pt x="1881" y="696"/>
                  </a:lnTo>
                  <a:lnTo>
                    <a:pt x="1876" y="696"/>
                  </a:lnTo>
                  <a:lnTo>
                    <a:pt x="1870" y="696"/>
                  </a:lnTo>
                  <a:lnTo>
                    <a:pt x="1870" y="696"/>
                  </a:lnTo>
                  <a:lnTo>
                    <a:pt x="1865" y="696"/>
                  </a:lnTo>
                  <a:lnTo>
                    <a:pt x="1859" y="696"/>
                  </a:lnTo>
                  <a:lnTo>
                    <a:pt x="1854" y="696"/>
                  </a:lnTo>
                  <a:lnTo>
                    <a:pt x="1848" y="696"/>
                  </a:lnTo>
                  <a:lnTo>
                    <a:pt x="1843" y="696"/>
                  </a:lnTo>
                  <a:lnTo>
                    <a:pt x="1837" y="696"/>
                  </a:lnTo>
                  <a:lnTo>
                    <a:pt x="1837" y="696"/>
                  </a:lnTo>
                  <a:lnTo>
                    <a:pt x="1832" y="696"/>
                  </a:lnTo>
                  <a:lnTo>
                    <a:pt x="1827" y="696"/>
                  </a:lnTo>
                  <a:lnTo>
                    <a:pt x="1821" y="696"/>
                  </a:lnTo>
                  <a:lnTo>
                    <a:pt x="1816" y="696"/>
                  </a:lnTo>
                  <a:lnTo>
                    <a:pt x="1810" y="696"/>
                  </a:lnTo>
                  <a:lnTo>
                    <a:pt x="1805" y="696"/>
                  </a:lnTo>
                  <a:lnTo>
                    <a:pt x="1805" y="696"/>
                  </a:lnTo>
                  <a:lnTo>
                    <a:pt x="1799" y="696"/>
                  </a:lnTo>
                  <a:lnTo>
                    <a:pt x="1794" y="696"/>
                  </a:lnTo>
                  <a:lnTo>
                    <a:pt x="1788" y="696"/>
                  </a:lnTo>
                  <a:lnTo>
                    <a:pt x="1783" y="696"/>
                  </a:lnTo>
                  <a:lnTo>
                    <a:pt x="1777" y="696"/>
                  </a:lnTo>
                  <a:lnTo>
                    <a:pt x="1772" y="696"/>
                  </a:lnTo>
                  <a:lnTo>
                    <a:pt x="1766" y="696"/>
                  </a:lnTo>
                  <a:lnTo>
                    <a:pt x="1766" y="696"/>
                  </a:lnTo>
                  <a:lnTo>
                    <a:pt x="1761" y="696"/>
                  </a:lnTo>
                  <a:lnTo>
                    <a:pt x="1755" y="696"/>
                  </a:lnTo>
                  <a:lnTo>
                    <a:pt x="1750" y="696"/>
                  </a:lnTo>
                  <a:lnTo>
                    <a:pt x="1744" y="696"/>
                  </a:lnTo>
                  <a:lnTo>
                    <a:pt x="1739" y="696"/>
                  </a:lnTo>
                  <a:lnTo>
                    <a:pt x="1734" y="696"/>
                  </a:lnTo>
                  <a:lnTo>
                    <a:pt x="1734" y="696"/>
                  </a:lnTo>
                  <a:lnTo>
                    <a:pt x="1728" y="696"/>
                  </a:lnTo>
                  <a:lnTo>
                    <a:pt x="1723" y="696"/>
                  </a:lnTo>
                  <a:lnTo>
                    <a:pt x="1717" y="696"/>
                  </a:lnTo>
                  <a:lnTo>
                    <a:pt x="1712" y="696"/>
                  </a:lnTo>
                  <a:lnTo>
                    <a:pt x="1706" y="696"/>
                  </a:lnTo>
                  <a:lnTo>
                    <a:pt x="1701" y="696"/>
                  </a:lnTo>
                  <a:lnTo>
                    <a:pt x="1701" y="696"/>
                  </a:lnTo>
                  <a:lnTo>
                    <a:pt x="1695" y="696"/>
                  </a:lnTo>
                  <a:lnTo>
                    <a:pt x="1690" y="696"/>
                  </a:lnTo>
                  <a:lnTo>
                    <a:pt x="1684" y="696"/>
                  </a:lnTo>
                  <a:lnTo>
                    <a:pt x="1679" y="696"/>
                  </a:lnTo>
                  <a:lnTo>
                    <a:pt x="1673" y="696"/>
                  </a:lnTo>
                  <a:lnTo>
                    <a:pt x="1668" y="696"/>
                  </a:lnTo>
                  <a:lnTo>
                    <a:pt x="1662" y="696"/>
                  </a:lnTo>
                  <a:lnTo>
                    <a:pt x="1662" y="696"/>
                  </a:lnTo>
                  <a:lnTo>
                    <a:pt x="1657" y="696"/>
                  </a:lnTo>
                  <a:lnTo>
                    <a:pt x="1652" y="696"/>
                  </a:lnTo>
                  <a:lnTo>
                    <a:pt x="1646" y="696"/>
                  </a:lnTo>
                  <a:lnTo>
                    <a:pt x="1641" y="696"/>
                  </a:lnTo>
                  <a:lnTo>
                    <a:pt x="1635" y="696"/>
                  </a:lnTo>
                  <a:lnTo>
                    <a:pt x="1630" y="696"/>
                  </a:lnTo>
                  <a:lnTo>
                    <a:pt x="1630" y="696"/>
                  </a:lnTo>
                  <a:lnTo>
                    <a:pt x="1624" y="696"/>
                  </a:lnTo>
                  <a:lnTo>
                    <a:pt x="1619" y="696"/>
                  </a:lnTo>
                  <a:lnTo>
                    <a:pt x="1613" y="696"/>
                  </a:lnTo>
                  <a:lnTo>
                    <a:pt x="1608" y="696"/>
                  </a:lnTo>
                  <a:lnTo>
                    <a:pt x="1602" y="696"/>
                  </a:lnTo>
                  <a:lnTo>
                    <a:pt x="1597" y="696"/>
                  </a:lnTo>
                  <a:lnTo>
                    <a:pt x="1597" y="696"/>
                  </a:lnTo>
                  <a:lnTo>
                    <a:pt x="1591" y="696"/>
                  </a:lnTo>
                  <a:lnTo>
                    <a:pt x="1586" y="696"/>
                  </a:lnTo>
                  <a:lnTo>
                    <a:pt x="1580" y="696"/>
                  </a:lnTo>
                  <a:lnTo>
                    <a:pt x="1575" y="696"/>
                  </a:lnTo>
                  <a:lnTo>
                    <a:pt x="1570" y="696"/>
                  </a:lnTo>
                  <a:lnTo>
                    <a:pt x="1564" y="696"/>
                  </a:lnTo>
                  <a:lnTo>
                    <a:pt x="1559" y="696"/>
                  </a:lnTo>
                  <a:lnTo>
                    <a:pt x="1559" y="696"/>
                  </a:lnTo>
                  <a:lnTo>
                    <a:pt x="1553" y="696"/>
                  </a:lnTo>
                  <a:lnTo>
                    <a:pt x="1548" y="696"/>
                  </a:lnTo>
                  <a:lnTo>
                    <a:pt x="1542" y="696"/>
                  </a:lnTo>
                  <a:lnTo>
                    <a:pt x="1537" y="696"/>
                  </a:lnTo>
                  <a:lnTo>
                    <a:pt x="1531" y="696"/>
                  </a:lnTo>
                  <a:lnTo>
                    <a:pt x="1526" y="696"/>
                  </a:lnTo>
                  <a:lnTo>
                    <a:pt x="1526" y="696"/>
                  </a:lnTo>
                  <a:lnTo>
                    <a:pt x="1520" y="696"/>
                  </a:lnTo>
                  <a:lnTo>
                    <a:pt x="1515" y="696"/>
                  </a:lnTo>
                  <a:lnTo>
                    <a:pt x="1509" y="696"/>
                  </a:lnTo>
                  <a:lnTo>
                    <a:pt x="1504" y="696"/>
                  </a:lnTo>
                  <a:lnTo>
                    <a:pt x="1498" y="696"/>
                  </a:lnTo>
                  <a:lnTo>
                    <a:pt x="1493" y="696"/>
                  </a:lnTo>
                  <a:lnTo>
                    <a:pt x="1493" y="696"/>
                  </a:lnTo>
                  <a:lnTo>
                    <a:pt x="1487" y="696"/>
                  </a:lnTo>
                  <a:lnTo>
                    <a:pt x="1482" y="696"/>
                  </a:lnTo>
                  <a:lnTo>
                    <a:pt x="1477" y="696"/>
                  </a:lnTo>
                  <a:lnTo>
                    <a:pt x="1471" y="696"/>
                  </a:lnTo>
                  <a:lnTo>
                    <a:pt x="1466" y="696"/>
                  </a:lnTo>
                  <a:lnTo>
                    <a:pt x="1460" y="696"/>
                  </a:lnTo>
                  <a:lnTo>
                    <a:pt x="1455" y="696"/>
                  </a:lnTo>
                  <a:lnTo>
                    <a:pt x="1455" y="696"/>
                  </a:lnTo>
                  <a:lnTo>
                    <a:pt x="1449" y="696"/>
                  </a:lnTo>
                  <a:lnTo>
                    <a:pt x="1444" y="696"/>
                  </a:lnTo>
                  <a:lnTo>
                    <a:pt x="1438" y="696"/>
                  </a:lnTo>
                  <a:lnTo>
                    <a:pt x="1433" y="696"/>
                  </a:lnTo>
                  <a:lnTo>
                    <a:pt x="1427" y="696"/>
                  </a:lnTo>
                  <a:lnTo>
                    <a:pt x="1422" y="696"/>
                  </a:lnTo>
                  <a:lnTo>
                    <a:pt x="1422" y="696"/>
                  </a:lnTo>
                  <a:lnTo>
                    <a:pt x="1416" y="696"/>
                  </a:lnTo>
                  <a:lnTo>
                    <a:pt x="1411" y="696"/>
                  </a:lnTo>
                  <a:lnTo>
                    <a:pt x="1405" y="696"/>
                  </a:lnTo>
                  <a:lnTo>
                    <a:pt x="1400" y="696"/>
                  </a:lnTo>
                  <a:lnTo>
                    <a:pt x="1395" y="696"/>
                  </a:lnTo>
                  <a:lnTo>
                    <a:pt x="1389" y="696"/>
                  </a:lnTo>
                  <a:lnTo>
                    <a:pt x="1389" y="696"/>
                  </a:lnTo>
                  <a:lnTo>
                    <a:pt x="1384" y="696"/>
                  </a:lnTo>
                  <a:lnTo>
                    <a:pt x="1378" y="696"/>
                  </a:lnTo>
                  <a:lnTo>
                    <a:pt x="1373" y="696"/>
                  </a:lnTo>
                  <a:lnTo>
                    <a:pt x="1367" y="696"/>
                  </a:lnTo>
                  <a:lnTo>
                    <a:pt x="1362" y="696"/>
                  </a:lnTo>
                  <a:lnTo>
                    <a:pt x="1356" y="696"/>
                  </a:lnTo>
                  <a:lnTo>
                    <a:pt x="1351" y="696"/>
                  </a:lnTo>
                  <a:lnTo>
                    <a:pt x="1351" y="696"/>
                  </a:lnTo>
                  <a:lnTo>
                    <a:pt x="1345" y="696"/>
                  </a:lnTo>
                  <a:lnTo>
                    <a:pt x="1340" y="696"/>
                  </a:lnTo>
                  <a:lnTo>
                    <a:pt x="1334" y="696"/>
                  </a:lnTo>
                  <a:lnTo>
                    <a:pt x="1329" y="696"/>
                  </a:lnTo>
                  <a:lnTo>
                    <a:pt x="1323" y="696"/>
                  </a:lnTo>
                  <a:lnTo>
                    <a:pt x="1318" y="696"/>
                  </a:lnTo>
                  <a:lnTo>
                    <a:pt x="1318" y="696"/>
                  </a:lnTo>
                  <a:lnTo>
                    <a:pt x="1312" y="696"/>
                  </a:lnTo>
                  <a:lnTo>
                    <a:pt x="1307" y="696"/>
                  </a:lnTo>
                  <a:lnTo>
                    <a:pt x="1302" y="696"/>
                  </a:lnTo>
                  <a:lnTo>
                    <a:pt x="1296" y="696"/>
                  </a:lnTo>
                  <a:lnTo>
                    <a:pt x="1291" y="696"/>
                  </a:lnTo>
                  <a:lnTo>
                    <a:pt x="1285" y="696"/>
                  </a:lnTo>
                  <a:lnTo>
                    <a:pt x="1280" y="696"/>
                  </a:lnTo>
                  <a:lnTo>
                    <a:pt x="1280" y="696"/>
                  </a:lnTo>
                  <a:lnTo>
                    <a:pt x="1274" y="696"/>
                  </a:lnTo>
                  <a:lnTo>
                    <a:pt x="1269" y="696"/>
                  </a:lnTo>
                  <a:lnTo>
                    <a:pt x="1263" y="696"/>
                  </a:lnTo>
                  <a:lnTo>
                    <a:pt x="1258" y="696"/>
                  </a:lnTo>
                  <a:lnTo>
                    <a:pt x="1252" y="696"/>
                  </a:lnTo>
                  <a:lnTo>
                    <a:pt x="1247" y="696"/>
                  </a:lnTo>
                  <a:lnTo>
                    <a:pt x="1247" y="696"/>
                  </a:lnTo>
                  <a:lnTo>
                    <a:pt x="1241" y="696"/>
                  </a:lnTo>
                  <a:lnTo>
                    <a:pt x="1236" y="696"/>
                  </a:lnTo>
                  <a:lnTo>
                    <a:pt x="1230" y="696"/>
                  </a:lnTo>
                  <a:lnTo>
                    <a:pt x="1225" y="696"/>
                  </a:lnTo>
                  <a:lnTo>
                    <a:pt x="1220" y="696"/>
                  </a:lnTo>
                  <a:lnTo>
                    <a:pt x="1214" y="696"/>
                  </a:lnTo>
                  <a:lnTo>
                    <a:pt x="1214" y="696"/>
                  </a:lnTo>
                  <a:lnTo>
                    <a:pt x="1209" y="696"/>
                  </a:lnTo>
                  <a:lnTo>
                    <a:pt x="1203" y="696"/>
                  </a:lnTo>
                  <a:lnTo>
                    <a:pt x="1198" y="696"/>
                  </a:lnTo>
                  <a:lnTo>
                    <a:pt x="1192" y="696"/>
                  </a:lnTo>
                  <a:lnTo>
                    <a:pt x="1187" y="696"/>
                  </a:lnTo>
                  <a:lnTo>
                    <a:pt x="1181" y="696"/>
                  </a:lnTo>
                  <a:lnTo>
                    <a:pt x="1176" y="696"/>
                  </a:lnTo>
                  <a:lnTo>
                    <a:pt x="1176" y="696"/>
                  </a:lnTo>
                  <a:lnTo>
                    <a:pt x="1170" y="696"/>
                  </a:lnTo>
                  <a:lnTo>
                    <a:pt x="1165" y="696"/>
                  </a:lnTo>
                  <a:lnTo>
                    <a:pt x="1159" y="696"/>
                  </a:lnTo>
                  <a:lnTo>
                    <a:pt x="1154" y="696"/>
                  </a:lnTo>
                  <a:lnTo>
                    <a:pt x="1148" y="696"/>
                  </a:lnTo>
                  <a:lnTo>
                    <a:pt x="1143" y="696"/>
                  </a:lnTo>
                  <a:lnTo>
                    <a:pt x="1143" y="696"/>
                  </a:lnTo>
                  <a:lnTo>
                    <a:pt x="1138" y="696"/>
                  </a:lnTo>
                  <a:lnTo>
                    <a:pt x="1132" y="696"/>
                  </a:lnTo>
                  <a:lnTo>
                    <a:pt x="1127" y="696"/>
                  </a:lnTo>
                  <a:lnTo>
                    <a:pt x="1121" y="696"/>
                  </a:lnTo>
                  <a:lnTo>
                    <a:pt x="1116" y="696"/>
                  </a:lnTo>
                  <a:lnTo>
                    <a:pt x="1110" y="696"/>
                  </a:lnTo>
                  <a:lnTo>
                    <a:pt x="1110" y="696"/>
                  </a:lnTo>
                  <a:lnTo>
                    <a:pt x="1105" y="696"/>
                  </a:lnTo>
                  <a:lnTo>
                    <a:pt x="1099" y="696"/>
                  </a:lnTo>
                  <a:lnTo>
                    <a:pt x="1094" y="696"/>
                  </a:lnTo>
                  <a:lnTo>
                    <a:pt x="1088" y="696"/>
                  </a:lnTo>
                  <a:lnTo>
                    <a:pt x="1083" y="696"/>
                  </a:lnTo>
                  <a:lnTo>
                    <a:pt x="1077" y="696"/>
                  </a:lnTo>
                  <a:lnTo>
                    <a:pt x="1072" y="696"/>
                  </a:lnTo>
                  <a:lnTo>
                    <a:pt x="1072" y="696"/>
                  </a:lnTo>
                  <a:lnTo>
                    <a:pt x="1066" y="696"/>
                  </a:lnTo>
                  <a:lnTo>
                    <a:pt x="1061" y="696"/>
                  </a:lnTo>
                  <a:lnTo>
                    <a:pt x="1055" y="696"/>
                  </a:lnTo>
                  <a:lnTo>
                    <a:pt x="1050" y="696"/>
                  </a:lnTo>
                  <a:lnTo>
                    <a:pt x="1045" y="696"/>
                  </a:lnTo>
                  <a:lnTo>
                    <a:pt x="1039" y="696"/>
                  </a:lnTo>
                  <a:lnTo>
                    <a:pt x="1039" y="696"/>
                  </a:lnTo>
                  <a:lnTo>
                    <a:pt x="1034" y="696"/>
                  </a:lnTo>
                  <a:lnTo>
                    <a:pt x="1028" y="696"/>
                  </a:lnTo>
                  <a:lnTo>
                    <a:pt x="1023" y="696"/>
                  </a:lnTo>
                  <a:lnTo>
                    <a:pt x="1017" y="696"/>
                  </a:lnTo>
                  <a:lnTo>
                    <a:pt x="1012" y="696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1" y="696"/>
                  </a:lnTo>
                  <a:lnTo>
                    <a:pt x="995" y="696"/>
                  </a:lnTo>
                  <a:lnTo>
                    <a:pt x="990" y="696"/>
                  </a:lnTo>
                  <a:lnTo>
                    <a:pt x="984" y="696"/>
                  </a:lnTo>
                  <a:lnTo>
                    <a:pt x="979" y="696"/>
                  </a:lnTo>
                  <a:lnTo>
                    <a:pt x="973" y="696"/>
                  </a:lnTo>
                  <a:lnTo>
                    <a:pt x="968" y="696"/>
                  </a:lnTo>
                  <a:lnTo>
                    <a:pt x="968" y="696"/>
                  </a:lnTo>
                  <a:lnTo>
                    <a:pt x="963" y="696"/>
                  </a:lnTo>
                  <a:lnTo>
                    <a:pt x="957" y="696"/>
                  </a:lnTo>
                  <a:lnTo>
                    <a:pt x="952" y="696"/>
                  </a:lnTo>
                  <a:lnTo>
                    <a:pt x="946" y="696"/>
                  </a:lnTo>
                  <a:lnTo>
                    <a:pt x="941" y="696"/>
                  </a:lnTo>
                  <a:lnTo>
                    <a:pt x="935" y="696"/>
                  </a:lnTo>
                  <a:lnTo>
                    <a:pt x="935" y="696"/>
                  </a:lnTo>
                  <a:lnTo>
                    <a:pt x="930" y="696"/>
                  </a:lnTo>
                  <a:lnTo>
                    <a:pt x="924" y="696"/>
                  </a:lnTo>
                  <a:lnTo>
                    <a:pt x="919" y="696"/>
                  </a:lnTo>
                  <a:lnTo>
                    <a:pt x="913" y="696"/>
                  </a:lnTo>
                  <a:lnTo>
                    <a:pt x="908" y="696"/>
                  </a:lnTo>
                  <a:lnTo>
                    <a:pt x="902" y="696"/>
                  </a:lnTo>
                  <a:lnTo>
                    <a:pt x="902" y="696"/>
                  </a:lnTo>
                  <a:lnTo>
                    <a:pt x="897" y="696"/>
                  </a:lnTo>
                  <a:lnTo>
                    <a:pt x="891" y="696"/>
                  </a:lnTo>
                  <a:lnTo>
                    <a:pt x="886" y="696"/>
                  </a:lnTo>
                  <a:lnTo>
                    <a:pt x="880" y="696"/>
                  </a:lnTo>
                  <a:lnTo>
                    <a:pt x="875" y="696"/>
                  </a:lnTo>
                  <a:lnTo>
                    <a:pt x="870" y="696"/>
                  </a:lnTo>
                  <a:lnTo>
                    <a:pt x="864" y="696"/>
                  </a:lnTo>
                  <a:lnTo>
                    <a:pt x="864" y="696"/>
                  </a:lnTo>
                  <a:lnTo>
                    <a:pt x="859" y="696"/>
                  </a:lnTo>
                  <a:lnTo>
                    <a:pt x="853" y="696"/>
                  </a:lnTo>
                  <a:lnTo>
                    <a:pt x="848" y="696"/>
                  </a:lnTo>
                  <a:lnTo>
                    <a:pt x="842" y="696"/>
                  </a:lnTo>
                  <a:lnTo>
                    <a:pt x="837" y="696"/>
                  </a:lnTo>
                  <a:lnTo>
                    <a:pt x="831" y="696"/>
                  </a:lnTo>
                  <a:lnTo>
                    <a:pt x="831" y="696"/>
                  </a:lnTo>
                  <a:lnTo>
                    <a:pt x="826" y="696"/>
                  </a:lnTo>
                  <a:lnTo>
                    <a:pt x="820" y="696"/>
                  </a:lnTo>
                  <a:lnTo>
                    <a:pt x="815" y="696"/>
                  </a:lnTo>
                  <a:lnTo>
                    <a:pt x="809" y="696"/>
                  </a:lnTo>
                  <a:lnTo>
                    <a:pt x="804" y="696"/>
                  </a:lnTo>
                  <a:lnTo>
                    <a:pt x="798" y="696"/>
                  </a:lnTo>
                  <a:lnTo>
                    <a:pt x="798" y="696"/>
                  </a:lnTo>
                  <a:lnTo>
                    <a:pt x="793" y="696"/>
                  </a:lnTo>
                  <a:lnTo>
                    <a:pt x="788" y="696"/>
                  </a:lnTo>
                  <a:lnTo>
                    <a:pt x="782" y="696"/>
                  </a:lnTo>
                  <a:lnTo>
                    <a:pt x="777" y="696"/>
                  </a:lnTo>
                  <a:lnTo>
                    <a:pt x="771" y="696"/>
                  </a:lnTo>
                  <a:lnTo>
                    <a:pt x="766" y="696"/>
                  </a:lnTo>
                  <a:lnTo>
                    <a:pt x="760" y="696"/>
                  </a:lnTo>
                  <a:lnTo>
                    <a:pt x="760" y="696"/>
                  </a:lnTo>
                  <a:lnTo>
                    <a:pt x="755" y="696"/>
                  </a:lnTo>
                  <a:lnTo>
                    <a:pt x="749" y="696"/>
                  </a:lnTo>
                  <a:lnTo>
                    <a:pt x="744" y="696"/>
                  </a:lnTo>
                  <a:lnTo>
                    <a:pt x="738" y="696"/>
                  </a:lnTo>
                  <a:lnTo>
                    <a:pt x="733" y="696"/>
                  </a:lnTo>
                  <a:lnTo>
                    <a:pt x="727" y="696"/>
                  </a:lnTo>
                  <a:lnTo>
                    <a:pt x="727" y="696"/>
                  </a:lnTo>
                  <a:lnTo>
                    <a:pt x="722" y="696"/>
                  </a:lnTo>
                  <a:lnTo>
                    <a:pt x="716" y="696"/>
                  </a:lnTo>
                  <a:lnTo>
                    <a:pt x="711" y="696"/>
                  </a:lnTo>
                  <a:lnTo>
                    <a:pt x="706" y="696"/>
                  </a:lnTo>
                  <a:lnTo>
                    <a:pt x="700" y="696"/>
                  </a:lnTo>
                  <a:lnTo>
                    <a:pt x="695" y="696"/>
                  </a:lnTo>
                  <a:lnTo>
                    <a:pt x="695" y="696"/>
                  </a:lnTo>
                  <a:lnTo>
                    <a:pt x="689" y="696"/>
                  </a:lnTo>
                  <a:lnTo>
                    <a:pt x="684" y="696"/>
                  </a:lnTo>
                  <a:lnTo>
                    <a:pt x="678" y="696"/>
                  </a:lnTo>
                  <a:lnTo>
                    <a:pt x="673" y="696"/>
                  </a:lnTo>
                  <a:lnTo>
                    <a:pt x="667" y="696"/>
                  </a:lnTo>
                  <a:lnTo>
                    <a:pt x="662" y="696"/>
                  </a:lnTo>
                  <a:lnTo>
                    <a:pt x="656" y="696"/>
                  </a:lnTo>
                  <a:lnTo>
                    <a:pt x="656" y="696"/>
                  </a:lnTo>
                  <a:lnTo>
                    <a:pt x="651" y="696"/>
                  </a:lnTo>
                  <a:lnTo>
                    <a:pt x="645" y="696"/>
                  </a:lnTo>
                  <a:lnTo>
                    <a:pt x="640" y="696"/>
                  </a:lnTo>
                  <a:lnTo>
                    <a:pt x="634" y="696"/>
                  </a:lnTo>
                  <a:lnTo>
                    <a:pt x="629" y="696"/>
                  </a:lnTo>
                  <a:lnTo>
                    <a:pt x="623" y="696"/>
                  </a:lnTo>
                  <a:lnTo>
                    <a:pt x="623" y="696"/>
                  </a:lnTo>
                  <a:lnTo>
                    <a:pt x="618" y="696"/>
                  </a:lnTo>
                  <a:lnTo>
                    <a:pt x="613" y="696"/>
                  </a:lnTo>
                  <a:lnTo>
                    <a:pt x="607" y="696"/>
                  </a:lnTo>
                  <a:lnTo>
                    <a:pt x="602" y="696"/>
                  </a:lnTo>
                  <a:lnTo>
                    <a:pt x="596" y="696"/>
                  </a:lnTo>
                  <a:lnTo>
                    <a:pt x="591" y="696"/>
                  </a:lnTo>
                  <a:lnTo>
                    <a:pt x="591" y="696"/>
                  </a:lnTo>
                  <a:lnTo>
                    <a:pt x="585" y="696"/>
                  </a:lnTo>
                  <a:lnTo>
                    <a:pt x="580" y="696"/>
                  </a:lnTo>
                  <a:lnTo>
                    <a:pt x="574" y="696"/>
                  </a:lnTo>
                  <a:lnTo>
                    <a:pt x="569" y="696"/>
                  </a:lnTo>
                  <a:lnTo>
                    <a:pt x="563" y="696"/>
                  </a:lnTo>
                  <a:lnTo>
                    <a:pt x="558" y="696"/>
                  </a:lnTo>
                  <a:lnTo>
                    <a:pt x="552" y="696"/>
                  </a:lnTo>
                  <a:lnTo>
                    <a:pt x="552" y="696"/>
                  </a:lnTo>
                  <a:lnTo>
                    <a:pt x="547" y="696"/>
                  </a:lnTo>
                  <a:lnTo>
                    <a:pt x="541" y="696"/>
                  </a:lnTo>
                  <a:lnTo>
                    <a:pt x="536" y="696"/>
                  </a:lnTo>
                  <a:lnTo>
                    <a:pt x="531" y="696"/>
                  </a:lnTo>
                  <a:lnTo>
                    <a:pt x="525" y="696"/>
                  </a:lnTo>
                  <a:lnTo>
                    <a:pt x="520" y="696"/>
                  </a:lnTo>
                  <a:lnTo>
                    <a:pt x="520" y="696"/>
                  </a:lnTo>
                  <a:lnTo>
                    <a:pt x="514" y="696"/>
                  </a:lnTo>
                  <a:lnTo>
                    <a:pt x="509" y="696"/>
                  </a:lnTo>
                  <a:lnTo>
                    <a:pt x="503" y="696"/>
                  </a:lnTo>
                  <a:lnTo>
                    <a:pt x="498" y="696"/>
                  </a:lnTo>
                  <a:lnTo>
                    <a:pt x="492" y="696"/>
                  </a:lnTo>
                  <a:lnTo>
                    <a:pt x="487" y="696"/>
                  </a:lnTo>
                  <a:lnTo>
                    <a:pt x="487" y="696"/>
                  </a:lnTo>
                  <a:lnTo>
                    <a:pt x="481" y="696"/>
                  </a:lnTo>
                  <a:lnTo>
                    <a:pt x="476" y="696"/>
                  </a:lnTo>
                  <a:lnTo>
                    <a:pt x="470" y="696"/>
                  </a:lnTo>
                  <a:lnTo>
                    <a:pt x="465" y="696"/>
                  </a:lnTo>
                  <a:lnTo>
                    <a:pt x="459" y="696"/>
                  </a:lnTo>
                  <a:lnTo>
                    <a:pt x="454" y="696"/>
                  </a:lnTo>
                  <a:lnTo>
                    <a:pt x="448" y="696"/>
                  </a:lnTo>
                  <a:lnTo>
                    <a:pt x="448" y="696"/>
                  </a:lnTo>
                  <a:lnTo>
                    <a:pt x="443" y="696"/>
                  </a:lnTo>
                  <a:lnTo>
                    <a:pt x="438" y="696"/>
                  </a:lnTo>
                  <a:lnTo>
                    <a:pt x="432" y="696"/>
                  </a:lnTo>
                  <a:lnTo>
                    <a:pt x="427" y="696"/>
                  </a:lnTo>
                  <a:lnTo>
                    <a:pt x="421" y="696"/>
                  </a:lnTo>
                  <a:lnTo>
                    <a:pt x="416" y="696"/>
                  </a:lnTo>
                  <a:lnTo>
                    <a:pt x="416" y="696"/>
                  </a:lnTo>
                  <a:lnTo>
                    <a:pt x="410" y="696"/>
                  </a:lnTo>
                  <a:lnTo>
                    <a:pt x="405" y="696"/>
                  </a:lnTo>
                  <a:lnTo>
                    <a:pt x="399" y="696"/>
                  </a:lnTo>
                  <a:lnTo>
                    <a:pt x="394" y="696"/>
                  </a:lnTo>
                  <a:lnTo>
                    <a:pt x="388" y="696"/>
                  </a:lnTo>
                  <a:lnTo>
                    <a:pt x="383" y="696"/>
                  </a:lnTo>
                  <a:lnTo>
                    <a:pt x="383" y="696"/>
                  </a:lnTo>
                  <a:lnTo>
                    <a:pt x="377" y="696"/>
                  </a:lnTo>
                  <a:lnTo>
                    <a:pt x="372" y="696"/>
                  </a:lnTo>
                  <a:lnTo>
                    <a:pt x="366" y="696"/>
                  </a:lnTo>
                  <a:lnTo>
                    <a:pt x="361" y="696"/>
                  </a:lnTo>
                  <a:lnTo>
                    <a:pt x="356" y="696"/>
                  </a:lnTo>
                  <a:lnTo>
                    <a:pt x="350" y="696"/>
                  </a:lnTo>
                  <a:lnTo>
                    <a:pt x="345" y="696"/>
                  </a:lnTo>
                  <a:lnTo>
                    <a:pt x="345" y="696"/>
                  </a:lnTo>
                  <a:lnTo>
                    <a:pt x="339" y="696"/>
                  </a:lnTo>
                  <a:lnTo>
                    <a:pt x="334" y="696"/>
                  </a:lnTo>
                  <a:lnTo>
                    <a:pt x="328" y="696"/>
                  </a:lnTo>
                  <a:lnTo>
                    <a:pt x="323" y="696"/>
                  </a:lnTo>
                  <a:lnTo>
                    <a:pt x="317" y="696"/>
                  </a:lnTo>
                  <a:lnTo>
                    <a:pt x="312" y="696"/>
                  </a:lnTo>
                  <a:lnTo>
                    <a:pt x="312" y="696"/>
                  </a:lnTo>
                  <a:lnTo>
                    <a:pt x="306" y="696"/>
                  </a:lnTo>
                  <a:lnTo>
                    <a:pt x="301" y="696"/>
                  </a:lnTo>
                  <a:lnTo>
                    <a:pt x="295" y="696"/>
                  </a:lnTo>
                  <a:lnTo>
                    <a:pt x="290" y="696"/>
                  </a:lnTo>
                  <a:lnTo>
                    <a:pt x="284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74" y="696"/>
                  </a:lnTo>
                  <a:lnTo>
                    <a:pt x="268" y="696"/>
                  </a:lnTo>
                  <a:lnTo>
                    <a:pt x="263" y="696"/>
                  </a:lnTo>
                  <a:lnTo>
                    <a:pt x="257" y="696"/>
                  </a:lnTo>
                  <a:lnTo>
                    <a:pt x="252" y="696"/>
                  </a:lnTo>
                  <a:lnTo>
                    <a:pt x="246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35" y="696"/>
                  </a:lnTo>
                  <a:lnTo>
                    <a:pt x="230" y="696"/>
                  </a:lnTo>
                  <a:lnTo>
                    <a:pt x="224" y="696"/>
                  </a:lnTo>
                  <a:lnTo>
                    <a:pt x="219" y="696"/>
                  </a:lnTo>
                  <a:lnTo>
                    <a:pt x="213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02" y="696"/>
                  </a:lnTo>
                  <a:lnTo>
                    <a:pt x="197" y="696"/>
                  </a:lnTo>
                  <a:lnTo>
                    <a:pt x="191" y="696"/>
                  </a:lnTo>
                  <a:lnTo>
                    <a:pt x="186" y="696"/>
                  </a:lnTo>
                  <a:lnTo>
                    <a:pt x="181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70" y="696"/>
                  </a:lnTo>
                  <a:lnTo>
                    <a:pt x="164" y="696"/>
                  </a:lnTo>
                  <a:lnTo>
                    <a:pt x="159" y="696"/>
                  </a:lnTo>
                  <a:lnTo>
                    <a:pt x="153" y="696"/>
                  </a:lnTo>
                  <a:lnTo>
                    <a:pt x="148" y="696"/>
                  </a:lnTo>
                  <a:lnTo>
                    <a:pt x="142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31" y="696"/>
                  </a:lnTo>
                  <a:lnTo>
                    <a:pt x="126" y="696"/>
                  </a:lnTo>
                  <a:lnTo>
                    <a:pt x="120" y="696"/>
                  </a:lnTo>
                  <a:lnTo>
                    <a:pt x="115" y="696"/>
                  </a:lnTo>
                  <a:lnTo>
                    <a:pt x="109" y="696"/>
                  </a:lnTo>
                  <a:lnTo>
                    <a:pt x="104" y="696"/>
                  </a:lnTo>
                  <a:lnTo>
                    <a:pt x="104" y="696"/>
                  </a:lnTo>
                  <a:lnTo>
                    <a:pt x="99" y="696"/>
                  </a:lnTo>
                  <a:lnTo>
                    <a:pt x="93" y="696"/>
                  </a:lnTo>
                  <a:lnTo>
                    <a:pt x="88" y="696"/>
                  </a:lnTo>
                  <a:lnTo>
                    <a:pt x="82" y="696"/>
                  </a:lnTo>
                  <a:lnTo>
                    <a:pt x="77" y="696"/>
                  </a:lnTo>
                  <a:lnTo>
                    <a:pt x="71" y="696"/>
                  </a:lnTo>
                  <a:lnTo>
                    <a:pt x="71" y="696"/>
                  </a:lnTo>
                  <a:lnTo>
                    <a:pt x="66" y="696"/>
                  </a:lnTo>
                  <a:lnTo>
                    <a:pt x="60" y="696"/>
                  </a:lnTo>
                  <a:lnTo>
                    <a:pt x="55" y="696"/>
                  </a:lnTo>
                  <a:lnTo>
                    <a:pt x="49" y="696"/>
                  </a:lnTo>
                  <a:lnTo>
                    <a:pt x="44" y="696"/>
                  </a:lnTo>
                  <a:lnTo>
                    <a:pt x="38" y="696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27" y="696"/>
                  </a:lnTo>
                  <a:lnTo>
                    <a:pt x="22" y="696"/>
                  </a:lnTo>
                  <a:lnTo>
                    <a:pt x="16" y="696"/>
                  </a:lnTo>
                  <a:lnTo>
                    <a:pt x="11" y="696"/>
                  </a:lnTo>
                  <a:lnTo>
                    <a:pt x="6" y="69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20800" y="2708280"/>
              <a:ext cx="4819680" cy="1641600"/>
            </a:xfrm>
            <a:custGeom>
              <a:avLst/>
              <a:gdLst/>
              <a:ahLst/>
              <a:rect l="l" t="t" r="r" b="b"/>
              <a:pathLst>
                <a:path w="2357" h="696">
                  <a:moveTo>
                    <a:pt x="0" y="696"/>
                  </a:moveTo>
                  <a:lnTo>
                    <a:pt x="0" y="696"/>
                  </a:lnTo>
                  <a:lnTo>
                    <a:pt x="6" y="696"/>
                  </a:lnTo>
                  <a:lnTo>
                    <a:pt x="11" y="696"/>
                  </a:lnTo>
                  <a:lnTo>
                    <a:pt x="16" y="696"/>
                  </a:lnTo>
                  <a:lnTo>
                    <a:pt x="22" y="696"/>
                  </a:lnTo>
                  <a:lnTo>
                    <a:pt x="27" y="696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8" y="696"/>
                  </a:lnTo>
                  <a:lnTo>
                    <a:pt x="44" y="696"/>
                  </a:lnTo>
                  <a:lnTo>
                    <a:pt x="49" y="696"/>
                  </a:lnTo>
                  <a:lnTo>
                    <a:pt x="55" y="696"/>
                  </a:lnTo>
                  <a:lnTo>
                    <a:pt x="60" y="696"/>
                  </a:lnTo>
                  <a:lnTo>
                    <a:pt x="66" y="696"/>
                  </a:lnTo>
                  <a:lnTo>
                    <a:pt x="71" y="696"/>
                  </a:lnTo>
                  <a:lnTo>
                    <a:pt x="71" y="696"/>
                  </a:lnTo>
                  <a:lnTo>
                    <a:pt x="77" y="696"/>
                  </a:lnTo>
                  <a:lnTo>
                    <a:pt x="82" y="696"/>
                  </a:lnTo>
                  <a:lnTo>
                    <a:pt x="88" y="696"/>
                  </a:lnTo>
                  <a:lnTo>
                    <a:pt x="93" y="696"/>
                  </a:lnTo>
                  <a:lnTo>
                    <a:pt x="99" y="696"/>
                  </a:lnTo>
                  <a:lnTo>
                    <a:pt x="104" y="696"/>
                  </a:lnTo>
                  <a:lnTo>
                    <a:pt x="104" y="696"/>
                  </a:lnTo>
                  <a:lnTo>
                    <a:pt x="109" y="696"/>
                  </a:lnTo>
                  <a:lnTo>
                    <a:pt x="115" y="696"/>
                  </a:lnTo>
                  <a:lnTo>
                    <a:pt x="120" y="696"/>
                  </a:lnTo>
                  <a:lnTo>
                    <a:pt x="126" y="696"/>
                  </a:lnTo>
                  <a:lnTo>
                    <a:pt x="131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42" y="696"/>
                  </a:lnTo>
                  <a:lnTo>
                    <a:pt x="148" y="696"/>
                  </a:lnTo>
                  <a:lnTo>
                    <a:pt x="153" y="696"/>
                  </a:lnTo>
                  <a:lnTo>
                    <a:pt x="159" y="696"/>
                  </a:lnTo>
                  <a:lnTo>
                    <a:pt x="164" y="696"/>
                  </a:lnTo>
                  <a:lnTo>
                    <a:pt x="170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81" y="696"/>
                  </a:lnTo>
                  <a:lnTo>
                    <a:pt x="186" y="696"/>
                  </a:lnTo>
                  <a:lnTo>
                    <a:pt x="191" y="696"/>
                  </a:lnTo>
                  <a:lnTo>
                    <a:pt x="197" y="696"/>
                  </a:lnTo>
                  <a:lnTo>
                    <a:pt x="202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13" y="696"/>
                  </a:lnTo>
                  <a:lnTo>
                    <a:pt x="219" y="696"/>
                  </a:lnTo>
                  <a:lnTo>
                    <a:pt x="224" y="696"/>
                  </a:lnTo>
                  <a:lnTo>
                    <a:pt x="230" y="696"/>
                  </a:lnTo>
                  <a:lnTo>
                    <a:pt x="235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46" y="696"/>
                  </a:lnTo>
                  <a:lnTo>
                    <a:pt x="252" y="696"/>
                  </a:lnTo>
                  <a:lnTo>
                    <a:pt x="257" y="696"/>
                  </a:lnTo>
                  <a:lnTo>
                    <a:pt x="263" y="696"/>
                  </a:lnTo>
                  <a:lnTo>
                    <a:pt x="268" y="696"/>
                  </a:lnTo>
                  <a:lnTo>
                    <a:pt x="274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84" y="696"/>
                  </a:lnTo>
                  <a:lnTo>
                    <a:pt x="290" y="696"/>
                  </a:lnTo>
                  <a:lnTo>
                    <a:pt x="295" y="696"/>
                  </a:lnTo>
                  <a:lnTo>
                    <a:pt x="301" y="696"/>
                  </a:lnTo>
                  <a:lnTo>
                    <a:pt x="306" y="696"/>
                  </a:lnTo>
                  <a:lnTo>
                    <a:pt x="312" y="696"/>
                  </a:lnTo>
                  <a:lnTo>
                    <a:pt x="312" y="696"/>
                  </a:lnTo>
                  <a:lnTo>
                    <a:pt x="317" y="696"/>
                  </a:lnTo>
                  <a:lnTo>
                    <a:pt x="323" y="696"/>
                  </a:lnTo>
                  <a:lnTo>
                    <a:pt x="328" y="696"/>
                  </a:lnTo>
                  <a:lnTo>
                    <a:pt x="334" y="696"/>
                  </a:lnTo>
                  <a:lnTo>
                    <a:pt x="339" y="696"/>
                  </a:lnTo>
                  <a:lnTo>
                    <a:pt x="345" y="696"/>
                  </a:lnTo>
                  <a:lnTo>
                    <a:pt x="345" y="696"/>
                  </a:lnTo>
                  <a:lnTo>
                    <a:pt x="350" y="696"/>
                  </a:lnTo>
                  <a:lnTo>
                    <a:pt x="356" y="696"/>
                  </a:lnTo>
                  <a:lnTo>
                    <a:pt x="361" y="696"/>
                  </a:lnTo>
                  <a:lnTo>
                    <a:pt x="366" y="696"/>
                  </a:lnTo>
                  <a:lnTo>
                    <a:pt x="372" y="696"/>
                  </a:lnTo>
                  <a:lnTo>
                    <a:pt x="377" y="696"/>
                  </a:lnTo>
                  <a:lnTo>
                    <a:pt x="383" y="696"/>
                  </a:lnTo>
                  <a:lnTo>
                    <a:pt x="383" y="696"/>
                  </a:lnTo>
                  <a:lnTo>
                    <a:pt x="388" y="696"/>
                  </a:lnTo>
                  <a:lnTo>
                    <a:pt x="394" y="696"/>
                  </a:lnTo>
                  <a:lnTo>
                    <a:pt x="399" y="696"/>
                  </a:lnTo>
                  <a:lnTo>
                    <a:pt x="405" y="696"/>
                  </a:lnTo>
                  <a:lnTo>
                    <a:pt x="410" y="696"/>
                  </a:lnTo>
                  <a:lnTo>
                    <a:pt x="416" y="696"/>
                  </a:lnTo>
                  <a:lnTo>
                    <a:pt x="416" y="696"/>
                  </a:lnTo>
                  <a:lnTo>
                    <a:pt x="421" y="696"/>
                  </a:lnTo>
                  <a:lnTo>
                    <a:pt x="427" y="696"/>
                  </a:lnTo>
                  <a:lnTo>
                    <a:pt x="432" y="696"/>
                  </a:lnTo>
                  <a:lnTo>
                    <a:pt x="438" y="696"/>
                  </a:lnTo>
                  <a:lnTo>
                    <a:pt x="443" y="696"/>
                  </a:lnTo>
                  <a:lnTo>
                    <a:pt x="448" y="696"/>
                  </a:lnTo>
                  <a:lnTo>
                    <a:pt x="448" y="696"/>
                  </a:lnTo>
                  <a:lnTo>
                    <a:pt x="454" y="696"/>
                  </a:lnTo>
                  <a:lnTo>
                    <a:pt x="459" y="696"/>
                  </a:lnTo>
                  <a:lnTo>
                    <a:pt x="465" y="696"/>
                  </a:lnTo>
                  <a:lnTo>
                    <a:pt x="470" y="696"/>
                  </a:lnTo>
                  <a:lnTo>
                    <a:pt x="476" y="696"/>
                  </a:lnTo>
                  <a:lnTo>
                    <a:pt x="481" y="696"/>
                  </a:lnTo>
                  <a:lnTo>
                    <a:pt x="487" y="696"/>
                  </a:lnTo>
                  <a:lnTo>
                    <a:pt x="487" y="696"/>
                  </a:lnTo>
                  <a:lnTo>
                    <a:pt x="492" y="696"/>
                  </a:lnTo>
                  <a:lnTo>
                    <a:pt x="498" y="696"/>
                  </a:lnTo>
                  <a:lnTo>
                    <a:pt x="503" y="696"/>
                  </a:lnTo>
                  <a:lnTo>
                    <a:pt x="509" y="696"/>
                  </a:lnTo>
                  <a:lnTo>
                    <a:pt x="514" y="696"/>
                  </a:lnTo>
                  <a:lnTo>
                    <a:pt x="520" y="696"/>
                  </a:lnTo>
                  <a:lnTo>
                    <a:pt x="520" y="696"/>
                  </a:lnTo>
                  <a:lnTo>
                    <a:pt x="525" y="696"/>
                  </a:lnTo>
                  <a:lnTo>
                    <a:pt x="531" y="696"/>
                  </a:lnTo>
                  <a:lnTo>
                    <a:pt x="536" y="696"/>
                  </a:lnTo>
                  <a:lnTo>
                    <a:pt x="541" y="696"/>
                  </a:lnTo>
                  <a:lnTo>
                    <a:pt x="547" y="696"/>
                  </a:lnTo>
                  <a:lnTo>
                    <a:pt x="552" y="696"/>
                  </a:lnTo>
                  <a:lnTo>
                    <a:pt x="552" y="696"/>
                  </a:lnTo>
                  <a:lnTo>
                    <a:pt x="558" y="696"/>
                  </a:lnTo>
                  <a:lnTo>
                    <a:pt x="563" y="696"/>
                  </a:lnTo>
                  <a:lnTo>
                    <a:pt x="569" y="414"/>
                  </a:lnTo>
                  <a:lnTo>
                    <a:pt x="574" y="414"/>
                  </a:lnTo>
                  <a:lnTo>
                    <a:pt x="580" y="414"/>
                  </a:lnTo>
                  <a:lnTo>
                    <a:pt x="585" y="414"/>
                  </a:lnTo>
                  <a:lnTo>
                    <a:pt x="591" y="414"/>
                  </a:lnTo>
                  <a:lnTo>
                    <a:pt x="591" y="414"/>
                  </a:lnTo>
                  <a:lnTo>
                    <a:pt x="596" y="414"/>
                  </a:lnTo>
                  <a:lnTo>
                    <a:pt x="602" y="414"/>
                  </a:lnTo>
                  <a:lnTo>
                    <a:pt x="607" y="414"/>
                  </a:lnTo>
                  <a:lnTo>
                    <a:pt x="613" y="414"/>
                  </a:lnTo>
                  <a:lnTo>
                    <a:pt x="618" y="414"/>
                  </a:lnTo>
                  <a:lnTo>
                    <a:pt x="623" y="414"/>
                  </a:lnTo>
                  <a:lnTo>
                    <a:pt x="623" y="414"/>
                  </a:lnTo>
                  <a:lnTo>
                    <a:pt x="629" y="414"/>
                  </a:lnTo>
                  <a:lnTo>
                    <a:pt x="634" y="414"/>
                  </a:lnTo>
                  <a:lnTo>
                    <a:pt x="640" y="414"/>
                  </a:lnTo>
                  <a:lnTo>
                    <a:pt x="645" y="414"/>
                  </a:lnTo>
                  <a:lnTo>
                    <a:pt x="651" y="414"/>
                  </a:lnTo>
                  <a:lnTo>
                    <a:pt x="656" y="414"/>
                  </a:lnTo>
                  <a:lnTo>
                    <a:pt x="656" y="414"/>
                  </a:lnTo>
                  <a:lnTo>
                    <a:pt x="662" y="414"/>
                  </a:lnTo>
                  <a:lnTo>
                    <a:pt x="667" y="414"/>
                  </a:lnTo>
                  <a:lnTo>
                    <a:pt x="673" y="414"/>
                  </a:lnTo>
                  <a:lnTo>
                    <a:pt x="678" y="414"/>
                  </a:lnTo>
                  <a:lnTo>
                    <a:pt x="684" y="414"/>
                  </a:lnTo>
                  <a:lnTo>
                    <a:pt x="689" y="414"/>
                  </a:lnTo>
                  <a:lnTo>
                    <a:pt x="695" y="414"/>
                  </a:lnTo>
                  <a:lnTo>
                    <a:pt x="695" y="414"/>
                  </a:lnTo>
                  <a:lnTo>
                    <a:pt x="700" y="414"/>
                  </a:lnTo>
                  <a:lnTo>
                    <a:pt x="706" y="414"/>
                  </a:lnTo>
                  <a:lnTo>
                    <a:pt x="711" y="414"/>
                  </a:lnTo>
                  <a:lnTo>
                    <a:pt x="716" y="414"/>
                  </a:lnTo>
                  <a:lnTo>
                    <a:pt x="722" y="414"/>
                  </a:lnTo>
                  <a:lnTo>
                    <a:pt x="727" y="414"/>
                  </a:lnTo>
                  <a:lnTo>
                    <a:pt x="727" y="414"/>
                  </a:lnTo>
                  <a:lnTo>
                    <a:pt x="733" y="414"/>
                  </a:lnTo>
                  <a:lnTo>
                    <a:pt x="738" y="414"/>
                  </a:lnTo>
                  <a:lnTo>
                    <a:pt x="744" y="414"/>
                  </a:lnTo>
                  <a:lnTo>
                    <a:pt x="749" y="414"/>
                  </a:lnTo>
                  <a:lnTo>
                    <a:pt x="755" y="414"/>
                  </a:lnTo>
                  <a:lnTo>
                    <a:pt x="760" y="414"/>
                  </a:lnTo>
                  <a:lnTo>
                    <a:pt x="760" y="414"/>
                  </a:lnTo>
                  <a:lnTo>
                    <a:pt x="766" y="414"/>
                  </a:lnTo>
                  <a:lnTo>
                    <a:pt x="771" y="414"/>
                  </a:lnTo>
                  <a:lnTo>
                    <a:pt x="777" y="414"/>
                  </a:lnTo>
                  <a:lnTo>
                    <a:pt x="782" y="414"/>
                  </a:lnTo>
                  <a:lnTo>
                    <a:pt x="788" y="414"/>
                  </a:lnTo>
                  <a:lnTo>
                    <a:pt x="793" y="414"/>
                  </a:lnTo>
                  <a:lnTo>
                    <a:pt x="798" y="414"/>
                  </a:lnTo>
                  <a:lnTo>
                    <a:pt x="798" y="414"/>
                  </a:lnTo>
                  <a:lnTo>
                    <a:pt x="804" y="414"/>
                  </a:lnTo>
                  <a:lnTo>
                    <a:pt x="809" y="414"/>
                  </a:lnTo>
                  <a:lnTo>
                    <a:pt x="815" y="414"/>
                  </a:lnTo>
                  <a:lnTo>
                    <a:pt x="820" y="414"/>
                  </a:lnTo>
                  <a:lnTo>
                    <a:pt x="826" y="414"/>
                  </a:lnTo>
                  <a:lnTo>
                    <a:pt x="831" y="414"/>
                  </a:lnTo>
                  <a:lnTo>
                    <a:pt x="831" y="414"/>
                  </a:lnTo>
                  <a:lnTo>
                    <a:pt x="837" y="414"/>
                  </a:lnTo>
                  <a:lnTo>
                    <a:pt x="842" y="414"/>
                  </a:lnTo>
                  <a:lnTo>
                    <a:pt x="848" y="414"/>
                  </a:lnTo>
                  <a:lnTo>
                    <a:pt x="853" y="414"/>
                  </a:lnTo>
                  <a:lnTo>
                    <a:pt x="859" y="414"/>
                  </a:lnTo>
                  <a:lnTo>
                    <a:pt x="864" y="414"/>
                  </a:lnTo>
                  <a:lnTo>
                    <a:pt x="864" y="414"/>
                  </a:lnTo>
                  <a:lnTo>
                    <a:pt x="870" y="414"/>
                  </a:lnTo>
                  <a:lnTo>
                    <a:pt x="875" y="414"/>
                  </a:lnTo>
                  <a:lnTo>
                    <a:pt x="880" y="414"/>
                  </a:lnTo>
                  <a:lnTo>
                    <a:pt x="886" y="414"/>
                  </a:lnTo>
                  <a:lnTo>
                    <a:pt x="891" y="414"/>
                  </a:lnTo>
                  <a:lnTo>
                    <a:pt x="897" y="414"/>
                  </a:lnTo>
                  <a:lnTo>
                    <a:pt x="902" y="414"/>
                  </a:lnTo>
                  <a:lnTo>
                    <a:pt x="902" y="414"/>
                  </a:lnTo>
                  <a:lnTo>
                    <a:pt x="908" y="414"/>
                  </a:lnTo>
                  <a:lnTo>
                    <a:pt x="913" y="414"/>
                  </a:lnTo>
                  <a:lnTo>
                    <a:pt x="919" y="414"/>
                  </a:lnTo>
                  <a:lnTo>
                    <a:pt x="924" y="414"/>
                  </a:lnTo>
                  <a:lnTo>
                    <a:pt x="930" y="414"/>
                  </a:lnTo>
                  <a:lnTo>
                    <a:pt x="935" y="414"/>
                  </a:lnTo>
                  <a:lnTo>
                    <a:pt x="935" y="414"/>
                  </a:lnTo>
                  <a:lnTo>
                    <a:pt x="941" y="414"/>
                  </a:lnTo>
                  <a:lnTo>
                    <a:pt x="946" y="414"/>
                  </a:lnTo>
                  <a:lnTo>
                    <a:pt x="952" y="414"/>
                  </a:lnTo>
                  <a:lnTo>
                    <a:pt x="957" y="414"/>
                  </a:lnTo>
                  <a:lnTo>
                    <a:pt x="963" y="414"/>
                  </a:lnTo>
                  <a:lnTo>
                    <a:pt x="968" y="414"/>
                  </a:lnTo>
                  <a:lnTo>
                    <a:pt x="968" y="414"/>
                  </a:lnTo>
                  <a:lnTo>
                    <a:pt x="973" y="414"/>
                  </a:lnTo>
                  <a:lnTo>
                    <a:pt x="979" y="414"/>
                  </a:lnTo>
                  <a:lnTo>
                    <a:pt x="984" y="414"/>
                  </a:lnTo>
                  <a:lnTo>
                    <a:pt x="990" y="414"/>
                  </a:lnTo>
                  <a:lnTo>
                    <a:pt x="995" y="414"/>
                  </a:lnTo>
                  <a:lnTo>
                    <a:pt x="1001" y="414"/>
                  </a:lnTo>
                  <a:lnTo>
                    <a:pt x="1006" y="414"/>
                  </a:lnTo>
                  <a:lnTo>
                    <a:pt x="1006" y="414"/>
                  </a:lnTo>
                  <a:lnTo>
                    <a:pt x="1012" y="414"/>
                  </a:lnTo>
                  <a:lnTo>
                    <a:pt x="1017" y="414"/>
                  </a:lnTo>
                  <a:lnTo>
                    <a:pt x="1023" y="414"/>
                  </a:lnTo>
                  <a:lnTo>
                    <a:pt x="1028" y="414"/>
                  </a:lnTo>
                  <a:lnTo>
                    <a:pt x="1034" y="414"/>
                  </a:lnTo>
                  <a:lnTo>
                    <a:pt x="1039" y="414"/>
                  </a:lnTo>
                  <a:lnTo>
                    <a:pt x="1039" y="414"/>
                  </a:lnTo>
                  <a:lnTo>
                    <a:pt x="1045" y="414"/>
                  </a:lnTo>
                  <a:lnTo>
                    <a:pt x="1050" y="414"/>
                  </a:lnTo>
                  <a:lnTo>
                    <a:pt x="1055" y="414"/>
                  </a:lnTo>
                  <a:lnTo>
                    <a:pt x="1061" y="414"/>
                  </a:lnTo>
                  <a:lnTo>
                    <a:pt x="1066" y="414"/>
                  </a:lnTo>
                  <a:lnTo>
                    <a:pt x="1072" y="414"/>
                  </a:lnTo>
                  <a:lnTo>
                    <a:pt x="1072" y="414"/>
                  </a:lnTo>
                  <a:lnTo>
                    <a:pt x="1077" y="414"/>
                  </a:lnTo>
                  <a:lnTo>
                    <a:pt x="1083" y="414"/>
                  </a:lnTo>
                  <a:lnTo>
                    <a:pt x="1088" y="414"/>
                  </a:lnTo>
                  <a:lnTo>
                    <a:pt x="1094" y="414"/>
                  </a:lnTo>
                  <a:lnTo>
                    <a:pt x="1099" y="414"/>
                  </a:lnTo>
                  <a:lnTo>
                    <a:pt x="1105" y="414"/>
                  </a:lnTo>
                  <a:lnTo>
                    <a:pt x="1110" y="414"/>
                  </a:lnTo>
                  <a:lnTo>
                    <a:pt x="1110" y="414"/>
                  </a:lnTo>
                  <a:lnTo>
                    <a:pt x="1116" y="414"/>
                  </a:lnTo>
                  <a:lnTo>
                    <a:pt x="1121" y="414"/>
                  </a:lnTo>
                  <a:lnTo>
                    <a:pt x="1127" y="414"/>
                  </a:lnTo>
                  <a:lnTo>
                    <a:pt x="1132" y="414"/>
                  </a:lnTo>
                  <a:lnTo>
                    <a:pt x="1138" y="324"/>
                  </a:lnTo>
                  <a:lnTo>
                    <a:pt x="1143" y="324"/>
                  </a:lnTo>
                  <a:lnTo>
                    <a:pt x="1143" y="324"/>
                  </a:lnTo>
                  <a:lnTo>
                    <a:pt x="1148" y="324"/>
                  </a:lnTo>
                  <a:lnTo>
                    <a:pt x="1154" y="324"/>
                  </a:lnTo>
                  <a:lnTo>
                    <a:pt x="1159" y="324"/>
                  </a:lnTo>
                  <a:lnTo>
                    <a:pt x="1165" y="324"/>
                  </a:lnTo>
                  <a:lnTo>
                    <a:pt x="1170" y="324"/>
                  </a:lnTo>
                  <a:lnTo>
                    <a:pt x="1176" y="324"/>
                  </a:lnTo>
                  <a:lnTo>
                    <a:pt x="1176" y="324"/>
                  </a:lnTo>
                  <a:lnTo>
                    <a:pt x="1181" y="324"/>
                  </a:lnTo>
                  <a:lnTo>
                    <a:pt x="1187" y="324"/>
                  </a:lnTo>
                  <a:lnTo>
                    <a:pt x="1192" y="324"/>
                  </a:lnTo>
                  <a:lnTo>
                    <a:pt x="1198" y="324"/>
                  </a:lnTo>
                  <a:lnTo>
                    <a:pt x="1203" y="324"/>
                  </a:lnTo>
                  <a:lnTo>
                    <a:pt x="1209" y="324"/>
                  </a:lnTo>
                  <a:lnTo>
                    <a:pt x="1214" y="324"/>
                  </a:lnTo>
                  <a:lnTo>
                    <a:pt x="1214" y="324"/>
                  </a:lnTo>
                  <a:lnTo>
                    <a:pt x="1220" y="324"/>
                  </a:lnTo>
                  <a:lnTo>
                    <a:pt x="1225" y="324"/>
                  </a:lnTo>
                  <a:lnTo>
                    <a:pt x="1230" y="324"/>
                  </a:lnTo>
                  <a:lnTo>
                    <a:pt x="1236" y="324"/>
                  </a:lnTo>
                  <a:lnTo>
                    <a:pt x="1241" y="324"/>
                  </a:lnTo>
                  <a:lnTo>
                    <a:pt x="1247" y="324"/>
                  </a:lnTo>
                  <a:lnTo>
                    <a:pt x="1247" y="324"/>
                  </a:lnTo>
                  <a:lnTo>
                    <a:pt x="1252" y="324"/>
                  </a:lnTo>
                  <a:lnTo>
                    <a:pt x="1258" y="324"/>
                  </a:lnTo>
                  <a:lnTo>
                    <a:pt x="1263" y="324"/>
                  </a:lnTo>
                  <a:lnTo>
                    <a:pt x="1269" y="324"/>
                  </a:lnTo>
                  <a:lnTo>
                    <a:pt x="1274" y="324"/>
                  </a:lnTo>
                  <a:lnTo>
                    <a:pt x="1280" y="324"/>
                  </a:lnTo>
                  <a:lnTo>
                    <a:pt x="1280" y="324"/>
                  </a:lnTo>
                  <a:lnTo>
                    <a:pt x="1285" y="324"/>
                  </a:lnTo>
                  <a:lnTo>
                    <a:pt x="1291" y="324"/>
                  </a:lnTo>
                  <a:lnTo>
                    <a:pt x="1296" y="324"/>
                  </a:lnTo>
                  <a:lnTo>
                    <a:pt x="1302" y="324"/>
                  </a:lnTo>
                  <a:lnTo>
                    <a:pt x="1307" y="324"/>
                  </a:lnTo>
                  <a:lnTo>
                    <a:pt x="1312" y="324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323" y="324"/>
                  </a:lnTo>
                  <a:lnTo>
                    <a:pt x="1329" y="324"/>
                  </a:lnTo>
                  <a:lnTo>
                    <a:pt x="1334" y="324"/>
                  </a:lnTo>
                  <a:lnTo>
                    <a:pt x="1340" y="324"/>
                  </a:lnTo>
                  <a:lnTo>
                    <a:pt x="1345" y="324"/>
                  </a:lnTo>
                  <a:lnTo>
                    <a:pt x="1351" y="324"/>
                  </a:lnTo>
                  <a:lnTo>
                    <a:pt x="1351" y="324"/>
                  </a:lnTo>
                  <a:lnTo>
                    <a:pt x="1356" y="324"/>
                  </a:lnTo>
                  <a:lnTo>
                    <a:pt x="1362" y="324"/>
                  </a:lnTo>
                  <a:lnTo>
                    <a:pt x="1367" y="324"/>
                  </a:lnTo>
                  <a:lnTo>
                    <a:pt x="1373" y="324"/>
                  </a:lnTo>
                  <a:lnTo>
                    <a:pt x="1378" y="324"/>
                  </a:lnTo>
                  <a:lnTo>
                    <a:pt x="1384" y="324"/>
                  </a:lnTo>
                  <a:lnTo>
                    <a:pt x="1389" y="324"/>
                  </a:lnTo>
                  <a:lnTo>
                    <a:pt x="1389" y="324"/>
                  </a:lnTo>
                  <a:lnTo>
                    <a:pt x="1395" y="324"/>
                  </a:lnTo>
                  <a:lnTo>
                    <a:pt x="1400" y="324"/>
                  </a:lnTo>
                  <a:lnTo>
                    <a:pt x="1405" y="324"/>
                  </a:lnTo>
                  <a:lnTo>
                    <a:pt x="1411" y="324"/>
                  </a:lnTo>
                  <a:lnTo>
                    <a:pt x="1416" y="324"/>
                  </a:lnTo>
                  <a:lnTo>
                    <a:pt x="1422" y="324"/>
                  </a:lnTo>
                  <a:lnTo>
                    <a:pt x="1422" y="324"/>
                  </a:lnTo>
                  <a:lnTo>
                    <a:pt x="1427" y="324"/>
                  </a:lnTo>
                  <a:lnTo>
                    <a:pt x="1433" y="324"/>
                  </a:lnTo>
                  <a:lnTo>
                    <a:pt x="1438" y="324"/>
                  </a:lnTo>
                  <a:lnTo>
                    <a:pt x="1444" y="324"/>
                  </a:lnTo>
                  <a:lnTo>
                    <a:pt x="1449" y="324"/>
                  </a:lnTo>
                  <a:lnTo>
                    <a:pt x="1455" y="324"/>
                  </a:lnTo>
                  <a:lnTo>
                    <a:pt x="1455" y="324"/>
                  </a:lnTo>
                  <a:lnTo>
                    <a:pt x="1460" y="324"/>
                  </a:lnTo>
                  <a:lnTo>
                    <a:pt x="1466" y="324"/>
                  </a:lnTo>
                  <a:lnTo>
                    <a:pt x="1471" y="324"/>
                  </a:lnTo>
                  <a:lnTo>
                    <a:pt x="1477" y="324"/>
                  </a:lnTo>
                  <a:lnTo>
                    <a:pt x="1482" y="324"/>
                  </a:lnTo>
                  <a:lnTo>
                    <a:pt x="1487" y="324"/>
                  </a:lnTo>
                  <a:lnTo>
                    <a:pt x="1493" y="324"/>
                  </a:lnTo>
                  <a:lnTo>
                    <a:pt x="1493" y="324"/>
                  </a:lnTo>
                  <a:lnTo>
                    <a:pt x="1498" y="324"/>
                  </a:lnTo>
                  <a:lnTo>
                    <a:pt x="1504" y="324"/>
                  </a:lnTo>
                  <a:lnTo>
                    <a:pt x="1509" y="324"/>
                  </a:lnTo>
                  <a:lnTo>
                    <a:pt x="1515" y="324"/>
                  </a:lnTo>
                  <a:lnTo>
                    <a:pt x="1520" y="324"/>
                  </a:lnTo>
                  <a:lnTo>
                    <a:pt x="1526" y="324"/>
                  </a:lnTo>
                  <a:lnTo>
                    <a:pt x="1526" y="324"/>
                  </a:lnTo>
                  <a:lnTo>
                    <a:pt x="1531" y="324"/>
                  </a:lnTo>
                  <a:lnTo>
                    <a:pt x="1537" y="324"/>
                  </a:lnTo>
                  <a:lnTo>
                    <a:pt x="1542" y="324"/>
                  </a:lnTo>
                  <a:lnTo>
                    <a:pt x="1548" y="324"/>
                  </a:lnTo>
                  <a:lnTo>
                    <a:pt x="1553" y="324"/>
                  </a:lnTo>
                  <a:lnTo>
                    <a:pt x="1559" y="324"/>
                  </a:lnTo>
                  <a:lnTo>
                    <a:pt x="1559" y="324"/>
                  </a:lnTo>
                  <a:lnTo>
                    <a:pt x="1564" y="324"/>
                  </a:lnTo>
                  <a:lnTo>
                    <a:pt x="1570" y="324"/>
                  </a:lnTo>
                  <a:lnTo>
                    <a:pt x="1575" y="324"/>
                  </a:lnTo>
                  <a:lnTo>
                    <a:pt x="1580" y="324"/>
                  </a:lnTo>
                  <a:lnTo>
                    <a:pt x="1586" y="324"/>
                  </a:lnTo>
                  <a:lnTo>
                    <a:pt x="1591" y="324"/>
                  </a:lnTo>
                  <a:lnTo>
                    <a:pt x="1597" y="324"/>
                  </a:lnTo>
                  <a:lnTo>
                    <a:pt x="1597" y="324"/>
                  </a:lnTo>
                  <a:lnTo>
                    <a:pt x="1602" y="324"/>
                  </a:lnTo>
                  <a:lnTo>
                    <a:pt x="1608" y="324"/>
                  </a:lnTo>
                  <a:lnTo>
                    <a:pt x="1613" y="324"/>
                  </a:lnTo>
                  <a:lnTo>
                    <a:pt x="1619" y="324"/>
                  </a:lnTo>
                  <a:lnTo>
                    <a:pt x="1624" y="324"/>
                  </a:lnTo>
                  <a:lnTo>
                    <a:pt x="1630" y="324"/>
                  </a:lnTo>
                  <a:lnTo>
                    <a:pt x="1630" y="324"/>
                  </a:lnTo>
                  <a:lnTo>
                    <a:pt x="1635" y="324"/>
                  </a:lnTo>
                  <a:lnTo>
                    <a:pt x="1641" y="324"/>
                  </a:lnTo>
                  <a:lnTo>
                    <a:pt x="1646" y="324"/>
                  </a:lnTo>
                  <a:lnTo>
                    <a:pt x="1652" y="324"/>
                  </a:lnTo>
                  <a:lnTo>
                    <a:pt x="1657" y="324"/>
                  </a:lnTo>
                  <a:lnTo>
                    <a:pt x="1662" y="324"/>
                  </a:lnTo>
                  <a:lnTo>
                    <a:pt x="1662" y="234"/>
                  </a:lnTo>
                  <a:lnTo>
                    <a:pt x="1668" y="234"/>
                  </a:lnTo>
                  <a:lnTo>
                    <a:pt x="1673" y="234"/>
                  </a:lnTo>
                  <a:lnTo>
                    <a:pt x="1679" y="234"/>
                  </a:lnTo>
                  <a:lnTo>
                    <a:pt x="1684" y="234"/>
                  </a:lnTo>
                  <a:lnTo>
                    <a:pt x="1690" y="234"/>
                  </a:lnTo>
                  <a:lnTo>
                    <a:pt x="1695" y="234"/>
                  </a:lnTo>
                  <a:lnTo>
                    <a:pt x="1701" y="234"/>
                  </a:lnTo>
                  <a:lnTo>
                    <a:pt x="1701" y="234"/>
                  </a:lnTo>
                  <a:lnTo>
                    <a:pt x="1706" y="234"/>
                  </a:lnTo>
                  <a:lnTo>
                    <a:pt x="1712" y="234"/>
                  </a:lnTo>
                  <a:lnTo>
                    <a:pt x="1717" y="234"/>
                  </a:lnTo>
                  <a:lnTo>
                    <a:pt x="1723" y="234"/>
                  </a:lnTo>
                  <a:lnTo>
                    <a:pt x="1728" y="234"/>
                  </a:lnTo>
                  <a:lnTo>
                    <a:pt x="1734" y="234"/>
                  </a:lnTo>
                  <a:lnTo>
                    <a:pt x="1734" y="234"/>
                  </a:lnTo>
                  <a:lnTo>
                    <a:pt x="1739" y="234"/>
                  </a:lnTo>
                  <a:lnTo>
                    <a:pt x="1744" y="234"/>
                  </a:lnTo>
                  <a:lnTo>
                    <a:pt x="1750" y="234"/>
                  </a:lnTo>
                  <a:lnTo>
                    <a:pt x="1755" y="234"/>
                  </a:lnTo>
                  <a:lnTo>
                    <a:pt x="1761" y="234"/>
                  </a:lnTo>
                  <a:lnTo>
                    <a:pt x="1766" y="234"/>
                  </a:lnTo>
                  <a:lnTo>
                    <a:pt x="1766" y="234"/>
                  </a:lnTo>
                  <a:lnTo>
                    <a:pt x="1772" y="234"/>
                  </a:lnTo>
                  <a:lnTo>
                    <a:pt x="1777" y="234"/>
                  </a:lnTo>
                  <a:lnTo>
                    <a:pt x="1783" y="234"/>
                  </a:lnTo>
                  <a:lnTo>
                    <a:pt x="1788" y="234"/>
                  </a:lnTo>
                  <a:lnTo>
                    <a:pt x="1794" y="234"/>
                  </a:lnTo>
                  <a:lnTo>
                    <a:pt x="1799" y="234"/>
                  </a:lnTo>
                  <a:lnTo>
                    <a:pt x="1805" y="234"/>
                  </a:lnTo>
                  <a:lnTo>
                    <a:pt x="1805" y="234"/>
                  </a:lnTo>
                  <a:lnTo>
                    <a:pt x="1810" y="234"/>
                  </a:lnTo>
                  <a:lnTo>
                    <a:pt x="1816" y="234"/>
                  </a:lnTo>
                  <a:lnTo>
                    <a:pt x="1821" y="234"/>
                  </a:lnTo>
                  <a:lnTo>
                    <a:pt x="1827" y="234"/>
                  </a:lnTo>
                  <a:lnTo>
                    <a:pt x="1832" y="234"/>
                  </a:lnTo>
                  <a:lnTo>
                    <a:pt x="1837" y="234"/>
                  </a:lnTo>
                  <a:lnTo>
                    <a:pt x="1837" y="234"/>
                  </a:lnTo>
                  <a:lnTo>
                    <a:pt x="1843" y="234"/>
                  </a:lnTo>
                  <a:lnTo>
                    <a:pt x="1848" y="234"/>
                  </a:lnTo>
                  <a:lnTo>
                    <a:pt x="1854" y="234"/>
                  </a:lnTo>
                  <a:lnTo>
                    <a:pt x="1859" y="234"/>
                  </a:lnTo>
                  <a:lnTo>
                    <a:pt x="1865" y="234"/>
                  </a:lnTo>
                  <a:lnTo>
                    <a:pt x="1870" y="234"/>
                  </a:lnTo>
                  <a:lnTo>
                    <a:pt x="1870" y="234"/>
                  </a:lnTo>
                  <a:lnTo>
                    <a:pt x="1876" y="234"/>
                  </a:lnTo>
                  <a:lnTo>
                    <a:pt x="1881" y="234"/>
                  </a:lnTo>
                  <a:lnTo>
                    <a:pt x="1887" y="234"/>
                  </a:lnTo>
                  <a:lnTo>
                    <a:pt x="1892" y="234"/>
                  </a:lnTo>
                  <a:lnTo>
                    <a:pt x="1898" y="234"/>
                  </a:lnTo>
                  <a:lnTo>
                    <a:pt x="1903" y="234"/>
                  </a:lnTo>
                  <a:lnTo>
                    <a:pt x="1909" y="234"/>
                  </a:lnTo>
                  <a:lnTo>
                    <a:pt x="1909" y="234"/>
                  </a:lnTo>
                  <a:lnTo>
                    <a:pt x="1914" y="234"/>
                  </a:lnTo>
                  <a:lnTo>
                    <a:pt x="1919" y="234"/>
                  </a:lnTo>
                  <a:lnTo>
                    <a:pt x="1925" y="234"/>
                  </a:lnTo>
                  <a:lnTo>
                    <a:pt x="1930" y="234"/>
                  </a:lnTo>
                  <a:lnTo>
                    <a:pt x="1936" y="234"/>
                  </a:lnTo>
                  <a:lnTo>
                    <a:pt x="1941" y="234"/>
                  </a:lnTo>
                  <a:lnTo>
                    <a:pt x="1941" y="234"/>
                  </a:lnTo>
                  <a:lnTo>
                    <a:pt x="1947" y="234"/>
                  </a:lnTo>
                  <a:lnTo>
                    <a:pt x="1952" y="234"/>
                  </a:lnTo>
                  <a:lnTo>
                    <a:pt x="1958" y="234"/>
                  </a:lnTo>
                  <a:lnTo>
                    <a:pt x="1963" y="234"/>
                  </a:lnTo>
                  <a:lnTo>
                    <a:pt x="1969" y="234"/>
                  </a:lnTo>
                  <a:lnTo>
                    <a:pt x="1974" y="234"/>
                  </a:lnTo>
                  <a:lnTo>
                    <a:pt x="1974" y="234"/>
                  </a:lnTo>
                  <a:lnTo>
                    <a:pt x="1980" y="234"/>
                  </a:lnTo>
                  <a:lnTo>
                    <a:pt x="1985" y="234"/>
                  </a:lnTo>
                  <a:lnTo>
                    <a:pt x="1991" y="234"/>
                  </a:lnTo>
                  <a:lnTo>
                    <a:pt x="1996" y="234"/>
                  </a:lnTo>
                  <a:lnTo>
                    <a:pt x="2002" y="234"/>
                  </a:lnTo>
                  <a:lnTo>
                    <a:pt x="2007" y="234"/>
                  </a:lnTo>
                  <a:lnTo>
                    <a:pt x="2012" y="234"/>
                  </a:lnTo>
                  <a:lnTo>
                    <a:pt x="2012" y="234"/>
                  </a:lnTo>
                  <a:lnTo>
                    <a:pt x="2018" y="234"/>
                  </a:lnTo>
                  <a:lnTo>
                    <a:pt x="2023" y="234"/>
                  </a:lnTo>
                  <a:lnTo>
                    <a:pt x="2029" y="234"/>
                  </a:lnTo>
                  <a:lnTo>
                    <a:pt x="2034" y="234"/>
                  </a:lnTo>
                  <a:lnTo>
                    <a:pt x="2040" y="234"/>
                  </a:lnTo>
                  <a:lnTo>
                    <a:pt x="2045" y="234"/>
                  </a:lnTo>
                  <a:lnTo>
                    <a:pt x="2045" y="234"/>
                  </a:lnTo>
                  <a:lnTo>
                    <a:pt x="2051" y="234"/>
                  </a:lnTo>
                  <a:lnTo>
                    <a:pt x="2056" y="234"/>
                  </a:lnTo>
                  <a:lnTo>
                    <a:pt x="2062" y="234"/>
                  </a:lnTo>
                  <a:lnTo>
                    <a:pt x="2067" y="234"/>
                  </a:lnTo>
                  <a:lnTo>
                    <a:pt x="2073" y="234"/>
                  </a:lnTo>
                  <a:lnTo>
                    <a:pt x="2078" y="234"/>
                  </a:lnTo>
                  <a:lnTo>
                    <a:pt x="2078" y="234"/>
                  </a:lnTo>
                  <a:lnTo>
                    <a:pt x="2084" y="234"/>
                  </a:lnTo>
                  <a:lnTo>
                    <a:pt x="2089" y="234"/>
                  </a:lnTo>
                  <a:lnTo>
                    <a:pt x="2094" y="234"/>
                  </a:lnTo>
                  <a:lnTo>
                    <a:pt x="2100" y="234"/>
                  </a:lnTo>
                  <a:lnTo>
                    <a:pt x="2105" y="234"/>
                  </a:lnTo>
                  <a:lnTo>
                    <a:pt x="2111" y="234"/>
                  </a:lnTo>
                  <a:lnTo>
                    <a:pt x="2116" y="234"/>
                  </a:lnTo>
                  <a:lnTo>
                    <a:pt x="2116" y="0"/>
                  </a:lnTo>
                  <a:lnTo>
                    <a:pt x="2122" y="0"/>
                  </a:lnTo>
                  <a:lnTo>
                    <a:pt x="2127" y="0"/>
                  </a:lnTo>
                  <a:lnTo>
                    <a:pt x="2133" y="0"/>
                  </a:lnTo>
                  <a:lnTo>
                    <a:pt x="2138" y="0"/>
                  </a:lnTo>
                  <a:lnTo>
                    <a:pt x="2144" y="0"/>
                  </a:lnTo>
                  <a:lnTo>
                    <a:pt x="2149" y="0"/>
                  </a:lnTo>
                  <a:lnTo>
                    <a:pt x="2149" y="0"/>
                  </a:lnTo>
                  <a:lnTo>
                    <a:pt x="2155" y="0"/>
                  </a:lnTo>
                  <a:lnTo>
                    <a:pt x="2160" y="0"/>
                  </a:lnTo>
                  <a:lnTo>
                    <a:pt x="2166" y="0"/>
                  </a:lnTo>
                  <a:lnTo>
                    <a:pt x="2171" y="0"/>
                  </a:lnTo>
                  <a:lnTo>
                    <a:pt x="2176" y="0"/>
                  </a:lnTo>
                  <a:lnTo>
                    <a:pt x="2182" y="0"/>
                  </a:lnTo>
                  <a:lnTo>
                    <a:pt x="2182" y="0"/>
                  </a:lnTo>
                  <a:lnTo>
                    <a:pt x="2187" y="0"/>
                  </a:lnTo>
                  <a:lnTo>
                    <a:pt x="2193" y="0"/>
                  </a:lnTo>
                  <a:lnTo>
                    <a:pt x="2198" y="0"/>
                  </a:lnTo>
                  <a:lnTo>
                    <a:pt x="2204" y="0"/>
                  </a:lnTo>
                  <a:lnTo>
                    <a:pt x="2209" y="0"/>
                  </a:lnTo>
                  <a:lnTo>
                    <a:pt x="2215" y="0"/>
                  </a:lnTo>
                  <a:lnTo>
                    <a:pt x="2220" y="0"/>
                  </a:lnTo>
                  <a:lnTo>
                    <a:pt x="2220" y="0"/>
                  </a:lnTo>
                  <a:lnTo>
                    <a:pt x="2226" y="0"/>
                  </a:lnTo>
                  <a:lnTo>
                    <a:pt x="2231" y="0"/>
                  </a:lnTo>
                  <a:lnTo>
                    <a:pt x="2237" y="0"/>
                  </a:lnTo>
                  <a:lnTo>
                    <a:pt x="2242" y="0"/>
                  </a:lnTo>
                  <a:lnTo>
                    <a:pt x="2248" y="0"/>
                  </a:lnTo>
                  <a:lnTo>
                    <a:pt x="2253" y="0"/>
                  </a:lnTo>
                  <a:lnTo>
                    <a:pt x="2253" y="0"/>
                  </a:lnTo>
                  <a:lnTo>
                    <a:pt x="2259" y="0"/>
                  </a:lnTo>
                  <a:lnTo>
                    <a:pt x="2264" y="0"/>
                  </a:lnTo>
                  <a:lnTo>
                    <a:pt x="2269" y="0"/>
                  </a:lnTo>
                  <a:lnTo>
                    <a:pt x="2275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86" y="0"/>
                  </a:lnTo>
                  <a:lnTo>
                    <a:pt x="2291" y="0"/>
                  </a:lnTo>
                  <a:lnTo>
                    <a:pt x="2297" y="0"/>
                  </a:lnTo>
                  <a:lnTo>
                    <a:pt x="2302" y="0"/>
                  </a:lnTo>
                  <a:lnTo>
                    <a:pt x="2308" y="0"/>
                  </a:lnTo>
                  <a:lnTo>
                    <a:pt x="2313" y="0"/>
                  </a:lnTo>
                  <a:lnTo>
                    <a:pt x="2319" y="0"/>
                  </a:lnTo>
                  <a:lnTo>
                    <a:pt x="2324" y="0"/>
                  </a:lnTo>
                  <a:lnTo>
                    <a:pt x="2324" y="0"/>
                  </a:lnTo>
                  <a:lnTo>
                    <a:pt x="2330" y="0"/>
                  </a:lnTo>
                  <a:lnTo>
                    <a:pt x="2335" y="0"/>
                  </a:lnTo>
                  <a:lnTo>
                    <a:pt x="2341" y="0"/>
                  </a:lnTo>
                  <a:lnTo>
                    <a:pt x="2346" y="0"/>
                  </a:lnTo>
                  <a:lnTo>
                    <a:pt x="2351" y="0"/>
                  </a:lnTo>
                  <a:lnTo>
                    <a:pt x="2357" y="0"/>
                  </a:lnTo>
                  <a:lnTo>
                    <a:pt x="2357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20800" y="4349880"/>
              <a:ext cx="4819680" cy="2880"/>
            </a:xfrm>
            <a:custGeom>
              <a:avLst/>
              <a:gdLst/>
              <a:ahLst/>
              <a:rect l="l" t="t" r="r" b="b"/>
              <a:pathLst>
                <a:path w="2357" h="0">
                  <a:moveTo>
                    <a:pt x="2357" y="0"/>
                  </a:moveTo>
                  <a:lnTo>
                    <a:pt x="2357" y="0"/>
                  </a:lnTo>
                  <a:lnTo>
                    <a:pt x="2351" y="0"/>
                  </a:lnTo>
                  <a:lnTo>
                    <a:pt x="2346" y="0"/>
                  </a:lnTo>
                  <a:lnTo>
                    <a:pt x="2341" y="0"/>
                  </a:lnTo>
                  <a:lnTo>
                    <a:pt x="2335" y="0"/>
                  </a:lnTo>
                  <a:lnTo>
                    <a:pt x="2330" y="0"/>
                  </a:lnTo>
                  <a:lnTo>
                    <a:pt x="2324" y="0"/>
                  </a:lnTo>
                  <a:lnTo>
                    <a:pt x="2324" y="0"/>
                  </a:lnTo>
                  <a:lnTo>
                    <a:pt x="2319" y="0"/>
                  </a:lnTo>
                  <a:lnTo>
                    <a:pt x="2313" y="0"/>
                  </a:lnTo>
                  <a:lnTo>
                    <a:pt x="2308" y="0"/>
                  </a:lnTo>
                  <a:lnTo>
                    <a:pt x="2302" y="0"/>
                  </a:lnTo>
                  <a:lnTo>
                    <a:pt x="2297" y="0"/>
                  </a:lnTo>
                  <a:lnTo>
                    <a:pt x="2291" y="0"/>
                  </a:lnTo>
                  <a:lnTo>
                    <a:pt x="2286" y="0"/>
                  </a:lnTo>
                  <a:lnTo>
                    <a:pt x="2286" y="0"/>
                  </a:lnTo>
                  <a:lnTo>
                    <a:pt x="2280" y="0"/>
                  </a:lnTo>
                  <a:lnTo>
                    <a:pt x="2275" y="0"/>
                  </a:lnTo>
                  <a:lnTo>
                    <a:pt x="2269" y="0"/>
                  </a:lnTo>
                  <a:lnTo>
                    <a:pt x="2264" y="0"/>
                  </a:lnTo>
                  <a:lnTo>
                    <a:pt x="2259" y="0"/>
                  </a:lnTo>
                  <a:lnTo>
                    <a:pt x="2253" y="0"/>
                  </a:lnTo>
                  <a:lnTo>
                    <a:pt x="2253" y="0"/>
                  </a:lnTo>
                  <a:lnTo>
                    <a:pt x="2248" y="0"/>
                  </a:lnTo>
                  <a:lnTo>
                    <a:pt x="2242" y="0"/>
                  </a:lnTo>
                  <a:lnTo>
                    <a:pt x="2237" y="0"/>
                  </a:lnTo>
                  <a:lnTo>
                    <a:pt x="2231" y="0"/>
                  </a:lnTo>
                  <a:lnTo>
                    <a:pt x="2226" y="0"/>
                  </a:lnTo>
                  <a:lnTo>
                    <a:pt x="2220" y="0"/>
                  </a:lnTo>
                  <a:lnTo>
                    <a:pt x="2220" y="0"/>
                  </a:lnTo>
                  <a:lnTo>
                    <a:pt x="2215" y="0"/>
                  </a:lnTo>
                  <a:lnTo>
                    <a:pt x="2209" y="0"/>
                  </a:lnTo>
                  <a:lnTo>
                    <a:pt x="2204" y="0"/>
                  </a:lnTo>
                  <a:lnTo>
                    <a:pt x="2198" y="0"/>
                  </a:lnTo>
                  <a:lnTo>
                    <a:pt x="2193" y="0"/>
                  </a:lnTo>
                  <a:lnTo>
                    <a:pt x="2187" y="0"/>
                  </a:lnTo>
                  <a:lnTo>
                    <a:pt x="2182" y="0"/>
                  </a:lnTo>
                  <a:lnTo>
                    <a:pt x="2182" y="0"/>
                  </a:lnTo>
                  <a:lnTo>
                    <a:pt x="2176" y="0"/>
                  </a:lnTo>
                  <a:lnTo>
                    <a:pt x="2171" y="0"/>
                  </a:lnTo>
                  <a:lnTo>
                    <a:pt x="2166" y="0"/>
                  </a:lnTo>
                  <a:lnTo>
                    <a:pt x="2160" y="0"/>
                  </a:lnTo>
                  <a:lnTo>
                    <a:pt x="2155" y="0"/>
                  </a:lnTo>
                  <a:lnTo>
                    <a:pt x="2149" y="0"/>
                  </a:lnTo>
                  <a:lnTo>
                    <a:pt x="2149" y="0"/>
                  </a:lnTo>
                  <a:lnTo>
                    <a:pt x="2144" y="0"/>
                  </a:lnTo>
                  <a:lnTo>
                    <a:pt x="2138" y="0"/>
                  </a:lnTo>
                  <a:lnTo>
                    <a:pt x="2133" y="0"/>
                  </a:lnTo>
                  <a:lnTo>
                    <a:pt x="2127" y="0"/>
                  </a:lnTo>
                  <a:lnTo>
                    <a:pt x="2122" y="0"/>
                  </a:lnTo>
                  <a:lnTo>
                    <a:pt x="2116" y="0"/>
                  </a:lnTo>
                  <a:lnTo>
                    <a:pt x="2116" y="0"/>
                  </a:lnTo>
                  <a:lnTo>
                    <a:pt x="2111" y="0"/>
                  </a:lnTo>
                  <a:lnTo>
                    <a:pt x="2105" y="0"/>
                  </a:lnTo>
                  <a:lnTo>
                    <a:pt x="2100" y="0"/>
                  </a:lnTo>
                  <a:lnTo>
                    <a:pt x="2094" y="0"/>
                  </a:lnTo>
                  <a:lnTo>
                    <a:pt x="2089" y="0"/>
                  </a:lnTo>
                  <a:lnTo>
                    <a:pt x="2084" y="0"/>
                  </a:lnTo>
                  <a:lnTo>
                    <a:pt x="2078" y="0"/>
                  </a:lnTo>
                  <a:lnTo>
                    <a:pt x="2078" y="0"/>
                  </a:lnTo>
                  <a:lnTo>
                    <a:pt x="2073" y="0"/>
                  </a:lnTo>
                  <a:lnTo>
                    <a:pt x="2067" y="0"/>
                  </a:lnTo>
                  <a:lnTo>
                    <a:pt x="2062" y="0"/>
                  </a:lnTo>
                  <a:lnTo>
                    <a:pt x="2056" y="0"/>
                  </a:lnTo>
                  <a:lnTo>
                    <a:pt x="2051" y="0"/>
                  </a:lnTo>
                  <a:lnTo>
                    <a:pt x="2045" y="0"/>
                  </a:lnTo>
                  <a:lnTo>
                    <a:pt x="2045" y="0"/>
                  </a:lnTo>
                  <a:lnTo>
                    <a:pt x="2040" y="0"/>
                  </a:lnTo>
                  <a:lnTo>
                    <a:pt x="2034" y="0"/>
                  </a:lnTo>
                  <a:lnTo>
                    <a:pt x="2029" y="0"/>
                  </a:lnTo>
                  <a:lnTo>
                    <a:pt x="2023" y="0"/>
                  </a:lnTo>
                  <a:lnTo>
                    <a:pt x="2018" y="0"/>
                  </a:lnTo>
                  <a:lnTo>
                    <a:pt x="2012" y="0"/>
                  </a:lnTo>
                  <a:lnTo>
                    <a:pt x="2012" y="0"/>
                  </a:lnTo>
                  <a:lnTo>
                    <a:pt x="2007" y="0"/>
                  </a:lnTo>
                  <a:lnTo>
                    <a:pt x="2002" y="0"/>
                  </a:lnTo>
                  <a:lnTo>
                    <a:pt x="1996" y="0"/>
                  </a:lnTo>
                  <a:lnTo>
                    <a:pt x="1991" y="0"/>
                  </a:lnTo>
                  <a:lnTo>
                    <a:pt x="1985" y="0"/>
                  </a:lnTo>
                  <a:lnTo>
                    <a:pt x="198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69" y="0"/>
                  </a:lnTo>
                  <a:lnTo>
                    <a:pt x="1963" y="0"/>
                  </a:lnTo>
                  <a:lnTo>
                    <a:pt x="1958" y="0"/>
                  </a:lnTo>
                  <a:lnTo>
                    <a:pt x="1952" y="0"/>
                  </a:lnTo>
                  <a:lnTo>
                    <a:pt x="1947" y="0"/>
                  </a:lnTo>
                  <a:lnTo>
                    <a:pt x="1941" y="0"/>
                  </a:lnTo>
                  <a:lnTo>
                    <a:pt x="1941" y="0"/>
                  </a:lnTo>
                  <a:lnTo>
                    <a:pt x="1936" y="0"/>
                  </a:lnTo>
                  <a:lnTo>
                    <a:pt x="1930" y="0"/>
                  </a:lnTo>
                  <a:lnTo>
                    <a:pt x="1925" y="0"/>
                  </a:lnTo>
                  <a:lnTo>
                    <a:pt x="1919" y="0"/>
                  </a:lnTo>
                  <a:lnTo>
                    <a:pt x="1914" y="0"/>
                  </a:lnTo>
                  <a:lnTo>
                    <a:pt x="1909" y="0"/>
                  </a:lnTo>
                  <a:lnTo>
                    <a:pt x="1909" y="0"/>
                  </a:lnTo>
                  <a:lnTo>
                    <a:pt x="1903" y="0"/>
                  </a:lnTo>
                  <a:lnTo>
                    <a:pt x="1898" y="0"/>
                  </a:lnTo>
                  <a:lnTo>
                    <a:pt x="1892" y="0"/>
                  </a:lnTo>
                  <a:lnTo>
                    <a:pt x="1887" y="0"/>
                  </a:lnTo>
                  <a:lnTo>
                    <a:pt x="1881" y="0"/>
                  </a:lnTo>
                  <a:lnTo>
                    <a:pt x="1876" y="0"/>
                  </a:lnTo>
                  <a:lnTo>
                    <a:pt x="1870" y="0"/>
                  </a:lnTo>
                  <a:lnTo>
                    <a:pt x="1870" y="0"/>
                  </a:lnTo>
                  <a:lnTo>
                    <a:pt x="1865" y="0"/>
                  </a:lnTo>
                  <a:lnTo>
                    <a:pt x="1859" y="0"/>
                  </a:lnTo>
                  <a:lnTo>
                    <a:pt x="1854" y="0"/>
                  </a:lnTo>
                  <a:lnTo>
                    <a:pt x="1848" y="0"/>
                  </a:lnTo>
                  <a:lnTo>
                    <a:pt x="1843" y="0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1832" y="0"/>
                  </a:lnTo>
                  <a:lnTo>
                    <a:pt x="1827" y="0"/>
                  </a:lnTo>
                  <a:lnTo>
                    <a:pt x="1821" y="0"/>
                  </a:lnTo>
                  <a:lnTo>
                    <a:pt x="1816" y="0"/>
                  </a:lnTo>
                  <a:lnTo>
                    <a:pt x="1810" y="0"/>
                  </a:lnTo>
                  <a:lnTo>
                    <a:pt x="1805" y="0"/>
                  </a:lnTo>
                  <a:lnTo>
                    <a:pt x="1805" y="0"/>
                  </a:lnTo>
                  <a:lnTo>
                    <a:pt x="1799" y="0"/>
                  </a:lnTo>
                  <a:lnTo>
                    <a:pt x="1794" y="0"/>
                  </a:lnTo>
                  <a:lnTo>
                    <a:pt x="1788" y="0"/>
                  </a:lnTo>
                  <a:lnTo>
                    <a:pt x="1783" y="0"/>
                  </a:lnTo>
                  <a:lnTo>
                    <a:pt x="1777" y="0"/>
                  </a:lnTo>
                  <a:lnTo>
                    <a:pt x="1772" y="0"/>
                  </a:lnTo>
                  <a:lnTo>
                    <a:pt x="1766" y="0"/>
                  </a:lnTo>
                  <a:lnTo>
                    <a:pt x="1766" y="0"/>
                  </a:lnTo>
                  <a:lnTo>
                    <a:pt x="1761" y="0"/>
                  </a:lnTo>
                  <a:lnTo>
                    <a:pt x="1755" y="0"/>
                  </a:lnTo>
                  <a:lnTo>
                    <a:pt x="1750" y="0"/>
                  </a:lnTo>
                  <a:lnTo>
                    <a:pt x="1744" y="0"/>
                  </a:lnTo>
                  <a:lnTo>
                    <a:pt x="1739" y="0"/>
                  </a:lnTo>
                  <a:lnTo>
                    <a:pt x="1734" y="0"/>
                  </a:lnTo>
                  <a:lnTo>
                    <a:pt x="1734" y="0"/>
                  </a:lnTo>
                  <a:lnTo>
                    <a:pt x="1728" y="0"/>
                  </a:lnTo>
                  <a:lnTo>
                    <a:pt x="1723" y="0"/>
                  </a:lnTo>
                  <a:lnTo>
                    <a:pt x="1717" y="0"/>
                  </a:lnTo>
                  <a:lnTo>
                    <a:pt x="1712" y="0"/>
                  </a:lnTo>
                  <a:lnTo>
                    <a:pt x="1706" y="0"/>
                  </a:lnTo>
                  <a:lnTo>
                    <a:pt x="1701" y="0"/>
                  </a:lnTo>
                  <a:lnTo>
                    <a:pt x="1701" y="0"/>
                  </a:lnTo>
                  <a:lnTo>
                    <a:pt x="1695" y="0"/>
                  </a:lnTo>
                  <a:lnTo>
                    <a:pt x="1690" y="0"/>
                  </a:lnTo>
                  <a:lnTo>
                    <a:pt x="1684" y="0"/>
                  </a:lnTo>
                  <a:lnTo>
                    <a:pt x="1679" y="0"/>
                  </a:lnTo>
                  <a:lnTo>
                    <a:pt x="1673" y="0"/>
                  </a:lnTo>
                  <a:lnTo>
                    <a:pt x="1668" y="0"/>
                  </a:lnTo>
                  <a:lnTo>
                    <a:pt x="1662" y="0"/>
                  </a:lnTo>
                  <a:lnTo>
                    <a:pt x="1662" y="0"/>
                  </a:lnTo>
                  <a:lnTo>
                    <a:pt x="1657" y="0"/>
                  </a:lnTo>
                  <a:lnTo>
                    <a:pt x="1652" y="0"/>
                  </a:lnTo>
                  <a:lnTo>
                    <a:pt x="1646" y="0"/>
                  </a:lnTo>
                  <a:lnTo>
                    <a:pt x="1641" y="0"/>
                  </a:lnTo>
                  <a:lnTo>
                    <a:pt x="1635" y="0"/>
                  </a:lnTo>
                  <a:lnTo>
                    <a:pt x="1630" y="0"/>
                  </a:lnTo>
                  <a:lnTo>
                    <a:pt x="1630" y="0"/>
                  </a:lnTo>
                  <a:lnTo>
                    <a:pt x="1624" y="0"/>
                  </a:lnTo>
                  <a:lnTo>
                    <a:pt x="1619" y="0"/>
                  </a:lnTo>
                  <a:lnTo>
                    <a:pt x="1613" y="0"/>
                  </a:lnTo>
                  <a:lnTo>
                    <a:pt x="1608" y="0"/>
                  </a:lnTo>
                  <a:lnTo>
                    <a:pt x="1602" y="0"/>
                  </a:lnTo>
                  <a:lnTo>
                    <a:pt x="1597" y="0"/>
                  </a:lnTo>
                  <a:lnTo>
                    <a:pt x="1597" y="0"/>
                  </a:lnTo>
                  <a:lnTo>
                    <a:pt x="1591" y="0"/>
                  </a:lnTo>
                  <a:lnTo>
                    <a:pt x="1586" y="0"/>
                  </a:lnTo>
                  <a:lnTo>
                    <a:pt x="1580" y="0"/>
                  </a:lnTo>
                  <a:lnTo>
                    <a:pt x="1575" y="0"/>
                  </a:lnTo>
                  <a:lnTo>
                    <a:pt x="1570" y="0"/>
                  </a:lnTo>
                  <a:lnTo>
                    <a:pt x="1564" y="0"/>
                  </a:lnTo>
                  <a:lnTo>
                    <a:pt x="1559" y="0"/>
                  </a:lnTo>
                  <a:lnTo>
                    <a:pt x="1559" y="0"/>
                  </a:lnTo>
                  <a:lnTo>
                    <a:pt x="1553" y="0"/>
                  </a:lnTo>
                  <a:lnTo>
                    <a:pt x="1548" y="0"/>
                  </a:lnTo>
                  <a:lnTo>
                    <a:pt x="1542" y="0"/>
                  </a:lnTo>
                  <a:lnTo>
                    <a:pt x="1537" y="0"/>
                  </a:lnTo>
                  <a:lnTo>
                    <a:pt x="1531" y="0"/>
                  </a:lnTo>
                  <a:lnTo>
                    <a:pt x="1526" y="0"/>
                  </a:lnTo>
                  <a:lnTo>
                    <a:pt x="1526" y="0"/>
                  </a:lnTo>
                  <a:lnTo>
                    <a:pt x="1520" y="0"/>
                  </a:lnTo>
                  <a:lnTo>
                    <a:pt x="1515" y="0"/>
                  </a:lnTo>
                  <a:lnTo>
                    <a:pt x="1509" y="0"/>
                  </a:lnTo>
                  <a:lnTo>
                    <a:pt x="1504" y="0"/>
                  </a:lnTo>
                  <a:lnTo>
                    <a:pt x="1498" y="0"/>
                  </a:lnTo>
                  <a:lnTo>
                    <a:pt x="1493" y="0"/>
                  </a:lnTo>
                  <a:lnTo>
                    <a:pt x="1493" y="0"/>
                  </a:lnTo>
                  <a:lnTo>
                    <a:pt x="1487" y="0"/>
                  </a:lnTo>
                  <a:lnTo>
                    <a:pt x="1482" y="0"/>
                  </a:lnTo>
                  <a:lnTo>
                    <a:pt x="1477" y="0"/>
                  </a:lnTo>
                  <a:lnTo>
                    <a:pt x="1471" y="0"/>
                  </a:lnTo>
                  <a:lnTo>
                    <a:pt x="1466" y="0"/>
                  </a:lnTo>
                  <a:lnTo>
                    <a:pt x="1460" y="0"/>
                  </a:lnTo>
                  <a:lnTo>
                    <a:pt x="1455" y="0"/>
                  </a:lnTo>
                  <a:lnTo>
                    <a:pt x="1455" y="0"/>
                  </a:lnTo>
                  <a:lnTo>
                    <a:pt x="1449" y="0"/>
                  </a:lnTo>
                  <a:lnTo>
                    <a:pt x="1444" y="0"/>
                  </a:lnTo>
                  <a:lnTo>
                    <a:pt x="1438" y="0"/>
                  </a:lnTo>
                  <a:lnTo>
                    <a:pt x="1433" y="0"/>
                  </a:lnTo>
                  <a:lnTo>
                    <a:pt x="1427" y="0"/>
                  </a:lnTo>
                  <a:lnTo>
                    <a:pt x="1422" y="0"/>
                  </a:lnTo>
                  <a:lnTo>
                    <a:pt x="1422" y="0"/>
                  </a:lnTo>
                  <a:lnTo>
                    <a:pt x="1416" y="0"/>
                  </a:lnTo>
                  <a:lnTo>
                    <a:pt x="1411" y="0"/>
                  </a:lnTo>
                  <a:lnTo>
                    <a:pt x="1405" y="0"/>
                  </a:lnTo>
                  <a:lnTo>
                    <a:pt x="1400" y="0"/>
                  </a:lnTo>
                  <a:lnTo>
                    <a:pt x="1395" y="0"/>
                  </a:lnTo>
                  <a:lnTo>
                    <a:pt x="1389" y="0"/>
                  </a:lnTo>
                  <a:lnTo>
                    <a:pt x="1389" y="0"/>
                  </a:lnTo>
                  <a:lnTo>
                    <a:pt x="1384" y="0"/>
                  </a:lnTo>
                  <a:lnTo>
                    <a:pt x="1378" y="0"/>
                  </a:lnTo>
                  <a:lnTo>
                    <a:pt x="1373" y="0"/>
                  </a:lnTo>
                  <a:lnTo>
                    <a:pt x="1367" y="0"/>
                  </a:lnTo>
                  <a:lnTo>
                    <a:pt x="1362" y="0"/>
                  </a:lnTo>
                  <a:lnTo>
                    <a:pt x="1356" y="0"/>
                  </a:lnTo>
                  <a:lnTo>
                    <a:pt x="1351" y="0"/>
                  </a:lnTo>
                  <a:lnTo>
                    <a:pt x="1351" y="0"/>
                  </a:lnTo>
                  <a:lnTo>
                    <a:pt x="1345" y="0"/>
                  </a:lnTo>
                  <a:lnTo>
                    <a:pt x="1340" y="0"/>
                  </a:lnTo>
                  <a:lnTo>
                    <a:pt x="1334" y="0"/>
                  </a:lnTo>
                  <a:lnTo>
                    <a:pt x="1329" y="0"/>
                  </a:lnTo>
                  <a:lnTo>
                    <a:pt x="1323" y="0"/>
                  </a:lnTo>
                  <a:lnTo>
                    <a:pt x="1318" y="0"/>
                  </a:lnTo>
                  <a:lnTo>
                    <a:pt x="1318" y="0"/>
                  </a:lnTo>
                  <a:lnTo>
                    <a:pt x="1312" y="0"/>
                  </a:lnTo>
                  <a:lnTo>
                    <a:pt x="1307" y="0"/>
                  </a:lnTo>
                  <a:lnTo>
                    <a:pt x="1302" y="0"/>
                  </a:lnTo>
                  <a:lnTo>
                    <a:pt x="1296" y="0"/>
                  </a:lnTo>
                  <a:lnTo>
                    <a:pt x="1291" y="0"/>
                  </a:lnTo>
                  <a:lnTo>
                    <a:pt x="1285" y="0"/>
                  </a:lnTo>
                  <a:lnTo>
                    <a:pt x="1280" y="0"/>
                  </a:lnTo>
                  <a:lnTo>
                    <a:pt x="1280" y="0"/>
                  </a:lnTo>
                  <a:lnTo>
                    <a:pt x="1274" y="0"/>
                  </a:lnTo>
                  <a:lnTo>
                    <a:pt x="1269" y="0"/>
                  </a:lnTo>
                  <a:lnTo>
                    <a:pt x="1263" y="0"/>
                  </a:lnTo>
                  <a:lnTo>
                    <a:pt x="1258" y="0"/>
                  </a:lnTo>
                  <a:lnTo>
                    <a:pt x="1252" y="0"/>
                  </a:lnTo>
                  <a:lnTo>
                    <a:pt x="1247" y="0"/>
                  </a:lnTo>
                  <a:lnTo>
                    <a:pt x="1247" y="0"/>
                  </a:lnTo>
                  <a:lnTo>
                    <a:pt x="1241" y="0"/>
                  </a:lnTo>
                  <a:lnTo>
                    <a:pt x="1236" y="0"/>
                  </a:lnTo>
                  <a:lnTo>
                    <a:pt x="1230" y="0"/>
                  </a:lnTo>
                  <a:lnTo>
                    <a:pt x="1225" y="0"/>
                  </a:lnTo>
                  <a:lnTo>
                    <a:pt x="1220" y="0"/>
                  </a:lnTo>
                  <a:lnTo>
                    <a:pt x="1214" y="0"/>
                  </a:lnTo>
                  <a:lnTo>
                    <a:pt x="1214" y="0"/>
                  </a:lnTo>
                  <a:lnTo>
                    <a:pt x="1209" y="0"/>
                  </a:lnTo>
                  <a:lnTo>
                    <a:pt x="1203" y="0"/>
                  </a:lnTo>
                  <a:lnTo>
                    <a:pt x="1198" y="0"/>
                  </a:lnTo>
                  <a:lnTo>
                    <a:pt x="1192" y="0"/>
                  </a:lnTo>
                  <a:lnTo>
                    <a:pt x="1187" y="0"/>
                  </a:lnTo>
                  <a:lnTo>
                    <a:pt x="1181" y="0"/>
                  </a:lnTo>
                  <a:lnTo>
                    <a:pt x="1176" y="0"/>
                  </a:lnTo>
                  <a:lnTo>
                    <a:pt x="1176" y="0"/>
                  </a:lnTo>
                  <a:lnTo>
                    <a:pt x="1170" y="0"/>
                  </a:lnTo>
                  <a:lnTo>
                    <a:pt x="1165" y="0"/>
                  </a:lnTo>
                  <a:lnTo>
                    <a:pt x="1159" y="0"/>
                  </a:lnTo>
                  <a:lnTo>
                    <a:pt x="1154" y="0"/>
                  </a:lnTo>
                  <a:lnTo>
                    <a:pt x="1148" y="0"/>
                  </a:lnTo>
                  <a:lnTo>
                    <a:pt x="1143" y="0"/>
                  </a:lnTo>
                  <a:lnTo>
                    <a:pt x="1143" y="0"/>
                  </a:lnTo>
                  <a:lnTo>
                    <a:pt x="1138" y="0"/>
                  </a:lnTo>
                  <a:lnTo>
                    <a:pt x="1132" y="0"/>
                  </a:lnTo>
                  <a:lnTo>
                    <a:pt x="1127" y="0"/>
                  </a:lnTo>
                  <a:lnTo>
                    <a:pt x="1121" y="0"/>
                  </a:lnTo>
                  <a:lnTo>
                    <a:pt x="1116" y="0"/>
                  </a:lnTo>
                  <a:lnTo>
                    <a:pt x="1110" y="0"/>
                  </a:lnTo>
                  <a:lnTo>
                    <a:pt x="1110" y="0"/>
                  </a:lnTo>
                  <a:lnTo>
                    <a:pt x="1105" y="0"/>
                  </a:lnTo>
                  <a:lnTo>
                    <a:pt x="1099" y="0"/>
                  </a:lnTo>
                  <a:lnTo>
                    <a:pt x="1094" y="0"/>
                  </a:lnTo>
                  <a:lnTo>
                    <a:pt x="1088" y="0"/>
                  </a:lnTo>
                  <a:lnTo>
                    <a:pt x="1083" y="0"/>
                  </a:lnTo>
                  <a:lnTo>
                    <a:pt x="1077" y="0"/>
                  </a:lnTo>
                  <a:lnTo>
                    <a:pt x="1072" y="0"/>
                  </a:lnTo>
                  <a:lnTo>
                    <a:pt x="1072" y="0"/>
                  </a:lnTo>
                  <a:lnTo>
                    <a:pt x="1066" y="0"/>
                  </a:lnTo>
                  <a:lnTo>
                    <a:pt x="1061" y="0"/>
                  </a:lnTo>
                  <a:lnTo>
                    <a:pt x="1055" y="0"/>
                  </a:lnTo>
                  <a:lnTo>
                    <a:pt x="1050" y="0"/>
                  </a:lnTo>
                  <a:lnTo>
                    <a:pt x="1045" y="0"/>
                  </a:lnTo>
                  <a:lnTo>
                    <a:pt x="1039" y="0"/>
                  </a:lnTo>
                  <a:lnTo>
                    <a:pt x="1039" y="0"/>
                  </a:lnTo>
                  <a:lnTo>
                    <a:pt x="1034" y="0"/>
                  </a:lnTo>
                  <a:lnTo>
                    <a:pt x="1028" y="0"/>
                  </a:lnTo>
                  <a:lnTo>
                    <a:pt x="1023" y="0"/>
                  </a:lnTo>
                  <a:lnTo>
                    <a:pt x="1017" y="0"/>
                  </a:lnTo>
                  <a:lnTo>
                    <a:pt x="1012" y="0"/>
                  </a:lnTo>
                  <a:lnTo>
                    <a:pt x="1006" y="0"/>
                  </a:lnTo>
                  <a:lnTo>
                    <a:pt x="1006" y="0"/>
                  </a:lnTo>
                  <a:lnTo>
                    <a:pt x="1001" y="0"/>
                  </a:lnTo>
                  <a:lnTo>
                    <a:pt x="995" y="0"/>
                  </a:lnTo>
                  <a:lnTo>
                    <a:pt x="990" y="0"/>
                  </a:lnTo>
                  <a:lnTo>
                    <a:pt x="984" y="0"/>
                  </a:lnTo>
                  <a:lnTo>
                    <a:pt x="979" y="0"/>
                  </a:lnTo>
                  <a:lnTo>
                    <a:pt x="973" y="0"/>
                  </a:lnTo>
                  <a:lnTo>
                    <a:pt x="968" y="0"/>
                  </a:lnTo>
                  <a:lnTo>
                    <a:pt x="968" y="0"/>
                  </a:lnTo>
                  <a:lnTo>
                    <a:pt x="963" y="0"/>
                  </a:lnTo>
                  <a:lnTo>
                    <a:pt x="957" y="0"/>
                  </a:lnTo>
                  <a:lnTo>
                    <a:pt x="952" y="0"/>
                  </a:lnTo>
                  <a:lnTo>
                    <a:pt x="946" y="0"/>
                  </a:lnTo>
                  <a:lnTo>
                    <a:pt x="941" y="0"/>
                  </a:lnTo>
                  <a:lnTo>
                    <a:pt x="935" y="0"/>
                  </a:lnTo>
                  <a:lnTo>
                    <a:pt x="935" y="0"/>
                  </a:lnTo>
                  <a:lnTo>
                    <a:pt x="930" y="0"/>
                  </a:lnTo>
                  <a:lnTo>
                    <a:pt x="924" y="0"/>
                  </a:lnTo>
                  <a:lnTo>
                    <a:pt x="919" y="0"/>
                  </a:lnTo>
                  <a:lnTo>
                    <a:pt x="913" y="0"/>
                  </a:lnTo>
                  <a:lnTo>
                    <a:pt x="908" y="0"/>
                  </a:lnTo>
                  <a:lnTo>
                    <a:pt x="902" y="0"/>
                  </a:lnTo>
                  <a:lnTo>
                    <a:pt x="902" y="0"/>
                  </a:lnTo>
                  <a:lnTo>
                    <a:pt x="897" y="0"/>
                  </a:lnTo>
                  <a:lnTo>
                    <a:pt x="891" y="0"/>
                  </a:lnTo>
                  <a:lnTo>
                    <a:pt x="886" y="0"/>
                  </a:lnTo>
                  <a:lnTo>
                    <a:pt x="880" y="0"/>
                  </a:lnTo>
                  <a:lnTo>
                    <a:pt x="875" y="0"/>
                  </a:lnTo>
                  <a:lnTo>
                    <a:pt x="870" y="0"/>
                  </a:lnTo>
                  <a:lnTo>
                    <a:pt x="864" y="0"/>
                  </a:lnTo>
                  <a:lnTo>
                    <a:pt x="864" y="0"/>
                  </a:lnTo>
                  <a:lnTo>
                    <a:pt x="859" y="0"/>
                  </a:lnTo>
                  <a:lnTo>
                    <a:pt x="853" y="0"/>
                  </a:lnTo>
                  <a:lnTo>
                    <a:pt x="848" y="0"/>
                  </a:lnTo>
                  <a:lnTo>
                    <a:pt x="842" y="0"/>
                  </a:lnTo>
                  <a:lnTo>
                    <a:pt x="837" y="0"/>
                  </a:lnTo>
                  <a:lnTo>
                    <a:pt x="831" y="0"/>
                  </a:lnTo>
                  <a:lnTo>
                    <a:pt x="831" y="0"/>
                  </a:lnTo>
                  <a:lnTo>
                    <a:pt x="826" y="0"/>
                  </a:lnTo>
                  <a:lnTo>
                    <a:pt x="820" y="0"/>
                  </a:lnTo>
                  <a:lnTo>
                    <a:pt x="815" y="0"/>
                  </a:lnTo>
                  <a:lnTo>
                    <a:pt x="809" y="0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798" y="0"/>
                  </a:lnTo>
                  <a:lnTo>
                    <a:pt x="793" y="0"/>
                  </a:lnTo>
                  <a:lnTo>
                    <a:pt x="788" y="0"/>
                  </a:lnTo>
                  <a:lnTo>
                    <a:pt x="782" y="0"/>
                  </a:lnTo>
                  <a:lnTo>
                    <a:pt x="777" y="0"/>
                  </a:lnTo>
                  <a:lnTo>
                    <a:pt x="771" y="0"/>
                  </a:lnTo>
                  <a:lnTo>
                    <a:pt x="766" y="0"/>
                  </a:lnTo>
                  <a:lnTo>
                    <a:pt x="760" y="0"/>
                  </a:lnTo>
                  <a:lnTo>
                    <a:pt x="760" y="0"/>
                  </a:lnTo>
                  <a:lnTo>
                    <a:pt x="755" y="0"/>
                  </a:lnTo>
                  <a:lnTo>
                    <a:pt x="749" y="0"/>
                  </a:lnTo>
                  <a:lnTo>
                    <a:pt x="744" y="0"/>
                  </a:lnTo>
                  <a:lnTo>
                    <a:pt x="738" y="0"/>
                  </a:lnTo>
                  <a:lnTo>
                    <a:pt x="733" y="0"/>
                  </a:lnTo>
                  <a:lnTo>
                    <a:pt x="727" y="0"/>
                  </a:lnTo>
                  <a:lnTo>
                    <a:pt x="727" y="0"/>
                  </a:lnTo>
                  <a:lnTo>
                    <a:pt x="722" y="0"/>
                  </a:lnTo>
                  <a:lnTo>
                    <a:pt x="716" y="0"/>
                  </a:lnTo>
                  <a:lnTo>
                    <a:pt x="711" y="0"/>
                  </a:lnTo>
                  <a:lnTo>
                    <a:pt x="706" y="0"/>
                  </a:lnTo>
                  <a:lnTo>
                    <a:pt x="700" y="0"/>
                  </a:lnTo>
                  <a:lnTo>
                    <a:pt x="695" y="0"/>
                  </a:lnTo>
                  <a:lnTo>
                    <a:pt x="695" y="0"/>
                  </a:lnTo>
                  <a:lnTo>
                    <a:pt x="689" y="0"/>
                  </a:lnTo>
                  <a:lnTo>
                    <a:pt x="684" y="0"/>
                  </a:lnTo>
                  <a:lnTo>
                    <a:pt x="678" y="0"/>
                  </a:lnTo>
                  <a:lnTo>
                    <a:pt x="673" y="0"/>
                  </a:lnTo>
                  <a:lnTo>
                    <a:pt x="667" y="0"/>
                  </a:lnTo>
                  <a:lnTo>
                    <a:pt x="662" y="0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0" y="0"/>
                  </a:lnTo>
                  <a:lnTo>
                    <a:pt x="634" y="0"/>
                  </a:lnTo>
                  <a:lnTo>
                    <a:pt x="629" y="0"/>
                  </a:lnTo>
                  <a:lnTo>
                    <a:pt x="623" y="0"/>
                  </a:lnTo>
                  <a:lnTo>
                    <a:pt x="623" y="0"/>
                  </a:lnTo>
                  <a:lnTo>
                    <a:pt x="618" y="0"/>
                  </a:lnTo>
                  <a:lnTo>
                    <a:pt x="613" y="0"/>
                  </a:lnTo>
                  <a:lnTo>
                    <a:pt x="607" y="0"/>
                  </a:lnTo>
                  <a:lnTo>
                    <a:pt x="602" y="0"/>
                  </a:lnTo>
                  <a:lnTo>
                    <a:pt x="596" y="0"/>
                  </a:lnTo>
                  <a:lnTo>
                    <a:pt x="591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0" y="0"/>
                  </a:lnTo>
                  <a:lnTo>
                    <a:pt x="574" y="0"/>
                  </a:lnTo>
                  <a:lnTo>
                    <a:pt x="569" y="0"/>
                  </a:lnTo>
                  <a:lnTo>
                    <a:pt x="563" y="0"/>
                  </a:lnTo>
                  <a:lnTo>
                    <a:pt x="558" y="0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47" y="0"/>
                  </a:lnTo>
                  <a:lnTo>
                    <a:pt x="541" y="0"/>
                  </a:lnTo>
                  <a:lnTo>
                    <a:pt x="536" y="0"/>
                  </a:lnTo>
                  <a:lnTo>
                    <a:pt x="531" y="0"/>
                  </a:lnTo>
                  <a:lnTo>
                    <a:pt x="525" y="0"/>
                  </a:lnTo>
                  <a:lnTo>
                    <a:pt x="520" y="0"/>
                  </a:lnTo>
                  <a:lnTo>
                    <a:pt x="520" y="0"/>
                  </a:lnTo>
                  <a:lnTo>
                    <a:pt x="514" y="0"/>
                  </a:lnTo>
                  <a:lnTo>
                    <a:pt x="509" y="0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1" y="0"/>
                  </a:lnTo>
                  <a:lnTo>
                    <a:pt x="476" y="0"/>
                  </a:lnTo>
                  <a:lnTo>
                    <a:pt x="470" y="0"/>
                  </a:lnTo>
                  <a:lnTo>
                    <a:pt x="465" y="0"/>
                  </a:lnTo>
                  <a:lnTo>
                    <a:pt x="459" y="0"/>
                  </a:lnTo>
                  <a:lnTo>
                    <a:pt x="454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3" y="0"/>
                  </a:lnTo>
                  <a:lnTo>
                    <a:pt x="438" y="0"/>
                  </a:lnTo>
                  <a:lnTo>
                    <a:pt x="432" y="0"/>
                  </a:lnTo>
                  <a:lnTo>
                    <a:pt x="427" y="0"/>
                  </a:lnTo>
                  <a:lnTo>
                    <a:pt x="421" y="0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88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7" y="0"/>
                  </a:lnTo>
                  <a:lnTo>
                    <a:pt x="372" y="0"/>
                  </a:lnTo>
                  <a:lnTo>
                    <a:pt x="366" y="0"/>
                  </a:lnTo>
                  <a:lnTo>
                    <a:pt x="361" y="0"/>
                  </a:lnTo>
                  <a:lnTo>
                    <a:pt x="356" y="0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39" y="0"/>
                  </a:lnTo>
                  <a:lnTo>
                    <a:pt x="334" y="0"/>
                  </a:lnTo>
                  <a:lnTo>
                    <a:pt x="328" y="0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90" y="0"/>
                  </a:lnTo>
                  <a:lnTo>
                    <a:pt x="284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3" y="0"/>
                  </a:lnTo>
                  <a:lnTo>
                    <a:pt x="257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35" y="0"/>
                  </a:lnTo>
                  <a:lnTo>
                    <a:pt x="230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1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64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40480" y="2708280"/>
              <a:ext cx="636480" cy="1641600"/>
            </a:xfrm>
            <a:custGeom>
              <a:avLst/>
              <a:gdLst/>
              <a:ahLst/>
              <a:rect l="l" t="t" r="r" b="b"/>
              <a:pathLst>
                <a:path w="312" h="696">
                  <a:moveTo>
                    <a:pt x="0" y="69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9" y="696"/>
                  </a:lnTo>
                  <a:lnTo>
                    <a:pt x="115" y="696"/>
                  </a:lnTo>
                  <a:lnTo>
                    <a:pt x="120" y="696"/>
                  </a:lnTo>
                  <a:lnTo>
                    <a:pt x="126" y="696"/>
                  </a:lnTo>
                  <a:lnTo>
                    <a:pt x="131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42" y="696"/>
                  </a:lnTo>
                  <a:lnTo>
                    <a:pt x="148" y="696"/>
                  </a:lnTo>
                  <a:lnTo>
                    <a:pt x="153" y="696"/>
                  </a:lnTo>
                  <a:lnTo>
                    <a:pt x="159" y="696"/>
                  </a:lnTo>
                  <a:lnTo>
                    <a:pt x="164" y="696"/>
                  </a:lnTo>
                  <a:lnTo>
                    <a:pt x="169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80" y="696"/>
                  </a:lnTo>
                  <a:lnTo>
                    <a:pt x="186" y="696"/>
                  </a:lnTo>
                  <a:lnTo>
                    <a:pt x="191" y="696"/>
                  </a:lnTo>
                  <a:lnTo>
                    <a:pt x="197" y="696"/>
                  </a:lnTo>
                  <a:lnTo>
                    <a:pt x="202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13" y="696"/>
                  </a:lnTo>
                  <a:lnTo>
                    <a:pt x="219" y="696"/>
                  </a:lnTo>
                  <a:lnTo>
                    <a:pt x="224" y="696"/>
                  </a:lnTo>
                  <a:lnTo>
                    <a:pt x="230" y="696"/>
                  </a:lnTo>
                  <a:lnTo>
                    <a:pt x="235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46" y="696"/>
                  </a:lnTo>
                  <a:lnTo>
                    <a:pt x="251" y="696"/>
                  </a:lnTo>
                  <a:lnTo>
                    <a:pt x="257" y="696"/>
                  </a:lnTo>
                  <a:lnTo>
                    <a:pt x="262" y="696"/>
                  </a:lnTo>
                  <a:lnTo>
                    <a:pt x="268" y="696"/>
                  </a:lnTo>
                  <a:lnTo>
                    <a:pt x="273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84" y="696"/>
                  </a:lnTo>
                  <a:lnTo>
                    <a:pt x="290" y="696"/>
                  </a:lnTo>
                  <a:lnTo>
                    <a:pt x="295" y="696"/>
                  </a:lnTo>
                  <a:lnTo>
                    <a:pt x="301" y="696"/>
                  </a:lnTo>
                  <a:lnTo>
                    <a:pt x="306" y="696"/>
                  </a:lnTo>
                  <a:lnTo>
                    <a:pt x="312" y="696"/>
                  </a:lnTo>
                  <a:lnTo>
                    <a:pt x="312" y="696"/>
                  </a:lnTo>
                  <a:lnTo>
                    <a:pt x="306" y="696"/>
                  </a:lnTo>
                  <a:lnTo>
                    <a:pt x="301" y="696"/>
                  </a:lnTo>
                  <a:lnTo>
                    <a:pt x="295" y="696"/>
                  </a:lnTo>
                  <a:lnTo>
                    <a:pt x="290" y="696"/>
                  </a:lnTo>
                  <a:lnTo>
                    <a:pt x="284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73" y="696"/>
                  </a:lnTo>
                  <a:lnTo>
                    <a:pt x="268" y="696"/>
                  </a:lnTo>
                  <a:lnTo>
                    <a:pt x="262" y="696"/>
                  </a:lnTo>
                  <a:lnTo>
                    <a:pt x="257" y="696"/>
                  </a:lnTo>
                  <a:lnTo>
                    <a:pt x="251" y="696"/>
                  </a:lnTo>
                  <a:lnTo>
                    <a:pt x="246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35" y="696"/>
                  </a:lnTo>
                  <a:lnTo>
                    <a:pt x="230" y="696"/>
                  </a:lnTo>
                  <a:lnTo>
                    <a:pt x="224" y="696"/>
                  </a:lnTo>
                  <a:lnTo>
                    <a:pt x="219" y="696"/>
                  </a:lnTo>
                  <a:lnTo>
                    <a:pt x="213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02" y="696"/>
                  </a:lnTo>
                  <a:lnTo>
                    <a:pt x="197" y="696"/>
                  </a:lnTo>
                  <a:lnTo>
                    <a:pt x="191" y="696"/>
                  </a:lnTo>
                  <a:lnTo>
                    <a:pt x="186" y="696"/>
                  </a:lnTo>
                  <a:lnTo>
                    <a:pt x="180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69" y="696"/>
                  </a:lnTo>
                  <a:lnTo>
                    <a:pt x="164" y="696"/>
                  </a:lnTo>
                  <a:lnTo>
                    <a:pt x="159" y="696"/>
                  </a:lnTo>
                  <a:lnTo>
                    <a:pt x="153" y="696"/>
                  </a:lnTo>
                  <a:lnTo>
                    <a:pt x="148" y="696"/>
                  </a:lnTo>
                  <a:lnTo>
                    <a:pt x="142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31" y="696"/>
                  </a:lnTo>
                  <a:lnTo>
                    <a:pt x="126" y="696"/>
                  </a:lnTo>
                  <a:lnTo>
                    <a:pt x="120" y="696"/>
                  </a:lnTo>
                  <a:lnTo>
                    <a:pt x="115" y="696"/>
                  </a:lnTo>
                  <a:lnTo>
                    <a:pt x="109" y="696"/>
                  </a:lnTo>
                  <a:lnTo>
                    <a:pt x="104" y="696"/>
                  </a:lnTo>
                  <a:lnTo>
                    <a:pt x="104" y="696"/>
                  </a:lnTo>
                  <a:lnTo>
                    <a:pt x="98" y="696"/>
                  </a:lnTo>
                  <a:lnTo>
                    <a:pt x="93" y="696"/>
                  </a:lnTo>
                  <a:lnTo>
                    <a:pt x="87" y="696"/>
                  </a:lnTo>
                  <a:lnTo>
                    <a:pt x="82" y="696"/>
                  </a:lnTo>
                  <a:lnTo>
                    <a:pt x="77" y="696"/>
                  </a:lnTo>
                  <a:lnTo>
                    <a:pt x="71" y="696"/>
                  </a:lnTo>
                  <a:lnTo>
                    <a:pt x="71" y="696"/>
                  </a:lnTo>
                  <a:lnTo>
                    <a:pt x="66" y="696"/>
                  </a:lnTo>
                  <a:lnTo>
                    <a:pt x="60" y="696"/>
                  </a:lnTo>
                  <a:lnTo>
                    <a:pt x="55" y="696"/>
                  </a:lnTo>
                  <a:lnTo>
                    <a:pt x="49" y="696"/>
                  </a:lnTo>
                  <a:lnTo>
                    <a:pt x="44" y="696"/>
                  </a:lnTo>
                  <a:lnTo>
                    <a:pt x="38" y="696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27" y="696"/>
                  </a:lnTo>
                  <a:lnTo>
                    <a:pt x="22" y="696"/>
                  </a:lnTo>
                  <a:lnTo>
                    <a:pt x="16" y="696"/>
                  </a:lnTo>
                  <a:lnTo>
                    <a:pt x="11" y="696"/>
                  </a:lnTo>
                  <a:lnTo>
                    <a:pt x="5" y="69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40480" y="2708280"/>
              <a:ext cx="636480" cy="1641600"/>
            </a:xfrm>
            <a:custGeom>
              <a:avLst/>
              <a:gdLst/>
              <a:ahLst/>
              <a:rect l="l" t="t" r="r" b="b"/>
              <a:pathLst>
                <a:path w="312" h="69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9" y="696"/>
                  </a:lnTo>
                  <a:lnTo>
                    <a:pt x="115" y="696"/>
                  </a:lnTo>
                  <a:lnTo>
                    <a:pt x="120" y="696"/>
                  </a:lnTo>
                  <a:lnTo>
                    <a:pt x="126" y="696"/>
                  </a:lnTo>
                  <a:lnTo>
                    <a:pt x="131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42" y="696"/>
                  </a:lnTo>
                  <a:lnTo>
                    <a:pt x="148" y="696"/>
                  </a:lnTo>
                  <a:lnTo>
                    <a:pt x="153" y="696"/>
                  </a:lnTo>
                  <a:lnTo>
                    <a:pt x="159" y="696"/>
                  </a:lnTo>
                  <a:lnTo>
                    <a:pt x="164" y="696"/>
                  </a:lnTo>
                  <a:lnTo>
                    <a:pt x="169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80" y="696"/>
                  </a:lnTo>
                  <a:lnTo>
                    <a:pt x="186" y="696"/>
                  </a:lnTo>
                  <a:lnTo>
                    <a:pt x="191" y="696"/>
                  </a:lnTo>
                  <a:lnTo>
                    <a:pt x="197" y="696"/>
                  </a:lnTo>
                  <a:lnTo>
                    <a:pt x="202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13" y="696"/>
                  </a:lnTo>
                  <a:lnTo>
                    <a:pt x="219" y="696"/>
                  </a:lnTo>
                  <a:lnTo>
                    <a:pt x="224" y="696"/>
                  </a:lnTo>
                  <a:lnTo>
                    <a:pt x="230" y="696"/>
                  </a:lnTo>
                  <a:lnTo>
                    <a:pt x="235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46" y="696"/>
                  </a:lnTo>
                  <a:lnTo>
                    <a:pt x="251" y="696"/>
                  </a:lnTo>
                  <a:lnTo>
                    <a:pt x="257" y="696"/>
                  </a:lnTo>
                  <a:lnTo>
                    <a:pt x="262" y="696"/>
                  </a:lnTo>
                  <a:lnTo>
                    <a:pt x="268" y="696"/>
                  </a:lnTo>
                  <a:lnTo>
                    <a:pt x="273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84" y="696"/>
                  </a:lnTo>
                  <a:lnTo>
                    <a:pt x="290" y="696"/>
                  </a:lnTo>
                  <a:lnTo>
                    <a:pt x="295" y="696"/>
                  </a:lnTo>
                  <a:lnTo>
                    <a:pt x="301" y="696"/>
                  </a:lnTo>
                  <a:lnTo>
                    <a:pt x="306" y="696"/>
                  </a:lnTo>
                  <a:lnTo>
                    <a:pt x="312" y="696"/>
                  </a:lnTo>
                  <a:lnTo>
                    <a:pt x="312" y="696"/>
                  </a:lnTo>
                  <a:lnTo>
                    <a:pt x="306" y="696"/>
                  </a:lnTo>
                  <a:lnTo>
                    <a:pt x="301" y="696"/>
                  </a:lnTo>
                  <a:lnTo>
                    <a:pt x="295" y="696"/>
                  </a:lnTo>
                  <a:lnTo>
                    <a:pt x="290" y="696"/>
                  </a:lnTo>
                  <a:lnTo>
                    <a:pt x="284" y="696"/>
                  </a:lnTo>
                  <a:lnTo>
                    <a:pt x="279" y="696"/>
                  </a:lnTo>
                  <a:lnTo>
                    <a:pt x="279" y="696"/>
                  </a:lnTo>
                  <a:lnTo>
                    <a:pt x="273" y="696"/>
                  </a:lnTo>
                  <a:lnTo>
                    <a:pt x="268" y="696"/>
                  </a:lnTo>
                  <a:lnTo>
                    <a:pt x="262" y="696"/>
                  </a:lnTo>
                  <a:lnTo>
                    <a:pt x="257" y="696"/>
                  </a:lnTo>
                  <a:lnTo>
                    <a:pt x="251" y="696"/>
                  </a:lnTo>
                  <a:lnTo>
                    <a:pt x="246" y="696"/>
                  </a:lnTo>
                  <a:lnTo>
                    <a:pt x="241" y="696"/>
                  </a:lnTo>
                  <a:lnTo>
                    <a:pt x="241" y="696"/>
                  </a:lnTo>
                  <a:lnTo>
                    <a:pt x="235" y="696"/>
                  </a:lnTo>
                  <a:lnTo>
                    <a:pt x="230" y="696"/>
                  </a:lnTo>
                  <a:lnTo>
                    <a:pt x="224" y="696"/>
                  </a:lnTo>
                  <a:lnTo>
                    <a:pt x="219" y="696"/>
                  </a:lnTo>
                  <a:lnTo>
                    <a:pt x="213" y="696"/>
                  </a:lnTo>
                  <a:lnTo>
                    <a:pt x="208" y="696"/>
                  </a:lnTo>
                  <a:lnTo>
                    <a:pt x="208" y="696"/>
                  </a:lnTo>
                  <a:lnTo>
                    <a:pt x="202" y="696"/>
                  </a:lnTo>
                  <a:lnTo>
                    <a:pt x="197" y="696"/>
                  </a:lnTo>
                  <a:lnTo>
                    <a:pt x="191" y="696"/>
                  </a:lnTo>
                  <a:lnTo>
                    <a:pt x="186" y="696"/>
                  </a:lnTo>
                  <a:lnTo>
                    <a:pt x="180" y="696"/>
                  </a:lnTo>
                  <a:lnTo>
                    <a:pt x="175" y="696"/>
                  </a:lnTo>
                  <a:lnTo>
                    <a:pt x="175" y="696"/>
                  </a:lnTo>
                  <a:lnTo>
                    <a:pt x="169" y="696"/>
                  </a:lnTo>
                  <a:lnTo>
                    <a:pt x="164" y="696"/>
                  </a:lnTo>
                  <a:lnTo>
                    <a:pt x="159" y="696"/>
                  </a:lnTo>
                  <a:lnTo>
                    <a:pt x="153" y="696"/>
                  </a:lnTo>
                  <a:lnTo>
                    <a:pt x="148" y="696"/>
                  </a:lnTo>
                  <a:lnTo>
                    <a:pt x="142" y="696"/>
                  </a:lnTo>
                  <a:lnTo>
                    <a:pt x="137" y="696"/>
                  </a:lnTo>
                  <a:lnTo>
                    <a:pt x="137" y="696"/>
                  </a:lnTo>
                  <a:lnTo>
                    <a:pt x="131" y="696"/>
                  </a:lnTo>
                  <a:lnTo>
                    <a:pt x="126" y="696"/>
                  </a:lnTo>
                  <a:lnTo>
                    <a:pt x="120" y="696"/>
                  </a:lnTo>
                  <a:lnTo>
                    <a:pt x="115" y="696"/>
                  </a:lnTo>
                  <a:lnTo>
                    <a:pt x="109" y="696"/>
                  </a:lnTo>
                  <a:lnTo>
                    <a:pt x="104" y="696"/>
                  </a:lnTo>
                  <a:lnTo>
                    <a:pt x="104" y="696"/>
                  </a:lnTo>
                  <a:lnTo>
                    <a:pt x="98" y="696"/>
                  </a:lnTo>
                  <a:lnTo>
                    <a:pt x="93" y="696"/>
                  </a:lnTo>
                  <a:lnTo>
                    <a:pt x="87" y="696"/>
                  </a:lnTo>
                  <a:lnTo>
                    <a:pt x="82" y="696"/>
                  </a:lnTo>
                  <a:lnTo>
                    <a:pt x="77" y="696"/>
                  </a:lnTo>
                  <a:lnTo>
                    <a:pt x="71" y="696"/>
                  </a:lnTo>
                  <a:lnTo>
                    <a:pt x="71" y="696"/>
                  </a:lnTo>
                  <a:lnTo>
                    <a:pt x="66" y="696"/>
                  </a:lnTo>
                  <a:lnTo>
                    <a:pt x="60" y="696"/>
                  </a:lnTo>
                  <a:lnTo>
                    <a:pt x="55" y="696"/>
                  </a:lnTo>
                  <a:lnTo>
                    <a:pt x="49" y="696"/>
                  </a:lnTo>
                  <a:lnTo>
                    <a:pt x="44" y="696"/>
                  </a:lnTo>
                  <a:lnTo>
                    <a:pt x="38" y="696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27" y="696"/>
                  </a:lnTo>
                  <a:lnTo>
                    <a:pt x="22" y="696"/>
                  </a:lnTo>
                  <a:lnTo>
                    <a:pt x="16" y="696"/>
                  </a:lnTo>
                  <a:lnTo>
                    <a:pt x="11" y="696"/>
                  </a:lnTo>
                  <a:lnTo>
                    <a:pt x="5" y="696"/>
                  </a:lnTo>
                  <a:lnTo>
                    <a:pt x="0" y="696"/>
                  </a:lnTo>
                </a:path>
              </a:pathLst>
            </a:custGeom>
            <a:noFill/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3280" y="2433600"/>
              <a:ext cx="1440" cy="191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74720" y="4349880"/>
              <a:ext cx="9072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74720" y="4037040"/>
              <a:ext cx="90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74720" y="3711600"/>
              <a:ext cx="90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74720" y="3397320"/>
              <a:ext cx="90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4720" y="3071880"/>
              <a:ext cx="90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4720" y="2760840"/>
              <a:ext cx="90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74720" y="2433600"/>
              <a:ext cx="907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20800" y="4349880"/>
              <a:ext cx="5456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32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844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560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5248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6544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48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8740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8740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9712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97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08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0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432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5580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6516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516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7812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8748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008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098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2240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2120" y="3824280"/>
              <a:ext cx="2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321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4328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5588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6524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7820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756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0016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016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988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224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336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48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96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667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7792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792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9088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002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14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225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44880" y="3824280"/>
              <a:ext cx="2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4488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568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6864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780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060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032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1292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1292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2264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352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64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5756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83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795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9068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9068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004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130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241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353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648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57280" y="3824280"/>
              <a:ext cx="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572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844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40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9076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0336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1308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25680" y="382428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568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54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80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5916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6852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8112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084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0344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0344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1316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2576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3512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808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588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70040" y="3824280"/>
              <a:ext cx="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00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812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0352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1612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258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37000" y="382428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3700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478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589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701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8128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9388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0360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16200" y="382428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620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2556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3852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4788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084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716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82800" y="3824280"/>
              <a:ext cx="3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828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9396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0656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628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2564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8600" y="3824280"/>
              <a:ext cx="10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49400" y="3824280"/>
              <a:ext cx="1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4940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6056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7172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288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9404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0664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1636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28960" y="382428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2896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38320" y="3824280"/>
              <a:ext cx="129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51280" y="3824280"/>
              <a:ext cx="9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60640" y="3824280"/>
              <a:ext cx="12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73240" y="3824280"/>
              <a:ext cx="111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84400" y="3824280"/>
              <a:ext cx="9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994120" y="2558520"/>
              <a:ext cx="1440" cy="1265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9412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0672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16080" y="2558880"/>
              <a:ext cx="12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2904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3840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5100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62160" y="2558880"/>
              <a:ext cx="18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216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7332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448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9564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680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19400" y="2558880"/>
              <a:ext cx="9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912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41720" y="2558880"/>
              <a:ext cx="14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41720" y="2558880"/>
              <a:ext cx="936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1080" y="2597040"/>
              <a:ext cx="12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64040" y="259704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73400" y="259704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184560" y="2558880"/>
              <a:ext cx="12600" cy="38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2558880"/>
              <a:ext cx="9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06880" y="2558880"/>
              <a:ext cx="14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0688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1948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28840" y="2558880"/>
              <a:ext cx="12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180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5116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63760" y="2558880"/>
              <a:ext cx="9720" cy="2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3480" y="2583000"/>
              <a:ext cx="32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73480" y="2583000"/>
              <a:ext cx="126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86080" y="2583000"/>
              <a:ext cx="111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297240" y="2558520"/>
              <a:ext cx="11160" cy="2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0840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1956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3216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41520" y="2558880"/>
              <a:ext cx="9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51240" y="2558880"/>
              <a:ext cx="32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124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63840" y="2558880"/>
              <a:ext cx="111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75000" y="2558880"/>
              <a:ext cx="11160" cy="2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86160" y="2583000"/>
              <a:ext cx="111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7320" y="2583000"/>
              <a:ext cx="126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09920" y="2583000"/>
              <a:ext cx="97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419640" y="2558520"/>
              <a:ext cx="1440" cy="2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1964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3224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41600" y="2558880"/>
              <a:ext cx="129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54560" y="2558880"/>
              <a:ext cx="9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3920" y="2558880"/>
              <a:ext cx="12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76520" y="2558880"/>
              <a:ext cx="9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86240" y="2558880"/>
              <a:ext cx="32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486240" y="2558880"/>
              <a:ext cx="1934640" cy="490320"/>
              <a:chOff x="3486240" y="2558880"/>
              <a:chExt cx="1934640" cy="490320"/>
            </a:xfrm>
          </p:grpSpPr>
          <p:sp>
            <p:nvSpPr>
              <p:cNvPr id="496" name=""/>
              <p:cNvSpPr/>
              <p:nvPr/>
            </p:nvSpPr>
            <p:spPr>
              <a:xfrm>
                <a:off x="348624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984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0892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190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316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416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55392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564000" y="25588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640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766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866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59892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090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216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31680" y="25588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316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4392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540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666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766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885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99000" y="255888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990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0908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7216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3176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440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5408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666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76760" y="25588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7676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890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9908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116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82176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3400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44080" y="255888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4408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566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667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7720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890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9916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11760" y="25588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117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2184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340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4416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567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96684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790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89160" y="255888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8916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017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1184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2408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3416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467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56840" y="25588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5684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672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791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896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10184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122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24160" y="255888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241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13460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4684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57280" y="25588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69160" y="25588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79240" y="25588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191840" y="2558880"/>
                <a:ext cx="10080" cy="3114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20228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0228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2141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242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3468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4728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5736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924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92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7968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9228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0236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142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2468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3692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369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4736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592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968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819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3923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024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1504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415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251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373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474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60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701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8236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823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924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05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151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273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374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50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6012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01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7236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824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925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051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1520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62744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274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375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501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6020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724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825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9512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6951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0520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174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275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7401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502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6064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7252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725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296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952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0564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8175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2760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4020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8402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5064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625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7260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8852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9564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0752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9075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91760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9302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9406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507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626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730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985640" y="287028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856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9957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076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0180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028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407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5260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526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6304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07528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8572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9760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108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118120" y="287028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181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307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14080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5304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63120" y="287028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75720" y="287028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185800" y="287028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98040" y="2870280"/>
                <a:ext cx="2160" cy="176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19804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208120" y="30466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22072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30800" y="30466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4304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53120" y="30466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65720" y="30466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572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7580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85880" y="30466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29848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08560" y="30466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2080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30880" y="30466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330880" y="30466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34348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53560" y="30466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6580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75880" y="304668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8848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98560" y="304668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410800" y="304668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410800" y="304668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1720800" y="3048120"/>
              <a:ext cx="5455800" cy="776880"/>
              <a:chOff x="1720800" y="3048120"/>
              <a:chExt cx="5455800" cy="776880"/>
            </a:xfrm>
          </p:grpSpPr>
          <p:sp>
            <p:nvSpPr>
              <p:cNvPr id="697" name=""/>
              <p:cNvSpPr/>
              <p:nvPr/>
            </p:nvSpPr>
            <p:spPr>
              <a:xfrm>
                <a:off x="542088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331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56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554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655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75960" y="304812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7596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885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49864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5105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2096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5332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4364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4364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555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596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5782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58864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6005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61096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62320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6232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6336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4372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6556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6604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6786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8872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8872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7006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1104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232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73372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7456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56040" y="304812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75604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7682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77872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9060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0068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132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2372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3380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3380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456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5612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3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7880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906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901120" y="304812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90112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133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92380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9356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4576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9583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6880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96880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8068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9907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0120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134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2388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357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046200" y="3048120"/>
                <a:ext cx="2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04620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0584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06888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807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9120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0344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113880" y="3048120"/>
                <a:ext cx="180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113880" y="3048120"/>
                <a:ext cx="118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125760" y="3048120"/>
                <a:ext cx="1008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135840" y="3048120"/>
                <a:ext cx="1224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148440" y="3048120"/>
                <a:ext cx="10080" cy="261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1588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16896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18156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1815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19164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20352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21396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2265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23664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24852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25896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5896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2712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28164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352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30396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162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32664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664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3852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3486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5904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7164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38172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93600" y="330984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3936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0404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4162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2672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386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4904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612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47172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47172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836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9368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5062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1672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2680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38680" y="330984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386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4912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613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7180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836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9412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60636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6063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61680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6286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63912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513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6180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7368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83760" y="330984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8376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963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0680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71688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7287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3920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51440" y="330984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75144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6188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737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8420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9644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0688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818760" y="330984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876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28840" y="330984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41440" y="330984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51880" y="330984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863760" y="3309840"/>
                <a:ext cx="10080" cy="513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38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8428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896520" y="382320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9652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90696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188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2928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4152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5196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963840" y="3823200"/>
                <a:ext cx="21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9638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7428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652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9696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088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1892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31520" y="382320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3152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4196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5204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646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7472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8660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9704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09640" y="3823200"/>
                <a:ext cx="18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10964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1972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3160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42040" y="3823200"/>
                <a:ext cx="122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54280" y="3823200"/>
                <a:ext cx="100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64720" y="3823200"/>
                <a:ext cx="11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7208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7330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743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753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766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776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8812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881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98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11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21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8331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43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8558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86624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866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781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88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9008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1909800" y="2558520"/>
              <a:ext cx="1934640" cy="1266480"/>
              <a:chOff x="1909800" y="2558520"/>
              <a:chExt cx="1934640" cy="1266480"/>
            </a:xfrm>
          </p:grpSpPr>
          <p:sp>
            <p:nvSpPr>
              <p:cNvPr id="898" name=""/>
              <p:cNvSpPr/>
              <p:nvPr/>
            </p:nvSpPr>
            <p:spPr>
              <a:xfrm>
                <a:off x="190980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16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3176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317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22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544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648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767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872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9944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994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0098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217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0322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0444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0548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667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07720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0772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0894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0998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09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1222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32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14488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1448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154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1672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177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1898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199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21220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2122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222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348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244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572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267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2798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996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2899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3000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122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23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349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3450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35728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572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3673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3799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3900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4022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4123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2496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4249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4350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4472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4573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678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4800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4904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0236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23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5128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5250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354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473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578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57004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700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804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5923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0280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6150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625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63556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635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648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658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670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80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93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703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71548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15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25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38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48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60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7056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8316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831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9324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054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155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256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8382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84868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486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605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8706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832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8936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9055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9156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92824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9282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93868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9505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9606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9732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9836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99376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2993760" y="2558880"/>
                <a:ext cx="11880" cy="12643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0056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160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0286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387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506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06108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610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73680" y="2558880"/>
                <a:ext cx="10080" cy="1746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83760" y="2733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95640" y="2733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106080" y="2733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3118680" y="2558520"/>
                <a:ext cx="10080" cy="1746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287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4064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406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1510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1636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1737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838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960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20616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2061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2187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2288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2410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2511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2637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273840" y="2558880"/>
                <a:ext cx="1800" cy="1224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273840" y="257112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286080" y="257112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96160" y="257112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308760" y="2558880"/>
                <a:ext cx="10080" cy="1224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3188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310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3411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35124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512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638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7428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861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962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4088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419280" y="25588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41928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4311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4412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4538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46428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4761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48624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862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88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5092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5193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5319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5420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5542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564360" y="25588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5643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769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870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5992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093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6219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632040" y="25588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6320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6442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6543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6669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6770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6892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69936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6993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094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220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3212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443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544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670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77120" y="25588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7712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893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9944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8120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82212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8343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3844800" y="2558520"/>
              <a:ext cx="1923480" cy="490680"/>
              <a:chOff x="3844800" y="2558520"/>
              <a:chExt cx="1923480" cy="490680"/>
            </a:xfrm>
          </p:grpSpPr>
          <p:sp>
            <p:nvSpPr>
              <p:cNvPr id="1099" name=""/>
              <p:cNvSpPr/>
              <p:nvPr/>
            </p:nvSpPr>
            <p:spPr>
              <a:xfrm>
                <a:off x="384480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4480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570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674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775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8894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998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12480" y="25588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1248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9225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344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9448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5712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675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9794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98988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9898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00212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1256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02444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03488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7120" y="2558880"/>
                <a:ext cx="10080" cy="8748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057560" y="264636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057560" y="264636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067640" y="264636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079520" y="2558520"/>
                <a:ext cx="10080" cy="8748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0899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0256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12640" y="25588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24520" y="25588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2452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134960" y="25588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147200" y="25588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57640" y="2558880"/>
                <a:ext cx="11880" cy="8748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169520" y="264636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79960" y="264636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192200" y="264636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202640" y="2646360"/>
                <a:ext cx="1800" cy="22356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20264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2145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2249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35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247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257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26960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2696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280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292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302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3146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325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3764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337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347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3596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70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3822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392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0280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41540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154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42548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437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44780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4604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47048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48272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482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49280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5054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51548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527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53780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5504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56048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6048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5723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828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59288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6054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556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2780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6278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63788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504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66056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728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8288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9548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6954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0556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1780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2788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404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505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6064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7288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7728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78296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955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0564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8178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82796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056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05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5064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628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7296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855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9564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90788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90788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91796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9305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940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50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629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73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985640" y="28702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985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995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0079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018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30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40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05296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529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6304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756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08572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09796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1080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11812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11812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130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14080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1530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312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75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185800" y="28702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198040" y="28702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9804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208120" y="28702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20720" y="28702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230800" y="2870280"/>
                <a:ext cx="11880" cy="17604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4304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5312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65720" y="30466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6572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7580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28624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2984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30892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32080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330880" y="30466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33088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3434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5392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36580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37588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3884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9856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410800" y="30466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41080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42088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334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44356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45580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4658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476320" y="30466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47632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4885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49900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5108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52096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5335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544000" y="30466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54400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558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56596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5785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58900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0088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1096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623560" y="304668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6235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63364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64408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559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66640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67864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5689080" y="3032640"/>
                <a:ext cx="1800" cy="1368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89080" y="303264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00960" y="303264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711400" y="3032640"/>
                <a:ext cx="12240" cy="1368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2364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34080" y="304668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45960" y="304668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56040" y="304668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56040" y="304668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1720800" y="2533320"/>
              <a:ext cx="5455800" cy="1291680"/>
              <a:chOff x="1720800" y="2533320"/>
              <a:chExt cx="5455800" cy="1291680"/>
            </a:xfrm>
          </p:grpSpPr>
          <p:sp>
            <p:nvSpPr>
              <p:cNvPr id="1300" name=""/>
              <p:cNvSpPr/>
              <p:nvPr/>
            </p:nvSpPr>
            <p:spPr>
              <a:xfrm>
                <a:off x="57682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7872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79060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0068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132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2372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833800" y="304740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3380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456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5612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683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7880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906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01120" y="304740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90112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9133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92380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9356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4576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9583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968800" y="304740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6880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9806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9907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0120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02388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0357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046200" y="3047400"/>
                <a:ext cx="216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04620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05844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06888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0807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9120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0344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880" y="3047400"/>
                <a:ext cx="180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13880" y="3047400"/>
                <a:ext cx="118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2576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584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4844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158880" y="3047400"/>
                <a:ext cx="1008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168960" y="3047400"/>
                <a:ext cx="12240" cy="25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6181560" y="2533320"/>
                <a:ext cx="1800" cy="5137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81560" y="25336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191640" y="25336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03520" y="25336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213960" y="25336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26560" y="25336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236640" y="25336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248520" y="25336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258960" y="25336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258960" y="25336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271200" y="25336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281640" y="2533680"/>
                <a:ext cx="11880" cy="775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9352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30396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3162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326640" y="33094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2664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33852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3486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35904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37164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38172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393600" y="33094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3936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40404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162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2672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4386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44904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4612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471720" y="33094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47172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4836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9368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5062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51672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2680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38680" y="33094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5386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54912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5613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57180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5836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9412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606360" y="33094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6063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680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286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63912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6513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66180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67368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83760" y="33094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8376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6963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0680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71688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7287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3920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751440" y="330948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75144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76188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7737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78420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79644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80688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18760" y="330948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7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28840" y="330948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4144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51880" y="330948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863760" y="330948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873840" y="3309480"/>
                <a:ext cx="10080" cy="51372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884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89652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8965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06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188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29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415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51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63840" y="3823200"/>
                <a:ext cx="216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9638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7428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9865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99696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088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1892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3152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3152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4196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520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646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7472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866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970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109640" y="3823200"/>
                <a:ext cx="180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10964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11972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13160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142040" y="3823200"/>
                <a:ext cx="1224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154280" y="3823200"/>
                <a:ext cx="100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164720" y="3823200"/>
                <a:ext cx="11880" cy="1800"/>
              </a:xfrm>
              <a:prstGeom prst="line">
                <a:avLst/>
              </a:prstGeom>
              <a:ln w="79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7208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7330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743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75356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61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77624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7881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7881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79856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8111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82124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8331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84356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558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86624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86624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8781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88856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008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1124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9231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3356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335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436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562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663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782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886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00124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0012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0113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0232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0336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0458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0563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0682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07864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0786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908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101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11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232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133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1463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146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156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1682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78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1909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201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21328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2132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223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2359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246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2257560" y="3809520"/>
              <a:ext cx="1934280" cy="15480"/>
              <a:chOff x="2257560" y="3809520"/>
              <a:chExt cx="1934280" cy="15480"/>
            </a:xfrm>
          </p:grpSpPr>
          <p:sp>
            <p:nvSpPr>
              <p:cNvPr id="1501" name=""/>
              <p:cNvSpPr/>
              <p:nvPr/>
            </p:nvSpPr>
            <p:spPr>
              <a:xfrm>
                <a:off x="22575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2676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2802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2903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290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300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312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22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335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345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35764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357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367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380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390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02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127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4253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4253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4354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447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4577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4678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4804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49084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50272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5027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5128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5254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53548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5477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5578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57040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5704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58048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5927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6028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6154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625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6359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6359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6485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6586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670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809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6931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7036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71548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15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7259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381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486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760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7709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78316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7831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79360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8054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159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260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38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4868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84868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609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710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883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9368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9059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9160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92860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928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93868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9505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96100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73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9836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99376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99376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3006000" y="3809520"/>
                <a:ext cx="10080" cy="133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01608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0286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3876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0510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06108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06108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0736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8376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960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10608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1186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12876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14100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1410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5108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1636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1737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1838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1960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20616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2061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2187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2288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2410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2511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637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7384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2738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2860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2961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3087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3188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3310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3411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35160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35160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3638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7428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3861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39660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088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1928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1928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311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412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538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46428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4761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48624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4862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4988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5092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5193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5319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5420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55428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56436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5643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5769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5870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5989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093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219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3204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320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439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543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669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6770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889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9936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6993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094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0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3212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443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544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670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7712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7712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893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994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8120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82212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83436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84444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84444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8570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8671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87720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8894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9952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91212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9121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92220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344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94452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9571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96720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9794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98952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98952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0021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01220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02444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03452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0471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4057200" y="380988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0572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0676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0795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08996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1022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1126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124520" y="380988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1245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13460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14720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157640" y="380988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169520" y="380988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179600" y="380988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4192560" y="3809880"/>
              <a:ext cx="1923840" cy="2880"/>
              <a:chOff x="4192560" y="3809880"/>
              <a:chExt cx="1923840" cy="2880"/>
            </a:xfrm>
          </p:grpSpPr>
          <p:sp>
            <p:nvSpPr>
              <p:cNvPr id="1702" name=""/>
              <p:cNvSpPr/>
              <p:nvPr/>
            </p:nvSpPr>
            <p:spPr>
              <a:xfrm>
                <a:off x="4192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20264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20264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2145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224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2350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2476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2577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26996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269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2800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926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3027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314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3250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33764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3376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3477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359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3700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3826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3927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4028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41540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415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4254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377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4478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460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704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8272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827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44928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505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5154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5277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5378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550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56048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604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5727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5828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928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054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615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2780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278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378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504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660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6728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828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9548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6954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705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178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7278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7404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0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7610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77288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7728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783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795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060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178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828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84056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40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10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628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873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885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8960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90788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9078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918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9305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941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9510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962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9734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98600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986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9960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07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0184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31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0410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05296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052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06340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076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08608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0979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108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11848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1184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1310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1411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153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1634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1760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1861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19840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98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084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210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2311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243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2534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26608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26608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2761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2862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298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308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3211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33124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3312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343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353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3661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3762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388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398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41116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4111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4212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433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4439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45616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4662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47668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47668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4889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4993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5112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521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5339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54436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5443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5562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566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5789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58936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6012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6113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62392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39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634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64444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6563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66676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679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68944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68944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7013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71176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724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3444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7463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75676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75676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769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77944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7913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0176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8140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8244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83452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8345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846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8568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8694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8795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891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90184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9018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9144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9245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936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94684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9594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96952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96952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98140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991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0019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145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0246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036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046920" y="3809880"/>
                <a:ext cx="216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0469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0595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069600" y="3809880"/>
                <a:ext cx="118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08184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091920" y="3809880"/>
                <a:ext cx="1224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104520" y="3809880"/>
                <a:ext cx="1008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114600" y="3809880"/>
                <a:ext cx="1800" cy="28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1720800" y="3297240"/>
              <a:ext cx="5455800" cy="527760"/>
              <a:chOff x="1720800" y="3297240"/>
              <a:chExt cx="5455800" cy="527760"/>
            </a:xfrm>
          </p:grpSpPr>
          <p:sp>
            <p:nvSpPr>
              <p:cNvPr id="1903" name=""/>
              <p:cNvSpPr/>
              <p:nvPr/>
            </p:nvSpPr>
            <p:spPr>
              <a:xfrm>
                <a:off x="611388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1257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13584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1484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1588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16896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181560" y="380916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6181560" y="3297240"/>
                <a:ext cx="10080" cy="51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91640" y="329724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203520" y="329724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213960" y="329724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226560" y="329724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36640" y="329724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248520" y="329724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258960" y="3297240"/>
                <a:ext cx="1800" cy="51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25896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2712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28164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29352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30396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3162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326640" y="380916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32664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33852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3486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5904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3716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38172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393600" y="380916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3936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0404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4162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42672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386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44904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4612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71720" y="380916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47172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4836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49368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5062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51672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52680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538680" y="380916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5386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54912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5613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57180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5836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59412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606360" y="380916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6063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61680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6286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63912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6513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66180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67368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683760" y="380916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68376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6963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70680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1688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7287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73920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751440" y="380916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7514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76188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7737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78420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7964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80688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818760" y="380916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8187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828840" y="380916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8414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851880" y="380916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86376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873840" y="380916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884280" y="3809160"/>
                <a:ext cx="12240" cy="13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8965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8965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90696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9188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92928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69415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695196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963840" y="3823200"/>
                <a:ext cx="2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9638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97428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9865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99696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0088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01892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03152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03152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4196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520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64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0747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086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0970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109640" y="3823200"/>
                <a:ext cx="1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10964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1197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13160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142040" y="3823200"/>
                <a:ext cx="1224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154280" y="3823200"/>
                <a:ext cx="100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164720" y="3823200"/>
                <a:ext cx="1188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2080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330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434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5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661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762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8812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88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985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8111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8212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833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8435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8558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86624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8662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878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8885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9008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9112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923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933560" y="38232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9335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94364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62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96632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978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98864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00124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0012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01132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023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03364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045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05632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068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078640" y="38232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07864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090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013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11140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123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13372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4632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1463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5640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168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7872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190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20140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213280" y="38232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213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22372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235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24640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258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26872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280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29140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2914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30148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3133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32380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3364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34648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358360" y="38232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3583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36880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3810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39148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4033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41380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42604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4260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43648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4483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4584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4688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4814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4915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03440" y="38232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034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138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26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365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84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588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7112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7112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815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934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3" name=""/>
            <p:cNvGrpSpPr/>
            <p:nvPr/>
          </p:nvGrpSpPr>
          <p:grpSpPr>
            <a:xfrm>
              <a:off x="2603520" y="3785760"/>
              <a:ext cx="1934640" cy="39240"/>
              <a:chOff x="2603520" y="3785760"/>
              <a:chExt cx="1934640" cy="39240"/>
            </a:xfrm>
          </p:grpSpPr>
          <p:sp>
            <p:nvSpPr>
              <p:cNvPr id="2104" name=""/>
              <p:cNvSpPr/>
              <p:nvPr/>
            </p:nvSpPr>
            <p:spPr>
              <a:xfrm>
                <a:off x="260352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6157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26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63628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6362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648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589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671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812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93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7039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71620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716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7262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738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489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76120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77128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78388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838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396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058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16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263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838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84904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490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61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713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883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8940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906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163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2896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928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3904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95128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961360" y="38232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9739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98404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994480" y="38232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994480" y="38232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006360" y="38232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3016440" y="3809520"/>
                <a:ext cx="12240" cy="1368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0290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0391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0513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6144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06144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0740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0841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0963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10644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1190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1291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14136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1413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15144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1640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1741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18456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1964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20688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20688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2191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22956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2414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25188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2641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27456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27456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2864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2965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3091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31956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3314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3415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35196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3519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3645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3746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3865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3969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4095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41964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4196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4315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4419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4542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4646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4765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48696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4869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4992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5096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5197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532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5424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5546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56472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5647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577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5874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5996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6097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622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63240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6324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6446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6547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667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6774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68964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69972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6997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7098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7224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7324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7447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548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7674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77748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7774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7897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7998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8124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8224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8347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84480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8448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8574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8674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8779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8898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90024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91248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9124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9229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9348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94488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9574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9679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9798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98988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98988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024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1292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0248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03488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474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5792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0579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0680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0798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09032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1029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1130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12488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1248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4135320" y="3785760"/>
                <a:ext cx="12240" cy="234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147560" y="37861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158000" y="37861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169880" y="37861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180320" y="3786120"/>
                <a:ext cx="12240" cy="234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41925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20300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20300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42148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25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354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2480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2580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270320" y="380952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70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2804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2930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3030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315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3254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33800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3380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34808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36032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37040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38300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3930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4031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41576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4157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4258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4380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4481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4607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4708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483080" y="380952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4830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493160" y="380952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50576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4515840" y="380952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528080" y="380952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4538520" y="3297240"/>
              <a:ext cx="1933200" cy="515160"/>
              <a:chOff x="4538520" y="3297240"/>
              <a:chExt cx="1933200" cy="515160"/>
            </a:xfrm>
          </p:grpSpPr>
          <p:sp>
            <p:nvSpPr>
              <p:cNvPr id="2305" name=""/>
              <p:cNvSpPr/>
              <p:nvPr/>
            </p:nvSpPr>
            <p:spPr>
              <a:xfrm>
                <a:off x="45385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5507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56120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5612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573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583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5936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4605840" y="3774240"/>
                <a:ext cx="10080" cy="3564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616280" y="3774600"/>
                <a:ext cx="11880" cy="252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628160" y="3774600"/>
                <a:ext cx="2160" cy="252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628160" y="3774600"/>
                <a:ext cx="10080" cy="252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638600" y="3774600"/>
                <a:ext cx="12240" cy="3564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650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6612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673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683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69584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695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7062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718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728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740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750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7613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77324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773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783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795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8063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818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828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84092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840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8510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863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73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85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960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90824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908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18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930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941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95144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9633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973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98600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986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996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0083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18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31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041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05332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0533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63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76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86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983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1084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11848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118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131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141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1534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163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176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186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19840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1984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208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21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231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2434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253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26608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266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276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286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298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3089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321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33124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331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343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3539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366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376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388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3989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41116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111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212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4338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4439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4558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466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7632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476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488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4990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5112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521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533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54400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5440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5558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566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5789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5890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6008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611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62356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6235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634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644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6563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666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6790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68908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689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700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711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723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734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745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75640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7564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768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7790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790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8010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813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8240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83416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834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8460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856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8687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879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8910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90148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90148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9137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92416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9360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9461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9587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96880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96880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9810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9911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00156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0138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02424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0361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04620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0462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0588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06924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0811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0912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1038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11388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11388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12612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13620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14880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1588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16932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18156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1815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6192000" y="3297240"/>
                <a:ext cx="11880" cy="51336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203880" y="329724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213960" y="329724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226560" y="329724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237000" y="329724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248880" y="329724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258960" y="329724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58960" y="3297240"/>
                <a:ext cx="12240" cy="51336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2715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28164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2938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30396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3165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326640" y="3810600"/>
                <a:ext cx="180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32664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3888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348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3590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371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3817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393960" y="3810600"/>
                <a:ext cx="216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393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040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16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26720" y="3810600"/>
                <a:ext cx="118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3896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9040" y="3810600"/>
                <a:ext cx="1224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61640" y="3810600"/>
                <a:ext cx="10080" cy="1800"/>
              </a:xfrm>
              <a:prstGeom prst="line">
                <a:avLst/>
              </a:prstGeom>
              <a:ln w="79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>
              <a:off x="6472080" y="3809880"/>
              <a:ext cx="18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472080" y="3809880"/>
              <a:ext cx="129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48504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49440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507000" y="3809880"/>
              <a:ext cx="972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51672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52788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540480" y="3809880"/>
              <a:ext cx="144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540480" y="3809880"/>
              <a:ext cx="972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5020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6280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72160" y="3809880"/>
              <a:ext cx="129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8512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9448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607080" y="3809880"/>
              <a:ext cx="18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60708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61824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62940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64056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65172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66288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67548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684840" y="3809880"/>
              <a:ext cx="18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684840" y="3809880"/>
              <a:ext cx="129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69780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70716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1832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72948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74064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753240" y="3809880"/>
              <a:ext cx="144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75324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762600" y="3809880"/>
              <a:ext cx="129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77556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78492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797520" y="3809880"/>
              <a:ext cx="972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80724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819840" y="3809880"/>
              <a:ext cx="18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81984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83100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84216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85332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864480" y="3809880"/>
              <a:ext cx="111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875640" y="3809880"/>
              <a:ext cx="936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885000" y="3809880"/>
              <a:ext cx="12600" cy="32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897600" y="3809880"/>
              <a:ext cx="1800" cy="1440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897600" y="3824280"/>
              <a:ext cx="972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90732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91992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93108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94224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95340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966000" y="3824280"/>
              <a:ext cx="144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966000" y="3824280"/>
              <a:ext cx="93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975360" y="3824280"/>
              <a:ext cx="129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988320" y="3824280"/>
              <a:ext cx="93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99768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010280" y="3824280"/>
              <a:ext cx="972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02000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032600" y="3824280"/>
              <a:ext cx="144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032600" y="3824280"/>
              <a:ext cx="972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042320" y="3824280"/>
              <a:ext cx="108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053120" y="3824280"/>
              <a:ext cx="129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066080" y="3824280"/>
              <a:ext cx="93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07544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088040" y="3824280"/>
              <a:ext cx="972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09776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110360" y="3824280"/>
              <a:ext cx="18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110360" y="3824280"/>
              <a:ext cx="972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120080" y="3824280"/>
              <a:ext cx="126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13268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14384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155000" y="3824280"/>
              <a:ext cx="1080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165800" y="3824280"/>
              <a:ext cx="11160" cy="1440"/>
            </a:xfrm>
            <a:prstGeom prst="line">
              <a:avLst/>
            </a:prstGeom>
            <a:ln w="79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176960" y="2433600"/>
              <a:ext cx="3240" cy="191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176960" y="4349880"/>
              <a:ext cx="46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176960" y="4111560"/>
              <a:ext cx="46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176960" y="3873600"/>
              <a:ext cx="46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176960" y="3635280"/>
              <a:ext cx="46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176960" y="339732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176960" y="3146400"/>
              <a:ext cx="46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176960" y="2908440"/>
              <a:ext cx="46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176960" y="2673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176960" y="2433600"/>
              <a:ext cx="460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8440" y="424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214280" y="39369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115640" y="36115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115640" y="3297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1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115640" y="29718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115640" y="2658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2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115640" y="2343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rot="16200000">
              <a:off x="147492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05: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rot="16200000">
              <a:off x="17337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06: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16200000">
              <a:off x="19767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07: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rot="16200000">
              <a:off x="223560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08: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rot="16200000">
              <a:off x="248004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09: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16200000">
              <a:off x="273852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0: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6200000">
              <a:off x="29847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1: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rot="16200000">
              <a:off x="32403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2: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rot="16200000">
              <a:off x="348804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3: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rot="16200000">
              <a:off x="374832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4: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rot="16200000">
              <a:off x="39945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5: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rot="16200000">
              <a:off x="423900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7: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rot="16200000">
              <a:off x="449460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8: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16200000">
              <a:off x="474048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19: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6200000">
              <a:off x="499932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0: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16200000">
              <a:off x="52437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2: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rot="16200000">
              <a:off x="550260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3: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rot="16200000">
              <a:off x="574524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4:4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rot="16200000">
              <a:off x="600408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6: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rot="16200000">
              <a:off x="624852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7:2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rot="16200000">
              <a:off x="650736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29: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rot="16200000">
              <a:off x="6751800" y="4658040"/>
              <a:ext cx="59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6600"/>
                  </a:solidFill>
                  <a:latin typeface="Arial"/>
                </a:rPr>
                <a:t>15:31: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rot="16200000">
              <a:off x="340560" y="312660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00"/>
                  </a:solidFill>
                  <a:latin typeface="Arial"/>
                </a:rPr>
                <a:t>OWD (</a:t>
              </a:r>
              <a:r>
                <a:rPr b="0" lang="es-MX" sz="1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</a:t>
              </a:r>
              <a:r>
                <a:rPr b="0" lang="es-MX" sz="1800" spc="-1" strike="noStrike">
                  <a:solidFill>
                    <a:srgbClr val="006600"/>
                  </a:solidFill>
                  <a:latin typeface="Arial"/>
                </a:rPr>
                <a:t>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373520" y="424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372440" y="4010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373520" y="377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372440" y="35370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1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373520" y="3297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372440" y="304812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2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373520" y="280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372440" y="25718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3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373520" y="23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rot="16200000">
              <a:off x="7029000" y="3135600"/>
              <a:ext cx="1940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6600"/>
                  </a:solidFill>
                  <a:latin typeface="Arial"/>
                </a:rPr>
                <a:t>Tráfico perturbador</a:t>
              </a:r>
              <a:br>
                <a:rPr sz="1800"/>
              </a:br>
              <a:r>
                <a:rPr b="0" lang="es-MX" sz="1800" spc="-1" strike="noStrike">
                  <a:solidFill>
                    <a:srgbClr val="006600"/>
                  </a:solidFill>
                  <a:latin typeface="Arial"/>
                </a:rPr>
                <a:t>(Gbps)</a:t>
              </a:r>
              <a:r>
                <a:rPr b="1" lang="es-ES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76520" y="2438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Sonda a nivel aplicación: Emulación de flujos multimedia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Auge de aplicaciones multimedia en Internet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Requerimientos más estrictos hacia la 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Mayor necesidad de evaluar Qo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Calidad depende de: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Parámetros del CODEC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Parámetros de la red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Otros factores (idioma, objetivos, ...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Métricas de calidad objetivas y subjetivas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Generar BD con muestras distorsionadas para evaluación subjetiva (p.e., ITU MOS)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Definir parámetros de interés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Identificar rangos relevantes para cada uno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Caso particular: audio streaming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Codec, intervalo de paquete, tasa de pérdida, pdf de pérdidas, retardo y jitter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mulación de flujos multimedia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33" name=""/>
          <p:cNvSpPr/>
          <p:nvPr/>
        </p:nvSpPr>
        <p:spPr>
          <a:xfrm>
            <a:off x="2019240" y="377496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126240" y="3454560"/>
            <a:ext cx="366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Ambiente de evaluación</a:t>
            </a:r>
            <a:br>
              <a:rPr sz="2800"/>
            </a:b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para caracterizar en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mulador de audio streaming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Simula codec: se emiten paquetes de un tamaño determinado a una tasa determinada durante un tiempo determinado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Receptor evalúa tasa y distribución de pérdidas consecutiva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Modifica tamaño buffer de reproducción para evaluar pérdidas por retardo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Repite experimento variando día y hora del día para obtener “parámetros característicos”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Distorsiona muestras aplicando estos parámetro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nlaces evaluados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2638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990360" cy="973080"/>
          </a:xfrm>
          <a:prstGeom prst="rect">
            <a:avLst/>
          </a:prstGeom>
          <a:ln w="0">
            <a:noFill/>
          </a:ln>
        </p:spPr>
      </p:pic>
      <p:pic>
        <p:nvPicPr>
          <p:cNvPr id="2639" name="" descr=""/>
          <p:cNvPicPr/>
          <p:nvPr/>
        </p:nvPicPr>
        <p:blipFill>
          <a:blip r:embed="rId2"/>
          <a:stretch/>
        </p:blipFill>
        <p:spPr>
          <a:xfrm>
            <a:off x="2286000" y="502920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40" name="" descr=""/>
          <p:cNvPicPr/>
          <p:nvPr/>
        </p:nvPicPr>
        <p:blipFill>
          <a:blip r:embed="rId3"/>
          <a:stretch/>
        </p:blipFill>
        <p:spPr>
          <a:xfrm>
            <a:off x="5638680" y="495288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41" name="" descr=""/>
          <p:cNvPicPr/>
          <p:nvPr/>
        </p:nvPicPr>
        <p:blipFill>
          <a:blip r:embed="rId4"/>
          <a:stretch/>
        </p:blipFill>
        <p:spPr>
          <a:xfrm>
            <a:off x="6781680" y="266688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2642" name="" descr=""/>
          <p:cNvPicPr/>
          <p:nvPr/>
        </p:nvPicPr>
        <p:blipFill>
          <a:blip r:embed="rId5"/>
          <a:stretch/>
        </p:blipFill>
        <p:spPr>
          <a:xfrm>
            <a:off x="4076640" y="1219320"/>
            <a:ext cx="990720" cy="973080"/>
          </a:xfrm>
          <a:prstGeom prst="rect">
            <a:avLst/>
          </a:prstGeom>
          <a:ln w="0">
            <a:noFill/>
          </a:ln>
        </p:spPr>
      </p:pic>
      <p:sp>
        <p:nvSpPr>
          <p:cNvPr id="2643" name=""/>
          <p:cNvSpPr/>
          <p:nvPr/>
        </p:nvSpPr>
        <p:spPr>
          <a:xfrm flipV="1">
            <a:off x="2819520" y="2362320"/>
            <a:ext cx="1447560" cy="259056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V="1">
            <a:off x="2209680" y="2057400"/>
            <a:ext cx="1676520" cy="9907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181480" y="1905120"/>
            <a:ext cx="1524240" cy="83808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572000" y="2286000"/>
            <a:ext cx="1523880" cy="251460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032080" y="1219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I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783840" y="38401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C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068840" y="38401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C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354840" y="510552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U. Mor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709320" y="51055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a50021"/>
                </a:solidFill>
                <a:latin typeface="Times New Roman"/>
              </a:rPr>
              <a:t>U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286000" y="31240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1981080" y="3733920"/>
            <a:ext cx="68580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3276720" y="502920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6324480" y="3657240"/>
            <a:ext cx="609840" cy="1143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3124080" y="3581280"/>
            <a:ext cx="342900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286000" y="3467160"/>
            <a:ext cx="335268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rot="19786800">
            <a:off x="2405160" y="217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Times New Roman"/>
              </a:rPr>
              <a:t>18/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rot="18028800">
            <a:off x="2854080" y="3288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Times New Roman"/>
              </a:rPr>
              <a:t>100/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rot="3492600">
            <a:off x="5212440" y="3178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Times New Roman"/>
              </a:rPr>
              <a:t>5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rot="1773600">
            <a:off x="5789880" y="202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00"/>
                </a:solidFill>
                <a:latin typeface="Times New Roman"/>
              </a:rPr>
              <a:t>25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Algunos resultados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2663" name=""/>
          <p:cNvGraphicFramePr/>
          <p:nvPr/>
        </p:nvGraphicFramePr>
        <p:xfrm>
          <a:off x="847800" y="1319040"/>
          <a:ext cx="7448400" cy="42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319040"/>
                    <a:ext cx="7448400" cy="42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Algunos resultados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2666" name=""/>
          <p:cNvGraphicFramePr/>
          <p:nvPr/>
        </p:nvGraphicFramePr>
        <p:xfrm>
          <a:off x="1014480" y="1338120"/>
          <a:ext cx="7115040" cy="418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1338120"/>
                    <a:ext cx="711504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8" name=""/>
          <p:cNvSpPr/>
          <p:nvPr/>
        </p:nvSpPr>
        <p:spPr>
          <a:xfrm flipV="1">
            <a:off x="3105000" y="2057040"/>
            <a:ext cx="0" cy="2438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4476600" y="2057040"/>
            <a:ext cx="0" cy="2438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5829480" y="2057040"/>
            <a:ext cx="0" cy="2438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7256520" cy="29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2840" bIns="42840" anchor="t">
            <a:normAutofit fontScale="95000"/>
          </a:bodyPr>
          <a:p>
            <a:pPr marL="253080" indent="-253080">
              <a:lnSpc>
                <a:spcPct val="90000"/>
              </a:lnSpc>
              <a:spcBef>
                <a:spcPts val="825"/>
              </a:spcBef>
              <a:buClr>
                <a:srgbClr val="006600"/>
              </a:buClr>
              <a:buFont typeface="Arial Narrow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300" spc="-1" strike="noStrike">
                <a:solidFill>
                  <a:srgbClr val="006600"/>
                </a:solidFill>
                <a:latin typeface="Arial Narrow"/>
              </a:rPr>
              <a:t>La maqueta de experimentación ITAMv6</a:t>
            </a: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  <a:p>
            <a:pPr marL="253080" indent="-253080">
              <a:lnSpc>
                <a:spcPct val="90000"/>
              </a:lnSpc>
              <a:spcBef>
                <a:spcPts val="825"/>
              </a:spcBef>
              <a:buClr>
                <a:srgbClr val="006600"/>
              </a:buClr>
              <a:buFont typeface="Arial Narrow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300" spc="-1" strike="noStrike">
                <a:solidFill>
                  <a:srgbClr val="006600"/>
                </a:solidFill>
                <a:latin typeface="Arial Narrow"/>
              </a:rPr>
              <a:t>Evaluación de desempeño basada en métricas</a:t>
            </a: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  <a:p>
            <a:pPr marL="253080" indent="-253080">
              <a:lnSpc>
                <a:spcPct val="90000"/>
              </a:lnSpc>
              <a:spcBef>
                <a:spcPts val="825"/>
              </a:spcBef>
              <a:buClr>
                <a:srgbClr val="006600"/>
              </a:buClr>
              <a:buFont typeface="Arial Narrow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300" spc="-1" strike="noStrike">
                <a:solidFill>
                  <a:srgbClr val="006600"/>
                </a:solidFill>
                <a:latin typeface="Arial Narrow"/>
              </a:rPr>
              <a:t>La plataforma de experimentación Saturne</a:t>
            </a: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  <a:p>
            <a:pPr marL="253080" indent="-253080">
              <a:lnSpc>
                <a:spcPct val="90000"/>
              </a:lnSpc>
              <a:spcBef>
                <a:spcPts val="825"/>
              </a:spcBef>
              <a:buClr>
                <a:srgbClr val="006600"/>
              </a:buClr>
              <a:buFont typeface="Arial Narrow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300" spc="-1" strike="noStrike">
                <a:solidFill>
                  <a:srgbClr val="006600"/>
                </a:solidFill>
                <a:latin typeface="Arial Narrow"/>
              </a:rPr>
              <a:t>Sondas a nivel aplicación</a:t>
            </a: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  <a:p>
            <a:pPr marL="253080" indent="-253080">
              <a:lnSpc>
                <a:spcPct val="90000"/>
              </a:lnSpc>
              <a:spcBef>
                <a:spcPts val="825"/>
              </a:spcBef>
              <a:buClr>
                <a:srgbClr val="006600"/>
              </a:buClr>
              <a:buFont typeface="Arial Narrow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s-MX" sz="3300" spc="-1" strike="noStrike">
                <a:solidFill>
                  <a:srgbClr val="006600"/>
                </a:solidFill>
                <a:latin typeface="Arial Narrow"/>
              </a:rPr>
              <a:t>Conclusiones</a:t>
            </a: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  <a:p>
            <a:pPr marL="25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3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Arial Narrow"/>
              </a:rPr>
              <a:t>Agenda</a:t>
            </a:r>
            <a:endParaRPr b="0" lang="en-US" sz="4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Algunos resultados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2672" name=""/>
          <p:cNvGraphicFramePr/>
          <p:nvPr/>
        </p:nvGraphicFramePr>
        <p:xfrm>
          <a:off x="1009800" y="1333440"/>
          <a:ext cx="71244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333440"/>
                    <a:ext cx="7124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4" name=""/>
          <p:cNvSpPr/>
          <p:nvPr/>
        </p:nvSpPr>
        <p:spPr>
          <a:xfrm flipV="1">
            <a:off x="3152880" y="2017440"/>
            <a:ext cx="0" cy="2506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4491000" y="2022120"/>
            <a:ext cx="0" cy="2506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5848200" y="2017440"/>
            <a:ext cx="0" cy="25066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Conclusiones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La evaluación de parámetros de desempeño es cada vez más importante (ingeniería de la red, tarificación, aplicaciones MM, ...)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La evaluación por métodos activos, es eficaz y relativamente simple.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En ciertos ambientes, es la única técnica disponible a un costo razonable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Es fundamental determinar qué se desea evaluar y a qué nivel.  Dentro de lo posible, se recomienda seguir lineamientos de IPPM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Líneas de trabajo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Establecer impacto del efecto perturbador de las sonda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Comparar resultados con técnicas pasiva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Aplicar criterios estadísticos con mayor rigor para obtener mayor certidumbre en los resultado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Aplicar metodología similar a CUDI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Comparar infraestructura nacional con la de otros paíse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Crear bancos de datos disponibles a la comunidad y que permitan guardar una “memoria” de la evolución de las rede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1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3352680" cy="1676160"/>
          </a:xfrm>
          <a:prstGeom prst="rect">
            <a:avLst/>
          </a:prstGeom>
          <a:ln w="0">
            <a:noFill/>
          </a:ln>
        </p:spPr>
      </p:pic>
      <p:sp>
        <p:nvSpPr>
          <p:cNvPr id="2682" name=""/>
          <p:cNvSpPr/>
          <p:nvPr/>
        </p:nvSpPr>
        <p:spPr>
          <a:xfrm>
            <a:off x="0" y="3048120"/>
            <a:ext cx="8763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 Unicode MS"/>
                <a:ea typeface="Arial"/>
              </a:rPr>
              <a:t>Mediciones activas de desempeño para evaluar calidad de servicio en redes I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  <a:ea typeface="Arial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1800" y="358128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066320" y="3581280"/>
            <a:ext cx="381240" cy="1219320"/>
          </a:xfrm>
          <a:prstGeom prst="line">
            <a:avLst/>
          </a:prstGeom>
          <a:ln w="648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47920" y="26665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71800" y="26665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057400"/>
            <a:ext cx="1371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 Narrow"/>
              </a:rPr>
              <a:t>La maqueta de experimentación ITAMv6</a:t>
            </a:r>
            <a:endParaRPr b="0" lang="en-US" sz="40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2760" y="3352680"/>
            <a:ext cx="838080" cy="493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28880" y="3352680"/>
            <a:ext cx="838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285840" y="1566720"/>
            <a:ext cx="4221000" cy="1100160"/>
            <a:chOff x="285840" y="1566720"/>
            <a:chExt cx="4221000" cy="1100160"/>
          </a:xfrm>
        </p:grpSpPr>
        <p:sp>
          <p:nvSpPr>
            <p:cNvPr id="54" name=""/>
            <p:cNvSpPr/>
            <p:nvPr/>
          </p:nvSpPr>
          <p:spPr>
            <a:xfrm>
              <a:off x="4091040" y="1905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3520" y="1905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772080" y="1566720"/>
              <a:ext cx="7347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285840" y="1676520"/>
              <a:ext cx="685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5840" y="266688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920" y="1905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0" y="1905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400" y="1905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162080" y="1676520"/>
              <a:ext cx="6858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2019240" y="1676520"/>
              <a:ext cx="6858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2895480" y="1676520"/>
              <a:ext cx="685800" cy="67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5448240" y="3789360"/>
            <a:ext cx="3467160" cy="1163520"/>
            <a:chOff x="5448240" y="3789360"/>
            <a:chExt cx="3467160" cy="1163520"/>
          </a:xfrm>
        </p:grpSpPr>
        <p:sp>
          <p:nvSpPr>
            <p:cNvPr id="66" name=""/>
            <p:cNvSpPr/>
            <p:nvPr/>
          </p:nvSpPr>
          <p:spPr>
            <a:xfrm>
              <a:off x="5562720" y="495288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0680" y="419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720" y="419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419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34520" y="419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5448240" y="3789360"/>
              <a:ext cx="73512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6419880" y="3898800"/>
              <a:ext cx="685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8229600" y="3898800"/>
              <a:ext cx="68580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7324560" y="3898800"/>
              <a:ext cx="68580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743200" y="4648320"/>
            <a:ext cx="1676520" cy="831600"/>
            <a:chOff x="2743200" y="4648320"/>
            <a:chExt cx="1676520" cy="831600"/>
          </a:xfrm>
        </p:grpSpPr>
        <p:sp>
          <p:nvSpPr>
            <p:cNvPr id="76" name=""/>
            <p:cNvSpPr/>
            <p:nvPr/>
          </p:nvSpPr>
          <p:spPr>
            <a:xfrm>
              <a:off x="2743200" y="4648320"/>
              <a:ext cx="1676520" cy="831600"/>
            </a:xfrm>
            <a:custGeom>
              <a:avLst/>
              <a:gdLst/>
              <a:ahLst/>
              <a:rect l="l" t="t" r="r" b="b"/>
              <a:pathLst>
                <a:path w="1225" h="675">
                  <a:moveTo>
                    <a:pt x="225" y="561"/>
                  </a:moveTo>
                  <a:lnTo>
                    <a:pt x="214" y="565"/>
                  </a:lnTo>
                  <a:lnTo>
                    <a:pt x="202" y="566"/>
                  </a:lnTo>
                  <a:lnTo>
                    <a:pt x="190" y="568"/>
                  </a:lnTo>
                  <a:lnTo>
                    <a:pt x="178" y="568"/>
                  </a:lnTo>
                  <a:lnTo>
                    <a:pt x="167" y="568"/>
                  </a:lnTo>
                  <a:lnTo>
                    <a:pt x="156" y="567"/>
                  </a:lnTo>
                  <a:lnTo>
                    <a:pt x="144" y="565"/>
                  </a:lnTo>
                  <a:lnTo>
                    <a:pt x="133" y="564"/>
                  </a:lnTo>
                  <a:lnTo>
                    <a:pt x="112" y="558"/>
                  </a:lnTo>
                  <a:lnTo>
                    <a:pt x="92" y="552"/>
                  </a:lnTo>
                  <a:lnTo>
                    <a:pt x="75" y="542"/>
                  </a:lnTo>
                  <a:lnTo>
                    <a:pt x="60" y="532"/>
                  </a:lnTo>
                  <a:lnTo>
                    <a:pt x="49" y="521"/>
                  </a:lnTo>
                  <a:lnTo>
                    <a:pt x="44" y="516"/>
                  </a:lnTo>
                  <a:lnTo>
                    <a:pt x="40" y="510"/>
                  </a:lnTo>
                  <a:lnTo>
                    <a:pt x="37" y="505"/>
                  </a:lnTo>
                  <a:lnTo>
                    <a:pt x="37" y="498"/>
                  </a:lnTo>
                  <a:lnTo>
                    <a:pt x="36" y="492"/>
                  </a:lnTo>
                  <a:lnTo>
                    <a:pt x="37" y="486"/>
                  </a:lnTo>
                  <a:lnTo>
                    <a:pt x="38" y="480"/>
                  </a:lnTo>
                  <a:lnTo>
                    <a:pt x="42" y="474"/>
                  </a:lnTo>
                  <a:lnTo>
                    <a:pt x="47" y="468"/>
                  </a:lnTo>
                  <a:lnTo>
                    <a:pt x="53" y="463"/>
                  </a:lnTo>
                  <a:lnTo>
                    <a:pt x="60" y="458"/>
                  </a:lnTo>
                  <a:lnTo>
                    <a:pt x="69" y="453"/>
                  </a:lnTo>
                  <a:lnTo>
                    <a:pt x="80" y="448"/>
                  </a:lnTo>
                  <a:lnTo>
                    <a:pt x="92" y="443"/>
                  </a:lnTo>
                  <a:lnTo>
                    <a:pt x="106" y="438"/>
                  </a:lnTo>
                  <a:lnTo>
                    <a:pt x="118" y="432"/>
                  </a:lnTo>
                  <a:lnTo>
                    <a:pt x="128" y="425"/>
                  </a:lnTo>
                  <a:lnTo>
                    <a:pt x="136" y="418"/>
                  </a:lnTo>
                  <a:lnTo>
                    <a:pt x="142" y="410"/>
                  </a:lnTo>
                  <a:lnTo>
                    <a:pt x="145" y="402"/>
                  </a:lnTo>
                  <a:lnTo>
                    <a:pt x="147" y="394"/>
                  </a:lnTo>
                  <a:lnTo>
                    <a:pt x="146" y="387"/>
                  </a:lnTo>
                  <a:lnTo>
                    <a:pt x="143" y="379"/>
                  </a:lnTo>
                  <a:lnTo>
                    <a:pt x="139" y="371"/>
                  </a:lnTo>
                  <a:lnTo>
                    <a:pt x="133" y="363"/>
                  </a:lnTo>
                  <a:lnTo>
                    <a:pt x="125" y="356"/>
                  </a:lnTo>
                  <a:lnTo>
                    <a:pt x="114" y="349"/>
                  </a:lnTo>
                  <a:lnTo>
                    <a:pt x="103" y="342"/>
                  </a:lnTo>
                  <a:lnTo>
                    <a:pt x="90" y="337"/>
                  </a:lnTo>
                  <a:lnTo>
                    <a:pt x="74" y="332"/>
                  </a:lnTo>
                  <a:lnTo>
                    <a:pt x="64" y="329"/>
                  </a:lnTo>
                  <a:lnTo>
                    <a:pt x="53" y="325"/>
                  </a:lnTo>
                  <a:lnTo>
                    <a:pt x="44" y="320"/>
                  </a:lnTo>
                  <a:lnTo>
                    <a:pt x="36" y="315"/>
                  </a:lnTo>
                  <a:lnTo>
                    <a:pt x="28" y="311"/>
                  </a:lnTo>
                  <a:lnTo>
                    <a:pt x="22" y="306"/>
                  </a:lnTo>
                  <a:lnTo>
                    <a:pt x="16" y="300"/>
                  </a:lnTo>
                  <a:lnTo>
                    <a:pt x="11" y="294"/>
                  </a:lnTo>
                  <a:lnTo>
                    <a:pt x="7" y="287"/>
                  </a:lnTo>
                  <a:lnTo>
                    <a:pt x="4" y="282"/>
                  </a:lnTo>
                  <a:lnTo>
                    <a:pt x="2" y="276"/>
                  </a:lnTo>
                  <a:lnTo>
                    <a:pt x="0" y="269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3" y="243"/>
                  </a:lnTo>
                  <a:lnTo>
                    <a:pt x="6" y="237"/>
                  </a:lnTo>
                  <a:lnTo>
                    <a:pt x="9" y="231"/>
                  </a:lnTo>
                  <a:lnTo>
                    <a:pt x="19" y="219"/>
                  </a:lnTo>
                  <a:lnTo>
                    <a:pt x="30" y="208"/>
                  </a:lnTo>
                  <a:lnTo>
                    <a:pt x="37" y="202"/>
                  </a:lnTo>
                  <a:lnTo>
                    <a:pt x="45" y="196"/>
                  </a:lnTo>
                  <a:lnTo>
                    <a:pt x="53" y="192"/>
                  </a:lnTo>
                  <a:lnTo>
                    <a:pt x="63" y="188"/>
                  </a:lnTo>
                  <a:lnTo>
                    <a:pt x="83" y="180"/>
                  </a:lnTo>
                  <a:lnTo>
                    <a:pt x="94" y="177"/>
                  </a:lnTo>
                  <a:lnTo>
                    <a:pt x="106" y="175"/>
                  </a:lnTo>
                  <a:lnTo>
                    <a:pt x="118" y="173"/>
                  </a:lnTo>
                  <a:lnTo>
                    <a:pt x="131" y="171"/>
                  </a:lnTo>
                  <a:lnTo>
                    <a:pt x="168" y="166"/>
                  </a:lnTo>
                  <a:lnTo>
                    <a:pt x="186" y="163"/>
                  </a:lnTo>
                  <a:lnTo>
                    <a:pt x="202" y="159"/>
                  </a:lnTo>
                  <a:lnTo>
                    <a:pt x="218" y="155"/>
                  </a:lnTo>
                  <a:lnTo>
                    <a:pt x="234" y="149"/>
                  </a:lnTo>
                  <a:lnTo>
                    <a:pt x="249" y="143"/>
                  </a:lnTo>
                  <a:lnTo>
                    <a:pt x="263" y="137"/>
                  </a:lnTo>
                  <a:lnTo>
                    <a:pt x="276" y="130"/>
                  </a:lnTo>
                  <a:lnTo>
                    <a:pt x="288" y="124"/>
                  </a:lnTo>
                  <a:lnTo>
                    <a:pt x="298" y="117"/>
                  </a:lnTo>
                  <a:lnTo>
                    <a:pt x="308" y="110"/>
                  </a:lnTo>
                  <a:lnTo>
                    <a:pt x="316" y="103"/>
                  </a:lnTo>
                  <a:lnTo>
                    <a:pt x="322" y="96"/>
                  </a:lnTo>
                  <a:lnTo>
                    <a:pt x="328" y="89"/>
                  </a:lnTo>
                  <a:lnTo>
                    <a:pt x="332" y="83"/>
                  </a:lnTo>
                  <a:lnTo>
                    <a:pt x="336" y="72"/>
                  </a:lnTo>
                  <a:lnTo>
                    <a:pt x="343" y="63"/>
                  </a:lnTo>
                  <a:lnTo>
                    <a:pt x="351" y="55"/>
                  </a:lnTo>
                  <a:lnTo>
                    <a:pt x="360" y="47"/>
                  </a:lnTo>
                  <a:lnTo>
                    <a:pt x="370" y="40"/>
                  </a:lnTo>
                  <a:lnTo>
                    <a:pt x="381" y="33"/>
                  </a:lnTo>
                  <a:lnTo>
                    <a:pt x="393" y="27"/>
                  </a:lnTo>
                  <a:lnTo>
                    <a:pt x="406" y="22"/>
                  </a:lnTo>
                  <a:lnTo>
                    <a:pt x="419" y="17"/>
                  </a:lnTo>
                  <a:lnTo>
                    <a:pt x="433" y="12"/>
                  </a:lnTo>
                  <a:lnTo>
                    <a:pt x="447" y="9"/>
                  </a:lnTo>
                  <a:lnTo>
                    <a:pt x="463" y="6"/>
                  </a:lnTo>
                  <a:lnTo>
                    <a:pt x="494" y="2"/>
                  </a:lnTo>
                  <a:lnTo>
                    <a:pt x="526" y="0"/>
                  </a:lnTo>
                  <a:lnTo>
                    <a:pt x="558" y="1"/>
                  </a:lnTo>
                  <a:lnTo>
                    <a:pt x="590" y="3"/>
                  </a:lnTo>
                  <a:lnTo>
                    <a:pt x="619" y="9"/>
                  </a:lnTo>
                  <a:lnTo>
                    <a:pt x="634" y="12"/>
                  </a:lnTo>
                  <a:lnTo>
                    <a:pt x="649" y="17"/>
                  </a:lnTo>
                  <a:lnTo>
                    <a:pt x="661" y="21"/>
                  </a:lnTo>
                  <a:lnTo>
                    <a:pt x="674" y="25"/>
                  </a:lnTo>
                  <a:lnTo>
                    <a:pt x="696" y="37"/>
                  </a:lnTo>
                  <a:lnTo>
                    <a:pt x="706" y="43"/>
                  </a:lnTo>
                  <a:lnTo>
                    <a:pt x="714" y="51"/>
                  </a:lnTo>
                  <a:lnTo>
                    <a:pt x="723" y="58"/>
                  </a:lnTo>
                  <a:lnTo>
                    <a:pt x="728" y="67"/>
                  </a:lnTo>
                  <a:lnTo>
                    <a:pt x="737" y="80"/>
                  </a:lnTo>
                  <a:lnTo>
                    <a:pt x="746" y="91"/>
                  </a:lnTo>
                  <a:lnTo>
                    <a:pt x="756" y="102"/>
                  </a:lnTo>
                  <a:lnTo>
                    <a:pt x="767" y="110"/>
                  </a:lnTo>
                  <a:lnTo>
                    <a:pt x="779" y="119"/>
                  </a:lnTo>
                  <a:lnTo>
                    <a:pt x="791" y="126"/>
                  </a:lnTo>
                  <a:lnTo>
                    <a:pt x="806" y="132"/>
                  </a:lnTo>
                  <a:lnTo>
                    <a:pt x="821" y="137"/>
                  </a:lnTo>
                  <a:lnTo>
                    <a:pt x="837" y="142"/>
                  </a:lnTo>
                  <a:lnTo>
                    <a:pt x="855" y="144"/>
                  </a:lnTo>
                  <a:lnTo>
                    <a:pt x="873" y="147"/>
                  </a:lnTo>
                  <a:lnTo>
                    <a:pt x="894" y="148"/>
                  </a:lnTo>
                  <a:lnTo>
                    <a:pt x="916" y="148"/>
                  </a:lnTo>
                  <a:lnTo>
                    <a:pt x="939" y="147"/>
                  </a:lnTo>
                  <a:lnTo>
                    <a:pt x="990" y="142"/>
                  </a:lnTo>
                  <a:lnTo>
                    <a:pt x="1011" y="139"/>
                  </a:lnTo>
                  <a:lnTo>
                    <a:pt x="1032" y="137"/>
                  </a:lnTo>
                  <a:lnTo>
                    <a:pt x="1051" y="137"/>
                  </a:lnTo>
                  <a:lnTo>
                    <a:pt x="1068" y="137"/>
                  </a:lnTo>
                  <a:lnTo>
                    <a:pt x="1087" y="138"/>
                  </a:lnTo>
                  <a:lnTo>
                    <a:pt x="1103" y="141"/>
                  </a:lnTo>
                  <a:lnTo>
                    <a:pt x="1118" y="143"/>
                  </a:lnTo>
                  <a:lnTo>
                    <a:pt x="1133" y="147"/>
                  </a:lnTo>
                  <a:lnTo>
                    <a:pt x="1146" y="150"/>
                  </a:lnTo>
                  <a:lnTo>
                    <a:pt x="1158" y="155"/>
                  </a:lnTo>
                  <a:lnTo>
                    <a:pt x="1171" y="160"/>
                  </a:lnTo>
                  <a:lnTo>
                    <a:pt x="1181" y="166"/>
                  </a:lnTo>
                  <a:lnTo>
                    <a:pt x="1189" y="171"/>
                  </a:lnTo>
                  <a:lnTo>
                    <a:pt x="1198" y="178"/>
                  </a:lnTo>
                  <a:lnTo>
                    <a:pt x="1205" y="185"/>
                  </a:lnTo>
                  <a:lnTo>
                    <a:pt x="1212" y="192"/>
                  </a:lnTo>
                  <a:lnTo>
                    <a:pt x="1216" y="200"/>
                  </a:lnTo>
                  <a:lnTo>
                    <a:pt x="1219" y="207"/>
                  </a:lnTo>
                  <a:lnTo>
                    <a:pt x="1222" y="215"/>
                  </a:lnTo>
                  <a:lnTo>
                    <a:pt x="1224" y="221"/>
                  </a:lnTo>
                  <a:lnTo>
                    <a:pt x="1224" y="229"/>
                  </a:lnTo>
                  <a:lnTo>
                    <a:pt x="1224" y="237"/>
                  </a:lnTo>
                  <a:lnTo>
                    <a:pt x="1222" y="244"/>
                  </a:lnTo>
                  <a:lnTo>
                    <a:pt x="1217" y="253"/>
                  </a:lnTo>
                  <a:lnTo>
                    <a:pt x="1214" y="259"/>
                  </a:lnTo>
                  <a:lnTo>
                    <a:pt x="1208" y="267"/>
                  </a:lnTo>
                  <a:lnTo>
                    <a:pt x="1202" y="274"/>
                  </a:lnTo>
                  <a:lnTo>
                    <a:pt x="1193" y="280"/>
                  </a:lnTo>
                  <a:lnTo>
                    <a:pt x="1183" y="286"/>
                  </a:lnTo>
                  <a:lnTo>
                    <a:pt x="1172" y="291"/>
                  </a:lnTo>
                  <a:lnTo>
                    <a:pt x="1160" y="297"/>
                  </a:lnTo>
                  <a:lnTo>
                    <a:pt x="1147" y="301"/>
                  </a:lnTo>
                  <a:lnTo>
                    <a:pt x="1134" y="306"/>
                  </a:lnTo>
                  <a:lnTo>
                    <a:pt x="1123" y="311"/>
                  </a:lnTo>
                  <a:lnTo>
                    <a:pt x="1112" y="315"/>
                  </a:lnTo>
                  <a:lnTo>
                    <a:pt x="1104" y="320"/>
                  </a:lnTo>
                  <a:lnTo>
                    <a:pt x="1097" y="326"/>
                  </a:lnTo>
                  <a:lnTo>
                    <a:pt x="1091" y="331"/>
                  </a:lnTo>
                  <a:lnTo>
                    <a:pt x="1087" y="337"/>
                  </a:lnTo>
                  <a:lnTo>
                    <a:pt x="1084" y="342"/>
                  </a:lnTo>
                  <a:lnTo>
                    <a:pt x="1083" y="348"/>
                  </a:lnTo>
                  <a:lnTo>
                    <a:pt x="1082" y="354"/>
                  </a:lnTo>
                  <a:lnTo>
                    <a:pt x="1083" y="360"/>
                  </a:lnTo>
                  <a:lnTo>
                    <a:pt x="1086" y="365"/>
                  </a:lnTo>
                  <a:lnTo>
                    <a:pt x="1089" y="370"/>
                  </a:lnTo>
                  <a:lnTo>
                    <a:pt x="1095" y="375"/>
                  </a:lnTo>
                  <a:lnTo>
                    <a:pt x="1100" y="380"/>
                  </a:lnTo>
                  <a:lnTo>
                    <a:pt x="1108" y="384"/>
                  </a:lnTo>
                  <a:lnTo>
                    <a:pt x="1119" y="393"/>
                  </a:lnTo>
                  <a:lnTo>
                    <a:pt x="1128" y="402"/>
                  </a:lnTo>
                  <a:lnTo>
                    <a:pt x="1136" y="412"/>
                  </a:lnTo>
                  <a:lnTo>
                    <a:pt x="1139" y="417"/>
                  </a:lnTo>
                  <a:lnTo>
                    <a:pt x="1142" y="422"/>
                  </a:lnTo>
                  <a:lnTo>
                    <a:pt x="1144" y="433"/>
                  </a:lnTo>
                  <a:lnTo>
                    <a:pt x="1146" y="444"/>
                  </a:lnTo>
                  <a:lnTo>
                    <a:pt x="1144" y="455"/>
                  </a:lnTo>
                  <a:lnTo>
                    <a:pt x="1142" y="466"/>
                  </a:lnTo>
                  <a:lnTo>
                    <a:pt x="1136" y="476"/>
                  </a:lnTo>
                  <a:lnTo>
                    <a:pt x="1129" y="486"/>
                  </a:lnTo>
                  <a:lnTo>
                    <a:pt x="1119" y="495"/>
                  </a:lnTo>
                  <a:lnTo>
                    <a:pt x="1108" y="503"/>
                  </a:lnTo>
                  <a:lnTo>
                    <a:pt x="1094" y="510"/>
                  </a:lnTo>
                  <a:lnTo>
                    <a:pt x="1077" y="516"/>
                  </a:lnTo>
                  <a:lnTo>
                    <a:pt x="1058" y="520"/>
                  </a:lnTo>
                  <a:lnTo>
                    <a:pt x="1037" y="523"/>
                  </a:lnTo>
                  <a:lnTo>
                    <a:pt x="1022" y="525"/>
                  </a:lnTo>
                  <a:lnTo>
                    <a:pt x="1007" y="527"/>
                  </a:lnTo>
                  <a:lnTo>
                    <a:pt x="978" y="533"/>
                  </a:lnTo>
                  <a:lnTo>
                    <a:pt x="963" y="536"/>
                  </a:lnTo>
                  <a:lnTo>
                    <a:pt x="950" y="541"/>
                  </a:lnTo>
                  <a:lnTo>
                    <a:pt x="938" y="546"/>
                  </a:lnTo>
                  <a:lnTo>
                    <a:pt x="926" y="552"/>
                  </a:lnTo>
                  <a:lnTo>
                    <a:pt x="916" y="558"/>
                  </a:lnTo>
                  <a:lnTo>
                    <a:pt x="905" y="565"/>
                  </a:lnTo>
                  <a:lnTo>
                    <a:pt x="897" y="572"/>
                  </a:lnTo>
                  <a:lnTo>
                    <a:pt x="890" y="579"/>
                  </a:lnTo>
                  <a:lnTo>
                    <a:pt x="884" y="589"/>
                  </a:lnTo>
                  <a:lnTo>
                    <a:pt x="880" y="598"/>
                  </a:lnTo>
                  <a:lnTo>
                    <a:pt x="877" y="608"/>
                  </a:lnTo>
                  <a:lnTo>
                    <a:pt x="877" y="618"/>
                  </a:lnTo>
                  <a:lnTo>
                    <a:pt x="877" y="624"/>
                  </a:lnTo>
                  <a:lnTo>
                    <a:pt x="876" y="629"/>
                  </a:lnTo>
                  <a:lnTo>
                    <a:pt x="873" y="634"/>
                  </a:lnTo>
                  <a:lnTo>
                    <a:pt x="871" y="639"/>
                  </a:lnTo>
                  <a:lnTo>
                    <a:pt x="868" y="643"/>
                  </a:lnTo>
                  <a:lnTo>
                    <a:pt x="863" y="647"/>
                  </a:lnTo>
                  <a:lnTo>
                    <a:pt x="858" y="651"/>
                  </a:lnTo>
                  <a:lnTo>
                    <a:pt x="854" y="655"/>
                  </a:lnTo>
                  <a:lnTo>
                    <a:pt x="848" y="658"/>
                  </a:lnTo>
                  <a:lnTo>
                    <a:pt x="842" y="661"/>
                  </a:lnTo>
                  <a:lnTo>
                    <a:pt x="828" y="666"/>
                  </a:lnTo>
                  <a:lnTo>
                    <a:pt x="813" y="671"/>
                  </a:lnTo>
                  <a:lnTo>
                    <a:pt x="797" y="673"/>
                  </a:lnTo>
                  <a:lnTo>
                    <a:pt x="782" y="674"/>
                  </a:lnTo>
                  <a:lnTo>
                    <a:pt x="765" y="674"/>
                  </a:lnTo>
                  <a:lnTo>
                    <a:pt x="749" y="672"/>
                  </a:lnTo>
                  <a:lnTo>
                    <a:pt x="735" y="669"/>
                  </a:lnTo>
                  <a:lnTo>
                    <a:pt x="721" y="665"/>
                  </a:lnTo>
                  <a:lnTo>
                    <a:pt x="709" y="659"/>
                  </a:lnTo>
                  <a:lnTo>
                    <a:pt x="700" y="651"/>
                  </a:lnTo>
                  <a:lnTo>
                    <a:pt x="696" y="647"/>
                  </a:lnTo>
                  <a:lnTo>
                    <a:pt x="694" y="643"/>
                  </a:lnTo>
                  <a:lnTo>
                    <a:pt x="690" y="637"/>
                  </a:lnTo>
                  <a:lnTo>
                    <a:pt x="685" y="632"/>
                  </a:lnTo>
                  <a:lnTo>
                    <a:pt x="680" y="628"/>
                  </a:lnTo>
                  <a:lnTo>
                    <a:pt x="675" y="624"/>
                  </a:lnTo>
                  <a:lnTo>
                    <a:pt x="669" y="621"/>
                  </a:lnTo>
                  <a:lnTo>
                    <a:pt x="663" y="618"/>
                  </a:lnTo>
                  <a:lnTo>
                    <a:pt x="656" y="616"/>
                  </a:lnTo>
                  <a:lnTo>
                    <a:pt x="649" y="614"/>
                  </a:lnTo>
                  <a:lnTo>
                    <a:pt x="641" y="613"/>
                  </a:lnTo>
                  <a:lnTo>
                    <a:pt x="633" y="612"/>
                  </a:lnTo>
                  <a:lnTo>
                    <a:pt x="616" y="612"/>
                  </a:lnTo>
                  <a:lnTo>
                    <a:pt x="599" y="615"/>
                  </a:lnTo>
                  <a:lnTo>
                    <a:pt x="581" y="619"/>
                  </a:lnTo>
                  <a:lnTo>
                    <a:pt x="565" y="623"/>
                  </a:lnTo>
                  <a:lnTo>
                    <a:pt x="549" y="626"/>
                  </a:lnTo>
                  <a:lnTo>
                    <a:pt x="534" y="629"/>
                  </a:lnTo>
                  <a:lnTo>
                    <a:pt x="520" y="630"/>
                  </a:lnTo>
                  <a:lnTo>
                    <a:pt x="492" y="631"/>
                  </a:lnTo>
                  <a:lnTo>
                    <a:pt x="480" y="630"/>
                  </a:lnTo>
                  <a:lnTo>
                    <a:pt x="467" y="628"/>
                  </a:lnTo>
                  <a:lnTo>
                    <a:pt x="455" y="626"/>
                  </a:lnTo>
                  <a:lnTo>
                    <a:pt x="444" y="623"/>
                  </a:lnTo>
                  <a:lnTo>
                    <a:pt x="434" y="619"/>
                  </a:lnTo>
                  <a:lnTo>
                    <a:pt x="425" y="616"/>
                  </a:lnTo>
                  <a:lnTo>
                    <a:pt x="416" y="611"/>
                  </a:lnTo>
                  <a:lnTo>
                    <a:pt x="408" y="607"/>
                  </a:lnTo>
                  <a:lnTo>
                    <a:pt x="401" y="601"/>
                  </a:lnTo>
                  <a:lnTo>
                    <a:pt x="396" y="596"/>
                  </a:lnTo>
                  <a:lnTo>
                    <a:pt x="388" y="589"/>
                  </a:lnTo>
                  <a:lnTo>
                    <a:pt x="380" y="583"/>
                  </a:lnTo>
                  <a:lnTo>
                    <a:pt x="371" y="577"/>
                  </a:lnTo>
                  <a:lnTo>
                    <a:pt x="362" y="572"/>
                  </a:lnTo>
                  <a:lnTo>
                    <a:pt x="352" y="567"/>
                  </a:lnTo>
                  <a:lnTo>
                    <a:pt x="342" y="563"/>
                  </a:lnTo>
                  <a:lnTo>
                    <a:pt x="321" y="557"/>
                  </a:lnTo>
                  <a:lnTo>
                    <a:pt x="298" y="554"/>
                  </a:lnTo>
                  <a:lnTo>
                    <a:pt x="286" y="553"/>
                  </a:lnTo>
                  <a:lnTo>
                    <a:pt x="274" y="553"/>
                  </a:lnTo>
                  <a:lnTo>
                    <a:pt x="261" y="554"/>
                  </a:lnTo>
                  <a:lnTo>
                    <a:pt x="249" y="556"/>
                  </a:lnTo>
                  <a:lnTo>
                    <a:pt x="237" y="558"/>
                  </a:lnTo>
                  <a:lnTo>
                    <a:pt x="225" y="561"/>
                  </a:lnTo>
                </a:path>
              </a:pathLst>
            </a:cu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15720" y="486396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4920" y="4648320"/>
            <a:ext cx="1676160" cy="831600"/>
            <a:chOff x="304920" y="4648320"/>
            <a:chExt cx="1676160" cy="831600"/>
          </a:xfrm>
        </p:grpSpPr>
        <p:sp>
          <p:nvSpPr>
            <p:cNvPr id="79" name=""/>
            <p:cNvSpPr/>
            <p:nvPr/>
          </p:nvSpPr>
          <p:spPr>
            <a:xfrm>
              <a:off x="304920" y="4648320"/>
              <a:ext cx="1676160" cy="831600"/>
            </a:xfrm>
            <a:custGeom>
              <a:avLst/>
              <a:gdLst/>
              <a:ahLst/>
              <a:rect l="l" t="t" r="r" b="b"/>
              <a:pathLst>
                <a:path w="1225" h="675">
                  <a:moveTo>
                    <a:pt x="225" y="561"/>
                  </a:moveTo>
                  <a:lnTo>
                    <a:pt x="214" y="565"/>
                  </a:lnTo>
                  <a:lnTo>
                    <a:pt x="202" y="566"/>
                  </a:lnTo>
                  <a:lnTo>
                    <a:pt x="190" y="568"/>
                  </a:lnTo>
                  <a:lnTo>
                    <a:pt x="178" y="568"/>
                  </a:lnTo>
                  <a:lnTo>
                    <a:pt x="167" y="568"/>
                  </a:lnTo>
                  <a:lnTo>
                    <a:pt x="156" y="567"/>
                  </a:lnTo>
                  <a:lnTo>
                    <a:pt x="144" y="565"/>
                  </a:lnTo>
                  <a:lnTo>
                    <a:pt x="133" y="564"/>
                  </a:lnTo>
                  <a:lnTo>
                    <a:pt x="112" y="558"/>
                  </a:lnTo>
                  <a:lnTo>
                    <a:pt x="92" y="552"/>
                  </a:lnTo>
                  <a:lnTo>
                    <a:pt x="75" y="542"/>
                  </a:lnTo>
                  <a:lnTo>
                    <a:pt x="60" y="532"/>
                  </a:lnTo>
                  <a:lnTo>
                    <a:pt x="49" y="521"/>
                  </a:lnTo>
                  <a:lnTo>
                    <a:pt x="44" y="516"/>
                  </a:lnTo>
                  <a:lnTo>
                    <a:pt x="40" y="510"/>
                  </a:lnTo>
                  <a:lnTo>
                    <a:pt x="37" y="505"/>
                  </a:lnTo>
                  <a:lnTo>
                    <a:pt x="37" y="498"/>
                  </a:lnTo>
                  <a:lnTo>
                    <a:pt x="36" y="492"/>
                  </a:lnTo>
                  <a:lnTo>
                    <a:pt x="37" y="486"/>
                  </a:lnTo>
                  <a:lnTo>
                    <a:pt x="38" y="480"/>
                  </a:lnTo>
                  <a:lnTo>
                    <a:pt x="42" y="474"/>
                  </a:lnTo>
                  <a:lnTo>
                    <a:pt x="47" y="468"/>
                  </a:lnTo>
                  <a:lnTo>
                    <a:pt x="53" y="463"/>
                  </a:lnTo>
                  <a:lnTo>
                    <a:pt x="60" y="458"/>
                  </a:lnTo>
                  <a:lnTo>
                    <a:pt x="69" y="453"/>
                  </a:lnTo>
                  <a:lnTo>
                    <a:pt x="80" y="448"/>
                  </a:lnTo>
                  <a:lnTo>
                    <a:pt x="92" y="443"/>
                  </a:lnTo>
                  <a:lnTo>
                    <a:pt x="106" y="438"/>
                  </a:lnTo>
                  <a:lnTo>
                    <a:pt x="118" y="432"/>
                  </a:lnTo>
                  <a:lnTo>
                    <a:pt x="128" y="425"/>
                  </a:lnTo>
                  <a:lnTo>
                    <a:pt x="136" y="418"/>
                  </a:lnTo>
                  <a:lnTo>
                    <a:pt x="142" y="410"/>
                  </a:lnTo>
                  <a:lnTo>
                    <a:pt x="145" y="402"/>
                  </a:lnTo>
                  <a:lnTo>
                    <a:pt x="147" y="394"/>
                  </a:lnTo>
                  <a:lnTo>
                    <a:pt x="146" y="387"/>
                  </a:lnTo>
                  <a:lnTo>
                    <a:pt x="143" y="379"/>
                  </a:lnTo>
                  <a:lnTo>
                    <a:pt x="139" y="371"/>
                  </a:lnTo>
                  <a:lnTo>
                    <a:pt x="133" y="363"/>
                  </a:lnTo>
                  <a:lnTo>
                    <a:pt x="125" y="356"/>
                  </a:lnTo>
                  <a:lnTo>
                    <a:pt x="114" y="349"/>
                  </a:lnTo>
                  <a:lnTo>
                    <a:pt x="103" y="342"/>
                  </a:lnTo>
                  <a:lnTo>
                    <a:pt x="90" y="337"/>
                  </a:lnTo>
                  <a:lnTo>
                    <a:pt x="74" y="332"/>
                  </a:lnTo>
                  <a:lnTo>
                    <a:pt x="64" y="329"/>
                  </a:lnTo>
                  <a:lnTo>
                    <a:pt x="53" y="325"/>
                  </a:lnTo>
                  <a:lnTo>
                    <a:pt x="44" y="320"/>
                  </a:lnTo>
                  <a:lnTo>
                    <a:pt x="36" y="315"/>
                  </a:lnTo>
                  <a:lnTo>
                    <a:pt x="28" y="311"/>
                  </a:lnTo>
                  <a:lnTo>
                    <a:pt x="22" y="306"/>
                  </a:lnTo>
                  <a:lnTo>
                    <a:pt x="16" y="300"/>
                  </a:lnTo>
                  <a:lnTo>
                    <a:pt x="11" y="294"/>
                  </a:lnTo>
                  <a:lnTo>
                    <a:pt x="7" y="287"/>
                  </a:lnTo>
                  <a:lnTo>
                    <a:pt x="4" y="282"/>
                  </a:lnTo>
                  <a:lnTo>
                    <a:pt x="2" y="276"/>
                  </a:lnTo>
                  <a:lnTo>
                    <a:pt x="0" y="269"/>
                  </a:lnTo>
                  <a:lnTo>
                    <a:pt x="0" y="262"/>
                  </a:lnTo>
                  <a:lnTo>
                    <a:pt x="0" y="256"/>
                  </a:lnTo>
                  <a:lnTo>
                    <a:pt x="3" y="243"/>
                  </a:lnTo>
                  <a:lnTo>
                    <a:pt x="6" y="237"/>
                  </a:lnTo>
                  <a:lnTo>
                    <a:pt x="9" y="231"/>
                  </a:lnTo>
                  <a:lnTo>
                    <a:pt x="19" y="219"/>
                  </a:lnTo>
                  <a:lnTo>
                    <a:pt x="30" y="208"/>
                  </a:lnTo>
                  <a:lnTo>
                    <a:pt x="37" y="202"/>
                  </a:lnTo>
                  <a:lnTo>
                    <a:pt x="45" y="196"/>
                  </a:lnTo>
                  <a:lnTo>
                    <a:pt x="53" y="192"/>
                  </a:lnTo>
                  <a:lnTo>
                    <a:pt x="63" y="188"/>
                  </a:lnTo>
                  <a:lnTo>
                    <a:pt x="83" y="180"/>
                  </a:lnTo>
                  <a:lnTo>
                    <a:pt x="94" y="177"/>
                  </a:lnTo>
                  <a:lnTo>
                    <a:pt x="106" y="175"/>
                  </a:lnTo>
                  <a:lnTo>
                    <a:pt x="118" y="173"/>
                  </a:lnTo>
                  <a:lnTo>
                    <a:pt x="131" y="171"/>
                  </a:lnTo>
                  <a:lnTo>
                    <a:pt x="168" y="166"/>
                  </a:lnTo>
                  <a:lnTo>
                    <a:pt x="186" y="163"/>
                  </a:lnTo>
                  <a:lnTo>
                    <a:pt x="202" y="159"/>
                  </a:lnTo>
                  <a:lnTo>
                    <a:pt x="218" y="155"/>
                  </a:lnTo>
                  <a:lnTo>
                    <a:pt x="234" y="149"/>
                  </a:lnTo>
                  <a:lnTo>
                    <a:pt x="249" y="143"/>
                  </a:lnTo>
                  <a:lnTo>
                    <a:pt x="263" y="137"/>
                  </a:lnTo>
                  <a:lnTo>
                    <a:pt x="276" y="130"/>
                  </a:lnTo>
                  <a:lnTo>
                    <a:pt x="288" y="124"/>
                  </a:lnTo>
                  <a:lnTo>
                    <a:pt x="298" y="117"/>
                  </a:lnTo>
                  <a:lnTo>
                    <a:pt x="308" y="110"/>
                  </a:lnTo>
                  <a:lnTo>
                    <a:pt x="316" y="103"/>
                  </a:lnTo>
                  <a:lnTo>
                    <a:pt x="322" y="96"/>
                  </a:lnTo>
                  <a:lnTo>
                    <a:pt x="328" y="89"/>
                  </a:lnTo>
                  <a:lnTo>
                    <a:pt x="332" y="83"/>
                  </a:lnTo>
                  <a:lnTo>
                    <a:pt x="336" y="72"/>
                  </a:lnTo>
                  <a:lnTo>
                    <a:pt x="343" y="63"/>
                  </a:lnTo>
                  <a:lnTo>
                    <a:pt x="351" y="55"/>
                  </a:lnTo>
                  <a:lnTo>
                    <a:pt x="360" y="47"/>
                  </a:lnTo>
                  <a:lnTo>
                    <a:pt x="370" y="40"/>
                  </a:lnTo>
                  <a:lnTo>
                    <a:pt x="381" y="33"/>
                  </a:lnTo>
                  <a:lnTo>
                    <a:pt x="393" y="27"/>
                  </a:lnTo>
                  <a:lnTo>
                    <a:pt x="406" y="22"/>
                  </a:lnTo>
                  <a:lnTo>
                    <a:pt x="419" y="17"/>
                  </a:lnTo>
                  <a:lnTo>
                    <a:pt x="433" y="12"/>
                  </a:lnTo>
                  <a:lnTo>
                    <a:pt x="447" y="9"/>
                  </a:lnTo>
                  <a:lnTo>
                    <a:pt x="463" y="6"/>
                  </a:lnTo>
                  <a:lnTo>
                    <a:pt x="494" y="2"/>
                  </a:lnTo>
                  <a:lnTo>
                    <a:pt x="526" y="0"/>
                  </a:lnTo>
                  <a:lnTo>
                    <a:pt x="558" y="1"/>
                  </a:lnTo>
                  <a:lnTo>
                    <a:pt x="590" y="3"/>
                  </a:lnTo>
                  <a:lnTo>
                    <a:pt x="619" y="9"/>
                  </a:lnTo>
                  <a:lnTo>
                    <a:pt x="634" y="12"/>
                  </a:lnTo>
                  <a:lnTo>
                    <a:pt x="649" y="17"/>
                  </a:lnTo>
                  <a:lnTo>
                    <a:pt x="661" y="21"/>
                  </a:lnTo>
                  <a:lnTo>
                    <a:pt x="674" y="25"/>
                  </a:lnTo>
                  <a:lnTo>
                    <a:pt x="696" y="37"/>
                  </a:lnTo>
                  <a:lnTo>
                    <a:pt x="706" y="43"/>
                  </a:lnTo>
                  <a:lnTo>
                    <a:pt x="714" y="51"/>
                  </a:lnTo>
                  <a:lnTo>
                    <a:pt x="723" y="58"/>
                  </a:lnTo>
                  <a:lnTo>
                    <a:pt x="728" y="67"/>
                  </a:lnTo>
                  <a:lnTo>
                    <a:pt x="737" y="80"/>
                  </a:lnTo>
                  <a:lnTo>
                    <a:pt x="746" y="91"/>
                  </a:lnTo>
                  <a:lnTo>
                    <a:pt x="756" y="102"/>
                  </a:lnTo>
                  <a:lnTo>
                    <a:pt x="767" y="110"/>
                  </a:lnTo>
                  <a:lnTo>
                    <a:pt x="779" y="119"/>
                  </a:lnTo>
                  <a:lnTo>
                    <a:pt x="791" y="126"/>
                  </a:lnTo>
                  <a:lnTo>
                    <a:pt x="806" y="132"/>
                  </a:lnTo>
                  <a:lnTo>
                    <a:pt x="821" y="137"/>
                  </a:lnTo>
                  <a:lnTo>
                    <a:pt x="837" y="142"/>
                  </a:lnTo>
                  <a:lnTo>
                    <a:pt x="855" y="144"/>
                  </a:lnTo>
                  <a:lnTo>
                    <a:pt x="873" y="147"/>
                  </a:lnTo>
                  <a:lnTo>
                    <a:pt x="894" y="148"/>
                  </a:lnTo>
                  <a:lnTo>
                    <a:pt x="916" y="148"/>
                  </a:lnTo>
                  <a:lnTo>
                    <a:pt x="939" y="147"/>
                  </a:lnTo>
                  <a:lnTo>
                    <a:pt x="990" y="142"/>
                  </a:lnTo>
                  <a:lnTo>
                    <a:pt x="1011" y="139"/>
                  </a:lnTo>
                  <a:lnTo>
                    <a:pt x="1032" y="137"/>
                  </a:lnTo>
                  <a:lnTo>
                    <a:pt x="1051" y="137"/>
                  </a:lnTo>
                  <a:lnTo>
                    <a:pt x="1068" y="137"/>
                  </a:lnTo>
                  <a:lnTo>
                    <a:pt x="1087" y="138"/>
                  </a:lnTo>
                  <a:lnTo>
                    <a:pt x="1103" y="141"/>
                  </a:lnTo>
                  <a:lnTo>
                    <a:pt x="1118" y="143"/>
                  </a:lnTo>
                  <a:lnTo>
                    <a:pt x="1133" y="147"/>
                  </a:lnTo>
                  <a:lnTo>
                    <a:pt x="1146" y="150"/>
                  </a:lnTo>
                  <a:lnTo>
                    <a:pt x="1158" y="155"/>
                  </a:lnTo>
                  <a:lnTo>
                    <a:pt x="1171" y="160"/>
                  </a:lnTo>
                  <a:lnTo>
                    <a:pt x="1181" y="166"/>
                  </a:lnTo>
                  <a:lnTo>
                    <a:pt x="1189" y="171"/>
                  </a:lnTo>
                  <a:lnTo>
                    <a:pt x="1198" y="178"/>
                  </a:lnTo>
                  <a:lnTo>
                    <a:pt x="1205" y="185"/>
                  </a:lnTo>
                  <a:lnTo>
                    <a:pt x="1212" y="192"/>
                  </a:lnTo>
                  <a:lnTo>
                    <a:pt x="1216" y="200"/>
                  </a:lnTo>
                  <a:lnTo>
                    <a:pt x="1219" y="207"/>
                  </a:lnTo>
                  <a:lnTo>
                    <a:pt x="1222" y="215"/>
                  </a:lnTo>
                  <a:lnTo>
                    <a:pt x="1224" y="221"/>
                  </a:lnTo>
                  <a:lnTo>
                    <a:pt x="1224" y="229"/>
                  </a:lnTo>
                  <a:lnTo>
                    <a:pt x="1224" y="237"/>
                  </a:lnTo>
                  <a:lnTo>
                    <a:pt x="1222" y="244"/>
                  </a:lnTo>
                  <a:lnTo>
                    <a:pt x="1217" y="253"/>
                  </a:lnTo>
                  <a:lnTo>
                    <a:pt x="1214" y="259"/>
                  </a:lnTo>
                  <a:lnTo>
                    <a:pt x="1208" y="267"/>
                  </a:lnTo>
                  <a:lnTo>
                    <a:pt x="1202" y="274"/>
                  </a:lnTo>
                  <a:lnTo>
                    <a:pt x="1193" y="280"/>
                  </a:lnTo>
                  <a:lnTo>
                    <a:pt x="1183" y="286"/>
                  </a:lnTo>
                  <a:lnTo>
                    <a:pt x="1172" y="291"/>
                  </a:lnTo>
                  <a:lnTo>
                    <a:pt x="1160" y="297"/>
                  </a:lnTo>
                  <a:lnTo>
                    <a:pt x="1147" y="301"/>
                  </a:lnTo>
                  <a:lnTo>
                    <a:pt x="1134" y="306"/>
                  </a:lnTo>
                  <a:lnTo>
                    <a:pt x="1123" y="311"/>
                  </a:lnTo>
                  <a:lnTo>
                    <a:pt x="1112" y="315"/>
                  </a:lnTo>
                  <a:lnTo>
                    <a:pt x="1104" y="320"/>
                  </a:lnTo>
                  <a:lnTo>
                    <a:pt x="1097" y="326"/>
                  </a:lnTo>
                  <a:lnTo>
                    <a:pt x="1091" y="331"/>
                  </a:lnTo>
                  <a:lnTo>
                    <a:pt x="1087" y="337"/>
                  </a:lnTo>
                  <a:lnTo>
                    <a:pt x="1084" y="342"/>
                  </a:lnTo>
                  <a:lnTo>
                    <a:pt x="1083" y="348"/>
                  </a:lnTo>
                  <a:lnTo>
                    <a:pt x="1082" y="354"/>
                  </a:lnTo>
                  <a:lnTo>
                    <a:pt x="1083" y="360"/>
                  </a:lnTo>
                  <a:lnTo>
                    <a:pt x="1086" y="365"/>
                  </a:lnTo>
                  <a:lnTo>
                    <a:pt x="1089" y="370"/>
                  </a:lnTo>
                  <a:lnTo>
                    <a:pt x="1095" y="375"/>
                  </a:lnTo>
                  <a:lnTo>
                    <a:pt x="1100" y="380"/>
                  </a:lnTo>
                  <a:lnTo>
                    <a:pt x="1108" y="384"/>
                  </a:lnTo>
                  <a:lnTo>
                    <a:pt x="1119" y="393"/>
                  </a:lnTo>
                  <a:lnTo>
                    <a:pt x="1128" y="402"/>
                  </a:lnTo>
                  <a:lnTo>
                    <a:pt x="1136" y="412"/>
                  </a:lnTo>
                  <a:lnTo>
                    <a:pt x="1139" y="417"/>
                  </a:lnTo>
                  <a:lnTo>
                    <a:pt x="1142" y="422"/>
                  </a:lnTo>
                  <a:lnTo>
                    <a:pt x="1144" y="433"/>
                  </a:lnTo>
                  <a:lnTo>
                    <a:pt x="1146" y="444"/>
                  </a:lnTo>
                  <a:lnTo>
                    <a:pt x="1144" y="455"/>
                  </a:lnTo>
                  <a:lnTo>
                    <a:pt x="1142" y="466"/>
                  </a:lnTo>
                  <a:lnTo>
                    <a:pt x="1136" y="476"/>
                  </a:lnTo>
                  <a:lnTo>
                    <a:pt x="1129" y="486"/>
                  </a:lnTo>
                  <a:lnTo>
                    <a:pt x="1119" y="495"/>
                  </a:lnTo>
                  <a:lnTo>
                    <a:pt x="1108" y="503"/>
                  </a:lnTo>
                  <a:lnTo>
                    <a:pt x="1094" y="510"/>
                  </a:lnTo>
                  <a:lnTo>
                    <a:pt x="1077" y="516"/>
                  </a:lnTo>
                  <a:lnTo>
                    <a:pt x="1058" y="520"/>
                  </a:lnTo>
                  <a:lnTo>
                    <a:pt x="1037" y="523"/>
                  </a:lnTo>
                  <a:lnTo>
                    <a:pt x="1022" y="525"/>
                  </a:lnTo>
                  <a:lnTo>
                    <a:pt x="1007" y="527"/>
                  </a:lnTo>
                  <a:lnTo>
                    <a:pt x="978" y="533"/>
                  </a:lnTo>
                  <a:lnTo>
                    <a:pt x="963" y="536"/>
                  </a:lnTo>
                  <a:lnTo>
                    <a:pt x="950" y="541"/>
                  </a:lnTo>
                  <a:lnTo>
                    <a:pt x="938" y="546"/>
                  </a:lnTo>
                  <a:lnTo>
                    <a:pt x="926" y="552"/>
                  </a:lnTo>
                  <a:lnTo>
                    <a:pt x="916" y="558"/>
                  </a:lnTo>
                  <a:lnTo>
                    <a:pt x="905" y="565"/>
                  </a:lnTo>
                  <a:lnTo>
                    <a:pt x="897" y="572"/>
                  </a:lnTo>
                  <a:lnTo>
                    <a:pt x="890" y="579"/>
                  </a:lnTo>
                  <a:lnTo>
                    <a:pt x="884" y="589"/>
                  </a:lnTo>
                  <a:lnTo>
                    <a:pt x="880" y="598"/>
                  </a:lnTo>
                  <a:lnTo>
                    <a:pt x="877" y="608"/>
                  </a:lnTo>
                  <a:lnTo>
                    <a:pt x="877" y="618"/>
                  </a:lnTo>
                  <a:lnTo>
                    <a:pt x="877" y="624"/>
                  </a:lnTo>
                  <a:lnTo>
                    <a:pt x="876" y="629"/>
                  </a:lnTo>
                  <a:lnTo>
                    <a:pt x="873" y="634"/>
                  </a:lnTo>
                  <a:lnTo>
                    <a:pt x="871" y="639"/>
                  </a:lnTo>
                  <a:lnTo>
                    <a:pt x="868" y="643"/>
                  </a:lnTo>
                  <a:lnTo>
                    <a:pt x="863" y="647"/>
                  </a:lnTo>
                  <a:lnTo>
                    <a:pt x="858" y="651"/>
                  </a:lnTo>
                  <a:lnTo>
                    <a:pt x="854" y="655"/>
                  </a:lnTo>
                  <a:lnTo>
                    <a:pt x="848" y="658"/>
                  </a:lnTo>
                  <a:lnTo>
                    <a:pt x="842" y="661"/>
                  </a:lnTo>
                  <a:lnTo>
                    <a:pt x="828" y="666"/>
                  </a:lnTo>
                  <a:lnTo>
                    <a:pt x="813" y="671"/>
                  </a:lnTo>
                  <a:lnTo>
                    <a:pt x="797" y="673"/>
                  </a:lnTo>
                  <a:lnTo>
                    <a:pt x="782" y="674"/>
                  </a:lnTo>
                  <a:lnTo>
                    <a:pt x="765" y="674"/>
                  </a:lnTo>
                  <a:lnTo>
                    <a:pt x="749" y="672"/>
                  </a:lnTo>
                  <a:lnTo>
                    <a:pt x="735" y="669"/>
                  </a:lnTo>
                  <a:lnTo>
                    <a:pt x="721" y="665"/>
                  </a:lnTo>
                  <a:lnTo>
                    <a:pt x="709" y="659"/>
                  </a:lnTo>
                  <a:lnTo>
                    <a:pt x="700" y="651"/>
                  </a:lnTo>
                  <a:lnTo>
                    <a:pt x="696" y="647"/>
                  </a:lnTo>
                  <a:lnTo>
                    <a:pt x="694" y="643"/>
                  </a:lnTo>
                  <a:lnTo>
                    <a:pt x="690" y="637"/>
                  </a:lnTo>
                  <a:lnTo>
                    <a:pt x="685" y="632"/>
                  </a:lnTo>
                  <a:lnTo>
                    <a:pt x="680" y="628"/>
                  </a:lnTo>
                  <a:lnTo>
                    <a:pt x="675" y="624"/>
                  </a:lnTo>
                  <a:lnTo>
                    <a:pt x="669" y="621"/>
                  </a:lnTo>
                  <a:lnTo>
                    <a:pt x="663" y="618"/>
                  </a:lnTo>
                  <a:lnTo>
                    <a:pt x="656" y="616"/>
                  </a:lnTo>
                  <a:lnTo>
                    <a:pt x="649" y="614"/>
                  </a:lnTo>
                  <a:lnTo>
                    <a:pt x="641" y="613"/>
                  </a:lnTo>
                  <a:lnTo>
                    <a:pt x="633" y="612"/>
                  </a:lnTo>
                  <a:lnTo>
                    <a:pt x="616" y="612"/>
                  </a:lnTo>
                  <a:lnTo>
                    <a:pt x="599" y="615"/>
                  </a:lnTo>
                  <a:lnTo>
                    <a:pt x="581" y="619"/>
                  </a:lnTo>
                  <a:lnTo>
                    <a:pt x="565" y="623"/>
                  </a:lnTo>
                  <a:lnTo>
                    <a:pt x="549" y="626"/>
                  </a:lnTo>
                  <a:lnTo>
                    <a:pt x="534" y="629"/>
                  </a:lnTo>
                  <a:lnTo>
                    <a:pt x="520" y="630"/>
                  </a:lnTo>
                  <a:lnTo>
                    <a:pt x="492" y="631"/>
                  </a:lnTo>
                  <a:lnTo>
                    <a:pt x="480" y="630"/>
                  </a:lnTo>
                  <a:lnTo>
                    <a:pt x="467" y="628"/>
                  </a:lnTo>
                  <a:lnTo>
                    <a:pt x="455" y="626"/>
                  </a:lnTo>
                  <a:lnTo>
                    <a:pt x="444" y="623"/>
                  </a:lnTo>
                  <a:lnTo>
                    <a:pt x="434" y="619"/>
                  </a:lnTo>
                  <a:lnTo>
                    <a:pt x="425" y="616"/>
                  </a:lnTo>
                  <a:lnTo>
                    <a:pt x="416" y="611"/>
                  </a:lnTo>
                  <a:lnTo>
                    <a:pt x="408" y="607"/>
                  </a:lnTo>
                  <a:lnTo>
                    <a:pt x="401" y="601"/>
                  </a:lnTo>
                  <a:lnTo>
                    <a:pt x="396" y="596"/>
                  </a:lnTo>
                  <a:lnTo>
                    <a:pt x="388" y="589"/>
                  </a:lnTo>
                  <a:lnTo>
                    <a:pt x="380" y="583"/>
                  </a:lnTo>
                  <a:lnTo>
                    <a:pt x="371" y="577"/>
                  </a:lnTo>
                  <a:lnTo>
                    <a:pt x="362" y="572"/>
                  </a:lnTo>
                  <a:lnTo>
                    <a:pt x="352" y="567"/>
                  </a:lnTo>
                  <a:lnTo>
                    <a:pt x="342" y="563"/>
                  </a:lnTo>
                  <a:lnTo>
                    <a:pt x="321" y="557"/>
                  </a:lnTo>
                  <a:lnTo>
                    <a:pt x="298" y="554"/>
                  </a:lnTo>
                  <a:lnTo>
                    <a:pt x="286" y="553"/>
                  </a:lnTo>
                  <a:lnTo>
                    <a:pt x="274" y="553"/>
                  </a:lnTo>
                  <a:lnTo>
                    <a:pt x="261" y="554"/>
                  </a:lnTo>
                  <a:lnTo>
                    <a:pt x="249" y="556"/>
                  </a:lnTo>
                  <a:lnTo>
                    <a:pt x="237" y="558"/>
                  </a:lnTo>
                  <a:lnTo>
                    <a:pt x="225" y="561"/>
                  </a:lnTo>
                </a:path>
              </a:pathLst>
            </a:cu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2040" y="486396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Interne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638680" y="15238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Amb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W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48160" y="5257800"/>
            <a:ext cx="35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Times New Roman"/>
              </a:rPr>
              <a:t>3FFE:8070:100D::/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Narrow"/>
              </a:rPr>
              <a:t>Areas de trabajo</a:t>
            </a:r>
            <a:endParaRPr b="0" lang="en-US" sz="4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Arial Narrow"/>
              </a:rPr>
              <a:t>Seguridad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VPNs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DNSSEC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Arial Narrow"/>
              </a:rPr>
              <a:t>Calidad de Servicio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DiffServ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Métricas activas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Arial Narrow"/>
              </a:rPr>
              <a:t>Migración IPv4 -&gt;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Políticas de mi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DS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Desarrollo de 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6600"/>
                </a:solidFill>
                <a:latin typeface="Arial Narrow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 Narrow"/>
              </a:rPr>
              <a:t>Codificación MPEG para Diff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valuación de desempeño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Modelado analítico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Simulación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Metrología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 Narrow"/>
              </a:rPr>
              <a:t>Monitoreo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urier New"/>
              </a:rPr>
              <a:t>Plataforma administración: SNMP/V. MIB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urier New"/>
              </a:rPr>
              <a:t>Analizador de protocolo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 Narrow"/>
              </a:rPr>
              <a:t>Sondas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urier New"/>
              </a:rPr>
              <a:t>Pasiva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00"/>
                </a:solidFill>
                <a:latin typeface="Courier New"/>
              </a:rPr>
              <a:t>Métricas derivadas analizando el flujo de la aplicación</a:t>
            </a:r>
            <a:endParaRPr b="0" lang="en-US" sz="1800" spc="-1" strike="noStrike">
              <a:solidFill>
                <a:srgbClr val="006600"/>
              </a:solidFill>
              <a:latin typeface="Courier New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urier New"/>
              </a:rPr>
              <a:t>Activa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00"/>
                </a:solidFill>
                <a:latin typeface="Courier New"/>
              </a:rPr>
              <a:t>Se introduce un flujo de evaluación</a:t>
            </a:r>
            <a:endParaRPr b="0" lang="en-US" sz="1800" spc="-1" strike="noStrike">
              <a:solidFill>
                <a:srgbClr val="006600"/>
              </a:solidFill>
              <a:latin typeface="Courier New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Sondas de evaluación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Permiten evaluación de desempeño extremo a extremo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00"/>
                </a:solidFill>
                <a:latin typeface="Arial Narrow"/>
              </a:rPr>
              <a:t>Basadas en estándares:</a:t>
            </a:r>
            <a:endParaRPr b="0" lang="en-US" sz="3200" spc="-1" strike="noStrike">
              <a:solidFill>
                <a:srgbClr val="0066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ITU  (Métricas estadísticas)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 Narrow"/>
              </a:rPr>
              <a:t>IETF – IPPM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Conectivida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Retardo y pérdida ida y vuelta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Retardo y pérdida en una direcció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53080" y="50292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51055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La sonda Saturne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Mide retardo y pérdida en una dirección (OWD, OWPLR)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Sincronización vía GP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Toma en consideración Clases de Servicio de DiffServ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Desarrollada para FreeBSD 4.4 a 4.6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00"/>
                </a:solidFill>
                <a:latin typeface="Arial Narrow"/>
              </a:rPr>
              <a:t>Sello de tiempo a nivel IP / Enlace de datos</a:t>
            </a:r>
            <a:endParaRPr b="0" lang="en-US" sz="2800" spc="-1" strike="noStrike">
              <a:solidFill>
                <a:srgbClr val="0066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533520" cy="5241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647800" y="4873680"/>
            <a:ext cx="2934000" cy="1241280"/>
            <a:chOff x="2647800" y="4873680"/>
            <a:chExt cx="2934000" cy="1241280"/>
          </a:xfrm>
        </p:grpSpPr>
        <p:sp>
          <p:nvSpPr>
            <p:cNvPr id="96" name=""/>
            <p:cNvSpPr/>
            <p:nvPr/>
          </p:nvSpPr>
          <p:spPr>
            <a:xfrm>
              <a:off x="2647800" y="4873680"/>
              <a:ext cx="2934000" cy="1241280"/>
            </a:xfrm>
            <a:prstGeom prst="cloudCallout">
              <a:avLst>
                <a:gd name="adj1" fmla="val 15981"/>
                <a:gd name="adj2" fmla="val -156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43120" y="4969080"/>
              <a:ext cx="70020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0120" y="5016600"/>
              <a:ext cx="174960" cy="23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324480" y="4648320"/>
            <a:ext cx="533520" cy="52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4300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8360" y="5257800"/>
            <a:ext cx="266760" cy="30492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24" y="0"/>
                </a:moveTo>
                <a:cubicBezTo>
                  <a:pt x="12" y="36"/>
                  <a:pt x="0" y="72"/>
                  <a:pt x="24" y="96"/>
                </a:cubicBezTo>
                <a:cubicBezTo>
                  <a:pt x="48" y="120"/>
                  <a:pt x="108" y="132"/>
                  <a:pt x="168" y="144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24560" y="55627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5914400">
            <a:off x="6197400" y="5206680"/>
            <a:ext cx="266760" cy="30456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24" y="0"/>
                </a:moveTo>
                <a:cubicBezTo>
                  <a:pt x="12" y="36"/>
                  <a:pt x="0" y="72"/>
                  <a:pt x="24" y="96"/>
                </a:cubicBezTo>
                <a:cubicBezTo>
                  <a:pt x="48" y="120"/>
                  <a:pt x="108" y="132"/>
                  <a:pt x="168" y="144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Módulos de Saturne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1743120"/>
            <a:ext cx="8077320" cy="3971880"/>
            <a:chOff x="685800" y="1743120"/>
            <a:chExt cx="8077320" cy="3971880"/>
          </a:xfrm>
        </p:grpSpPr>
        <p:sp>
          <p:nvSpPr>
            <p:cNvPr id="106" name=""/>
            <p:cNvSpPr/>
            <p:nvPr/>
          </p:nvSpPr>
          <p:spPr>
            <a:xfrm>
              <a:off x="5334120" y="4181400"/>
              <a:ext cx="14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2960" y="4181400"/>
              <a:ext cx="1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4867200"/>
              <a:ext cx="2057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5240" y="4867200"/>
              <a:ext cx="1524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85800" y="1743120"/>
              <a:ext cx="1752480" cy="2438280"/>
              <a:chOff x="685800" y="1743120"/>
              <a:chExt cx="1752480" cy="243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" y="1743120"/>
                <a:ext cx="17524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3280" y="1971720"/>
                <a:ext cx="13665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Sinc. G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N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3076560"/>
                <a:ext cx="137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Sello de tiemp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833040" y="3610080"/>
                <a:ext cx="720360" cy="380880"/>
                <a:chOff x="833040" y="3610080"/>
                <a:chExt cx="72036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56800" y="3610080"/>
                  <a:ext cx="6854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33040" y="3633840"/>
                  <a:ext cx="72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Times New Roman"/>
                    </a:rPr>
                    <a:t>ALT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487520" y="3610080"/>
                <a:ext cx="801000" cy="380880"/>
                <a:chOff x="1487520" y="3610080"/>
                <a:chExt cx="80100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44400" y="3610080"/>
                  <a:ext cx="68580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87520" y="3632400"/>
                  <a:ext cx="801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Times New Roman"/>
                    </a:rPr>
                    <a:t>AdSer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523880" y="2676600"/>
                <a:ext cx="0" cy="38088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 flipV="1">
              <a:off x="1676520" y="433404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724120" y="4371840"/>
              <a:ext cx="1619280" cy="1343160"/>
              <a:chOff x="2724120" y="4371840"/>
              <a:chExt cx="1619280" cy="1343160"/>
            </a:xfrm>
          </p:grpSpPr>
          <p:sp>
            <p:nvSpPr>
              <p:cNvPr id="123" name=""/>
              <p:cNvSpPr/>
              <p:nvPr/>
            </p:nvSpPr>
            <p:spPr>
              <a:xfrm>
                <a:off x="2724120" y="4371840"/>
                <a:ext cx="1619280" cy="1343160"/>
              </a:xfrm>
              <a:prstGeom prst="cloudCallout">
                <a:avLst>
                  <a:gd name="adj1" fmla="val 15981"/>
                  <a:gd name="adj2" fmla="val -1562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5200" y="4474800"/>
                <a:ext cx="386640" cy="56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77720" y="4526640"/>
                <a:ext cx="96480" cy="25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 rot="16200000">
              <a:off x="4772160" y="429588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448160" y="1743120"/>
              <a:ext cx="1752480" cy="2438280"/>
              <a:chOff x="4448160" y="1743120"/>
              <a:chExt cx="1752480" cy="2438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448160" y="1743120"/>
                <a:ext cx="17524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26000" y="1971720"/>
                <a:ext cx="13665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Sinc. G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N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19520" y="3076560"/>
                <a:ext cx="137304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Módulo captur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86240" y="2676600"/>
                <a:ext cx="0" cy="38088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4622760" y="3610080"/>
                <a:ext cx="1371600" cy="380880"/>
                <a:chOff x="4622760" y="3610080"/>
                <a:chExt cx="1371600" cy="380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622760" y="3610080"/>
                  <a:ext cx="137160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52600" y="3627360"/>
                  <a:ext cx="54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Times New Roman"/>
                    </a:rPr>
                    <a:t>BP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7467480" y="2198520"/>
              <a:ext cx="1066680" cy="896760"/>
              <a:chOff x="7467480" y="2198520"/>
              <a:chExt cx="1066680" cy="8967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7467480" y="2198520"/>
                <a:ext cx="1066680" cy="896760"/>
                <a:chOff x="7467480" y="2198520"/>
                <a:chExt cx="1066680" cy="8967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467480" y="2828520"/>
                  <a:ext cx="1066680" cy="266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67480" y="2335320"/>
                  <a:ext cx="1066680" cy="622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467480" y="2198520"/>
                  <a:ext cx="1066680" cy="266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480" y="2335320"/>
                  <a:ext cx="0" cy="62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534160" y="2335320"/>
                  <a:ext cx="0" cy="62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7593480" y="2473200"/>
                <a:ext cx="817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6600"/>
                    </a:solidFill>
                    <a:latin typeface="Times New Roman"/>
                  </a:rPr>
                  <a:t>Base de</a:t>
                </a:r>
                <a:br>
                  <a:rPr sz="1600"/>
                </a:br>
                <a:r>
                  <a:rPr b="0" lang="es-MX" sz="1600" spc="-1" strike="noStrike">
                    <a:solidFill>
                      <a:srgbClr val="006600"/>
                    </a:solidFill>
                    <a:latin typeface="Times New Roman"/>
                  </a:rPr>
                  <a:t>Da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6019920" y="2657160"/>
              <a:ext cx="1218960" cy="6858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9920" y="3495600"/>
              <a:ext cx="1218960" cy="6858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3724200"/>
              <a:ext cx="137160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6600"/>
                  </a:solidFill>
                  <a:latin typeface="Times New Roman"/>
                </a:rPr>
                <a:t>Rep. gráf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6600"/>
                  </a:solidFill>
                  <a:latin typeface="Times New Roman"/>
                </a:rPr>
                <a:t>en t.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6600"/>
                  </a:solidFill>
                  <a:latin typeface="Times New Roman"/>
                </a:rPr>
                <a:t>Rrdt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 Narrow"/>
              </a:rPr>
              <a:t>Ejemplo: Evaluación ENST-B - ITAM</a:t>
            </a:r>
            <a:endParaRPr b="0" lang="en-US" sz="4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00"/>
                </a:solidFill>
                <a:latin typeface="Arial Narrow"/>
              </a:rPr>
              <a:t>Evaluación realizada sobre la red IPv4</a:t>
            </a:r>
            <a:endParaRPr b="0" lang="en-US" sz="26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00"/>
                </a:solidFill>
                <a:latin typeface="Arial Narrow"/>
              </a:rPr>
              <a:t>Traceroute muestra 24 saltos</a:t>
            </a:r>
            <a:endParaRPr b="0" lang="en-US" sz="26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00"/>
                </a:solidFill>
                <a:latin typeface="Arial Narrow"/>
              </a:rPr>
              <a:t>Paquetes de 1KB enviados periódicamente cada 10 seg durante una semana</a:t>
            </a:r>
            <a:endParaRPr b="0" lang="en-US" sz="26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00"/>
                </a:solidFill>
                <a:latin typeface="Arial Narrow"/>
              </a:rPr>
              <a:t>Receptor en ITAM en segmento “aislado” junto con generador de tráfico perturbador</a:t>
            </a:r>
            <a:endParaRPr b="0" lang="en-US" sz="2600" spc="-1" strike="noStrike">
              <a:solidFill>
                <a:srgbClr val="0066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00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715000"/>
            <a:ext cx="8305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ren-itam6-4" descr=""/>
          <p:cNvPicPr/>
          <p:nvPr/>
        </p:nvPicPr>
        <p:blipFill>
          <a:blip r:embed="rId1"/>
          <a:stretch/>
        </p:blipFill>
        <p:spPr>
          <a:xfrm>
            <a:off x="1447920" y="4226040"/>
            <a:ext cx="64767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2T18:05:44Z</dcterms:created>
  <dc:creator>Javier Salido</dc:creator>
  <dc:description/>
  <dc:language>en-US</dc:language>
  <cp:lastModifiedBy>Centro de Cómputo</cp:lastModifiedBy>
  <dcterms:modified xsi:type="dcterms:W3CDTF">2003-04-04T03:48:47Z</dcterms:modified>
  <cp:revision>78</cp:revision>
  <dc:subject/>
  <dc:title>Calidad de Servicio - QoS  Protocolos de Reservación</dc:title>
</cp:coreProperties>
</file>