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25.png" ContentType="image/png"/>
  <Override PartName="/ppt/media/image3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15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image" Target="../media/image2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9040" y="3016800"/>
            <a:ext cx="86072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711520" y="1417680"/>
            <a:ext cx="4572000" cy="15238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40" name=""/>
          <p:cNvSpPr/>
          <p:nvPr/>
        </p:nvSpPr>
        <p:spPr>
          <a:xfrm>
            <a:off x="2570400" y="3510000"/>
            <a:ext cx="480600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3b3b3"/>
                </a:solidFill>
                <a:latin typeface="Arial"/>
                <a:ea typeface="HG Mincho Light J"/>
              </a:rPr>
              <a:t>Softw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3b3b3"/>
                </a:solidFill>
                <a:latin typeface="Arial"/>
                <a:ea typeface="HG Mincho Light J"/>
              </a:rPr>
              <a:t>para la edu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Fácil mod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44600" y="1839960"/>
            <a:ext cx="7437600" cy="51544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6080" y="209520"/>
            <a:ext cx="8608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Capacidad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1480" y="1278000"/>
            <a:ext cx="5168880" cy="32097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438960" y="1298520"/>
            <a:ext cx="2066760" cy="501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659640" y="2200320"/>
            <a:ext cx="1987560" cy="58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672240" y="2930400"/>
            <a:ext cx="2109960" cy="80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629400" y="3846600"/>
            <a:ext cx="2490840" cy="66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889680" y="4608360"/>
            <a:ext cx="1897200" cy="608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396120" y="5486400"/>
            <a:ext cx="3004920" cy="506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559480" y="6153120"/>
            <a:ext cx="4213080" cy="1130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035000" y="4635360"/>
            <a:ext cx="4610160" cy="4813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1201680" y="5227560"/>
            <a:ext cx="2745000" cy="755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84" name=""/>
          <p:cNvSpPr/>
          <p:nvPr/>
        </p:nvSpPr>
        <p:spPr>
          <a:xfrm>
            <a:off x="1787400" y="6550200"/>
            <a:ext cx="2884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1089000" y="6153120"/>
            <a:ext cx="3471840" cy="739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¡En cualquier luga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54080" y="1893960"/>
            <a:ext cx="2847960" cy="4721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33960" y="1893960"/>
            <a:ext cx="3740040" cy="46688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Diseño de conteni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9560" y="1886040"/>
            <a:ext cx="9078840" cy="3079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1640" y="5362560"/>
            <a:ext cx="2430720" cy="9540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19880" y="5391000"/>
            <a:ext cx="2381040" cy="9385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471600"/>
            <a:ext cx="860904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Unidade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4360" y="1628640"/>
            <a:ext cx="7540560" cy="54738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775800"/>
            <a:ext cx="86090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Aplica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2320" y="2309760"/>
            <a:ext cx="8699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Times New Roman"/>
              </a:rPr>
              <a:t>Capacitación labo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Times New Roman"/>
              </a:rPr>
              <a:t>Entrenamiento y actualizac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Times New Roman"/>
              </a:rPr>
              <a:t>Apoyo para clases tradicion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Times New Roman"/>
              </a:rPr>
              <a:t>Comunidades virtu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Times New Roman"/>
              </a:rPr>
              <a:t>Administración de proyect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0c0c0"/>
                </a:solidFill>
                <a:latin typeface="Times New Roman"/>
              </a:rPr>
              <a:t>Educación a distanc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Las promesas de OpenUSS</a:t>
            </a:r>
            <a:br>
              <a:rPr sz="4400"/>
            </a:b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(Panorama futur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962440" y="2590920"/>
            <a:ext cx="3809880" cy="35622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Integración y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205000"/>
            <a:ext cx="7412040" cy="1800"/>
          </a:xfrm>
          <a:prstGeom prst="line">
            <a:avLst/>
          </a:prstGeom>
          <a:ln w="7200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40040" y="2830680"/>
            <a:ext cx="1379520" cy="6379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549600" y="2825640"/>
            <a:ext cx="1150920" cy="6732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6918480" y="2603520"/>
            <a:ext cx="1841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8ff"/>
                </a:solidFill>
                <a:latin typeface="Times New Roman"/>
                <a:ea typeface="HG Mincho Light J"/>
              </a:rPr>
              <a:t>Open 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88240" y="3176640"/>
            <a:ext cx="1714320" cy="11430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076720" y="2771640"/>
            <a:ext cx="1506600" cy="7286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1573200" y="4141800"/>
            <a:ext cx="46260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Modulos en desarrol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Adminis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Perfil pers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Integración F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Integración Mil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19000" y="392040"/>
            <a:ext cx="860904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Mayor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3840" y="1749600"/>
            <a:ext cx="8250120" cy="51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Difusión e impl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http://www.openus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dcff"/>
                </a:solidFill>
                <a:latin typeface="Times New Roman"/>
              </a:rPr>
              <a:t>http://www.openus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dcff"/>
                </a:solidFill>
                <a:latin typeface="Times New Roman"/>
              </a:rPr>
              <a:t>http://openuss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800" y="4938840"/>
            <a:ext cx="6281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5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Free Styl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5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HG Mincho Light J"/>
              </a:rPr>
              <a:t>http://www.freestyle-learn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4640" y="6021360"/>
            <a:ext cx="6281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5000"/>
              </a:lnSpc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Campus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5000"/>
              </a:lnSpc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HG Mincho Light J"/>
              </a:rPr>
              <a:t>http://www.campussource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5238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Motivación de 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0720" y="206028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Ofrecer una opción competitiva  entre las plataformas educativas basadas en el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Ofrecer una plataforma libre para todas las univer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Ofrecer una aplicación escalable y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Construir una aplicación flexible y adaptable a distintas nece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7629480" y="6818400"/>
            <a:ext cx="2451240" cy="743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Metas en el diseño de 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Fácil administración y manten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Fácil modif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Fácil integ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Fácil de utili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1240" y="2101680"/>
            <a:ext cx="4547880" cy="30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800000"/>
                </a:solidFill>
                <a:latin typeface="Times New Roman"/>
              </a:rPr>
              <a:t>¡No reinventar la rueda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629480" y="6818400"/>
            <a:ext cx="2451240" cy="743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Misión de 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0010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Proporcionar educación en cualquier momento, en cualquier lu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Proporcionar un lugar de encuentro, debate y enriquecimiento entre estudiantes,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Ofrecer todas las facilidades para unir el esfuerzo de muchos desarrolladores.         Keep It Short Simple and Stupid (KI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Ofrecer una serie de apoyos que incrementen la calidad de la edu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29480" y="6818400"/>
            <a:ext cx="2451240" cy="743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418680"/>
            <a:ext cx="860904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Construir vs. Comp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720" y="1631880"/>
            <a:ext cx="4200480" cy="49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Constru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Cualquier cosa puede ser constru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Costo iniciales nulos o muy ba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Gran probabilidad de fra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Gente capac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Una larga espera.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1644120"/>
            <a:ext cx="42004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Comp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Rápida adquisición de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Alto costo por adquisición ini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Personal especializado en es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5000"/>
              </a:lnSpc>
              <a:spcAft>
                <a:spcPts val="1125"/>
              </a:spcAft>
              <a:buSzPct val="100000"/>
              <a:buBlip>
                <a:blip r:embed="rId1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imes New Roman"/>
              </a:rPr>
              <a:t>Dificil de adaptar o modificar, en ocasiones más costoso que constru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7629480" y="6818400"/>
            <a:ext cx="2451240" cy="743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La visión de 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3928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Conjuntar lo mejor de ambos mun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Cualquier cosa puede ser construí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Bajos costos iniciales y de op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Rápida adquisición de fun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Licencia libre que permite y fomenta realizar modificaciónes y adapt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Auspiciada por universidades y el Ministerio de Educación Aleman, cuenta ya con una gran comunidad de desarroll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629480" y="6818400"/>
            <a:ext cx="2451240" cy="743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-122400"/>
            <a:ext cx="6720120" cy="22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0" lang="en-GB" sz="5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Infraestructur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4040" y="2779560"/>
            <a:ext cx="8913600" cy="42706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74800" y="2075040"/>
            <a:ext cx="1488960" cy="5475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440080" y="2087640"/>
            <a:ext cx="1122120" cy="5475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019400" y="2048040"/>
            <a:ext cx="965520" cy="59976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8126280" y="701640"/>
            <a:ext cx="1608120" cy="121608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680160" y="2009880"/>
            <a:ext cx="1044720" cy="612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792760" y="2035080"/>
            <a:ext cx="835200" cy="6001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Arquitectura de compon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8360" y="1795320"/>
            <a:ext cx="8318160" cy="554220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9040" cy="11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Times New Roman"/>
                <a:ea typeface="HG Mincho Light J"/>
              </a:rPr>
              <a:t>Independ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39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Independencia de la base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Independencia del sistema oper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Independencia del naveg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Independencia del servidor de apl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Independencia del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Times New Roman"/>
              </a:rPr>
              <a:t>Independencia entre todas las ca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7629480" y="6818400"/>
            <a:ext cx="2451240" cy="74304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