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11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Open University Suppor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66440" y="2088720"/>
            <a:ext cx="86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Arturo Mor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Universidad Pedagógica 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et@upn.m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EJ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Enterprise Java Open Source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Arquitectura apoyada por un conjunto de soluciones libres que proporcionan la infraestructura para el rápido desarrollo de aplicaciones J2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Orientada a ob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Orientada a 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3 - c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EJ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Capa de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Enhydra application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Capa de la lógica del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JOnAS EJB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Capa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A gusto de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EJ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664000" y="1690560"/>
            <a:ext cx="4514760" cy="54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EJ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Enhydra application frame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Super  Servle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XMLC (HTML / X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Balanceo de 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Independencia de dispositivos (HTML / W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3855960" y="5181480"/>
            <a:ext cx="25146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EJ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65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J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Contenedor de EJB'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Fácil de us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Permite el emplazamiento con o sin empaquetamiento (*.jar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Buena doc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7010280" y="2198520"/>
            <a:ext cx="170208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EJ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56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Libre elección de la base de datos gracias a JDB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Postgre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Inter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Hypersonic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Ora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D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OpenU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ASP para CAL + C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Concepto comparable: sourceforge.org para proyectos de desarrrollo de software lib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Manejo de varias instituciones dentro de una misma instancia: escuelas, universidades, corporaciones, comunidad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4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  <a:ea typeface="Arial"/>
              </a:rPr>
              <a:t>Auspiciado por el Departamento de Escuelas, Ciencia e Investigación MSWF, Dusseldorf, Aleman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OpenU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79520" y="1628640"/>
            <a:ext cx="5434200" cy="49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OpenU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120760" y="2543040"/>
            <a:ext cx="59533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OpenU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63640" y="1708200"/>
            <a:ext cx="8318520" cy="48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Sol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J2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EJ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Open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Para saber má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98320" y="368280"/>
            <a:ext cx="8910720" cy="61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Para saber má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Open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http://openuss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EJ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http://ejosa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J2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http://javasof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Para saber má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J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http://www.objectweb.org/j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Enhyd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http://www.enhydra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320920" y="1833480"/>
            <a:ext cx="546264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50960" y="1797120"/>
            <a:ext cx="848196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1855800"/>
            <a:ext cx="860904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Sistema de manejo del aprendizaje (L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Maneja actividades y contenidos de aprendiz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Servic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Times New Roman"/>
              </a:rPr>
              <a:t>Asíncrona / Síncro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Administración de los conte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Reforzamiento de un modelo educativo (especificaciones XML como IMS, SCORM, Ariadne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185544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Fácil acceso y emplaz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Capaz de dar servicio a un gran número de entidades educativas desde una misma instancia (AS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Esca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Seg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Libre (Open Sour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J2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1671120"/>
            <a:ext cx="86072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Especificación que permite el desarrollo de soluciones Java del lado del servidor  seguras, escalables y modul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API'S (RMI-IIOP, JNDI, JMS, JDBC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Componentes (Servlets, EJB's) que corren del lado del servidor en un ambiente de ejecución especial (contenedores) y dan acceso la plataforma J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J2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W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Creación de aplicaciones orientadas a objetos y compo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ccff"/>
                </a:solidFill>
                <a:latin typeface="Times New Roman"/>
              </a:rPr>
              <a:t>Aplicaciones n-capas (usualmente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Lógica del 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Times New Roman"/>
              </a:rPr>
              <a:t>DB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39800" y="3241800"/>
            <a:ext cx="86072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01040" y="6593040"/>
            <a:ext cx="2292120" cy="836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ff"/>
                </a:solidFill>
                <a:latin typeface="Times New Roman"/>
                <a:ea typeface="HG Mincho Light J"/>
              </a:rPr>
              <a:t>J2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844640" y="1900080"/>
            <a:ext cx="6421320" cy="4511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