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9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99840"/>
            <a:ext cx="4573440" cy="3430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792040" y="8683560"/>
            <a:ext cx="89100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5800" rIns="55800" tIns="22320" bIns="2232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fld id="{6BA83E6F-A3FB-44DF-ACAD-5CC48CD93764}" type="slidenum">
              <a:rPr b="1" lang="en-US" sz="1200" spc="-1" strike="noStrike">
                <a:solidFill>
                  <a:srgbClr val="000000"/>
                </a:solidFill>
                <a:latin typeface="Opti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68960"/>
            <a:ext cx="548604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700200"/>
            <a:ext cx="4572000" cy="343044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14400" y="4368960"/>
            <a:ext cx="5029200" cy="4140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a general overview presentation about Internet2. Internet2 is a consortium, led by US universities, which is recreating the partnership among academia, industry and government that fostered today’s Internet in its infanc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AFE7D2-7B21-4A29-B4AA-9A7AF816D0A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5640" y="441360"/>
            <a:ext cx="65530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90720" y="1946160"/>
            <a:ext cx="7315200" cy="20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90720" y="4152240"/>
            <a:ext cx="7315200" cy="20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114899-EC35-4EAB-A2FF-9FCDDB998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285640" y="441360"/>
            <a:ext cx="65530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1946160"/>
            <a:ext cx="3569760" cy="20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39400" y="1946160"/>
            <a:ext cx="3569760" cy="20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90720" y="4152240"/>
            <a:ext cx="3569760" cy="20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39400" y="4152240"/>
            <a:ext cx="3569760" cy="20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0C3045-8AE2-4147-909E-C523BD87E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285640" y="441360"/>
            <a:ext cx="65530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1946160"/>
            <a:ext cx="2355120" cy="20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463920" y="1946160"/>
            <a:ext cx="2355120" cy="20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37120" y="1946160"/>
            <a:ext cx="2355120" cy="20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90720" y="4152240"/>
            <a:ext cx="2355120" cy="20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463920" y="4152240"/>
            <a:ext cx="2355120" cy="20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37120" y="4152240"/>
            <a:ext cx="2355120" cy="20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4D3B50-3CE2-46F5-B4AE-5C4BB625286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5640" y="441360"/>
            <a:ext cx="65530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90720" y="1946160"/>
            <a:ext cx="7315200" cy="42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5640" y="441360"/>
            <a:ext cx="65530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90720" y="1946160"/>
            <a:ext cx="7315200" cy="42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5640" y="441360"/>
            <a:ext cx="65530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90720" y="1946160"/>
            <a:ext cx="3569760" cy="42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39400" y="1946160"/>
            <a:ext cx="3569760" cy="42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5640" y="441360"/>
            <a:ext cx="65530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2285640" y="441360"/>
            <a:ext cx="655308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5640" y="441360"/>
            <a:ext cx="65530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90720" y="1946160"/>
            <a:ext cx="3569760" cy="20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39400" y="1946160"/>
            <a:ext cx="3569760" cy="42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90720" y="4152240"/>
            <a:ext cx="3569760" cy="20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5640" y="441360"/>
            <a:ext cx="65530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90720" y="1946160"/>
            <a:ext cx="7315200" cy="42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BCA54B-FB25-48EE-A51B-AEE4B330F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5640" y="441360"/>
            <a:ext cx="65530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720" y="1946160"/>
            <a:ext cx="3569760" cy="42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39400" y="1946160"/>
            <a:ext cx="3569760" cy="20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739400" y="4152240"/>
            <a:ext cx="3569760" cy="20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5640" y="441360"/>
            <a:ext cx="65530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720" y="1946160"/>
            <a:ext cx="3569760" cy="20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39400" y="1946160"/>
            <a:ext cx="3569760" cy="20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90720" y="4152240"/>
            <a:ext cx="7315200" cy="20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5640" y="441360"/>
            <a:ext cx="65530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90720" y="1946160"/>
            <a:ext cx="7315200" cy="20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90720" y="4152240"/>
            <a:ext cx="7315200" cy="20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5640" y="441360"/>
            <a:ext cx="65530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90720" y="1946160"/>
            <a:ext cx="3569760" cy="20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39400" y="1946160"/>
            <a:ext cx="3569760" cy="20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90720" y="4152240"/>
            <a:ext cx="3569760" cy="20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739400" y="4152240"/>
            <a:ext cx="3569760" cy="20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5640" y="441360"/>
            <a:ext cx="65530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90720" y="1946160"/>
            <a:ext cx="2355120" cy="20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463920" y="1946160"/>
            <a:ext cx="2355120" cy="20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37120" y="1946160"/>
            <a:ext cx="2355120" cy="20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90720" y="4152240"/>
            <a:ext cx="2355120" cy="20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463920" y="4152240"/>
            <a:ext cx="2355120" cy="20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37120" y="4152240"/>
            <a:ext cx="2355120" cy="20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5640" y="441360"/>
            <a:ext cx="65530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720" y="1946160"/>
            <a:ext cx="7315200" cy="42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D54C50-0375-47EE-B33C-8B9A716E8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5640" y="441360"/>
            <a:ext cx="65530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946160"/>
            <a:ext cx="3569760" cy="42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39400" y="1946160"/>
            <a:ext cx="3569760" cy="42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258609-D983-4488-BA35-900CD9A8D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5640" y="441360"/>
            <a:ext cx="65530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5B1AA9-FC56-4485-9501-615DD9CE5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2285640" y="441360"/>
            <a:ext cx="655308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A4DC5E-72A9-469F-AB02-F40840FC4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5640" y="441360"/>
            <a:ext cx="65530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1946160"/>
            <a:ext cx="3569760" cy="20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39400" y="1946160"/>
            <a:ext cx="3569760" cy="42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90720" y="4152240"/>
            <a:ext cx="3569760" cy="20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2EA715-359D-4FAA-A791-ED4071DD6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5640" y="441360"/>
            <a:ext cx="65530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1946160"/>
            <a:ext cx="3569760" cy="42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39400" y="1946160"/>
            <a:ext cx="3569760" cy="20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39400" y="4152240"/>
            <a:ext cx="3569760" cy="20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B61444-AA05-477D-8099-77C977629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5640" y="441360"/>
            <a:ext cx="65530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1946160"/>
            <a:ext cx="3569760" cy="20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39400" y="1946160"/>
            <a:ext cx="3569760" cy="20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90720" y="4152240"/>
            <a:ext cx="7315200" cy="20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438385-3329-4184-9C53-DF0DDD684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170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5640" y="441360"/>
            <a:ext cx="6553080" cy="990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0720" y="1946160"/>
            <a:ext cx="7315200" cy="42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indent="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11280" indent="-163080"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8320" indent="-16164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96520" indent="-16596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44360" indent="-17064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44360" indent="-17064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44360" indent="-17064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781680" y="647676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C153B-FE5C-4C8C-8063-46C2F111C21E}" type="datetime">
              <a:rPr b="0" lang="en-US" sz="9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335440" y="6470280"/>
            <a:ext cx="56700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569E4-70E7-469E-9927-FC8A667CBC59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 flipV="1">
            <a:off x="8226360" y="6506640"/>
            <a:ext cx="0" cy="351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55760" y="1698480"/>
            <a:ext cx="1252440" cy="0"/>
          </a:xfrm>
          <a:prstGeom prst="line">
            <a:avLst/>
          </a:prstGeom>
          <a:ln w="25560">
            <a:solidFill>
              <a:srgbClr val="66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708200" y="1698480"/>
            <a:ext cx="74358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i2-logo-reversed" descr=""/>
          <p:cNvPicPr/>
          <p:nvPr/>
        </p:nvPicPr>
        <p:blipFill>
          <a:blip r:embed="rId2"/>
          <a:stretch/>
        </p:blipFill>
        <p:spPr>
          <a:xfrm>
            <a:off x="262080" y="152280"/>
            <a:ext cx="1726920" cy="1281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Spiral_image_sm" descr=""/>
          <p:cNvPicPr/>
          <p:nvPr/>
        </p:nvPicPr>
        <p:blipFill>
          <a:blip r:embed="rId2"/>
          <a:stretch/>
        </p:blipFill>
        <p:spPr>
          <a:xfrm>
            <a:off x="0" y="-763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0"/>
            <a:ext cx="9144000" cy="170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2285640"/>
            <a:ext cx="85345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3"/>
          </p:nvPr>
        </p:nvSpPr>
        <p:spPr>
          <a:xfrm>
            <a:off x="2476440" y="5594040"/>
            <a:ext cx="2860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5E0C3-5CE8-4761-97B7-41D1A37E8FF4}" type="datetime">
              <a:rPr b="0" lang="en-US" sz="1600" spc="-1" strike="noStrike">
                <a:solidFill>
                  <a:srgbClr val="ffffff"/>
                </a:solidFill>
                <a:latin typeface="Arial"/>
              </a:rPr>
              <a:t>07/29/26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5760" y="1698480"/>
            <a:ext cx="1252440" cy="0"/>
          </a:xfrm>
          <a:prstGeom prst="line">
            <a:avLst/>
          </a:prstGeom>
          <a:ln w="25560">
            <a:solidFill>
              <a:srgbClr val="66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708200" y="1698480"/>
            <a:ext cx="74358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i2-logo-reversed" descr=""/>
          <p:cNvPicPr/>
          <p:nvPr/>
        </p:nvPicPr>
        <p:blipFill>
          <a:blip r:embed="rId3"/>
          <a:stretch/>
        </p:blipFill>
        <p:spPr>
          <a:xfrm>
            <a:off x="262080" y="152280"/>
            <a:ext cx="1726920" cy="128124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057400"/>
            <a:ext cx="853452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imes New Roman"/>
              </a:rPr>
              <a:t>Abilene Update</a:t>
            </a:r>
            <a:br>
              <a:rPr sz="4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990360" y="4114440"/>
            <a:ext cx="8001000" cy="243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ick Summerhi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ssociate Director, Backbone Network Infrastructure, Internet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UDI 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Reuni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ó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n de Primaver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200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senada, Baja California, 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é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ic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 April 200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600200" y="-228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Abilene Rack Design" descr=""/>
          <p:cNvPicPr/>
          <p:nvPr/>
        </p:nvPicPr>
        <p:blipFill>
          <a:blip r:embed="rId1"/>
          <a:stretch/>
        </p:blipFill>
        <p:spPr>
          <a:xfrm>
            <a:off x="1600200" y="228600"/>
            <a:ext cx="5610240" cy="640080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-1371600" y="0"/>
            <a:ext cx="762120" cy="2192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A3178C-D010-4C31-AE0A-C3FBAEEF3AEA}" type="slidenum">
              <a:t>1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74831F-E182-4C22-A769-621A1048B07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rcRect l="6257" t="5283" r="-983" b="0"/>
          <a:stretch/>
        </p:blipFill>
        <p:spPr>
          <a:xfrm>
            <a:off x="1295280" y="838080"/>
            <a:ext cx="7391520" cy="562788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11430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971800" y="1676520"/>
            <a:ext cx="594360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TAR TAP/Star Ligh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PAN/TransPAC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†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, CA*net, CERN, CERNET/CSTNET/NSFCNET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NAUKAne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, GEMnet, HARNET, KOREN/KREONET2, NORDUnet, SURFnet, SingAREN, TANET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 flipV="1">
            <a:off x="5715000" y="2514600"/>
            <a:ext cx="380880" cy="9144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543800" y="2876400"/>
            <a:ext cx="1523880" cy="16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Y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ANT*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ANE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RDUnet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INET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URF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8001000" y="3123720"/>
            <a:ext cx="457200" cy="304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1752480"/>
            <a:ext cx="190512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acific Wa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ARNET, APAN/TransPAC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†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, CA*net, TANET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1371600" y="1904760"/>
            <a:ext cx="533520" cy="228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2971800"/>
            <a:ext cx="160020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N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MNET, SingAREN, WIDE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imes New Roman"/>
              </a:rPr>
              <a:t>(v6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2120" y="3200400"/>
            <a:ext cx="685800" cy="304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4343400"/>
            <a:ext cx="213372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.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I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685800" y="4419360"/>
            <a:ext cx="914400" cy="228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543800" y="4950000"/>
            <a:ext cx="1600200" cy="13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MPA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SP, REUNA2, RNP2, RETINA (REACCIUN-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7620120" y="5257800"/>
            <a:ext cx="304560" cy="838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6629040" y="5105520"/>
            <a:ext cx="152280" cy="27288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629400" y="5410080"/>
            <a:ext cx="990720" cy="68580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554160" y="579132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OC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180960" y="5773680"/>
            <a:ext cx="322704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l Paso (UACJ-UT El Pas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CUD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5105520"/>
            <a:ext cx="457200" cy="7617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78360" y="5486400"/>
            <a:ext cx="271836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an Diego (CALREN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UD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1371240" y="4572000"/>
            <a:ext cx="304920" cy="9144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98960" y="0"/>
            <a:ext cx="1186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9 January 20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85640" y="441360"/>
            <a:ext cx="6553080" cy="990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bilene Peering - International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March 2003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6320" y="6324480"/>
            <a:ext cx="90676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NES, ACONET, BELNET, CARNET, CERN,  CESnet, CYNET, DFN, EENet, GARR, GRNET, HEANET, IUCC, JANET, LATNET, LITNET, NORDUNET, RENATER, RESTENA, SWITCH, HUNGARNET, GARR-B, POL-34, RCST, RedIRIS, SANET, SURFN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†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WIDE/JGN, IMnet, CERNet/CSTnet,/NSFCNET, KOREN/KREONET2, SingAREN, TANET2, ThaiSAR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719040" y="79200"/>
            <a:ext cx="2036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ast updated:  17 March 20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391520" y="4419720"/>
            <a:ext cx="175248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AS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A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H="1" flipV="1">
            <a:off x="7695720" y="4038480"/>
            <a:ext cx="228600" cy="4572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10C508-2BE6-4C1C-8D96-36B455BA5F7E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49615D-FEBB-4814-8C1C-6A359C2DCB3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rcRect l="6257" t="5283" r="-983" b="0"/>
          <a:stretch/>
        </p:blipFill>
        <p:spPr>
          <a:xfrm>
            <a:off x="1295280" y="1230480"/>
            <a:ext cx="7391520" cy="56275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11430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343400" y="1752480"/>
            <a:ext cx="1447920" cy="16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hicag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SN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tar Ligh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TF*, NR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00"/>
                </a:solidFill>
                <a:latin typeface="Times New Roman"/>
              </a:rPr>
              <a:t>DR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5562360" y="2361960"/>
            <a:ext cx="533160" cy="15238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1752480"/>
            <a:ext cx="19051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acific Wa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R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990720" y="2209680"/>
            <a:ext cx="838080" cy="763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3200400"/>
            <a:ext cx="1600200" cy="16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N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SN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GIX-Wes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DREN, NISN, NREN, US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MIX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838080" y="3505320"/>
            <a:ext cx="685800" cy="4572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698960" y="0"/>
            <a:ext cx="1186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9 January 20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5640" y="441360"/>
            <a:ext cx="6553080" cy="990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bilene Federal/Research Peering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March 2003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791320" y="1905120"/>
            <a:ext cx="198108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GIX/STAR T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REN, ESNet, NISN, vB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00"/>
                </a:solidFill>
                <a:latin typeface="Times New Roman"/>
              </a:rPr>
              <a:t>US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6248520" y="2285640"/>
            <a:ext cx="1218960" cy="16002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4724280"/>
            <a:ext cx="1523880" cy="16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AS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RPA SuperNet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GIX-Ea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REN, NISN, USGS, vBN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696080" y="4343400"/>
            <a:ext cx="533520" cy="3808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697080" y="79200"/>
            <a:ext cx="20368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ast updated:  17 March 20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8229600" y="3200400"/>
            <a:ext cx="76212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Y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S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8001000" y="3447720"/>
            <a:ext cx="380880" cy="304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80160" y="6019920"/>
            <a:ext cx="2416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*Limited Research Peer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D13B24-94B9-4921-BE13-9BD8BB061332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F19F42-8458-4670-960D-611CAAC4C28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5640" y="441360"/>
            <a:ext cx="6553080" cy="990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bilene Peerin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90720" y="1946160"/>
            <a:ext cx="7315200" cy="453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er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1666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ferred is through an exchange point:  For example, PacWave, Starlight, MANLAN, AMPA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69920" indent="-164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LAN should be operational mid-Apr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69920" indent="-164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tnership with NYSERNET for collocation and sup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69920" indent="-164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s peering with Abilene, but also between other connec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69920" indent="-164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Lan under investigation, with CEN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1666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rect peering to backbone rou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1666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ering through Gigapops, through tunnels or BG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7F8110-C913-458B-AE39-F208125A8063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E9E86F-C659-483A-887C-9EDB29CD999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5640" y="441360"/>
            <a:ext cx="6553080" cy="990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igapops and the Quil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90360" y="1946160"/>
            <a:ext cx="7086600" cy="39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eat Diversity among the conne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0360" indent="-1684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Quilt consists of connectors with four or more member institutions – the major gigapops (CUDI is an affiliate of the Quil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0360" indent="-1684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connectors consist of a single instit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ty of Technical/Engineering Approa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0360" indent="-1684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riety of different connection types – especially behind the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0360" indent="-1684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 are investigating fiber/wave opportunities at this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ersity of Political and Economic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0360" indent="-1684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re legal non-profit ent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0360" indent="-1684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re informal and organized under a university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0360" indent="-1684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 have non-Internet2 members as gigapop particip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0360" indent="-1684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 Provide commodity services for gigapop particip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EEEC0C-10B8-4157-BE03-977D719DD914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34C5F5-C1CC-45E4-BF03-2D63741FCEB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5640" y="441360"/>
            <a:ext cx="6553080" cy="990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igapops and the Quil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09480" y="1904760"/>
            <a:ext cx="518184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 The Great Plains Network (Kansas Cit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0360" indent="-1684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s had a diverse technical and political/economic structure over the past four years – constantly evolv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0360" indent="-1684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nects I2 members and state networ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1666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all connectors transit Abile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1666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anded hierarchy – backbone, regional, state, campus, depar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0360" indent="-1684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es commodity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0360" indent="-1684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t of the Quilt fabr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5867280" y="2133720"/>
            <a:ext cx="2638440" cy="3809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E8DC03-A4B5-41AA-B37E-9E676F6BC804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C9A529-631B-4A76-80EC-74276F9CBA2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285640" y="441360"/>
            <a:ext cx="6553080" cy="990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igapops – The Quil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1295280" y="1981080"/>
          <a:ext cx="3276720" cy="4038480"/>
        </p:xfrm>
        <a:graphic>
          <a:graphicData uri="http://schemas.openxmlformats.org/drawingml/2006/table">
            <a:tbl>
              <a:tblPr/>
              <a:tblGrid>
                <a:gridCol w="3276720"/>
              </a:tblGrid>
              <a:tr h="3672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ilt Participan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NI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G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P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2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iana Gigapo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2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mountain Gigapo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2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GP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2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2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ri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2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R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t.Work.Virgin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1981080"/>
          <a:ext cx="3429000" cy="4038480"/>
        </p:xfrm>
        <a:graphic>
          <a:graphicData uri="http://schemas.openxmlformats.org/drawingml/2006/table">
            <a:tbl>
              <a:tblPr/>
              <a:tblGrid>
                <a:gridCol w="3429000"/>
              </a:tblGrid>
              <a:tr h="3672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rth Caroli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2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rthern Ligh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2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2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YSERn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ARn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2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En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2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egon Gigapo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2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NWG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2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ttsburgh Gigapo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2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as Gigapo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9DBF6E-E481-4B7C-92F7-AE5032AE624C}" type="slidenum">
              <a:t>1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6E2F35-8257-415C-AA50-6136F8281D4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5640" y="441360"/>
            <a:ext cx="6553080" cy="990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bilene Network Challeng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90720" y="1946160"/>
            <a:ext cx="7315200" cy="42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ilene has primarily been a network for experimentation with Appl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tempt to provide more experimental network activity and provide measurement data on the Abilene IP Network for research commun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few examp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0360" indent="-1684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ilene Observa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0360" indent="-1684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rge MT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0360" indent="-1684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Pv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06AB70-4AE7-474B-9369-11355E0D6348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2B472F-798E-4872-8AEE-0DF45C529C1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285640" y="441360"/>
            <a:ext cx="6553080" cy="990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bilene Observator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31520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rogram to provide enhanced support for network research on Abile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mponents of the Observ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0360" indent="-1684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s and data collected by NOC and Engineering Team – The Abilene Measurement Infrastructure (AM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0360" indent="-1684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ess to Router Nodes for other projects through Collo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256C53-2996-4638-8DB4-5264FD8375F2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30E51F-6E2D-41AD-A57F-A0F4A80FF31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285640" y="441360"/>
            <a:ext cx="6553080" cy="990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bilene Observator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90720" y="1946160"/>
            <a:ext cx="7315200" cy="42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asurements taken by NOC and Engineering Te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0360" indent="-1684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 Dedicated Measurement PCs located in the Abilene Rac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0360" indent="-1684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s are Local to the Router N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0360" indent="-1684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Eventually Moved to a more central 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0360" indent="-1684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database for researc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0360" indent="-1684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to be correlated – Potential for the data mining projects to study basic network proper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0360" indent="-1684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MA Timing Devices Local to N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8186C3-0A4E-48A9-8CC9-57249DB860DB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03F274-7FD2-4203-A346-44E770E5636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5640" y="441360"/>
            <a:ext cx="6553080" cy="990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¡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uchas Gracias!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90720" y="1946160"/>
            <a:ext cx="7315200" cy="42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cias por la invitaci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 a esta reunion de primavera 200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 un gran placer el estar aq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afortunadamente, mi Esp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l no es muy bueno - perd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D09729-D782-4E86-B325-B41B89136EB3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5C35A1-7D45-4EA9-824A-126157096A8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285640" y="441360"/>
            <a:ext cx="6553080" cy="990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bilene Observator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90720" y="1946160"/>
            <a:ext cx="7315200" cy="44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es of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0360" indent="-1684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way latency, jitter, loss, reach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0360" indent="-1684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ular TCP/UDP throughput tests ~ 1 gb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0360" indent="-1684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flow data, both in raw and summary formats (Ohio ITE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0360" indent="-1684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NMP Data (NO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0360" indent="-1684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uting Data, both IS-IS and BGP - Resili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0360" indent="-1684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2E Performance Beacons, Interactive Potent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0360" indent="-1684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tical Splitter Taps on Some Backbone Lin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F1D207-C89B-43BC-BB54-C7F03E2B2494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6CBC57-0A87-441F-8675-D2E573FAC37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5640" y="441360"/>
            <a:ext cx="6553080" cy="990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bilene Observator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90720" y="1946160"/>
            <a:ext cx="7315200" cy="44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ess to network data arch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0360" indent="-1684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most all is easily available, web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0360" indent="-1684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ess to raw netflow data by special arrangem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1666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rrently 3 research groups are accessing the raw netflow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0360" indent="-1684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liminary Graphical Representation of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0360" indent="-1684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herent views of the Abilene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1666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mmary 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1666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ailed 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0360" indent="-1684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ilene Management Observation Platfo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1666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blicly available soft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1666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rit (Quilt) Participation in te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BA3A7E-6EDC-4B05-B624-3044E3C3F26F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C97383-CAC3-4EF9-8268-3E362D75B5F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285640" y="441360"/>
            <a:ext cx="6553080" cy="990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bilene Observator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990720" y="1946160"/>
            <a:ext cx="7315200" cy="44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location Compon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0360" indent="-1684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ace, power, access is limited, and decreases as more groups particip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0360" indent="-1684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posals reviewed by Abilene TAC and NRL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0360" indent="-1684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ict requirements concerning installation, access, and monito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0360" indent="-1684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 project is PlanetL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1666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www.planet-lab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BA6C9C-3461-499F-BBCA-14B72112B1EF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F0C3B8-D245-4144-A974-BA9749B93CA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85640" y="441360"/>
            <a:ext cx="6553080" cy="990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Large MTUs on Abilen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31520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asic Ide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0360" indent="-168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serve large flows, must support large MT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0360" indent="-168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irly easy to support 9K MT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1666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new Ethernet NICs support 9K fr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1666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ackbones and connector networks should support at least 9K frame siz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0360" indent="-168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net2 recommendation  of 9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0360" indent="-168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tential to experiment with large MTUs on Abilene – requires changes to router and host stac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CADDED-EFBA-4CC7-9532-553A1B9F00D5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6107FD-9CF7-4DEA-8ABF-E2BB292DD08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285640" y="441360"/>
            <a:ext cx="6553080" cy="990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Pv6 on Abilen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31520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bilene IPv6 Backb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0360" indent="-168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rted as a tunnel service, evolved to native, dual stack service, prior to upgr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0360" indent="-168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ering and connectivity does not fall under the Abilene Co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0360" indent="-168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sts – 8 Gbps across backbone, IPv6 only and mixed IPv6/IPv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0360" indent="-168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bilene Measurement Infrastructure includes IPv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65B975-32EE-441D-A8E8-1DE0B0785B47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688DB6-B20C-4D03-876D-E56234A2AAA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285640" y="441360"/>
            <a:ext cx="6553080" cy="990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Pv6 on Abilen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31520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nectors/Peers (CUDI first native IPv6 pe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0360" indent="-168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6 native conn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0360" indent="-168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4 native pe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ternet2 Progr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0360" indent="-168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utorials very success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0360" indent="-168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uch easier than Multicast to deploy and debu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04A6D0-E951-4FC1-80DF-6C8D63A73180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6A2A1E-8CAF-4474-AA66-AB3283BD721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285640" y="441360"/>
            <a:ext cx="6553080" cy="990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Pv6 on Abilen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90720" y="1946160"/>
            <a:ext cx="7315200" cy="42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uture Deploy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0360" indent="-168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Pv6 Multica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0360" indent="-168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NS servers for the .edu commun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0360" indent="-168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most all “simple” applications have been por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0360" indent="-168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ypical suspects fairly easy to deplo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1666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ndmail, Apache, Ne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1666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egon has organized a v6 news service with v6 transport, v4/v6 ac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0360" indent="-168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to have “large” packages por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EB52A5-97EF-451C-8A9B-78D0E52320B2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248A6E-AE4F-46AC-A875-8595596F865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85640" y="441360"/>
            <a:ext cx="6553080" cy="990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ture Trends in Networkin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90360" y="190476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erging requirements may not be met by a high-performance, yet best-effort IP net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1666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WDM: 10-Gbps channels now; 40-Gbps s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1666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ational science gri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69920" indent="-164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s with deterministic network requir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1666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rastructure for basic and applied networking re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1666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dicated “long” waves for special pro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1666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ve exchange po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ment of unprecedented contrarian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1666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ressed fiber assets available on national sc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69920" indent="-164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ce in a lifetime’ opportun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1666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tronics industry severely impacted by carrier bu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ture Trends in Networ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1666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ever, optical networking alone does not solve the end-to-end performance probl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69920" indent="-164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st configuration (Web1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69920" indent="-164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cal network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A32C56-92DD-4F27-9FA4-F30F9056BDF8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7FF796-CCCC-417F-A8E4-AE69562E7F5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285640" y="441360"/>
            <a:ext cx="6553080" cy="990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ture Trends in Networkin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cket switching (IPv4/v6 routed clou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29200" indent="-1414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: E2E reach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29200" indent="-1414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: advanced services (v6, multicas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29200" indent="-1414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: measurement visibl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29200" indent="-1414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: network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29200" indent="-1414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: shared, best effort 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29200" indent="-1414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: WAN/LAN bandwidth bal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ircuit switching (Optical circuits; IP/Eth fram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29200" indent="-1414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: dedicated capacity for specific purposes (e.g., TeraGri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29200" indent="-1414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: customized network focus (experimental vs operation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29200" indent="-1414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: lack of contention for bandwid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29200" indent="-1414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: CyberInfrastructure 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29200" indent="-1414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: inefficient - resource utilization and manpow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29200" indent="-1414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: abandons tremendous scaling power of IP networ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DEE74F-5C9E-49B4-831D-BF8DFA43E19A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0C633E-8A3C-4C79-87E8-FF28E55BCA0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5640" y="441360"/>
            <a:ext cx="6553080" cy="990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ture Trends in Networkin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90360" y="1904760"/>
            <a:ext cx="75438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re are we hea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is an important period in the history of networking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t constantly be aware of future possibi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we were to design Abilene today, how would it look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2AB39C-A472-4BC0-9B89-73126DFDC687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C9BB99-1245-4298-8585-AD0393B6A57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5640" y="441360"/>
            <a:ext cx="6553080" cy="990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bilene Partnership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90720" y="1946160"/>
            <a:ext cx="7315200" cy="42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isco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iana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niper Netwo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rtel Netwo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west Commun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CA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ECs:  North Carolina, Oh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8DBC45-E4DC-442B-9DCF-B5E1F84E229C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40DA79-8DED-4619-A39D-B0EA4B876BE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285640" y="441360"/>
            <a:ext cx="6553080" cy="990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ture Trends in Networkin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90360" y="1904760"/>
            <a:ext cx="75438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ber Initia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0360" indent="-168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tional LambdaRa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0360" indent="-168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A Wa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0360" indent="-168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ber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tential to provide significant resources to the R&amp;E commun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3F23EB-62C0-45EB-A28B-431B5E069B34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123EEB-7CCD-4135-AAF2-936BFE840BC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85640" y="441360"/>
            <a:ext cx="6553080" cy="990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ummar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90360" y="1904760"/>
            <a:ext cx="75438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ilene Upgrade in final st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 significant research opportunities into a best effort IP network like Abile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inually reassess network opportunities and trends for future implementations of R&amp;E net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A32DBF-5E41-46D3-B687-C92C17327A37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E8CF56-7B4A-41DF-AFF5-F3131999F63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5640" y="441360"/>
            <a:ext cx="6553080" cy="990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utlin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90720" y="2209680"/>
            <a:ext cx="7315200" cy="42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ilene Backb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ilene Pee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gapops and the Qui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ilene Challen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ture Trends in Networ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72DA05-2EB5-4F3C-88BC-5B5706EAEF44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926F2C-3B4C-4507-AC2A-8BBD586EB91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85640" y="441360"/>
            <a:ext cx="6553080" cy="990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imes New Roman"/>
              </a:rPr>
              <a:t>Abilene Backbone</a:t>
            </a:r>
            <a:br>
              <a:rPr sz="3800"/>
            </a:b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P-over-DWDM (OC-192c) and IP-over-SONET OC-48c   Backb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0 direct connections (OC-3c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10 Gig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7400" indent="-164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10 GigE 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17400" indent="-164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 OC-48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17400" indent="-164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GigE 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17400" indent="-164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 connections at OC-12c or hig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17400" indent="-164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ATM connectors soon down to 6 – discouraging conn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21 participants – research universities &amp; lab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7400" indent="-164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50 states, District of Columbia, &amp; Puerto R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anded ac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7400" indent="-164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0 sponsored particip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17400" indent="-164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 state education networ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0E2F9D-6812-4423-AAC2-2EF8785C723D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83B2F2-D7BD-43FE-B82A-B13C89A7C84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2209680" y="304920"/>
            <a:ext cx="6553440" cy="990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bilene Backbone - Fu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295280" y="1882800"/>
            <a:ext cx="6934320" cy="4486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EDE227-F0DE-44DA-BACA-79532B69C8C1}" type="slidenum">
              <a:t>6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25DF50-C4E7-4D79-A751-3A11E607C8E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2209680" y="304920"/>
            <a:ext cx="6553440" cy="990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bilene Backbone - Current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295280" y="1828800"/>
            <a:ext cx="6934320" cy="4535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9BA91F-16E3-482B-A0E4-2C5492044AFB}" type="slidenum">
              <a:t>7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749BE5-D62F-4C3F-B048-D5E5D07D60C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5640" y="441360"/>
            <a:ext cx="6553080" cy="990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bilene Status - Statu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8080" y="2057400"/>
            <a:ext cx="7315200" cy="42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grade in final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lanta POP is only one not currently installed – approximately a month aw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ly installing OC-192c circuits – all POPs will have OC-192c conn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0360" indent="-1684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ansas City to Hous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0360" indent="-1684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C to Atlan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0360" indent="-1684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ttle to Sunnyv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0360" indent="-1684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ttle to Den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to Houston and Houston to Atlanta scheduled for this summ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grade has gone very smoothly – Kudos to the NOC, Qwest, and Juni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0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CA4CA9-AF0B-4BDB-952D-EC6E96992F8A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D7C8A7-17AF-4509-8C96-ECA208168F7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5640" y="441360"/>
            <a:ext cx="65530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nd a Real One (NYC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057400" y="228600"/>
            <a:ext cx="4780080" cy="63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75D590-BCA4-457A-8B1F-AEA85C9DCDE6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8A8E96-EE75-469B-9DF4-F11E79DB931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28T11:49:22Z</dcterms:created>
  <dc:creator>Greg Wood</dc:creator>
  <dc:description/>
  <dc:language>en-US</dc:language>
  <cp:lastModifiedBy>Rick Summerhill</cp:lastModifiedBy>
  <cp:lastPrinted>1999-04-13T17:00:36Z</cp:lastPrinted>
  <dcterms:modified xsi:type="dcterms:W3CDTF">2003-04-03T17:15:42Z</dcterms:modified>
  <cp:revision>485</cp:revision>
  <dc:subject/>
  <dc:title>Internet2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2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internet2.edu/</vt:lpwstr>
  </property>
  <property fmtid="{D5CDD505-2E9C-101B-9397-08002B2CF9AE}" pid="9" name="LinkColor">
    <vt:r8>16711782</vt:r8>
  </property>
  <property fmtid="{D5CDD505-2E9C-101B-9397-08002B2CF9AE}" pid="10" name="MailAddress">
    <vt:lpwstr>GHWood@Internet2.edu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D:\Presentations</vt:lpwstr>
  </property>
  <property fmtid="{D5CDD505-2E9C-101B-9397-08002B2CF9AE}" pid="14" name="ScreenSize">
    <vt:r8>1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