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BB58-9694-474A-B793-B1557F899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C7D1-9716-4E69-9D7C-BD8940607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D5AA-FA46-4295-B2BA-19A29053A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E34A-0C1E-43DC-A63C-E5D706BCD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002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30240" y="259920"/>
            <a:ext cx="787104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002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00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0339-07A2-41EC-9FF1-F36EA291A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9CB5-596B-4D22-AACF-9E1D029A9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4BD7-9F82-4EB1-918A-F8F9A1117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762C-8FCA-4A52-A29D-DED3BC033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0240" y="259920"/>
            <a:ext cx="787104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00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CB4C-21ED-443F-AE03-C3E96E272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CC6F-80E1-45A0-A899-79C1634AE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18EF-9085-4C88-BA55-66F445CEB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E847-C7AC-4B0D-9913-79C4593D4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5640" y="0"/>
            <a:ext cx="8388360" cy="6453360"/>
          </a:xfrm>
          <a:prstGeom prst="rect">
            <a:avLst/>
          </a:prstGeom>
          <a:gradFill rotWithShape="0">
            <a:gsLst>
              <a:gs pos="0">
                <a:srgbClr val="faf6ce">
                  <a:alpha val="60392"/>
                </a:srgbClr>
              </a:gs>
              <a:gs pos="50000">
                <a:srgbClr val="ffffff">
                  <a:alpha val="86274"/>
                </a:srgbClr>
              </a:gs>
              <a:gs pos="100000">
                <a:srgbClr val="faf6ce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926400" y="65232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DFC4-5883-499B-97C6-91B15378001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8459640" y="260280"/>
            <a:ext cx="460440" cy="11556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71640" y="1176480"/>
            <a:ext cx="7345440" cy="79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9360" y="406440"/>
            <a:ext cx="7462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861840" cy="115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32000" y="549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stituto Politécnico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002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e002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image" Target="../media/image14.gi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3.png"/><Relationship Id="rId10" Type="http://schemas.openxmlformats.org/officeDocument/2006/relationships/image" Target="../media/image14.gi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5.png"/><Relationship Id="rId13" Type="http://schemas.openxmlformats.org/officeDocument/2006/relationships/image" Target="../media/image14.gi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.png"/><Relationship Id="rId16" Type="http://schemas.openxmlformats.org/officeDocument/2006/relationships/image" Target="../media/image14.gif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35280" y="5013360"/>
            <a:ext cx="5112000" cy="60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990033"/>
                </a:solidFill>
                <a:latin typeface="Trebuchet MS"/>
              </a:rPr>
              <a:t>Un nuevo paradigma en la educación</a:t>
            </a:r>
            <a:endParaRPr b="1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1304640" y="1916280"/>
            <a:ext cx="9399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 </a:t>
            </a: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  </a:t>
            </a: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   </a:t>
            </a: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    </a:t>
            </a: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     </a:t>
            </a:r>
            <a:r>
              <a:rPr b="0" i="1" lang="en-US" sz="3200" spc="-1" strike="noStrike">
                <a:solidFill>
                  <a:srgbClr val="990033"/>
                </a:solidFill>
                <a:latin typeface="Trebuchet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55800" y="1916280"/>
            <a:ext cx="40957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i s t e m a  d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p r e n d i z a j e   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m b i e n t e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i r t u a l e s  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 u c a c i ó n   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021360"/>
            <a:ext cx="504000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rebuchet MS"/>
              </a:rPr>
              <a:t>Comité Institucional para el Desarrollo e Innovación Educativa en el I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6600"/>
                </a:solidFill>
                <a:latin typeface="Trebuchet MS"/>
              </a:rPr>
              <a:t>Objeto Clásico</a:t>
            </a: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2924280"/>
            <a:ext cx="1296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1557360"/>
            <a:ext cx="2951280" cy="28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6520" y="2133720"/>
            <a:ext cx="21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uctura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uncion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11080" y="37368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grama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53640" y="46004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1F9A-9C4D-4596-825A-11CA632D30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6600"/>
                </a:solidFill>
                <a:latin typeface="Trebuchet MS"/>
              </a:rPr>
              <a:t>Nuestro Objeto</a:t>
            </a: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2565360"/>
            <a:ext cx="2950920" cy="28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97920" y="3068640"/>
            <a:ext cx="230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uctura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glas de Acti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80000" y="1628640"/>
            <a:ext cx="2951280" cy="28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44480" y="2131920"/>
            <a:ext cx="219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uctura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51640" y="2847960"/>
            <a:ext cx="2808000" cy="868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4284720" y="328428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95800" y="4456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a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79080" y="20811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465C-E60A-4C52-B907-41A9FC0447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6095880"/>
          <a:ext cx="91440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588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771640" y="2133720"/>
          <a:ext cx="3743640" cy="29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133720"/>
                    <a:ext cx="374364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6095880"/>
          <a:ext cx="91440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588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971640" y="1773360"/>
            <a:ext cx="727380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5b99"/>
                </a:solidFill>
                <a:latin typeface="Arial Unicode MS"/>
              </a:rPr>
              <a:t>GNOXIS</a:t>
            </a:r>
            <a:r>
              <a:rPr b="0" lang="es-MX" sz="1600" spc="-1" strike="noStrike">
                <a:solidFill>
                  <a:srgbClr val="005b99"/>
                </a:solidFill>
                <a:latin typeface="Arial Unicode MS"/>
              </a:rPr>
              <a:t> es una arquitectura orientada a objetos que puede ser utilizada para el desarrollo de </a:t>
            </a:r>
            <a:r>
              <a:rPr b="1" lang="es-MX" sz="1600" spc="-1" strike="noStrike">
                <a:solidFill>
                  <a:srgbClr val="005b99"/>
                </a:solidFill>
                <a:latin typeface="Arial Unicode MS"/>
              </a:rPr>
              <a:t>Plataformas Educativas. GNOXI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5b99"/>
                </a:solidFill>
                <a:latin typeface="Arial Unicode MS"/>
              </a:rPr>
              <a:t>es el corazón o núcleo  tecnológico de la plataforma </a:t>
            </a:r>
            <a:r>
              <a:rPr b="1" lang="es-MX" sz="1600" spc="-1" strike="noStrike">
                <a:solidFill>
                  <a:srgbClr val="005b99"/>
                </a:solidFill>
                <a:latin typeface="Arial Unicode MS"/>
              </a:rPr>
              <a:t>SAAVER</a:t>
            </a:r>
            <a:r>
              <a:rPr b="0" lang="es-MX" sz="1600" spc="-1" strike="noStrike">
                <a:solidFill>
                  <a:srgbClr val="005b99"/>
                </a:solidFill>
                <a:latin typeface="Arial Unicode MS"/>
              </a:rPr>
              <a:t> del Campus Virtual Politécn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5b99"/>
                </a:solidFill>
                <a:latin typeface="Arial Unicode MS"/>
              </a:rPr>
              <a:t>GNOXIS </a:t>
            </a:r>
            <a:r>
              <a:rPr b="0" lang="es-MX" sz="1600" spc="-1" strike="noStrike">
                <a:solidFill>
                  <a:srgbClr val="005b99"/>
                </a:solidFill>
                <a:latin typeface="Arial Unicode MS"/>
              </a:rPr>
              <a:t>permite incorporar programas en materia educativa, ciencia y tecnología con estudios formales enfocados a un óptimo aprendizaje del estudiante. Este se realiza a través de un adecuado uso de las tecnologías de la información y de las comunic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5b99"/>
                </a:solidFill>
                <a:latin typeface="Arial Unicode MS"/>
              </a:rPr>
              <a:t>Esta tecnología permite el uso plataformas educativas en forma distribuida y constituye tanto un estándar como un entorno operativo para el desarrollo y explotación de estructuras educat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1640" y="1125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5b99"/>
                </a:solidFill>
                <a:latin typeface="Impact"/>
              </a:rPr>
              <a:t>¿ Qué es Gnoxi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03BC-0422-4736-B0B8-A66EEF83C7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6095880"/>
          <a:ext cx="91440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588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203640" y="1411200"/>
            <a:ext cx="2736720" cy="2087640"/>
          </a:xfrm>
          <a:prstGeom prst="rect">
            <a:avLst/>
          </a:prstGeom>
          <a:solidFill>
            <a:srgbClr val="63869d"/>
          </a:solidFill>
          <a:ln w="9360">
            <a:solidFill>
              <a:srgbClr val="638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9228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5b99"/>
                </a:solidFill>
                <a:latin typeface="Impact"/>
              </a:rPr>
              <a:t>Campus Virtual  Poli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1987560"/>
            <a:ext cx="1944720" cy="1079640"/>
          </a:xfrm>
          <a:prstGeom prst="rect">
            <a:avLst/>
          </a:prstGeom>
          <a:solidFill>
            <a:srgbClr val="a2b6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1627200"/>
            <a:ext cx="2160720" cy="1655640"/>
          </a:xfrm>
          <a:prstGeom prst="rect">
            <a:avLst/>
          </a:prstGeom>
          <a:solidFill>
            <a:srgbClr val="96a5ee"/>
          </a:solidFill>
          <a:ln w="3240">
            <a:solidFill>
              <a:srgbClr val="96a5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1700280"/>
            <a:ext cx="1297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noxis 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2452680"/>
            <a:ext cx="1152720" cy="79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M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2748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3498840"/>
            <a:ext cx="273672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3787920"/>
            <a:ext cx="273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ava, C++ Builder, Ky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219640" y="1987200"/>
            <a:ext cx="1944720" cy="3603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098800"/>
            <a:ext cx="125100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noxis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2635200"/>
            <a:ext cx="1112760" cy="393840"/>
          </a:xfrm>
          <a:prstGeom prst="can">
            <a:avLst>
              <a:gd name="adj" fmla="val 25000"/>
            </a:avLst>
          </a:prstGeom>
          <a:solidFill>
            <a:srgbClr val="c7c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2000" y="2419200"/>
            <a:ext cx="1800" cy="217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04000" y="3067200"/>
            <a:ext cx="1944720" cy="214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3282840"/>
            <a:ext cx="194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ava, C++ Builder, Ky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1771560"/>
            <a:ext cx="901800" cy="21600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77080" y="4363920"/>
            <a:ext cx="1944720" cy="1079640"/>
          </a:xfrm>
          <a:prstGeom prst="rect">
            <a:avLst/>
          </a:prstGeom>
          <a:solidFill>
            <a:srgbClr val="a2b6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7440" y="4475160"/>
            <a:ext cx="125100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noxis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08720" y="5011560"/>
            <a:ext cx="1113120" cy="393840"/>
          </a:xfrm>
          <a:prstGeom prst="can">
            <a:avLst>
              <a:gd name="adj" fmla="val 25000"/>
            </a:avLst>
          </a:prstGeom>
          <a:solidFill>
            <a:srgbClr val="c7c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85080" y="4795920"/>
            <a:ext cx="18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5443560"/>
            <a:ext cx="1944720" cy="214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7080" y="5659560"/>
            <a:ext cx="1944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ava, C++ Builder, Ky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24720" y="4148280"/>
            <a:ext cx="901800" cy="2156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2567160"/>
            <a:ext cx="1944360" cy="1079280"/>
          </a:xfrm>
          <a:prstGeom prst="rect">
            <a:avLst/>
          </a:prstGeom>
          <a:solidFill>
            <a:srgbClr val="a2b6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2678040"/>
            <a:ext cx="125064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noxis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3214800"/>
            <a:ext cx="1112760" cy="393480"/>
          </a:xfrm>
          <a:prstGeom prst="can">
            <a:avLst>
              <a:gd name="adj" fmla="val 25000"/>
            </a:avLst>
          </a:prstGeom>
          <a:solidFill>
            <a:srgbClr val="c7c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2998800"/>
            <a:ext cx="144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646440"/>
            <a:ext cx="1944360" cy="214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862440"/>
            <a:ext cx="1944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ava, C++ Builder, Ky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2349360"/>
            <a:ext cx="901800" cy="216000"/>
          </a:xfrm>
          <a:prstGeom prst="rect">
            <a:avLst/>
          </a:prstGeom>
          <a:solidFill>
            <a:srgbClr val="d6da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979640" y="2058840"/>
            <a:ext cx="1944720" cy="7225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219280" y="2131920"/>
            <a:ext cx="2016360" cy="24480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5013360"/>
            <a:ext cx="10796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sibilid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XM-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472608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4797360"/>
            <a:ext cx="165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teg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5157720"/>
            <a:ext cx="360360" cy="144360"/>
          </a:xfrm>
          <a:prstGeom prst="rect">
            <a:avLst/>
          </a:prstGeom>
          <a:solidFill>
            <a:srgbClr val="6386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40000" y="4870440"/>
            <a:ext cx="360360" cy="144360"/>
          </a:xfrm>
          <a:prstGeom prst="rect">
            <a:avLst/>
          </a:prstGeom>
          <a:solidFill>
            <a:srgbClr val="d6da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518080"/>
            <a:ext cx="360360" cy="14436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1268280"/>
            <a:ext cx="2736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4869000"/>
            <a:ext cx="12254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ructura básica de 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XM-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458136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XM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5084640"/>
            <a:ext cx="1152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HTM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3280" y="5734080"/>
            <a:ext cx="1152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XML Exame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537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00720" y="4508640"/>
            <a:ext cx="71280" cy="151272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0F83-C911-4051-AC21-6218CCA24A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732720" y="2637000"/>
            <a:ext cx="2009520" cy="1836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659640" y="1557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9"/>
                </a:solidFill>
                <a:latin typeface="Arial"/>
              </a:rPr>
              <a:t>Plataforma Educativa GNO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6453360"/>
          <a:ext cx="9144000" cy="4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53360"/>
                    <a:ext cx="91440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7885080" y="4149720"/>
          <a:ext cx="1084320" cy="86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85080" y="4149720"/>
                    <a:ext cx="10843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1052640"/>
          <a:ext cx="3384720" cy="2543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052640"/>
                    <a:ext cx="33847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95280" y="3860640"/>
          <a:ext cx="3444840" cy="218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3860640"/>
                    <a:ext cx="344484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26920" y="60930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2492280"/>
            <a:ext cx="2952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851280" y="4436640"/>
            <a:ext cx="29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184464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808080"/>
                </a:solidFill>
                <a:latin typeface="Arial"/>
              </a:rPr>
              <a:t>Aplicación para el diseño de Objetos de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544500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808080"/>
                </a:solidFill>
                <a:latin typeface="Arial"/>
              </a:rPr>
              <a:t>Portal en constr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6734-6306-4695-8B2C-AB130E65D8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6453360"/>
          <a:ext cx="914400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53360"/>
                    <a:ext cx="91440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059280" y="3284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b99"/>
                </a:solidFill>
                <a:latin typeface="Arial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2790-BF15-4D3F-A9FC-D13CEF7850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rebuchet MS"/>
                <a:ea typeface="PMingLiU"/>
              </a:rPr>
              <a:t>SCORM</a:t>
            </a: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62040" y="1197000"/>
            <a:ext cx="624996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4F09-6F5B-4230-8098-7F67D04D8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6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6600"/>
                </a:solidFill>
                <a:latin typeface="Trebuchet MS"/>
              </a:rPr>
              <a:t>ASSETS meta-equitados</a:t>
            </a: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269064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24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03640" y="1339920"/>
          <a:ext cx="311616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339920"/>
                    <a:ext cx="311616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250A-BB02-4C53-9130-B70D02EBA0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9200" y="52200"/>
            <a:ext cx="77691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Componentes de Software Programables Reutilizables (</a:t>
            </a:r>
            <a:r>
              <a:rPr b="1" lang="en-US" sz="3200" spc="-1" strike="noStrike">
                <a:solidFill>
                  <a:srgbClr val="ff6600"/>
                </a:solidFill>
                <a:latin typeface="Trebuchet MS"/>
                <a:ea typeface="PMingLiU"/>
              </a:rPr>
              <a:t>RLC</a:t>
            </a:r>
            <a:r>
              <a:rPr b="1" lang="es-MX" sz="32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)</a:t>
            </a:r>
            <a:r>
              <a:rPr b="1" lang="es-MX" sz="4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ff66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54120" y="1413000"/>
            <a:ext cx="6762960" cy="48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21B4-AC07-424A-8BDB-55AFADB4D4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52200"/>
            <a:ext cx="77691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Componentes de Software Programables Reutilizables (</a:t>
            </a:r>
            <a:r>
              <a:rPr b="1" lang="en-US" sz="3200" spc="-1" strike="noStrike">
                <a:solidFill>
                  <a:srgbClr val="ff6600"/>
                </a:solidFill>
                <a:latin typeface="Trebuchet MS"/>
                <a:ea typeface="PMingLiU"/>
              </a:rPr>
              <a:t>RLC</a:t>
            </a:r>
            <a:r>
              <a:rPr b="1" lang="es-MX" sz="32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)</a:t>
            </a:r>
            <a:r>
              <a:rPr b="1" lang="es-MX" sz="4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26859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2160" cy="49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C3C4-3588-45EE-84C2-2141952F89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rebuchet MS"/>
              </a:rPr>
              <a:t>APRENDIZAJE ESTRUCTURADO</a:t>
            </a:r>
            <a:endParaRPr b="1" lang="en-US" sz="4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rebuchet MS"/>
              </a:rPr>
              <a:t>Espacio de Conocimiento</a:t>
            </a: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acio de conoci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iene el universo de conocimiento estructurado taxonómicamente y provee las herramientas necesarias para su definición y actu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995640" cy="330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908000" y="3213000"/>
            <a:ext cx="1260720" cy="401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3324240" cy="142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97280" y="357336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es de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780B-6D8C-4E83-85A2-37004DC571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259920"/>
            <a:ext cx="78710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rebuchet MS"/>
              </a:rPr>
              <a:t>Espacio de Colaboración</a:t>
            </a:r>
            <a:endParaRPr b="0" lang="en-US" sz="36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267920"/>
            <a:ext cx="7715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acio de colabo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nda esquemas de comunicación entr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veg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e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manejo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frecue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rlas virtu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vis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es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58920" y="5157720"/>
            <a:ext cx="1066680" cy="1062000"/>
            <a:chOff x="1258920" y="5157720"/>
            <a:chExt cx="1066680" cy="1062000"/>
          </a:xfrm>
        </p:grpSpPr>
        <p:graphicFrame>
          <p:nvGraphicFramePr>
            <p:cNvPr id="113" name=""/>
            <p:cNvGraphicFramePr/>
            <p:nvPr/>
          </p:nvGraphicFramePr>
          <p:xfrm>
            <a:off x="1258920" y="5538600"/>
            <a:ext cx="1066680" cy="68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58920" y="5538600"/>
                      <a:ext cx="106668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1411200" y="5157720"/>
              <a:ext cx="57168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054840" y="2522520"/>
            <a:ext cx="1028160" cy="853920"/>
            <a:chOff x="6054840" y="2522520"/>
            <a:chExt cx="1028160" cy="853920"/>
          </a:xfrm>
        </p:grpSpPr>
        <p:graphicFrame>
          <p:nvGraphicFramePr>
            <p:cNvPr id="117" name=""/>
            <p:cNvGraphicFramePr/>
            <p:nvPr/>
          </p:nvGraphicFramePr>
          <p:xfrm>
            <a:off x="6054840" y="2522520"/>
            <a:ext cx="74088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54840" y="2522520"/>
                      <a:ext cx="74088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9" name="" descr=""/>
            <p:cNvPicPr/>
            <p:nvPr/>
          </p:nvPicPr>
          <p:blipFill>
            <a:blip r:embed="rId7"/>
            <a:stretch/>
          </p:blipFill>
          <p:spPr>
            <a:xfrm>
              <a:off x="6511680" y="2522520"/>
              <a:ext cx="57132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7093080" y="3684600"/>
            <a:ext cx="1066680" cy="1062000"/>
            <a:chOff x="7093080" y="3684600"/>
            <a:chExt cx="1066680" cy="1062000"/>
          </a:xfrm>
        </p:grpSpPr>
        <p:graphicFrame>
          <p:nvGraphicFramePr>
            <p:cNvPr id="121" name=""/>
            <p:cNvGraphicFramePr/>
            <p:nvPr/>
          </p:nvGraphicFramePr>
          <p:xfrm>
            <a:off x="7093080" y="4065480"/>
            <a:ext cx="1066680" cy="681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093080" y="4065480"/>
                      <a:ext cx="106668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7245360" y="3684600"/>
              <a:ext cx="57168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1187280" y="3357720"/>
            <a:ext cx="1028880" cy="853920"/>
            <a:chOff x="1187280" y="3357720"/>
            <a:chExt cx="1028880" cy="853920"/>
          </a:xfrm>
        </p:grpSpPr>
        <p:graphicFrame>
          <p:nvGraphicFramePr>
            <p:cNvPr id="125" name=""/>
            <p:cNvGraphicFramePr/>
            <p:nvPr/>
          </p:nvGraphicFramePr>
          <p:xfrm>
            <a:off x="1187280" y="3357720"/>
            <a:ext cx="741240" cy="853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87280" y="3357720"/>
                      <a:ext cx="74124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13"/>
            <a:stretch/>
          </p:blipFill>
          <p:spPr>
            <a:xfrm>
              <a:off x="1644480" y="3357720"/>
              <a:ext cx="57168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7380360" y="5084640"/>
            <a:ext cx="1066680" cy="1062000"/>
            <a:chOff x="7380360" y="5084640"/>
            <a:chExt cx="1066680" cy="1062000"/>
          </a:xfrm>
        </p:grpSpPr>
        <p:graphicFrame>
          <p:nvGraphicFramePr>
            <p:cNvPr id="129" name=""/>
            <p:cNvGraphicFramePr/>
            <p:nvPr/>
          </p:nvGraphicFramePr>
          <p:xfrm>
            <a:off x="7380360" y="5465520"/>
            <a:ext cx="1066680" cy="6811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380360" y="5465520"/>
                      <a:ext cx="106668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7532640" y="5084640"/>
              <a:ext cx="5716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 flipV="1">
            <a:off x="2195640" y="4581000"/>
            <a:ext cx="934920" cy="528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3789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35280" y="3933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364000" y="328428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3132000" y="3213000"/>
            <a:ext cx="2376720" cy="1690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 flipV="1">
            <a:off x="5508360" y="4221000"/>
            <a:ext cx="1942920" cy="93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5080" y="29973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alu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8160" y="609300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vegantes o via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422100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alifica exám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8160" y="4884840"/>
            <a:ext cx="3911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Aprenden naveg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Agregan mensajes a uno o más fo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Solicitan ases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Son ex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Participan en charlas virtuales con 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viaj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56360" y="602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iajeros hués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2160" y="33703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d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93280" y="46083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Supervisan los f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20200" y="2868480"/>
            <a:ext cx="21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Arial"/>
              </a:rPr>
              <a:t>Responden pregu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5240" y="22050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e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0D33-3B00-4762-BE12-8D0A5CABD0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rebuchet MS"/>
              </a:rPr>
              <a:t>Aprendizaje Orientado a Objetos SAAVER  y  GNOXIS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6:39:56Z</dcterms:created>
  <dc:creator>Nancy</dc:creator>
  <dc:description/>
  <dc:language>en-US</dc:language>
  <cp:lastModifiedBy>Martha Avila</cp:lastModifiedBy>
  <dcterms:modified xsi:type="dcterms:W3CDTF">2004-10-19T16:50:08Z</dcterms:modified>
  <cp:revision>35</cp:revision>
  <dc:subject/>
  <dc:title>Diapositiva 1</dc:title>
</cp:coreProperties>
</file>