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2BE1-F7D2-4ADE-B194-81E752C59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2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7F19-8C1C-4A34-ADAF-136CE132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23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52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23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D68F-1826-4E00-9421-82FD096F7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7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0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2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7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0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924A-A6A6-43BE-AC87-9AC2BDD5A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5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7E36-1598-4A96-94B0-2EDF6B53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DCEC-27ED-428A-B13F-88D72FAF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23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1CB8-FC5E-4EDE-A2DE-FCF8E4A0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EF00-2734-4A7E-A9B2-A81634A4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1BE4-A7AD-473E-98EE-6F0801BF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23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52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2BF8-C4D8-4C06-AAA4-427D4978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23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23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5BBE-0527-46B0-B9C3-1DF13000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23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9310-B6A3-458F-8EFA-A2800295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5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331800" y="6192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16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5DAB-EB76-4424-8039-81F406BC9FD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4920" y="133200"/>
            <a:ext cx="1297080" cy="7034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24000" y="809640"/>
            <a:ext cx="576000" cy="58593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4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9.wmf"/><Relationship Id="rId11" Type="http://schemas.openxmlformats.org/officeDocument/2006/relationships/image" Target="../media/image10.wmf"/><Relationship Id="rId12" Type="http://schemas.openxmlformats.org/officeDocument/2006/relationships/image" Target="../media/image9.wmf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Experiencias en Educación a Distancia en el Tecnológico de Monterr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Ing. Gerardo Herbert González Esque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244160" y="1000080"/>
            <a:ext cx="16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351880" y="1720800"/>
            <a:ext cx="603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aestría en Edu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aestría en Tecnología Educ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aestría en Tecnología Educativa, grado conjunto con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Universidad de British Colum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00040" y="2852640"/>
            <a:ext cx="38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octorado en Innovación Educ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76360" y="115920"/>
            <a:ext cx="6419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ogramas Educa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7236000" y="4437000"/>
            <a:ext cx="1296720" cy="1440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940360" y="3357720"/>
            <a:ext cx="2319480" cy="868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4643280" y="4653000"/>
            <a:ext cx="2319480" cy="1027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7596360" y="2565360"/>
            <a:ext cx="1069920" cy="432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6227640" y="2565360"/>
            <a:ext cx="1065240" cy="47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46" name=""/>
          <p:cNvSpPr/>
          <p:nvPr/>
        </p:nvSpPr>
        <p:spPr>
          <a:xfrm>
            <a:off x="915480" y="1484280"/>
            <a:ext cx="6024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ursos en las áreas d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dministración y cultura organiz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merci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tabilidad y Finan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dio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sarrollo Soste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Bienestar Integ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ducación Contin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110120" y="1844640"/>
            <a:ext cx="4859280" cy="3672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79280" y="4365720"/>
            <a:ext cx="35290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000000"/>
                </a:solidFill>
                <a:latin typeface="Arial"/>
              </a:rPr>
              <a:t>Educación Continu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36 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,363 horas de instrucción en líne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9280" y="1989000"/>
            <a:ext cx="3710160" cy="19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000000"/>
                </a:solidFill>
                <a:latin typeface="Arial"/>
              </a:rPr>
              <a:t>Educación Form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20 cursos de alfabetización inicial y tecn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 programa de preparato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5 licenciatu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9 maest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3933720"/>
            <a:ext cx="9144000" cy="0"/>
          </a:xfrm>
          <a:prstGeom prst="line">
            <a:avLst/>
          </a:prstGeom>
          <a:ln cap="rnd" w="38160">
            <a:solidFill>
              <a:srgbClr val="ff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-174600" y="1839960"/>
          <a:ext cx="9144000" cy="3650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4140360" y="4005360"/>
            <a:ext cx="4787640" cy="25606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476360" y="115920"/>
            <a:ext cx="6419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ogramas De Desarrollo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5" name=""/>
          <p:cNvGraphicFramePr/>
          <p:nvPr/>
        </p:nvGraphicFramePr>
        <p:xfrm>
          <a:off x="900000" y="1052640"/>
          <a:ext cx="7704360" cy="5229000"/>
        </p:xfrm>
        <a:graphic>
          <a:graphicData uri="http://schemas.openxmlformats.org/drawingml/2006/table">
            <a:tbl>
              <a:tblPr/>
              <a:tblGrid>
                <a:gridCol w="2568600"/>
                <a:gridCol w="2567160"/>
                <a:gridCol w="2568600"/>
              </a:tblGrid>
              <a:tr h="833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de Videoconferencias en 2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de Ho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centaje del 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Gene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Internet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ISD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6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Red Intercam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3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6662520" y="630864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gistro a Sep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7931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ipos de Sal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Ofic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quipo personal para juntas de 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cupa Webcam, Audífonos y Micrófo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sto aproximado de USD $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ala de Ju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apacidad de 5 a 10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mpartición d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sto aproximado de USD $5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ipos de Sa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A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apacidad para 25 a 30 alum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mpartición de datos, smartboard, proy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icrófonos “push to tal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eriféricos de apoyo audio-vis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sto aproximado de USD $25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84200" y="5465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 Universidad Virtual del Tec de Monterr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1484280"/>
            <a:ext cx="777744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icia en 1989 como proyecto-satélite ocasional, S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1992 se instala el telepuerto, Morelos II, C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1994 Se tienen tres canales sateli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1995 Videoconferencias-enlace dedicado, 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1996 VC en cada sesión satelital,CD-ROM,Sol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1997 Universidad Virtual ,Enlace a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1998 Satmex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1999 Cambio de tecnología-DVB/MPEG2, En-Lí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2000 Ofrece Programas de Post-grado En Lí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Infraestructura de Tecnologías de Información y Comunic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obertura Satel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40000" y="1052640"/>
            <a:ext cx="4645080" cy="5154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88200" y="5373720"/>
            <a:ext cx="955800" cy="955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310520" y="4581360"/>
            <a:ext cx="15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116.8°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11240" y="5013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H/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039080" y="1600200"/>
            <a:ext cx="1473120" cy="731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8200" y="3949560"/>
            <a:ext cx="1123920" cy="1067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553080" y="2438280"/>
            <a:ext cx="2590920" cy="70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ecnológico de Monterr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577880" y="4605480"/>
          <a:ext cx="304920" cy="43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77880" y="4605480"/>
                    <a:ext cx="30492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595520" y="3279600"/>
            <a:ext cx="630000" cy="1032120"/>
          </a:xfrm>
          <a:custGeom>
            <a:avLst/>
            <a:gdLst/>
            <a:ahLst/>
            <a:rect l="l" t="t" r="r" b="b"/>
            <a:pathLst>
              <a:path w="817" h="577">
                <a:moveTo>
                  <a:pt x="816" y="0"/>
                </a:moveTo>
                <a:lnTo>
                  <a:pt x="311" y="276"/>
                </a:lnTo>
                <a:lnTo>
                  <a:pt x="504" y="299"/>
                </a:lnTo>
                <a:lnTo>
                  <a:pt x="0" y="576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3880" y="5075280"/>
            <a:ext cx="1828800" cy="118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veedor de Internet Satel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tm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76640" y="5645160"/>
            <a:ext cx="3368880" cy="934920"/>
          </a:xfrm>
          <a:custGeom>
            <a:avLst/>
            <a:gdLst/>
            <a:ahLst/>
            <a:rect l="l" t="t" r="r" b="b"/>
            <a:pathLst>
              <a:path w="1921" h="817">
                <a:moveTo>
                  <a:pt x="374" y="232"/>
                </a:moveTo>
                <a:lnTo>
                  <a:pt x="307" y="280"/>
                </a:lnTo>
                <a:lnTo>
                  <a:pt x="245" y="280"/>
                </a:lnTo>
                <a:lnTo>
                  <a:pt x="199" y="294"/>
                </a:lnTo>
                <a:lnTo>
                  <a:pt x="153" y="294"/>
                </a:lnTo>
                <a:lnTo>
                  <a:pt x="107" y="321"/>
                </a:lnTo>
                <a:lnTo>
                  <a:pt x="61" y="347"/>
                </a:lnTo>
                <a:lnTo>
                  <a:pt x="15" y="374"/>
                </a:lnTo>
                <a:lnTo>
                  <a:pt x="0" y="414"/>
                </a:lnTo>
                <a:lnTo>
                  <a:pt x="0" y="454"/>
                </a:lnTo>
                <a:lnTo>
                  <a:pt x="0" y="494"/>
                </a:lnTo>
                <a:lnTo>
                  <a:pt x="46" y="535"/>
                </a:lnTo>
                <a:lnTo>
                  <a:pt x="107" y="561"/>
                </a:lnTo>
                <a:lnTo>
                  <a:pt x="153" y="575"/>
                </a:lnTo>
                <a:lnTo>
                  <a:pt x="199" y="575"/>
                </a:lnTo>
                <a:lnTo>
                  <a:pt x="261" y="575"/>
                </a:lnTo>
                <a:lnTo>
                  <a:pt x="307" y="575"/>
                </a:lnTo>
                <a:lnTo>
                  <a:pt x="322" y="628"/>
                </a:lnTo>
                <a:lnTo>
                  <a:pt x="353" y="668"/>
                </a:lnTo>
                <a:lnTo>
                  <a:pt x="399" y="695"/>
                </a:lnTo>
                <a:lnTo>
                  <a:pt x="445" y="708"/>
                </a:lnTo>
                <a:lnTo>
                  <a:pt x="491" y="708"/>
                </a:lnTo>
                <a:lnTo>
                  <a:pt x="537" y="708"/>
                </a:lnTo>
                <a:lnTo>
                  <a:pt x="583" y="722"/>
                </a:lnTo>
                <a:lnTo>
                  <a:pt x="629" y="722"/>
                </a:lnTo>
                <a:lnTo>
                  <a:pt x="675" y="722"/>
                </a:lnTo>
                <a:lnTo>
                  <a:pt x="737" y="735"/>
                </a:lnTo>
                <a:lnTo>
                  <a:pt x="783" y="762"/>
                </a:lnTo>
                <a:lnTo>
                  <a:pt x="844" y="789"/>
                </a:lnTo>
                <a:lnTo>
                  <a:pt x="885" y="799"/>
                </a:lnTo>
                <a:lnTo>
                  <a:pt x="921" y="816"/>
                </a:lnTo>
                <a:lnTo>
                  <a:pt x="967" y="802"/>
                </a:lnTo>
                <a:lnTo>
                  <a:pt x="998" y="762"/>
                </a:lnTo>
                <a:lnTo>
                  <a:pt x="1044" y="749"/>
                </a:lnTo>
                <a:lnTo>
                  <a:pt x="1090" y="722"/>
                </a:lnTo>
                <a:lnTo>
                  <a:pt x="1152" y="708"/>
                </a:lnTo>
                <a:lnTo>
                  <a:pt x="1274" y="695"/>
                </a:lnTo>
                <a:lnTo>
                  <a:pt x="1320" y="708"/>
                </a:lnTo>
                <a:lnTo>
                  <a:pt x="1367" y="722"/>
                </a:lnTo>
                <a:lnTo>
                  <a:pt x="1413" y="722"/>
                </a:lnTo>
                <a:lnTo>
                  <a:pt x="1459" y="708"/>
                </a:lnTo>
                <a:lnTo>
                  <a:pt x="1505" y="695"/>
                </a:lnTo>
                <a:lnTo>
                  <a:pt x="1566" y="668"/>
                </a:lnTo>
                <a:lnTo>
                  <a:pt x="1612" y="655"/>
                </a:lnTo>
                <a:lnTo>
                  <a:pt x="1658" y="642"/>
                </a:lnTo>
                <a:lnTo>
                  <a:pt x="1704" y="615"/>
                </a:lnTo>
                <a:lnTo>
                  <a:pt x="1751" y="615"/>
                </a:lnTo>
                <a:lnTo>
                  <a:pt x="1797" y="601"/>
                </a:lnTo>
                <a:lnTo>
                  <a:pt x="1843" y="588"/>
                </a:lnTo>
                <a:lnTo>
                  <a:pt x="1873" y="548"/>
                </a:lnTo>
                <a:lnTo>
                  <a:pt x="1904" y="508"/>
                </a:lnTo>
                <a:lnTo>
                  <a:pt x="1920" y="468"/>
                </a:lnTo>
                <a:lnTo>
                  <a:pt x="1920" y="428"/>
                </a:lnTo>
                <a:lnTo>
                  <a:pt x="1904" y="387"/>
                </a:lnTo>
                <a:lnTo>
                  <a:pt x="1873" y="347"/>
                </a:lnTo>
                <a:lnTo>
                  <a:pt x="1827" y="321"/>
                </a:lnTo>
                <a:lnTo>
                  <a:pt x="1781" y="294"/>
                </a:lnTo>
                <a:lnTo>
                  <a:pt x="1720" y="280"/>
                </a:lnTo>
                <a:lnTo>
                  <a:pt x="1658" y="280"/>
                </a:lnTo>
                <a:lnTo>
                  <a:pt x="1612" y="240"/>
                </a:lnTo>
                <a:lnTo>
                  <a:pt x="1597" y="160"/>
                </a:lnTo>
                <a:lnTo>
                  <a:pt x="1536" y="120"/>
                </a:lnTo>
                <a:lnTo>
                  <a:pt x="1489" y="93"/>
                </a:lnTo>
                <a:lnTo>
                  <a:pt x="1428" y="93"/>
                </a:lnTo>
                <a:lnTo>
                  <a:pt x="1382" y="93"/>
                </a:lnTo>
                <a:lnTo>
                  <a:pt x="1336" y="93"/>
                </a:lnTo>
                <a:lnTo>
                  <a:pt x="1290" y="93"/>
                </a:lnTo>
                <a:lnTo>
                  <a:pt x="1228" y="80"/>
                </a:lnTo>
                <a:lnTo>
                  <a:pt x="1182" y="40"/>
                </a:lnTo>
                <a:lnTo>
                  <a:pt x="1136" y="26"/>
                </a:lnTo>
                <a:lnTo>
                  <a:pt x="1075" y="13"/>
                </a:lnTo>
                <a:lnTo>
                  <a:pt x="1029" y="13"/>
                </a:lnTo>
                <a:lnTo>
                  <a:pt x="983" y="26"/>
                </a:lnTo>
                <a:lnTo>
                  <a:pt x="921" y="66"/>
                </a:lnTo>
                <a:lnTo>
                  <a:pt x="875" y="80"/>
                </a:lnTo>
                <a:lnTo>
                  <a:pt x="829" y="66"/>
                </a:lnTo>
                <a:lnTo>
                  <a:pt x="783" y="40"/>
                </a:lnTo>
                <a:lnTo>
                  <a:pt x="737" y="26"/>
                </a:lnTo>
                <a:lnTo>
                  <a:pt x="691" y="0"/>
                </a:lnTo>
                <a:lnTo>
                  <a:pt x="645" y="13"/>
                </a:lnTo>
                <a:lnTo>
                  <a:pt x="599" y="40"/>
                </a:lnTo>
                <a:lnTo>
                  <a:pt x="552" y="80"/>
                </a:lnTo>
                <a:lnTo>
                  <a:pt x="506" y="107"/>
                </a:lnTo>
                <a:lnTo>
                  <a:pt x="460" y="93"/>
                </a:lnTo>
                <a:lnTo>
                  <a:pt x="414" y="93"/>
                </a:lnTo>
                <a:lnTo>
                  <a:pt x="384" y="133"/>
                </a:lnTo>
                <a:lnTo>
                  <a:pt x="368" y="173"/>
                </a:lnTo>
                <a:lnTo>
                  <a:pt x="374" y="232"/>
                </a:lnTo>
                <a:lnTo>
                  <a:pt x="374" y="232"/>
                </a:lnTo>
              </a:path>
            </a:pathLst>
          </a:custGeom>
          <a:gradFill rotWithShape="0">
            <a:gsLst>
              <a:gs pos="0">
                <a:srgbClr val="66ffff"/>
              </a:gs>
              <a:gs pos="100000">
                <a:srgbClr val="9966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225520" y="2451240"/>
          <a:ext cx="817560" cy="67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25520" y="2451240"/>
                    <a:ext cx="81756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4136760" y="5181480"/>
            <a:ext cx="727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CA´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21511200">
            <a:off x="2882520" y="3405240"/>
            <a:ext cx="376200" cy="947520"/>
          </a:xfrm>
          <a:custGeom>
            <a:avLst/>
            <a:gdLst/>
            <a:ahLst/>
            <a:rect l="l" t="t" r="r" b="b"/>
            <a:pathLst>
              <a:path w="219" h="607">
                <a:moveTo>
                  <a:pt x="0" y="0"/>
                </a:moveTo>
                <a:lnTo>
                  <a:pt x="75" y="350"/>
                </a:lnTo>
                <a:lnTo>
                  <a:pt x="142" y="255"/>
                </a:lnTo>
                <a:lnTo>
                  <a:pt x="218" y="606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174840" y="4743360"/>
          <a:ext cx="535320" cy="38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4840" y="4743360"/>
                    <a:ext cx="5353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>
            <a:off x="3198960" y="4492800"/>
            <a:ext cx="317520" cy="28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 rot="21511200">
            <a:off x="3156120" y="3327480"/>
            <a:ext cx="595080" cy="822240"/>
          </a:xfrm>
          <a:custGeom>
            <a:avLst/>
            <a:gdLst/>
            <a:ahLst/>
            <a:rect l="l" t="t" r="r" b="b"/>
            <a:pathLst>
              <a:path w="219" h="607">
                <a:moveTo>
                  <a:pt x="0" y="0"/>
                </a:moveTo>
                <a:lnTo>
                  <a:pt x="75" y="350"/>
                </a:lnTo>
                <a:lnTo>
                  <a:pt x="142" y="255"/>
                </a:lnTo>
                <a:lnTo>
                  <a:pt x="218" y="606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0"/>
          <a:stretch/>
        </p:blipFill>
        <p:spPr>
          <a:xfrm>
            <a:off x="3862440" y="4575240"/>
            <a:ext cx="534960" cy="380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1"/>
          <a:stretch/>
        </p:blipFill>
        <p:spPr>
          <a:xfrm>
            <a:off x="3813120" y="4308480"/>
            <a:ext cx="317520" cy="289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2"/>
          <a:stretch/>
        </p:blipFill>
        <p:spPr>
          <a:xfrm>
            <a:off x="4524480" y="3929040"/>
            <a:ext cx="534960" cy="380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3"/>
          <a:stretch/>
        </p:blipFill>
        <p:spPr>
          <a:xfrm>
            <a:off x="4548240" y="3678120"/>
            <a:ext cx="317520" cy="289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rot="21511200">
            <a:off x="3451320" y="3246480"/>
            <a:ext cx="968400" cy="411120"/>
          </a:xfrm>
          <a:custGeom>
            <a:avLst/>
            <a:gdLst/>
            <a:ahLst/>
            <a:rect l="l" t="t" r="r" b="b"/>
            <a:pathLst>
              <a:path w="219" h="607">
                <a:moveTo>
                  <a:pt x="0" y="0"/>
                </a:moveTo>
                <a:lnTo>
                  <a:pt x="75" y="350"/>
                </a:lnTo>
                <a:lnTo>
                  <a:pt x="142" y="255"/>
                </a:lnTo>
                <a:lnTo>
                  <a:pt x="218" y="606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9150800">
            <a:off x="4306320" y="4322160"/>
            <a:ext cx="54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94360" y="589284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바탕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91320" y="4064040"/>
            <a:ext cx="1306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바탕"/>
              </a:rPr>
              <a:t>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바탕"/>
              </a:rPr>
              <a:t>100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83000" y="5662440"/>
            <a:ext cx="146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바탕"/>
              </a:rPr>
              <a:t>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바탕"/>
              </a:rPr>
              <a:t>2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0600" y="2365200"/>
            <a:ext cx="224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Unicode MS"/>
              </a:rPr>
              <a:t>Enlace Satel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 Unicode MS"/>
              </a:rPr>
              <a:t>128Kb /   64K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47320" y="1836720"/>
            <a:ext cx="12276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바탕"/>
              </a:rPr>
              <a:t>Satmex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바탕"/>
              </a:rPr>
              <a:t>116.8° W</a:t>
            </a:r>
            <a:r>
              <a:rPr b="1" lang="es-MX" sz="2400" spc="-1" strike="noStrike">
                <a:solidFill>
                  <a:srgbClr val="000000"/>
                </a:solidFill>
                <a:latin typeface="바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16280" y="2801880"/>
            <a:ext cx="14400" cy="187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16280" y="2903400"/>
            <a:ext cx="57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73600" y="2771640"/>
            <a:ext cx="14400" cy="1875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24200" y="5048280"/>
            <a:ext cx="3105000" cy="971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7095600" y="3287880"/>
            <a:ext cx="668520" cy="24094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775560" y="3224160"/>
            <a:ext cx="668160" cy="24098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07920" y="68400"/>
            <a:ext cx="755172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odelo Tecnológico C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16000" y="115920"/>
            <a:ext cx="8271000" cy="70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de Videoconferencia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21516000">
            <a:off x="1069560" y="852120"/>
            <a:ext cx="7040520" cy="5380200"/>
          </a:xfrm>
          <a:prstGeom prst="ellipse">
            <a:avLst/>
          </a:prstGeom>
          <a:noFill/>
          <a:ln w="57240">
            <a:solidFill>
              <a:srgbClr val="6699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6548400"/>
            <a:ext cx="58284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38960" y="6261120"/>
            <a:ext cx="54612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1870200"/>
            <a:ext cx="137880" cy="274680"/>
          </a:xfrm>
          <a:prstGeom prst="line">
            <a:avLst/>
          </a:prstGeom>
          <a:ln w="19080">
            <a:solidFill>
              <a:srgbClr val="ffff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7159320" y="2152800"/>
            <a:ext cx="127080" cy="303120"/>
          </a:xfrm>
          <a:prstGeom prst="line">
            <a:avLst/>
          </a:prstGeom>
          <a:ln w="19080">
            <a:solidFill>
              <a:srgbClr val="ffff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80080" y="1481040"/>
            <a:ext cx="411120" cy="360360"/>
          </a:xfrm>
          <a:prstGeom prst="line">
            <a:avLst/>
          </a:prstGeom>
          <a:ln w="19080">
            <a:solidFill>
              <a:srgbClr val="ffff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7297200" y="2457000"/>
            <a:ext cx="127080" cy="303480"/>
          </a:xfrm>
          <a:prstGeom prst="line">
            <a:avLst/>
          </a:prstGeom>
          <a:ln w="19080">
            <a:solidFill>
              <a:srgbClr val="ffff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116320" y="5614920"/>
            <a:ext cx="1274760" cy="29232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124240" y="5599080"/>
            <a:ext cx="672840" cy="29196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057400" y="2172960"/>
            <a:ext cx="3906720" cy="295596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598760" y="2190600"/>
            <a:ext cx="4357440" cy="250200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392120" y="2184480"/>
            <a:ext cx="4557960" cy="217152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327320" y="2196720"/>
            <a:ext cx="4627440" cy="179244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298520" y="2206800"/>
            <a:ext cx="4672080" cy="139032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282680" y="2198520"/>
            <a:ext cx="4659480" cy="104472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341360" y="2158920"/>
            <a:ext cx="4613400" cy="72720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703520" y="2162160"/>
            <a:ext cx="4267080" cy="13968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08160" y="1901880"/>
            <a:ext cx="3838680" cy="27468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67080" y="1668600"/>
            <a:ext cx="3510000" cy="51120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6320" y="1238400"/>
            <a:ext cx="2662200" cy="94284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35520" y="1133640"/>
            <a:ext cx="1995480" cy="104436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4662000" y="1233000"/>
            <a:ext cx="1289160" cy="94932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5189040" y="1023480"/>
            <a:ext cx="770040" cy="112572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969160" y="1473120"/>
            <a:ext cx="612720" cy="70344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812920" y="2192400"/>
            <a:ext cx="163800" cy="338760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956200" y="2170080"/>
            <a:ext cx="1895400" cy="179532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59440" y="2168640"/>
            <a:ext cx="1513080" cy="222228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70600" y="2179800"/>
            <a:ext cx="1319040" cy="255420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69160" y="2165400"/>
            <a:ext cx="385560" cy="346068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133600" y="2185920"/>
            <a:ext cx="819000" cy="369720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211640" y="2176560"/>
            <a:ext cx="1719360" cy="390024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579480" y="2178000"/>
            <a:ext cx="2382840" cy="367812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448000" y="2185920"/>
            <a:ext cx="3481200" cy="325908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006360" y="2189160"/>
            <a:ext cx="2940120" cy="356076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22480" y="1454040"/>
            <a:ext cx="3046680" cy="72720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967360" y="745560"/>
            <a:ext cx="906480" cy="1423440"/>
          </a:xfrm>
          <a:prstGeom prst="line">
            <a:avLst/>
          </a:prstGeom>
          <a:ln w="38160">
            <a:solidFill>
              <a:srgbClr val="ff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7040" y="6546960"/>
            <a:ext cx="582840" cy="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920" y="1341360"/>
            <a:ext cx="58248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562800" y="1196640"/>
            <a:ext cx="1035000" cy="26676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500360" y="5875200"/>
            <a:ext cx="601560" cy="81612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379600" y="5754600"/>
            <a:ext cx="627120" cy="84132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240" y="114948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Internet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4120" y="155268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VP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512K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90160" y="97488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an Luis Potos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5800" y="1268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amp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27240" y="90180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alt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94520" y="112536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Zacate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49520" y="1125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g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59600" y="148428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guasca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34520" y="256536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d Juá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62880" y="285264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hihuah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520" y="20606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onora N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960" y="183816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iudad Obreg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35240" y="32130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inal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34520" y="357336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azatl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79240" y="393372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l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3800" y="431316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Guadalaj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34720" y="46735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e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66360" y="49608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rapu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70880" y="5445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Queréta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51600" y="551016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Hidal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26520" y="5877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olu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3800" y="5516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93800" y="522936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ta. 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58520" y="51577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518880" y="486900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Veracru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22520" y="443700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ore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70880" y="407664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hia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13800" y="606888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155 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887240" y="633240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2 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8360" y="638172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ISD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90520" y="140652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onterr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02880" y="177336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ugenio Garza S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87760" y="213372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ugenio Garza Lagü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83400" y="241452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anta Catar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950880" y="27748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um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440" y="1700280"/>
            <a:ext cx="5828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21440" y="2276640"/>
            <a:ext cx="137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Proveed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V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1951200" y="541440"/>
          <a:ext cx="5519520" cy="41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1200" y="541440"/>
                    <a:ext cx="5519520" cy="41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3390840" y="4430880"/>
            <a:ext cx="0" cy="431640"/>
          </a:xfrm>
          <a:prstGeom prst="line">
            <a:avLst/>
          </a:prstGeom>
          <a:ln w="38160">
            <a:solidFill>
              <a:srgbClr val="e8b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840280" y="4430880"/>
            <a:ext cx="0" cy="431640"/>
          </a:xfrm>
          <a:prstGeom prst="line">
            <a:avLst/>
          </a:prstGeom>
          <a:ln w="38160">
            <a:solidFill>
              <a:srgbClr val="e8b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74840" y="4862520"/>
            <a:ext cx="6769080" cy="0"/>
          </a:xfrm>
          <a:prstGeom prst="line">
            <a:avLst/>
          </a:prstGeom>
          <a:ln w="38160">
            <a:solidFill>
              <a:srgbClr val="e8b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74840" y="4862520"/>
            <a:ext cx="0" cy="431640"/>
          </a:xfrm>
          <a:prstGeom prst="line">
            <a:avLst/>
          </a:prstGeom>
          <a:ln w="38160">
            <a:solidFill>
              <a:srgbClr val="e8b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90840" y="4789440"/>
            <a:ext cx="0" cy="432000"/>
          </a:xfrm>
          <a:prstGeom prst="line">
            <a:avLst/>
          </a:prstGeom>
          <a:ln w="38160">
            <a:solidFill>
              <a:srgbClr val="e8b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40280" y="4789440"/>
            <a:ext cx="0" cy="432000"/>
          </a:xfrm>
          <a:prstGeom prst="line">
            <a:avLst/>
          </a:prstGeom>
          <a:ln w="38160">
            <a:solidFill>
              <a:srgbClr val="e8b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143920" y="4862520"/>
            <a:ext cx="0" cy="431640"/>
          </a:xfrm>
          <a:prstGeom prst="line">
            <a:avLst/>
          </a:prstGeom>
          <a:ln w="38160">
            <a:solidFill>
              <a:srgbClr val="e8b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0"/>
            <a:ext cx="6419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trega de Conten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9240" y="5157720"/>
            <a:ext cx="2107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79 500 estudi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0 899+ 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266 992 alum/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39040" y="5159520"/>
            <a:ext cx="1916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074 estudi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39 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32360" y="5157720"/>
            <a:ext cx="21607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WebT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7 150 estudi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2113 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50 292 alum/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20000" y="5157720"/>
            <a:ext cx="216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WWW (HT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2300 estudi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40 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00200" y="777960"/>
            <a:ext cx="7777080" cy="5905440"/>
          </a:xfrm>
          <a:prstGeom prst="rect">
            <a:avLst/>
          </a:prstGeom>
          <a:solidFill>
            <a:srgbClr val="d9be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73280" y="5533920"/>
            <a:ext cx="2016000" cy="1081080"/>
          </a:xfrm>
          <a:prstGeom prst="rect">
            <a:avLst/>
          </a:prstGeom>
          <a:solidFill>
            <a:srgbClr val="cc74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60560" y="6108840"/>
            <a:ext cx="2303640" cy="504720"/>
          </a:xfrm>
          <a:prstGeom prst="rect">
            <a:avLst/>
          </a:prstGeom>
          <a:solidFill>
            <a:srgbClr val="cc74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37280" y="6110280"/>
            <a:ext cx="3024000" cy="504720"/>
          </a:xfrm>
          <a:prstGeom prst="rect">
            <a:avLst/>
          </a:prstGeom>
          <a:solidFill>
            <a:srgbClr val="cc74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860560" y="5532480"/>
            <a:ext cx="2303640" cy="504720"/>
          </a:xfrm>
          <a:prstGeom prst="rect">
            <a:avLst/>
          </a:prstGeom>
          <a:solidFill>
            <a:srgbClr val="cc74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17640" y="4167360"/>
            <a:ext cx="648000" cy="863280"/>
          </a:xfrm>
          <a:prstGeom prst="rect">
            <a:avLst/>
          </a:prstGeom>
          <a:solidFill>
            <a:srgbClr val="c0c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37280" y="5530680"/>
            <a:ext cx="3025800" cy="505080"/>
          </a:xfrm>
          <a:prstGeom prst="rect">
            <a:avLst/>
          </a:prstGeom>
          <a:solidFill>
            <a:srgbClr val="cc74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36920" y="4167360"/>
            <a:ext cx="792360" cy="863280"/>
          </a:xfrm>
          <a:prstGeom prst="rect">
            <a:avLst/>
          </a:prstGeom>
          <a:solidFill>
            <a:srgbClr val="c0c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13640" y="3517920"/>
            <a:ext cx="647640" cy="1440000"/>
          </a:xfrm>
          <a:prstGeom prst="rect">
            <a:avLst/>
          </a:prstGeom>
          <a:solidFill>
            <a:srgbClr val="c0c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46720" y="3519360"/>
            <a:ext cx="861840" cy="1511280"/>
          </a:xfrm>
          <a:prstGeom prst="rect">
            <a:avLst/>
          </a:prstGeom>
          <a:solidFill>
            <a:srgbClr val="c0c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89280" y="3446640"/>
            <a:ext cx="1440000" cy="576000"/>
          </a:xfrm>
          <a:prstGeom prst="rect">
            <a:avLst/>
          </a:prstGeom>
          <a:solidFill>
            <a:srgbClr val="c0c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89280" y="998640"/>
            <a:ext cx="1657440" cy="23032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-738720" y="2510640"/>
            <a:ext cx="3960720" cy="936360"/>
          </a:xfrm>
          <a:prstGeom prst="rect">
            <a:avLst/>
          </a:prstGeom>
          <a:gradFill rotWithShape="0">
            <a:gsLst>
              <a:gs pos="0">
                <a:srgbClr val="a7d34f"/>
              </a:gs>
              <a:gs pos="100000">
                <a:srgbClr val="7fa03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25640" y="998640"/>
            <a:ext cx="647640" cy="3959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5813280" y="1717200"/>
            <a:ext cx="431640" cy="2736720"/>
          </a:xfrm>
          <a:prstGeom prst="rect">
            <a:avLst/>
          </a:prstGeom>
          <a:solidFill>
            <a:srgbClr val="d4ec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34000" y="1424160"/>
            <a:ext cx="863640" cy="1366560"/>
          </a:xfrm>
          <a:prstGeom prst="rect">
            <a:avLst/>
          </a:prstGeom>
          <a:solidFill>
            <a:srgbClr val="d4ec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97640" y="1424160"/>
            <a:ext cx="936360" cy="1366560"/>
          </a:xfrm>
          <a:prstGeom prst="rect">
            <a:avLst/>
          </a:prstGeom>
          <a:solidFill>
            <a:srgbClr val="d4ec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60920" y="1424160"/>
            <a:ext cx="936720" cy="1366560"/>
          </a:xfrm>
          <a:prstGeom prst="rect">
            <a:avLst/>
          </a:prstGeom>
          <a:solidFill>
            <a:srgbClr val="d4ec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6200000">
            <a:off x="521640" y="2821320"/>
            <a:ext cx="1490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Por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149640" y="1862280"/>
            <a:ext cx="936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L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4672440" y="2135880"/>
            <a:ext cx="772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LC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6407640" y="2080800"/>
            <a:ext cx="1198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Black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5668920" y="1990440"/>
            <a:ext cx="923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Webt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526320" y="2611800"/>
            <a:ext cx="3452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Call center / Help De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7203240" y="3840480"/>
            <a:ext cx="15336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Biblioteca Dig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62360" y="3489480"/>
            <a:ext cx="136692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 Narrow"/>
              </a:rPr>
              <a:t>Herramientas Colabora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459480" y="3519360"/>
            <a:ext cx="938160" cy="1511280"/>
          </a:xfrm>
          <a:prstGeom prst="rect">
            <a:avLst/>
          </a:prstGeom>
          <a:solidFill>
            <a:srgbClr val="c0c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6200000">
            <a:off x="4190760" y="3922560"/>
            <a:ext cx="1427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Streaming media (A/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604680" y="5578560"/>
            <a:ext cx="540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950800" y="5578560"/>
            <a:ext cx="11318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57080" y="6149880"/>
            <a:ext cx="807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Re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48160" y="6175440"/>
            <a:ext cx="2768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Telecomun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15840" y="6164280"/>
            <a:ext cx="17589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cc"/>
                </a:solidFill>
                <a:latin typeface="Arial Narrow"/>
              </a:rPr>
              <a:t>soporte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1600" spc="-1" strike="noStrike">
                <a:solidFill>
                  <a:srgbClr val="ffffff"/>
                </a:solidFill>
                <a:latin typeface="Arial Narrow"/>
              </a:rPr>
              <a:t>/24x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43560" y="5578560"/>
            <a:ext cx="1191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Monitor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2718000" y="4434480"/>
            <a:ext cx="645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C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3257640" y="4318560"/>
            <a:ext cx="99612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 Narrow"/>
              </a:rPr>
              <a:t>Grupos d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MX" sz="1400" spc="-1" strike="noStrike">
                <a:solidFill>
                  <a:srgbClr val="ffffff"/>
                </a:solidFill>
                <a:latin typeface="Arial Narrow"/>
              </a:rPr>
              <a:t>Discu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62360" y="1006560"/>
            <a:ext cx="2737080" cy="358560"/>
          </a:xfrm>
          <a:prstGeom prst="rect">
            <a:avLst/>
          </a:prstGeom>
          <a:solidFill>
            <a:srgbClr val="d4ec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31840" y="1030320"/>
            <a:ext cx="22456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 Narrow"/>
              </a:rPr>
              <a:t>Plataformas Tecnológ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613640" y="1000080"/>
            <a:ext cx="647640" cy="2446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6700320" y="2049480"/>
            <a:ext cx="24526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 Narrow"/>
              </a:rPr>
              <a:t>Sistemas/Aplic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52920" y="3514680"/>
            <a:ext cx="863640" cy="1511280"/>
          </a:xfrm>
          <a:prstGeom prst="rect">
            <a:avLst/>
          </a:prstGeom>
          <a:solidFill>
            <a:srgbClr val="c0c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19840" y="2914560"/>
            <a:ext cx="2338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Comercio Electró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6051600" y="4124880"/>
            <a:ext cx="144108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 Narrow"/>
              </a:rPr>
              <a:t>Videoconferenc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MX" sz="1400" spc="-1" strike="noStrike">
                <a:solidFill>
                  <a:srgbClr val="ffffff"/>
                </a:solidFill>
                <a:latin typeface="Arial Narrow"/>
              </a:rPr>
              <a:t>V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73280" y="5184720"/>
            <a:ext cx="7488000" cy="274680"/>
          </a:xfrm>
          <a:prstGeom prst="rect">
            <a:avLst/>
          </a:prstGeom>
          <a:solidFill>
            <a:srgbClr val="cc74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50720" y="5148360"/>
            <a:ext cx="2750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Directorio Corporativo (N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5222160" y="4097520"/>
            <a:ext cx="124596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 Narrow"/>
              </a:rPr>
              <a:t>Administ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MX" sz="1400" spc="-1" strike="noStrike">
                <a:solidFill>
                  <a:srgbClr val="ffffff"/>
                </a:solidFill>
                <a:latin typeface="Arial Narrow"/>
              </a:rPr>
              <a:t>académ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MX" sz="1400" spc="-1" strike="noStrike">
                <a:solidFill>
                  <a:srgbClr val="ffffff"/>
                </a:solidFill>
                <a:latin typeface="Arial Narrow"/>
              </a:rPr>
              <a:t>(Ban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067840" y="-36360"/>
            <a:ext cx="517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Infraestructura - Integ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476360" y="115920"/>
            <a:ext cx="6419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ogramas Educa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05760" y="1027080"/>
            <a:ext cx="376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dministración y Nego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17400" y="1413000"/>
            <a:ext cx="533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aestría en Administ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aestría en Comercio Electró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pecialidad en Comercio Electró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Global MBA, grado conjunto con la universidad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hunder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02880" y="280044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genier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345040" y="3213000"/>
            <a:ext cx="52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aestría en Sistemas de Calidad y Produ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04680" y="361944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cnología y Compu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346840" y="4214880"/>
            <a:ext cx="622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aestría en Administración de Tecnologías de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08280" y="462744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Huma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303640" y="5084640"/>
            <a:ext cx="352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aestría en Ética Aplic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aestría en Literatura e His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19:50:55Z</dcterms:created>
  <dc:creator>Herbert Gzz</dc:creator>
  <dc:description>Fecha de Creación Octubre 2004</dc:description>
  <dc:language>en-US</dc:language>
  <cp:lastModifiedBy>Telecom</cp:lastModifiedBy>
  <dcterms:modified xsi:type="dcterms:W3CDTF">2004-10-11T17:22:39Z</dcterms:modified>
  <cp:revision>45</cp:revision>
  <dc:subject/>
  <dc:title>Diapositiva 1</dc:title>
</cp:coreProperties>
</file>