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67720" y="5797440"/>
            <a:ext cx="1230120" cy="889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0600" y="6043680"/>
            <a:ext cx="2076480" cy="581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89000" y="125280"/>
            <a:ext cx="1095120" cy="7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ouvenir Lt BT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Souvenir Lt BT"/>
                <a:ea typeface="Arial"/>
              </a:rPr>
              <a:t>Implicaciones de Seguridad en el Backbone de RedCUDI</a:t>
            </a:r>
            <a:endParaRPr b="1" lang="en-US" sz="44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76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ario Farías-Elinos, UL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ans Ludwing Reyes, U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3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http://seguridad.internet2.ulsa.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3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Administración fuera de banda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r red independiente de la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o de mod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Administración de usuarios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o de TACAS, Rad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veles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ilidad de mantenimiento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ilidar la auditoria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Bitácoras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s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s de protoco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s de ACL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s de en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o de syslogd (Servidor de bitácoras exter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Sincronización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icio de N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tener mismos horarios en los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68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cilidad en análisis de los 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Tareas a desarrollar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ditorias periódicas al back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ditorías periódicas a los limites del backbone (router de frontera de los Asoci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BGP en los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68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ociados-Back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68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689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bone-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Souvenir Lt BT"/>
                <a:ea typeface="Arial"/>
              </a:rPr>
              <a:t>Implicaciones de Seguridad en el Backbone de RedCUDI</a:t>
            </a:r>
            <a:endParaRPr b="1" lang="en-US" sz="44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933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76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ario Farías-Elinos, UL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Hans Ludwing Reyes, UN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3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http://seguridad.internet2.ulsa.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76000"/>
              </a:lnSpc>
              <a:spcBef>
                <a:spcPts val="388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Contenido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cion segura de ro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ividades periódicas por imple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Objetivos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tener un backbone saludable y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ducir la posibilidad de fallas por errores humanos y téc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spcBef>
                <a:spcPts val="788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r las recomendaciones necesarias para la salud del back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Conexión remota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eso por cons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ceso por puertos auxiliares (mod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L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Souvenir Lt BT"/>
              </a:rPr>
              <a:t>SNMP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lores diferentes a las por def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ltros en la front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iminacion de la comunida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Protocolos de enrutamiento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G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P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L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-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Seguridad en el AS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ltrado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68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es no-homolog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68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689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 algn="just">
              <a:lnSpc>
                <a:spcPct val="95000"/>
              </a:lnSpc>
              <a:spcBef>
                <a:spcPts val="689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uncios de rede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tección a los equipos de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Políticas de enrutamiento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ificación de anu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tar transito d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lanceo de car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cripción de pass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ssword no trad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Souvenir Lt BT"/>
              </a:rPr>
              <a:t>Eliminacion de servicios inecesarios</a:t>
            </a:r>
            <a:endParaRPr b="1" lang="en-US" sz="4000" spc="-1" strike="noStrike">
              <a:solidFill>
                <a:srgbClr val="3333cc"/>
              </a:solidFill>
              <a:latin typeface="Souvenir Lt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ings (con humbr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ceroute (con humbr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icios de puertos reservados (1-2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icios de administración por web o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5000"/>
              </a:lnSpc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FTP, 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o Farias-Elinos</cp:lastModifiedBy>
  <dcterms:modified xsi:type="dcterms:W3CDTF">2003-10-02T20:52:53Z</dcterms:modified>
  <cp:revision>1</cp:revision>
  <dc:subject/>
  <dc:title>Implicaciones de Seguridad en el Backbone de RedCUDI</dc:title>
</cp:coreProperties>
</file>