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1212840"/>
            <a:ext cx="9144000" cy="56386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images.google.com.mx/imgres?imgurl=www.walc2000.unam.mx/patrocinios/unesco.gif&amp;imgrefurl=http://www.walc2000.unam.mx/patrocinios/patrocinios.htm&amp;h=144&amp;w=194&amp;prev=/images%3Fq%3Dunesco%26svnum%3D10%26hl%3Des%26lr%3D%26ie%3DUTF-8%26oe%3DUTF-8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mages.google.com.mx/imgres?imgurl=www.walc2000.unam.mx/patrocinios/unesco.gif&amp;imgrefurl=http://www.walc2000.unam.mx/patrocinios/patrocinios.htm&amp;h=144&amp;w=194&amp;prev=/images%3Fq%3Dunesco%26svnum%3D10%26hl%3Des%26lr%3D%26ie%3DUTF-8%26oe%3DUTF-8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cudi.edu.mx/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547640"/>
            <a:ext cx="91440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Reunión de Otoño 200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Corporación Universitaria para el Desarrollo de Intern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CUD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572000" y="152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 2 en la Universidad de Colim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167652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entros Interactivos de Aprendizaje Multime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14600" y="2057400"/>
            <a:ext cx="4495680" cy="304812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886200" y="2971800"/>
            <a:ext cx="2362320" cy="16668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232680" y="6119640"/>
            <a:ext cx="2835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Dr. Carlos Salazar Sil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Rector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209680" cy="16574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28600" y="5288040"/>
            <a:ext cx="82296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acios para la alfabetización tecnológica de docentes y alumnos para la generación de material digit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38280" y="120348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CNOLOGÍAS DE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981080" y="1905120"/>
            <a:ext cx="5105520" cy="335268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52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 2 en la Universidad de Colima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06668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5372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 han producido decenas de desarrollos en disco compacto y sitios educativos producto de la experiencia de más diez años en estos tema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200400" y="2441520"/>
            <a:ext cx="2666880" cy="20415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6232680" y="6119640"/>
            <a:ext cx="2835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Dr. Carlos Salazar Sil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Rector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167652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bjetos de aprendiza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438280" y="120348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CNOLOGÍAS DE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590920" y="1828800"/>
            <a:ext cx="4495680" cy="35370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152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 2 en la Universidad de Colim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175248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ducación a distanc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600" y="53341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ación y desarrollo de la plataforma de educación a distancia (EDUC) de la Universidad. Se trata de la única plataforma mexicana de su tip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505320" y="2303640"/>
            <a:ext cx="2666880" cy="24969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232680" y="6119640"/>
            <a:ext cx="2835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Dr. Carlos Salazar Sil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Rector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438280" y="120348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CNOLOGÍAS DE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752480" y="2209680"/>
            <a:ext cx="5410440" cy="403884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0" y="152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 2 en la Universidad de Colim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232680" y="6119640"/>
            <a:ext cx="2835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Dr. Carlos Salazar Sil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Rector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175248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iblioteca Siglo XX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743200" y="2838600"/>
            <a:ext cx="3505320" cy="26384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438280" y="120348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CNOLOGÍAS DE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828800" y="2133720"/>
            <a:ext cx="5334120" cy="426708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0" y="152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 2 en la Universidad de Colim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18892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fesores Siglo XX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232680" y="6119640"/>
            <a:ext cx="2835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Dr. Carlos Salazar Sil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Rector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917720" y="3200400"/>
            <a:ext cx="5016600" cy="18255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2438280" y="120348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CNOLOGÍAS DE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438280" y="1676520"/>
            <a:ext cx="4953240" cy="335268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0" y="152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 2 en la Universidad de Colim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232680" y="6119640"/>
            <a:ext cx="2835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Dr. Carlos Salazar Sil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Rector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120348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CNOLOGÍAS DE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18432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alidad virtu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276720" y="2270160"/>
            <a:ext cx="3352680" cy="21495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304920" y="5180040"/>
            <a:ext cx="830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la única en su tipo en América Latina. Equipada con los adelantos en tecnología de tercera dimensión y realidad virtual para el desarrollo de aplicaciones educativa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838600" y="1743120"/>
            <a:ext cx="3581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sarrollo de Softwa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0" y="152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 2 en la Universidad de Colim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232680" y="6119640"/>
            <a:ext cx="2835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Dr. Carlos Salazar Sil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Rector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3505320"/>
            <a:ext cx="2438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ibliotecas Digita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3200" y="3505320"/>
            <a:ext cx="1219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IABU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00200" y="3505320"/>
            <a:ext cx="1752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METEO 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553080" y="3505320"/>
            <a:ext cx="23623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D-ROM, DVD, Sitios Web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48320" y="2209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85800" y="2819520"/>
            <a:ext cx="701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2819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438280" y="2819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48320" y="2819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696080" y="2819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209680" y="1828800"/>
            <a:ext cx="4572000" cy="331776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152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 2 en la Universidad de Colim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232680" y="6119640"/>
            <a:ext cx="2835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Dr. Carlos Salazar Sil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Rector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429000" y="2362320"/>
            <a:ext cx="2133720" cy="213336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838080" y="5257800"/>
            <a:ext cx="807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ABUC  (Sistema  Integral  Automatizado  de  Bibliotecas  de   la Universidad de Colima) con más  de  800   usuarios  en  México  y  América Lati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590920" y="12193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sarrollo de Softwa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05120" y="1905120"/>
            <a:ext cx="5562360" cy="358128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0" y="152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 2 en la Universidad de Colim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232680" y="6119640"/>
            <a:ext cx="2835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Dr. Carlos Salazar Sil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Rector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548640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METEO V,  diseñado  a la  medida  para  automatizar más de 7,000 bibliotecas públicas de México Bibliotecas Digit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743200" y="2514600"/>
            <a:ext cx="3809880" cy="24382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2590920" y="12193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sarrollo de Softwa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362320" y="1905120"/>
            <a:ext cx="4724280" cy="29718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152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 2 en la Universidad de Colim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2680" y="6119640"/>
            <a:ext cx="2835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Dr. Carlos Salazar Sil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Rector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33520" y="50292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royecto Internacional en colaboración con la UNESCO sobre bibliotecas digitales con software y metodología libres (Participan bibliotecas nacionales de Iberoamerica, bibliotecas universitarias, bibliotecas públicas e institucional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3048120" y="2130480"/>
            <a:ext cx="3200400" cy="20606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590920" y="12193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sarrollo de Softwa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1219320"/>
            <a:ext cx="9144000" cy="56386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2057400"/>
            <a:ext cx="9144000" cy="32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Arial"/>
              </a:rPr>
              <a:t>Internet 2 en la Universidad de Coli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Dr. Carlos Salazar Sil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Arial"/>
                <a:ea typeface="Arial"/>
              </a:rPr>
              <a:t>Rector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905120" y="1752480"/>
            <a:ext cx="5333760" cy="312444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152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 2 en la Universidad de Colim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232680" y="6119640"/>
            <a:ext cx="2835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Dr. Carlos Salazar Sil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Rector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880" y="502920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periencia de más de 15 años en la edición de material electrónico y digital, en diferentes formatos (CD-ROM, DVD, Sitios Web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90920" y="12193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sarrollo de Softwa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286000" y="2514600"/>
            <a:ext cx="45720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4572000" y="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 2 en la Universidad de Colim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232680" y="6188040"/>
            <a:ext cx="2835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Dr. Carlos Salazar Sil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Rector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826360" y="1447920"/>
            <a:ext cx="4169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gramas Internaciona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590920" y="3429000"/>
            <a:ext cx="1523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UNESC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715000" y="3429000"/>
            <a:ext cx="106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ONU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1981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352680" y="2590920"/>
            <a:ext cx="289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352680" y="2590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48520" y="2590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1374480" cy="1163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25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90920" y="3809880"/>
            <a:ext cx="1523880" cy="11304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762120" y="2962440"/>
            <a:ext cx="80928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Centro Regional (para América Latina y El Caribe) en Tecnologías de Información”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, 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Cátedra UNESCO en Nuevas Tecnologías de Infor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Biblioteca Digital Iberoamericana y Caribeñ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Microi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Portal Infolac para la Sociedad de la Infor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Memoria del Mun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oro Interface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572000" y="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 2 en la Universidad de Colim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32680" y="6188040"/>
            <a:ext cx="2835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Dr. Carlos Salazar Sil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Rector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14800" y="1295280"/>
            <a:ext cx="1227240" cy="909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63" name=""/>
          <p:cNvSpPr/>
          <p:nvPr/>
        </p:nvSpPr>
        <p:spPr>
          <a:xfrm flipH="1">
            <a:off x="380880" y="19051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0880" y="19051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0880" y="3124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0880" y="3886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0880" y="4343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0880" y="4876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5334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5791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0880" y="6324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4572000" y="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 2 en la Universidad de Colim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232680" y="6188040"/>
            <a:ext cx="2835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Dr. Carlos Salazar Sil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Rector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48440" y="2986200"/>
            <a:ext cx="67546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a de Voluntarios de Naciones Unid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Impulso a las comunidades en países en vías de desarro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oordinación de la red latinoamerican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Desarrollo huma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ultura de paz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Oportunidades de participa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380880" y="19051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0880" y="190512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0880" y="3124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0880" y="3733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088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0880" y="4800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0880" y="5372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0880" y="5931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4038480" y="1295280"/>
            <a:ext cx="1374840" cy="1163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4572000" y="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 2 en la Universidad de Colim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32680" y="6188040"/>
            <a:ext cx="2835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Dr. Carlos Salazar Sil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Rector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3200400" y="1219320"/>
          <a:ext cx="3289320" cy="71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219320"/>
                    <a:ext cx="3289320" cy="711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288" name=""/>
          <p:cNvSpPr/>
          <p:nvPr/>
        </p:nvSpPr>
        <p:spPr>
          <a:xfrm>
            <a:off x="1763640" y="2590920"/>
            <a:ext cx="619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gencia para tecnologías de información de Naciones Unid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328040" y="3786120"/>
            <a:ext cx="7038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Iniciativa anunciada en el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Informe del Mileni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 (20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Objetiv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poyar a países en desarrollo para beneficiarse de Internet y otras TIC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4572000" y="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 2 en la Universidad de Colim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232680" y="6188040"/>
            <a:ext cx="2835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Dr. Carlos Salazar Sil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Rector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4038480" y="1371600"/>
          <a:ext cx="1866960" cy="124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371600"/>
                    <a:ext cx="1866960" cy="12445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294" name=""/>
          <p:cNvSpPr/>
          <p:nvPr/>
        </p:nvSpPr>
        <p:spPr>
          <a:xfrm>
            <a:off x="3896280" y="3200400"/>
            <a:ext cx="2274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ocio afiliad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al CUD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495480" y="4343400"/>
            <a:ext cx="23983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Comisión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Objetos de aprendiz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481640" y="4343400"/>
            <a:ext cx="8665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Comit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623040" y="5749920"/>
            <a:ext cx="13723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Tecnológ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043600" y="5749920"/>
            <a:ext cx="1430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Aplic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308600" y="4343400"/>
            <a:ext cx="968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Ev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33880" y="5778360"/>
            <a:ext cx="1047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Día CUD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874520" y="5778360"/>
            <a:ext cx="13510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Día Inter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en salu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95288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752480" y="3962520"/>
            <a:ext cx="6096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952880" y="3581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52480" y="3962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3962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848720" y="3962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67080" y="53690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715000" y="5359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67080" y="53722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952880" y="4711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066680" y="53816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514600" y="53722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066680" y="53848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52480" y="4711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4572000" y="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 2 en la Universidad de Colim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232680" y="6188040"/>
            <a:ext cx="2835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Dr. Carlos Salazar Sil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Rector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86200" y="1371600"/>
            <a:ext cx="1600200" cy="7779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19" name=""/>
          <p:cNvSpPr/>
          <p:nvPr/>
        </p:nvSpPr>
        <p:spPr>
          <a:xfrm>
            <a:off x="3357720" y="2657520"/>
            <a:ext cx="3536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mité Institucional Internet 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751440" y="3733920"/>
            <a:ext cx="1847880" cy="73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onstituido 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febrero 2003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76680" y="3733920"/>
            <a:ext cx="1968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Representantes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7320" y="4724280"/>
            <a:ext cx="1768680" cy="73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ivel superi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 posgrado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95200" y="4724280"/>
            <a:ext cx="15278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ivel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ed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p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675960" y="4724280"/>
            <a:ext cx="1706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vestiga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ientífic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428800" y="4724280"/>
            <a:ext cx="16423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Áre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cnológic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143000" y="44197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17220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49568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97180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14300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58128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50532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69608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505320" y="3429000"/>
            <a:ext cx="419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02920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4572000" y="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 2 en la Universidad de Colim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232680" y="6188040"/>
            <a:ext cx="2835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Dr. Carlos Salazar Sil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Rector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314880" y="1295280"/>
            <a:ext cx="3393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é esperamos de Internet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943920" y="4038480"/>
            <a:ext cx="40622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enidos de impacto para la doc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095120" y="4648320"/>
            <a:ext cx="6188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uperautopista de tráfico constante, consistente, permanen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59880" y="3429000"/>
            <a:ext cx="36252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edio de comunicación académic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5360" y="2854440"/>
            <a:ext cx="36586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reación de redes de conocimient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59680" y="5181480"/>
            <a:ext cx="8118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ofesores, estudiantes, investigadores viviendo día a día los beneficios de la re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743200" y="2133720"/>
            <a:ext cx="472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43200" y="2133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09880" y="21337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495680" y="21337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334120" y="213372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467480" y="2133720"/>
            <a:ext cx="0" cy="30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5029200" y="1676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4572000" y="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 2 en la Universidad de Colim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232680" y="6188040"/>
            <a:ext cx="2835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Dr. Carlos Salazar Sil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Rector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312360" y="1366920"/>
            <a:ext cx="3538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sibilidades de colabora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080000" y="2971800"/>
            <a:ext cx="65692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Desarrollo de objetos de aprendiz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Proyectos conjuntos de investigación y doc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Bibliotecas digit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itios web educa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odelos en tercera dimens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etodologías par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ultimedia educa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ibliotecas digit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rchivos digit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stadías para el desarrollo de aplicaciones multimedia educa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iplomado Profesores Siglo XXI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838080" y="156204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38080" y="1574640"/>
            <a:ext cx="0" cy="398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38080" y="3124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3808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38080" y="36194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63640" y="3873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3808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51040" y="4356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63640" y="5334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8080" y="5562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4572000" y="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 2 en la Universidad de Colim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232680" y="6188040"/>
            <a:ext cx="2835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Dr. Carlos Salazar Sil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Rector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1666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 2 en la Universidad de Colim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232680" y="6354720"/>
            <a:ext cx="2835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Dr. Carlos Salazar Sil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Rector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95680" y="19177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00400" y="1498680"/>
            <a:ext cx="2743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undada en 19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3143160"/>
            <a:ext cx="29718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blación académic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6705720" y="26798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3600" y="3143160"/>
            <a:ext cx="1600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gra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3562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40132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013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4013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51240" y="6518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1360" y="4481640"/>
            <a:ext cx="1486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udi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09680" y="4470480"/>
            <a:ext cx="1447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fes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28800" y="2679840"/>
            <a:ext cx="487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05720" y="3556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543800" y="4470480"/>
            <a:ext cx="1447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osg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24520" y="4470480"/>
            <a:ext cx="1447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fesional asoci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14800" y="4470480"/>
            <a:ext cx="1600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cenci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01328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76920" y="4013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05720" y="4013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05920" y="4013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8280" y="5321160"/>
            <a:ext cx="11048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119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71840" y="5308560"/>
            <a:ext cx="799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2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971800" y="48513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15080" y="48513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25000" y="48513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95680" y="5308560"/>
            <a:ext cx="8002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67600" y="5353200"/>
            <a:ext cx="799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924680" y="5334120"/>
            <a:ext cx="8002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648480" y="51242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28800" y="26798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48639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86600" y="3162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152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 2 en la Universidad de Colim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343240" y="1368360"/>
            <a:ext cx="48006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CNOLOGÍAS DE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32680" y="6119640"/>
            <a:ext cx="2835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Dr. Carlos Salazar Sil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Rector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71144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¿Para qué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2782800"/>
            <a:ext cx="2286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mación integ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4454640"/>
            <a:ext cx="1828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fes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362320" y="4454640"/>
            <a:ext cx="1828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vestig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62640" y="2797200"/>
            <a:ext cx="1447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ulso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09680" y="2320920"/>
            <a:ext cx="487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09680" y="232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86600" y="232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09680" y="31590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399744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39974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19320" y="39974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5880" y="5216400"/>
            <a:ext cx="2057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os administra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5880" y="3616200"/>
            <a:ext cx="1828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 ci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5880" y="4149720"/>
            <a:ext cx="1828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 a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645080"/>
            <a:ext cx="1828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 difu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34639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91320" y="55213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810400" y="4835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91320" y="43783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810400" y="3844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48320" y="177804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791320" y="346716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572000" y="152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 2 en la Universidad de Colim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76520" y="1414440"/>
            <a:ext cx="6095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CNOLOGÍAS DE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232680" y="6119640"/>
            <a:ext cx="2835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Dr. Carlos Salazar Sil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Rector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828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¿Cóm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1833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057400" y="2824200"/>
            <a:ext cx="62485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olidación y crecimiento de la infraestructura tecnológ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57400" y="5338800"/>
            <a:ext cx="6248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mento en el uso y aprovechamiento de las 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57400" y="3738600"/>
            <a:ext cx="62485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arrollo de productos y servicios educativos de vanguar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57400" y="4653000"/>
            <a:ext cx="6248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talecimiento del sistema bibliotec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752120" y="23670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52480" y="23670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3129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52480" y="4043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52480" y="4881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52480" y="5491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572000" y="152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 2 en la Universidad de Colim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232680" y="6119640"/>
            <a:ext cx="2835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Dr. Carlos Salazar Sil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Rector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95480" y="1276200"/>
            <a:ext cx="3353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lecomunicacion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95280" y="2666880"/>
            <a:ext cx="655344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ranet académica, que conecta a todas las dependencias de los 5 campus. Con mas 3500 equipos conec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95280" y="3784680"/>
            <a:ext cx="6553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d de telefonía digital que conecta a los 5 campu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95280" y="4622760"/>
            <a:ext cx="6553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d de videoconferencia para los 5 campu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236232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4876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66680" y="4038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2971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236232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572000" y="17524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0" y="152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 2 en la Universidad de Colim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32680" y="6119640"/>
            <a:ext cx="2835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Dr. Carlos Salazar Sil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Rector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95480" y="1276200"/>
            <a:ext cx="3353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lecomunicacion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95280" y="2666880"/>
            <a:ext cx="6553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o a Internet 1, E3 o 34 Mega bits por segund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5280" y="3784680"/>
            <a:ext cx="6553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o a Internet 2 con un E1 o 2 Mega bits por segun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95280" y="4622760"/>
            <a:ext cx="655344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laces  inalámbr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34 Mega bits/s con una distancia de 45 k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mpus inalámbricos para a Internet móvi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236232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4876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4038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2971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236232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572000" y="17524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676520" y="1352520"/>
            <a:ext cx="6095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CNOLOGÍAS DE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152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 2 en la Universidad de Colim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232680" y="6119640"/>
            <a:ext cx="2835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Dr. Carlos Salazar Sil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Rector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24280" y="1771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245736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245736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38280" y="245736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14800" y="245736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43600" y="245736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229600" y="245736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0440" y="3379680"/>
            <a:ext cx="1314360" cy="85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educativo multimed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52480" y="3363840"/>
            <a:ext cx="1371600" cy="134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entros Interactivos de Aprendizaje Multimed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3371760"/>
            <a:ext cx="1447920" cy="61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bjetos de aprendizaj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81480" y="3371760"/>
            <a:ext cx="1371600" cy="61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ducación a distanc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05640" y="3371760"/>
            <a:ext cx="13716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lidad Vir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391520" y="5048280"/>
            <a:ext cx="14475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iblioteca Siglo XX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162920" y="245736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248520" y="44388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248520" y="4438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153280" y="4438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486400" y="5048280"/>
            <a:ext cx="13716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fesores Siglo XX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572000" y="152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 2 en la Universidad de Colim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173664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oyecto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relevante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2057400"/>
            <a:ext cx="5943600" cy="281952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666880" y="2362320"/>
            <a:ext cx="3746520" cy="21524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533520" y="4952880"/>
            <a:ext cx="80769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ducativo multime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ción de soluciones educativas multimed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a escuelas, facultades,   instituciones   públicas   y   priv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32680" y="6119640"/>
            <a:ext cx="2835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Dr. Carlos Salazar Sil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Rector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438280" y="120348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CNOLOGÍAS DE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7T00:27:14Z</dcterms:created>
  <dc:creator>programacion</dc:creator>
  <dc:description/>
  <dc:language>en-US</dc:language>
  <cp:lastModifiedBy>IBM User</cp:lastModifiedBy>
  <dcterms:modified xsi:type="dcterms:W3CDTF">2003-09-30T18:06:50Z</dcterms:modified>
  <cp:revision>56</cp:revision>
  <dc:subject/>
  <dc:title>Presentación de PowerPoint</dc:title>
</cp:coreProperties>
</file>